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602-294E-4A21-A055-99792EB1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BD2-E589-469E-85F1-8854CA7B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AA2-7B9E-4447-BF15-C20B160F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E3A5-E117-4F54-967C-7C8D2C07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3A7-D6DF-468A-BC8F-E20D130B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658-5415-443A-82AC-B2498FC0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163-C4BE-4C10-95C5-8EFD6024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E30-0C9B-454E-A26D-FF7D6C40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CBA-2652-43CB-B0E5-81327334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BC8-530D-4460-9FFA-0E6EAD3F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BDF-A676-4FD3-98A8-5E77C795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4BF-D445-4E2B-AE81-F42E9DAE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37FA-80B3-4C02-B726-2216D0A15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38"/>
              <p:cNvSpPr txBox="1"/>
              <p:nvPr/>
            </p:nvSpPr>
            <p:spPr>
              <a:xfrm>
                <a:off x="755640" y="3645000"/>
                <a:ext cx="3421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Object 72"/>
              <p:cNvSpPr txBox="1"/>
              <p:nvPr/>
            </p:nvSpPr>
            <p:spPr>
              <a:xfrm>
                <a:off x="647640" y="2384280"/>
                <a:ext cx="3924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Text Box 27"/>
          <p:cNvSpPr/>
          <p:nvPr/>
        </p:nvSpPr>
        <p:spPr>
          <a:xfrm>
            <a:off x="539640" y="14493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na materijalnu tačku vezanu oprugom za nepokretnu podlogu, deluje sila u pravcu kretanja, tada je kretanje tačke prinudno. Neka je sila promenljiva sa vremenom po harmonijskom zako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2"/>
          <p:cNvSpPr/>
          <p:nvPr/>
        </p:nvSpPr>
        <p:spPr>
          <a:xfrm>
            <a:off x="576360" y="3176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čka vrši prinudne harmonijske osci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74"/>
              <p:cNvSpPr txBox="1"/>
              <p:nvPr/>
            </p:nvSpPr>
            <p:spPr>
              <a:xfrm>
                <a:off x="755640" y="4437000"/>
                <a:ext cx="3281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Group 76"/>
          <p:cNvGrpSpPr/>
          <p:nvPr/>
        </p:nvGrpSpPr>
        <p:grpSpPr>
          <a:xfrm>
            <a:off x="5400720" y="2457360"/>
            <a:ext cx="2914560" cy="1943280"/>
            <a:chOff x="5400720" y="2457360"/>
            <a:chExt cx="2914560" cy="1943280"/>
          </a:xfrm>
        </p:grpSpPr>
        <p:sp>
          <p:nvSpPr>
            <p:cNvPr id="48" name="Rectangle 77"/>
            <p:cNvSpPr/>
            <p:nvPr/>
          </p:nvSpPr>
          <p:spPr>
            <a:xfrm>
              <a:off x="5400720" y="2457360"/>
              <a:ext cx="179280" cy="1943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8"/>
            <p:cNvSpPr/>
            <p:nvPr/>
          </p:nvSpPr>
          <p:spPr>
            <a:xfrm rot="16200000">
              <a:off x="6570720" y="3051360"/>
              <a:ext cx="179280" cy="2519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9"/>
            <p:cNvSpPr/>
            <p:nvPr/>
          </p:nvSpPr>
          <p:spPr>
            <a:xfrm>
              <a:off x="5580000" y="4005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0"/>
            <p:cNvSpPr/>
            <p:nvPr/>
          </p:nvSpPr>
          <p:spPr>
            <a:xfrm flipV="1">
              <a:off x="5815440" y="3826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H="1" flipV="1">
              <a:off x="5977080" y="3841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2"/>
            <p:cNvSpPr/>
            <p:nvPr/>
          </p:nvSpPr>
          <p:spPr>
            <a:xfrm flipV="1">
              <a:off x="617400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3"/>
            <p:cNvSpPr/>
            <p:nvPr/>
          </p:nvSpPr>
          <p:spPr>
            <a:xfrm flipH="1" flipV="1">
              <a:off x="6372360" y="3878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4"/>
            <p:cNvSpPr/>
            <p:nvPr/>
          </p:nvSpPr>
          <p:spPr>
            <a:xfrm flipV="1">
              <a:off x="653436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5"/>
            <p:cNvSpPr/>
            <p:nvPr/>
          </p:nvSpPr>
          <p:spPr>
            <a:xfrm flipH="1" flipV="1">
              <a:off x="6732720" y="3843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6"/>
            <p:cNvSpPr/>
            <p:nvPr/>
          </p:nvSpPr>
          <p:spPr>
            <a:xfrm>
              <a:off x="6912000" y="4041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7093080" y="3897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8"/>
            <p:cNvSpPr/>
            <p:nvPr/>
          </p:nvSpPr>
          <p:spPr>
            <a:xfrm>
              <a:off x="7920000" y="40053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89"/>
            <p:cNvSpPr/>
            <p:nvPr/>
          </p:nvSpPr>
          <p:spPr>
            <a:xfrm>
              <a:off x="7921440" y="364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0"/>
            <p:cNvSpPr/>
            <p:nvPr/>
          </p:nvSpPr>
          <p:spPr>
            <a:xfrm flipH="1">
              <a:off x="6479640" y="4041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1"/>
            <p:cNvSpPr/>
            <p:nvPr/>
          </p:nvSpPr>
          <p:spPr>
            <a:xfrm flipH="1">
              <a:off x="5976360" y="4076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92"/>
                <p:cNvSpPr txBox="1"/>
                <p:nvPr/>
              </p:nvSpPr>
              <p:spPr>
                <a:xfrm>
                  <a:off x="6588000" y="3392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93"/>
                <p:cNvSpPr txBox="1"/>
                <p:nvPr/>
              </p:nvSpPr>
              <p:spPr>
                <a:xfrm>
                  <a:off x="5962680" y="3465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Line 94"/>
            <p:cNvSpPr/>
            <p:nvPr/>
          </p:nvSpPr>
          <p:spPr>
            <a:xfrm>
              <a:off x="5580000" y="3249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95"/>
            <p:cNvSpPr/>
            <p:nvPr/>
          </p:nvSpPr>
          <p:spPr>
            <a:xfrm>
              <a:off x="5580000" y="4221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6"/>
            <p:cNvSpPr/>
            <p:nvPr/>
          </p:nvSpPr>
          <p:spPr>
            <a:xfrm>
              <a:off x="7416720" y="400536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7"/>
            <p:cNvSpPr/>
            <p:nvPr/>
          </p:nvSpPr>
          <p:spPr>
            <a:xfrm>
              <a:off x="7451640" y="357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5356080" y="1341360"/>
            <a:ext cx="3211560" cy="1657080"/>
            <a:chOff x="5356080" y="134136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23" name="Object 5"/>
                <p:cNvSpPr txBox="1"/>
                <p:nvPr/>
              </p:nvSpPr>
              <p:spPr>
                <a:xfrm>
                  <a:off x="5356080" y="210492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Text Box 14"/>
          <p:cNvSpPr/>
          <p:nvPr/>
        </p:nvSpPr>
        <p:spPr>
          <a:xfrm>
            <a:off x="468360" y="2781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134" name="Text Box 16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17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Line 18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8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9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0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31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Line 32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34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35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Line 36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0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1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2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3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Line 44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45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Object 46"/>
              <p:cNvSpPr txBox="1"/>
              <p:nvPr/>
            </p:nvSpPr>
            <p:spPr>
              <a:xfrm>
                <a:off x="719280" y="3500280"/>
                <a:ext cx="558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Line 47"/>
          <p:cNvSpPr/>
          <p:nvPr/>
        </p:nvSpPr>
        <p:spPr>
          <a:xfrm flipV="1">
            <a:off x="5111640" y="3392280"/>
            <a:ext cx="97308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8"/>
              <p:cNvSpPr txBox="1"/>
              <p:nvPr/>
            </p:nvSpPr>
            <p:spPr>
              <a:xfrm>
                <a:off x="826920" y="4761000"/>
                <a:ext cx="2124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7"/>
              <p:cNvSpPr txBox="1"/>
              <p:nvPr/>
            </p:nvSpPr>
            <p:spPr>
              <a:xfrm>
                <a:off x="503280" y="2313000"/>
                <a:ext cx="507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0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171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AutoShape 25"/>
            <p:cNvCxnSpPr>
              <a:stCxn id="190" idx="1"/>
              <a:endCxn id="179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2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29"/>
          <p:cNvSpPr/>
          <p:nvPr/>
        </p:nvSpPr>
        <p:spPr>
          <a:xfrm flipV="1">
            <a:off x="4535640" y="206064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0"/>
              <p:cNvSpPr txBox="1"/>
              <p:nvPr/>
            </p:nvSpPr>
            <p:spPr>
              <a:xfrm>
                <a:off x="684360" y="3321000"/>
                <a:ext cx="21589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5219640" y="1305000"/>
            <a:ext cx="3211560" cy="1657080"/>
            <a:chOff x="5219640" y="130500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98" name="Object 5"/>
                <p:cNvSpPr txBox="1"/>
                <p:nvPr/>
              </p:nvSpPr>
              <p:spPr>
                <a:xfrm>
                  <a:off x="5219640" y="2160360"/>
                  <a:ext cx="1084320" cy="2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O</m:t>
                              </m:r>
                            </m:e>
                          </m:d>
                        </m:sup>
                      </m:s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Line 6"/>
            <p:cNvSpPr/>
            <p:nvPr/>
          </p:nvSpPr>
          <p:spPr>
            <a:xfrm flipH="1">
              <a:off x="6451200" y="260172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7064640" y="260172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7064640" y="1593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>
              <a:off x="7135920" y="177336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7496280" y="162828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7639200" y="2133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"/>
            <p:cNvSpPr/>
            <p:nvPr/>
          </p:nvSpPr>
          <p:spPr>
            <a:xfrm>
              <a:off x="7496280" y="202572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3"/>
                <p:cNvSpPr txBox="1"/>
                <p:nvPr/>
              </p:nvSpPr>
              <p:spPr>
                <a:xfrm>
                  <a:off x="7999560" y="130500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Line 14"/>
          <p:cNvSpPr/>
          <p:nvPr/>
        </p:nvSpPr>
        <p:spPr>
          <a:xfrm flipV="1">
            <a:off x="7056360" y="2096640"/>
            <a:ext cx="432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719280" y="317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210" name="Text Box 17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18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19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2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4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5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9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0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1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32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33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35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36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37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9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0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1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2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3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44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5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6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Object 47"/>
              <p:cNvSpPr txBox="1"/>
              <p:nvPr/>
            </p:nvSpPr>
            <p:spPr>
              <a:xfrm>
                <a:off x="684360" y="3860640"/>
                <a:ext cx="5688000" cy="23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7"/>
              <p:cNvSpPr txBox="1"/>
              <p:nvPr/>
            </p:nvSpPr>
            <p:spPr>
              <a:xfrm>
                <a:off x="395280" y="2241720"/>
                <a:ext cx="576108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m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4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245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AutoShape 25"/>
            <p:cNvCxnSpPr>
              <a:stCxn id="264" idx="1"/>
              <a:endCxn id="253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6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7" name="Object 29"/>
              <p:cNvSpPr txBox="1"/>
              <p:nvPr/>
            </p:nvSpPr>
            <p:spPr>
              <a:xfrm>
                <a:off x="468360" y="4545000"/>
                <a:ext cx="44989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647640" y="1305000"/>
                <a:ext cx="770436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ζ</m:t>
                            </m:r>
                            <m:r>
                              <m:t xml:space="preserve">−</m:t>
                            </m:r>
                            <m:r>
                              <m:t xml:space="preserve">r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ξ</m:t>
                            </m:r>
                            <m:r>
                              <m:t xml:space="preserve">−</m:t>
                            </m:r>
                            <m:r>
                              <m:t xml:space="preserve">pζ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η</m:t>
                            </m:r>
                            <m:r>
                              <m:t xml:space="preserve">−</m:t>
                            </m:r>
                            <m:r>
                              <m:t xml:space="preserve">qζ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η</m:t>
                                  </m:r>
                                </m:e>
                                <m:e>
                                  <m:r>
                                    <m:t xml:space="preserve">rξ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</m:e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6"/>
          <p:cNvGraphicFramePr/>
          <p:nvPr/>
        </p:nvGraphicFramePr>
        <p:xfrm>
          <a:off x="1111320" y="1233360"/>
          <a:ext cx="6453000" cy="276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1320" y="1233360"/>
                    <a:ext cx="64530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8"/>
          <p:cNvSpPr/>
          <p:nvPr/>
        </p:nvSpPr>
        <p:spPr>
          <a:xfrm>
            <a:off x="3780000" y="3213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e ose inercije u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414972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sl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ju kada telo ima nepokretnu tač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vajamo je za referentnu tač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0"/>
              <p:cNvSpPr txBox="1"/>
              <p:nvPr/>
            </p:nvSpPr>
            <p:spPr>
              <a:xfrm>
                <a:off x="719280" y="5141880"/>
                <a:ext cx="4392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Line 13"/>
          <p:cNvSpPr/>
          <p:nvPr/>
        </p:nvSpPr>
        <p:spPr>
          <a:xfrm flipH="1">
            <a:off x="5327640" y="5659560"/>
            <a:ext cx="900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327640" y="5803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0"/>
          <p:cNvGrpSpPr/>
          <p:nvPr/>
        </p:nvGrpSpPr>
        <p:grpSpPr>
          <a:xfrm>
            <a:off x="5832360" y="3716280"/>
            <a:ext cx="2665440" cy="2743200"/>
            <a:chOff x="5832360" y="3716280"/>
            <a:chExt cx="2665440" cy="2743200"/>
          </a:xfrm>
        </p:grpSpPr>
        <p:sp>
          <p:nvSpPr>
            <p:cNvPr id="280" name="Line 14"/>
            <p:cNvSpPr/>
            <p:nvPr/>
          </p:nvSpPr>
          <p:spPr>
            <a:xfrm>
              <a:off x="622764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V="1">
              <a:off x="622764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6562800" y="400068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9128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7308720" y="5335560"/>
              <a:ext cx="104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 flipV="1">
              <a:off x="658800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V="1">
              <a:off x="622764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1"/>
            <p:cNvSpPr/>
            <p:nvPr/>
          </p:nvSpPr>
          <p:spPr>
            <a:xfrm>
              <a:off x="7451640" y="432756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7307280" y="454356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4"/>
            <p:cNvSpPr/>
            <p:nvPr/>
          </p:nvSpPr>
          <p:spPr>
            <a:xfrm>
              <a:off x="723600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583236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6840360" y="56595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7"/>
            <p:cNvSpPr/>
            <p:nvPr/>
          </p:nvSpPr>
          <p:spPr>
            <a:xfrm>
              <a:off x="817236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8"/>
            <p:cNvSpPr/>
            <p:nvPr/>
          </p:nvSpPr>
          <p:spPr>
            <a:xfrm>
              <a:off x="662292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29"/>
                <p:cNvSpPr txBox="1"/>
                <p:nvPr/>
              </p:nvSpPr>
              <p:spPr>
                <a:xfrm>
                  <a:off x="6415200" y="5219640"/>
                  <a:ext cx="2030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Object 30"/>
                <p:cNvSpPr txBox="1"/>
                <p:nvPr/>
              </p:nvSpPr>
              <p:spPr>
                <a:xfrm>
                  <a:off x="7488360" y="479592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Text Box 31"/>
            <p:cNvSpPr/>
            <p:nvPr/>
          </p:nvSpPr>
          <p:spPr>
            <a:xfrm>
              <a:off x="7056360" y="4183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7848720" y="38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33"/>
            <p:cNvCxnSpPr>
              <a:stCxn id="297" idx="1"/>
              <a:endCxn id="287" idx="0"/>
            </p:cNvCxnSpPr>
            <p:nvPr/>
          </p:nvCxnSpPr>
          <p:spPr>
            <a:xfrm flipV="1" rot="10800000">
              <a:off x="7603560" y="400824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99" name="Text Box 34"/>
            <p:cNvSpPr/>
            <p:nvPr/>
          </p:nvSpPr>
          <p:spPr>
            <a:xfrm>
              <a:off x="6983280" y="5048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35"/>
            <p:cNvSpPr/>
            <p:nvPr/>
          </p:nvSpPr>
          <p:spPr>
            <a:xfrm>
              <a:off x="7559640" y="558972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 flipH="1">
              <a:off x="7451640" y="5661000"/>
              <a:ext cx="144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7596360" y="5661000"/>
              <a:ext cx="1792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7380360" y="58420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7380360" y="5842080"/>
              <a:ext cx="612720" cy="10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gornje nehomogene dif jednačine drugog reda sa konstantnim koeficijentima sastoji se iz homogenog i partikularnog integrala. U daljoj analizi razmatra s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učaj malog priguš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934920" y="3897360"/>
                <a:ext cx="65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Text Box 6"/>
          <p:cNvSpPr/>
          <p:nvPr/>
        </p:nvSpPr>
        <p:spPr>
          <a:xfrm>
            <a:off x="900000" y="4581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sa desne strane d.j. stoji trigonometrijska funkcija, partikularni integral ove d.j. tražimo u obliku trigonometrijskih funkcija istog argum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934920" y="5553000"/>
                <a:ext cx="6913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rnje rešenje unosimo u d.j. i izjednačavamo keficijente uz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dnosno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leve i desne strane jednačine, tada dobijamo dve je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900000" y="2852640"/>
                <a:ext cx="2159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900000" y="3860640"/>
                <a:ext cx="5688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306360" y="4905360"/>
                <a:ext cx="88376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t=0, x=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419640" y="1773360"/>
                <a:ext cx="850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647640" y="2241720"/>
                <a:ext cx="334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q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9"/>
              <p:cNvSpPr txBox="1"/>
              <p:nvPr/>
            </p:nvSpPr>
            <p:spPr>
              <a:xfrm>
                <a:off x="611280" y="4113360"/>
                <a:ext cx="705636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λ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59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mo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nciju.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 post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503280" y="3321000"/>
                <a:ext cx="313200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Group 15"/>
          <p:cNvGrpSpPr/>
          <p:nvPr/>
        </p:nvGrpSpPr>
        <p:grpSpPr>
          <a:xfrm>
            <a:off x="4967280" y="2349360"/>
            <a:ext cx="2808360" cy="2879640"/>
            <a:chOff x="4967280" y="2349360"/>
            <a:chExt cx="2808360" cy="2879640"/>
          </a:xfrm>
        </p:grpSpPr>
        <p:sp>
          <p:nvSpPr>
            <p:cNvPr id="89" name="Line 6"/>
            <p:cNvSpPr/>
            <p:nvPr/>
          </p:nvSpPr>
          <p:spPr>
            <a:xfrm>
              <a:off x="4967280" y="3933720"/>
              <a:ext cx="27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V="1">
              <a:off x="5111640" y="238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5184720" y="2349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7451640" y="35002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V="1">
              <a:off x="5113440" y="2637000"/>
              <a:ext cx="18716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5113080" y="3931920"/>
              <a:ext cx="1871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5148360" y="2529000"/>
              <a:ext cx="2087640" cy="2201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5977080" y="2421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6588000" y="46893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-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taljene prigušene prinudne oscil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39640" y="4761000"/>
                <a:ext cx="76327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Text Box 4"/>
          <p:cNvSpPr/>
          <p:nvPr/>
        </p:nvSpPr>
        <p:spPr>
          <a:xfrm>
            <a:off x="468360" y="2457360"/>
            <a:ext cx="766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u izrazu za konačne jednačine kretanja pretpostavimo da je faktor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u sabircima kojima su predstavljene slobodne oscilacije) postao veoma mali prema jedinici, a to znači da je proteklo vreme od započinjanja oscilatornog kretanja dovoljno veliko, tada u konačnim jednačinama kretanja opravdano zanemarujemo sabirke kojima su prikazane slobodne oscilacije izazvane uticajem perturbacione sile. U tom slučaju dobijamo konačne jednačine kretanja ustaljenih prinudnih oscilacija koje gl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i sledeće ozn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39640" y="2349360"/>
                <a:ext cx="8028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6"/>
          <p:cNvSpPr/>
          <p:nvPr/>
        </p:nvSpPr>
        <p:spPr>
          <a:xfrm>
            <a:off x="647640" y="3645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ornja jednačina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576360" y="4292640"/>
                <a:ext cx="3281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Text Box 9"/>
          <p:cNvSpPr/>
          <p:nvPr/>
        </p:nvSpPr>
        <p:spPr>
          <a:xfrm>
            <a:off x="647640" y="5049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neprigušenih ustaljenih prinudnih oscilacija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755640" y="5516640"/>
                <a:ext cx="3203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motrimo sada izraz za amplitudu ustaljenih prigušenih prinudnih oscilacija. Kao prvo im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900000" y="2600280"/>
                <a:ext cx="4319640" cy="29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at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u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934920" y="5624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mplituda ima ekstremnu vrednost 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684360" y="3645000"/>
                <a:ext cx="6191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576360" y="1305000"/>
                <a:ext cx="5364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/</m:t>
                        </m:r>
                        <m:r>
                          <m:t xml:space="preserve">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6"/>
          <p:cNvSpPr/>
          <p:nvPr/>
        </p:nvSpPr>
        <p:spPr>
          <a:xfrm>
            <a:off x="684360" y="2781360"/>
            <a:ext cx="56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je ekstremna vrednost amplit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11280" y="4869000"/>
            <a:ext cx="68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opšteno možemo napisa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755640" y="5373720"/>
                <a:ext cx="3060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Text Box 12"/>
          <p:cNvSpPr/>
          <p:nvPr/>
        </p:nvSpPr>
        <p:spPr>
          <a:xfrm>
            <a:off x="719280" y="6345360"/>
            <a:ext cx="68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(u)-je dinamički koeficijent (dinamički fak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27T07:37:48Z</dcterms:modified>
  <cp:revision>501</cp:revision>
  <dc:subject/>
  <dc:title>ТЕХНИЧКА МЕХАНИКА 2</dc:title>
</cp:coreProperties>
</file>