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9C5-2933-4B8A-986F-91FADBDC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0E42-0D26-4CB0-A4A0-D6A78E44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AFF-9067-425A-9745-41B68C17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309-48CE-4DD3-853B-42CE9783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64D-8BED-4E3B-ADB4-1584BB1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454-2ABA-4516-AF0B-E1C90C39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D1D-CAE0-4525-BD0F-AF2DF3D9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232B-5AD4-4C74-88BE-E81CE961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754-2285-4C98-B999-0166E41D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BA0-7EBE-4AA3-9587-D2FBEB8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5134-388F-479F-B3F9-DEB54B96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42C-CBBB-4ABF-AEEF-7385E38F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54D1-93D1-406B-916E-2532E98C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38"/>
              <p:cNvSpPr txBox="1"/>
              <p:nvPr/>
            </p:nvSpPr>
            <p:spPr>
              <a:xfrm>
                <a:off x="755640" y="3645000"/>
                <a:ext cx="3421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Object 72"/>
              <p:cNvSpPr txBox="1"/>
              <p:nvPr/>
            </p:nvSpPr>
            <p:spPr>
              <a:xfrm>
                <a:off x="647640" y="2384280"/>
                <a:ext cx="39243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−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Text Box 27"/>
          <p:cNvSpPr/>
          <p:nvPr/>
        </p:nvSpPr>
        <p:spPr>
          <a:xfrm>
            <a:off x="539640" y="1449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a materijalnu tačku vezanu oprugom za nepokretnu podlogu, deluje sila u pravcu kretanja, tada je kretanje tačke prinudno. Neka je sila promenljiva sa vremenom po harmonijskom zakon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2"/>
          <p:cNvSpPr/>
          <p:nvPr/>
        </p:nvSpPr>
        <p:spPr>
          <a:xfrm>
            <a:off x="576360" y="317664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čka vrši prinudne harmonijske osci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74"/>
              <p:cNvSpPr txBox="1"/>
              <p:nvPr/>
            </p:nvSpPr>
            <p:spPr>
              <a:xfrm>
                <a:off x="755640" y="4437000"/>
                <a:ext cx="328140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Group 76"/>
          <p:cNvGrpSpPr/>
          <p:nvPr/>
        </p:nvGrpSpPr>
        <p:grpSpPr>
          <a:xfrm>
            <a:off x="5400720" y="2457360"/>
            <a:ext cx="2914560" cy="1943280"/>
            <a:chOff x="5400720" y="2457360"/>
            <a:chExt cx="2914560" cy="1943280"/>
          </a:xfrm>
        </p:grpSpPr>
        <p:sp>
          <p:nvSpPr>
            <p:cNvPr id="48" name="Rectangle 77"/>
            <p:cNvSpPr/>
            <p:nvPr/>
          </p:nvSpPr>
          <p:spPr>
            <a:xfrm>
              <a:off x="5400720" y="2457360"/>
              <a:ext cx="179280" cy="1943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8"/>
            <p:cNvSpPr/>
            <p:nvPr/>
          </p:nvSpPr>
          <p:spPr>
            <a:xfrm rot="16200000">
              <a:off x="6570720" y="3051360"/>
              <a:ext cx="179280" cy="2519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9"/>
            <p:cNvSpPr/>
            <p:nvPr/>
          </p:nvSpPr>
          <p:spPr>
            <a:xfrm>
              <a:off x="5580000" y="4005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0"/>
            <p:cNvSpPr/>
            <p:nvPr/>
          </p:nvSpPr>
          <p:spPr>
            <a:xfrm flipV="1">
              <a:off x="5815440" y="3826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H="1" flipV="1">
              <a:off x="5977080" y="3841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2"/>
            <p:cNvSpPr/>
            <p:nvPr/>
          </p:nvSpPr>
          <p:spPr>
            <a:xfrm flipV="1">
              <a:off x="617400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83"/>
            <p:cNvSpPr/>
            <p:nvPr/>
          </p:nvSpPr>
          <p:spPr>
            <a:xfrm flipH="1" flipV="1">
              <a:off x="6372360" y="3878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4"/>
            <p:cNvSpPr/>
            <p:nvPr/>
          </p:nvSpPr>
          <p:spPr>
            <a:xfrm flipV="1">
              <a:off x="6534360" y="3861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5"/>
            <p:cNvSpPr/>
            <p:nvPr/>
          </p:nvSpPr>
          <p:spPr>
            <a:xfrm flipH="1" flipV="1">
              <a:off x="6732720" y="3843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6"/>
            <p:cNvSpPr/>
            <p:nvPr/>
          </p:nvSpPr>
          <p:spPr>
            <a:xfrm>
              <a:off x="6912000" y="4041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87"/>
            <p:cNvSpPr/>
            <p:nvPr/>
          </p:nvSpPr>
          <p:spPr>
            <a:xfrm>
              <a:off x="7093080" y="3897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8"/>
            <p:cNvSpPr/>
            <p:nvPr/>
          </p:nvSpPr>
          <p:spPr>
            <a:xfrm>
              <a:off x="7920000" y="40053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89"/>
            <p:cNvSpPr/>
            <p:nvPr/>
          </p:nvSpPr>
          <p:spPr>
            <a:xfrm>
              <a:off x="7921440" y="364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90"/>
            <p:cNvSpPr/>
            <p:nvPr/>
          </p:nvSpPr>
          <p:spPr>
            <a:xfrm flipH="1">
              <a:off x="6479640" y="4041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91"/>
            <p:cNvSpPr/>
            <p:nvPr/>
          </p:nvSpPr>
          <p:spPr>
            <a:xfrm flipH="1">
              <a:off x="5976360" y="4076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92"/>
                <p:cNvSpPr txBox="1"/>
                <p:nvPr/>
              </p:nvSpPr>
              <p:spPr>
                <a:xfrm>
                  <a:off x="6588000" y="3392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Object 93"/>
                <p:cNvSpPr txBox="1"/>
                <p:nvPr/>
              </p:nvSpPr>
              <p:spPr>
                <a:xfrm>
                  <a:off x="5962680" y="3465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Line 94"/>
            <p:cNvSpPr/>
            <p:nvPr/>
          </p:nvSpPr>
          <p:spPr>
            <a:xfrm>
              <a:off x="5580000" y="3249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95"/>
            <p:cNvSpPr/>
            <p:nvPr/>
          </p:nvSpPr>
          <p:spPr>
            <a:xfrm>
              <a:off x="5580000" y="4221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6"/>
            <p:cNvSpPr/>
            <p:nvPr/>
          </p:nvSpPr>
          <p:spPr>
            <a:xfrm>
              <a:off x="7416720" y="4005360"/>
              <a:ext cx="4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7"/>
            <p:cNvSpPr/>
            <p:nvPr/>
          </p:nvSpPr>
          <p:spPr>
            <a:xfrm>
              <a:off x="7451640" y="357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5356080" y="1341360"/>
            <a:ext cx="3211560" cy="1657080"/>
            <a:chOff x="5356080" y="134136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23" name="Object 5"/>
                <p:cNvSpPr txBox="1"/>
                <p:nvPr/>
              </p:nvSpPr>
              <p:spPr>
                <a:xfrm>
                  <a:off x="5356080" y="2104920"/>
                  <a:ext cx="108432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K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4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" name="Text Box 14"/>
          <p:cNvSpPr/>
          <p:nvPr/>
        </p:nvSpPr>
        <p:spPr>
          <a:xfrm>
            <a:off x="468360" y="2781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5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134" name="Text Box 16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Object 17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Line 18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9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28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9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0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Object 31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Line 32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" name="Object 34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35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Line 36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7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0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1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2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3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Line 44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Object 45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46"/>
              <p:cNvSpPr txBox="1"/>
              <p:nvPr/>
            </p:nvSpPr>
            <p:spPr>
              <a:xfrm>
                <a:off x="719280" y="3500280"/>
                <a:ext cx="558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Line 47"/>
          <p:cNvSpPr/>
          <p:nvPr/>
        </p:nvSpPr>
        <p:spPr>
          <a:xfrm flipV="1">
            <a:off x="5111640" y="3392280"/>
            <a:ext cx="97308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8"/>
              <p:cNvSpPr txBox="1"/>
              <p:nvPr/>
            </p:nvSpPr>
            <p:spPr>
              <a:xfrm>
                <a:off x="826920" y="4761000"/>
                <a:ext cx="2124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LIČINA KRETANJA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7"/>
              <p:cNvSpPr txBox="1"/>
              <p:nvPr/>
            </p:nvSpPr>
            <p:spPr>
              <a:xfrm>
                <a:off x="503280" y="2313000"/>
                <a:ext cx="5076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m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0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171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AutoShape 25"/>
            <p:cNvCxnSpPr>
              <a:stCxn id="190" idx="1"/>
              <a:endCxn id="179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92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Line 29"/>
          <p:cNvSpPr/>
          <p:nvPr/>
        </p:nvSpPr>
        <p:spPr>
          <a:xfrm flipV="1">
            <a:off x="4535640" y="206064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0"/>
              <p:cNvSpPr txBox="1"/>
              <p:nvPr/>
            </p:nvSpPr>
            <p:spPr>
              <a:xfrm>
                <a:off x="684360" y="3321000"/>
                <a:ext cx="21589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5219640" y="1305000"/>
            <a:ext cx="3211560" cy="1657080"/>
            <a:chOff x="5219640" y="1305000"/>
            <a:chExt cx="3211560" cy="1657080"/>
          </a:xfrm>
        </p:grpSpPr>
        <mc:AlternateContent>
          <mc:Choice xmlns:a14="http://schemas.microsoft.com/office/drawing/2010/main" Requires="a14">
            <p:sp>
              <p:nvSpPr>
                <p:cNvPr id="198" name="Object 5"/>
                <p:cNvSpPr txBox="1"/>
                <p:nvPr/>
              </p:nvSpPr>
              <p:spPr>
                <a:xfrm>
                  <a:off x="5219640" y="2160360"/>
                  <a:ext cx="1084320" cy="26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O</m:t>
                              </m:r>
                            </m:e>
                          </m:d>
                        </m:sup>
                      </m:sSup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  <m:r>
                        <m:t xml:space="preserve">×</m:t>
                      </m:r>
                      <m:r>
                        <m:t xml:space="preserve">m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Line 6"/>
            <p:cNvSpPr/>
            <p:nvPr/>
          </p:nvSpPr>
          <p:spPr>
            <a:xfrm flipH="1">
              <a:off x="6451200" y="260172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>
              <a:off x="7064640" y="260172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7064640" y="1593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"/>
            <p:cNvSpPr/>
            <p:nvPr/>
          </p:nvSpPr>
          <p:spPr>
            <a:xfrm>
              <a:off x="7135920" y="177336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V="1">
              <a:off x="7496280" y="162828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639200" y="21337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2"/>
            <p:cNvSpPr/>
            <p:nvPr/>
          </p:nvSpPr>
          <p:spPr>
            <a:xfrm>
              <a:off x="7496280" y="202572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7999560" y="130500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Line 14"/>
          <p:cNvSpPr/>
          <p:nvPr/>
        </p:nvSpPr>
        <p:spPr>
          <a:xfrm flipV="1">
            <a:off x="7056360" y="2096640"/>
            <a:ext cx="432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719280" y="3176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stem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5867280" y="3573360"/>
            <a:ext cx="2663640" cy="3103560"/>
            <a:chOff x="5867280" y="3573360"/>
            <a:chExt cx="2663640" cy="3103560"/>
          </a:xfrm>
        </p:grpSpPr>
        <p:sp>
          <p:nvSpPr>
            <p:cNvPr id="210" name="Text Box 17"/>
            <p:cNvSpPr/>
            <p:nvPr/>
          </p:nvSpPr>
          <p:spPr>
            <a:xfrm>
              <a:off x="766728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18"/>
                <p:cNvSpPr txBox="1"/>
                <p:nvPr/>
              </p:nvSpPr>
              <p:spPr>
                <a:xfrm>
                  <a:off x="766728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19"/>
            <p:cNvSpPr/>
            <p:nvPr/>
          </p:nvSpPr>
          <p:spPr>
            <a:xfrm flipH="1">
              <a:off x="586728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20"/>
            <p:cNvSpPr/>
            <p:nvPr/>
          </p:nvSpPr>
          <p:spPr>
            <a:xfrm>
              <a:off x="655128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1"/>
            <p:cNvSpPr/>
            <p:nvPr/>
          </p:nvSpPr>
          <p:spPr>
            <a:xfrm flipV="1">
              <a:off x="655128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2"/>
            <p:cNvSpPr/>
            <p:nvPr/>
          </p:nvSpPr>
          <p:spPr>
            <a:xfrm>
              <a:off x="766728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694656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4"/>
            <p:cNvSpPr/>
            <p:nvPr/>
          </p:nvSpPr>
          <p:spPr>
            <a:xfrm>
              <a:off x="766728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5"/>
            <p:cNvSpPr/>
            <p:nvPr/>
          </p:nvSpPr>
          <p:spPr>
            <a:xfrm>
              <a:off x="809928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6"/>
            <p:cNvSpPr/>
            <p:nvPr/>
          </p:nvSpPr>
          <p:spPr>
            <a:xfrm>
              <a:off x="759600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 flipV="1">
              <a:off x="759600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8"/>
            <p:cNvSpPr/>
            <p:nvPr/>
          </p:nvSpPr>
          <p:spPr>
            <a:xfrm flipH="1" flipV="1">
              <a:off x="709128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9"/>
            <p:cNvSpPr/>
            <p:nvPr/>
          </p:nvSpPr>
          <p:spPr>
            <a:xfrm>
              <a:off x="737856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30"/>
            <p:cNvSpPr/>
            <p:nvPr/>
          </p:nvSpPr>
          <p:spPr>
            <a:xfrm>
              <a:off x="665928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1"/>
            <p:cNvSpPr/>
            <p:nvPr/>
          </p:nvSpPr>
          <p:spPr>
            <a:xfrm>
              <a:off x="748800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32"/>
                <p:cNvSpPr txBox="1"/>
                <p:nvPr/>
              </p:nvSpPr>
              <p:spPr>
                <a:xfrm>
                  <a:off x="727056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33"/>
            <p:cNvSpPr/>
            <p:nvPr/>
          </p:nvSpPr>
          <p:spPr>
            <a:xfrm>
              <a:off x="655128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 flipV="1">
              <a:off x="658800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35"/>
                <p:cNvSpPr txBox="1"/>
                <p:nvPr/>
              </p:nvSpPr>
              <p:spPr>
                <a:xfrm>
                  <a:off x="716256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36"/>
                <p:cNvSpPr txBox="1"/>
                <p:nvPr/>
              </p:nvSpPr>
              <p:spPr>
                <a:xfrm>
                  <a:off x="687528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37"/>
            <p:cNvSpPr/>
            <p:nvPr/>
          </p:nvSpPr>
          <p:spPr>
            <a:xfrm>
              <a:off x="701964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80696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V="1">
              <a:off x="701964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>
              <a:off x="773892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41"/>
            <p:cNvSpPr/>
            <p:nvPr/>
          </p:nvSpPr>
          <p:spPr>
            <a:xfrm>
              <a:off x="604656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42"/>
            <p:cNvSpPr/>
            <p:nvPr/>
          </p:nvSpPr>
          <p:spPr>
            <a:xfrm>
              <a:off x="727056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43"/>
            <p:cNvSpPr/>
            <p:nvPr/>
          </p:nvSpPr>
          <p:spPr>
            <a:xfrm>
              <a:off x="665928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44"/>
                <p:cNvSpPr txBox="1"/>
                <p:nvPr/>
              </p:nvSpPr>
              <p:spPr>
                <a:xfrm>
                  <a:off x="772920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5"/>
            <p:cNvSpPr/>
            <p:nvPr/>
          </p:nvSpPr>
          <p:spPr>
            <a:xfrm flipV="1">
              <a:off x="655128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6"/>
                <p:cNvSpPr txBox="1"/>
                <p:nvPr/>
              </p:nvSpPr>
              <p:spPr>
                <a:xfrm>
                  <a:off x="659736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Object 47"/>
              <p:cNvSpPr txBox="1"/>
              <p:nvPr/>
            </p:nvSpPr>
            <p:spPr>
              <a:xfrm>
                <a:off x="684360" y="3860640"/>
                <a:ext cx="5688000" cy="23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</m:acc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</m:e>
                                </m:d>
                              </m:sup>
                            </m:sSup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. T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7"/>
              <p:cNvSpPr txBox="1"/>
              <p:nvPr/>
            </p:nvSpPr>
            <p:spPr>
              <a:xfrm>
                <a:off x="395280" y="2241720"/>
                <a:ext cx="5761080" cy="20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t xml:space="preserve">m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lim>
                            </m:limLow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O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4" name="Group 4"/>
          <p:cNvGrpSpPr/>
          <p:nvPr/>
        </p:nvGrpSpPr>
        <p:grpSpPr>
          <a:xfrm>
            <a:off x="5148360" y="1665360"/>
            <a:ext cx="3169800" cy="2743200"/>
            <a:chOff x="5148360" y="1665360"/>
            <a:chExt cx="3169800" cy="2743200"/>
          </a:xfrm>
        </p:grpSpPr>
        <p:sp>
          <p:nvSpPr>
            <p:cNvPr id="245" name="Line 5"/>
            <p:cNvSpPr/>
            <p:nvPr/>
          </p:nvSpPr>
          <p:spPr>
            <a:xfrm flipH="1">
              <a:off x="5148360" y="3608280"/>
              <a:ext cx="90000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6048360" y="3608280"/>
              <a:ext cx="97092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V="1">
              <a:off x="6048360" y="220500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"/>
            <p:cNvSpPr/>
            <p:nvPr/>
          </p:nvSpPr>
          <p:spPr>
            <a:xfrm>
              <a:off x="6383160" y="1949400"/>
              <a:ext cx="143316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 flipH="1">
              <a:off x="6912000" y="3284640"/>
              <a:ext cx="21528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7129440" y="3284640"/>
              <a:ext cx="104256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H="1" flipV="1">
              <a:off x="6408720" y="1988640"/>
              <a:ext cx="7185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6048360" y="3284280"/>
              <a:ext cx="107892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3"/>
            <p:cNvSpPr/>
            <p:nvPr/>
          </p:nvSpPr>
          <p:spPr>
            <a:xfrm>
              <a:off x="7272360" y="2276280"/>
              <a:ext cx="252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V="1">
              <a:off x="7127640" y="2492280"/>
              <a:ext cx="21564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5"/>
            <p:cNvSpPr/>
            <p:nvPr/>
          </p:nvSpPr>
          <p:spPr>
            <a:xfrm>
              <a:off x="5148360" y="375264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7056360" y="4040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5653080" y="209700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8"/>
            <p:cNvSpPr/>
            <p:nvPr/>
          </p:nvSpPr>
          <p:spPr>
            <a:xfrm>
              <a:off x="6661080" y="3608280"/>
              <a:ext cx="28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7993080" y="3176640"/>
              <a:ext cx="3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6443640" y="1665360"/>
              <a:ext cx="3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1"/>
                <p:cNvSpPr txBox="1"/>
                <p:nvPr/>
              </p:nvSpPr>
              <p:spPr>
                <a:xfrm>
                  <a:off x="6235560" y="3168720"/>
                  <a:ext cx="2026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22"/>
                <p:cNvSpPr txBox="1"/>
                <p:nvPr/>
              </p:nvSpPr>
              <p:spPr>
                <a:xfrm>
                  <a:off x="7308720" y="2744640"/>
                  <a:ext cx="2376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Text Box 23"/>
            <p:cNvSpPr/>
            <p:nvPr/>
          </p:nvSpPr>
          <p:spPr>
            <a:xfrm>
              <a:off x="6877080" y="2131920"/>
              <a:ext cx="3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7669080" y="17733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5" name="AutoShape 25"/>
            <p:cNvCxnSpPr>
              <a:stCxn id="264" idx="1"/>
              <a:endCxn id="253" idx="0"/>
            </p:cNvCxnSpPr>
            <p:nvPr/>
          </p:nvCxnSpPr>
          <p:spPr>
            <a:xfrm flipV="1" rot="10800000">
              <a:off x="7423920" y="195696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66" name="Text Box 26"/>
            <p:cNvSpPr/>
            <p:nvPr/>
          </p:nvSpPr>
          <p:spPr>
            <a:xfrm>
              <a:off x="6804000" y="299700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7" name="Object 29"/>
              <p:cNvSpPr txBox="1"/>
              <p:nvPr/>
            </p:nvSpPr>
            <p:spPr>
              <a:xfrm>
                <a:off x="468360" y="4545000"/>
                <a:ext cx="44989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647640" y="1305000"/>
                <a:ext cx="770436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ζ</m:t>
                            </m:r>
                            <m:r>
                              <m:t xml:space="preserve">−</m:t>
                            </m:r>
                            <m:r>
                              <m:t xml:space="preserve">r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rξ</m:t>
                            </m:r>
                            <m:r>
                              <m:t xml:space="preserve">−</m:t>
                            </m:r>
                            <m:r>
                              <m:t xml:space="preserve">pζ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η</m:t>
                            </m:r>
                            <m:r>
                              <m:t xml:space="preserve">−</m:t>
                            </m:r>
                            <m:r>
                              <m:t xml:space="preserve">qζ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rη</m:t>
                                  </m:r>
                                </m:e>
                                <m:e>
                                  <m:r>
                                    <m:t xml:space="preserve">rξ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</m:e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ζ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q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MENT KOLIČINE KRE., SISTEM, T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6"/>
          <p:cNvGraphicFramePr/>
          <p:nvPr/>
        </p:nvGraphicFramePr>
        <p:xfrm>
          <a:off x="1111320" y="1233360"/>
          <a:ext cx="6453000" cy="27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1320" y="1233360"/>
                    <a:ext cx="6453000" cy="27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8"/>
          <p:cNvSpPr/>
          <p:nvPr/>
        </p:nvSpPr>
        <p:spPr>
          <a:xfrm>
            <a:off x="3780000" y="3213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vne ose inercije u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4149720"/>
            <a:ext cx="468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sl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ju kada telo ima nepokretnu tač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vajamo je za referentnu tač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719280" y="5141880"/>
                <a:ext cx="4392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O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</m:d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7" name="Line 13"/>
          <p:cNvSpPr/>
          <p:nvPr/>
        </p:nvSpPr>
        <p:spPr>
          <a:xfrm flipH="1">
            <a:off x="5327640" y="5659560"/>
            <a:ext cx="90000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5327640" y="5803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40"/>
          <p:cNvGrpSpPr/>
          <p:nvPr/>
        </p:nvGrpSpPr>
        <p:grpSpPr>
          <a:xfrm>
            <a:off x="5832360" y="3716280"/>
            <a:ext cx="2665440" cy="2743200"/>
            <a:chOff x="5832360" y="3716280"/>
            <a:chExt cx="2665440" cy="2743200"/>
          </a:xfrm>
        </p:grpSpPr>
        <p:sp>
          <p:nvSpPr>
            <p:cNvPr id="280" name="Line 14"/>
            <p:cNvSpPr/>
            <p:nvPr/>
          </p:nvSpPr>
          <p:spPr>
            <a:xfrm>
              <a:off x="6227640" y="5659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V="1">
              <a:off x="6227640" y="4255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"/>
            <p:cNvSpPr/>
            <p:nvPr/>
          </p:nvSpPr>
          <p:spPr>
            <a:xfrm>
              <a:off x="6562800" y="400068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91280" y="5335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>
              <a:off x="7308720" y="5335560"/>
              <a:ext cx="104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 flipV="1">
              <a:off x="6588000" y="4040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V="1">
              <a:off x="6227640" y="5335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1"/>
            <p:cNvSpPr/>
            <p:nvPr/>
          </p:nvSpPr>
          <p:spPr>
            <a:xfrm>
              <a:off x="7451640" y="432756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7307280" y="454356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4"/>
            <p:cNvSpPr/>
            <p:nvPr/>
          </p:nvSpPr>
          <p:spPr>
            <a:xfrm>
              <a:off x="7236000" y="6091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5832360" y="4148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6840360" y="565956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7"/>
            <p:cNvSpPr/>
            <p:nvPr/>
          </p:nvSpPr>
          <p:spPr>
            <a:xfrm>
              <a:off x="8172360" y="5227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8"/>
            <p:cNvSpPr/>
            <p:nvPr/>
          </p:nvSpPr>
          <p:spPr>
            <a:xfrm>
              <a:off x="6622920" y="3716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29"/>
                <p:cNvSpPr txBox="1"/>
                <p:nvPr/>
              </p:nvSpPr>
              <p:spPr>
                <a:xfrm>
                  <a:off x="6415200" y="5219640"/>
                  <a:ext cx="20304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5" name="Object 30"/>
                <p:cNvSpPr txBox="1"/>
                <p:nvPr/>
              </p:nvSpPr>
              <p:spPr>
                <a:xfrm>
                  <a:off x="7488360" y="479592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Text Box 31"/>
            <p:cNvSpPr/>
            <p:nvPr/>
          </p:nvSpPr>
          <p:spPr>
            <a:xfrm>
              <a:off x="7056360" y="41832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7848720" y="38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AutoShape 33"/>
            <p:cNvCxnSpPr>
              <a:stCxn id="297" idx="1"/>
              <a:endCxn id="287" idx="0"/>
            </p:cNvCxnSpPr>
            <p:nvPr/>
          </p:nvCxnSpPr>
          <p:spPr>
            <a:xfrm flipV="1" rot="10800000">
              <a:off x="7603560" y="400824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99" name="Text Box 34"/>
            <p:cNvSpPr/>
            <p:nvPr/>
          </p:nvSpPr>
          <p:spPr>
            <a:xfrm>
              <a:off x="6983280" y="5048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7559640" y="5589720"/>
              <a:ext cx="730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36"/>
            <p:cNvSpPr/>
            <p:nvPr/>
          </p:nvSpPr>
          <p:spPr>
            <a:xfrm flipH="1">
              <a:off x="7451640" y="5661000"/>
              <a:ext cx="144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7"/>
            <p:cNvSpPr/>
            <p:nvPr/>
          </p:nvSpPr>
          <p:spPr>
            <a:xfrm>
              <a:off x="7596360" y="5661000"/>
              <a:ext cx="1792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38"/>
            <p:cNvSpPr/>
            <p:nvPr/>
          </p:nvSpPr>
          <p:spPr>
            <a:xfrm>
              <a:off x="7380360" y="58420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9"/>
            <p:cNvSpPr/>
            <p:nvPr/>
          </p:nvSpPr>
          <p:spPr>
            <a:xfrm>
              <a:off x="7380360" y="5842080"/>
              <a:ext cx="612720" cy="1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gornje nehomogene dif jednačine drugog reda sa konstantnim koeficijentima sastoji se iz homogenog i partikularnog integrala. U daljoj analizi razmatra s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lučaj malog priguš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934920" y="3897360"/>
                <a:ext cx="6516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Text Box 6"/>
          <p:cNvSpPr/>
          <p:nvPr/>
        </p:nvSpPr>
        <p:spPr>
          <a:xfrm>
            <a:off x="900000" y="458136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a desne strane d.j. stoji trigonometrijska funkcija, partikularni integral ove d.j. tražimo u obliku trigonometrijskih funkcija istog argum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934920" y="5553000"/>
                <a:ext cx="6913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t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ornje rešenje unosimo u d.j. i izjednačavamo keficijente uz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odnosno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leve i desne strane jednačine, tada dobijamo dve jed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900000" y="2852640"/>
                <a:ext cx="21592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900000" y="3860640"/>
                <a:ext cx="56880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8"/>
              <p:cNvSpPr txBox="1"/>
              <p:nvPr/>
            </p:nvSpPr>
            <p:spPr>
              <a:xfrm>
                <a:off x="306360" y="4905360"/>
                <a:ext cx="883764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γt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λ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 t=0, x=x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419640" y="1773360"/>
                <a:ext cx="850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647640" y="2241720"/>
                <a:ext cx="334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q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λα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611280" y="4113360"/>
                <a:ext cx="7056360" cy="20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λ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λq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αt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λ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5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mo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anciju. R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je post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503280" y="3321000"/>
                <a:ext cx="313200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ω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8" name="Group 15"/>
          <p:cNvGrpSpPr/>
          <p:nvPr/>
        </p:nvGrpSpPr>
        <p:grpSpPr>
          <a:xfrm>
            <a:off x="4967280" y="2349360"/>
            <a:ext cx="2808360" cy="2879640"/>
            <a:chOff x="4967280" y="2349360"/>
            <a:chExt cx="2808360" cy="2879640"/>
          </a:xfrm>
        </p:grpSpPr>
        <p:sp>
          <p:nvSpPr>
            <p:cNvPr id="89" name="Line 6"/>
            <p:cNvSpPr/>
            <p:nvPr/>
          </p:nvSpPr>
          <p:spPr>
            <a:xfrm>
              <a:off x="4967280" y="3933720"/>
              <a:ext cx="27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V="1">
              <a:off x="5111640" y="2384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184720" y="23493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7451640" y="350028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 flipV="1">
              <a:off x="5113440" y="2637000"/>
              <a:ext cx="18716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5113080" y="3931920"/>
              <a:ext cx="1871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>
              <a:off x="5148360" y="2529000"/>
              <a:ext cx="2087640" cy="2201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5977080" y="2421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14"/>
            <p:cNvSpPr/>
            <p:nvPr/>
          </p:nvSpPr>
          <p:spPr>
            <a:xfrm>
              <a:off x="6588000" y="468936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-qt/2</a:t>
              </a:r>
              <a:r>
                <a:rPr b="0" i="1" lang="el-GR" sz="1800" spc="-1" strike="noStrike">
                  <a:solidFill>
                    <a:srgbClr val="000000"/>
                  </a:solidFill>
                  <a:latin typeface="Arial"/>
                </a:rPr>
                <a:t>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staljene prigušene prinudne oscil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539640" y="4761000"/>
                <a:ext cx="7632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t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λα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α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Text Box 4"/>
          <p:cNvSpPr/>
          <p:nvPr/>
        </p:nvSpPr>
        <p:spPr>
          <a:xfrm>
            <a:off x="468360" y="2457360"/>
            <a:ext cx="76676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u izrazu za konačne jednačine kretanja pretpostavimo da je faktor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l-GR" sz="1800" spc="-1" strike="noStrike" baseline="30000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u sabircima kojima su predstavljene slobodne oscilacije) postao veoma mali prema jedinici, a to znači da je proteklo vreme od započinjanja oscilatornog kretanja dovoljno veliko, tada u konačnim jednačinama kretanja opravdano zanemarujemo sabirke kojima su prikazane slobodne oscilacije izazvane uticajem perturbacione sile. U tom slučaju dobijamo konačne jednačine kretanja ustaljenih prinudnih oscilacija koje gl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o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i sledeće ozn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39640" y="2349360"/>
                <a:ext cx="8028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Text Box 6"/>
          <p:cNvSpPr/>
          <p:nvPr/>
        </p:nvSpPr>
        <p:spPr>
          <a:xfrm>
            <a:off x="647640" y="3645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ornja jednačina posta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576360" y="4292640"/>
                <a:ext cx="328140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Text Box 9"/>
          <p:cNvSpPr/>
          <p:nvPr/>
        </p:nvSpPr>
        <p:spPr>
          <a:xfrm>
            <a:off x="647640" y="50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lučaju neprigušenih ustaljenih prinudnih oscilacija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755640" y="5516640"/>
                <a:ext cx="32036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motrimo sada izraz za amplitudu ustaljenih prigušenih prinudnih oscilacija. Kao prvo ima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900000" y="2600280"/>
                <a:ext cx="4319640" cy="29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at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u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Text Box 6"/>
          <p:cNvSpPr/>
          <p:nvPr/>
        </p:nvSpPr>
        <p:spPr>
          <a:xfrm>
            <a:off x="934920" y="56246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mplituda ima ekstremnu vrednost 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nudne oscilacije materijalne ta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684360" y="3645000"/>
                <a:ext cx="61912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ω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576360" y="1305000"/>
                <a:ext cx="536400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xt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a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/</m:t>
                        </m:r>
                        <m:r>
                          <m:t xml:space="preserve">ω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6"/>
          <p:cNvSpPr/>
          <p:nvPr/>
        </p:nvSpPr>
        <p:spPr>
          <a:xfrm>
            <a:off x="684360" y="2781360"/>
            <a:ext cx="56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da je ekstremna vrednost amplit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11280" y="4869000"/>
            <a:ext cx="68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opšteno možemo napis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755640" y="5373720"/>
                <a:ext cx="3060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Text Box 12"/>
          <p:cNvSpPr/>
          <p:nvPr/>
        </p:nvSpPr>
        <p:spPr>
          <a:xfrm>
            <a:off x="719280" y="634536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(u)-je dinamički koeficijent (dinamički fak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27T07:37:48Z</dcterms:modified>
  <cp:revision>501</cp:revision>
  <dc:subject/>
  <dc:title>ТЕХНИЧКА МЕХАНИКА 2</dc:title>
</cp:coreProperties>
</file>