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wmf" ContentType="image/x-wmf"/>
  <Override PartName="/ppt/media/image3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3336-7189-442B-874C-594800EA340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71A3-2CE2-4920-A5C0-6A024BBED66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A190-EA29-414F-B502-FEAE5EDDE8F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8078-D30E-4127-8210-531E882EAB8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0B80-2469-4B21-8E22-85E8764AD7D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E148-BC5B-4B7B-8C52-B7C555B1AD1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F1E2-645C-4C6A-A7FC-3F5C282767A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8E45-B8F1-4450-AC27-EFFBC2754E0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31C5-ADDF-4FB0-BFAB-ECB7ECE3EB4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F9F6-4BFB-4E16-AC60-897A1E5BA53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5724-5009-459C-8D53-C19255F1E45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9B41-CCCA-46D8-A670-FF40CBA227C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93A1-EBD4-4FAB-AD64-A9973D78EFE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F01A-291E-4C8E-B7C3-99C026D158C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7C34-C56E-478D-9151-F22E20A0828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AD79-ED3C-4AB9-A44C-62BDBC10822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F18F-5561-47B4-A73F-687507D2B02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855F-CC95-4991-88C9-06969660817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3403-B0E3-4401-BB55-C14AAE3BE6A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0BB-4ABE-47F8-8396-7C8E52EA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8F2-0DF2-44F3-9A58-11EFDD5D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49A8-4419-4AF3-AAC4-48B47787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836-3496-4BCB-AF80-E645E7DF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2D1-DCF9-4681-A21F-3050E000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F2F-A399-46E8-A810-040B351F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D48-8D94-4AE3-8E69-DDBDC8F6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F77F-F3B1-4880-A3D1-92E83DE6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582-D372-4BAD-9A06-2CA2C831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C1B-6522-4E00-A61C-475D0D5F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82F-89DF-49C9-B4A8-8F6FDC80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9BD-74B9-4BC7-BBC6-46421F50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FC69-3315-4A66-AF1F-ADF2E5CE3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19280" y="1341360"/>
            <a:ext cx="8424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0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9"/>
          <p:cNvGraphicFramePr/>
          <p:nvPr/>
        </p:nvGraphicFramePr>
        <p:xfrm>
          <a:off x="4788000" y="128412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28412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2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NOSI IZMEĐ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E I RU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539640" y="2708280"/>
                <a:ext cx="8280360" cy="40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η</m:t>
                            </m:r>
                          </m:num>
                          <m:den>
                            <m:r>
                              <m:t xml:space="preserve">dξ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¨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ω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¨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 Box 5"/>
          <p:cNvSpPr/>
          <p:nvPr/>
        </p:nvSpPr>
        <p:spPr>
          <a:xfrm>
            <a:off x="457200" y="121932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zajedničkoj tački baza i ruleta imaju zajedničku tangentu, tj. Nalaze se u dodir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) Brzine kojom se trenutni centar pomera po jednoj i drugoj krivoj su jedn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700360" y="2205000"/>
          <a:ext cx="6192720" cy="26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205000"/>
                    <a:ext cx="619272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2" name="Object 2"/>
          <p:cNvGraphicFramePr/>
          <p:nvPr/>
        </p:nvGraphicFramePr>
        <p:xfrm>
          <a:off x="826920" y="2249640"/>
          <a:ext cx="244800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49640"/>
                    <a:ext cx="244800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468360" y="907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ta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dužine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2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reće se u ravni tako da mu kraj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lizi po krugu poluprečnik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oslanja se u tački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Odrediti bazu i ruletu štap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00360" y="3141720"/>
            <a:ext cx="14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ednačina baze 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627280" y="537372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uleta je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luprečnika 2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39640" y="609300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, kretanje štapa se može zameniti kotrljanjem velikog kruga po mal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971640" y="162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12"/>
          <p:cNvGraphicFramePr/>
          <p:nvPr/>
        </p:nvGraphicFramePr>
        <p:xfrm>
          <a:off x="4284720" y="1665360"/>
          <a:ext cx="4680000" cy="42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1665360"/>
                    <a:ext cx="46800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U I RUL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826920" y="1341360"/>
                <a:ext cx="7488360" cy="53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den>
                            </m:f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;  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;   {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R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</m:e>
                    </m:eqAr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;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                        ;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R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;</m:t>
                    </m:r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R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¨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ω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</m:acc>
                                </m:num>
                                <m:den>
                                  <m:sSup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mr>
                        </m:m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-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ξ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S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Text Box 6"/>
          <p:cNvSpPr/>
          <p:nvPr/>
        </p:nvSpPr>
        <p:spPr>
          <a:xfrm>
            <a:off x="3203640" y="36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Isto kao pre za b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900000" y="1052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Arial"/>
              </a:rPr>
              <a:t>II nač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pomoću formul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7"/>
              <p:cNvSpPr txBox="1"/>
              <p:nvPr/>
            </p:nvSpPr>
            <p:spPr>
              <a:xfrm>
                <a:off x="4643280" y="5877000"/>
                <a:ext cx="4356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z uslova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Ruleta se kotrlja bez klizanja po baz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611280" y="12682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tački C koja je u tom trem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renutni centar ubrzanj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NUTNI CENTAR UBRZ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1119240" y="1873080"/>
          <a:ext cx="5032440" cy="469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73080"/>
                    <a:ext cx="503244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971640" y="1146240"/>
                <a:ext cx="1079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11"/>
          <p:cNvGraphicFramePr/>
          <p:nvPr/>
        </p:nvGraphicFramePr>
        <p:xfrm>
          <a:off x="6372360" y="2924280"/>
          <a:ext cx="2401920" cy="35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2924280"/>
                    <a:ext cx="2401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900000" y="1700280"/>
                <a:ext cx="3178440" cy="46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ξ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ξ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ζ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**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8"/>
          <p:cNvGraphicFramePr/>
          <p:nvPr/>
        </p:nvGraphicFramePr>
        <p:xfrm>
          <a:off x="3924360" y="1700280"/>
          <a:ext cx="482436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700280"/>
                    <a:ext cx="482436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762120" y="1676520"/>
                <a:ext cx="310500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,</m:t>
                        </m:r>
                        <m:r>
                          <m:t xml:space="preserve">η</m:t>
                        </m:r>
                        <m:r>
                          <m:t xml:space="preserve">,</m:t>
                        </m:r>
                        <m:r>
                          <m:t xml:space="preserve">ζ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aterijalne ose tela II</m:t>
                        </m:r>
                      </m:e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re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5"/>
          <p:cNvSpPr/>
          <p:nvPr/>
        </p:nvSpPr>
        <p:spPr>
          <a:xfrm>
            <a:off x="1143000" y="5638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na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I obrće oko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143000" y="601992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nos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gaona brzi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kojm se telo I obrće oko tačke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219320" y="4876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a komponenta brzina koja potiče od translatornog kretanja referentne tačk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8"/>
          <p:cNvGraphicFramePr/>
          <p:nvPr/>
        </p:nvGraphicFramePr>
        <p:xfrm>
          <a:off x="4427640" y="981000"/>
          <a:ext cx="40291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981000"/>
                    <a:ext cx="40291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KRUTOG TELA PO KRUTOM T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838080" y="1371600"/>
                <a:ext cx="7543800" cy="529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n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groupChr>
                          </m:e>
                          <m:lim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l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lim>
                        </m:limLow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s</m:t>
                                </m:r>
                              </m:sub>
                            </m:sSub>
                          </m:lim>
                        </m:limLow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4479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istem materijalnih tačaka predstavlja skup tačaka čiji položaj ili brzine stoje u međusobnim zavisnostima. Te zavisnosti se ostvaruju pomoću v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04920" y="2209680"/>
          <a:ext cx="8534160" cy="4246560"/>
        </p:xfrm>
        <a:graphic>
          <a:graphicData uri="http://schemas.openxmlformats.org/drawingml/2006/table">
            <a:tbl>
              <a:tblPr/>
              <a:tblGrid>
                <a:gridCol w="1981080"/>
                <a:gridCol w="2057400"/>
                <a:gridCol w="2286000"/>
                <a:gridCol w="2209680"/>
              </a:tblGrid>
              <a:tr h="960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IZMEĐU TAČ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koordinata tača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C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između brzina tačaka koje se ne mogu integraliti po vremenu i svesti na veze između koordin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MATIČKE (NEHOLONOM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ze zavise eksplicitno od vreme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KLER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STACIONA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ONOM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INEMATIKA SISTEMA MATERIJALNIH TAČ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4479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smatramo N- materijalnih tača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22"/>
          <p:cNvGraphicFramePr/>
          <p:nvPr/>
        </p:nvGraphicFramePr>
        <p:xfrm>
          <a:off x="1309680" y="1905120"/>
          <a:ext cx="66769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9680" y="1905120"/>
                    <a:ext cx="66769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23"/>
          <p:cNvGraphicFramePr/>
          <p:nvPr/>
        </p:nvGraphicFramePr>
        <p:xfrm>
          <a:off x="762120" y="2895480"/>
          <a:ext cx="780408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78040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24"/>
          <p:cNvSpPr/>
          <p:nvPr/>
        </p:nvSpPr>
        <p:spPr>
          <a:xfrm>
            <a:off x="304920" y="38862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tome koeficijenti mogu biti funk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5"/>
              <p:cNvSpPr txBox="1"/>
              <p:nvPr/>
            </p:nvSpPr>
            <p:spPr>
              <a:xfrm>
                <a:off x="762120" y="4267080"/>
                <a:ext cx="3943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39640" y="1557360"/>
                <a:ext cx="4975200" cy="504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t xml:space="preserve">⇒</m:t>
                    </m:r>
                    <m:r>
                      <m:t xml:space="preserve">ϑ</m:t>
                    </m:r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ϑ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ψ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" name="Object 10"/>
          <p:cNvGraphicFramePr/>
          <p:nvPr/>
        </p:nvGraphicFramePr>
        <p:xfrm>
          <a:off x="4932360" y="1268280"/>
          <a:ext cx="388764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268280"/>
                    <a:ext cx="388764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55640" y="1557360"/>
                <a:ext cx="6337440" cy="48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μ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eqAr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ξ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ξ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t xml:space="preserve">ξ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  <m:r>
                                <m:t xml:space="preserve">+</m:t>
                              </m:r>
                              <m:r>
                                <m:t xml:space="preserve">η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ω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ξ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η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θ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755640" y="2060640"/>
                <a:ext cx="4103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539640" y="1557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OSTOR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611280" y="314172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MATERIJALNA DESKRIP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1"/>
              <p:cNvSpPr txBox="1"/>
              <p:nvPr/>
            </p:nvSpPr>
            <p:spPr>
              <a:xfrm>
                <a:off x="755640" y="3716280"/>
                <a:ext cx="7704000" cy="21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η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    ;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2" name="Object 4"/>
          <p:cNvGraphicFramePr/>
          <p:nvPr/>
        </p:nvGraphicFramePr>
        <p:xfrm>
          <a:off x="826920" y="1405080"/>
          <a:ext cx="64818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05080"/>
                    <a:ext cx="64818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1332000" y="41497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u ravni x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332000" y="4581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 normalan vektor na xy-ra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7"/>
          <p:cNvGraphicFramePr/>
          <p:nvPr/>
        </p:nvGraphicFramePr>
        <p:xfrm>
          <a:off x="395280" y="5826240"/>
          <a:ext cx="36720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826240"/>
                    <a:ext cx="36720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0" name="Object 7"/>
          <p:cNvGraphicFramePr/>
          <p:nvPr/>
        </p:nvGraphicFramePr>
        <p:xfrm>
          <a:off x="1187280" y="3716280"/>
          <a:ext cx="3168720" cy="10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716280"/>
                    <a:ext cx="3168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611280" y="1341360"/>
                <a:ext cx="48956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B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S</m:t>
                        </m:r>
                      </m:e>
                    </m:eqAr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SB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  /  </m:t>
                    </m:r>
                    <m:r>
                      <m:t xml:space="preserve">+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A'SB'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BSA'</m:t>
                    </m:r>
                    <m:r>
                      <m:rPr>
                        <m:lit/>
                        <m:nor/>
                      </m:rPr>
                      <m:t xml:space="preserve">           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SA'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BSB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611280" y="4797360"/>
            <a:ext cx="8280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u ravni može da se predstavi kao obrtanje u ravno oko nepokretne tačke koja pripada toj ravni i zove s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centar 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eorema važi i za beskonačno malo pomeranje – obrtanje oko trenutnog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5111640" y="2492280"/>
          <a:ext cx="4032360" cy="245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1640" y="2492280"/>
                    <a:ext cx="403236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6"/>
          <p:cNvGraphicFramePr/>
          <p:nvPr/>
        </p:nvGraphicFramePr>
        <p:xfrm>
          <a:off x="179280" y="5229360"/>
          <a:ext cx="2952720" cy="16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229360"/>
                    <a:ext cx="295272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8"/>
              <p:cNvSpPr txBox="1"/>
              <p:nvPr/>
            </p:nvSpPr>
            <p:spPr>
              <a:xfrm>
                <a:off x="611280" y="2205000"/>
                <a:ext cx="5040360" cy="42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/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a</m:t>
                        </m:r>
                        <m:r>
                          <m:rPr>
                            <m:lit/>
                            <m:nor/>
                          </m:rPr>
                          <m:t xml:space="preserve"> ravansko kretanje: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468360" y="1413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utni centar S ima osobinu da je              u trenutku kada je ta tačka cent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916360" y="5877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centra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716360" y="1341360"/>
                <a:ext cx="100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ALOVA TEOR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55640" y="1484280"/>
                <a:ext cx="215892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9"/>
              <p:cNvSpPr txBox="1"/>
              <p:nvPr/>
            </p:nvSpPr>
            <p:spPr>
              <a:xfrm>
                <a:off x="3059280" y="1557360"/>
                <a:ext cx="21589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limLow>
                              <m:e>
                                <m:groupChr>
                                  <m:groupChrPr>
                                    <m:chr m:val="⏟"/>
                                    <m:pos m:val="bot"/>
                                    <m:vertJc m:val="top"/>
                                  </m:groupChr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e>
                                </m:groupChr>
                              </m:e>
                              <m:lim>
                                <m:r>
                                  <m:t xml:space="preserve">0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S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Text Box 6"/>
          <p:cNvSpPr/>
          <p:nvPr/>
        </p:nvSpPr>
        <p:spPr>
          <a:xfrm>
            <a:off x="539640" y="4941720"/>
            <a:ext cx="806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u ravni xy koje su predstavljale trenutne centre rotacije predstavljaju kriv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e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az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ometrijsko mesto tačaka na telu koje su bile trenutni centri brzina ja kriva na telu koja se naziv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pokretna centroid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rule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39640" y="3357720"/>
            <a:ext cx="8353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zn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položaj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2124000" y="3789360"/>
                <a:ext cx="598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1403280" y="4221000"/>
                <a:ext cx="339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2627280" y="4149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mo brzine svih tačak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7"/>
          <p:cNvGraphicFramePr/>
          <p:nvPr/>
        </p:nvGraphicFramePr>
        <p:xfrm>
          <a:off x="5580000" y="907920"/>
          <a:ext cx="3024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907920"/>
                    <a:ext cx="3024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8"/>
          <p:cNvGraphicFramePr/>
          <p:nvPr/>
        </p:nvGraphicFramePr>
        <p:xfrm>
          <a:off x="5940360" y="3357720"/>
          <a:ext cx="230508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3357720"/>
                    <a:ext cx="230508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 I RU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0920" y="1341360"/>
                <a:ext cx="6912000" cy="467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>
                                        <m:e>
                                          <m:acc>
                                            <m:accPr>
                                              <m:chr m:val="˙"/>
                                            </m:accPr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</m:acc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</m:e>
                      <m:e/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</m:e>
                        </m:d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  <m:r>
                                  <m:t xml:space="preserve">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ξ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θ</m:t>
                                    </m:r>
                                  </m:num>
                                  <m:den>
                                    <m:r>
                                      <m:t xml:space="preserve">ω</m:t>
                                    </m:r>
                                  </m:den>
                                </m:f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Text Box 10"/>
          <p:cNvSpPr/>
          <p:nvPr/>
        </p:nvSpPr>
        <p:spPr>
          <a:xfrm>
            <a:off x="2743200" y="2209680"/>
            <a:ext cx="298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parametra vremena iz izraza za x i y dobijamo jednu jednačinu za x i y koja predstavlja jednačinu ba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238880" y="422100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liminacijom vremena dobijamo jednu zavis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među  ξ i η  i to je jednačina rul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18"/>
          <p:cNvGraphicFramePr/>
          <p:nvPr/>
        </p:nvGraphicFramePr>
        <p:xfrm>
          <a:off x="5651640" y="1700280"/>
          <a:ext cx="324000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700280"/>
                    <a:ext cx="324000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31T20:34:34Z</dcterms:modified>
  <cp:revision>378</cp:revision>
  <dc:subject/>
  <dc:title>ТЕХНИЧКА МЕХАНИКА 2</dc:title>
</cp:coreProperties>
</file>