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4CC6-6545-4CA4-A44D-EAE75C7C275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A57E-CECD-43A0-B5B7-00E247F81D8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96A3-0100-48AF-8022-52C0EE35A4E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5031-D849-4D70-8C84-7ABCC190CE8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50D7-7B97-40BC-A189-54B3E0EE6D6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E282-7888-427C-A7F7-E179C1F6AA1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0AB1-E70E-4576-8731-188CCB1757F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9F7C-BD55-435D-AC16-AD9FEDB387E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C7E0-70CA-4DA4-AAD3-BBAC7F85207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C8F1-A788-4C1B-8B8A-8C56118728C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7CB4-9196-4E7C-9E00-5805D41E41A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9278-D928-4595-8BFB-C1DF1789B85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7F74-659D-4E74-9336-73AAA36439A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A434-9A38-4204-A4D6-768054E493B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FB57-5909-4714-BEF4-5EFE98A0814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479-B6E0-4928-A72B-D68CC1E4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F21-8864-426C-92CE-517AFE3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977-8C0B-4B2C-B2D4-EC170CFD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838-3E9A-41B3-B409-41EB4D51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FA3-372B-4024-AC46-D5FEBDB0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5129-4BB2-4A8D-AD48-326830E5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127-8636-447C-A8E7-503B4C37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439-7CE6-4A96-92C5-37EE5D1F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512-CD38-4477-BA54-C00D0ABC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0D1-F7D2-462E-A532-F2273F49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356-F9DF-4B5D-91B1-F4081918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16F-402F-4851-9842-648364AC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2C0A-8115-402A-9F57-A72AB7E1A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468360" y="3429000"/>
                <a:ext cx="676908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η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ζ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ξ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η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acc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ζ</m:t>
                                        </m:r>
                                      </m:sub>
                                    </m:sSub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ν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limUp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lokalni izvod vektora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lim>
                        </m:limLow>
                      </m:e>
                    </m:eqAr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ξ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η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ζ</m:t>
                        </m:r>
                      </m:sub>
                    </m:sSub>
                    <m:acc>
                      <m:accPr>
                        <m:chr m:val="⃗"/>
                      </m:accPr>
                      <m:e/>
                    </m:acc>
                    <m:r>
                      <m:t xml:space="preserve">ω</m:t>
                    </m:r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ν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- sferno kretanje tacke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oko 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1" name="Object 10"/>
          <p:cNvGraphicFramePr/>
          <p:nvPr/>
        </p:nvGraphicFramePr>
        <p:xfrm>
          <a:off x="5219640" y="1773360"/>
          <a:ext cx="374328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374328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3" name="Object 4"/>
          <p:cNvGraphicFramePr/>
          <p:nvPr/>
        </p:nvGraphicFramePr>
        <p:xfrm>
          <a:off x="773280" y="1197000"/>
          <a:ext cx="7237080" cy="53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1197000"/>
                    <a:ext cx="7237080" cy="53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611280" y="1989000"/>
                <a:ext cx="8208720" cy="473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  <m:r>
                              <m:t xml:space="preserve">'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đ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</m:e>
                    </m:eqArr>
                    <m:r>
                      <m:t xml:space="preserve">P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''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đ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θ</m:t>
                        </m:r>
                      </m:e>
                    </m:acc>
                    <m:sSub>
                      <m:e/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'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''</m:t>
                    </m:r>
                    <m:r>
                      <m:t xml:space="preserve">=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;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đ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5"/>
          <p:cNvGraphicFramePr/>
          <p:nvPr/>
        </p:nvGraphicFramePr>
        <p:xfrm>
          <a:off x="3851280" y="1052640"/>
          <a:ext cx="3435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052640"/>
                    <a:ext cx="3435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6"/>
          <p:cNvSpPr/>
          <p:nvPr/>
        </p:nvSpPr>
        <p:spPr>
          <a:xfrm>
            <a:off x="6877080" y="342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BIRANJE UZASTOPNIH ELEMENTARNIH ROT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23" name="Object 4"/>
          <p:cNvGraphicFramePr/>
          <p:nvPr/>
        </p:nvGraphicFramePr>
        <p:xfrm>
          <a:off x="1476360" y="3284640"/>
          <a:ext cx="6767640" cy="32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284640"/>
                    <a:ext cx="6767640" cy="32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539640" y="1557360"/>
                <a:ext cx="48974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đ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groupChr>
                          </m:e>
                          <m:lim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lim>
                        </m:limLow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6"/>
          <p:cNvSpPr/>
          <p:nvPr/>
        </p:nvSpPr>
        <p:spPr>
          <a:xfrm>
            <a:off x="3132000" y="24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Elementar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u međusobno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39640" y="3068640"/>
            <a:ext cx="60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Konač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eđusobno nisu komutativ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PRIM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68360" y="6237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, konačni položaj tela zavisi od redosleda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9"/>
              <p:cNvSpPr txBox="1"/>
              <p:nvPr/>
            </p:nvSpPr>
            <p:spPr>
              <a:xfrm>
                <a:off x="826920" y="4238640"/>
                <a:ext cx="158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4284720" y="4221000"/>
                <a:ext cx="1563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x ose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π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oko z o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VEZA IZMEĐU VEKTORA ELEM. ROTACIJE I ELEM. PRIRAŠTAJA OJLEROVIH UG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468360" y="1628640"/>
                <a:ext cx="7848720" cy="509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i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ψ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j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λ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ϕ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ϑ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ϑ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ϑ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ϑ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ϕ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  <m:r>
                                  <m:t xml:space="preserve">⋅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ν</m:t>
                                    </m:r>
                                  </m:e>
                                </m:acc>
                              </m:e>
                            </m:groupChr>
                          </m:e>
                          <m:lim>
                            <m:r>
                              <m:t xml:space="preserve">1</m:t>
                            </m:r>
                          </m:lim>
                        </m:limLow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ψ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ϑ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24000" y="38606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.                                                    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19280" y="1341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etanja je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an.Brzina    pripada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x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vni i stalna je za sve tačke na istom prav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araleln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VNO (RAVANSKO) KRET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3500280"/>
          <a:ext cx="8675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675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5"/>
          <p:cNvGraphicFramePr/>
          <p:nvPr/>
        </p:nvGraphicFramePr>
        <p:xfrm>
          <a:off x="4716360" y="1268280"/>
          <a:ext cx="325440" cy="47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2544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4356000" y="1628640"/>
          <a:ext cx="3456000" cy="34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1628640"/>
                    <a:ext cx="3456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FERENCIRANJE VEKTORA RAZLOŽENOG PO OSAMA POKRETNOG TRIJ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826920" y="2205000"/>
                <a:ext cx="401652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⇒</m:t>
                        </m:r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ξ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η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900000" y="2637000"/>
                <a:ext cx="4000680" cy="34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−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r>
                              <m:t xml:space="preserve">;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lim/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2050920" y="3716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ugaonog ubrz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BRZ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RZANJE TAČAKA KRUTOG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684360" y="2852640"/>
                <a:ext cx="5329080" cy="32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kod translatornog kretanja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ω</m:t>
                                    </m:r>
                                  </m:e>
                                </m:acc>
                                <m:r>
                                  <m:t xml:space="preserve">×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otaciono ubrzanje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R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aksipetalno ubrzan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sSub>
                      <m:e/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acc>
                      <m:accPr>
                        <m:chr m:val="⃗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je u ravn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na trenutnu osu i usmereno od P ka os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4" name="Object 6"/>
          <p:cNvGraphicFramePr/>
          <p:nvPr/>
        </p:nvGraphicFramePr>
        <p:xfrm>
          <a:off x="5635800" y="1557360"/>
          <a:ext cx="31525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5800" y="1557360"/>
                    <a:ext cx="31525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87640" y="1628640"/>
                <a:ext cx="2521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;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826920" y="2852640"/>
                <a:ext cx="403236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</m:e>
                          <m:e/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x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y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v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zN</m:t>
                                          </m:r>
                                        </m:sub>
                                      </m:sSub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 ;  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ξ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η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ζ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Text Box 5"/>
          <p:cNvSpPr/>
          <p:nvPr/>
        </p:nvSpPr>
        <p:spPr>
          <a:xfrm>
            <a:off x="755640" y="17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75564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SFERNO KRETAN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1"/>
          <p:cNvGraphicFramePr/>
          <p:nvPr/>
        </p:nvGraphicFramePr>
        <p:xfrm>
          <a:off x="5087880" y="2421000"/>
          <a:ext cx="38149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87880" y="2421000"/>
                    <a:ext cx="38149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13"/>
          <p:cNvSpPr/>
          <p:nvPr/>
        </p:nvSpPr>
        <p:spPr>
          <a:xfrm>
            <a:off x="1835280" y="4221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 tač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u trenutk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ipada trenutnoj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684360" y="1916280"/>
                <a:ext cx="561636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eqArr>
                                  <m:e>
                                    <m:d>
                                      <m:dPr>
                                        <m:begChr m:val=""/>
                                        <m:endChr m:val="}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y</m:t>
                                            </m:r>
                                          </m:sub>
                                        </m:sSub>
                                        <m:r>
                                          <m:t xml:space="preserve">z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z</m:t>
                                            </m:r>
                                          </m:sub>
                                        </m:sSub>
                                        <m:r>
                                          <m:t xml:space="preserve">y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    </m:t>
                                        </m:r>
                                        <m:f>
                                          <m:num>
                                            <m:r>
                                              <m:t xml:space="preserve">y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y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  <m:r>
                                          <m:t xml:space="preserve">=</m:t>
                                        </m:r>
                                        <m:f>
                                          <m:num>
                                            <m:r>
                                              <m:t xml:space="preserve">z</m:t>
                                            </m:r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ω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z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  <m:e/>
                                    </m:d>
                                  </m:e>
                                </m:eqArr>
                              </m:e>
                              <m:e/>
                              <m:e/>
                              <m:e/>
                            </m:d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Text Box 9"/>
          <p:cNvSpPr/>
          <p:nvPr/>
        </p:nvSpPr>
        <p:spPr>
          <a:xfrm>
            <a:off x="6516720" y="2421000"/>
            <a:ext cx="262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čina trenut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e u sistemu x, y,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prostorna deskri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0"/>
          <p:cNvGraphicFramePr/>
          <p:nvPr/>
        </p:nvGraphicFramePr>
        <p:xfrm>
          <a:off x="4572000" y="2492280"/>
          <a:ext cx="187308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92280"/>
                    <a:ext cx="187308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3" name="Object 9"/>
          <p:cNvGraphicFramePr/>
          <p:nvPr/>
        </p:nvGraphicFramePr>
        <p:xfrm>
          <a:off x="324000" y="2112840"/>
          <a:ext cx="2016000" cy="13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112840"/>
                    <a:ext cx="201600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684360" y="1989000"/>
                <a:ext cx="3754440" cy="453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;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ξ</m:t>
                            </m:r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η</m:t>
                            </m:r>
                          </m:num>
                          <m:den>
                            <m:r>
                              <m:t xml:space="preserve">q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ζ</m:t>
                            </m:r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Text Box 5"/>
          <p:cNvSpPr/>
          <p:nvPr/>
        </p:nvSpPr>
        <p:spPr>
          <a:xfrm>
            <a:off x="900000" y="155736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sti nač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268360" y="2565360"/>
            <a:ext cx="28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ednačina trenutne ose u materijalnoj deskrip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76720" y="494172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ne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03640" y="5877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arametarske j-ne pokretnog akso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1"/>
          <p:cNvGraphicFramePr/>
          <p:nvPr/>
        </p:nvGraphicFramePr>
        <p:xfrm>
          <a:off x="4716360" y="1052640"/>
          <a:ext cx="3816360" cy="31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052640"/>
                    <a:ext cx="3816360" cy="31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13"/>
          <p:cNvSpPr/>
          <p:nvPr/>
        </p:nvSpPr>
        <p:spPr>
          <a:xfrm>
            <a:off x="7451640" y="2637000"/>
            <a:ext cx="230508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snop trenutnih 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rotacije (nepokretni aksoid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14"/>
          <p:cNvGraphicFramePr/>
          <p:nvPr/>
        </p:nvGraphicFramePr>
        <p:xfrm>
          <a:off x="5651640" y="3716280"/>
          <a:ext cx="3024000" cy="295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3716280"/>
                    <a:ext cx="302400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15"/>
          <p:cNvSpPr/>
          <p:nvPr/>
        </p:nvSpPr>
        <p:spPr>
          <a:xfrm>
            <a:off x="7451640" y="5373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okretni aks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JALNI SLIČAJEVI KRE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900000" y="5373720"/>
                <a:ext cx="2737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dθ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θ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042920" y="2492280"/>
                <a:ext cx="35290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ω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Text Box 5"/>
          <p:cNvSpPr/>
          <p:nvPr/>
        </p:nvSpPr>
        <p:spPr>
          <a:xfrm>
            <a:off x="826920" y="148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ROTACIJ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826920" y="1916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pecijalni slučaj sfernog kretanja je obrtanje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26920" y="4005360"/>
            <a:ext cx="367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 odnosn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edsatvljaju pravu u koju degenerišu oba aksoida za ovaj slučaj kre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427640" y="2205000"/>
          <a:ext cx="3555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205000"/>
                    <a:ext cx="3555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LOŽENO KRETAN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900000" y="2637000"/>
                <a:ext cx="4608720" cy="37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eqAr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ξ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η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ζ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Ovde vektor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je funkcija vremena!!!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ξ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ζ</m:t>
                                </m:r>
                              </m:e>
                            </m:acc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</m:groupChr>
                      </m:e>
                      <m:lim>
                        <m:limUp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lim/>
                        </m:limUpp>
                      </m:lim>
                    </m:limLow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826920" y="1484280"/>
            <a:ext cx="813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a tačka se kreće po telu čije je kretanje zadato. Kretanje tačke po telu nazivamo relativnim, a kretanje tela nazivamo prenosnim kretanj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4720" y="2448000"/>
          <a:ext cx="46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48000"/>
                    <a:ext cx="46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23T07:25:22Z</dcterms:modified>
  <cp:revision>296</cp:revision>
  <dc:subject/>
  <dc:title>ТЕХНИЧКА МЕХАНИКА 2</dc:title>
</cp:coreProperties>
</file>