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8.wmf" ContentType="image/x-wmf"/>
  <Override PartName="/ppt/media/image27.wmf" ContentType="image/x-wmf"/>
  <Override PartName="/ppt/media/image1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2D5B-373D-4B7E-84D2-4769B5CB3B4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BE5D-66D4-4175-9BE9-4EC472CAED3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B04F-21E9-4225-950D-1876AA1696A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3303-FBF0-4B57-A9D4-C98DA2D31A1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1B04-74AC-4A0B-8616-CCE7BC886AF9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FE15-F5D8-432F-B1EE-50160C0A727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FA42-11F2-40C7-A868-32DFCC35665E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9999-80EA-4F87-BA7B-F66F2510C04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F557-8A1B-497E-BD21-541DE5B00187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1F0C-9F86-46AB-AD73-F3D7A7A725EB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FC2B-2332-47A2-8F8C-98F5BDEB594D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90CD-EB99-45E8-B6F0-451E5C4C580F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10C-8663-451A-8FA3-9457715EA42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7666-C46B-48A6-8800-791DC731DD0C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9574-DDCF-48A7-95A0-2C437D4B9A2A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D4E2-FDE7-46BA-AB21-6862BDFACCD2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26E-5332-4D22-B5DC-7D9E2EFF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728-87FA-4BF5-BA62-0ABF9D8C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875-0DF1-4ED7-8EE0-6D299BBE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185-7B1A-4007-8A6E-A4DDE14F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0C9-A604-4218-A693-5035424A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721-7142-4204-9EEB-29F0EF9F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59F-326E-416A-9C74-96765622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973-91C4-47F7-9A1A-8CCA2F6B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AB9-D121-4A21-BEE8-5F53D00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D23-166E-4C63-A050-A49BB15E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EB1-58D3-4D0F-8B91-FFCD8F9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A12-B428-46FF-A289-262FDDD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15AF-5DBA-411F-BBAB-2BD06F96B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ЕХНИЧКА МЕХАНИК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773360"/>
            <a:ext cx="8964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ф др Драгослав Шумара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ултaцi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уторком 10-11, соба 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Проф Др Наталија Нерловић-Вељковић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учна књига, 19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С.Б., Д.Г., Д. Ш. Р. М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бирка задатака са испи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вод вектора положаја материјалне тачке по времену представља вектор брзине материјалне тач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826920" y="3284640"/>
          <a:ext cx="5185080" cy="21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284640"/>
                    <a:ext cx="51850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ктор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 и вектор брзине имају правац тангенте на путањ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908000" y="1557360"/>
                <a:ext cx="576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91" name="Object 11"/>
          <p:cNvGraphicFramePr/>
          <p:nvPr/>
        </p:nvGraphicFramePr>
        <p:xfrm>
          <a:off x="0" y="1268280"/>
          <a:ext cx="9144000" cy="51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БРЗАЊЕ МАТЕРИЈАЛНЕ ТАЧ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214280" y="1689120"/>
          <a:ext cx="5148360" cy="50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689120"/>
                    <a:ext cx="514836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7"/>
          <p:cNvGraphicFramePr/>
          <p:nvPr/>
        </p:nvGraphicFramePr>
        <p:xfrm>
          <a:off x="4716360" y="4994280"/>
          <a:ext cx="425160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4994280"/>
                    <a:ext cx="425160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9"/>
          <p:cNvGraphicFramePr/>
          <p:nvPr/>
        </p:nvGraphicFramePr>
        <p:xfrm>
          <a:off x="395280" y="5734080"/>
          <a:ext cx="388944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734080"/>
                    <a:ext cx="38894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22"/>
          <p:cNvGraphicFramePr/>
          <p:nvPr/>
        </p:nvGraphicFramePr>
        <p:xfrm>
          <a:off x="250920" y="1484280"/>
          <a:ext cx="5976720" cy="390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1484280"/>
                    <a:ext cx="59767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39640" y="2133720"/>
                <a:ext cx="5256360" cy="373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Δs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lim>
                        </m:limLow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⇒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e>
                      <m:e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алгебарска вредност брзин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" name="Object 7"/>
          <p:cNvGraphicFramePr/>
          <p:nvPr/>
        </p:nvGraphicFramePr>
        <p:xfrm>
          <a:off x="4788000" y="2349360"/>
          <a:ext cx="388764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349360"/>
                    <a:ext cx="388764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539640" y="1628640"/>
                <a:ext cx="7848720" cy="505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P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τ</m:t>
                                    </m:r>
                                  </m:e>
                                </m:acc>
                              </m:e>
                              <m:e/>
                            </m:d>
                          </m:e>
                        </m:eqAr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Δ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вектор  средње  кривине  на  делу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</m:eqAr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acc>
                      <m:accPr>
                        <m:chr m:val="¯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Δs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'</m:t>
                        </m:r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s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Δs</m:t>
                            </m:r>
                          </m:e>
                        </m:d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</m:e>
                        </m:d>
                      </m:num>
                      <m:den>
                        <m:r>
                          <m:t xml:space="preserve">Δ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вектор  кривине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τ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r>
                      <m:t xml:space="preserve">⊥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τ</m:t>
                        </m:r>
                      </m:e>
                    </m:acc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-полупречник кривине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9" name="Object 11"/>
          <p:cNvGraphicFramePr/>
          <p:nvPr/>
        </p:nvGraphicFramePr>
        <p:xfrm>
          <a:off x="5867280" y="4397400"/>
          <a:ext cx="259236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397400"/>
                    <a:ext cx="25923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РЗИНА И УБРЗАЊЕ У ПРИРОДНИМ КООРДИНАТ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826920" y="2104920"/>
          <a:ext cx="547236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4920"/>
                    <a:ext cx="547236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"/>
          <p:cNvGraphicFramePr/>
          <p:nvPr/>
        </p:nvGraphicFramePr>
        <p:xfrm>
          <a:off x="611280" y="1746360"/>
          <a:ext cx="820872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46360"/>
                    <a:ext cx="820872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1"/>
          <p:cNvGraphicFramePr/>
          <p:nvPr/>
        </p:nvGraphicFramePr>
        <p:xfrm>
          <a:off x="4356000" y="1125360"/>
          <a:ext cx="4032360" cy="410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125360"/>
                    <a:ext cx="403236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ЕР:Кружно кретан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611280" y="1327320"/>
          <a:ext cx="745164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27320"/>
                    <a:ext cx="7451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6715080" y="1413000"/>
          <a:ext cx="20336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5080" y="1413000"/>
                    <a:ext cx="20336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Object 11"/>
              <p:cNvSpPr txBox="1"/>
              <p:nvPr/>
            </p:nvSpPr>
            <p:spPr>
              <a:xfrm>
                <a:off x="7812000" y="1916280"/>
                <a:ext cx="6033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кон пута: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s=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611280" y="2133720"/>
          <a:ext cx="4321080" cy="16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4321080" cy="16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12"/>
          <p:cNvGraphicFramePr/>
          <p:nvPr/>
        </p:nvGraphicFramePr>
        <p:xfrm>
          <a:off x="0" y="3716280"/>
          <a:ext cx="9144000" cy="29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16280"/>
                    <a:ext cx="914400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БАВЕЗ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СТУДЕН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3 до 4 домаћа (само се у јануару рачунају за испи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 колоквиј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ЧКИ ДИЈАГР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8"/>
          <p:cNvGraphicFramePr/>
          <p:nvPr/>
        </p:nvGraphicFramePr>
        <p:xfrm>
          <a:off x="468360" y="1341360"/>
          <a:ext cx="3303720" cy="52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330372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13"/>
          <p:cNvGraphicFramePr/>
          <p:nvPr/>
        </p:nvGraphicFramePr>
        <p:xfrm>
          <a:off x="4788000" y="2519280"/>
          <a:ext cx="3311280" cy="238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519280"/>
                    <a:ext cx="331128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НАМИК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И АКСИОМИ МЕХАН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СИОМ (ЗАКОН ИНЕР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тело остаје у стању мировања или једноликог праволинијског кретања, све док деловањем силе не буде принуђено да то стање пр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УТНОВ ЗАК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количине кретања тела(материјалне тачке) пропорционална је сили која делује на тело (материјалну тачку) и врши се у правцу и смеру деловања силе. (Или, производ из масе материјалне тачке и њеног убрзања једнак је, по интензитету, правцу и смеру, сили која делује на материјалну тач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258920" y="5850000"/>
          <a:ext cx="2305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850000"/>
                    <a:ext cx="2305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акције и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ајамни механички утицаји двају тела испољавају се силама које имају исти интензитет и правац, а делују у супротним смер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(Закон о слагањ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на тело (материјалну ачку) делују истовремено две силе, тада се тело (материјална тачка) креће описујући дијагоналу паралелограма конструисаног над тим силама као вектор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smeni (teorijski) deo ispita iz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EHNIČKE MEHANIKE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pismeni održan 24.01.2005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vesti izraze za brzinu i ubrzanje materijalne tač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prirodnim kooordinatama a zatim za tačku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koja 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će konstantnom brzinom na svakom od delo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I, II, III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rediti vrednost brzine tako da ubrzanje bude konstantno na svakom od ovih delov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ИНЕМАТИК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ИНЕМАТИКА је део МЕХАНИКЕ који се бави проучавањем кретања материјалне тачке или тела не узимајући у обзир утицај сила на то крет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 делић тела представља материјалну та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slike"/>
          <p:cNvPicPr/>
          <p:nvPr/>
        </p:nvPicPr>
        <p:blipFill>
          <a:blip r:embed="rId1"/>
          <a:stretch/>
        </p:blipFill>
        <p:spPr>
          <a:xfrm>
            <a:off x="755640" y="3213000"/>
            <a:ext cx="4537080" cy="318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9"/>
          <p:cNvGraphicFramePr/>
          <p:nvPr/>
        </p:nvGraphicFramePr>
        <p:xfrm>
          <a:off x="3059280" y="4221000"/>
          <a:ext cx="2736720" cy="151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221000"/>
                    <a:ext cx="2736720" cy="15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утања тачке (трајекторија) је ходограф вектора положај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екторском облик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9"/>
          <p:cNvGraphicFramePr/>
          <p:nvPr/>
        </p:nvGraphicFramePr>
        <p:xfrm>
          <a:off x="4500720" y="1413000"/>
          <a:ext cx="381636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413000"/>
                    <a:ext cx="381636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1" name="Object 12"/>
              <p:cNvSpPr txBox="1"/>
              <p:nvPr/>
            </p:nvSpPr>
            <p:spPr>
              <a:xfrm>
                <a:off x="826920" y="5589720"/>
                <a:ext cx="46198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РАЈЕКТОРИЈА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кретању тачке бар једна координата мора да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ачна једначина кретања тачке 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ординатном облику 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468360" y="3716280"/>
                <a:ext cx="867564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 КООРДИНАТНИ ОБЛИК ЈЕДНАЧИНЕ КРЕТАЊ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природног начина описивања кретања путања и лучна координата мерена по путањи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</a:rPr>
              <a:t>s=s(t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ређују положај тачке у било ком тренутку вре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8"/>
          <p:cNvGraphicFramePr/>
          <p:nvPr/>
        </p:nvGraphicFramePr>
        <p:xfrm>
          <a:off x="3851280" y="2781360"/>
          <a:ext cx="446400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81360"/>
                    <a:ext cx="4464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1332000" y="2708280"/>
          <a:ext cx="63356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08280"/>
                    <a:ext cx="63356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7"/>
          <p:cNvGraphicFramePr/>
          <p:nvPr/>
        </p:nvGraphicFramePr>
        <p:xfrm>
          <a:off x="1258920" y="1557360"/>
          <a:ext cx="5184720" cy="84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1557360"/>
                    <a:ext cx="5184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ни начин описивања крет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6"/>
          <p:cNvGraphicFramePr/>
          <p:nvPr/>
        </p:nvGraphicFramePr>
        <p:xfrm>
          <a:off x="539640" y="1197000"/>
          <a:ext cx="4356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97000"/>
                    <a:ext cx="4356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8" name="Object 19"/>
              <p:cNvSpPr txBox="1"/>
              <p:nvPr/>
            </p:nvSpPr>
            <p:spPr>
              <a:xfrm>
                <a:off x="5003640" y="2617920"/>
                <a:ext cx="3097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vektor  pomeranja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РЗИНА МАТЕРИЈАЛНЕ ТАЧ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755640" y="1413000"/>
          <a:ext cx="498960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13000"/>
                    <a:ext cx="4989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8"/>
          <p:cNvGraphicFramePr/>
          <p:nvPr/>
        </p:nvGraphicFramePr>
        <p:xfrm>
          <a:off x="3708360" y="2205000"/>
          <a:ext cx="4105440" cy="449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205000"/>
                    <a:ext cx="41054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2:37:56Z</dcterms:created>
  <dc:creator>Sumarac</dc:creator>
  <dc:description/>
  <dc:language>en-US</dc:language>
  <cp:lastModifiedBy>Sumarac</cp:lastModifiedBy>
  <dcterms:modified xsi:type="dcterms:W3CDTF">2007-09-30T20:45:09Z</dcterms:modified>
  <cp:revision>69</cp:revision>
  <dc:subject/>
  <dc:title>ТЕХНИЧКА МЕХАНИКА 2</dc:title>
</cp:coreProperties>
</file>