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715-1A86-4B44-B949-3507AAC7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C62-61F2-4A61-801F-1FD43EE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ADF-58AD-4FBA-845C-8CDAFA53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2AA-9277-4C7A-A56D-2E51E777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A5F-3E3B-4537-A471-00155F4F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CCB-BEBA-40EB-84B2-5C38CC36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4BD-C3C6-4D3C-A634-D1227F6C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394-2810-4B39-A11B-A9077594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273A-94FE-4842-857C-E371246E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727-FA81-4C7B-8BEB-61D00A1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28D-BCF3-4BCA-A9AA-12F3AD6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5A84-D177-4C74-8404-F4736864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5970-1464-4F47-8415-95066A6D6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e dve faze ud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ela se deformišu (sažimaju) do te mere dok relativna brzina približavanja ne postane jednaka nuli. U ovoj fazi kinetička energija prelazi u potencijalnu energiju, toplotnu, energiju akustičnih talasa i 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II FAZA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U drugoj fazi oblik tela se ponovo uspostavlja. Potencijalna energija deformacije pretvara se u kinetičku energiju i na kraju druge faze tela se odvaja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Kod idealno plastičnog udara, udar se završava kod prve f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56000" y="1665360"/>
            <a:ext cx="3600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19280" y="1376280"/>
            <a:ext cx="4308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11280" y="1376280"/>
          <a:ext cx="5689800" cy="532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1280" y="1376280"/>
                    <a:ext cx="568980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826920" y="2313000"/>
                <a:ext cx="3959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" name=""/>
          <p:cNvGrpSpPr/>
          <p:nvPr/>
        </p:nvGrpSpPr>
        <p:grpSpPr>
          <a:xfrm>
            <a:off x="5904000" y="1844280"/>
            <a:ext cx="2771640" cy="2059200"/>
            <a:chOff x="5904000" y="1844280"/>
            <a:chExt cx="2771640" cy="2059200"/>
          </a:xfrm>
        </p:grpSpPr>
        <p:grpSp>
          <p:nvGrpSpPr>
            <p:cNvPr id="46" name=""/>
            <p:cNvGrpSpPr/>
            <p:nvPr/>
          </p:nvGrpSpPr>
          <p:grpSpPr>
            <a:xfrm>
              <a:off x="5904000" y="1844280"/>
              <a:ext cx="2771640" cy="2059200"/>
              <a:chOff x="5904000" y="1844280"/>
              <a:chExt cx="2771640" cy="2059200"/>
            </a:xfrm>
          </p:grpSpPr>
          <p:sp>
            <p:nvSpPr>
              <p:cNvPr id="47" name=""/>
              <p:cNvSpPr/>
              <p:nvPr/>
            </p:nvSpPr>
            <p:spPr>
              <a:xfrm>
                <a:off x="5904000" y="3211200"/>
                <a:ext cx="2628720" cy="144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696000" y="2203200"/>
                <a:ext cx="179280" cy="1810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804000" y="2311200"/>
                <a:ext cx="0" cy="32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6767280" y="2060280"/>
                <a:ext cx="36360" cy="165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75280" y="2384280"/>
                <a:ext cx="5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028000" y="2923920"/>
                <a:ext cx="252360" cy="252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136000" y="3176280"/>
                <a:ext cx="0" cy="61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8136000" y="1844280"/>
                <a:ext cx="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8136000" y="231084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244000" y="353520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'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44000" y="245556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"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8244000" y="1879560"/>
                    <a:ext cx="317160" cy="444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9" name=""/>
            <p:cNvSpPr/>
            <p:nvPr/>
          </p:nvSpPr>
          <p:spPr>
            <a:xfrm>
              <a:off x="6443640" y="21319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83280" y="342720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92000" y="141300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MER: CENTRALNI UDAR TELA O NEPOKRETNU POVR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916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eficijent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3640" y="3645000"/>
            <a:ext cx="69120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zavisi od vrste materija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plutu................................k=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vo o drvo.................................. =0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elik o čelik................................  =0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taklo o staklo............................  =0.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gornji pr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=0→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-plastičan udar; udar se završava u prvoj f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k=1→Brzina na kraju udara jednaka je brzini na početku uda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kav udar je potpuno elastičan, kod njega se oblik tela (lopte) posle udara potuno uspostav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→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brzina na kraju sudara manja je od brzine pre sud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 je karakteristika nepotpunog elastičnog udara. Kod ovog udara, oblik tela (lopte) se delimično me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KSPERIMENTALNO ODREĐIVANJE KOEFICIJENTA UD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934920" y="4653000"/>
                <a:ext cx="16812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e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5724360" y="4400280"/>
            <a:ext cx="2772000" cy="2059200"/>
            <a:chOff x="5724360" y="4400280"/>
            <a:chExt cx="2772000" cy="2059200"/>
          </a:xfrm>
        </p:grpSpPr>
        <p:sp>
          <p:nvSpPr>
            <p:cNvPr id="68" name=""/>
            <p:cNvSpPr/>
            <p:nvPr/>
          </p:nvSpPr>
          <p:spPr>
            <a:xfrm>
              <a:off x="5724360" y="5767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16720" y="4545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4720" y="4867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000" y="4616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96000" y="494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848720" y="4797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88000" y="5732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7956720" y="4400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956720" y="5192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6000" y="6091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64360" y="5011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59280" y="4616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904000" y="4581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77080" y="4941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80360" y="4905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7524720" y="4905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59640" y="51213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pta mase m=0.4kg pada na horizontalnu podlogu sa visine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2m i odskačući penje se na visinu h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=1.28m. Odrediti koeficijent udara i udarni impu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24360" y="3068280"/>
            <a:ext cx="2880000" cy="2059200"/>
            <a:chOff x="5724360" y="3068280"/>
            <a:chExt cx="2880000" cy="2059200"/>
          </a:xfrm>
        </p:grpSpPr>
        <p:sp>
          <p:nvSpPr>
            <p:cNvPr id="88" name=""/>
            <p:cNvSpPr/>
            <p:nvPr/>
          </p:nvSpPr>
          <p:spPr>
            <a:xfrm>
              <a:off x="5724360" y="4435560"/>
              <a:ext cx="262908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32130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4720" y="3535200"/>
              <a:ext cx="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588000" y="3284280"/>
              <a:ext cx="3672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96000" y="3608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48720" y="3465360"/>
              <a:ext cx="252360" cy="25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440064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956720" y="3068280"/>
              <a:ext cx="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56720" y="3860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96000" y="47592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4360" y="36795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59280" y="328428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904000" y="3249000"/>
              <a:ext cx="0" cy="11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323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2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80360" y="357336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752472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08720" y="396864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.28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2781360"/>
                <a:ext cx="489600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  <m:e/>
                      <m:e>
                        <m:r>
                          <m:t xml:space="preserve">m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f>
                          <m:num>
                            <m:r>
                              <m:t xml:space="preserve">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e kugle A i B masa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anslatorno duž istog pravca konstantnim brzinama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pri čemu je kugla B ispred kugle A. Ako je brzina kugle A veća od brzine kugle B, tako da dolazi do sudara, odrediti brzine oba tela posle sudara ako je koeficijent sudar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k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ebno diskutovati sluča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) idealno elastičnog sud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) idealno plastičnog suda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265720"/>
            <a:ext cx="4429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797360"/>
            <a:ext cx="468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4797360"/>
            <a:ext cx="46800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221000"/>
            <a:ext cx="7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92720" y="422100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,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013360"/>
            <a:ext cx="8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58136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56360" y="4545000"/>
            <a:ext cx="6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11640" y="4041720"/>
            <a:ext cx="93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držanju količine kre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39640" y="1989000"/>
                <a:ext cx="4319640" cy="169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76360" y="3753000"/>
            <a:ext cx="52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m gornjih jednačina dobij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39640" y="4221000"/>
                <a:ext cx="42116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76360" y="4976640"/>
            <a:ext cx="442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k=1, e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11280" y="5373720"/>
                <a:ext cx="70610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KUGL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ZMENJU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BRZI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LASTICNOG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DAR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k=0, plastičan sudar, i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826920" y="2241720"/>
                <a:ext cx="15480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47640" y="3033720"/>
            <a:ext cx="655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 NAČIN: IDEALNO ELASTIČAN SU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(1) je ista a jednačina (2)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19280" y="3824280"/>
                <a:ext cx="5040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19280" y="4761000"/>
            <a:ext cx="69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 jednačina (1) i (2) dobijamo za 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863640" y="5265720"/>
                <a:ext cx="705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STIH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AS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R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LST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UDAR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AZMENJUJ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BRZIN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koren kvdratn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2241720"/>
                <a:ext cx="13687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700360" y="26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nema smisla, nije došlo do sud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640" y="3681360"/>
            <a:ext cx="676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pecijalni slučaj: v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55640" y="4116240"/>
                <a:ext cx="8398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800360" y="4292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ugle razmenjuju brz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5013360"/>
            <a:ext cx="66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NAČIN ZA PLASTIČAN SUDAR SE DOBIJA IZ k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55640" y="5553000"/>
                <a:ext cx="1295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4.ZADAT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ISPITNI ZADATAK, JANUAR 2005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25%=5+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Definisati koeficijent suda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 Brod dužin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mase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može se predstaviti ka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tap), kreće se u pavcu svoje ose brzinom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v'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 obr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ko središta ugaonom brzinom . U jednom trenut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d udari pod uglom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 nepokretnu podlogu. Od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rni impuls ako je koeficijent udara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Pri udaru štap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loga se ponašaju kao idealno glatke podlo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i</cp:lastModifiedBy>
  <dcterms:modified xsi:type="dcterms:W3CDTF">2006-12-11T16:39:13Z</dcterms:modified>
  <cp:revision>583</cp:revision>
  <dc:subject/>
  <dc:title>ТЕХНИЧКА МЕХАНИКА 2</dc:title>
</cp:coreProperties>
</file>