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14.png" ContentType="image/png"/>
  <Override PartName="/ppt/media/image9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5.png" ContentType="image/png"/>
  <Override PartName="/ppt/media/image2.png" ContentType="image/png"/>
  <Override PartName="/ppt/media/image10.wmf" ContentType="image/x-wmf"/>
  <Override PartName="/ppt/media/image31.wmf" ContentType="image/x-wmf"/>
  <Override PartName="/ppt/media/image6.wmf" ContentType="image/x-wmf"/>
  <Override PartName="/ppt/media/image29.wmf" ContentType="image/x-wmf"/>
  <Override PartName="/ppt/media/image35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BC2E-DA17-4D15-9736-03059B15A6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E039-946F-4EE4-BC23-FF2B51CE240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CDC7-8DD2-4A01-BB73-46E688A0363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0FCF-0D57-435C-B1B9-1DBDC61AA13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C3F9-88FF-476C-88BB-1A5E62234F5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614F-735D-41A9-81C0-8C1A9373183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61FB-7F39-403C-9674-7104C73025D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3477-C42C-4BF0-8FDE-6E4B1219958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D86-07B6-4AD2-80F1-A3B43B0309F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658-8BD5-418C-8B5A-692A121B89C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7258-650E-420E-8EB8-B0C35CC6CB7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F3B-623E-4197-BEE9-8341F205547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C0D1-CA65-4CAA-928C-F89C2826E8F0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FA5F-960C-4309-9655-3E880949BF2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B3B-CD7B-48F6-B065-DD10134C648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21D8-CA72-4AD3-8CAC-887C511FF2E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C98-F61A-484E-B91F-CAEEB0A56811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263-6BB7-4CEE-910F-1F6A3A9D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093C-6B09-43B5-91A6-44DBBA9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8615-6749-4ABA-9EBC-836C37AD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154-074D-40F7-AF8A-30BB525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699-A4D7-43D2-ABF4-9E65A41C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E4D-115C-4672-9C64-1E432509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3FE-6E4D-462E-81A8-D680EC9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9F0D-D182-4709-BFA9-3EFBB35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52B-3550-4330-8D05-7687E269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FA-3077-4CF7-939C-BE479D8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28D-1575-4161-9B61-0D4241C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885-9286-418C-9CD7-C29C16B8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9BB6-55EC-44C4-9ACC-B3807CD0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3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4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5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12"/>
          <p:cNvGraphicFramePr/>
          <p:nvPr/>
        </p:nvGraphicFramePr>
        <p:xfrm>
          <a:off x="3995640" y="1700280"/>
          <a:ext cx="4248360" cy="38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700280"/>
                    <a:ext cx="4248360" cy="38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539640" y="141300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tela određen je sa tri nekolinearne tač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84360" y="2060640"/>
            <a:ext cx="280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x,y,z- nepokretan koordinatni sistem u odnosu na okolni prostor (prostorni koordinatni sis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4360" y="4076640"/>
            <a:ext cx="280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ζ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kretan koord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stem-nepokretan u odnosu na t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684360" y="5229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- referentna tačka te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484360" y="4773600"/>
          <a:ext cx="287964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773600"/>
                    <a:ext cx="287964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14" name="Object 7"/>
          <p:cNvGraphicFramePr/>
          <p:nvPr/>
        </p:nvGraphicFramePr>
        <p:xfrm>
          <a:off x="785880" y="5713560"/>
          <a:ext cx="1942920" cy="33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713560"/>
                    <a:ext cx="194292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4"/>
          <p:cNvGraphicFramePr/>
          <p:nvPr/>
        </p:nvGraphicFramePr>
        <p:xfrm>
          <a:off x="755640" y="1670040"/>
          <a:ext cx="4753080" cy="30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1670040"/>
                    <a:ext cx="475308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611280" y="5157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a jednačina kretanja tela u ovom slučaju gl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4500720" y="1197000"/>
          <a:ext cx="3744720" cy="303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1197000"/>
                    <a:ext cx="3744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BRTANJE TELA OKO NEPOKRETNE 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826920" y="1773360"/>
                <a:ext cx="583272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ξ</m:t>
                              </m:r>
                            </m:e>
                          </m:mr>
                          <m:mr>
                            <m:e>
                              <m:r>
                                <m:t xml:space="preserve">η</m:t>
                              </m:r>
                            </m:e>
                          </m:mr>
                          <m:mr>
                            <m:e>
                              <m:r>
                                <m:t xml:space="preserve">ζ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4932360" y="1484280"/>
                <a:ext cx="86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Δ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27" name="Object 7"/>
          <p:cNvGraphicFramePr/>
          <p:nvPr/>
        </p:nvGraphicFramePr>
        <p:xfrm>
          <a:off x="1212840" y="1989000"/>
          <a:ext cx="254016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2840" y="1989000"/>
                    <a:ext cx="254016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6"/>
          <p:cNvSpPr/>
          <p:nvPr/>
        </p:nvSpPr>
        <p:spPr>
          <a:xfrm>
            <a:off x="61128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daje vezu između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63640" y="31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raštaj vektora položaja proizvoljne tačke tela zarotiranog za uga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oko nepokretne 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859280" y="1844640"/>
          <a:ext cx="391788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1844640"/>
                    <a:ext cx="39178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35" name="Object 5"/>
          <p:cNvGraphicFramePr/>
          <p:nvPr/>
        </p:nvGraphicFramePr>
        <p:xfrm>
          <a:off x="743040" y="1484280"/>
          <a:ext cx="66484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84280"/>
                    <a:ext cx="66484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7"/>
          <p:cNvGraphicFramePr/>
          <p:nvPr/>
        </p:nvGraphicFramePr>
        <p:xfrm>
          <a:off x="5651640" y="1341360"/>
          <a:ext cx="2788920" cy="40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341360"/>
                    <a:ext cx="278892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1" name="Object 4"/>
          <p:cNvGraphicFramePr/>
          <p:nvPr/>
        </p:nvGraphicFramePr>
        <p:xfrm>
          <a:off x="826920" y="4438800"/>
          <a:ext cx="1511640" cy="8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438800"/>
                    <a:ext cx="1511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5"/>
          <p:cNvSpPr/>
          <p:nvPr/>
        </p:nvSpPr>
        <p:spPr>
          <a:xfrm>
            <a:off x="3995640" y="3789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6"/>
          <p:cNvGraphicFramePr/>
          <p:nvPr/>
        </p:nvGraphicFramePr>
        <p:xfrm>
          <a:off x="789120" y="1628640"/>
          <a:ext cx="4830480" cy="28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120" y="1628640"/>
                    <a:ext cx="483048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8"/>
          <p:cNvSpPr/>
          <p:nvPr/>
        </p:nvSpPr>
        <p:spPr>
          <a:xfrm>
            <a:off x="2340000" y="4653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rzor konačne ro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RIGOV OBRAZ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149" name="Object 4"/>
          <p:cNvGraphicFramePr/>
          <p:nvPr/>
        </p:nvGraphicFramePr>
        <p:xfrm>
          <a:off x="820800" y="1916280"/>
          <a:ext cx="6783480" cy="32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0800" y="1916280"/>
                    <a:ext cx="6783480" cy="32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5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odrigov obrazac važi za konačne rotacije. U slučaju male rotaci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411280" y="472428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 beskonačna male rotaci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826920" y="1700280"/>
                <a:ext cx="17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5"/>
          <p:cNvSpPr/>
          <p:nvPr/>
        </p:nvSpPr>
        <p:spPr>
          <a:xfrm>
            <a:off x="468360" y="126828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) OBRTANJE TELA OKO NEPOKRETNE TAČKE (sferno kretanj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11280" y="2492280"/>
            <a:ext cx="410508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 – se kreće po sfernoj površi čiji je poluprečnik AP,a centar u tačk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ložaj tela određuju tri tačke: A, P i 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, Q – obrtanjem oko A prelaze u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i Q’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4788000" y="1773360"/>
          <a:ext cx="3598920" cy="45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73360"/>
                    <a:ext cx="359892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Ispit iz 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U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0" y="1528200"/>
            <a:ext cx="157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ZADATAK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(1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5643720" y="1357200"/>
            <a:ext cx="3120840" cy="1940040"/>
            <a:chOff x="5643720" y="1357200"/>
            <a:chExt cx="3120840" cy="1940040"/>
          </a:xfrm>
        </p:grpSpPr>
        <p:sp>
          <p:nvSpPr>
            <p:cNvPr id="163" name="AutoShape 11"/>
            <p:cNvSpPr/>
            <p:nvPr/>
          </p:nvSpPr>
          <p:spPr>
            <a:xfrm>
              <a:off x="5643720" y="135720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0"/>
            <p:cNvSpPr/>
            <p:nvPr/>
          </p:nvSpPr>
          <p:spPr>
            <a:xfrm>
              <a:off x="6131520" y="2407320"/>
              <a:ext cx="43056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"/>
            <p:cNvSpPr/>
            <p:nvPr/>
          </p:nvSpPr>
          <p:spPr>
            <a:xfrm>
              <a:off x="7686000" y="2268000"/>
              <a:ext cx="43056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</a:t>
              </a:r>
              <a:r>
                <a:rPr b="0" lang="sr-Latn-CS" sz="12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761800" y="2923920"/>
              <a:ext cx="273600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6192360" y="269496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6554520" y="247788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 flipV="1">
              <a:off x="7133760" y="2180520"/>
              <a:ext cx="7923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Object 4"/>
            <p:cNvGraphicFramePr/>
            <p:nvPr/>
          </p:nvGraphicFramePr>
          <p:xfrm>
            <a:off x="7655760" y="1776600"/>
            <a:ext cx="298440" cy="366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1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655760" y="1776600"/>
                      <a:ext cx="29844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3"/>
            <p:cNvSpPr/>
            <p:nvPr/>
          </p:nvSpPr>
          <p:spPr>
            <a:xfrm>
              <a:off x="7156440" y="2580120"/>
              <a:ext cx="9068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"/>
            <p:cNvSpPr/>
            <p:nvPr/>
          </p:nvSpPr>
          <p:spPr>
            <a:xfrm>
              <a:off x="5761800" y="2624760"/>
              <a:ext cx="399960" cy="28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i="1" lang="en-US" sz="12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12240" y="486000"/>
            <a:ext cx="51840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a mas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2.5 k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= 5 kg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nalaze se na horizontalnoj podloz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o što je prikazano na slici. Na gornje telo deluje si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 = 10N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od uglom od 30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Odrediti ubrzanja tela, ako je koeficijent tren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zmeđu tela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a između tela i podlege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i="1" lang="sr-Latn-C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0.0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račun koristiti 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=10 m/sec</a:t>
            </a:r>
            <a:r>
              <a:rPr b="0" i="1" lang="sr-Latn-C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sr-Latn-C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6"/>
          <p:cNvGrpSpPr/>
          <p:nvPr/>
        </p:nvGrpSpPr>
        <p:grpSpPr>
          <a:xfrm>
            <a:off x="285840" y="3214800"/>
            <a:ext cx="3120840" cy="1938240"/>
            <a:chOff x="285840" y="3214800"/>
            <a:chExt cx="3120840" cy="1938240"/>
          </a:xfrm>
        </p:grpSpPr>
        <p:sp>
          <p:nvSpPr>
            <p:cNvPr id="176" name="AutoShape 67"/>
            <p:cNvSpPr/>
            <p:nvPr/>
          </p:nvSpPr>
          <p:spPr>
            <a:xfrm>
              <a:off x="285840" y="3214800"/>
              <a:ext cx="312084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69"/>
            <p:cNvSpPr/>
            <p:nvPr/>
          </p:nvSpPr>
          <p:spPr>
            <a:xfrm>
              <a:off x="1673280" y="3922920"/>
              <a:ext cx="541080" cy="31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5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0"/>
            <p:cNvSpPr/>
            <p:nvPr/>
          </p:nvSpPr>
          <p:spPr>
            <a:xfrm>
              <a:off x="396000" y="4779720"/>
              <a:ext cx="2561400" cy="14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799560" y="4551480"/>
              <a:ext cx="1641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137960" y="4334400"/>
              <a:ext cx="112428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3"/>
            <p:cNvSpPr/>
            <p:nvPr/>
          </p:nvSpPr>
          <p:spPr>
            <a:xfrm flipH="1" flipV="1">
              <a:off x="1672920" y="3999240"/>
              <a:ext cx="684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4"/>
            <p:cNvSpPr/>
            <p:nvPr/>
          </p:nvSpPr>
          <p:spPr>
            <a:xfrm>
              <a:off x="1691280" y="443664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5"/>
            <p:cNvSpPr/>
            <p:nvPr/>
          </p:nvSpPr>
          <p:spPr>
            <a:xfrm flipH="1">
              <a:off x="1284120" y="459288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76"/>
            <p:cNvSpPr/>
            <p:nvPr/>
          </p:nvSpPr>
          <p:spPr>
            <a:xfrm flipH="1">
              <a:off x="1227600" y="4604760"/>
              <a:ext cx="494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1676520" y="4433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78"/>
            <p:cNvSpPr/>
            <p:nvPr/>
          </p:nvSpPr>
          <p:spPr>
            <a:xfrm>
              <a:off x="628560" y="3950280"/>
              <a:ext cx="514440" cy="33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25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 flipH="1" flipV="1">
              <a:off x="1036440" y="4166640"/>
              <a:ext cx="640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80"/>
          <p:cNvGraphicFramePr/>
          <p:nvPr/>
        </p:nvGraphicFramePr>
        <p:xfrm>
          <a:off x="2500200" y="4286160"/>
          <a:ext cx="56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8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0200" y="4286160"/>
                    <a:ext cx="56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82"/>
          <p:cNvGraphicFramePr/>
          <p:nvPr/>
        </p:nvGraphicFramePr>
        <p:xfrm>
          <a:off x="642960" y="5143680"/>
          <a:ext cx="1638360" cy="25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" name="Object 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5143680"/>
                    <a:ext cx="163836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Group 84"/>
          <p:cNvGrpSpPr/>
          <p:nvPr/>
        </p:nvGrpSpPr>
        <p:grpSpPr>
          <a:xfrm>
            <a:off x="4500720" y="3143160"/>
            <a:ext cx="3120840" cy="1940040"/>
            <a:chOff x="4500720" y="3143160"/>
            <a:chExt cx="3120840" cy="1940040"/>
          </a:xfrm>
        </p:grpSpPr>
        <p:sp>
          <p:nvSpPr>
            <p:cNvPr id="195" name="AutoShape 85"/>
            <p:cNvSpPr/>
            <p:nvPr/>
          </p:nvSpPr>
          <p:spPr>
            <a:xfrm>
              <a:off x="4500720" y="3143160"/>
              <a:ext cx="3120840" cy="19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6"/>
            <p:cNvSpPr/>
            <p:nvPr/>
          </p:nvSpPr>
          <p:spPr>
            <a:xfrm>
              <a:off x="6775560" y="4420080"/>
              <a:ext cx="457200" cy="29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87"/>
            <p:cNvSpPr/>
            <p:nvPr/>
          </p:nvSpPr>
          <p:spPr>
            <a:xfrm>
              <a:off x="6059160" y="3962520"/>
              <a:ext cx="46476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70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8"/>
            <p:cNvSpPr/>
            <p:nvPr/>
          </p:nvSpPr>
          <p:spPr>
            <a:xfrm>
              <a:off x="4618800" y="4709880"/>
              <a:ext cx="2736000" cy="1447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049360" y="4480920"/>
              <a:ext cx="17528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411520" y="4263840"/>
              <a:ext cx="1200240" cy="19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91"/>
            <p:cNvSpPr/>
            <p:nvPr/>
          </p:nvSpPr>
          <p:spPr>
            <a:xfrm flipH="1">
              <a:off x="5986800" y="4058640"/>
              <a:ext cx="720" cy="5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92"/>
            <p:cNvSpPr/>
            <p:nvPr/>
          </p:nvSpPr>
          <p:spPr>
            <a:xfrm flipV="1">
              <a:off x="5975280" y="4599720"/>
              <a:ext cx="7657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93"/>
            <p:cNvSpPr/>
            <p:nvPr/>
          </p:nvSpPr>
          <p:spPr>
            <a:xfrm flipH="1">
              <a:off x="5693400" y="4663800"/>
              <a:ext cx="68832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4"/>
            <p:cNvSpPr/>
            <p:nvPr/>
          </p:nvSpPr>
          <p:spPr>
            <a:xfrm flipH="1">
              <a:off x="4988520" y="4656240"/>
              <a:ext cx="1085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95"/>
          <p:cNvGraphicFramePr/>
          <p:nvPr/>
        </p:nvGraphicFramePr>
        <p:xfrm>
          <a:off x="4214880" y="5072040"/>
          <a:ext cx="1971720" cy="28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Object 9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4880" y="5072040"/>
                    <a:ext cx="197172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9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97"/>
          <p:cNvGraphicFramePr/>
          <p:nvPr/>
        </p:nvGraphicFramePr>
        <p:xfrm>
          <a:off x="500040" y="6000840"/>
          <a:ext cx="1219320" cy="428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0" name="Object 9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0040" y="6000840"/>
                    <a:ext cx="12193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0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99"/>
          <p:cNvGraphicFramePr/>
          <p:nvPr/>
        </p:nvGraphicFramePr>
        <p:xfrm>
          <a:off x="1785960" y="6039000"/>
          <a:ext cx="876240" cy="3902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13" name="Object 9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785960" y="6039000"/>
                    <a:ext cx="8762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10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01"/>
          <p:cNvGraphicFramePr/>
          <p:nvPr/>
        </p:nvGraphicFramePr>
        <p:xfrm>
          <a:off x="4362480" y="6143760"/>
          <a:ext cx="1066680" cy="228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16" name="Object 1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62480" y="6143760"/>
                    <a:ext cx="10666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10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03"/>
          <p:cNvGraphicFramePr/>
          <p:nvPr/>
        </p:nvGraphicFramePr>
        <p:xfrm>
          <a:off x="5619600" y="6039000"/>
          <a:ext cx="809640" cy="3902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19" name="Object 103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619600" y="6039000"/>
                    <a:ext cx="8096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Box 102"/>
          <p:cNvSpPr/>
          <p:nvPr/>
        </p:nvSpPr>
        <p:spPr>
          <a:xfrm>
            <a:off x="571680" y="5572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03"/>
          <p:cNvSpPr/>
          <p:nvPr/>
        </p:nvSpPr>
        <p:spPr>
          <a:xfrm>
            <a:off x="4214880" y="55720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O  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68360" y="170028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j proizvoljne tačke tela u odnosu na nepokretan (prostorni) koordinatni si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573120" y="2708280"/>
          <a:ext cx="413208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2708280"/>
                    <a:ext cx="413208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11"/>
          <p:cNvSpPr/>
          <p:nvPr/>
        </p:nvSpPr>
        <p:spPr>
          <a:xfrm>
            <a:off x="2050920" y="2781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ktorska konačna jednačina za proizvoljnu tačku t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1619280" y="39337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inični vektori  Dekartovog materijalnog koordinatnog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68360" y="450864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e koordinate svake tačke krutog tela imaju nepromenljivu vred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826920" y="1557360"/>
                <a:ext cx="643572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j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η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ζ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d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ξ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+</m:t>
                    </m:r>
                    <m:r>
                      <m:t xml:space="preserve">ζ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⋅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6" name="Object 8"/>
          <p:cNvGraphicFramePr/>
          <p:nvPr/>
        </p:nvGraphicFramePr>
        <p:xfrm>
          <a:off x="4788000" y="2581200"/>
          <a:ext cx="417672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81200"/>
                    <a:ext cx="417672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0" name="Object 5"/>
          <p:cNvGraphicFramePr/>
          <p:nvPr/>
        </p:nvGraphicFramePr>
        <p:xfrm>
          <a:off x="942840" y="4149720"/>
          <a:ext cx="388152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149720"/>
                    <a:ext cx="388152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4"/>
          <p:cNvSpPr/>
          <p:nvPr/>
        </p:nvSpPr>
        <p:spPr>
          <a:xfrm>
            <a:off x="4932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- Matrica ro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1454040" y="1413000"/>
          <a:ext cx="5729400" cy="249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4040" y="1413000"/>
                    <a:ext cx="57294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77" name="Object 6"/>
          <p:cNvGraphicFramePr/>
          <p:nvPr/>
        </p:nvGraphicFramePr>
        <p:xfrm>
          <a:off x="909720" y="1484280"/>
          <a:ext cx="429876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9720" y="1484280"/>
                    <a:ext cx="429876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5"/>
          <p:cNvSpPr/>
          <p:nvPr/>
        </p:nvSpPr>
        <p:spPr>
          <a:xfrm>
            <a:off x="5148360" y="1700280"/>
            <a:ext cx="345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ljne tačke tela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ordinatnom obli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5640" y="321300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u poznate funkcije vreme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3"/>
          <p:cNvGraphicFramePr/>
          <p:nvPr/>
        </p:nvGraphicFramePr>
        <p:xfrm>
          <a:off x="919080" y="3933720"/>
          <a:ext cx="4064040" cy="171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9080" y="3933720"/>
                    <a:ext cx="406404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5"/>
          <p:cNvSpPr/>
          <p:nvPr/>
        </p:nvSpPr>
        <p:spPr>
          <a:xfrm>
            <a:off x="5076720" y="429264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ada je poznat položaj materijalne tačke u svakom trenut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EMATIKA KRUTOG T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graphicFrame>
        <p:nvGraphicFramePr>
          <p:cNvPr id="86" name="Object 4"/>
          <p:cNvGraphicFramePr/>
          <p:nvPr/>
        </p:nvGraphicFramePr>
        <p:xfrm>
          <a:off x="995400" y="1844640"/>
          <a:ext cx="556884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844640"/>
                    <a:ext cx="556884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"/>
          <p:cNvSpPr/>
          <p:nvPr/>
        </p:nvSpPr>
        <p:spPr>
          <a:xfrm>
            <a:off x="179280" y="1268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a kretanja određene tačke t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1187280" y="3789360"/>
          <a:ext cx="5616720" cy="200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5616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9"/>
          <p:cNvSpPr/>
          <p:nvPr/>
        </p:nvSpPr>
        <p:spPr>
          <a:xfrm>
            <a:off x="826920" y="5805360"/>
            <a:ext cx="7777440" cy="7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kle izmežu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elemenata matrice rotacij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i="1" lang="sr-Latn-C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ɑ</a:t>
            </a:r>
            <a:r>
              <a:rPr b="0" lang="sr-Latn-CS" sz="2000" spc="-1" strike="noStrike" baseline="-18000">
                <a:solidFill>
                  <a:srgbClr val="ff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stoji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veza, pa su samo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datka (eleme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ezavi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JLER-ovi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Euler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GL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39640" y="1916280"/>
                <a:ext cx="4321440" cy="26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je presek ravn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 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ξη</m:t>
                            </m:r>
                          </m:sub>
                        </m:sSub>
                      </m:e>
                      <m:e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- ugao precesije</m:t>
                        </m:r>
                      </m:e>
                      <m:e>
                        <m:r>
                          <m:t xml:space="preserve">υ</m:t>
                        </m:r>
                        <m:r>
                          <m:rPr>
                            <m:lit/>
                            <m:nor/>
                          </m:rPr>
                          <m:t xml:space="preserve">- ugao nutacije</m:t>
                        </m:r>
                      </m:e>
                      <m:e>
                        <m:r>
                          <m:t xml:space="preserve">ϕ</m:t>
                        </m:r>
                        <m:r>
                          <m:rPr>
                            <m:lit/>
                            <m:nor/>
                          </m:rPr>
                          <m:t xml:space="preserve">- ugao sopstvene rotacije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 linija čvoro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5" name="Object 10"/>
          <p:cNvGraphicFramePr/>
          <p:nvPr/>
        </p:nvGraphicFramePr>
        <p:xfrm>
          <a:off x="4716360" y="1989000"/>
          <a:ext cx="39704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989000"/>
                    <a:ext cx="39704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2101680" y="224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925560" y="5016600"/>
                <a:ext cx="419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826920" y="1773360"/>
                <a:ext cx="3313440" cy="24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'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'</m:t>
                        </m:r>
                      </m:e>
                      <m:e>
                        <m:r>
                          <m:t xml:space="preserve">Δ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) TRANSLACI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4437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ačne jednačine kretanja date su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15"/>
          <p:cNvGraphicFramePr/>
          <p:nvPr/>
        </p:nvGraphicFramePr>
        <p:xfrm>
          <a:off x="4211640" y="1413000"/>
          <a:ext cx="4537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413000"/>
                    <a:ext cx="453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SPECIJALNI SLUČAJEVI KRET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2101680" y="3417840"/>
                <a:ext cx="749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826920" y="1700280"/>
                <a:ext cx="3672000" cy="30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- nepokretne tacke; 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;</m:t>
                        </m:r>
                      </m:e>
                      <m:e/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Text Box 5"/>
          <p:cNvSpPr/>
          <p:nvPr/>
        </p:nvSpPr>
        <p:spPr>
          <a:xfrm>
            <a:off x="468360" y="1268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 OBRTANJE TELA OKO NEPOKRETNE O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11280" y="4724280"/>
            <a:ext cx="7777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tačke na pravoj kroz tačke A i B takođe miruju, tako da je prava kroz A i B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sa obrtanj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su obrtanja karakteriše da je to prava u telu koja spaja nepokretne tačke tela. Sve ostale tačke tela opisuju kružnice u ravnima normalnim na osu sa centrima na osi obrtan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5219640" y="1197000"/>
          <a:ext cx="33908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390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5T08:02:52Z</dcterms:modified>
  <cp:revision>287</cp:revision>
  <dc:subject/>
  <dc:title>ТЕХНИЧКА МЕХАНИКА 2</dc:title>
</cp:coreProperties>
</file>