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57CF-32B8-43B1-BF4E-94F90268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39F6-066E-4BF1-8F8A-29AE80D0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1A12-73B4-4EE6-9C3A-807A33CD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A328-C1EC-449F-9217-837ED0D9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76C0-AA5B-4880-A1D5-ADCCE949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AA24-0794-44C9-93DE-D0C40D6B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76D5-7BAF-45D2-95B4-7A4671B5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F401-8F16-4C5E-86B6-5D334589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F57-660F-4C70-AA3A-8D9A52E8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1044-5839-4448-A804-EEE938AA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FFF6-3B82-4C28-96A5-B0EE008E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9DEC-232D-4270-8ABA-5E346FBE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D247-6FE0-4CC7-BDE6-1ED410C8E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OPŠTA JEDNAČINA DINAM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smatramo sistem od N materijalnih tačaka sa holonomnim idealnim vezama, pri čemu ima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veza. Broj sepeni slobode kretanja je: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n=3N-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863640" y="2276640"/>
                <a:ext cx="297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187280" y="2276640"/>
            <a:ext cx="42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rezultanta aktivnih sila na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63640" y="2825640"/>
                <a:ext cx="2444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189080" y="2781360"/>
            <a:ext cx="38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rezultanta reakcija veza na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162760" y="2168640"/>
            <a:ext cx="3117240" cy="1798560"/>
            <a:chOff x="5162760" y="2168640"/>
            <a:chExt cx="3117240" cy="1798560"/>
          </a:xfrm>
        </p:grpSpPr>
        <p:sp>
          <p:nvSpPr>
            <p:cNvPr id="48" name=""/>
            <p:cNvSpPr/>
            <p:nvPr/>
          </p:nvSpPr>
          <p:spPr>
            <a:xfrm>
              <a:off x="5400720" y="2708280"/>
              <a:ext cx="97128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72000" y="3716280"/>
              <a:ext cx="16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72000" y="3751200"/>
              <a:ext cx="1728360" cy="21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763600">
              <a:off x="4968360" y="3175200"/>
              <a:ext cx="1692000" cy="180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60720" y="288936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8360" y="328464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53080" y="342900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53080" y="267192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24360" y="241956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84720" y="3103560"/>
              <a:ext cx="3232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32360" y="3463920"/>
              <a:ext cx="720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596000" y="295920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6949440" y="2599920"/>
              <a:ext cx="50292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048000" y="2634840"/>
              <a:ext cx="576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669080" y="2168640"/>
              <a:ext cx="18072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6984720" y="2887560"/>
              <a:ext cx="46800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848360" y="26719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7848360" y="2203560"/>
                  <a:ext cx="269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7119720" y="2995560"/>
                  <a:ext cx="2887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7" name=""/>
            <p:cNvSpPr/>
            <p:nvPr/>
          </p:nvSpPr>
          <p:spPr>
            <a:xfrm>
              <a:off x="7053120" y="2492280"/>
              <a:ext cx="304560" cy="355680"/>
            </a:xfrm>
            <a:custGeom>
              <a:avLst/>
              <a:gdLst/>
              <a:ahLst/>
              <a:rect l="l" t="t" r="r" b="b"/>
              <a:pathLst>
                <a:path w="192" h="224">
                  <a:moveTo>
                    <a:pt x="192" y="0"/>
                  </a:moveTo>
                  <a:cubicBezTo>
                    <a:pt x="168" y="16"/>
                    <a:pt x="144" y="24"/>
                    <a:pt x="120" y="40"/>
                  </a:cubicBezTo>
                  <a:cubicBezTo>
                    <a:pt x="112" y="64"/>
                    <a:pt x="104" y="88"/>
                    <a:pt x="96" y="112"/>
                  </a:cubicBezTo>
                  <a:cubicBezTo>
                    <a:pt x="91" y="127"/>
                    <a:pt x="95" y="145"/>
                    <a:pt x="88" y="160"/>
                  </a:cubicBezTo>
                  <a:cubicBezTo>
                    <a:pt x="84" y="169"/>
                    <a:pt x="71" y="170"/>
                    <a:pt x="64" y="176"/>
                  </a:cubicBezTo>
                  <a:cubicBezTo>
                    <a:pt x="42" y="195"/>
                    <a:pt x="26" y="211"/>
                    <a:pt x="0" y="2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434000" y="3075120"/>
              <a:ext cx="355320" cy="128520"/>
            </a:xfrm>
            <a:custGeom>
              <a:avLst/>
              <a:gdLst/>
              <a:ahLst/>
              <a:rect l="l" t="t" r="r" b="b"/>
              <a:pathLst>
                <a:path w="224" h="81">
                  <a:moveTo>
                    <a:pt x="0" y="73"/>
                  </a:moveTo>
                  <a:cubicBezTo>
                    <a:pt x="24" y="0"/>
                    <a:pt x="67" y="45"/>
                    <a:pt x="112" y="65"/>
                  </a:cubicBezTo>
                  <a:cubicBezTo>
                    <a:pt x="127" y="72"/>
                    <a:pt x="160" y="81"/>
                    <a:pt x="160" y="81"/>
                  </a:cubicBezTo>
                  <a:cubicBezTo>
                    <a:pt x="168" y="76"/>
                    <a:pt x="175" y="69"/>
                    <a:pt x="184" y="65"/>
                  </a:cubicBezTo>
                  <a:cubicBezTo>
                    <a:pt x="192" y="61"/>
                    <a:pt x="201" y="62"/>
                    <a:pt x="208" y="57"/>
                  </a:cubicBezTo>
                  <a:cubicBezTo>
                    <a:pt x="216" y="51"/>
                    <a:pt x="224" y="33"/>
                    <a:pt x="224" y="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76880" y="2594160"/>
              <a:ext cx="342360" cy="260280"/>
            </a:xfrm>
            <a:custGeom>
              <a:avLst/>
              <a:gdLst/>
              <a:ahLst/>
              <a:rect l="l" t="t" r="r" b="b"/>
              <a:pathLst>
                <a:path w="216" h="164">
                  <a:moveTo>
                    <a:pt x="0" y="0"/>
                  </a:moveTo>
                  <a:cubicBezTo>
                    <a:pt x="56" y="11"/>
                    <a:pt x="94" y="3"/>
                    <a:pt x="112" y="56"/>
                  </a:cubicBezTo>
                  <a:cubicBezTo>
                    <a:pt x="112" y="57"/>
                    <a:pt x="119" y="137"/>
                    <a:pt x="128" y="144"/>
                  </a:cubicBezTo>
                  <a:cubicBezTo>
                    <a:pt x="156" y="164"/>
                    <a:pt x="185" y="160"/>
                    <a:pt x="216" y="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00560" y="3127320"/>
              <a:ext cx="228240" cy="203400"/>
            </a:xfrm>
            <a:custGeom>
              <a:avLst/>
              <a:gdLst/>
              <a:ahLst/>
              <a:rect l="l" t="t" r="r" b="b"/>
              <a:pathLst>
                <a:path w="144" h="128">
                  <a:moveTo>
                    <a:pt x="0" y="128"/>
                  </a:moveTo>
                  <a:cubicBezTo>
                    <a:pt x="17" y="77"/>
                    <a:pt x="66" y="68"/>
                    <a:pt x="112" y="56"/>
                  </a:cubicBezTo>
                  <a:cubicBezTo>
                    <a:pt x="120" y="45"/>
                    <a:pt x="129" y="36"/>
                    <a:pt x="136" y="24"/>
                  </a:cubicBezTo>
                  <a:cubicBezTo>
                    <a:pt x="140" y="17"/>
                    <a:pt x="144" y="0"/>
                    <a:pt x="1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87960" y="3279960"/>
              <a:ext cx="90000" cy="368280"/>
            </a:xfrm>
            <a:custGeom>
              <a:avLst/>
              <a:gdLst/>
              <a:ahLst/>
              <a:rect l="l" t="t" r="r" b="b"/>
              <a:pathLst>
                <a:path w="57" h="232">
                  <a:moveTo>
                    <a:pt x="17" y="0"/>
                  </a:moveTo>
                  <a:cubicBezTo>
                    <a:pt x="30" y="40"/>
                    <a:pt x="20" y="55"/>
                    <a:pt x="57" y="80"/>
                  </a:cubicBezTo>
                  <a:cubicBezTo>
                    <a:pt x="54" y="96"/>
                    <a:pt x="56" y="113"/>
                    <a:pt x="49" y="128"/>
                  </a:cubicBezTo>
                  <a:cubicBezTo>
                    <a:pt x="45" y="137"/>
                    <a:pt x="32" y="137"/>
                    <a:pt x="25" y="144"/>
                  </a:cubicBezTo>
                  <a:cubicBezTo>
                    <a:pt x="0" y="169"/>
                    <a:pt x="1" y="199"/>
                    <a:pt x="1" y="2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63640" y="3357720"/>
                <a:ext cx="5796000" cy="23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 flipV="1">
            <a:off x="5580000" y="4149360"/>
            <a:ext cx="900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88000" y="422100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 kod idealnih v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6360" y="1592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šenje možemo zapisati u obli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92000" y="2313000"/>
                <a:ext cx="51120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λ</m:t>
                                </m:r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γ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γt</m:t>
                            </m:r>
                          </m:sup>
                        </m:sSup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t xml:space="preserve">⇒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3" name=""/>
          <p:cNvGrpSpPr/>
          <p:nvPr/>
        </p:nvGrpSpPr>
        <p:grpSpPr>
          <a:xfrm>
            <a:off x="6480000" y="1557360"/>
            <a:ext cx="2484360" cy="1657440"/>
            <a:chOff x="6480000" y="1557360"/>
            <a:chExt cx="2484360" cy="1657440"/>
          </a:xfrm>
        </p:grpSpPr>
        <p:sp>
          <p:nvSpPr>
            <p:cNvPr id="144" name=""/>
            <p:cNvSpPr/>
            <p:nvPr/>
          </p:nvSpPr>
          <p:spPr>
            <a:xfrm>
              <a:off x="7056360" y="321480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056360" y="1881360"/>
              <a:ext cx="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56360" y="2206800"/>
              <a:ext cx="1619280" cy="971280"/>
            </a:xfrm>
            <a:custGeom>
              <a:avLst/>
              <a:gdLst/>
              <a:ahLst/>
              <a:rect l="l" t="t" r="r" b="b"/>
              <a:pathLst>
                <a:path w="1020" h="612">
                  <a:moveTo>
                    <a:pt x="0" y="0"/>
                  </a:moveTo>
                  <a:cubicBezTo>
                    <a:pt x="107" y="119"/>
                    <a:pt x="215" y="238"/>
                    <a:pt x="385" y="340"/>
                  </a:cubicBezTo>
                  <a:cubicBezTo>
                    <a:pt x="555" y="442"/>
                    <a:pt x="914" y="567"/>
                    <a:pt x="1020" y="6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64360" y="234936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43640" y="24940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7522560" y="2673360"/>
              <a:ext cx="180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7702560" y="2781360"/>
              <a:ext cx="14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7881840" y="2889360"/>
              <a:ext cx="1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8060760" y="2925720"/>
              <a:ext cx="32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8240040" y="2998800"/>
              <a:ext cx="32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64360" y="1557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75640" y="27813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75280" y="2241720"/>
              <a:ext cx="108000" cy="936360"/>
            </a:xfrm>
            <a:custGeom>
              <a:avLst/>
              <a:gdLst>
                <a:gd name="textAreaLeft" fmla="*/ 69120 w 108000"/>
                <a:gd name="textAreaRight" fmla="*/ 108360 w 108000"/>
                <a:gd name="textAreaTop" fmla="*/ 24120 h 936360"/>
                <a:gd name="textAreaBottom" fmla="*/ 912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80000" y="256536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6360" y="2206800"/>
              <a:ext cx="6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40360" y="1954080"/>
              <a:ext cx="39528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11640" y="2025720"/>
              <a:ext cx="397080" cy="181080"/>
            </a:xfrm>
            <a:custGeom>
              <a:avLst/>
              <a:gdLst/>
              <a:ahLst/>
              <a:rect l="l" t="t" r="r" b="b"/>
              <a:pathLst>
                <a:path w="250" h="114">
                  <a:moveTo>
                    <a:pt x="0" y="23"/>
                  </a:moveTo>
                  <a:cubicBezTo>
                    <a:pt x="28" y="11"/>
                    <a:pt x="57" y="0"/>
                    <a:pt x="91" y="0"/>
                  </a:cubicBezTo>
                  <a:cubicBezTo>
                    <a:pt x="125" y="0"/>
                    <a:pt x="178" y="4"/>
                    <a:pt x="204" y="23"/>
                  </a:cubicBezTo>
                  <a:cubicBezTo>
                    <a:pt x="230" y="42"/>
                    <a:pt x="242" y="99"/>
                    <a:pt x="250" y="1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7451640" y="1809720"/>
                  <a:ext cx="126036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rctg {</m:t>
                          </m:r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2" name=""/>
          <p:cNvSpPr/>
          <p:nvPr/>
        </p:nvSpPr>
        <p:spPr>
          <a:xfrm>
            <a:off x="719280" y="360828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ritično priguše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→Karakteristična jednačina ima dvostruki kor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792000" y="4113360"/>
                <a:ext cx="324972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λt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755640" y="5697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 ovaj dijagram je sličan predhodnom, dakle aperiodično kretan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lo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prigušenj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rakteristič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jednač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su kompleksn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03280" y="2708280"/>
                <a:ext cx="370836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±</m:t>
                        </m:r>
                        <m:r>
                          <m:t xml:space="preserve">iγ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t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λ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4751280" y="3284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šenje d.j. uz date početne us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7640" y="4005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vo rešenje možemo prikazati u kompaktnijem obliku ka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11280" y="4581360"/>
                <a:ext cx="4321080" cy="198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λ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γ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;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γ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000" y="1591920"/>
            <a:ext cx="867564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tom slučaju konačna jednačina kretanja, pri malom prigušenju, gla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900000" y="2673360"/>
                <a:ext cx="4284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t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647640" y="3681360"/>
            <a:ext cx="370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 u pitanju je oscilatorno kretanje sa promenljivom amplitudom i faznim uglom (uglom faznog pomeranja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Pod amplitudom podrazumevamo najveće udaljenje od ravnotežnog položaja u toku polovine ciklusa harmonijske-kosinusne funkcije u jednačini kret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704000" y="3537000"/>
                <a:ext cx="5176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76" name=""/>
          <p:cNvGrpSpPr/>
          <p:nvPr/>
        </p:nvGrpSpPr>
        <p:grpSpPr>
          <a:xfrm>
            <a:off x="4176720" y="3438360"/>
            <a:ext cx="8314200" cy="2376720"/>
            <a:chOff x="4176720" y="3438360"/>
            <a:chExt cx="8314200" cy="2376720"/>
          </a:xfrm>
        </p:grpSpPr>
        <p:sp>
          <p:nvSpPr>
            <p:cNvPr id="177" name=""/>
            <p:cNvSpPr/>
            <p:nvPr/>
          </p:nvSpPr>
          <p:spPr>
            <a:xfrm flipV="1">
              <a:off x="4681440" y="3537000"/>
              <a:ext cx="0" cy="19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9800" y="3618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37440" y="4627800"/>
              <a:ext cx="0" cy="90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10160" y="4591080"/>
              <a:ext cx="0" cy="90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84720" y="4627800"/>
              <a:ext cx="0" cy="87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80000" y="4627800"/>
              <a:ext cx="45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893080" y="41594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4680000" y="3438000"/>
              <a:ext cx="7774560" cy="93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716360" y="4878720"/>
              <a:ext cx="7774560" cy="93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680000" y="4123080"/>
              <a:ext cx="72000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99280" y="4123080"/>
              <a:ext cx="100872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5507640" y="4154400"/>
              <a:ext cx="1222200" cy="87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39" y="1000"/>
                  </a:moveTo>
                  <a:arcTo wR="10800" hR="10800" stAng="-3909019" swAng="39090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39" y="1000"/>
                  </a:moveTo>
                  <a:arcTo wR="10800" hR="10800" stAng="-3909019" swAng="39090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362920" y="4269240"/>
              <a:ext cx="10087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372000" y="4338720"/>
              <a:ext cx="5738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34200" y="4338720"/>
              <a:ext cx="650160" cy="50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6984720" y="4193640"/>
              <a:ext cx="71712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950160" y="4339800"/>
              <a:ext cx="7171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667640" y="4375440"/>
              <a:ext cx="504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04360" y="4375440"/>
              <a:ext cx="4312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8136000" y="4302720"/>
              <a:ext cx="646560" cy="57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137800" y="4302720"/>
              <a:ext cx="573840" cy="57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35280" y="4302360"/>
              <a:ext cx="108000" cy="288720"/>
            </a:xfrm>
            <a:custGeom>
              <a:avLst/>
              <a:gdLst>
                <a:gd name="textAreaLeft" fmla="*/ 69120 w 108000"/>
                <a:gd name="textAreaRight" fmla="*/ 108360 w 108000"/>
                <a:gd name="textAreaTop" fmla="*/ 7200 h 288720"/>
                <a:gd name="textAreaBottom" fmla="*/ 2815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76720" y="430236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08360" y="5383440"/>
              <a:ext cx="14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19640" y="5383440"/>
              <a:ext cx="11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56360" y="49867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43640" y="4986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5580000" y="3835440"/>
                  <a:ext cx="50472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λ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cxnSp>
          <p:nvCxnSpPr>
            <p:cNvPr id="205" name=""/>
            <p:cNvCxnSpPr>
              <a:endCxn id="184" idx="0"/>
            </p:cNvCxnSpPr>
            <p:nvPr/>
          </p:nvCxnSpPr>
          <p:spPr>
            <a:xfrm>
              <a:off x="6084360" y="3984480"/>
              <a:ext cx="2485080" cy="392760"/>
            </a:xfrm>
            <a:prstGeom prst="bentConnector4">
              <a:avLst>
                <a:gd name="adj1" fmla="val 109069"/>
                <a:gd name="adj2" fmla="val 15743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d periodom oscilatornog kretnja ili vremenom jedne pune oscilacije, podrazumevamo vreme koje protekne izmedju dva uzastopna prolaska materijalne tačke kroz ravnotežni položaj pri kretanju u istom sme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934920" y="3860640"/>
                <a:ext cx="4105440" cy="20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γ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</m:d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frekvencij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z</m:t>
                            </m:r>
                          </m:e>
                        </m:d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λ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934920" y="6237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je ketanje neprigušeno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116000" y="1881360"/>
                <a:ext cx="23763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16000" y="2997360"/>
                <a:ext cx="32767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t</m:t>
                            </m:r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ω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3419640" y="2133720"/>
            <a:ext cx="51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opstvena frekvencija ili frekvencija neprigušenih slobodnih oscil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67280" y="32497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Harmonijsko kretanje tač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340000" y="4508640"/>
            <a:ext cx="5148360" cy="2062080"/>
            <a:chOff x="2340000" y="4508640"/>
            <a:chExt cx="5148360" cy="2062080"/>
          </a:xfrm>
        </p:grpSpPr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3959280" y="4797360"/>
                  <a:ext cx="3268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"/>
            <p:cNvSpPr/>
            <p:nvPr/>
          </p:nvSpPr>
          <p:spPr>
            <a:xfrm flipV="1">
              <a:off x="2844720" y="4581360"/>
              <a:ext cx="0" cy="19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48000" y="4508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73440" y="5635800"/>
              <a:ext cx="0" cy="90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48360" y="5672160"/>
              <a:ext cx="0" cy="87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43280" y="5672160"/>
              <a:ext cx="45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56360" y="52038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843280" y="5167440"/>
              <a:ext cx="72000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62200" y="5167440"/>
              <a:ext cx="100944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671280" y="5132160"/>
              <a:ext cx="1078920" cy="100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39" y="1000"/>
                  </a:moveTo>
                  <a:arcTo wR="10800" hR="10800" stAng="-3909019" swAng="39090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39" y="1000"/>
                  </a:moveTo>
                  <a:arcTo wR="10800" hR="10800" stAng="-3909019" swAng="39090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25840" y="5250600"/>
              <a:ext cx="1009440" cy="84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535640" y="5192640"/>
              <a:ext cx="576720" cy="9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97840" y="5192640"/>
              <a:ext cx="650160" cy="88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5148360" y="5104440"/>
              <a:ext cx="716400" cy="98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113440" y="5250600"/>
              <a:ext cx="717120" cy="84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98920" y="5346720"/>
              <a:ext cx="107640" cy="289080"/>
            </a:xfrm>
            <a:custGeom>
              <a:avLst/>
              <a:gdLst>
                <a:gd name="textAreaLeft" fmla="*/ 68760 w 107640"/>
                <a:gd name="textAreaRight" fmla="*/ 108000 w 107640"/>
                <a:gd name="textAreaTop" fmla="*/ 7200 h 289080"/>
                <a:gd name="textAreaBottom" fmla="*/ 2818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40000" y="534672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72000" y="6427800"/>
              <a:ext cx="14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19640" y="60310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43280" y="5157720"/>
              <a:ext cx="34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43280" y="6093000"/>
              <a:ext cx="35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3095640" y="6129360"/>
                  <a:ext cx="43164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OPŠTA JEDNAČINA DINAM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34920" y="1700280"/>
                <a:ext cx="44658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826920" y="3141720"/>
            <a:ext cx="8064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ŠTA JEDNAČINA DINAMIKE (DALAMBER-LAGRANŽEVA JEDNAČ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vakom trenutku vremena tokom kretanja materijalnog sistema koji je potčinjen idealnim vezama (holonomnim ili neholonomnim) zbir radova svih aktivnih i inercijalnih sila na virtuelnim pomeranjima tačaka sistema jednak je nu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079640" y="5013360"/>
                <a:ext cx="9712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2050920" y="5084640"/>
            <a:ext cx="561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inercijalna sila koja potiče od tačke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TRANSFORMACIJA OPŠTE JEDNAČINE DINAMIK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4360" y="2241720"/>
                <a:ext cx="75247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 flipV="1">
            <a:off x="5796000" y="2204640"/>
            <a:ext cx="1297080" cy="11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32720" y="18082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47640" y="3213000"/>
                <a:ext cx="6769080" cy="329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δ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=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δ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e>
                        </m:nary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δ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Sup>
                                              <m:e>
                                                <m:acc>
                                                  <m:accPr>
                                                    <m:chr m:val="⃗"/>
                                                  </m:accPr>
                                                  <m:e>
                                                    <m:r>
                                                      <m:t xml:space="preserve">v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bSup>
                                          </m:e>
                                        </m:d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nary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δ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δ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=</m:t>
                                    </m:r>
                                    <m:r>
                                      <m:t xml:space="preserve">δT</m:t>
                                    </m:r>
                                  </m:e>
                                </m:nary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NA JEDNA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A DINAMIK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47640" y="2133720"/>
                <a:ext cx="46450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δA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19280" y="3789360"/>
                <a:ext cx="46796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19280" y="4869000"/>
                <a:ext cx="49687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d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4500720" y="3789360"/>
            <a:ext cx="647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1484280"/>
                <a:ext cx="8101080" cy="34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δ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2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ENTARL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ČI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INAMIK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26920" y="4976640"/>
                <a:ext cx="25876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55640" y="1413000"/>
                <a:ext cx="612144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δ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δ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 flipV="1">
            <a:off x="2232000" y="1160640"/>
            <a:ext cx="1116000" cy="11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651640" y="1197000"/>
            <a:ext cx="1116000" cy="11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863640" y="3402000"/>
                <a:ext cx="25923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635280" y="3681360"/>
            <a:ext cx="51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i=1,..,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LAGRANŽEVE JEDNAČINE II V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CILACI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63640" y="2457360"/>
                <a:ext cx="273672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4" name=""/>
          <p:cNvGrpSpPr/>
          <p:nvPr/>
        </p:nvGrpSpPr>
        <p:grpSpPr>
          <a:xfrm>
            <a:off x="5508720" y="2349360"/>
            <a:ext cx="2914560" cy="1943280"/>
            <a:chOff x="5508720" y="2349360"/>
            <a:chExt cx="2914560" cy="1943280"/>
          </a:xfrm>
        </p:grpSpPr>
        <p:sp>
          <p:nvSpPr>
            <p:cNvPr id="105" name=""/>
            <p:cNvSpPr/>
            <p:nvPr/>
          </p:nvSpPr>
          <p:spPr>
            <a:xfrm>
              <a:off x="5508720" y="2349360"/>
              <a:ext cx="179280" cy="1943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6678720" y="2943360"/>
              <a:ext cx="179280" cy="2519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88000" y="38973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923440" y="3718080"/>
              <a:ext cx="17892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6085080" y="373392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6282000" y="3753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6480360" y="377028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642360" y="3753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6840720" y="373536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20000" y="393372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01080" y="3789360"/>
              <a:ext cx="323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67640" y="38973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29440" y="3537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587640" y="3933720"/>
              <a:ext cx="576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084360" y="396864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6696000" y="3284640"/>
                  <a:ext cx="40500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6070680" y="3357720"/>
                  <a:ext cx="4334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2" name=""/>
            <p:cNvSpPr/>
            <p:nvPr/>
          </p:nvSpPr>
          <p:spPr>
            <a:xfrm>
              <a:off x="5688000" y="314172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88000" y="411336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900000" y="4761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 ove homogene linearne diferencijalne jednačine sa konstantnim koeficijentima tražimo u obli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63640" y="5481720"/>
                <a:ext cx="38163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p>
                    </m:sSup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934920" y="1916280"/>
                <a:ext cx="38530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r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34920" y="4508640"/>
                <a:ext cx="30974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C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932360" y="2097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akterist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414972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šti integral je u obli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35640" y="4545000"/>
            <a:ext cx="388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C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su proizvoljne konstante koje se određuju iz početnih uslo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863640" y="5624640"/>
                <a:ext cx="3281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a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etnim uslovima odgovara integral-konačna jednačina kretan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63640" y="2673360"/>
                <a:ext cx="51134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755640" y="3573360"/>
            <a:ext cx="75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roda rešenja datog gornjom jednačinom zavisi od toga, da li su koreni karakteristične jednačine realni ili kompleksni, odnosno imaginarni. Pri tome razlikujemo sledeće slučaje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900000" y="4689360"/>
                <a:ext cx="328140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971640" y="6324480"/>
                <a:ext cx="2376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≡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</m:e>
                      <m:e/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008000" y="587700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Veliko priguše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→Koreni karakteristične jednačine su real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1-14T19:10:02Z</dcterms:modified>
  <cp:revision>474</cp:revision>
  <dc:subject/>
  <dc:title>ТЕХНИЧКА МЕХАНИКА 2</dc:title>
</cp:coreProperties>
</file>