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DF7-A8AA-4799-8057-50EA9C25DFD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A1A-0833-4F75-A558-5DEB3C3E1A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7D3-24F3-4209-B948-A80C76470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D05-AC0F-4196-B055-C2E37E2F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750-E84E-4C88-BF0D-D75406AC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524-B916-482E-8679-440FA075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614E-4155-4328-895C-4D4B0A9C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8C0-4B5C-44DA-978F-1AD88287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527-9F2E-4788-8C2F-14E037BD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7DD-98C4-4212-8631-1F29DEB7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8F4-4941-4E6E-A925-2757346D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CF28-3BF7-423B-823A-17E17EA7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D52-A8BC-43E5-9B66-49371467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F090-325A-4DA3-802C-E05276BF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CCA-E5F4-40AD-8687-DAFEA39E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I MASE DRUGOG RED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MENTI INERCIJE M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definiciji imam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7"/>
          <p:cNvGraphicFramePr/>
          <p:nvPr/>
        </p:nvGraphicFramePr>
        <p:xfrm>
          <a:off x="826920" y="2282760"/>
          <a:ext cx="5761080" cy="35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82760"/>
                    <a:ext cx="576108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27"/>
          <p:cNvSpPr/>
          <p:nvPr/>
        </p:nvSpPr>
        <p:spPr>
          <a:xfrm>
            <a:off x="755640" y="1952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1042920" y="2421000"/>
            <a:ext cx="234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8"/>
          <p:cNvGrpSpPr/>
          <p:nvPr/>
        </p:nvGrpSpPr>
        <p:grpSpPr>
          <a:xfrm>
            <a:off x="6048360" y="1413000"/>
            <a:ext cx="1978200" cy="3025800"/>
            <a:chOff x="6048360" y="1413000"/>
            <a:chExt cx="1978200" cy="3025800"/>
          </a:xfrm>
        </p:grpSpPr>
        <p:sp>
          <p:nvSpPr>
            <p:cNvPr id="55" name="Freeform 49"/>
            <p:cNvSpPr/>
            <p:nvPr/>
          </p:nvSpPr>
          <p:spPr>
            <a:xfrm>
              <a:off x="6192720" y="1989000"/>
              <a:ext cx="1470240" cy="21290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50"/>
            <p:cNvSpPr/>
            <p:nvPr/>
          </p:nvSpPr>
          <p:spPr>
            <a:xfrm flipH="1">
              <a:off x="6156000" y="3753000"/>
              <a:ext cx="755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51"/>
            <p:cNvSpPr/>
            <p:nvPr/>
          </p:nvSpPr>
          <p:spPr>
            <a:xfrm>
              <a:off x="6912000" y="3753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52"/>
            <p:cNvSpPr/>
            <p:nvPr/>
          </p:nvSpPr>
          <p:spPr>
            <a:xfrm>
              <a:off x="6912000" y="3753000"/>
              <a:ext cx="431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53"/>
            <p:cNvSpPr/>
            <p:nvPr/>
          </p:nvSpPr>
          <p:spPr>
            <a:xfrm flipV="1">
              <a:off x="6912000" y="152100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54"/>
            <p:cNvSpPr/>
            <p:nvPr/>
          </p:nvSpPr>
          <p:spPr>
            <a:xfrm flipH="1" flipV="1">
              <a:off x="6084720" y="1736280"/>
              <a:ext cx="82728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55"/>
            <p:cNvSpPr/>
            <p:nvPr/>
          </p:nvSpPr>
          <p:spPr>
            <a:xfrm>
              <a:off x="7308720" y="2421000"/>
              <a:ext cx="289080" cy="2523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6"/>
            <p:cNvSpPr/>
            <p:nvPr/>
          </p:nvSpPr>
          <p:spPr>
            <a:xfrm>
              <a:off x="6912000" y="2565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7"/>
            <p:cNvSpPr/>
            <p:nvPr/>
          </p:nvSpPr>
          <p:spPr>
            <a:xfrm>
              <a:off x="6912000" y="2565360"/>
              <a:ext cx="216000" cy="250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8"/>
            <p:cNvSpPr/>
            <p:nvPr/>
          </p:nvSpPr>
          <p:spPr>
            <a:xfrm>
              <a:off x="6985080" y="2637000"/>
              <a:ext cx="349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59"/>
            <p:cNvSpPr/>
            <p:nvPr/>
          </p:nvSpPr>
          <p:spPr>
            <a:xfrm>
              <a:off x="6948360" y="213372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60"/>
            <p:cNvSpPr/>
            <p:nvPr/>
          </p:nvSpPr>
          <p:spPr>
            <a:xfrm>
              <a:off x="7667640" y="2276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1"/>
            <p:cNvSpPr/>
            <p:nvPr/>
          </p:nvSpPr>
          <p:spPr>
            <a:xfrm>
              <a:off x="6048360" y="386064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2"/>
            <p:cNvSpPr/>
            <p:nvPr/>
          </p:nvSpPr>
          <p:spPr>
            <a:xfrm>
              <a:off x="7667640" y="33577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64"/>
            <p:cNvSpPr/>
            <p:nvPr/>
          </p:nvSpPr>
          <p:spPr>
            <a:xfrm>
              <a:off x="6227640" y="152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Object 65"/>
                <p:cNvSpPr txBox="1"/>
                <p:nvPr/>
              </p:nvSpPr>
              <p:spPr>
                <a:xfrm>
                  <a:off x="6985080" y="1413000"/>
                  <a:ext cx="27936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Object 67"/>
                <p:cNvSpPr txBox="1"/>
                <p:nvPr/>
              </p:nvSpPr>
              <p:spPr>
                <a:xfrm>
                  <a:off x="7380360" y="4149720"/>
                  <a:ext cx="26820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m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 bismo odredili glavne pravce, polazimo od jednači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755640" y="2565360"/>
                <a:ext cx="5508720" cy="42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sSub>
                                    <m:e>
                                      <m:r>
                                        <m:t xml:space="preserve">γ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ξ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η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J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e>
                                  </m:d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α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β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=</m:t>
                                  </m:r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sSub>
                                        <m:e>
                                          <m:r>
                                            <m:t xml:space="preserve">γ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Δ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;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,2,3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7" name="Group 19"/>
          <p:cNvGrpSpPr/>
          <p:nvPr/>
        </p:nvGrpSpPr>
        <p:grpSpPr>
          <a:xfrm>
            <a:off x="6588000" y="3789360"/>
            <a:ext cx="2044800" cy="2303640"/>
            <a:chOff x="6588000" y="3789360"/>
            <a:chExt cx="2044800" cy="2303640"/>
          </a:xfrm>
        </p:grpSpPr>
        <p:sp>
          <p:nvSpPr>
            <p:cNvPr id="138" name="Line 6"/>
            <p:cNvSpPr/>
            <p:nvPr/>
          </p:nvSpPr>
          <p:spPr>
            <a:xfrm flipH="1">
              <a:off x="6695640" y="5229360"/>
              <a:ext cx="86364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7"/>
            <p:cNvSpPr/>
            <p:nvPr/>
          </p:nvSpPr>
          <p:spPr>
            <a:xfrm>
              <a:off x="7559640" y="5229360"/>
              <a:ext cx="86508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8"/>
            <p:cNvSpPr/>
            <p:nvPr/>
          </p:nvSpPr>
          <p:spPr>
            <a:xfrm flipV="1">
              <a:off x="7559640" y="389736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9"/>
            <p:cNvSpPr/>
            <p:nvPr/>
          </p:nvSpPr>
          <p:spPr>
            <a:xfrm>
              <a:off x="7559640" y="5229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V="1">
              <a:off x="7559640" y="4868640"/>
              <a:ext cx="865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 flipH="1" flipV="1">
              <a:off x="6877080" y="4436640"/>
              <a:ext cx="6825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12"/>
                <p:cNvSpPr txBox="1"/>
                <p:nvPr/>
              </p:nvSpPr>
              <p:spPr>
                <a:xfrm>
                  <a:off x="6588000" y="5337000"/>
                  <a:ext cx="2444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4"/>
                <p:cNvSpPr txBox="1"/>
                <p:nvPr/>
              </p:nvSpPr>
              <p:spPr>
                <a:xfrm>
                  <a:off x="7596360" y="5734080"/>
                  <a:ext cx="44604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5"/>
                <p:cNvSpPr txBox="1"/>
                <p:nvPr/>
              </p:nvSpPr>
              <p:spPr>
                <a:xfrm>
                  <a:off x="8045280" y="4483080"/>
                  <a:ext cx="48420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16"/>
                <p:cNvSpPr txBox="1"/>
                <p:nvPr/>
              </p:nvSpPr>
              <p:spPr>
                <a:xfrm>
                  <a:off x="6892920" y="4149720"/>
                  <a:ext cx="48420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17"/>
                <p:cNvSpPr txBox="1"/>
                <p:nvPr/>
              </p:nvSpPr>
              <p:spPr>
                <a:xfrm>
                  <a:off x="8388360" y="5302080"/>
                  <a:ext cx="24444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18"/>
                <p:cNvSpPr txBox="1"/>
                <p:nvPr/>
              </p:nvSpPr>
              <p:spPr>
                <a:xfrm>
                  <a:off x="7572240" y="3789360"/>
                  <a:ext cx="29376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AJGENS-ŠTAJNEROVA TEO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re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m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826920" y="2313000"/>
                <a:ext cx="1892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ξ</m:t>
                        </m:r>
                      </m:e>
                    </m:acc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η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η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;</m:t>
                    </m:r>
                    <m:r>
                      <m:t xml:space="preserve">ζ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ζ</m:t>
                        </m:r>
                      </m:e>
                    </m:acc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3"/>
              <p:cNvSpPr txBox="1"/>
              <p:nvPr/>
            </p:nvSpPr>
            <p:spPr>
              <a:xfrm>
                <a:off x="900000" y="2637000"/>
                <a:ext cx="5867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η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c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ζ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Line 15"/>
          <p:cNvSpPr/>
          <p:nvPr/>
        </p:nvSpPr>
        <p:spPr>
          <a:xfrm flipV="1">
            <a:off x="4284720" y="2421000"/>
            <a:ext cx="503280" cy="68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5076720" y="2420640"/>
            <a:ext cx="466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7"/>
              <p:cNvSpPr txBox="1"/>
              <p:nvPr/>
            </p:nvSpPr>
            <p:spPr>
              <a:xfrm>
                <a:off x="826920" y="3213000"/>
                <a:ext cx="2052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ξ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η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  <m:mr>
                        <m:e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t xml:space="preserve">ζ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t xml:space="preserve">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240000" y="3213000"/>
                <a:ext cx="154800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ξη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ab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η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ηζ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c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ζ</m:t>
                                  </m:r>
                                </m:e>
                              </m:acc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ξ</m:t>
                                  </m:r>
                                </m:e>
                              </m:acc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J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ζξ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a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158" name="Group 35"/>
          <p:cNvGrpSpPr/>
          <p:nvPr/>
        </p:nvGrpSpPr>
        <p:grpSpPr>
          <a:xfrm>
            <a:off x="6695640" y="1324080"/>
            <a:ext cx="2234160" cy="3365280"/>
            <a:chOff x="6695640" y="1324080"/>
            <a:chExt cx="2234160" cy="3365280"/>
          </a:xfrm>
        </p:grpSpPr>
        <p:sp>
          <p:nvSpPr>
            <p:cNvPr id="159" name="Freeform 19"/>
            <p:cNvSpPr/>
            <p:nvPr/>
          </p:nvSpPr>
          <p:spPr>
            <a:xfrm>
              <a:off x="7281720" y="2449440"/>
              <a:ext cx="1481400" cy="17287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 flipH="1">
              <a:off x="6695640" y="378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7775640" y="382428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2"/>
            <p:cNvSpPr/>
            <p:nvPr/>
          </p:nvSpPr>
          <p:spPr>
            <a:xfrm flipH="1" flipV="1">
              <a:off x="7380360" y="184464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4"/>
            <p:cNvSpPr/>
            <p:nvPr/>
          </p:nvSpPr>
          <p:spPr>
            <a:xfrm>
              <a:off x="8101080" y="3284640"/>
              <a:ext cx="792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>
              <a:off x="6985080" y="3284640"/>
              <a:ext cx="1079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6"/>
            <p:cNvSpPr/>
            <p:nvPr/>
          </p:nvSpPr>
          <p:spPr>
            <a:xfrm flipH="1" flipV="1">
              <a:off x="7705800" y="1341360"/>
              <a:ext cx="39528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Object 27"/>
                <p:cNvSpPr txBox="1"/>
                <p:nvPr/>
              </p:nvSpPr>
              <p:spPr>
                <a:xfrm>
                  <a:off x="6732720" y="3824280"/>
                  <a:ext cx="1807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ξ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Object 28"/>
                <p:cNvSpPr txBox="1"/>
                <p:nvPr/>
              </p:nvSpPr>
              <p:spPr>
                <a:xfrm>
                  <a:off x="7434360" y="1736640"/>
                  <a:ext cx="21744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ζ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Object 29"/>
                <p:cNvSpPr txBox="1"/>
                <p:nvPr/>
              </p:nvSpPr>
              <p:spPr>
                <a:xfrm>
                  <a:off x="8496360" y="4356000"/>
                  <a:ext cx="181080" cy="2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Object 30"/>
                <p:cNvSpPr txBox="1"/>
                <p:nvPr/>
              </p:nvSpPr>
              <p:spPr>
                <a:xfrm>
                  <a:off x="7765920" y="1324080"/>
                  <a:ext cx="236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0" name="Object 31"/>
                <p:cNvSpPr txBox="1"/>
                <p:nvPr/>
              </p:nvSpPr>
              <p:spPr>
                <a:xfrm>
                  <a:off x="8712360" y="3726000"/>
                  <a:ext cx="217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Object 32"/>
                <p:cNvSpPr txBox="1"/>
                <p:nvPr/>
              </p:nvSpPr>
              <p:spPr>
                <a:xfrm>
                  <a:off x="6985080" y="3303720"/>
                  <a:ext cx="217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Text Box 33"/>
            <p:cNvSpPr/>
            <p:nvPr/>
          </p:nvSpPr>
          <p:spPr>
            <a:xfrm>
              <a:off x="7920000" y="36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4"/>
            <p:cNvSpPr/>
            <p:nvPr/>
          </p:nvSpPr>
          <p:spPr>
            <a:xfrm>
              <a:off x="8244000" y="299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6"/>
          <p:cNvSpPr/>
          <p:nvPr/>
        </p:nvSpPr>
        <p:spPr>
          <a:xfrm>
            <a:off x="863640" y="5049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JUS INERCI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7"/>
              <p:cNvSpPr txBox="1"/>
              <p:nvPr/>
            </p:nvSpPr>
            <p:spPr>
              <a:xfrm>
                <a:off x="1008000" y="5697360"/>
                <a:ext cx="27003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ra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76" name="Group 45"/>
          <p:cNvGrpSpPr/>
          <p:nvPr/>
        </p:nvGrpSpPr>
        <p:grpSpPr>
          <a:xfrm>
            <a:off x="4464000" y="5165640"/>
            <a:ext cx="2412720" cy="1692360"/>
            <a:chOff x="4464000" y="5165640"/>
            <a:chExt cx="2412720" cy="1692360"/>
          </a:xfrm>
        </p:grpSpPr>
        <p:sp>
          <p:nvSpPr>
            <p:cNvPr id="177" name="Rectangle 38"/>
            <p:cNvSpPr/>
            <p:nvPr/>
          </p:nvSpPr>
          <p:spPr>
            <a:xfrm>
              <a:off x="5003640" y="5489280"/>
              <a:ext cx="252360" cy="126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5003640" y="6497640"/>
              <a:ext cx="1225440" cy="25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40"/>
            <p:cNvSpPr/>
            <p:nvPr/>
          </p:nvSpPr>
          <p:spPr>
            <a:xfrm flipV="1">
              <a:off x="4860720" y="5597280"/>
              <a:ext cx="129528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42"/>
            <p:cNvSpPr/>
            <p:nvPr/>
          </p:nvSpPr>
          <p:spPr>
            <a:xfrm flipH="1" flipV="1">
              <a:off x="4679280" y="5526000"/>
              <a:ext cx="12970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43"/>
            <p:cNvSpPr/>
            <p:nvPr/>
          </p:nvSpPr>
          <p:spPr>
            <a:xfrm>
              <a:off x="6229080" y="5454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464000" y="5165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46"/>
          <p:cNvSpPr/>
          <p:nvPr/>
        </p:nvSpPr>
        <p:spPr>
          <a:xfrm>
            <a:off x="826920" y="4545000"/>
            <a:ext cx="42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PSTVENI     POLO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7"/>
          <p:cNvSpPr/>
          <p:nvPr/>
        </p:nvSpPr>
        <p:spPr>
          <a:xfrm>
            <a:off x="1403280" y="42926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8"/>
          <p:cNvSpPr/>
          <p:nvPr/>
        </p:nvSpPr>
        <p:spPr>
          <a:xfrm>
            <a:off x="2411280" y="4292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I) KRUTO T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5256360" y="1341360"/>
            <a:ext cx="3311280" cy="1657080"/>
            <a:chOff x="5256360" y="1341360"/>
            <a:chExt cx="3311280" cy="1657080"/>
          </a:xfrm>
        </p:grpSpPr>
        <mc:AlternateContent>
          <mc:Choice xmlns:a14="http://schemas.microsoft.com/office/drawing/2010/main" Requires="a14">
            <p:sp>
              <p:nvSpPr>
                <p:cNvPr id="189" name="Object 4"/>
                <p:cNvSpPr txBox="1"/>
                <p:nvPr/>
              </p:nvSpPr>
              <p:spPr>
                <a:xfrm>
                  <a:off x="5256360" y="1954080"/>
                  <a:ext cx="1284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m</m:t>
                      </m:r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90" name="Line 6"/>
            <p:cNvSpPr/>
            <p:nvPr/>
          </p:nvSpPr>
          <p:spPr>
            <a:xfrm flipH="1">
              <a:off x="6587640" y="2638080"/>
              <a:ext cx="61308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7201080" y="2638080"/>
              <a:ext cx="828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 flipV="1">
              <a:off x="7201080" y="163008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7272360" y="1809720"/>
              <a:ext cx="129528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 flipV="1">
              <a:off x="7632720" y="1664640"/>
              <a:ext cx="792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775640" y="21700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2"/>
            <p:cNvSpPr/>
            <p:nvPr/>
          </p:nvSpPr>
          <p:spPr>
            <a:xfrm>
              <a:off x="7632720" y="206208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Object 13"/>
                <p:cNvSpPr txBox="1"/>
                <p:nvPr/>
              </p:nvSpPr>
              <p:spPr>
                <a:xfrm>
                  <a:off x="8136000" y="1341360"/>
                  <a:ext cx="2635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647640" y="3753000"/>
                <a:ext cx="3384720" cy="23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</m:nary>
                              </m:e>
                            </m:groupChr>
                          </m:e>
                          <m:lim/>
                        </m:limLow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Text Box 17"/>
          <p:cNvSpPr/>
          <p:nvPr/>
        </p:nvSpPr>
        <p:spPr>
          <a:xfrm>
            <a:off x="934920" y="6237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lan (*) je jednak nuli pod sledećim uslovi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0"/>
          <p:cNvGrpSpPr/>
          <p:nvPr/>
        </p:nvGrpSpPr>
        <p:grpSpPr>
          <a:xfrm>
            <a:off x="5471640" y="3429000"/>
            <a:ext cx="3170880" cy="2743200"/>
            <a:chOff x="5471640" y="3429000"/>
            <a:chExt cx="3170880" cy="2743200"/>
          </a:xfrm>
        </p:grpSpPr>
        <p:sp>
          <p:nvSpPr>
            <p:cNvPr id="201" name="Line 18"/>
            <p:cNvSpPr/>
            <p:nvPr/>
          </p:nvSpPr>
          <p:spPr>
            <a:xfrm flipH="1">
              <a:off x="5471640" y="5371920"/>
              <a:ext cx="90036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6372360" y="5371920"/>
              <a:ext cx="971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V="1">
              <a:off x="6372360" y="3968640"/>
              <a:ext cx="0" cy="14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6707160" y="3713040"/>
              <a:ext cx="1433520" cy="16365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7235640" y="5048280"/>
              <a:ext cx="215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7453440" y="5048280"/>
              <a:ext cx="10429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 flipH="1" flipV="1">
              <a:off x="6732360" y="3752280"/>
              <a:ext cx="7189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5"/>
            <p:cNvSpPr/>
            <p:nvPr/>
          </p:nvSpPr>
          <p:spPr>
            <a:xfrm flipV="1">
              <a:off x="6372360" y="5047920"/>
              <a:ext cx="107928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26"/>
            <p:cNvSpPr/>
            <p:nvPr/>
          </p:nvSpPr>
          <p:spPr>
            <a:xfrm>
              <a:off x="7596360" y="4039920"/>
              <a:ext cx="25236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27"/>
            <p:cNvSpPr/>
            <p:nvPr/>
          </p:nvSpPr>
          <p:spPr>
            <a:xfrm flipV="1">
              <a:off x="7451640" y="425592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5472000" y="5516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9"/>
            <p:cNvSpPr/>
            <p:nvPr/>
          </p:nvSpPr>
          <p:spPr>
            <a:xfrm>
              <a:off x="7380360" y="5803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0"/>
            <p:cNvSpPr/>
            <p:nvPr/>
          </p:nvSpPr>
          <p:spPr>
            <a:xfrm>
              <a:off x="5977080" y="3860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985080" y="537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2"/>
            <p:cNvSpPr/>
            <p:nvPr/>
          </p:nvSpPr>
          <p:spPr>
            <a:xfrm>
              <a:off x="8317080" y="49402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6767640" y="3429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34"/>
                <p:cNvSpPr txBox="1"/>
                <p:nvPr/>
              </p:nvSpPr>
              <p:spPr>
                <a:xfrm>
                  <a:off x="6551640" y="4940280"/>
                  <a:ext cx="21888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8" name="Object 35"/>
                <p:cNvSpPr txBox="1"/>
                <p:nvPr/>
              </p:nvSpPr>
              <p:spPr>
                <a:xfrm>
                  <a:off x="7632720" y="4508280"/>
                  <a:ext cx="23796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Text Box 36"/>
            <p:cNvSpPr/>
            <p:nvPr/>
          </p:nvSpPr>
          <p:spPr>
            <a:xfrm>
              <a:off x="7201080" y="38955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7"/>
            <p:cNvSpPr/>
            <p:nvPr/>
          </p:nvSpPr>
          <p:spPr>
            <a:xfrm>
              <a:off x="7993080" y="3537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AutoShape 38"/>
            <p:cNvCxnSpPr>
              <a:stCxn id="220" idx="1"/>
              <a:endCxn id="209" idx="0"/>
            </p:cNvCxnSpPr>
            <p:nvPr/>
          </p:nvCxnSpPr>
          <p:spPr>
            <a:xfrm flipV="1" rot="10800000">
              <a:off x="7747920" y="3720600"/>
              <a:ext cx="244800" cy="31968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22" name="Text Box 39"/>
            <p:cNvSpPr/>
            <p:nvPr/>
          </p:nvSpPr>
          <p:spPr>
            <a:xfrm>
              <a:off x="7128000" y="4760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A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A je nepokretna tačka – sferno kretanje oko tačk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Zavojno kretanje, sa stalnom osom zavojnog kretanja koja prolazi kroz tačku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232000" y="1700280"/>
                <a:ext cx="1042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AutoShape 6"/>
          <p:cNvSpPr/>
          <p:nvPr/>
        </p:nvSpPr>
        <p:spPr>
          <a:xfrm>
            <a:off x="1908000" y="4400640"/>
            <a:ext cx="648000" cy="12967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2232000" y="407628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 flipV="1">
            <a:off x="2232000" y="4905360"/>
            <a:ext cx="0" cy="3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016000" y="51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"/>
              <p:cNvSpPr txBox="1"/>
              <p:nvPr/>
            </p:nvSpPr>
            <p:spPr>
              <a:xfrm>
                <a:off x="2268360" y="49053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12"/>
              <p:cNvSpPr txBox="1"/>
              <p:nvPr/>
            </p:nvSpPr>
            <p:spPr>
              <a:xfrm>
                <a:off x="2340000" y="4113360"/>
                <a:ext cx="216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13"/>
              <p:cNvSpPr txBox="1"/>
              <p:nvPr/>
            </p:nvSpPr>
            <p:spPr>
              <a:xfrm>
                <a:off x="3203640" y="4724280"/>
                <a:ext cx="2197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3" name="Text Box 14"/>
          <p:cNvSpPr/>
          <p:nvPr/>
        </p:nvSpPr>
        <p:spPr>
          <a:xfrm>
            <a:off x="3166920" y="440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16"/>
          <p:cNvCxnSpPr>
            <a:stCxn id="233" idx="1"/>
          </p:cNvCxnSpPr>
          <p:nvPr/>
        </p:nvCxnSpPr>
        <p:spPr>
          <a:xfrm flipH="1">
            <a:off x="2564640" y="4584600"/>
            <a:ext cx="60228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Text Box 17"/>
          <p:cNvSpPr/>
          <p:nvPr/>
        </p:nvSpPr>
        <p:spPr>
          <a:xfrm>
            <a:off x="900000" y="6021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AN OD PRETHODNA TRI SLUČAJA UVEK JE MOGUĆE POSTIĆ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4"/>
              <p:cNvSpPr txBox="1"/>
              <p:nvPr/>
            </p:nvSpPr>
            <p:spPr>
              <a:xfrm>
                <a:off x="1655640" y="1881360"/>
                <a:ext cx="3708360" cy="14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Text Box 6"/>
          <p:cNvSpPr/>
          <p:nvPr/>
        </p:nvSpPr>
        <p:spPr>
          <a:xfrm>
            <a:off x="6372360" y="1952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≡S i zavojno kret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372360" y="2852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 je nepokret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8"/>
              <p:cNvSpPr txBox="1"/>
              <p:nvPr/>
            </p:nvSpPr>
            <p:spPr>
              <a:xfrm>
                <a:off x="1925640" y="3392640"/>
                <a:ext cx="6408720" cy="16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ν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ζ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η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ξ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ζ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pη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qξ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rPr>
                            <m:lit/>
                            <m:nor/>
                          </m:rPr>
                          <m:t xml:space="preserve">ζη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rPr>
                            <m:lit/>
                            <m:nor/>
                          </m:rPr>
                          <m:t xml:space="preserve">ξζ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rPr>
                            <m:lit/>
                            <m:nor/>
                          </m:rPr>
                          <m:t xml:space="preserve">ηξ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η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ξ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ζ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m</m:t>
                                    </m:r>
                                  </m:sub>
                                  <m:sup/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ξ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+</m:t>
                                        </m:r>
                                        <m:sSup>
                                          <m:e>
                                            <m:r>
                                              <m:t xml:space="preserve">η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r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ζη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</m:e>
                                    </m:nary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p</m:t>
                                    </m:r>
                                    <m:nary>
                                      <m:naryPr>
                                        <m:chr m:val="∫"/>
                                        <m:supHide m:val="1"/>
                                      </m:naryPr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ξζ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m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q</m:t>
                                        </m:r>
                                        <m:nary>
                                          <m:naryPr>
                                            <m:chr m:val="∫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m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ξη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m</m:t>
                                            </m:r>
                                          </m:e>
                                        </m:nary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ζ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ζ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ζ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η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Text Box 10"/>
          <p:cNvSpPr/>
          <p:nvPr/>
        </p:nvSpPr>
        <p:spPr>
          <a:xfrm>
            <a:off x="1511280" y="522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koordinatne ose glavne centralne ose inercije, tada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98720" y="1736640"/>
                <a:ext cx="6056280" cy="26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ζ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m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S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RANSLACIJE</m:t>
                            </m:r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OTACIJE</m:t>
                            </m:r>
                          </m:lim>
                        </m:limLow>
                      </m:e>
                      <m:e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</m:d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4" name="Text Box 6"/>
          <p:cNvSpPr/>
          <p:nvPr/>
        </p:nvSpPr>
        <p:spPr>
          <a:xfrm>
            <a:off x="1042920" y="4653000"/>
            <a:ext cx="554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) SIATEM MATERIJALNIH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 tačaka,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broj stepeni slobode kret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7"/>
          <p:cNvGrpSpPr/>
          <p:nvPr/>
        </p:nvGrpSpPr>
        <p:grpSpPr>
          <a:xfrm>
            <a:off x="5435640" y="3573360"/>
            <a:ext cx="2663640" cy="3103560"/>
            <a:chOff x="5435640" y="3573360"/>
            <a:chExt cx="2663640" cy="3103560"/>
          </a:xfrm>
        </p:grpSpPr>
        <p:sp>
          <p:nvSpPr>
            <p:cNvPr id="246" name="Text Box 8"/>
            <p:cNvSpPr/>
            <p:nvPr/>
          </p:nvSpPr>
          <p:spPr>
            <a:xfrm>
              <a:off x="7235640" y="4545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9"/>
                <p:cNvSpPr txBox="1"/>
                <p:nvPr/>
              </p:nvSpPr>
              <p:spPr>
                <a:xfrm>
                  <a:off x="7235640" y="5408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Line 10"/>
            <p:cNvSpPr/>
            <p:nvPr/>
          </p:nvSpPr>
          <p:spPr>
            <a:xfrm flipH="1">
              <a:off x="5435640" y="5805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1"/>
            <p:cNvSpPr/>
            <p:nvPr/>
          </p:nvSpPr>
          <p:spPr>
            <a:xfrm>
              <a:off x="6119640" y="5805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2"/>
            <p:cNvSpPr/>
            <p:nvPr/>
          </p:nvSpPr>
          <p:spPr>
            <a:xfrm flipV="1">
              <a:off x="6119640" y="4400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7235640" y="5840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6514920" y="4905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5"/>
            <p:cNvSpPr/>
            <p:nvPr/>
          </p:nvSpPr>
          <p:spPr>
            <a:xfrm>
              <a:off x="7235640" y="4040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6"/>
            <p:cNvSpPr/>
            <p:nvPr/>
          </p:nvSpPr>
          <p:spPr>
            <a:xfrm>
              <a:off x="7667640" y="5049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7"/>
            <p:cNvSpPr/>
            <p:nvPr/>
          </p:nvSpPr>
          <p:spPr>
            <a:xfrm>
              <a:off x="7164360" y="5337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8"/>
            <p:cNvSpPr/>
            <p:nvPr/>
          </p:nvSpPr>
          <p:spPr>
            <a:xfrm flipV="1">
              <a:off x="7164360" y="5192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9"/>
            <p:cNvSpPr/>
            <p:nvPr/>
          </p:nvSpPr>
          <p:spPr>
            <a:xfrm flipH="1" flipV="1">
              <a:off x="6659640" y="5049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0"/>
            <p:cNvSpPr/>
            <p:nvPr/>
          </p:nvSpPr>
          <p:spPr>
            <a:xfrm>
              <a:off x="6946920" y="3573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1"/>
            <p:cNvSpPr/>
            <p:nvPr/>
          </p:nvSpPr>
          <p:spPr>
            <a:xfrm>
              <a:off x="6227640" y="4473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2"/>
            <p:cNvSpPr/>
            <p:nvPr/>
          </p:nvSpPr>
          <p:spPr>
            <a:xfrm>
              <a:off x="7056360" y="4869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23"/>
                <p:cNvSpPr txBox="1"/>
                <p:nvPr/>
              </p:nvSpPr>
              <p:spPr>
                <a:xfrm>
                  <a:off x="6838920" y="4869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2" name="Line 24"/>
            <p:cNvSpPr/>
            <p:nvPr/>
          </p:nvSpPr>
          <p:spPr>
            <a:xfrm>
              <a:off x="6119640" y="5805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 flipV="1">
              <a:off x="6156360" y="5336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4" name="Object 26"/>
                <p:cNvSpPr txBox="1"/>
                <p:nvPr/>
              </p:nvSpPr>
              <p:spPr>
                <a:xfrm>
                  <a:off x="6730920" y="5877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Object 27"/>
                <p:cNvSpPr txBox="1"/>
                <p:nvPr/>
              </p:nvSpPr>
              <p:spPr>
                <a:xfrm>
                  <a:off x="6443640" y="5265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Line 28"/>
            <p:cNvSpPr/>
            <p:nvPr/>
          </p:nvSpPr>
          <p:spPr>
            <a:xfrm>
              <a:off x="6588000" y="5013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9"/>
            <p:cNvSpPr/>
            <p:nvPr/>
          </p:nvSpPr>
          <p:spPr>
            <a:xfrm>
              <a:off x="7375320" y="5180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0"/>
            <p:cNvSpPr/>
            <p:nvPr/>
          </p:nvSpPr>
          <p:spPr>
            <a:xfrm flipV="1">
              <a:off x="6588000" y="4113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1"/>
            <p:cNvSpPr/>
            <p:nvPr/>
          </p:nvSpPr>
          <p:spPr>
            <a:xfrm>
              <a:off x="7307280" y="4113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32"/>
            <p:cNvSpPr/>
            <p:nvPr/>
          </p:nvSpPr>
          <p:spPr>
            <a:xfrm>
              <a:off x="5614920" y="63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3"/>
            <p:cNvSpPr/>
            <p:nvPr/>
          </p:nvSpPr>
          <p:spPr>
            <a:xfrm>
              <a:off x="6838920" y="6273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4"/>
            <p:cNvSpPr/>
            <p:nvPr/>
          </p:nvSpPr>
          <p:spPr>
            <a:xfrm>
              <a:off x="622764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35"/>
                <p:cNvSpPr txBox="1"/>
                <p:nvPr/>
              </p:nvSpPr>
              <p:spPr>
                <a:xfrm>
                  <a:off x="7297560" y="4905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4" name="Line 36"/>
            <p:cNvSpPr/>
            <p:nvPr/>
          </p:nvSpPr>
          <p:spPr>
            <a:xfrm flipV="1">
              <a:off x="6119640" y="5084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37"/>
                <p:cNvSpPr txBox="1"/>
                <p:nvPr/>
              </p:nvSpPr>
              <p:spPr>
                <a:xfrm>
                  <a:off x="6165720" y="5040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6" name="Object 38"/>
              <p:cNvSpPr txBox="1"/>
              <p:nvPr/>
            </p:nvSpPr>
            <p:spPr>
              <a:xfrm>
                <a:off x="1295280" y="5589720"/>
                <a:ext cx="1152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KINETIČ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1741320" y="1557360"/>
                <a:ext cx="6164280" cy="52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/>
                                </m:nary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nary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∂</m:t>
                                                </m:r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⃗"/>
                                                      </m:accPr>
                                                      <m:e>
                                                        <m:r>
                                                          <m:t xml:space="preserve">r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k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∂</m:t>
                                                </m:r>
                                                <m:r>
                                                  <m:t xml:space="preserve">t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NESTACIONARNA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EZA</m:t>
                            </m:r>
                          </m:lim>
                        </m:limLow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+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  <m:r>
                                          <m:t xml:space="preserve">C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)MATERIJALNA TA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826920" y="3537000"/>
            <a:ext cx="493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)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mamo N sila koje deluju na kruto t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9"/>
          <p:cNvGrpSpPr/>
          <p:nvPr/>
        </p:nvGrpSpPr>
        <p:grpSpPr>
          <a:xfrm>
            <a:off x="5040360" y="3672000"/>
            <a:ext cx="3316320" cy="2895480"/>
            <a:chOff x="5040360" y="3672000"/>
            <a:chExt cx="3316320" cy="2895480"/>
          </a:xfrm>
        </p:grpSpPr>
        <p:sp>
          <p:nvSpPr>
            <p:cNvPr id="283" name="Line 19"/>
            <p:cNvSpPr/>
            <p:nvPr/>
          </p:nvSpPr>
          <p:spPr>
            <a:xfrm flipH="1">
              <a:off x="5040360" y="5767560"/>
              <a:ext cx="90000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5940360" y="5767560"/>
              <a:ext cx="97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 flipV="1">
              <a:off x="5940360" y="4363560"/>
              <a:ext cx="0" cy="14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6275520" y="4108320"/>
              <a:ext cx="1433520" cy="1636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 flipH="1">
              <a:off x="6804000" y="5443560"/>
              <a:ext cx="216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7021440" y="5443560"/>
              <a:ext cx="10429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5"/>
            <p:cNvSpPr/>
            <p:nvPr/>
          </p:nvSpPr>
          <p:spPr>
            <a:xfrm flipH="1" flipV="1">
              <a:off x="6300720" y="4148280"/>
              <a:ext cx="7192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6"/>
            <p:cNvSpPr/>
            <p:nvPr/>
          </p:nvSpPr>
          <p:spPr>
            <a:xfrm flipV="1">
              <a:off x="5940360" y="5443560"/>
              <a:ext cx="107964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8"/>
            <p:cNvSpPr/>
            <p:nvPr/>
          </p:nvSpPr>
          <p:spPr>
            <a:xfrm flipV="1">
              <a:off x="7020000" y="4651200"/>
              <a:ext cx="21600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9"/>
            <p:cNvSpPr/>
            <p:nvPr/>
          </p:nvSpPr>
          <p:spPr>
            <a:xfrm>
              <a:off x="5040360" y="5911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30"/>
            <p:cNvSpPr/>
            <p:nvPr/>
          </p:nvSpPr>
          <p:spPr>
            <a:xfrm>
              <a:off x="6948360" y="619920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31"/>
            <p:cNvSpPr/>
            <p:nvPr/>
          </p:nvSpPr>
          <p:spPr>
            <a:xfrm>
              <a:off x="5545080" y="4255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32"/>
            <p:cNvSpPr/>
            <p:nvPr/>
          </p:nvSpPr>
          <p:spPr>
            <a:xfrm>
              <a:off x="6553080" y="57675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33"/>
            <p:cNvSpPr/>
            <p:nvPr/>
          </p:nvSpPr>
          <p:spPr>
            <a:xfrm>
              <a:off x="7885080" y="53355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4"/>
            <p:cNvSpPr/>
            <p:nvPr/>
          </p:nvSpPr>
          <p:spPr>
            <a:xfrm>
              <a:off x="6335640" y="38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35"/>
                <p:cNvSpPr txBox="1"/>
                <p:nvPr/>
              </p:nvSpPr>
              <p:spPr>
                <a:xfrm>
                  <a:off x="6119640" y="5335560"/>
                  <a:ext cx="21924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36"/>
                <p:cNvSpPr txBox="1"/>
                <p:nvPr/>
              </p:nvSpPr>
              <p:spPr>
                <a:xfrm>
                  <a:off x="7161120" y="4884840"/>
                  <a:ext cx="317520" cy="35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Text Box 37"/>
            <p:cNvSpPr/>
            <p:nvPr/>
          </p:nvSpPr>
          <p:spPr>
            <a:xfrm>
              <a:off x="6769080" y="42908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40"/>
            <p:cNvSpPr/>
            <p:nvPr/>
          </p:nvSpPr>
          <p:spPr>
            <a:xfrm>
              <a:off x="6696000" y="51562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41"/>
            <p:cNvSpPr/>
            <p:nvPr/>
          </p:nvSpPr>
          <p:spPr>
            <a:xfrm flipV="1">
              <a:off x="7236000" y="4005360"/>
              <a:ext cx="5396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42"/>
            <p:cNvSpPr/>
            <p:nvPr/>
          </p:nvSpPr>
          <p:spPr>
            <a:xfrm flipH="1">
              <a:off x="7416360" y="5229360"/>
              <a:ext cx="9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>
              <a:off x="7559640" y="458136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4"/>
            <p:cNvSpPr/>
            <p:nvPr/>
          </p:nvSpPr>
          <p:spPr>
            <a:xfrm>
              <a:off x="6048360" y="4761000"/>
              <a:ext cx="503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45"/>
                <p:cNvSpPr txBox="1"/>
                <p:nvPr/>
              </p:nvSpPr>
              <p:spPr>
                <a:xfrm>
                  <a:off x="8101080" y="4869000"/>
                  <a:ext cx="2556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Object 46"/>
                <p:cNvSpPr txBox="1"/>
                <p:nvPr/>
              </p:nvSpPr>
              <p:spPr>
                <a:xfrm>
                  <a:off x="7974000" y="4221000"/>
                  <a:ext cx="2937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47"/>
                <p:cNvSpPr txBox="1"/>
                <p:nvPr/>
              </p:nvSpPr>
              <p:spPr>
                <a:xfrm>
                  <a:off x="7432560" y="3672000"/>
                  <a:ext cx="2955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Object 48"/>
                <p:cNvSpPr txBox="1"/>
                <p:nvPr/>
              </p:nvSpPr>
              <p:spPr>
                <a:xfrm>
                  <a:off x="6045120" y="4390920"/>
                  <a:ext cx="33516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Group 63"/>
          <p:cNvGrpSpPr/>
          <p:nvPr/>
        </p:nvGrpSpPr>
        <p:grpSpPr>
          <a:xfrm>
            <a:off x="4273560" y="1773360"/>
            <a:ext cx="3322800" cy="1697040"/>
            <a:chOff x="4273560" y="1773360"/>
            <a:chExt cx="3322800" cy="1697040"/>
          </a:xfrm>
        </p:grpSpPr>
        <mc:AlternateContent>
          <mc:Choice xmlns:a14="http://schemas.microsoft.com/office/drawing/2010/main" Requires="a14">
            <p:sp>
              <p:nvSpPr>
                <p:cNvPr id="311" name="Object 5"/>
                <p:cNvSpPr txBox="1"/>
                <p:nvPr/>
              </p:nvSpPr>
              <p:spPr>
                <a:xfrm>
                  <a:off x="4297320" y="2506680"/>
                  <a:ext cx="125892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Line 6"/>
            <p:cNvSpPr/>
            <p:nvPr/>
          </p:nvSpPr>
          <p:spPr>
            <a:xfrm flipH="1">
              <a:off x="5616720" y="3033720"/>
              <a:ext cx="612720" cy="3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>
              <a:off x="6229440" y="3033720"/>
              <a:ext cx="828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"/>
            <p:cNvSpPr/>
            <p:nvPr/>
          </p:nvSpPr>
          <p:spPr>
            <a:xfrm flipV="1">
              <a:off x="6229440" y="202572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"/>
            <p:cNvSpPr/>
            <p:nvPr/>
          </p:nvSpPr>
          <p:spPr>
            <a:xfrm>
              <a:off x="6300720" y="2205000"/>
              <a:ext cx="1295640" cy="612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0"/>
            <p:cNvSpPr/>
            <p:nvPr/>
          </p:nvSpPr>
          <p:spPr>
            <a:xfrm flipV="1">
              <a:off x="6661080" y="2060280"/>
              <a:ext cx="79236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1"/>
            <p:cNvSpPr/>
            <p:nvPr/>
          </p:nvSpPr>
          <p:spPr>
            <a:xfrm>
              <a:off x="6804000" y="25653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,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2"/>
            <p:cNvSpPr/>
            <p:nvPr/>
          </p:nvSpPr>
          <p:spPr>
            <a:xfrm>
              <a:off x="6661080" y="2457360"/>
              <a:ext cx="108000" cy="1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9" name="Object 13"/>
                <p:cNvSpPr txBox="1"/>
                <p:nvPr/>
              </p:nvSpPr>
              <p:spPr>
                <a:xfrm>
                  <a:off x="7164360" y="1805040"/>
                  <a:ext cx="263520" cy="23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320" name="Line 14"/>
            <p:cNvSpPr/>
            <p:nvPr/>
          </p:nvSpPr>
          <p:spPr>
            <a:xfrm flipV="1">
              <a:off x="6696000" y="1808280"/>
              <a:ext cx="34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5"/>
                <p:cNvSpPr txBox="1"/>
                <p:nvPr/>
              </p:nvSpPr>
              <p:spPr>
                <a:xfrm>
                  <a:off x="6804000" y="1773360"/>
                  <a:ext cx="26352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Object 62"/>
                <p:cNvSpPr txBox="1"/>
                <p:nvPr/>
              </p:nvSpPr>
              <p:spPr>
                <a:xfrm>
                  <a:off x="4273560" y="3033720"/>
                  <a:ext cx="1233360" cy="43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A</m:t>
                      </m:r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3" name="Object 64"/>
              <p:cNvSpPr txBox="1"/>
              <p:nvPr/>
            </p:nvSpPr>
            <p:spPr>
              <a:xfrm>
                <a:off x="927000" y="4257720"/>
                <a:ext cx="3257640" cy="25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d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d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  <m:r>
                                      <m:t xml:space="preserve">×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sup>
                            </m:sSubSup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p>
                        </m:sSubSup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I) SITEM MATERIJALNIH TAČ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343640" y="277956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1"/>
          <p:cNvGrpSpPr/>
          <p:nvPr/>
        </p:nvGrpSpPr>
        <p:grpSpPr>
          <a:xfrm>
            <a:off x="5543640" y="1808280"/>
            <a:ext cx="2557440" cy="3103560"/>
            <a:chOff x="5543640" y="1808280"/>
            <a:chExt cx="2557440" cy="3103560"/>
          </a:xfrm>
        </p:grpSpPr>
        <mc:AlternateContent>
          <mc:Choice xmlns:a14="http://schemas.microsoft.com/office/drawing/2010/main" Requires="a14">
            <p:sp>
              <p:nvSpPr>
                <p:cNvPr id="328" name="Object 7"/>
                <p:cNvSpPr txBox="1"/>
                <p:nvPr/>
              </p:nvSpPr>
              <p:spPr>
                <a:xfrm>
                  <a:off x="7343640" y="364320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9" name="Line 8"/>
            <p:cNvSpPr/>
            <p:nvPr/>
          </p:nvSpPr>
          <p:spPr>
            <a:xfrm flipH="1">
              <a:off x="5543640" y="4040280"/>
              <a:ext cx="68400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6227640" y="4040280"/>
              <a:ext cx="68292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"/>
            <p:cNvSpPr/>
            <p:nvPr/>
          </p:nvSpPr>
          <p:spPr>
            <a:xfrm flipV="1">
              <a:off x="6227640" y="2634840"/>
              <a:ext cx="0" cy="14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7343640" y="407520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2"/>
            <p:cNvSpPr/>
            <p:nvPr/>
          </p:nvSpPr>
          <p:spPr>
            <a:xfrm>
              <a:off x="6622920" y="313992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3"/>
            <p:cNvSpPr/>
            <p:nvPr/>
          </p:nvSpPr>
          <p:spPr>
            <a:xfrm>
              <a:off x="7343640" y="227484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4"/>
            <p:cNvSpPr/>
            <p:nvPr/>
          </p:nvSpPr>
          <p:spPr>
            <a:xfrm>
              <a:off x="7775640" y="3284640"/>
              <a:ext cx="17928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5"/>
            <p:cNvSpPr/>
            <p:nvPr/>
          </p:nvSpPr>
          <p:spPr>
            <a:xfrm>
              <a:off x="7272360" y="357192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 flipV="1">
              <a:off x="7272360" y="342720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7"/>
            <p:cNvSpPr/>
            <p:nvPr/>
          </p:nvSpPr>
          <p:spPr>
            <a:xfrm flipH="1" flipV="1">
              <a:off x="6767640" y="328464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8"/>
            <p:cNvSpPr/>
            <p:nvPr/>
          </p:nvSpPr>
          <p:spPr>
            <a:xfrm>
              <a:off x="7054920" y="18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9"/>
            <p:cNvSpPr/>
            <p:nvPr/>
          </p:nvSpPr>
          <p:spPr>
            <a:xfrm>
              <a:off x="6335640" y="270828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0"/>
            <p:cNvSpPr/>
            <p:nvPr/>
          </p:nvSpPr>
          <p:spPr>
            <a:xfrm>
              <a:off x="7164360" y="31035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21"/>
                <p:cNvSpPr txBox="1"/>
                <p:nvPr/>
              </p:nvSpPr>
              <p:spPr>
                <a:xfrm>
                  <a:off x="6946920" y="3103560"/>
                  <a:ext cx="271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Line 22"/>
            <p:cNvSpPr/>
            <p:nvPr/>
          </p:nvSpPr>
          <p:spPr>
            <a:xfrm>
              <a:off x="6227640" y="404028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3"/>
            <p:cNvSpPr/>
            <p:nvPr/>
          </p:nvSpPr>
          <p:spPr>
            <a:xfrm flipV="1">
              <a:off x="6264360" y="357156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Object 24"/>
                <p:cNvSpPr txBox="1"/>
                <p:nvPr/>
              </p:nvSpPr>
              <p:spPr>
                <a:xfrm>
                  <a:off x="6838920" y="4111560"/>
                  <a:ext cx="190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25"/>
                <p:cNvSpPr txBox="1"/>
                <p:nvPr/>
              </p:nvSpPr>
              <p:spPr>
                <a:xfrm>
                  <a:off x="6551640" y="3500280"/>
                  <a:ext cx="22068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Line 26"/>
            <p:cNvSpPr/>
            <p:nvPr/>
          </p:nvSpPr>
          <p:spPr>
            <a:xfrm>
              <a:off x="6696000" y="324792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7"/>
            <p:cNvSpPr/>
            <p:nvPr/>
          </p:nvSpPr>
          <p:spPr>
            <a:xfrm>
              <a:off x="7483320" y="341460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8"/>
            <p:cNvSpPr/>
            <p:nvPr/>
          </p:nvSpPr>
          <p:spPr>
            <a:xfrm flipV="1">
              <a:off x="6696000" y="234792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9"/>
            <p:cNvSpPr/>
            <p:nvPr/>
          </p:nvSpPr>
          <p:spPr>
            <a:xfrm>
              <a:off x="7415280" y="234792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30"/>
            <p:cNvSpPr/>
            <p:nvPr/>
          </p:nvSpPr>
          <p:spPr>
            <a:xfrm>
              <a:off x="5722920" y="4543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31"/>
            <p:cNvSpPr/>
            <p:nvPr/>
          </p:nvSpPr>
          <p:spPr>
            <a:xfrm>
              <a:off x="6946920" y="4508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32"/>
            <p:cNvSpPr/>
            <p:nvPr/>
          </p:nvSpPr>
          <p:spPr>
            <a:xfrm>
              <a:off x="6335640" y="23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Object 33"/>
                <p:cNvSpPr txBox="1"/>
                <p:nvPr/>
              </p:nvSpPr>
              <p:spPr>
                <a:xfrm>
                  <a:off x="7405560" y="313992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5" name="Line 34"/>
            <p:cNvSpPr/>
            <p:nvPr/>
          </p:nvSpPr>
          <p:spPr>
            <a:xfrm flipV="1">
              <a:off x="6227640" y="331956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6" name="Object 35"/>
                <p:cNvSpPr txBox="1"/>
                <p:nvPr/>
              </p:nvSpPr>
              <p:spPr>
                <a:xfrm>
                  <a:off x="6273720" y="3274920"/>
                  <a:ext cx="2286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57" name="Line 36"/>
            <p:cNvSpPr/>
            <p:nvPr/>
          </p:nvSpPr>
          <p:spPr>
            <a:xfrm>
              <a:off x="7451640" y="4184640"/>
              <a:ext cx="6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7"/>
            <p:cNvSpPr/>
            <p:nvPr/>
          </p:nvSpPr>
          <p:spPr>
            <a:xfrm flipV="1">
              <a:off x="6696000" y="2529000"/>
              <a:ext cx="108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9" name="Object 39"/>
                <p:cNvSpPr txBox="1"/>
                <p:nvPr/>
              </p:nvSpPr>
              <p:spPr>
                <a:xfrm>
                  <a:off x="7775640" y="3824280"/>
                  <a:ext cx="2300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Object 40"/>
                <p:cNvSpPr txBox="1"/>
                <p:nvPr/>
              </p:nvSpPr>
              <p:spPr>
                <a:xfrm>
                  <a:off x="6823080" y="2266920"/>
                  <a:ext cx="2649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Object 42"/>
              <p:cNvSpPr txBox="1"/>
              <p:nvPr/>
            </p:nvSpPr>
            <p:spPr>
              <a:xfrm>
                <a:off x="1298520" y="2108160"/>
                <a:ext cx="4638600" cy="48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F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r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nary>
                                  </m:e>
                                </m:groupChr>
                              </m:e>
                              <m:li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F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  <m:e>
                        <m:r>
                          <m:t xml:space="preserve">δ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24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ERVATIVNE SILE KOD SIST. M.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matramo stacionarni si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4"/>
              <p:cNvSpPr txBox="1"/>
              <p:nvPr/>
            </p:nvSpPr>
            <p:spPr>
              <a:xfrm>
                <a:off x="684360" y="3537000"/>
                <a:ext cx="4038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groupChr>
                              </m:e>
                              <m:li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U</m:t>
                                </m:r>
                              </m:lim>
                            </m:limLow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6" name="Text Box 6"/>
          <p:cNvSpPr/>
          <p:nvPr/>
        </p:nvSpPr>
        <p:spPr>
          <a:xfrm>
            <a:off x="755640" y="4292640"/>
            <a:ext cx="77040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je potencijal polja sile I on ne zavisi od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matramo sistem s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za, dak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=3N-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broj stepeni slobode kretanja, odnosno uvodimo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isanih koordin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=U[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,…,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]=U(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01680" y="1600200"/>
                <a:ext cx="5891400" cy="443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;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⊥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⇒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m>
                                  <m:mr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μ</m:t>
                                          </m:r>
                                        </m:e>
                                      </m:acc>
                                    </m:e>
                                    <m:e>
                                      <m:acc>
                                        <m:accPr>
                                          <m:chr m:val="⃗"/>
                                        </m:accPr>
                                        <m:e>
                                          <m:r>
                                            <m:t xml:space="preserve">υ</m:t>
                                          </m:r>
                                        </m:e>
                                      </m:acc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α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β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os</m:t>
                                      </m:r>
                                      <m:r>
                                        <m:t xml:space="preserve">γ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e>
                                      <m:r>
                                        <m:t xml:space="preserve">ζ</m:t>
                                      </m:r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ζ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η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ξ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ζ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η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ξ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⇒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ζ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+</m:t>
                            </m:r>
                          </m:e>
                        </m:nary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η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4"/>
          <p:cNvSpPr/>
          <p:nvPr/>
        </p:nvSpPr>
        <p:spPr>
          <a:xfrm>
            <a:off x="896760" y="2176560"/>
            <a:ext cx="320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5977080" y="1915920"/>
            <a:ext cx="1836720" cy="1656000"/>
            <a:chOff x="5977080" y="1915920"/>
            <a:chExt cx="1836720" cy="1656000"/>
          </a:xfrm>
        </p:grpSpPr>
        <mc:AlternateContent>
          <mc:Choice xmlns:a14="http://schemas.microsoft.com/office/drawing/2010/main" Requires="a14">
            <p:sp>
              <p:nvSpPr>
                <p:cNvPr id="76" name="Object 18"/>
                <p:cNvSpPr txBox="1"/>
                <p:nvPr/>
              </p:nvSpPr>
              <p:spPr>
                <a:xfrm>
                  <a:off x="6985080" y="3248280"/>
                  <a:ext cx="24300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Object 22"/>
                <p:cNvSpPr txBox="1"/>
                <p:nvPr/>
              </p:nvSpPr>
              <p:spPr>
                <a:xfrm>
                  <a:off x="7382160" y="1916280"/>
                  <a:ext cx="20448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7"/>
            <p:cNvSpPr/>
            <p:nvPr/>
          </p:nvSpPr>
          <p:spPr>
            <a:xfrm flipV="1">
              <a:off x="6624720" y="1915920"/>
              <a:ext cx="72072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6913800" y="2529000"/>
              <a:ext cx="826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7453440" y="2528640"/>
              <a:ext cx="287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6624720" y="3105360"/>
              <a:ext cx="828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 flipH="1" flipV="1">
              <a:off x="6877080" y="2779920"/>
              <a:ext cx="5400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4"/>
            <p:cNvSpPr/>
            <p:nvPr/>
          </p:nvSpPr>
          <p:spPr>
            <a:xfrm>
              <a:off x="6769080" y="2887920"/>
              <a:ext cx="252720" cy="126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5"/>
            <p:cNvSpPr/>
            <p:nvPr/>
          </p:nvSpPr>
          <p:spPr>
            <a:xfrm>
              <a:off x="6877080" y="2887920"/>
              <a:ext cx="36720" cy="36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6"/>
            <p:cNvSpPr/>
            <p:nvPr/>
          </p:nvSpPr>
          <p:spPr>
            <a:xfrm>
              <a:off x="7129440" y="2637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0"/>
            <p:cNvSpPr/>
            <p:nvPr/>
          </p:nvSpPr>
          <p:spPr>
            <a:xfrm>
              <a:off x="7489800" y="310536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V="1">
              <a:off x="6624720" y="3068640"/>
              <a:ext cx="108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28"/>
                <p:cNvSpPr txBox="1"/>
                <p:nvPr/>
              </p:nvSpPr>
              <p:spPr>
                <a:xfrm>
                  <a:off x="5977080" y="2853000"/>
                  <a:ext cx="662040" cy="37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n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ELEMENTARNI I VIRTUELNI R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1131840" y="1808280"/>
                <a:ext cx="6556320" cy="39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den>
                                </m:f>
                                <m:limLow>
                                  <m:e>
                                    <m:groupChr>
                                      <m:groupChrPr>
                                        <m:chr m:val="⏟"/>
                                        <m:pos m:val="bot"/>
                                        <m:vertJc m:val="top"/>
                                      </m:groupCh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groupChr>
                                  </m:e>
                                  <m:lim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z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t xml:space="preserve">∂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d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lim>
                                </m:limLow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z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403280" y="1521000"/>
                <a:ext cx="6553440" cy="43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γ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MATRIC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MENAT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;cos</m:t>
                            </m:r>
                            <m:r>
                              <m:t xml:space="preserve">γ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ξ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ηζ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ξ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ζη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×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η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1187280" y="1665360"/>
          <a:ext cx="669312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65360"/>
                    <a:ext cx="669312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aka pozitivno definitna matrica ima glavne vrednosti i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ože se napisati k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187280" y="3573360"/>
                <a:ext cx="1656000" cy="12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Text Box 6"/>
          <p:cNvSpPr/>
          <p:nvPr/>
        </p:nvSpPr>
        <p:spPr>
          <a:xfrm>
            <a:off x="2987640" y="3500280"/>
            <a:ext cx="36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glavni momenti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24360" y="407664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J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34920" y="5121360"/>
            <a:ext cx="5543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PSOID INER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nstruišimo vektore položaja tačaka M u pav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ijenih k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6048360" y="5553000"/>
                <a:ext cx="231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217520" y="1521000"/>
                <a:ext cx="5124600" cy="44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α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β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ξ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η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;cos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vrstavanjem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zraz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obijamo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sSup>
                          <m:e>
                            <m:r>
                              <m:t xml:space="preserve">ξ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sSup>
                          <m:e>
                            <m:r>
                              <m:t xml:space="preserve">η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sSup>
                          <m:e>
                            <m:r>
                              <m:t xml:space="preserve">ζ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ξη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ηζ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ηζ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ζξ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ζξ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ELIPSOI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NERCIJ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ORNJ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OŽ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RANSFORMISATI</m:t>
                        </m:r>
                        <m:r>
                          <m:t xml:space="preserve">⋅</m:t>
                        </m:r>
                        <m:r>
                          <m:t xml:space="preserve">U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ξ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ζ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d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3" name="Group 21"/>
          <p:cNvGrpSpPr/>
          <p:nvPr/>
        </p:nvGrpSpPr>
        <p:grpSpPr>
          <a:xfrm>
            <a:off x="6119640" y="1233360"/>
            <a:ext cx="2411640" cy="2232000"/>
            <a:chOff x="6119640" y="1233360"/>
            <a:chExt cx="2411640" cy="2232000"/>
          </a:xfrm>
        </p:grpSpPr>
        <p:sp>
          <p:nvSpPr>
            <p:cNvPr id="104" name="Line 22"/>
            <p:cNvSpPr/>
            <p:nvPr/>
          </p:nvSpPr>
          <p:spPr>
            <a:xfrm flipH="1">
              <a:off x="6264000" y="2673360"/>
              <a:ext cx="539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3"/>
            <p:cNvSpPr/>
            <p:nvPr/>
          </p:nvSpPr>
          <p:spPr>
            <a:xfrm>
              <a:off x="6804000" y="2673360"/>
              <a:ext cx="86364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4"/>
            <p:cNvSpPr/>
            <p:nvPr/>
          </p:nvSpPr>
          <p:spPr>
            <a:xfrm flipV="1">
              <a:off x="6804000" y="1412640"/>
              <a:ext cx="0" cy="12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5"/>
            <p:cNvSpPr/>
            <p:nvPr/>
          </p:nvSpPr>
          <p:spPr>
            <a:xfrm flipV="1">
              <a:off x="6804000" y="1844640"/>
              <a:ext cx="82872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7343640" y="1484280"/>
              <a:ext cx="11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M(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27"/>
                <p:cNvSpPr txBox="1"/>
                <p:nvPr/>
              </p:nvSpPr>
              <p:spPr>
                <a:xfrm>
                  <a:off x="7343640" y="2133720"/>
                  <a:ext cx="24948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Text Box 28"/>
            <p:cNvSpPr/>
            <p:nvPr/>
          </p:nvSpPr>
          <p:spPr>
            <a:xfrm>
              <a:off x="6119640" y="2960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7632720" y="2889360"/>
              <a:ext cx="2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6912000" y="123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5904000" y="3897360"/>
            <a:ext cx="2543040" cy="1800000"/>
            <a:chOff x="5904000" y="3897360"/>
            <a:chExt cx="2543040" cy="1800000"/>
          </a:xfrm>
        </p:grpSpPr>
        <p:sp>
          <p:nvSpPr>
            <p:cNvPr id="114" name="Oval 31"/>
            <p:cNvSpPr/>
            <p:nvPr/>
          </p:nvSpPr>
          <p:spPr>
            <a:xfrm>
              <a:off x="6480000" y="4724280"/>
              <a:ext cx="1621080" cy="71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 flipV="1">
              <a:off x="7272360" y="3897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 flipH="1">
              <a:off x="6048000" y="5229360"/>
              <a:ext cx="1079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7416720" y="5229360"/>
              <a:ext cx="75564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Object 35"/>
                <p:cNvSpPr txBox="1"/>
                <p:nvPr/>
              </p:nvSpPr>
              <p:spPr>
                <a:xfrm>
                  <a:off x="5904000" y="5192640"/>
                  <a:ext cx="4554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ξ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Object 39"/>
                <p:cNvSpPr txBox="1"/>
                <p:nvPr/>
              </p:nvSpPr>
              <p:spPr>
                <a:xfrm>
                  <a:off x="8028000" y="5300640"/>
                  <a:ext cx="4190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η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Object 41"/>
                <p:cNvSpPr txBox="1"/>
                <p:nvPr/>
              </p:nvSpPr>
              <p:spPr>
                <a:xfrm>
                  <a:off x="7343640" y="3897360"/>
                  <a:ext cx="3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ζ</m:t>
                          </m:r>
                        </m:e>
                      </m:acc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svaku tačku A postoje tri međusobno ortogonalna pravca (glavne ose inercije u tački A) za koje su proizvodi inercije nula, a ekvatorijalni momenti inercije su glavni momenti inercije i imaju stacionarnu vred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kle potrebno je 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i tzv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zani ekstre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9"/>
          <p:cNvGraphicFramePr/>
          <p:nvPr/>
        </p:nvGraphicFramePr>
        <p:xfrm>
          <a:off x="1008000" y="1922400"/>
          <a:ext cx="770436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8000" y="1922400"/>
                    <a:ext cx="770436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11"/>
          <p:cNvSpPr/>
          <p:nvPr/>
        </p:nvSpPr>
        <p:spPr>
          <a:xfrm>
            <a:off x="1079640" y="3033720"/>
            <a:ext cx="71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LAGRANŽEV multiplikator uslova ve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slovi ekstremuma s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1187280" y="3897360"/>
                <a:ext cx="51134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β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F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γ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η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ξ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ζ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ηζ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β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J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14"/>
          <p:cNvSpPr/>
          <p:nvPr/>
        </p:nvSpPr>
        <p:spPr>
          <a:xfrm>
            <a:off x="1224000" y="587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gornjeg sistema jednačina po nepoznatim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 cos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 netrivijalno ako i samo ak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MENTI INERCIJE M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1230480" y="1736640"/>
          <a:ext cx="538452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736640"/>
                    <a:ext cx="538452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6"/>
          <p:cNvSpPr/>
          <p:nvPr/>
        </p:nvSpPr>
        <p:spPr>
          <a:xfrm>
            <a:off x="1008000" y="5013360"/>
            <a:ext cx="727236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g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u invarijante matrice inercije. One imaju iste vrednosti za bilo koji ortogonalni trijedar u posmatranoj tački. To su invarijante u odnosu na rotaciju koordinatnog trijedra u tački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reni sekularne jednačine su ekstremne vrednost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,J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ne zavise od rasporeda mase a ne zavise od koordinatnog trijed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12T22:35:30Z</dcterms:modified>
  <cp:revision>447</cp:revision>
  <dc:subject/>
  <dc:title>ТЕХНИЧКА МЕХАНИКА 2</dc:title>
</cp:coreProperties>
</file>