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AC2D-E0D2-49A1-82F7-0839FF8F5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5BE6-446A-4E6D-923E-2BF566CA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5E6F-172D-44F0-ABE6-65C341922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0976-309C-4C3E-BC43-FD8FAC5B7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B1F1-BCE7-482C-B5E0-568ADBB6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0388-47D5-46BC-A4E4-7350F2BB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9C81-FDA3-4390-939A-F7146578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FDAA-E43B-48EA-9FF0-5FD0C599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9DB0-2A6C-4564-A28D-40E7264D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BDD8-2272-4741-8C15-F3CF11FC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B1B3-C017-4728-AD66-01A88CAC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F473-C362-4773-9450-58126A5F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46F4-C9C3-44CE-B231-1B8F57F93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r: Dva homogen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a CD I D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stih dužin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 težina G, zavarena su međusobno pod pravim uglom kao i za nepokretnu osu AB prema slici. U tački E na štap DE deluje horizontalna sil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Intenzitet sile se menja po zakonu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=F</a:t>
            </a:r>
            <a:r>
              <a:rPr b="0" i="1" lang="sr-Latn-C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dok je pravac sile stalno upravan na ravan koju obrazuju štapovi. Odrediti zakon obrtanja tela i kinetičke pritiske na ležišta osov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203640" y="3753000"/>
            <a:ext cx="2413080" cy="2741040"/>
            <a:chOff x="3203640" y="3753000"/>
            <a:chExt cx="2413080" cy="2741040"/>
          </a:xfrm>
        </p:grpSpPr>
        <p:sp>
          <p:nvSpPr>
            <p:cNvPr id="44" name=""/>
            <p:cNvSpPr/>
            <p:nvPr/>
          </p:nvSpPr>
          <p:spPr>
            <a:xfrm>
              <a:off x="3995640" y="3903480"/>
              <a:ext cx="0" cy="24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816360" y="6170400"/>
              <a:ext cx="10800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16360" y="6351480"/>
              <a:ext cx="324000" cy="142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32360" y="6170400"/>
              <a:ext cx="10944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85128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03236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995640" y="527040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5219640" y="3974760"/>
              <a:ext cx="0" cy="129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4788000" y="3975120"/>
              <a:ext cx="4316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76720" y="39034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248000" y="5991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032360" y="4875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92720" y="5091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92720" y="39034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00720" y="375300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03640" y="40464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40000" y="635148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40000" y="52704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419640" y="404640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19640" y="5270400"/>
              <a:ext cx="0" cy="10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19640" y="5378400"/>
              <a:ext cx="0" cy="32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95640" y="5738760"/>
              <a:ext cx="12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456000" y="44431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19640" y="55227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392720" y="53434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inetički pritisci (reakcije vez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76360" y="2060640"/>
                <a:ext cx="3490920" cy="17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ξ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η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G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ξ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η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G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431640" y="4041720"/>
            <a:ext cx="500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LTERNATIVA: DALAMBEROV PRINC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Horizontalni šta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364000" y="3860640"/>
            <a:ext cx="3205080" cy="2890080"/>
            <a:chOff x="5364000" y="3860640"/>
            <a:chExt cx="3205080" cy="2890080"/>
          </a:xfrm>
        </p:grpSpPr>
        <p:sp>
          <p:nvSpPr>
            <p:cNvPr id="231" name=""/>
            <p:cNvSpPr/>
            <p:nvPr/>
          </p:nvSpPr>
          <p:spPr>
            <a:xfrm flipV="1">
              <a:off x="5903640" y="393372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03640" y="5661000"/>
              <a:ext cx="25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5471640" y="5661000"/>
              <a:ext cx="43164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03640" y="5661000"/>
              <a:ext cx="14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7343640" y="4149720"/>
              <a:ext cx="0" cy="151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64000" y="5445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136000" y="5192640"/>
              <a:ext cx="4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48360" y="38606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343640" y="440028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43640" y="440028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43640" y="457992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7704000" y="457956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704000" y="4400280"/>
              <a:ext cx="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775640" y="49766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704000" y="40399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35640" y="52639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m,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67280" y="432900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77080" y="5661000"/>
              <a:ext cx="21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03640" y="5661000"/>
              <a:ext cx="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77080" y="5661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2720" y="566100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868720" y="6021360"/>
              <a:ext cx="10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77080" y="602136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119640" y="56973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64360" y="5697360"/>
              <a:ext cx="4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587640" y="5661000"/>
              <a:ext cx="39708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985080" y="5624280"/>
              <a:ext cx="57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6948360" y="4473360"/>
              <a:ext cx="395280" cy="4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43640" y="447336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72000" y="6165720"/>
              <a:ext cx="75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20000" y="5229000"/>
              <a:ext cx="93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119640" y="4724280"/>
              <a:ext cx="1008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T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1640" y="6345000"/>
              <a:ext cx="75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704000" y="4581360"/>
              <a:ext cx="86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03280" y="4976640"/>
                <a:ext cx="32814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m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m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r>
                                <m:t xml:space="preserve">dη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  <m:sSub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dm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η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dm</m:t>
                              </m:r>
                            </m:e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dm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εη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539640" y="1341360"/>
                <a:ext cx="374508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m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ηdη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m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εη</m:t>
                              </m:r>
                              <m:r>
                                <m:t xml:space="preserve">dη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m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mr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r>
                            <m:t xml:space="preserve">ε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539640" y="3429000"/>
                <a:ext cx="38530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l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εl</m:t>
                                  </m:r>
                                </m:e>
                              </m:mr>
                            </m:m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m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,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mr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,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r>
                            <m:t xml:space="preserve">ε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468360" y="288936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ertikalni šta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716360" y="3321000"/>
            <a:ext cx="3708360" cy="3285360"/>
            <a:chOff x="4716360" y="3321000"/>
            <a:chExt cx="3708360" cy="3285360"/>
          </a:xfrm>
        </p:grpSpPr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7380360" y="4149720"/>
                  <a:ext cx="104436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72" name=""/>
            <p:cNvSpPr/>
            <p:nvPr/>
          </p:nvSpPr>
          <p:spPr>
            <a:xfrm>
              <a:off x="5977080" y="383220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97440" y="6099120"/>
              <a:ext cx="10800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97440" y="6280200"/>
              <a:ext cx="324000" cy="142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013440" y="6099120"/>
              <a:ext cx="10944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32360" y="3867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13440" y="3867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77080" y="519912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7201080" y="3903840"/>
              <a:ext cx="0" cy="12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6732720" y="3903840"/>
              <a:ext cx="468360" cy="28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57800" y="38322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29440" y="59198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13440" y="48038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01080" y="494172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73800" y="38322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81800" y="368136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184720" y="397512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21440" y="628020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21440" y="519912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400720" y="397512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00720" y="519912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01080" y="5307120"/>
              <a:ext cx="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77080" y="5667480"/>
              <a:ext cx="12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437080" y="43718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00720" y="545148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373800" y="527220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4716360" y="5192640"/>
              <a:ext cx="1224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236000" y="519264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977080" y="332100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471640" y="6273720"/>
              <a:ext cx="46836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77080" y="6273720"/>
              <a:ext cx="61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977080" y="580500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5256360" y="3970440"/>
              <a:ext cx="7207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12000" y="396864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6588000" y="5192640"/>
              <a:ext cx="324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912000" y="5192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6803640" y="4545000"/>
              <a:ext cx="39708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201080" y="454500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516720" y="486900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01080" y="4545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696000" y="595008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80000" y="569736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24360" y="620064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51280" y="4149720"/>
              <a:ext cx="649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192720" y="335772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343640" y="4653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7" name=""/>
                <p:cNvSpPr txBox="1"/>
                <p:nvPr/>
              </p:nvSpPr>
              <p:spPr>
                <a:xfrm>
                  <a:off x="5867280" y="4292640"/>
                  <a:ext cx="123840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8" name=""/>
            <p:cNvSpPr/>
            <p:nvPr/>
          </p:nvSpPr>
          <p:spPr>
            <a:xfrm>
              <a:off x="6516720" y="47973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9" name=""/>
                <p:cNvSpPr txBox="1"/>
                <p:nvPr/>
              </p:nvSpPr>
              <p:spPr>
                <a:xfrm>
                  <a:off x="7308720" y="5157720"/>
                  <a:ext cx="1079640" cy="4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6696000" y="5605560"/>
                  <a:ext cx="8240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4967280" y="2023920"/>
            <a:ext cx="3708360" cy="3285360"/>
            <a:chOff x="4967280" y="2023920"/>
            <a:chExt cx="3708360" cy="3285360"/>
          </a:xfrm>
        </p:grpSpPr>
        <mc:AlternateContent>
          <mc:Choice xmlns:a14="http://schemas.microsoft.com/office/drawing/2010/main" Requires="a14">
            <p:sp>
              <p:nvSpPr>
                <p:cNvPr id="323" name=""/>
                <p:cNvSpPr txBox="1"/>
                <p:nvPr/>
              </p:nvSpPr>
              <p:spPr>
                <a:xfrm>
                  <a:off x="7631280" y="2852640"/>
                  <a:ext cx="104436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24" name=""/>
            <p:cNvSpPr/>
            <p:nvPr/>
          </p:nvSpPr>
          <p:spPr>
            <a:xfrm>
              <a:off x="6228000" y="253512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48360" y="4802040"/>
              <a:ext cx="10800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48360" y="4983120"/>
              <a:ext cx="324000" cy="142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64360" y="4802040"/>
              <a:ext cx="10944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083280" y="257004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64360" y="257004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228000" y="390204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7452000" y="2606760"/>
              <a:ext cx="0" cy="12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6983640" y="2606760"/>
              <a:ext cx="468360" cy="28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408720" y="25351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80360" y="46227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64360" y="35067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52000" y="3644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24720" y="2535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732720" y="238428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435640" y="267804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72360" y="498312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72360" y="390204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51640" y="267804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51640" y="390204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452000" y="4010040"/>
              <a:ext cx="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28000" y="4370400"/>
              <a:ext cx="12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88000" y="30747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51640" y="41544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24720" y="397512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4967280" y="3895560"/>
              <a:ext cx="1224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86920" y="389556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6228000" y="202392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5722560" y="4976640"/>
              <a:ext cx="46836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28000" y="4976640"/>
              <a:ext cx="61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28000" y="450792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5507280" y="2673360"/>
              <a:ext cx="7207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62920" y="267156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6838920" y="3895560"/>
              <a:ext cx="324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162920" y="3895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7054560" y="3247920"/>
              <a:ext cx="39708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452000" y="324792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767640" y="357192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452000" y="32479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46920" y="465300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830920" y="4400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075280" y="490356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02200" y="2852640"/>
              <a:ext cx="649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443640" y="206064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594560" y="335592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9" name=""/>
                <p:cNvSpPr txBox="1"/>
                <p:nvPr/>
              </p:nvSpPr>
              <p:spPr>
                <a:xfrm>
                  <a:off x="6118200" y="2995560"/>
                  <a:ext cx="123840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0" name=""/>
            <p:cNvSpPr/>
            <p:nvPr/>
          </p:nvSpPr>
          <p:spPr>
            <a:xfrm>
              <a:off x="6767640" y="35002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1" name=""/>
                <p:cNvSpPr txBox="1"/>
                <p:nvPr/>
              </p:nvSpPr>
              <p:spPr>
                <a:xfrm>
                  <a:off x="7559640" y="3860640"/>
                  <a:ext cx="1079640" cy="4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2" name=""/>
                <p:cNvSpPr txBox="1"/>
                <p:nvPr/>
              </p:nvSpPr>
              <p:spPr>
                <a:xfrm>
                  <a:off x="6946920" y="4308480"/>
                  <a:ext cx="8240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3" name=""/>
          <p:cNvSpPr/>
          <p:nvPr/>
        </p:nvSpPr>
        <p:spPr>
          <a:xfrm>
            <a:off x="647640" y="1413000"/>
            <a:ext cx="43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e dinamičke ravnotež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576360" y="1736640"/>
                <a:ext cx="4535280" cy="34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Gl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</m:e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2406600" y="2584440"/>
                <a:ext cx="1396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6443640" y="2673360"/>
                <a:ext cx="4078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376360" y="2781360"/>
                <a:ext cx="2811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1187280" y="2492280"/>
            <a:ext cx="2700360" cy="21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11280" y="1881360"/>
            <a:ext cx="21600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943280" y="2239920"/>
            <a:ext cx="21564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403280" y="1844640"/>
            <a:ext cx="133200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2448000" y="2708280"/>
            <a:ext cx="50328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408720" y="1989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264360" y="1628640"/>
            <a:ext cx="72072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92720" y="1521000"/>
            <a:ext cx="395280" cy="6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448000" y="166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624720" y="1557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408720" y="2168640"/>
            <a:ext cx="576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6048360" y="1592280"/>
                <a:ext cx="25704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91" name=""/>
          <p:cNvSpPr/>
          <p:nvPr/>
        </p:nvSpPr>
        <p:spPr>
          <a:xfrm flipH="1" flipV="1">
            <a:off x="6587640" y="2205000"/>
            <a:ext cx="397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00000" y="3465360"/>
            <a:ext cx="723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POSTAV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janje dodira je besko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no kratko u intervalu (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t, t+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τ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τ→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darni impuls, koji se ostvaruje na mestu dodira je konač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971640" y="4761000"/>
                <a:ext cx="183672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τ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∫"/>
                      </m:naryPr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τ</m:t>
                        </m:r>
                      </m: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2843280" y="5049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 ko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nu vredn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971640" y="5769000"/>
                <a:ext cx="3887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L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MESTU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ODIR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3. Posledic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etpostavke 1: U toku intrvala 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τ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ne dolazi do promene položaja tela koja učestvuju u udaru ili sudaru. Dodirna površina tela može biti glatka ili hrapava. Pri glatkoj dodirnoj površini      , odnosno     imaju pravac normale na tangencijalnu ravan konturne površi tela u dodirnoj tačk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4. Centralni udar nastaje onda kada normala na tangencijalnu ravan u tački dodira prolazi kroz središta masa oba tela. U suprotnom je ekscentrič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5. Pretpostavimo da je pre udara ili sudara kretanje tela bilo poznato, a posle udara (odvajanja) treba odrediti brzine. Nepoznata j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eličina udarnog impul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AN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3111480" y="2276640"/>
                <a:ext cx="16524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4281480" y="2241720"/>
                <a:ext cx="182520" cy="28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5977080" y="4653000"/>
            <a:ext cx="718920" cy="61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443640" y="5013360"/>
            <a:ext cx="10810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543640" y="4292640"/>
            <a:ext cx="2160360" cy="1800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84720" y="494172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696000" y="551664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335640" y="4941720"/>
            <a:ext cx="34920" cy="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85080" y="5481720"/>
            <a:ext cx="34920" cy="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335640" y="4653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948360" y="512136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498600" y="4869000"/>
                <a:ext cx="50148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TR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KALAR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TR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KALAR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647640" y="5697360"/>
                <a:ext cx="303120" cy="3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1042920" y="5734080"/>
            <a:ext cx="518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eposredno pre sudara (pozn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647640" y="6200640"/>
                <a:ext cx="2732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13" name=""/>
          <p:cNvSpPr/>
          <p:nvPr/>
        </p:nvSpPr>
        <p:spPr>
          <a:xfrm>
            <a:off x="1042920" y="6165720"/>
            <a:ext cx="55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eposredno posle sudara (nepozn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liminacijom impulsa     (sabiranjem jednačina) dobijam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3817800" y="1592280"/>
                <a:ext cx="2574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539640" y="2168640"/>
                <a:ext cx="406872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acc>
                          </m:e>
                        </m:groupChr>
                      </m:e>
                      <m:lim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t xml:space="preserve">'</m:t>
                                    </m:r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/>
                                </m:acc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576360" y="3357720"/>
                <a:ext cx="75596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ODRZANJE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KOLICINE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KRETANJ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OB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EL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9" name=""/>
          <p:cNvSpPr/>
          <p:nvPr/>
        </p:nvSpPr>
        <p:spPr>
          <a:xfrm>
            <a:off x="647640" y="3897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KSCENTRIČAN SU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59280" y="3824280"/>
            <a:ext cx="1289160" cy="1700280"/>
          </a:xfrm>
          <a:custGeom>
            <a:avLst/>
            <a:gdLst/>
            <a:ahLst/>
            <a:rect l="l" t="t" r="r" b="b"/>
            <a:pathLst>
              <a:path w="942" h="720">
                <a:moveTo>
                  <a:pt x="230" y="72"/>
                </a:moveTo>
                <a:cubicBezTo>
                  <a:pt x="209" y="80"/>
                  <a:pt x="183" y="81"/>
                  <a:pt x="166" y="96"/>
                </a:cubicBezTo>
                <a:cubicBezTo>
                  <a:pt x="159" y="102"/>
                  <a:pt x="132" y="198"/>
                  <a:pt x="126" y="216"/>
                </a:cubicBezTo>
                <a:cubicBezTo>
                  <a:pt x="126" y="216"/>
                  <a:pt x="66" y="276"/>
                  <a:pt x="54" y="288"/>
                </a:cubicBezTo>
                <a:cubicBezTo>
                  <a:pt x="40" y="302"/>
                  <a:pt x="22" y="336"/>
                  <a:pt x="22" y="336"/>
                </a:cubicBezTo>
                <a:cubicBezTo>
                  <a:pt x="0" y="424"/>
                  <a:pt x="4" y="589"/>
                  <a:pt x="110" y="624"/>
                </a:cubicBezTo>
                <a:cubicBezTo>
                  <a:pt x="136" y="663"/>
                  <a:pt x="145" y="646"/>
                  <a:pt x="182" y="664"/>
                </a:cubicBezTo>
                <a:cubicBezTo>
                  <a:pt x="238" y="692"/>
                  <a:pt x="289" y="708"/>
                  <a:pt x="350" y="720"/>
                </a:cubicBezTo>
                <a:cubicBezTo>
                  <a:pt x="430" y="717"/>
                  <a:pt x="510" y="719"/>
                  <a:pt x="590" y="712"/>
                </a:cubicBezTo>
                <a:cubicBezTo>
                  <a:pt x="600" y="711"/>
                  <a:pt x="605" y="700"/>
                  <a:pt x="614" y="696"/>
                </a:cubicBezTo>
                <a:cubicBezTo>
                  <a:pt x="637" y="686"/>
                  <a:pt x="665" y="686"/>
                  <a:pt x="686" y="672"/>
                </a:cubicBezTo>
                <a:cubicBezTo>
                  <a:pt x="723" y="647"/>
                  <a:pt x="758" y="620"/>
                  <a:pt x="798" y="600"/>
                </a:cubicBezTo>
                <a:cubicBezTo>
                  <a:pt x="815" y="575"/>
                  <a:pt x="842" y="556"/>
                  <a:pt x="854" y="528"/>
                </a:cubicBezTo>
                <a:cubicBezTo>
                  <a:pt x="874" y="483"/>
                  <a:pt x="887" y="433"/>
                  <a:pt x="894" y="384"/>
                </a:cubicBezTo>
                <a:cubicBezTo>
                  <a:pt x="914" y="256"/>
                  <a:pt x="886" y="375"/>
                  <a:pt x="918" y="304"/>
                </a:cubicBezTo>
                <a:cubicBezTo>
                  <a:pt x="925" y="289"/>
                  <a:pt x="934" y="256"/>
                  <a:pt x="934" y="256"/>
                </a:cubicBezTo>
                <a:cubicBezTo>
                  <a:pt x="931" y="213"/>
                  <a:pt x="942" y="164"/>
                  <a:pt x="918" y="128"/>
                </a:cubicBezTo>
                <a:cubicBezTo>
                  <a:pt x="893" y="90"/>
                  <a:pt x="901" y="113"/>
                  <a:pt x="870" y="96"/>
                </a:cubicBezTo>
                <a:cubicBezTo>
                  <a:pt x="816" y="66"/>
                  <a:pt x="796" y="40"/>
                  <a:pt x="734" y="32"/>
                </a:cubicBezTo>
                <a:cubicBezTo>
                  <a:pt x="705" y="28"/>
                  <a:pt x="675" y="27"/>
                  <a:pt x="646" y="24"/>
                </a:cubicBezTo>
                <a:cubicBezTo>
                  <a:pt x="630" y="22"/>
                  <a:pt x="614" y="18"/>
                  <a:pt x="598" y="16"/>
                </a:cubicBezTo>
                <a:cubicBezTo>
                  <a:pt x="561" y="10"/>
                  <a:pt x="486" y="0"/>
                  <a:pt x="486" y="0"/>
                </a:cubicBezTo>
                <a:cubicBezTo>
                  <a:pt x="425" y="3"/>
                  <a:pt x="363" y="2"/>
                  <a:pt x="302" y="8"/>
                </a:cubicBezTo>
                <a:cubicBezTo>
                  <a:pt x="264" y="12"/>
                  <a:pt x="240" y="37"/>
                  <a:pt x="206" y="48"/>
                </a:cubicBezTo>
                <a:cubicBezTo>
                  <a:pt x="189" y="99"/>
                  <a:pt x="190" y="79"/>
                  <a:pt x="190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699240" y="4689360"/>
            <a:ext cx="2336760" cy="1521000"/>
          </a:xfrm>
          <a:custGeom>
            <a:avLst/>
            <a:gdLst/>
            <a:ahLst/>
            <a:rect l="l" t="t" r="r" b="b"/>
            <a:pathLst>
              <a:path w="1023" h="832">
                <a:moveTo>
                  <a:pt x="588" y="40"/>
                </a:moveTo>
                <a:cubicBezTo>
                  <a:pt x="503" y="48"/>
                  <a:pt x="430" y="68"/>
                  <a:pt x="348" y="88"/>
                </a:cubicBezTo>
                <a:cubicBezTo>
                  <a:pt x="302" y="157"/>
                  <a:pt x="363" y="76"/>
                  <a:pt x="308" y="120"/>
                </a:cubicBezTo>
                <a:cubicBezTo>
                  <a:pt x="300" y="126"/>
                  <a:pt x="299" y="138"/>
                  <a:pt x="292" y="144"/>
                </a:cubicBezTo>
                <a:cubicBezTo>
                  <a:pt x="255" y="177"/>
                  <a:pt x="217" y="185"/>
                  <a:pt x="172" y="200"/>
                </a:cubicBezTo>
                <a:cubicBezTo>
                  <a:pt x="155" y="206"/>
                  <a:pt x="141" y="218"/>
                  <a:pt x="124" y="224"/>
                </a:cubicBezTo>
                <a:cubicBezTo>
                  <a:pt x="107" y="250"/>
                  <a:pt x="85" y="270"/>
                  <a:pt x="68" y="296"/>
                </a:cubicBezTo>
                <a:cubicBezTo>
                  <a:pt x="41" y="406"/>
                  <a:pt x="0" y="581"/>
                  <a:pt x="100" y="648"/>
                </a:cubicBezTo>
                <a:cubicBezTo>
                  <a:pt x="130" y="694"/>
                  <a:pt x="171" y="696"/>
                  <a:pt x="220" y="712"/>
                </a:cubicBezTo>
                <a:cubicBezTo>
                  <a:pt x="230" y="741"/>
                  <a:pt x="248" y="793"/>
                  <a:pt x="276" y="808"/>
                </a:cubicBezTo>
                <a:cubicBezTo>
                  <a:pt x="291" y="816"/>
                  <a:pt x="308" y="819"/>
                  <a:pt x="324" y="824"/>
                </a:cubicBezTo>
                <a:cubicBezTo>
                  <a:pt x="332" y="827"/>
                  <a:pt x="348" y="832"/>
                  <a:pt x="348" y="832"/>
                </a:cubicBezTo>
                <a:cubicBezTo>
                  <a:pt x="479" y="829"/>
                  <a:pt x="609" y="829"/>
                  <a:pt x="740" y="824"/>
                </a:cubicBezTo>
                <a:cubicBezTo>
                  <a:pt x="770" y="823"/>
                  <a:pt x="808" y="791"/>
                  <a:pt x="836" y="776"/>
                </a:cubicBezTo>
                <a:cubicBezTo>
                  <a:pt x="853" y="767"/>
                  <a:pt x="884" y="744"/>
                  <a:pt x="884" y="744"/>
                </a:cubicBezTo>
                <a:cubicBezTo>
                  <a:pt x="914" y="699"/>
                  <a:pt x="931" y="668"/>
                  <a:pt x="948" y="616"/>
                </a:cubicBezTo>
                <a:cubicBezTo>
                  <a:pt x="953" y="600"/>
                  <a:pt x="964" y="568"/>
                  <a:pt x="964" y="568"/>
                </a:cubicBezTo>
                <a:cubicBezTo>
                  <a:pt x="956" y="237"/>
                  <a:pt x="1023" y="309"/>
                  <a:pt x="916" y="184"/>
                </a:cubicBezTo>
                <a:cubicBezTo>
                  <a:pt x="901" y="167"/>
                  <a:pt x="893" y="143"/>
                  <a:pt x="876" y="128"/>
                </a:cubicBezTo>
                <a:cubicBezTo>
                  <a:pt x="821" y="80"/>
                  <a:pt x="756" y="48"/>
                  <a:pt x="684" y="40"/>
                </a:cubicBezTo>
                <a:cubicBezTo>
                  <a:pt x="585" y="29"/>
                  <a:pt x="588" y="0"/>
                  <a:pt x="588" y="4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335640" y="4473720"/>
            <a:ext cx="36720" cy="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028000" y="5373720"/>
            <a:ext cx="3636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72360" y="4508640"/>
            <a:ext cx="468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840000" y="5229360"/>
            <a:ext cx="118764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6624720" y="4581360"/>
                <a:ext cx="2858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7488360" y="5373720"/>
                <a:ext cx="28728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8" name=""/>
          <p:cNvSpPr/>
          <p:nvPr/>
        </p:nvSpPr>
        <p:spPr>
          <a:xfrm>
            <a:off x="6300720" y="404172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101080" y="501336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4689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956720" y="566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6372360" y="5049360"/>
            <a:ext cx="504720" cy="1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877080" y="5229360"/>
            <a:ext cx="57456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6408720" y="5121360"/>
                <a:ext cx="20952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989760" y="5337000"/>
                <a:ext cx="297000" cy="2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628560" y="4508640"/>
                <a:ext cx="48643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</m:e>
                        </m:d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SCENTR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1150920" y="1743120"/>
                <a:ext cx="5041800" cy="44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″</m:t>
                                </m:r>
                              </m:sup>
                            </m:sSup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sup>
                        </m:sSubSup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″</m:t>
                                </m:r>
                              </m:sup>
                            </m:sSup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sup>
                        </m:sSubSup>
                      </m:e>
                      <m:e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/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←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KSCENTRIČ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241920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39640" y="1305000"/>
                <a:ext cx="788508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←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JEDNACIN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3" name=""/>
          <p:cNvSpPr/>
          <p:nvPr/>
        </p:nvSpPr>
        <p:spPr>
          <a:xfrm>
            <a:off x="611280" y="3249720"/>
            <a:ext cx="55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j nepoznatih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503280" y="3789360"/>
                <a:ext cx="5689440" cy="19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+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EKSCENTRIČAN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5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vodeći pretpostavk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 slu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aju glatkih dodirnih površi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934920" y="2529000"/>
                <a:ext cx="19083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=</m:t>
                    </m:r>
                    <m:r>
                      <m:t xml:space="preserve">J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;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2879640" y="2744640"/>
            <a:ext cx="55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inični vektor normale na tangentnu ra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55640" y="3429000"/>
            <a:ext cx="76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ada je       određen samo jednim podatk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1727280" y="3429000"/>
                <a:ext cx="2286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51" name=""/>
          <p:cNvSpPr/>
          <p:nvPr/>
        </p:nvSpPr>
        <p:spPr>
          <a:xfrm>
            <a:off x="826920" y="3968640"/>
            <a:ext cx="507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oj jednačina:         3x4=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oj nepoznatih:   3x4+1=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63640" y="4761000"/>
            <a:ext cx="62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ostoji dodatna jednačina u zavisnosti od toga kakav je sud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934920" y="5481720"/>
            <a:ext cx="75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. Hipoteza o potpuno elastičnom sudaru: NEMA GUBITKA KINETIČKE ENERG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008000" y="6200640"/>
                <a:ext cx="2448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EKSCENTRIČAN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2. Hipoteza o potpuno plastičnom sudra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539640" y="2060640"/>
                <a:ext cx="48610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P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58" name=""/>
          <p:cNvSpPr/>
          <p:nvPr/>
        </p:nvSpPr>
        <p:spPr>
          <a:xfrm>
            <a:off x="611280" y="2781360"/>
            <a:ext cx="777708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 je tačka dod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dodirnoj tački neposredno posle udara brzine oba tela u pravcu normale na tangencijalnu ravan imaju istu vredns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971640" y="2421000"/>
            <a:ext cx="2413080" cy="2741040"/>
            <a:chOff x="971640" y="2421000"/>
            <a:chExt cx="2413080" cy="2741040"/>
          </a:xfrm>
        </p:grpSpPr>
        <p:sp>
          <p:nvSpPr>
            <p:cNvPr id="72" name=""/>
            <p:cNvSpPr/>
            <p:nvPr/>
          </p:nvSpPr>
          <p:spPr>
            <a:xfrm>
              <a:off x="1763640" y="2571480"/>
              <a:ext cx="0" cy="24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84360" y="4838400"/>
              <a:ext cx="10800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84360" y="5019480"/>
              <a:ext cx="324000" cy="142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00360" y="4838400"/>
              <a:ext cx="10944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19280" y="2606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800360" y="2606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63640" y="393840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2987640" y="2642760"/>
              <a:ext cx="0" cy="129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2556000" y="2643120"/>
              <a:ext cx="4316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44720" y="25714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16000" y="4659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800360" y="3543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60720" y="3759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60720" y="25714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68720" y="242100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71640" y="27144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08000" y="501948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08000" y="39384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87640" y="271440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87640" y="3938400"/>
              <a:ext cx="0" cy="10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87640" y="4046400"/>
              <a:ext cx="0" cy="32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63640" y="4406760"/>
              <a:ext cx="12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24000" y="31111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87640" y="41907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60720" y="40114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6948360" y="2313000"/>
            <a:ext cx="2052720" cy="2276280"/>
            <a:chOff x="6948360" y="2313000"/>
            <a:chExt cx="2052720" cy="2276280"/>
          </a:xfrm>
        </p:grpSpPr>
        <p:sp>
          <p:nvSpPr>
            <p:cNvPr id="98" name=""/>
            <p:cNvSpPr/>
            <p:nvPr/>
          </p:nvSpPr>
          <p:spPr>
            <a:xfrm flipV="1">
              <a:off x="7416720" y="3068640"/>
              <a:ext cx="1079640" cy="72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78560" y="3753000"/>
              <a:ext cx="73080" cy="10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8496000" y="3068280"/>
              <a:ext cx="431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8532720" y="2744280"/>
              <a:ext cx="432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51640" y="3897360"/>
              <a:ext cx="360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16720" y="3897360"/>
              <a:ext cx="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451640" y="3824280"/>
              <a:ext cx="14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16720" y="4113360"/>
              <a:ext cx="250920" cy="125280"/>
            </a:xfrm>
            <a:custGeom>
              <a:avLst/>
              <a:gdLst/>
              <a:ahLst/>
              <a:rect l="l" t="t" r="r" b="b"/>
              <a:pathLst>
                <a:path w="158" h="79">
                  <a:moveTo>
                    <a:pt x="0" y="68"/>
                  </a:moveTo>
                  <a:cubicBezTo>
                    <a:pt x="32" y="73"/>
                    <a:pt x="64" y="79"/>
                    <a:pt x="90" y="68"/>
                  </a:cubicBezTo>
                  <a:cubicBezTo>
                    <a:pt x="116" y="57"/>
                    <a:pt x="137" y="28"/>
                    <a:pt x="15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56720" y="3429000"/>
              <a:ext cx="150480" cy="395280"/>
            </a:xfrm>
            <a:custGeom>
              <a:avLst/>
              <a:gdLst/>
              <a:ahLst/>
              <a:rect l="l" t="t" r="r" b="b"/>
              <a:pathLst>
                <a:path w="27" h="158">
                  <a:moveTo>
                    <a:pt x="23" y="158"/>
                  </a:moveTo>
                  <a:cubicBezTo>
                    <a:pt x="25" y="126"/>
                    <a:pt x="27" y="94"/>
                    <a:pt x="23" y="68"/>
                  </a:cubicBezTo>
                  <a:cubicBezTo>
                    <a:pt x="19" y="42"/>
                    <a:pt x="9" y="21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604360" y="23130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72360" y="3429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88360" y="42210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56360" y="4221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67640" y="38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424720" y="3321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48360" y="3500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848720" y="4041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44000" y="3249720"/>
              <a:ext cx="468360" cy="71280"/>
            </a:xfrm>
            <a:custGeom>
              <a:avLst/>
              <a:gdLst/>
              <a:ahLst/>
              <a:rect l="l" t="t" r="r" b="b"/>
              <a:pathLst>
                <a:path w="204" h="79">
                  <a:moveTo>
                    <a:pt x="0" y="0"/>
                  </a:moveTo>
                  <a:cubicBezTo>
                    <a:pt x="28" y="28"/>
                    <a:pt x="57" y="57"/>
                    <a:pt x="91" y="68"/>
                  </a:cubicBezTo>
                  <a:cubicBezTo>
                    <a:pt x="125" y="79"/>
                    <a:pt x="164" y="73"/>
                    <a:pt x="204" y="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52000" y="29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419640" y="1952640"/>
            <a:ext cx="3024000" cy="3682440"/>
            <a:chOff x="3419640" y="1952640"/>
            <a:chExt cx="3024000" cy="3682440"/>
          </a:xfrm>
        </p:grpSpPr>
        <p:sp>
          <p:nvSpPr>
            <p:cNvPr id="118" name=""/>
            <p:cNvSpPr/>
            <p:nvPr/>
          </p:nvSpPr>
          <p:spPr>
            <a:xfrm>
              <a:off x="4535640" y="260820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56000" y="4875120"/>
              <a:ext cx="10800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56000" y="5056200"/>
              <a:ext cx="324000" cy="142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0" y="4875120"/>
              <a:ext cx="10944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90920" y="2643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2000" y="2643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35640" y="3975120"/>
              <a:ext cx="12236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759280" y="2679840"/>
              <a:ext cx="0" cy="12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327640" y="2679480"/>
              <a:ext cx="431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03640" y="2241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43280" y="4616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0" y="35798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96000" y="3573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32360" y="26082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76720" y="2600280"/>
              <a:ext cx="6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43280" y="275112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80000" y="505620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80000" y="397512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59280" y="275112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59280" y="397512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59280" y="4083120"/>
              <a:ext cx="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35640" y="4443480"/>
              <a:ext cx="12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95640" y="31478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59280" y="422748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88000" y="411336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526920" y="3968640"/>
              <a:ext cx="100836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816360" y="3968640"/>
              <a:ext cx="71928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35640" y="3968640"/>
              <a:ext cx="1079280" cy="5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96000" y="396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4535640" y="209700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032360" y="2744640"/>
              <a:ext cx="5032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35640" y="274464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176360" y="5049720"/>
              <a:ext cx="35892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35640" y="50497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4535640" y="508428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19640" y="4184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08360" y="447372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19640" y="40417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43280" y="195264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,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80000" y="4508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51280" y="4149720"/>
              <a:ext cx="216000" cy="114480"/>
            </a:xfrm>
            <a:custGeom>
              <a:avLst/>
              <a:gdLst/>
              <a:ahLst/>
              <a:rect l="l" t="t" r="r" b="b"/>
              <a:pathLst>
                <a:path w="136" h="72">
                  <a:moveTo>
                    <a:pt x="0" y="0"/>
                  </a:moveTo>
                  <a:cubicBezTo>
                    <a:pt x="6" y="17"/>
                    <a:pt x="12" y="34"/>
                    <a:pt x="23" y="45"/>
                  </a:cubicBezTo>
                  <a:cubicBezTo>
                    <a:pt x="34" y="56"/>
                    <a:pt x="49" y="64"/>
                    <a:pt x="68" y="68"/>
                  </a:cubicBezTo>
                  <a:cubicBezTo>
                    <a:pt x="87" y="72"/>
                    <a:pt x="111" y="70"/>
                    <a:pt x="136" y="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03640" y="3608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43280" y="2781360"/>
              <a:ext cx="611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0036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51280" y="5192640"/>
              <a:ext cx="68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40360" y="490536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08360" y="5229360"/>
              <a:ext cx="68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48360" y="350028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24360" y="3176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40360" y="3141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6000" y="3033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e kretanja krutog te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611280" y="2060640"/>
                <a:ext cx="172872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611280" y="350028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ložaj i ubrzanje središta mase štapov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508720" y="3608280"/>
            <a:ext cx="3022560" cy="2233800"/>
            <a:chOff x="5508720" y="3608280"/>
            <a:chExt cx="3022560" cy="2233800"/>
          </a:xfrm>
        </p:grpSpPr>
        <p:sp>
          <p:nvSpPr>
            <p:cNvPr id="174" name=""/>
            <p:cNvSpPr/>
            <p:nvPr/>
          </p:nvSpPr>
          <p:spPr>
            <a:xfrm flipV="1">
              <a:off x="6048360" y="368136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48360" y="5408640"/>
              <a:ext cx="18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616360" y="5408640"/>
              <a:ext cx="43164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48360" y="5408640"/>
              <a:ext cx="14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7488360" y="3897360"/>
              <a:ext cx="0" cy="151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32720" y="5373720"/>
              <a:ext cx="34920" cy="3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51640" y="4653000"/>
              <a:ext cx="73080" cy="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85080" y="4976640"/>
              <a:ext cx="34920" cy="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67640" y="4473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300720" y="5013360"/>
              <a:ext cx="1042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l/2;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59640" y="4437000"/>
              <a:ext cx="97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l;l/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08720" y="5192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67640" y="494172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92720" y="3608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647640" y="3933720"/>
                <a:ext cx="4537080" cy="17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m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m</m:t>
                                    </m:r>
                                    <m:f>
                                      <m:num>
                                        <m:r>
                                          <m:t xml:space="preserve">ℓ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r>
                                      <m:t xml:space="preserve">mℓ</m:t>
                                    </m:r>
                                  </m:e>
                                </m:d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  <m:r>
                                  <m:t xml:space="preserve">ℓ</m:t>
                                </m:r>
                              </m:e>
                            </m:nary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ℓ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ℓ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11280" y="5769000"/>
                <a:ext cx="24480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ℓ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ℓ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84360" y="1449360"/>
                <a:ext cx="5435280" cy="493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;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ε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3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ℓε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r>
                                        <m:t xml:space="preserve">3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ω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ℓ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ℓ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ℓ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le koje deluju na si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47640" y="2097000"/>
                <a:ext cx="3997440" cy="476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l</m:t>
                            </m:r>
                            <m:r>
                              <m:t xml:space="preserve">;</m:t>
                            </m:r>
                            <m:r>
                              <m:t xml:space="preserve">l</m:t>
                            </m:r>
                          </m:e>
                        </m:d>
                      </m:e>
                      <m:e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ℓ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ζ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l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ENTR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ASE</m:t>
                        </m:r>
                      </m:e>
                      <m:e/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l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l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96752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755640" y="1989000"/>
                <a:ext cx="2860560" cy="43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t xml:space="preserve">ξ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t xml:space="preserve">η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t xml:space="preserve">ζ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q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ω</m:t>
                        </m:r>
                      </m:e>
                      <m:e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lζdζ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dζ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98" name=""/>
          <p:cNvGrpSpPr/>
          <p:nvPr/>
        </p:nvGrpSpPr>
        <p:grpSpPr>
          <a:xfrm>
            <a:off x="5148360" y="1989000"/>
            <a:ext cx="3205080" cy="2233800"/>
            <a:chOff x="5148360" y="1989000"/>
            <a:chExt cx="3205080" cy="2233800"/>
          </a:xfrm>
        </p:grpSpPr>
        <p:sp>
          <p:nvSpPr>
            <p:cNvPr id="199" name=""/>
            <p:cNvSpPr/>
            <p:nvPr/>
          </p:nvSpPr>
          <p:spPr>
            <a:xfrm flipV="1">
              <a:off x="5688000" y="206208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88000" y="3789360"/>
              <a:ext cx="25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256000" y="3789360"/>
              <a:ext cx="43164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88000" y="3789360"/>
              <a:ext cx="14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128000" y="2278080"/>
              <a:ext cx="0" cy="151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48360" y="3573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920000" y="332100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32360" y="1989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28000" y="252900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28000" y="252900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28000" y="270828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7488360" y="270792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88360" y="2529000"/>
              <a:ext cx="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59640" y="31050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524720" y="2457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19640" y="339264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m,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51640" y="24573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647640" y="1160640"/>
                <a:ext cx="5364360" cy="534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D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r>
                          <m:t xml:space="preserve">ω</m:t>
                        </m:r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</m:e>
                      <m:e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</m:sub>
                        </m:sSub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vni vektor momenta s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539640" y="2023920"/>
                <a:ext cx="3665520" cy="483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ℓ</m:t>
                                  </m:r>
                                </m:e>
                                <m:e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F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Fℓ</m:t>
                            </m:r>
                            <m:r>
                              <m:t xml:space="preserve">;</m:t>
                            </m:r>
                            <m:r>
                              <m:t xml:space="preserve">Fℓ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3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G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Gℓ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611280" y="1125360"/>
                <a:ext cx="4824360" cy="350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D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⇒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mℓ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Gℓ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mℓ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−</m:t>
                        </m:r>
                        <m:r>
                          <m:t xml:space="preserve">Fℓ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</m:e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t xml:space="preserve">mℓ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Fℓ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539640" y="4508640"/>
            <a:ext cx="57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z (6) se dobija diferencijalna 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a obrtan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11280" y="4905360"/>
                <a:ext cx="4716360" cy="17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ε</m:t>
                        </m:r>
                        <m:r>
                          <m:t xml:space="preserve">=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f>
                          <m:num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num>
                          <m:den>
                            <m:r>
                              <m:t xml:space="preserve">mℓ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OMOGE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OCET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USLOVI</m:t>
                        </m:r>
                        <m:r>
                          <m:t xml:space="preserve">: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ω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ℓα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</m:e>
                      <m:e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mℓ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2448000" y="620064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na jednačina obr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2-01T22:04:33Z</dcterms:modified>
  <cp:revision>569</cp:revision>
  <dc:subject/>
  <dc:title>ТЕХНИЧКА МЕХАНИКА 2</dc:title>
</cp:coreProperties>
</file>