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81AE-C2E3-44B3-8720-43AFCCD4CDD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CAF0-F5AD-4B63-8185-1D3AE43CC3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E8C-0999-4AD3-BA75-30BF2E39C86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EC2-E181-40BD-8CC2-377ADDF49ED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DBD7-989D-48D8-9F13-F524271FED4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84A-42B0-41DE-A6E2-F0B0F45662F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1E60-8849-4176-8435-1B3308095D8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C9EB-94E5-446B-B083-9168EC735B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6D1-33F5-41F3-A5AE-CB1A1CD6938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3128-5DD5-4E88-8D2E-BC60D73B6D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E56-1F57-4E34-BC24-9C7A9E6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C0B-8894-4175-8476-A14EA90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A45-6F22-4FF7-860A-5AE4EE68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CF19-69CE-4384-ACD9-526BD545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669-BB09-4F2D-AFA5-4474F706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06D-E07D-4C9C-B1D5-37A8D447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AC8-1AA8-488A-94DA-1F0394A6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2F4-089A-4B8E-A220-AA864CF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F70-7E7F-4E85-8188-D7755C99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B33-0829-40BE-8D27-C5FF6AB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080-F4E8-49FF-9FD9-EA50B2E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22D5-B66A-4A65-88C9-0B69B92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8EE-6817-4FB6-9A50-AF631D62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3"/>
              <p:cNvSpPr txBox="1"/>
              <p:nvPr/>
            </p:nvSpPr>
            <p:spPr>
              <a:xfrm>
                <a:off x="762120" y="2895480"/>
                <a:ext cx="7804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- kinematicka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holonomna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veza ; reonomna-nestacionarn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8"/>
              <p:cNvSpPr txBox="1"/>
              <p:nvPr/>
            </p:nvSpPr>
            <p:spPr>
              <a:xfrm>
                <a:off x="1770120" y="1943280"/>
                <a:ext cx="3859200" cy="38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z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δ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y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δ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δ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δ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δ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δ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δ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263600" y="1677960"/>
          <a:ext cx="54640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677960"/>
                    <a:ext cx="54640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67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 sistem od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jalnih 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ča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971640" y="1989000"/>
                <a:ext cx="4151160" cy="455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t xml:space="preserve">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IMER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Line 6"/>
          <p:cNvSpPr/>
          <p:nvPr/>
        </p:nvSpPr>
        <p:spPr>
          <a:xfrm>
            <a:off x="5543640" y="4761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580000" y="468936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5543640" y="4687920"/>
            <a:ext cx="576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506920" y="465300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6084720" y="537372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156360" y="544500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076720" y="591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912000" y="4257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611964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5543640" y="5121360"/>
            <a:ext cx="288720" cy="42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6119640" y="5697360"/>
            <a:ext cx="397080" cy="12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651640" y="5192640"/>
            <a:ext cx="43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227640" y="580536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6227640" y="501336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948360" y="558972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5867280" y="4724280"/>
            <a:ext cx="43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6624720" y="533700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5327640" y="4508640"/>
            <a:ext cx="1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5"/>
          <p:cNvSpPr/>
          <p:nvPr/>
        </p:nvSpPr>
        <p:spPr>
          <a:xfrm flipH="1">
            <a:off x="5543640" y="4508640"/>
            <a:ext cx="1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5256360" y="4437000"/>
            <a:ext cx="539640" cy="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utativnost operatora "d “  i  "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0"/>
              <p:cNvSpPr txBox="1"/>
              <p:nvPr/>
            </p:nvSpPr>
            <p:spPr>
              <a:xfrm>
                <a:off x="6372360" y="3897360"/>
                <a:ext cx="415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Freeform 4"/>
          <p:cNvSpPr/>
          <p:nvPr/>
        </p:nvSpPr>
        <p:spPr>
          <a:xfrm>
            <a:off x="5327640" y="2732040"/>
            <a:ext cx="2484360" cy="2352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V="1">
            <a:off x="597708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5977080" y="3753000"/>
            <a:ext cx="790560" cy="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7020000" y="2960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6732720" y="2960280"/>
            <a:ext cx="10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H="1" flipV="1">
            <a:off x="6012000" y="3789360"/>
            <a:ext cx="504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364000" y="1628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anja k-te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ke u sis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AutoShape 11"/>
          <p:cNvCxnSpPr>
            <a:stCxn id="146" idx="1"/>
            <a:endCxn id="140" idx="5"/>
          </p:cNvCxnSpPr>
          <p:nvPr/>
        </p:nvCxnSpPr>
        <p:spPr>
          <a:xfrm flipH="1" flipV="1" rot="10800000">
            <a:off x="5362920" y="1947960"/>
            <a:ext cx="469080" cy="1948320"/>
          </a:xfrm>
          <a:prstGeom prst="curvedConnector5">
            <a:avLst>
              <a:gd name="adj1" fmla="val -56605"/>
              <a:gd name="adj2" fmla="val 49990"/>
              <a:gd name="adj3" fmla="val -566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12"/>
          <p:cNvSpPr/>
          <p:nvPr/>
        </p:nvSpPr>
        <p:spPr>
          <a:xfrm>
            <a:off x="5580000" y="3392640"/>
            <a:ext cx="4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6335640" y="260028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6840360" y="371628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7848720" y="299736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‘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2"/>
              <p:cNvSpPr txBox="1"/>
              <p:nvPr/>
            </p:nvSpPr>
            <p:spPr>
              <a:xfrm>
                <a:off x="7093080" y="2133720"/>
                <a:ext cx="1220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53" name="AutoShape 24"/>
          <p:cNvCxnSpPr>
            <a:endCxn id="154" idx="0"/>
          </p:cNvCxnSpPr>
          <p:nvPr/>
        </p:nvCxnSpPr>
        <p:spPr>
          <a:xfrm flipH="1">
            <a:off x="7308360" y="2349360"/>
            <a:ext cx="1007280" cy="612000"/>
          </a:xfrm>
          <a:prstGeom prst="bentConnector4">
            <a:avLst>
              <a:gd name="adj1" fmla="val -28208"/>
              <a:gd name="adj2" fmla="val 54267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55" name="Object 25"/>
              <p:cNvSpPr txBox="1"/>
              <p:nvPr/>
            </p:nvSpPr>
            <p:spPr>
              <a:xfrm>
                <a:off x="5796000" y="4581360"/>
                <a:ext cx="46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6"/>
              <p:cNvSpPr txBox="1"/>
              <p:nvPr/>
            </p:nvSpPr>
            <p:spPr>
              <a:xfrm>
                <a:off x="6119640" y="2960640"/>
                <a:ext cx="311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Text Box 27"/>
          <p:cNvSpPr/>
          <p:nvPr/>
        </p:nvSpPr>
        <p:spPr>
          <a:xfrm>
            <a:off x="900000" y="2781360"/>
            <a:ext cx="24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8"/>
              <p:cNvSpPr txBox="1"/>
              <p:nvPr/>
            </p:nvSpPr>
            <p:spPr>
              <a:xfrm>
                <a:off x="934920" y="2673360"/>
                <a:ext cx="3816360" cy="39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sSup>
                                  <m:e/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sup>
                            </m:sSubSup>
                          </m:e>
                        </m:acc>
                      </m:e>
                      <m:e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: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Line 29"/>
          <p:cNvSpPr/>
          <p:nvPr/>
        </p:nvSpPr>
        <p:spPr>
          <a:xfrm flipV="1">
            <a:off x="863640" y="5121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3600360" y="501300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"/>
          <p:cNvSpPr/>
          <p:nvPr/>
        </p:nvSpPr>
        <p:spPr>
          <a:xfrm flipH="1">
            <a:off x="1584360" y="5084640"/>
            <a:ext cx="46656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2"/>
          <p:cNvSpPr/>
          <p:nvPr/>
        </p:nvSpPr>
        <p:spPr>
          <a:xfrm flipH="1">
            <a:off x="2879640" y="5049720"/>
            <a:ext cx="43200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3"/>
          <p:cNvSpPr/>
          <p:nvPr/>
        </p:nvSpPr>
        <p:spPr>
          <a:xfrm>
            <a:off x="6985080" y="2960640"/>
            <a:ext cx="32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DINAMIKA KRUTOG TELA I SIST. MATERIJALNIH TAČA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633744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008000" y="2637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oment prvog reda mase tela za tačku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1150920" y="3141720"/>
            <a:ext cx="39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949320" y="3071880"/>
                <a:ext cx="307008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γ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</m:nary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Text Box 40"/>
          <p:cNvSpPr/>
          <p:nvPr/>
        </p:nvSpPr>
        <p:spPr>
          <a:xfrm>
            <a:off x="900000" y="4761000"/>
            <a:ext cx="76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redište mase tela je ona tačka tela za koju je integral (*) jednak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1"/>
          <p:cNvSpPr/>
          <p:nvPr/>
        </p:nvSpPr>
        <p:spPr>
          <a:xfrm>
            <a:off x="1008000" y="522936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2"/>
              <p:cNvSpPr txBox="1"/>
              <p:nvPr/>
            </p:nvSpPr>
            <p:spPr>
              <a:xfrm>
                <a:off x="930240" y="5425920"/>
                <a:ext cx="39657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2" name="Group 45"/>
          <p:cNvGrpSpPr/>
          <p:nvPr/>
        </p:nvGrpSpPr>
        <p:grpSpPr>
          <a:xfrm>
            <a:off x="6443640" y="2133720"/>
            <a:ext cx="2490840" cy="2455560"/>
            <a:chOff x="6443640" y="2133720"/>
            <a:chExt cx="2490840" cy="2455560"/>
          </a:xfrm>
        </p:grpSpPr>
        <p:sp>
          <p:nvSpPr>
            <p:cNvPr id="173" name="Text Box 33"/>
            <p:cNvSpPr/>
            <p:nvPr/>
          </p:nvSpPr>
          <p:spPr>
            <a:xfrm>
              <a:off x="6624720" y="41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4"/>
            <p:cNvSpPr/>
            <p:nvPr/>
          </p:nvSpPr>
          <p:spPr>
            <a:xfrm>
              <a:off x="7524720" y="42210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16"/>
                <p:cNvSpPr txBox="1"/>
                <p:nvPr/>
              </p:nvSpPr>
              <p:spPr>
                <a:xfrm>
                  <a:off x="7164360" y="3105000"/>
                  <a:ext cx="214200" cy="27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r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Line 4"/>
            <p:cNvSpPr/>
            <p:nvPr/>
          </p:nvSpPr>
          <p:spPr>
            <a:xfrm flipH="1">
              <a:off x="6443640" y="3645000"/>
              <a:ext cx="541440" cy="6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6985080" y="3645000"/>
              <a:ext cx="900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V="1">
              <a:off x="6985080" y="2384280"/>
              <a:ext cx="0" cy="12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"/>
            <p:cNvSpPr/>
            <p:nvPr/>
          </p:nvSpPr>
          <p:spPr>
            <a:xfrm>
              <a:off x="7421400" y="2651040"/>
              <a:ext cx="1513080" cy="14684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7020000" y="3645000"/>
              <a:ext cx="1332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 flipV="1">
              <a:off x="7848360" y="3465000"/>
              <a:ext cx="468360" cy="2876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V="1">
              <a:off x="7885080" y="2997360"/>
              <a:ext cx="216000" cy="46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 flipH="1" flipV="1">
              <a:off x="8135640" y="2997000"/>
              <a:ext cx="18108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2"/>
            <p:cNvSpPr/>
            <p:nvPr/>
          </p:nvSpPr>
          <p:spPr>
            <a:xfrm>
              <a:off x="8028000" y="2744640"/>
              <a:ext cx="216000" cy="2160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828036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r-Latn-CS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 flipV="1">
              <a:off x="6985080" y="2997000"/>
              <a:ext cx="1116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Object 18"/>
                <p:cNvSpPr txBox="1"/>
                <p:nvPr/>
              </p:nvSpPr>
              <p:spPr>
                <a:xfrm>
                  <a:off x="7416720" y="3730680"/>
                  <a:ext cx="246240" cy="32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Object 21"/>
                <p:cNvSpPr txBox="1"/>
                <p:nvPr/>
              </p:nvSpPr>
              <p:spPr>
                <a:xfrm>
                  <a:off x="8280360" y="3105000"/>
                  <a:ext cx="26532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ρ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9" name="Text Box 22"/>
            <p:cNvSpPr/>
            <p:nvPr/>
          </p:nvSpPr>
          <p:spPr>
            <a:xfrm>
              <a:off x="7596360" y="3284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3"/>
                <p:cNvSpPr txBox="1"/>
                <p:nvPr/>
              </p:nvSpPr>
              <p:spPr>
                <a:xfrm>
                  <a:off x="7236000" y="2492280"/>
                  <a:ext cx="30924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p>
                          <m:r>
                            <m:t xml:space="preserve">'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Object 24"/>
                <p:cNvSpPr txBox="1"/>
                <p:nvPr/>
              </p:nvSpPr>
              <p:spPr>
                <a:xfrm>
                  <a:off x="8101080" y="4113360"/>
                  <a:ext cx="539640" cy="39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cxnSp>
          <p:nvCxnSpPr>
            <p:cNvPr id="192" name="AutoShape 26"/>
            <p:cNvCxnSpPr>
              <a:endCxn id="193" idx="0"/>
            </p:cNvCxnSpPr>
            <p:nvPr/>
          </p:nvCxnSpPr>
          <p:spPr>
            <a:xfrm flipH="1" rot="10800000">
              <a:off x="8100720" y="3609360"/>
              <a:ext cx="2160" cy="702360"/>
            </a:xfrm>
            <a:prstGeom prst="bentConnector4">
              <a:avLst>
                <a:gd name="adj1" fmla="val -5600000"/>
                <a:gd name="adj2" fmla="val 67846"/>
              </a:avLst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</p:cxnSp>
        <p:sp>
          <p:nvSpPr>
            <p:cNvPr id="194" name="Line 28"/>
            <p:cNvSpPr/>
            <p:nvPr/>
          </p:nvSpPr>
          <p:spPr>
            <a:xfrm flipH="1" flipV="1">
              <a:off x="8101080" y="3608280"/>
              <a:ext cx="179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" name="AutoShape 31"/>
            <p:cNvCxnSpPr>
              <a:endCxn id="196" idx="0"/>
            </p:cNvCxnSpPr>
            <p:nvPr/>
          </p:nvCxnSpPr>
          <p:spPr>
            <a:xfrm>
              <a:off x="7559640" y="2673000"/>
              <a:ext cx="434160" cy="57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7" name="Line 32"/>
            <p:cNvSpPr/>
            <p:nvPr/>
          </p:nvSpPr>
          <p:spPr>
            <a:xfrm flipV="1">
              <a:off x="7885080" y="3249360"/>
              <a:ext cx="1080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5"/>
            <p:cNvSpPr/>
            <p:nvPr/>
          </p:nvSpPr>
          <p:spPr>
            <a:xfrm>
              <a:off x="7128000" y="216864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8317080" y="2744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4"/>
            <p:cNvSpPr/>
            <p:nvPr/>
          </p:nvSpPr>
          <p:spPr>
            <a:xfrm>
              <a:off x="8352000" y="3573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REDIŠTE MASE TELA I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6158160" cy="37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REDIŠTE SISTEMA MAT. TAČ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900000" y="22766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8"/>
              <p:cNvSpPr txBox="1"/>
              <p:nvPr/>
            </p:nvSpPr>
            <p:spPr>
              <a:xfrm>
                <a:off x="934920" y="2276640"/>
                <a:ext cx="4465800" cy="19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40"/>
          <p:cNvSpPr/>
          <p:nvPr/>
        </p:nvSpPr>
        <p:spPr>
          <a:xfrm>
            <a:off x="863640" y="42577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 definiciji moment mase prvog reda za središte mase jednak je nu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1"/>
          <p:cNvSpPr/>
          <p:nvPr/>
        </p:nvSpPr>
        <p:spPr>
          <a:xfrm>
            <a:off x="1008000" y="533700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2"/>
              <p:cNvSpPr txBox="1"/>
              <p:nvPr/>
            </p:nvSpPr>
            <p:spPr>
              <a:xfrm>
                <a:off x="826920" y="4976640"/>
                <a:ext cx="47898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  <m:r>
                          <m:t xml:space="preserve">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  <m:r>
                              <m:t xml:space="preserve">;</m:t>
                            </m:r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15"/>
          <p:cNvSpPr/>
          <p:nvPr/>
        </p:nvSpPr>
        <p:spPr>
          <a:xfrm>
            <a:off x="8101080" y="486900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46"/>
          <p:cNvGrpSpPr/>
          <p:nvPr/>
        </p:nvGrpSpPr>
        <p:grpSpPr>
          <a:xfrm>
            <a:off x="6264360" y="2457360"/>
            <a:ext cx="2663640" cy="3103560"/>
            <a:chOff x="6264360" y="2457360"/>
            <a:chExt cx="2663640" cy="3103560"/>
          </a:xfrm>
        </p:grpSpPr>
        <p:sp>
          <p:nvSpPr>
            <p:cNvPr id="210" name="Text Box 18"/>
            <p:cNvSpPr/>
            <p:nvPr/>
          </p:nvSpPr>
          <p:spPr>
            <a:xfrm>
              <a:off x="8064360" y="342900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20"/>
                <p:cNvSpPr txBox="1"/>
                <p:nvPr/>
              </p:nvSpPr>
              <p:spPr>
                <a:xfrm>
                  <a:off x="8064360" y="4292640"/>
                  <a:ext cx="29700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2" name="Line 4"/>
            <p:cNvSpPr/>
            <p:nvPr/>
          </p:nvSpPr>
          <p:spPr>
            <a:xfrm flipH="1">
              <a:off x="6264360" y="4689360"/>
              <a:ext cx="68400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6948360" y="4689360"/>
              <a:ext cx="68292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6948360" y="3284640"/>
              <a:ext cx="0" cy="14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8064360" y="472428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9"/>
            <p:cNvSpPr/>
            <p:nvPr/>
          </p:nvSpPr>
          <p:spPr>
            <a:xfrm>
              <a:off x="7343640" y="3789360"/>
              <a:ext cx="17964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0"/>
            <p:cNvSpPr/>
            <p:nvPr/>
          </p:nvSpPr>
          <p:spPr>
            <a:xfrm>
              <a:off x="8064360" y="2924280"/>
              <a:ext cx="179640" cy="18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1"/>
            <p:cNvSpPr/>
            <p:nvPr/>
          </p:nvSpPr>
          <p:spPr>
            <a:xfrm>
              <a:off x="8496360" y="3933720"/>
              <a:ext cx="179280" cy="1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993080" y="4221000"/>
              <a:ext cx="108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 flipV="1">
              <a:off x="7993080" y="4076280"/>
              <a:ext cx="503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 flipH="1" flipV="1">
              <a:off x="7488360" y="3933720"/>
              <a:ext cx="50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6"/>
            <p:cNvSpPr/>
            <p:nvPr/>
          </p:nvSpPr>
          <p:spPr>
            <a:xfrm>
              <a:off x="7775640" y="245736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7056360" y="3357720"/>
              <a:ext cx="86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,m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7885080" y="3753000"/>
              <a:ext cx="3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Object 22"/>
                <p:cNvSpPr txBox="1"/>
                <p:nvPr/>
              </p:nvSpPr>
              <p:spPr>
                <a:xfrm>
                  <a:off x="7667640" y="3753000"/>
                  <a:ext cx="271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Line 24"/>
            <p:cNvSpPr/>
            <p:nvPr/>
          </p:nvSpPr>
          <p:spPr>
            <a:xfrm>
              <a:off x="6948360" y="4689360"/>
              <a:ext cx="111600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5"/>
            <p:cNvSpPr/>
            <p:nvPr/>
          </p:nvSpPr>
          <p:spPr>
            <a:xfrm flipV="1">
              <a:off x="6985080" y="4220640"/>
              <a:ext cx="100800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Object 26"/>
                <p:cNvSpPr txBox="1"/>
                <p:nvPr/>
              </p:nvSpPr>
              <p:spPr>
                <a:xfrm>
                  <a:off x="7559640" y="4761000"/>
                  <a:ext cx="190440" cy="32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Object 27"/>
                <p:cNvSpPr txBox="1"/>
                <p:nvPr/>
              </p:nvSpPr>
              <p:spPr>
                <a:xfrm>
                  <a:off x="7272360" y="4149720"/>
                  <a:ext cx="2206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Line 28"/>
            <p:cNvSpPr/>
            <p:nvPr/>
          </p:nvSpPr>
          <p:spPr>
            <a:xfrm>
              <a:off x="7416720" y="3897360"/>
              <a:ext cx="75564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204040" y="4064040"/>
              <a:ext cx="355680" cy="736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 flipV="1">
              <a:off x="7416720" y="2997360"/>
              <a:ext cx="68436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8136000" y="2997360"/>
              <a:ext cx="43164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2"/>
            <p:cNvSpPr/>
            <p:nvPr/>
          </p:nvSpPr>
          <p:spPr>
            <a:xfrm>
              <a:off x="6443640" y="5192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3"/>
            <p:cNvSpPr/>
            <p:nvPr/>
          </p:nvSpPr>
          <p:spPr>
            <a:xfrm>
              <a:off x="7667640" y="515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4"/>
            <p:cNvSpPr/>
            <p:nvPr/>
          </p:nvSpPr>
          <p:spPr>
            <a:xfrm>
              <a:off x="7056360" y="296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Object 35"/>
                <p:cNvSpPr txBox="1"/>
                <p:nvPr/>
              </p:nvSpPr>
              <p:spPr>
                <a:xfrm>
                  <a:off x="8126280" y="3789360"/>
                  <a:ext cx="317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ρ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8" name="Line 43"/>
            <p:cNvSpPr/>
            <p:nvPr/>
          </p:nvSpPr>
          <p:spPr>
            <a:xfrm flipV="1">
              <a:off x="6948360" y="3968640"/>
              <a:ext cx="43200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Object 44"/>
                <p:cNvSpPr txBox="1"/>
                <p:nvPr/>
              </p:nvSpPr>
              <p:spPr>
                <a:xfrm>
                  <a:off x="6994440" y="3924360"/>
                  <a:ext cx="22860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781200" y="1484280"/>
          <a:ext cx="54212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484280"/>
                    <a:ext cx="54212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6"/>
          <p:cNvSpPr/>
          <p:nvPr/>
        </p:nvSpPr>
        <p:spPr>
          <a:xfrm>
            <a:off x="3048120" y="4495680"/>
            <a:ext cx="27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β=β(t)- si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taje nestacion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6084720" y="1484280"/>
          <a:ext cx="277812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1484280"/>
                    <a:ext cx="27781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685800" y="1471680"/>
                <a:ext cx="61722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- veza je neintegrabil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a je neholonomna-KINEMATICK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Text Box 4"/>
          <p:cNvSpPr/>
          <p:nvPr/>
        </p:nvSpPr>
        <p:spPr>
          <a:xfrm>
            <a:off x="684360" y="3068640"/>
            <a:ext cx="8229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pruočavamo samo holonomne ve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ka je sistem od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terijalnih tačaka vezan sa “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holonomnih veza datih jednačina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7"/>
          <p:cNvGraphicFramePr/>
          <p:nvPr/>
        </p:nvGraphicFramePr>
        <p:xfrm>
          <a:off x="6227640" y="1916280"/>
          <a:ext cx="2232000" cy="16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916280"/>
                    <a:ext cx="2232000" cy="16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22"/>
          <p:cNvGraphicFramePr/>
          <p:nvPr/>
        </p:nvGraphicFramePr>
        <p:xfrm>
          <a:off x="1030320" y="4487760"/>
          <a:ext cx="66769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448776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52280" y="2438280"/>
                <a:ext cx="8763120" cy="25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  <m:e/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acc>
                                    <m:accPr>
                                      <m:chr m:val="˙"/>
                                    </m:accPr>
                                    <m:e/>
                                  </m:acc>
                                </m:e>
                              </m:acc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⋅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je broj linearno nezavisnih vez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6"/>
          <p:cNvSpPr/>
          <p:nvPr/>
        </p:nvSpPr>
        <p:spPr>
          <a:xfrm>
            <a:off x="609480" y="16002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 gornjih jednačina je nezavistan, ako je rang Jakobijeve matrice jednak r, odnos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914400" y="52578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=3N-r – je broj stepeni slobode kretanja u tom slučaj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914400" y="5638680"/>
                <a:ext cx="1981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groupChr>
                          </m:e>
                          <m:lim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avisnih</m:t>
                            </m:r>
                          </m:lim>
                        </m:limLow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ezavisnih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914400" y="22096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zavisno promenljive generalisane koordin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914400" y="1600200"/>
                <a:ext cx="31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914400" y="2590920"/>
                <a:ext cx="609912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ξ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09480" y="1600200"/>
                <a:ext cx="4496040" cy="41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tg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  <m:e/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/>
                                      </m:acc>
                                    </m:e>
                                  </m:acc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  <m:r>
                                            <m:t xml:space="preserve">+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⋅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ξ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6095880" y="4876920"/>
                <a:ext cx="24386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9"/>
          <p:cNvGraphicFramePr/>
          <p:nvPr/>
        </p:nvGraphicFramePr>
        <p:xfrm>
          <a:off x="5219640" y="1557360"/>
          <a:ext cx="331164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57360"/>
                    <a:ext cx="331164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1362240" y="1979640"/>
          <a:ext cx="7102440" cy="42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1979640"/>
                    <a:ext cx="7102440" cy="42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"/>
          <p:cNvSpPr/>
          <p:nvPr/>
        </p:nvSpPr>
        <p:spPr>
          <a:xfrm>
            <a:off x="7315200" y="594360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UBRZ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1393920" y="2138400"/>
          <a:ext cx="55926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2138400"/>
                    <a:ext cx="5592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4"/>
          <p:cNvSpPr/>
          <p:nvPr/>
        </p:nvSpPr>
        <p:spPr>
          <a:xfrm>
            <a:off x="838080" y="14479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stacionarni (skleronoman)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IRTUELNA POME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rtuelna pomeranja su zamišljena beskonačno mala pomeranja dopuštena vez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x=x(t);y=y(t);z=z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f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300720" y="3789360"/>
            <a:ext cx="12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651640" y="414972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 flipV="1">
            <a:off x="6300720" y="414936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 flipH="1">
            <a:off x="5724000" y="5516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6300720" y="5516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5"/>
          <p:cNvSpPr/>
          <p:nvPr/>
        </p:nvSpPr>
        <p:spPr>
          <a:xfrm>
            <a:off x="6645240" y="4102200"/>
            <a:ext cx="1627200" cy="1092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7"/>
          <p:cNvSpPr/>
          <p:nvPr/>
        </p:nvSpPr>
        <p:spPr>
          <a:xfrm>
            <a:off x="7162920" y="4305240"/>
            <a:ext cx="711000" cy="165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8"/>
          <p:cNvSpPr/>
          <p:nvPr/>
        </p:nvSpPr>
        <p:spPr>
          <a:xfrm>
            <a:off x="7885080" y="44370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9"/>
          <p:cNvSpPr/>
          <p:nvPr/>
        </p:nvSpPr>
        <p:spPr>
          <a:xfrm>
            <a:off x="7380360" y="4221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7451640" y="4292280"/>
            <a:ext cx="4334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95672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7308720" y="3860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7380360" y="4869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f(x,y,z,t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5"/>
          <p:cNvCxnSpPr>
            <a:stCxn id="97" idx="21"/>
            <a:endCxn id="104" idx="2"/>
          </p:cNvCxnSpPr>
          <p:nvPr/>
        </p:nvCxnSpPr>
        <p:spPr>
          <a:xfrm flipH="1" flipV="1" rot="10800000">
            <a:off x="7048080" y="4634280"/>
            <a:ext cx="1053360" cy="600840"/>
          </a:xfrm>
          <a:prstGeom prst="curvedConnector5">
            <a:avLst>
              <a:gd name="adj1" fmla="val -60000"/>
              <a:gd name="adj2" fmla="val 69004"/>
              <a:gd name="adj3" fmla="val -6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Text Box 26"/>
          <p:cNvSpPr/>
          <p:nvPr/>
        </p:nvSpPr>
        <p:spPr>
          <a:xfrm>
            <a:off x="565164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8331120" y="53737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37236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1-06T07:53:43Z</dcterms:modified>
  <cp:revision>404</cp:revision>
  <dc:subject/>
  <dc:title>ТЕХНИЧКА МЕХАНИКА 2</dc:title>
</cp:coreProperties>
</file>