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82B9-A68B-41F6-B969-4579CEB4615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633D-3742-4A66-AE37-574566BE653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3508-62F8-49E0-A510-2174BFCA0415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4F5F-EFE2-42B0-B379-48E2135B98F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9A26-1235-44EA-8C9B-B16338B342E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153F-17DC-4F68-B652-FDAC7050B13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9A37-36A5-4DAD-8648-13B01C06044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F785-B7ED-49AD-823F-1552FACC4B64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30FE-7D35-4CB9-94DF-80FD06857DF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8987-5BCB-4375-90CE-F988368BDA1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72FD-2C80-440E-907A-3F163BBF8D2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FF15-414C-4A2D-A74F-7E50A3B1ABE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171B-B30B-42BD-9B98-9402B8A869D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5402-229F-41C3-8993-2D55F39F8B3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0E4F-7489-49C8-AA56-A15453C744F6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5256-FCAC-4798-BAF8-6A8A0A02C27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59BC-C8AC-410A-966A-59E32CC3D5E3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BA8A-DD1D-4B2E-A099-4B9B8824020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D184-F4E6-428A-BC59-C38F074F882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FC82-B8FB-42B4-B48D-192DB988749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FD0-0099-43A1-8444-1963BFCA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C0A4-F222-44E1-8B8A-8DB9F3EA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41E-3F16-46AB-9725-FD60F312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534-17AE-411B-8A88-7B47E3CC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A02-9FD0-4618-B936-07D5E9AF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2A2-F23C-4D7C-8E95-2003098E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BDC-C27B-44FE-B59C-427EB047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017-6369-4A0C-96CF-B0FBDB4C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206-80C6-45AF-A00F-1AFDBDB9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2E1D-CB45-432E-AFD2-F087C461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C9C3-D047-447F-A3F7-EE9504D3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A28-8814-43FA-A558-0149560A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420C-7891-4715-A580-752EC4747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JUTNOVI AKSIOMI MEHAN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SIO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INER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ako telo ostaje u stanju mirovanja ili jednolikog pravolinijskog kret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 dok delovanjem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e ne bude prinuđeno da to stanje promen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I NJUTNOV 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mena količine ktretanja tela (materijalne tačke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porcionalna je sili koja deluje na telo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vrši se u pravc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mer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ovanja sil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izvod mase materijalne tačke i njenog ubrzan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dnak 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 intenzitet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vcu i smer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ili koja deluje na materijalnu tačku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4"/>
          <p:cNvGraphicFramePr/>
          <p:nvPr/>
        </p:nvGraphicFramePr>
        <p:xfrm>
          <a:off x="1187280" y="4941720"/>
          <a:ext cx="3745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941720"/>
                    <a:ext cx="3745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930240" y="2133720"/>
                <a:ext cx="244800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nary>
                      </m:e>
                      <m:e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4"/>
          <p:cNvSpPr/>
          <p:nvPr/>
        </p:nvSpPr>
        <p:spPr>
          <a:xfrm>
            <a:off x="3059280" y="2492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Impulsni mome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PRIMER-Kružno kretanje pod uticajem sile F=F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539640" y="1844640"/>
                <a:ext cx="5183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 ;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5"/>
              <p:cNvSpPr txBox="1"/>
              <p:nvPr/>
            </p:nvSpPr>
            <p:spPr>
              <a:xfrm>
                <a:off x="539640" y="2639880"/>
                <a:ext cx="5183280" cy="42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r>
                              <m:t xml:space="preserve">ρ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mR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ϕ</m:t>
                            </m:r>
                          </m:e>
                        </m:acc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za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-  </m:t>
                    </m:r>
                    <m:sSup>
                      <m:e>
                        <m:r>
                          <m:t xml:space="preserve">m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; 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ϕ</m:t>
                        </m:r>
                      </m:e>
                    </m:acc>
                    <m:r>
                      <m:t xml:space="preserve">=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16"/>
          <p:cNvSpPr/>
          <p:nvPr/>
        </p:nvSpPr>
        <p:spPr>
          <a:xfrm>
            <a:off x="2987640" y="5445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četni usl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4500720" y="59500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ona brz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2"/>
          <p:cNvGraphicFramePr/>
          <p:nvPr/>
        </p:nvGraphicFramePr>
        <p:xfrm>
          <a:off x="5148360" y="2205000"/>
          <a:ext cx="360972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205000"/>
                    <a:ext cx="360972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7"/>
              <p:cNvSpPr txBox="1"/>
              <p:nvPr/>
            </p:nvSpPr>
            <p:spPr>
              <a:xfrm>
                <a:off x="684360" y="1601640"/>
                <a:ext cx="277812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/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</m:nary>
                          </m:e>
                        </m:nary>
                      </m:e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3" name="Object 16"/>
          <p:cNvGraphicFramePr/>
          <p:nvPr/>
        </p:nvGraphicFramePr>
        <p:xfrm>
          <a:off x="5435640" y="1628640"/>
          <a:ext cx="302580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628640"/>
                    <a:ext cx="302580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22"/>
          <p:cNvGraphicFramePr/>
          <p:nvPr/>
        </p:nvGraphicFramePr>
        <p:xfrm>
          <a:off x="6372360" y="4437000"/>
          <a:ext cx="1871640" cy="17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437000"/>
                    <a:ext cx="18716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Text Box 8"/>
          <p:cNvSpPr/>
          <p:nvPr/>
        </p:nvSpPr>
        <p:spPr>
          <a:xfrm>
            <a:off x="2411280" y="6237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Zakon o promeni kinetičke energ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700360" y="3213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Elementarni rad s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6"/>
              <p:cNvSpPr txBox="1"/>
              <p:nvPr/>
            </p:nvSpPr>
            <p:spPr>
              <a:xfrm>
                <a:off x="4067280" y="4941720"/>
                <a:ext cx="23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INETIČKE ENERGIJE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3"/>
          <p:cNvGraphicFramePr/>
          <p:nvPr/>
        </p:nvGraphicFramePr>
        <p:xfrm>
          <a:off x="826920" y="1701720"/>
          <a:ext cx="7704360" cy="33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1720"/>
                    <a:ext cx="7704360" cy="33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5"/>
          <p:cNvSpPr/>
          <p:nvPr/>
        </p:nvSpPr>
        <p:spPr>
          <a:xfrm>
            <a:off x="2124000" y="198900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Kinetička energi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6"/>
          <p:cNvGraphicFramePr/>
          <p:nvPr/>
        </p:nvGraphicFramePr>
        <p:xfrm>
          <a:off x="3059280" y="1488960"/>
          <a:ext cx="2449440" cy="21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88960"/>
                    <a:ext cx="244944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Object 13"/>
              <p:cNvSpPr txBox="1"/>
              <p:nvPr/>
            </p:nvSpPr>
            <p:spPr>
              <a:xfrm>
                <a:off x="1187280" y="3860640"/>
                <a:ext cx="316872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oul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1 J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8" name="Object 15"/>
          <p:cNvGraphicFramePr/>
          <p:nvPr/>
        </p:nvGraphicFramePr>
        <p:xfrm>
          <a:off x="4572000" y="2205000"/>
          <a:ext cx="4292640" cy="434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5000"/>
                    <a:ext cx="429264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Object 18"/>
              <p:cNvSpPr txBox="1"/>
              <p:nvPr/>
            </p:nvSpPr>
            <p:spPr>
              <a:xfrm>
                <a:off x="1187280" y="1773360"/>
                <a:ext cx="1513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-m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826920" y="2565360"/>
                <a:ext cx="7704360" cy="30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;</m:t>
                            </m:r>
                            <m:r>
                              <m:t xml:space="preserve">y</m:t>
                            </m:r>
                            <m:r>
                              <m:t xml:space="preserve">;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d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Z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x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y {</m:t>
                        </m:r>
                        <m:r>
                          <m:t xml:space="preserve">j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d>
                    <m:r>
                      <m:rPr>
                        <m:lit/>
                        <m:nor/>
                      </m:rPr>
                      <m:t xml:space="preserve">   ako je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d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Yd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Zdz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y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Zdz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Text Box 4"/>
          <p:cNvSpPr/>
          <p:nvPr/>
        </p:nvSpPr>
        <p:spPr>
          <a:xfrm>
            <a:off x="75564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3"/>
              <p:cNvSpPr txBox="1"/>
              <p:nvPr/>
            </p:nvSpPr>
            <p:spPr>
              <a:xfrm>
                <a:off x="755640" y="3573360"/>
                <a:ext cx="7201080" cy="31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Yd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Text Box 4"/>
          <p:cNvSpPr/>
          <p:nvPr/>
        </p:nvSpPr>
        <p:spPr>
          <a:xfrm>
            <a:off x="755640" y="1700280"/>
            <a:ext cx="8137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Dekartovim koordina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rad sile ne zavisi od oblika putanje po kojoj se vrši kretanje već samo zavisi od početnog i krajnjeg položaja, tada se takva sila naziva konzervativnom silom. Rad sile u tom slučaju predstavlja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totalni diferencijal skalarne funkcij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oloža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755640" y="2637000"/>
                <a:ext cx="489744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</m:e>
                      <m:e/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Text Box 4"/>
          <p:cNvSpPr/>
          <p:nvPr/>
        </p:nvSpPr>
        <p:spPr>
          <a:xfrm>
            <a:off x="755640" y="170028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a bi sila bila konzervativna koordinate vektora sile moraju biti izražene preko odgovarajućih izvoda jedne iste funkcije polož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627280" y="40766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tencijal polja sile (potencijalja energija m. tač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55640" y="3500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de j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826920" y="2311560"/>
          <a:ext cx="561672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11560"/>
                    <a:ext cx="56167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4"/>
          <p:cNvSpPr/>
          <p:nvPr/>
        </p:nvSpPr>
        <p:spPr>
          <a:xfrm>
            <a:off x="755640" y="170028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 poljem sile podrazumevamo prostor u kome deluje si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55640" y="350028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 matematike, ako je f=f(x,y,z) – skalarna funkcija, tada je gradijent funkcije 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826920" y="4365720"/>
                <a:ext cx="39592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rad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5445000"/>
            <a:ext cx="68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se 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ka kreće u polju konzervativne sile, onda se ulaže sila na račun potencij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755640" y="1700280"/>
                <a:ext cx="6624720" cy="34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;   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      III NJUTNOV ZAKON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AKCIJE I REAKCIJ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zajamni mehanički uticaji dvaju tela ispoljavaju se silama koje imaju isti intenzitet i pravac, a deluju u suprotnim smerov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IV NJUTNOV ZAKON (ZAKON O SLAGAN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na telo (materijalnu tačku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eluju istovrameno dve sile, tada se telo (tačka) kreće opisujući dijagonalu paralelograma konstruisanog nad tim silama kao vektor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KONZERVATIVNE SILE.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DRŽANJA ENERGI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dT=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→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-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Zakon o održanju energ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i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=T+U=con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pitni prvi zadtatak ISPUS21okt04.d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6"/>
              <p:cNvSpPr txBox="1"/>
              <p:nvPr/>
            </p:nvSpPr>
            <p:spPr>
              <a:xfrm>
                <a:off x="826920" y="4437000"/>
                <a:ext cx="44643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/ 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  ;  m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  ;  m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;  </m:t>
                    </m:r>
                    <m:r>
                      <m:t xml:space="preserve">m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Y  ;  m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  -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7"/>
          <p:cNvSpPr/>
          <p:nvPr/>
        </p:nvSpPr>
        <p:spPr>
          <a:xfrm>
            <a:off x="611280" y="2997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Njutnov zakon važi u odnosu na inercijalni koordinatni si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403280" y="249228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zultanta svih sila koje deluju na materijalnu tač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DEKARTOV KOORDINATNI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4788000" y="551664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D.J. Kretanja materijalne tač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9"/>
              <p:cNvSpPr txBox="1"/>
              <p:nvPr/>
            </p:nvSpPr>
            <p:spPr>
              <a:xfrm>
                <a:off x="971640" y="1413000"/>
                <a:ext cx="141264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DINAMIKA ME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500040" y="2143080"/>
          <a:ext cx="302256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302256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3635280" y="551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Početni u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39640" y="1268280"/>
            <a:ext cx="806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RODNE KOORDI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284720" y="2060640"/>
          <a:ext cx="410364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060640"/>
                    <a:ext cx="410364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468360" y="1773360"/>
            <a:ext cx="806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PRIMER: Matematičko klat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684360" y="1700280"/>
                <a:ext cx="5327640" cy="30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/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nst</m:t>
                            </m:r>
                          </m:e>
                        </m:d>
                        <m:r>
                          <m:t xml:space="preserve">⇒</m:t>
                        </m:r>
                        <m:r>
                          <m:t xml:space="preserve">m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v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Text Box 7"/>
          <p:cNvSpPr/>
          <p:nvPr/>
        </p:nvSpPr>
        <p:spPr>
          <a:xfrm>
            <a:off x="684360" y="47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je F=const ili F=F(t), tada se gornji integral može izračun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900000" y="1754280"/>
          <a:ext cx="6624720" cy="16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54280"/>
                    <a:ext cx="6624720" cy="16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900000" y="3571920"/>
          <a:ext cx="6939000" cy="19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71920"/>
                    <a:ext cx="6939000" cy="19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2" descr="2"/>
          <p:cNvPicPr/>
          <p:nvPr/>
        </p:nvPicPr>
        <p:blipFill>
          <a:blip r:embed="rId1"/>
          <a:srcRect l="18565" t="24289" r="3795" b="19184"/>
          <a:stretch/>
        </p:blipFill>
        <p:spPr>
          <a:xfrm>
            <a:off x="3492360" y="4076640"/>
            <a:ext cx="5435640" cy="2479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826920" y="1557360"/>
                <a:ext cx="1368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826920" y="2133720"/>
                <a:ext cx="3657600" cy="457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;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⇒</m:t>
                        </m:r>
                      </m:e>
                      <m:e>
                        <m:r>
                          <m:t xml:space="preserve">Δt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Δ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L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820800" y="1989000"/>
                <a:ext cx="3849480" cy="410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den>
                        </m:f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×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8"/>
          <p:cNvSpPr/>
          <p:nvPr/>
        </p:nvSpPr>
        <p:spPr>
          <a:xfrm>
            <a:off x="3492360" y="4653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diferencijal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851280" y="5445000"/>
            <a:ext cx="48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količine kretanja (inercijalni mo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10"/>
          <p:cNvGraphicFramePr/>
          <p:nvPr/>
        </p:nvGraphicFramePr>
        <p:xfrm>
          <a:off x="4788000" y="1413000"/>
          <a:ext cx="35272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13000"/>
                    <a:ext cx="35272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ZAKON O PROMENI MOMENTA KOLIČINE KRETANJA MATERIJALNE TAČ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3"/>
              <p:cNvSpPr txBox="1"/>
              <p:nvPr/>
            </p:nvSpPr>
            <p:spPr>
              <a:xfrm>
                <a:off x="468360" y="2060640"/>
                <a:ext cx="3773520" cy="42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sSub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bSup>
                          </m:sub>
                          <m:sup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D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sup>
                          <m:e>
                            <m:r>
                              <m:t xml:space="preserve">d</m:t>
                            </m:r>
                          </m:e>
                        </m:nary>
                        <m:acc>
                          <m:accPr>
                            <m:chr m:val="⃗"/>
                          </m:accPr>
                          <m:e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  {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-</m:t>
                        </m:r>
                      </m:e>
                    </m:eqAr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-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4284720" y="42926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kon o promeni momenta količine kretanja u konačnom obl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547640" y="580536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ment je funkcija vre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10-02T07:51:02Z</dcterms:modified>
  <cp:revision>145</cp:revision>
  <dc:subject/>
  <dc:title>ТЕХНИЧКА МЕХАНИКА 2</dc:title>
</cp:coreProperties>
</file>