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D2DD-306A-4C08-B51C-6492275A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013-278A-4766-8321-9F7094CB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400-39A1-4C3D-B907-30C80D96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69A-9541-4A6F-9D74-A62AA21D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3E8A-3489-42E2-B980-AA57435C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9F4B-11C2-4DA2-BA5E-D85BD87C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C79C-1018-4777-8ACD-9971EE81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7A7F-992D-4069-B004-FDA8C903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6698-95B6-4CDE-ACF6-19831603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E828-166F-4C3A-AE79-B95CF410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1623-5A08-4813-896C-ED93D236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2D3B-EF18-40D3-BA08-04094D7D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17A3-C9F1-457F-87B6-04FE9816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2F47-0651-4D7D-A774-FD8A1E59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551D-03A2-4C95-9950-FBE9C206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C94D-168E-4FAD-91B0-7BADAB89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455B-F3E9-4B2A-B8C8-E53877F6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BC64-769F-4717-83E7-C42F1B3A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E52A-28FF-462E-B756-C085A222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4CB-0107-4DE7-A4CD-3160CFC5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11F-38F7-410F-A159-B8C7CC3E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F471-1037-47BC-956A-B3881084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9276-1AB4-41BC-A127-238F3DB7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381-C7B8-4746-AF1A-5DF9FF5A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9B3C-DD16-437C-9BD1-4DB1783CA26F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FCE6-3F5C-4818-A8AE-E47AA2611AB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3463-AD05-49F2-A99B-A64106E40B94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F89A-6FC2-47A2-AA9C-1A4C4F9E2E9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hotovault.com/Link/People/Abstracts/Closeups/show.asp?tg=PACVolume01/PACV01P05_12B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FC5D-BA03-46FC-A0E4-B895D731D1CC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2286000"/>
            <a:ext cx="7623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INTERPRETACIJE POKRETA O</a:t>
            </a: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ČIMA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http://www.photovault.com/Link/People/Abstracts/Closeups/PACVolume01/PACV01P05_12B.t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285920"/>
            <a:ext cx="866880" cy="571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AACB-9823-47FF-A9B9-9B812A807A1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0718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zdvaja usne kada vam se pogledi susretnu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otkriva da je zadovoljan onim što vid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http://www.photovault.com/Link/People/Abstracts/Closeups/PACVolume01/PACV01P15_12.2677.tn.jpg"/>
          <p:cNvPicPr/>
          <p:nvPr/>
        </p:nvPicPr>
        <p:blipFill>
          <a:blip r:embed="rId1"/>
          <a:stretch/>
        </p:blipFill>
        <p:spPr>
          <a:xfrm>
            <a:off x="785880" y="3500280"/>
            <a:ext cx="2571840" cy="150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http://www.fotosearch.com/bthumb/RBL/RBL204/b02432.jpg"/>
          <p:cNvPicPr/>
          <p:nvPr/>
        </p:nvPicPr>
        <p:blipFill>
          <a:blip r:embed="rId2"/>
          <a:stretch/>
        </p:blipFill>
        <p:spPr>
          <a:xfrm>
            <a:off x="4786200" y="3286080"/>
            <a:ext cx="321480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CA50-309B-4037-A347-CA4C00831E1D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POKRETI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095640" cy="1150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047760" cy="1209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Eyes Upward Left"/>
          <p:cNvPicPr/>
          <p:nvPr/>
        </p:nvPicPr>
        <p:blipFill>
          <a:blip r:embed="rId3"/>
          <a:stretch/>
        </p:blipFill>
        <p:spPr>
          <a:xfrm>
            <a:off x="857160" y="3786120"/>
            <a:ext cx="3048120" cy="1209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s Up Right"/>
          <p:cNvPicPr/>
          <p:nvPr/>
        </p:nvPicPr>
        <p:blipFill>
          <a:blip r:embed="rId4"/>
          <a:stretch/>
        </p:blipFill>
        <p:spPr>
          <a:xfrm>
            <a:off x="5143680" y="3714840"/>
            <a:ext cx="3047760" cy="12096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5143680" y="2714760"/>
            <a:ext cx="350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pravo go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značava dosadu,sarkazam i slično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785880" y="264312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onstantan pogled-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načava da je osoba  zainteresovana za razgov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5214960" y="492912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gore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označava da osoba pokušava da se seti ranije zapamćene sl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857160" y="5143680"/>
            <a:ext cx="31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gore lev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značava da osoba “konstruiše” sliku u svojoj gla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C9A8-275C-4D2A-B141-3D1A973FDBA4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POKRETI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4" descr="Eyes Right"/>
          <p:cNvPicPr/>
          <p:nvPr/>
        </p:nvPicPr>
        <p:blipFill>
          <a:blip r:embed="rId1"/>
          <a:stretch/>
        </p:blipFill>
        <p:spPr>
          <a:xfrm>
            <a:off x="428760" y="714240"/>
            <a:ext cx="3047760" cy="120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Eyes Left"/>
          <p:cNvPicPr/>
          <p:nvPr/>
        </p:nvPicPr>
        <p:blipFill>
          <a:blip r:embed="rId2"/>
          <a:stretch/>
        </p:blipFill>
        <p:spPr>
          <a:xfrm>
            <a:off x="5643720" y="714240"/>
            <a:ext cx="3047760" cy="1209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Eyes Down Right"/>
          <p:cNvPicPr/>
          <p:nvPr/>
        </p:nvPicPr>
        <p:blipFill>
          <a:blip r:embed="rId3"/>
          <a:stretch/>
        </p:blipFill>
        <p:spPr>
          <a:xfrm>
            <a:off x="428760" y="3929040"/>
            <a:ext cx="3047760" cy="1209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Eyes Down Left"/>
          <p:cNvPicPr/>
          <p:nvPr/>
        </p:nvPicPr>
        <p:blipFill>
          <a:blip r:embed="rId4"/>
          <a:stretch/>
        </p:blipFill>
        <p:spPr>
          <a:xfrm>
            <a:off x="5857920" y="3857760"/>
            <a:ext cx="3048120" cy="120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Eyes Down"/>
          <p:cNvPicPr/>
          <p:nvPr/>
        </p:nvPicPr>
        <p:blipFill>
          <a:blip r:embed="rId5"/>
          <a:stretch/>
        </p:blipFill>
        <p:spPr>
          <a:xfrm>
            <a:off x="3071880" y="2000160"/>
            <a:ext cx="3047760" cy="12096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428760" y="207180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pokušava da se priseti ranije zapamćenog zvu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6143760" y="207180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lev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pokušava da osmisli zvuk koji nikada ranije nije č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3071880" y="32860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se oseća neprijatno ili postiđ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428760" y="5143680"/>
            <a:ext cx="30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razvija unutrašnji dijalog u svojoj gla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4"/>
          <p:cNvSpPr/>
          <p:nvPr/>
        </p:nvSpPr>
        <p:spPr>
          <a:xfrm>
            <a:off x="5857920" y="507204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 levo-osoba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kušava da zamisli kako je nešto navodi da se oseć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6D05-3BD6-4FA2-98ED-76624394F697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OČI..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5" name="Picture 5" descr="C:\Documents and Settings\jelena\My Documents\My Pictures\Picture1.png"/>
          <p:cNvPicPr/>
          <p:nvPr/>
        </p:nvPicPr>
        <p:blipFill>
          <a:blip r:embed="rId1"/>
          <a:stretch/>
        </p:blipFill>
        <p:spPr>
          <a:xfrm>
            <a:off x="571680" y="1428840"/>
            <a:ext cx="8001000" cy="450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5573-972E-4ED3-AA48-24AFA465BF75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verbalna komunikacija stalni je podtekst svega što činim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 možemo prestati pokazivati izraze lica ili držanje, ili prikrivati ton kojim nešto govorim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o grešimo u odabiru emocionalnih poruka koje upućujemo bićemo odbacivan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C:\Documents and Settings\jelena\Desktop\New Folder (2)\gs263017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91C4-9C92-4033-8867-17BD8D3E82E2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Text Box 5"/>
          <p:cNvSpPr/>
          <p:nvPr/>
        </p:nvSpPr>
        <p:spPr>
          <a:xfrm rot="20275800">
            <a:off x="2411280" y="278136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VALA NA PAŽN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0F43-4E12-463A-9551-70424A8681EF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76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verbalni znak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kreti oč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http://www.fotosearch.com/bthumb/UNX/UNX017/u29012759.jpg"/>
          <p:cNvPicPr/>
          <p:nvPr/>
        </p:nvPicPr>
        <p:blipFill>
          <a:blip r:embed="rId1"/>
          <a:stretch/>
        </p:blipFill>
        <p:spPr>
          <a:xfrm>
            <a:off x="4714920" y="3929040"/>
            <a:ext cx="2405160" cy="1814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E4E5-386C-44C0-A2AD-13E46974837E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ovek najveći 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svog vremena provodi u komunikaciji sa drugim ljud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k se verbalna komunikacija odnosi na stvarne reči koje se koriste pri razgovoru, neverbalna komunikacija se sastoji od mnoštva znakova od kojih svaki ima svoje znače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http://www.photovault.com/Link/People/Abstracts/Closeups/PACVolume01/PACV01P02_15C.tn.jpg"/>
          <p:cNvPicPr/>
          <p:nvPr/>
        </p:nvPicPr>
        <p:blipFill>
          <a:blip r:embed="rId1"/>
          <a:stretch/>
        </p:blipFill>
        <p:spPr>
          <a:xfrm>
            <a:off x="500040" y="357120"/>
            <a:ext cx="85716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7DF4-B76F-4DD2-8F70-9D53D4B8D75D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balna komunikacija često bude i uzrok sukoba – mnogi obračuni počinju nerazumevanjem neverbalne poruke, npr. neki pogled se protumači kao uvredljiv, a zapravo je sl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jan ili u prolaz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http://www.photovault.com/Link/People/Abstracts/Closeups/PACVolume01/PACPCD0658_064B.tn.jpg"/>
          <p:cNvPicPr/>
          <p:nvPr/>
        </p:nvPicPr>
        <p:blipFill>
          <a:blip r:embed="rId1"/>
          <a:stretch/>
        </p:blipFill>
        <p:spPr>
          <a:xfrm>
            <a:off x="5357880" y="4500720"/>
            <a:ext cx="1285920" cy="107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http://www.fotosearch.com/bthumb/GSH/GSH370/gs261100.jpg"/>
          <p:cNvPicPr/>
          <p:nvPr/>
        </p:nvPicPr>
        <p:blipFill>
          <a:blip r:embed="rId2"/>
          <a:stretch/>
        </p:blipFill>
        <p:spPr>
          <a:xfrm>
            <a:off x="1643040" y="4500720"/>
            <a:ext cx="164304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3156-3BAD-4807-8DD6-4064D7B43E4F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I ZNAKOV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balni znakovi uključuj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ze lic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 glas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žaj tela ili pokr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ir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g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C:\Documents and Settings\jelena\Desktop\New Folder (2)\75780157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C5D5-8D97-41DC-8322-EAE2A57A9825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ntakt očima je vrlo važan u svakodnevnoj komunikaciji. Obično su razdoblja kontakta očima vrlo kratk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da su produžena, ili kad jedna od osoba počne buljiti u drugu, dolazi do napetosti i to se može protumačiti kao pretnj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C:\Documents and Settings\jelena\Desktop\New Folder (2)\1574R-26112[1].jpg"/>
          <p:cNvPicPr/>
          <p:nvPr/>
        </p:nvPicPr>
        <p:blipFill>
          <a:blip r:embed="rId1"/>
          <a:stretch/>
        </p:blipFill>
        <p:spPr>
          <a:xfrm>
            <a:off x="7072200" y="4286160"/>
            <a:ext cx="107640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1C81-FD99-492D-BB9B-CE320573A62D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zbegavanje gledanja u oči povezuje se sa nesigurnim ponašanjem, što upućuje na prepredenost, pa čak i nepošten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širene zenice pokazuju emocionalno uzbuđenje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pak, ako je dvoje ljudi zaljubljeno, kontakt očima puno je češć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http://www.photovault.com/Link/People/Abstracts/Closeups/PACVolume01/PACV01P13_18B.tn.jpg"/>
          <p:cNvPicPr/>
          <p:nvPr/>
        </p:nvPicPr>
        <p:blipFill>
          <a:blip r:embed="rId1"/>
          <a:stretch/>
        </p:blipFill>
        <p:spPr>
          <a:xfrm>
            <a:off x="642960" y="357120"/>
            <a:ext cx="84780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9684-0B12-4802-A7A9-5207E5FE4E80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da vidimo nekog ko nas privl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, naše obrve se automatski podignu, a zatim spuste. Ako nam je ta osoba sklona, onda i ona podigne obr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 ovo traje tek de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kunde, a dešava se svim ljudima na svetu, bez obzira na godine, rasu ili društvenu pripadno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C:\Documents and Settings\jelena\Desktop\New Folder (2)\bn267125[1].jpg"/>
          <p:cNvPicPr/>
          <p:nvPr/>
        </p:nvPicPr>
        <p:blipFill>
          <a:blip r:embed="rId1"/>
          <a:stretch/>
        </p:blipFill>
        <p:spPr>
          <a:xfrm>
            <a:off x="571680" y="357120"/>
            <a:ext cx="161892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AE28-89DC-4C99-9F48-F87BC1356747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Sev" obrva može lako da se propusti, ali ako ga u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š kod onog ko te interesuje, budi sigurna da mu se dopadaš, mada on toga možda još nije svest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rve mu ostaju blago podignute dok p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 tobo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o je signal da misli da si fascinant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br>
              <a:rPr sz="2800"/>
            </a:b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C:\Documents and Settings\jelena\Desktop\New Folder (2)\bxp209595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9:41:35Z</dcterms:created>
  <dc:creator>User</dc:creator>
  <dc:description/>
  <dc:language>en-US</dc:language>
  <cp:lastModifiedBy>jelena</cp:lastModifiedBy>
  <dcterms:modified xsi:type="dcterms:W3CDTF">2008-07-09T13:01:20Z</dcterms:modified>
  <cp:revision>21</cp:revision>
  <dc:subject/>
  <dc:title>INTERPRETACIJE POKRETA OČIMA </dc:title>
</cp:coreProperties>
</file>