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2FB-FD54-4CA3-A094-B2F8C7A5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D02-E974-4B26-B782-AA904AAB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108-C133-4015-95B6-1F086E7D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CF0A-3E4D-4AD5-8605-20F1840E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8660-9A64-4E27-AABB-5E442896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01CA-F750-4BC1-9772-D26F8CC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EC55-4E43-4477-B182-DD369215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E82-96B6-4F82-B971-F52400C9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1413-E3CC-4A0D-9468-15CD4049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0D14-1734-4E35-8F73-07C51D98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C5DD-0A11-4CBF-A174-3095FC18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3A8-BEEE-422A-A9E8-CFB2F688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B49C-6540-449C-9785-48316BD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D425-8321-4E91-B024-5CC46E25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ED0C-1E19-42A5-A04A-6C9324CE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AEFE-4DA9-418D-86D2-B6D09F47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1DC6-AB8F-4DA9-B2AE-4B6B8CF1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4D01D-AC39-47CC-A90D-8A62A29C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4062-0189-4883-93DB-42D6212B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BF67-EAC6-43E7-BCB8-D6894163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7424-82C0-46A3-ADA9-F4B820D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A3C1-A49E-4439-9580-1B74C95B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211-7579-4DA9-BFFC-5EE0498B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4A4F-61B4-480A-B08F-24FAE9E1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BE3C1-BB9E-4B76-B6BD-6E898C8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C8452-D774-42AD-9F5C-34C7CB95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2BED-7A0E-4946-A464-FDCB849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A47B-6987-45DE-AAAD-98622019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C5E0E-14E5-47E3-A996-DC90FED8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0DDA-04B6-4DCB-BB6D-9C0F1F71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22F9-9C95-4349-B311-2415CFD7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4B76-4675-4F04-A172-05D731D3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3E8B4-FC37-4D24-930F-B8842989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B04-9B8B-4CD5-B001-1564FBE0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1B4F5-53BB-4193-91CF-F1A546FF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C0F12-8801-4DB0-B818-E9CB904D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2CB6-BA79-4CCD-A3AE-94B76F6F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307F-EADC-48BB-BFA1-C313C32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53B4-2C56-4742-9C57-84B6306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855DF-DA0E-4249-A42A-79913D11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A6EA-64B1-4F59-8D2E-54841ED6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8480A-7FAD-41DB-963D-F199016F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510E3-D8E9-4A9A-AA1E-EA0A5C05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8E908-763D-4788-BF06-8BD08976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FF08-CA70-4116-90A6-E0B2526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1983C-0EB8-4725-95E4-1E3188DB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18E10-400F-4517-BDD1-77964945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043E4-7CF5-4E82-BB87-DE01E15C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F268-E350-4982-B473-ABF4FA52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3DD94-6FB3-4669-9BD2-0CC48A00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3A26E-27AA-4E41-9A7E-4D6D1754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725CE-85EE-4EBB-9955-93EA5250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247C-B5C7-44CD-A0A3-3863A96D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0E9D-BA9D-44D8-80FC-07C8BF71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2F5C-0779-45A2-B761-7D3F2A16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703-FF7F-43B4-84DD-EA58534E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44A07-756C-41D0-9109-6D8C01E6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9459D-B4E4-4966-AA1E-AA962DBB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4C892-FDAD-45F8-8AA3-6DB678C9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8C500-9E30-4CC2-B501-50009ABC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D8AC0-768F-4ABB-AB60-FFCBB24F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C290-AD3A-45FA-9C9C-11584F55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4E519-C0B2-4ADB-9689-845CDC2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1B85F-C254-4F4A-BF02-9911D19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0B19-048A-4AE3-BE1A-4F86044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F40D1-E3E3-494C-956E-5E029EC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A06-3AD9-4E54-BF37-0EB442A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190C-F23B-4ED0-B0A9-ABFC108F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21B22-61F2-43B8-86EB-2A19350F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1EB51-51ED-4B24-99D4-7EBCC29A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75CBD-ABE9-4F80-A4F6-D852D8F7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942D8-2F1D-4A0F-8D35-02E8FBB2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194E6-6D86-4127-BF87-28D7D40E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E13F1-3419-4049-95F7-5B1C3E6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B04C-A9AD-460B-82CF-244FF9B1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69CC8-8A50-406B-BE59-345FC41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845C0-A27B-49C0-A619-50EAEED5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2E1-B167-4CEF-9957-E81BAD95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5C434-F498-4364-89D2-E13B647E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FE76-FE94-471E-9E64-D2B25E61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B3E54-0DB2-4F8C-9BA6-F21400A1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72889-0700-4FA6-AD5D-15A02CD8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A38E-EC0C-4BBD-9F26-6A431856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ECDF-07F3-4AB9-AA7F-1E98F2F0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C19B-49AC-4647-BB13-5188BAF5000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55C5-CC63-4614-AB9F-26052DBD635B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7ffff">
              <a:alpha val="33000"/>
            </a:srgbClr>
          </a:solidFill>
          <a:ln cap="rnd" w="3240">
            <a:solidFill>
              <a:srgbClr val="b1d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4ffff"/>
            </a:solidFill>
            <a:miter/>
          </a:ln>
          <a:effectLst>
            <a:outerShdw dist="12600" dir="5400000" blurRad="0" rotWithShape="0">
              <a:srgbClr val="9eb7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7CA0-945B-441B-BEE2-1D99FE73E79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8652-5D6B-4863-A10F-F43B6FCD3CCC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268ea8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D8B9-987A-455F-94F5-73CB12CCEDB2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E4C-A3E5-4E0D-85C8-6E91B4B5451B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F7BF-3205-4310-BEB2-0802BDB6E3FF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CB66-E034-45A9-BE64-6FE7EA029ADD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a777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6863-82A2-43C0-B104-F6E5FA900B63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654C-4F4E-4B3C-95D1-2A1F9ADBB00A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A231-90D1-4ED3-A05C-BAA26D7B5E3B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DABA-B515-431E-B5C6-7606BF947903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6f2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ef5f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eb641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9639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4E7-1371-4ED7-AC06-51767E84D317}" type="datetime">
              <a:rPr b="0" lang="en-US" sz="1200" spc="-1" strike="noStrike">
                <a:solidFill>
                  <a:srgbClr val="98bbc2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8bbc2"/>
                </a:solidFill>
                <a:latin typeface="Gill Sans MT"/>
              </a:rPr>
              <a:t>@MA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8bbc2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15E1-836C-4CB7-BC15-5B6B577BA06C}" type="slidenum">
              <a:rPr b="0" lang="en-US" sz="1200" spc="-1" strike="noStrike">
                <a:solidFill>
                  <a:srgbClr val="98bbc2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0" y="1499760"/>
            <a:ext cx="6858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64646"/>
                </a:solidFill>
                <a:latin typeface="Gill Sans MT"/>
              </a:rPr>
              <a:t>Pore</a:t>
            </a: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đenje chat klijenata</a:t>
            </a:r>
            <a:br>
              <a:rPr sz="4300"/>
            </a:b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14520" y="3714840"/>
            <a:ext cx="4621320" cy="3579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18576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6429240" y="1285920"/>
            <a:ext cx="2714760" cy="557208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GOOGLE  TALK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5857920" cy="5715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gTALK morate imati otvoren nalog na gmail-u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U poslednje vreme je jako zastupljen medju internet korisnicima jer 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pored zvucnog (Skype) i pisanog oblika, sada podr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ž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ava i peer-2-peer varijantu(nema ogran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enja u veli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č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ini i tipu fajla)</a:t>
            </a: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252525"/>
                </a:solidFill>
                <a:latin typeface="Arial"/>
                <a:ea typeface="Arial"/>
              </a:rPr>
              <a:t>N</a:t>
            </a:r>
            <a:r>
              <a:rPr b="0" lang="en-US" sz="3000" spc="-1" strike="noStrike">
                <a:solidFill>
                  <a:srgbClr val="252525"/>
                </a:solidFill>
                <a:latin typeface="Arial"/>
                <a:ea typeface="Arial"/>
              </a:rPr>
              <a:t>ovost je i voice mail, kada user nije online, mozete poslati audio poruku koju user dobija kao E-mail attachment na Gmail-u..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ffffff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1720" y="1643040"/>
            <a:ext cx="7407000" cy="5214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SN je lansiran 1999 kao konkurencija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OL Instant Messenge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u,od kompanije Microsof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Prvobitan naziv bio j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 Service“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ali je kasnije pojednostavljen ka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SN Messenger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Termin MSN je postao sinonim za sve messenger servise u internet sleng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6"/>
          <p:cNvSpPr/>
          <p:nvPr/>
        </p:nvSpPr>
        <p:spPr>
          <a:xfrm flipH="1">
            <a:off x="1355760" y="1440"/>
            <a:ext cx="1440" cy="6858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MSN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85560" y="1071360"/>
            <a:ext cx="5143320" cy="5429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je najrasprostanjeniji medju internet korisnicima govori činjenica da ga danas koristi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225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iliona ljud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a biste koristili MSN morate imati otvoren nalog na hotmail-u</a:t>
            </a: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285920" y="5214960"/>
            <a:ext cx="1409760" cy="1305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410160" y="1071720"/>
            <a:ext cx="27338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43000" y="4572000"/>
            <a:ext cx="1643040" cy="21430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KOJI IZABRATI?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1720" y="1071360"/>
            <a:ext cx="7407000" cy="4071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ijedan chat klijent ne možemo izdvojiti kao najbolji.Svaki od njih nam nudi veliki broj mogućnosti,koje mi koristimo u skladu sa našim potreba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Često korisnici imaju instalirana 2-3 različita chat klijenta,i na taj način pokrivaju najveći deo onoga što nude                .            Chat klijent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1181160" cy="10479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3"/>
          <a:stretch/>
        </p:blipFill>
        <p:spPr>
          <a:xfrm>
            <a:off x="5072040" y="557208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http://img338.imageshack.us/img338/2901/promotewallpaperthzy8.jpg"/>
          <p:cNvPicPr/>
          <p:nvPr/>
        </p:nvPicPr>
        <p:blipFill>
          <a:blip r:embed="rId4"/>
          <a:stretch/>
        </p:blipFill>
        <p:spPr>
          <a:xfrm>
            <a:off x="6786720" y="5286240"/>
            <a:ext cx="20714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464646"/>
                </a:solidFill>
                <a:latin typeface="Gill Sans MT"/>
              </a:rPr>
              <a:t>ALL-IN-ONE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00080" y="1142640"/>
            <a:ext cx="8143920" cy="3429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e nekoliko godina objavljeni su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all-in-one</a:t>
            </a: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svi u jednom)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chat programi koji podržavaju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ICQ, AIM, MSN, Yahoo, IRC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od njih su: Miranda,Trillian,Jabber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1214280" y="3286080"/>
            <a:ext cx="3571920" cy="2928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 rot="20915400">
            <a:off x="5489280" y="3717720"/>
            <a:ext cx="3159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Arial"/>
                <a:ea typeface="Arial"/>
              </a:rPr>
              <a:t>ALL-IN-ONE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431720" y="1285920"/>
            <a:ext cx="7407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Ukoliko imate Gtalk,a vaš novi poslovni partner MSN messenger,vi zahvaljujući all-in-one ne morate dodatno da se mučite instalirajući MSN,otvarajući nalog na hotmail-u,ili slali njemu pozivnicu za Gmail,pa čekali d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je prihvati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voljno je da imte instaliran neki od all-in-one da biste komunicirali sa njim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4840" cy="866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643880" y="4357800"/>
            <a:ext cx="11714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4643280" y="5214960"/>
            <a:ext cx="2214720" cy="9716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Arial"/>
                <a:ea typeface="Arial"/>
              </a:rPr>
              <a:t>ZAKLJUČAK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77868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Iako naizgled različiti,svi Chat klijenti pružaju donekle iste usluge svojim korisnicim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Za koji god da se odlučite u svako doba dana i noći ćete moći da komunicirate i razmenjujete fajlove sa ljudima,bilo da oni žive u zgradi do vaše ili na hiljadama kilometara dalek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8097840" y="0"/>
            <a:ext cx="1046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5000760" y="0"/>
            <a:ext cx="4143240" cy="4143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PREGLED IZLAGANJ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071720" y="121392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lvl="1" marL="971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je cha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Prednosti u odnosu na e-ma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rste chat klijena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a pružaju korisnici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što više o: ICQ,Gtalk,Msn i all-in-one chat klijentima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oji 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brati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ključak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2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2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2000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Šta je chat?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071360" y="1785600"/>
            <a:ext cx="8072280" cy="3025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ili IRC (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nternet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aly </a:t>
            </a:r>
            <a:r>
              <a:rPr b="1" lang="sr-Latn-CS" sz="3200" spc="-1" strike="noStrike">
                <a:solidFill>
                  <a:srgbClr val="00b0f0"/>
                </a:solidFill>
                <a:latin typeface="Arial"/>
                <a:ea typeface="Arial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hat) je jedan od servisa koji je donekle sličan elektronskoj pošti i predstavlja ćaskanje(engl.chat) putem interne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tretch/>
        </p:blipFill>
        <p:spPr>
          <a:xfrm>
            <a:off x="5715000" y="3865680"/>
            <a:ext cx="2214720" cy="2035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857240" y="4714920"/>
            <a:ext cx="214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64646"/>
                </a:solidFill>
                <a:latin typeface="Gill Sans MT"/>
              </a:rPr>
              <a:t>Prednosti u odnosu na e-mail</a:t>
            </a:r>
            <a:endParaRPr b="0" lang="en-US" sz="36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00080" y="1714320"/>
            <a:ext cx="5143680" cy="5143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Za razliku od elektronske pošte komunikacija se obavlja u realnom vremenu tj.svi učesnici u komunikaciji moraju da se nalaze istovremeno u blizini računar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6048360" y="1071720"/>
            <a:ext cx="309564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VRSTE CHAT KLIJENATA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571400" y="1785600"/>
            <a:ext cx="6886440" cy="3786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hat kao najrasprostranjeniji komunikacioni servis na internetu se  vrši putem chat klijenata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Google talk,Mirabilis,AOL messenger,          mIRC,XChat,MSN,Skype,Yahoo messenger,ICQ,Jabber,Trillian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6286680" y="4929120"/>
            <a:ext cx="2071440" cy="1357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1143000" y="5715000"/>
            <a:ext cx="1928880" cy="928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"/>
          <p:cNvPicPr/>
          <p:nvPr/>
        </p:nvPicPr>
        <p:blipFill>
          <a:blip r:embed="rId3"/>
          <a:stretch/>
        </p:blipFill>
        <p:spPr>
          <a:xfrm>
            <a:off x="7286760" y="1214280"/>
            <a:ext cx="15714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64646"/>
                </a:solidFill>
                <a:latin typeface="Gill Sans MT"/>
              </a:rPr>
              <a:t>ŠTA PRUŽAJU KORISNICIMA?</a:t>
            </a:r>
            <a:endParaRPr b="0" lang="en-US" sz="32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000080" y="1213920"/>
            <a:ext cx="7215120" cy="5643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mogućavaju nam komunikaciju s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rijatelj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Rodbino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Poslovnim partneri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Gill Sans MT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Neki chat klijenti dozvoljavaju video i glasovnu komunikaciju,razmenu fajlova,kao i izražavanje emocija preko velikog broja emotikona,winkova i s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5572080" y="1785960"/>
            <a:ext cx="357192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tretch/>
        </p:blipFill>
        <p:spPr>
          <a:xfrm>
            <a:off x="7915320" y="0"/>
            <a:ext cx="12286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1000080" y="0"/>
            <a:ext cx="814392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6722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5500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Aj-Si-K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(ICQ, igra reči: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engl.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I Seek Yo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 - „tražim te“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Prva verzija programa je izašl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. godine, a naziv je nastao kao gore pomenuta igra reči na engleskom jeziku.</a:t>
            </a:r>
            <a:r>
              <a:rPr b="0" lang="vi-VN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  <a:ea typeface="Arial"/>
              </a:rPr>
              <a:t>Vremenom, pojavile su se i mogućnosti prenosa fajlova, slike pa i „onlajn“ igranja između korisnik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85960" y="142920"/>
            <a:ext cx="66722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900" spc="-1" strike="noStrike">
                <a:solidFill>
                  <a:srgbClr val="464646"/>
                </a:solidFill>
                <a:latin typeface="Gill Sans MT"/>
              </a:rPr>
              <a:t>ICQ</a:t>
            </a:r>
            <a:endParaRPr b="0" lang="en-US" sz="39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99720" y="1071360"/>
            <a:ext cx="6000840" cy="5500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Od 2007 god. Omogućeno je slanje besplatnih SMS poruka preko njega,podržava glasovnu i video komunika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edjutim iako je bio jako popularan u svoje vreme,nove generacije chat klijenata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su ga ubrzo zamenile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mada postoje oni koji su mu ostali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dosledni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1"/>
          <a:stretch/>
        </p:blipFill>
        <p:spPr>
          <a:xfrm>
            <a:off x="6429240" y="5214960"/>
            <a:ext cx="1409760" cy="1295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038240" cy="1000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"/>
          <p:cNvPicPr/>
          <p:nvPr/>
        </p:nvPicPr>
        <p:blipFill>
          <a:blip r:embed="rId3"/>
          <a:stretch/>
        </p:blipFill>
        <p:spPr>
          <a:xfrm>
            <a:off x="6899400" y="1500120"/>
            <a:ext cx="22446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http://img338.imageshack.us/img338/2901/promotewallpaperthzy8.jpg"/>
          <p:cNvPicPr/>
          <p:nvPr/>
        </p:nvPicPr>
        <p:blipFill>
          <a:blip r:embed="rId1"/>
          <a:stretch/>
        </p:blipFill>
        <p:spPr>
          <a:xfrm>
            <a:off x="1071720" y="0"/>
            <a:ext cx="807228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464646"/>
                </a:solidFill>
                <a:latin typeface="Gill Sans MT"/>
              </a:rPr>
              <a:t>GOOGLE TALK</a:t>
            </a:r>
            <a:endParaRPr b="0" lang="en-US" sz="4300" spc="-1" strike="noStrike">
              <a:solidFill>
                <a:srgbClr val="464646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431720" y="121392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je servis kompa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Google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 koji pruža uslugu Internet telefonije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(VoIP - Voice over Internet Protocol) i chat-a (IM - Instant Messaging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Google Talk beta verzija izašla je 24. avgusta 2005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Za sada program može da radi samo na Windows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perativnim sistemima</a:t>
            </a:r>
            <a:r>
              <a:rPr b="0" lang="sr-Latn-CS" sz="3200" spc="-1" strike="noStrike">
                <a:solidFill>
                  <a:srgbClr val="252525"/>
                </a:solidFill>
                <a:latin typeface="Arial"/>
                <a:ea typeface="Arial"/>
              </a:rPr>
              <a:t>(2000,XP,server 2003,Vista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2525"/>
                </a:solidFill>
                <a:latin typeface="Arial"/>
                <a:ea typeface="Arial"/>
              </a:rPr>
              <a:t>Očekuje se da neka od budućih verzija podržava i video konferenciju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0" y="1000080"/>
            <a:ext cx="9144000" cy="1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9T20:53:16Z</dcterms:created>
  <dc:creator>jelena</dc:creator>
  <dc:description/>
  <dc:language>en-US</dc:language>
  <cp:lastModifiedBy>jelena</cp:lastModifiedBy>
  <dcterms:modified xsi:type="dcterms:W3CDTF">2008-07-09T13:03:05Z</dcterms:modified>
  <cp:revision>72</cp:revision>
  <dc:subject/>
  <dc:title>Poređenje chat klijenata </dc:title>
</cp:coreProperties>
</file>