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7B7F-1BBC-4006-A76E-AFF23D29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E78D-1AF9-4D03-BCDB-3C8C5E6F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25EE-35D0-4851-864A-769EF39C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8109-FD14-4F94-B21D-396660FB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37D7-2353-4FA9-98FB-FBAF8D41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FCC8-01DB-45D0-913B-41016FE1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4BB6-33C7-4DBB-B10E-D51B3E36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D6E9-526E-47DE-A49B-2C561AA4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1156-9F52-4319-AF29-C06B6DC1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629F-50CF-4B6B-B078-71C77CED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C5B0-008B-40BD-BF9F-B484ED15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66C7-B804-4445-8006-82823FDE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7392-AF2F-4DF3-B6E0-CDC57BA3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51E5-F213-435D-BDD4-FFC0E756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78F5-1AE9-40C9-9F2D-D7142233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68C5-FC7B-43B4-81FD-AA344119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45EA-A88D-4D61-AC4A-89B4C1FD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5F6E-2517-458A-BA41-8F83AC40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2C7-0397-49E5-BC33-2E33BB78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54D-F9A9-49D6-A476-CD29B8E3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356-39AE-4334-842C-B5C57B12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2032-AE2E-4977-9121-A471A382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4DBD-FD06-40AF-9DCF-F1DD9424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9AAE-4121-40AD-AE64-59D66D33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8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26A0-201F-4A91-A138-5A2A185D7BFF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A15B-78A0-4B36-A93F-7278D9576911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BCD4-D8CD-42EE-9159-37BEB4C83F94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8a5a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E521-241C-421B-86A7-3CFE8FACC2E5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22e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28840" y="2500200"/>
            <a:ext cx="7407360" cy="2571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0f62"/>
                </a:solidFill>
                <a:latin typeface="Arial"/>
              </a:rPr>
              <a:t>ŠKOLA ZA MOSTOVE I PUTEVE U PARIZU- PRVA INŽENJERSKA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770f62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770f62"/>
                </a:solidFill>
                <a:latin typeface="Arial"/>
              </a:rPr>
              <a:t>(ECOLE NATIONALE DES PONTS ET CHAUSS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2303-BB52-4E3C-B96C-1AB637FD3595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AA68-9846-41C4-AAF0-8F3F962C9247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1285920" y="42876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đevinski fakultet univerziteta u Beogr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7EDE-973D-4BDF-91DE-6E3D9604EB21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DD05-D262-4EEE-92B7-C83E4BD4DC8F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7"/>
          <p:cNvSpPr/>
          <p:nvPr/>
        </p:nvSpPr>
        <p:spPr>
          <a:xfrm>
            <a:off x="2124000" y="404640"/>
            <a:ext cx="532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124000" y="404640"/>
            <a:ext cx="50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124000" y="2602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258920" y="1484280"/>
            <a:ext cx="7489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jedan od fakulteta na kome studenti dobijaju tzv. op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obrazova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kon toga brzo postaju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2"/>
          <a:stretch/>
        </p:blipFill>
        <p:spPr>
          <a:xfrm>
            <a:off x="3492360" y="3860640"/>
            <a:ext cx="2033640" cy="2565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077E-C384-48A2-8B9D-86AE11267F1C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25C9-FE5F-4148-97D8-59A61F4E8830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2771640" y="18900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eni stu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258920" y="1484280"/>
            <a:ext cx="756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 glavn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e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oja su u ponu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i programi: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5-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d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  programi postdiplomskih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ih stepena, illi mast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torski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ionalni programi za postdiplo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3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54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55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9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60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69,102,-84)"/>
                                      </p:to>
                                    </p:set>
                                    <p:set>
                                      <p:cBhvr>
                                        <p:cTn id="161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AE58-B89C-44EB-8B86-141E1934B344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45CA-9066-45F9-A53C-EB2296000F75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1258920" y="1628640"/>
            <a:ext cx="61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124000" y="333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1714680" y="1785960"/>
            <a:ext cx="7215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 kvalitetnom radu škole svedoči činjenica da se škola uspešno održala i do današnjih d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u trećem veku od svog osnivanja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a iza sebe ima zavidan broj visoko obrazovanih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 u svom poslu najuspešnijih inženj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D017-4B82-43CE-BA20-2AA50987C16F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B270-0BBC-42F6-8994-66839287B795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 rot="21180600">
            <a:off x="1486080" y="1991880"/>
            <a:ext cx="7072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ZAHVALJUJEMO VAM SE NA PAŽNJI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NADAMO SE DA STE UŽIV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Auto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3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FD46-E525-47EE-80DD-C501DA92A454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4AC5-9D40-43DC-B989-924B9A4B0AF0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2"/>
          <p:cNvSpPr/>
          <p:nvPr/>
        </p:nvSpPr>
        <p:spPr>
          <a:xfrm>
            <a:off x="1214280" y="28584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1714680" y="1428840"/>
            <a:ext cx="678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UVOD U GRADJEVINARST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istorijsk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nastana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ionale d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s 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ssé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lokal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rad 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d0d0d"/>
                </a:solidFill>
                <a:latin typeface="Arial"/>
              </a:rPr>
              <a:t>-</a:t>
            </a:r>
            <a:r>
              <a:rPr b="1" lang="sr-Latn-CS" sz="3200" spc="-1" strike="noStrike">
                <a:solidFill>
                  <a:srgbClr val="0d0d0d"/>
                </a:solidFill>
                <a:latin typeface="Arial"/>
              </a:rPr>
              <a:t> stepeni stud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7EE1-1F3E-42EA-B8C9-CBC460517E50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7CEE-ED0D-4926-933D-C9B49D0B98EA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1214280" y="214200"/>
            <a:ext cx="75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torijski 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1285920" y="1571760"/>
            <a:ext cx="7286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đevinarstvo je staro koliko i ljudska civilizacija i jedna je od najznačajnijih i najstarijih privrednih gra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1428840" y="3143160"/>
            <a:ext cx="3071880" cy="32767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3"/>
          <p:cNvSpPr/>
          <p:nvPr/>
        </p:nvSpPr>
        <p:spPr>
          <a:xfrm>
            <a:off x="4786200" y="3429000"/>
            <a:ext cx="4071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oj 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narstva kao na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discipline p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je osnivanjem slavn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0799-B097-4CBA-ADCB-666F8937F59E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1CEC-9CE8-46A6-BC9D-0E961BFB6ABA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1285920" y="35712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stanak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1187280" y="1557360"/>
            <a:ext cx="7715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ionale d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s e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ussées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novana 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47. godine u Francusk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najstarija civilna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k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da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jih dana v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za jednu od najpres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jih Francuskih Velikih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t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"/>
          <p:cNvPicPr/>
          <p:nvPr/>
        </p:nvPicPr>
        <p:blipFill>
          <a:blip r:embed="rId2"/>
          <a:stretch/>
        </p:blipFill>
        <p:spPr>
          <a:xfrm>
            <a:off x="3571920" y="2571840"/>
            <a:ext cx="2143080" cy="20336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E012-51DB-48D3-90DE-40E4AAE833FF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04A1-8BD0-4114-9CDA-F428387AF01F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1619280" y="333360"/>
            <a:ext cx="619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547640" y="155736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a se razvijala godinama, od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j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voju poziciju kao vod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dukaciona ustanova u Francusko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4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4105080" cy="2087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69A2-597A-4947-8ABC-866B6CAFFF8D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E38B-5C8B-44D1-8DAA-18356CDF27B3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1285920" y="28584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okal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http://www.jpmoser.com/images/golfhotelmv/marne-map.jpg"/>
          <p:cNvPicPr/>
          <p:nvPr/>
        </p:nvPicPr>
        <p:blipFill>
          <a:blip r:embed="rId2"/>
          <a:stretch/>
        </p:blipFill>
        <p:spPr>
          <a:xfrm>
            <a:off x="2428920" y="1428840"/>
            <a:ext cx="4929120" cy="19288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1143000" y="3500280"/>
            <a:ext cx="757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e u  </a:t>
            </a:r>
            <a:r>
              <a:rPr b="0" lang="sr-Latn-CS" sz="3200" spc="-1" strike="noStrike" u="sng">
                <a:solidFill>
                  <a:srgbClr val="ff0000"/>
                </a:solidFill>
                <a:uFillTx/>
                <a:latin typeface="Arial"/>
              </a:rPr>
              <a:t>Marne-la-Valle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Pariza,udaljenom 15km od njega), i ima istorijske g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ne 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Pariz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DFC4-4EB2-4E7B-BE12-BA9B029DEEB2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9AD1-A5E0-46F9-9DB1-3B693B0036D0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Straight Connector 9" descr=""/>
          <p:cNvPicPr/>
          <p:nvPr/>
        </p:nvPicPr>
        <p:blipFill>
          <a:blip r:embed="rId1"/>
          <a:stretch/>
        </p:blipFill>
        <p:spPr>
          <a:xfrm>
            <a:off x="871560" y="105408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2050920" y="260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389960" y="1784160"/>
            <a:ext cx="7291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dukacija za master studente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organizovana u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st slede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Calibri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h odsek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Civilno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njerstvo i konstru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Transport, planiranje,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votna ok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M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nstvo i materij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DCB3-CBB7-4FA2-996B-A1F0C4EFBAAE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C07A-BDE3-4F91-BD2F-27E9A442FC0C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2050920" y="26028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258920" y="170028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njena matematika i informa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ja,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, finans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jsko 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rstvo i mena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tretch/>
        </p:blipFill>
        <p:spPr>
          <a:xfrm>
            <a:off x="3492360" y="4221000"/>
            <a:ext cx="27370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1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D58F-1F83-4E8B-BE43-6DF1B32166AA}" type="datetime">
              <a:rPr b="0" lang="en-US" sz="1200" spc="-1" strike="noStrike">
                <a:solidFill>
                  <a:srgbClr val="b8a5ae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8a5ae"/>
                </a:solidFill>
                <a:latin typeface="Arial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1CEA-6B88-4D2B-91DC-04859C33D4C3}" type="slidenum">
              <a:rPr b="0" lang="en-US" sz="1200" spc="-1" strike="noStrike">
                <a:solidFill>
                  <a:srgbClr val="b8a5a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Straight Connector 9" descr=""/>
          <p:cNvPicPr/>
          <p:nvPr/>
        </p:nvPicPr>
        <p:blipFill>
          <a:blip r:embed="rId1"/>
          <a:stretch/>
        </p:blipFill>
        <p:spPr>
          <a:xfrm>
            <a:off x="963720" y="1030320"/>
            <a:ext cx="8272440" cy="165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1692360" y="333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332000" y="1557360"/>
            <a:ext cx="76327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godine je osnovan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hool of International Manag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 stra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ÉNPC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 osnivanja je primala z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nu pod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 od mat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2"/>
          <a:stretch/>
        </p:blipFill>
        <p:spPr>
          <a:xfrm>
            <a:off x="4067280" y="4941720"/>
            <a:ext cx="2160360" cy="1511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6:17:52Z</dcterms:created>
  <dc:creator>stud126xp</dc:creator>
  <dc:description/>
  <dc:language>en-US</dc:language>
  <cp:lastModifiedBy>jelena</cp:lastModifiedBy>
  <dcterms:modified xsi:type="dcterms:W3CDTF">2008-07-09T12:59:40Z</dcterms:modified>
  <cp:revision>34</cp:revision>
  <dc:subject/>
  <dc:title>Slide 1</dc:title>
</cp:coreProperties>
</file>