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5D91-7C2E-48BF-AFE0-7DAD44D2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92D7-957B-4FD9-A429-769C92CC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807-3BFF-4EDA-A3F4-509572636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E6C-FFCE-40ED-ABC8-11BEB37E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927-F541-4611-83A5-A6263901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5D09-4552-4DB7-85C8-B788276E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F6C-B820-4374-9755-CE1AF876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7F98-F98E-4C5F-963E-178C39A1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58F7-8021-4CD8-9204-AAC4100C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CC49-5B60-407B-852E-C55F0919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A4C7-C00B-4068-A1B1-D4B7AD49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68D0-4D84-4FA4-ADBC-4D4362E8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5B2C-4225-4378-A5A2-1B21C2CC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FDC0-6B8A-4E17-8B27-7AA18F4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798-AF15-47DB-8A56-3B3EAD7D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D4AF-C43F-4FE6-B58C-79DDA8BA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45A0-2521-4D3B-B4C7-F0E55D22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30E1-8069-440D-990F-4B51B96A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5FE3-3E52-4662-A0DB-338BE26A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36E5-C38F-4E7A-B94C-3839D593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ABF-8227-49B4-8D47-7164828E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7CC-ACE2-4926-A464-184AD44B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FC8-74B6-4A55-8299-B8D91E10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180-DDE2-461F-98BB-00820F82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F36-D22E-42B0-972F-4EC5F8D7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6B6-FBF9-40AB-AAD5-6E63053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26A-92CC-4A63-9FB4-1CEB0393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3271-194E-4F5C-9300-BD980E5747C9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C92B-EDFC-4326-8BDA-BAF1725AB9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9A78-381D-4B64-AA28-B5913913B8DF}" type="datetime">
              <a:rPr b="0" lang="sr-Latn-CS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616-2B65-4698-A8AA-94E59CF90A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OGA INTERNE POSLOV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220500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1187280" y="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2700,1191537882,111.jpg"/>
          <p:cNvPicPr/>
          <p:nvPr/>
        </p:nvPicPr>
        <p:blipFill>
          <a:blip r:embed="rId1"/>
          <a:stretch/>
        </p:blipFill>
        <p:spPr>
          <a:xfrm>
            <a:off x="285840" y="3214800"/>
            <a:ext cx="435744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stock photo : Business people and team. Isolated over white backgroun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85960"/>
            <a:ext cx="4286160" cy="3643200"/>
          </a:xfrm>
          <a:prstGeom prst="rect">
            <a:avLst/>
          </a:prstGeom>
          <a:ln w="0">
            <a:noFill/>
          </a:ln>
        </p:spPr>
      </p:pic>
      <p:sp>
        <p:nvSpPr>
          <p:cNvPr id="170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9233-B796-496B-AAB9-1C51610BB077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E702-F0DA-4B18-A014-923F627690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3929040" y="1357200"/>
            <a:ext cx="521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uvažavanje interne komunikacije u svakodnevnom poslovanju organizacije dovodi do loše produktivnosti i loših tržišnih rezultata,što u toku kriznih situacija ili velikih promena može dovesti čak i do sloma celog siste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 li je to ono što želimo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7DA2-A115-4522-B952-0B5939FCB8C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0809-6701-41D4-A3AC-4EBBB6F854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ntegrativ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  <a:ea typeface="Arial"/>
              </a:rPr>
              <a:t>¤</a:t>
            </a:r>
            <a:r>
              <a:rPr b="0" lang="sr-Latn-CS" sz="3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tivacioni znač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Documents and Settings\jelena\Desktop\slike za pkp\64484,1162212365,1231.jpg"/>
          <p:cNvPicPr/>
          <p:nvPr/>
        </p:nvPicPr>
        <p:blipFill>
          <a:blip r:embed="rId1"/>
          <a:stretch/>
        </p:blipFill>
        <p:spPr>
          <a:xfrm>
            <a:off x="714240" y="392904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6927-6D2A-4373-98C4-8093D89D8ED2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7E0B-5795-4859-A234-2955273B85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TERNO KOMUNIC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merne opstrukcije, obustave rada, štrajkovi dolaze kao krajnje posledice, a sve počinje od glasina, nemotivisanosti, loše komunikacije između viših i nižih menadžer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ktora koji se zaposlenima obraća samo putem saopšten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dnom rečju –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u 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postavlje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omunikacij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Documents and Settings\jelena\Desktop\slike za pkp\untitled5234.bmp"/>
          <p:cNvPicPr/>
          <p:nvPr/>
        </p:nvPicPr>
        <p:blipFill>
          <a:blip r:embed="rId1"/>
          <a:stretch/>
        </p:blipFill>
        <p:spPr>
          <a:xfrm>
            <a:off x="5143680" y="4071960"/>
            <a:ext cx="3714480" cy="2571840"/>
          </a:xfrm>
          <a:prstGeom prst="rect">
            <a:avLst/>
          </a:prstGeom>
          <a:ln w="0">
            <a:noFill/>
          </a:ln>
        </p:spPr>
      </p:pic>
      <p:sp>
        <p:nvSpPr>
          <p:cNvPr id="120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AFE6-9661-4F16-8A11-600DEECC8482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725B-5BF7-48DC-8703-C1670A954E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kcionalni značaj interne komunikacije ima dinamički karakter jer se ostvaruje putem konkretnih i opipljivih aktivnosti koje imaju svoj početak, svoje trajanje i završnicu u realnom prostoru i vremenu i preduzimaju ih zaposleni u organizaci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Office life"/>
          <p:cNvPicPr/>
          <p:nvPr/>
        </p:nvPicPr>
        <p:blipFill>
          <a:blip r:embed="rId1"/>
          <a:stretch/>
        </p:blipFill>
        <p:spPr>
          <a:xfrm>
            <a:off x="1928880" y="4786200"/>
            <a:ext cx="35719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8467-2761-47B5-ACC0-497C784C88F3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D00-6074-4565-A7B2-E018377963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UNKCIONAL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 aktivnosti s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Ostvarivanje organizacijsk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ljeva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Obavešt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ovezivan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Stvaranje konkurentne pred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Upravljanje promen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Upravljanje kriz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jelena\Desktop\slike za pkp\1294,1204969060,2.jpg"/>
          <p:cNvPicPr/>
          <p:nvPr/>
        </p:nvPicPr>
        <p:blipFill>
          <a:blip r:embed="rId1"/>
          <a:stretch/>
        </p:blipFill>
        <p:spPr>
          <a:xfrm>
            <a:off x="500040" y="22860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jelena\Desktop\slike za pkp\2700,1197308483,1.jpg"/>
          <p:cNvPicPr/>
          <p:nvPr/>
        </p:nvPicPr>
        <p:blipFill>
          <a:blip r:embed="rId2"/>
          <a:stretch/>
        </p:blipFill>
        <p:spPr>
          <a:xfrm>
            <a:off x="500040" y="4286160"/>
            <a:ext cx="1620720" cy="1571760"/>
          </a:xfrm>
          <a:prstGeom prst="rect">
            <a:avLst/>
          </a:prstGeom>
          <a:ln w="0">
            <a:noFill/>
          </a:ln>
        </p:spPr>
      </p:pic>
      <p:sp>
        <p:nvSpPr>
          <p:cNvPr id="135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C1BD-0175-47F2-84E2-63201AF2DDB4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BCE2-6E7C-4497-B9DE-3ABD3E72EF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itanju su neopipljive kategorije kao što su svest, poznavanje, dopadljivost, odbojnost, razumevanje, nerazumevanje, poverenje ili nepover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st o neče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li osećanje o tome imaju značaj utoliko što najčešće prethode nekoj odluci ili akciji, i sastavni su deo intrapersonalnog komunikacionog sklopa i unutrašnjeg govora svake ličnos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stock photo : Business people plan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9A54-BF2B-49BD-A958-BACD0C37EC44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5661-E79E-4836-B4F9-2108D77D29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10"/>
          <p:cNvSpPr/>
          <p:nvPr/>
        </p:nvSpPr>
        <p:spPr>
          <a:xfrm>
            <a:off x="2286000" y="6215040"/>
            <a:ext cx="289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ednosni značaj interne komunikacije ogleda se u njegovoj ulozi kao integrativnog i motivacionog faktora kod zaposleni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alima interne komunikacije se na poseban način osmišljavaju poruke i sa zaposlenima dele osnovne vrednosti i principi koji su u temeljima organizaci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C:\Documents and Settings\jelena\Desktop\slike za pkp\4884,1153446901,2.jpg"/>
          <p:cNvPicPr/>
          <p:nvPr/>
        </p:nvPicPr>
        <p:blipFill>
          <a:blip r:embed="rId1"/>
          <a:stretch/>
        </p:blipFill>
        <p:spPr>
          <a:xfrm>
            <a:off x="0" y="214200"/>
            <a:ext cx="1398600" cy="112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jelena\Desktop\slike za pkp\2700,1172261793,2.jpg"/>
          <p:cNvPicPr/>
          <p:nvPr/>
        </p:nvPicPr>
        <p:blipFill>
          <a:blip r:embed="rId2"/>
          <a:stretch/>
        </p:blipFill>
        <p:spPr>
          <a:xfrm>
            <a:off x="7643880" y="314316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50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6D70-04CA-4C60-9D15-8FA68259AB10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8516-D989-4A71-8FE2-0DC6837924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liko zaposleni shvataju i prihvataju osnovnu filozofiju, vrednosti i principe svoje organizacije i u njima žele da učestvuju, oni su prijemčiviji za više forme i sadržaje čiji je značaj da ih motiviše te da kroz lično unapređenje i ličnu korist postignu konkretan napredak i za kompa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C:\Documents and Settings\jelena\Desktop\slike za pkp\2700,1202717691,1.jpg"/>
          <p:cNvPicPr/>
          <p:nvPr/>
        </p:nvPicPr>
        <p:blipFill>
          <a:blip r:embed="rId1"/>
          <a:stretch/>
        </p:blipFill>
        <p:spPr>
          <a:xfrm>
            <a:off x="7215120" y="4714920"/>
            <a:ext cx="1762200" cy="1938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jelena\Desktop\slike za pkp\2700,1178054340,1.jpg"/>
          <p:cNvPicPr/>
          <p:nvPr/>
        </p:nvPicPr>
        <p:blipFill>
          <a:blip r:embed="rId2"/>
          <a:stretch/>
        </p:blipFill>
        <p:spPr>
          <a:xfrm>
            <a:off x="0" y="0"/>
            <a:ext cx="1500120" cy="1714680"/>
          </a:xfrm>
          <a:prstGeom prst="rect">
            <a:avLst/>
          </a:prstGeom>
          <a:ln w="0">
            <a:noFill/>
          </a:ln>
        </p:spPr>
      </p:pic>
      <p:sp>
        <p:nvSpPr>
          <p:cNvPr id="158" name="Date Placeholder 8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BB8F-4A65-474E-8FDE-AE2E2A532AD1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F27B-AAEE-4878-A07E-39C66BB778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REDNOSNI ZNAČAJ INTERNE KOMUNI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ciona uloga interne komunikacije je u tome da se opredmeti u konkretnoj aktivnosti i u određenom ponašan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 komunikacija je tada zaokruženi ciklus, jer putem poruka koje nose kvalitativni i vrednosni smisao postiže i funkcionalne ciljeve koji obuhvataju bolje i produktivnije bazično posl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C:\Documents and Settings\jelena\Desktop\slike za pkp\91282,1202830938,1.jpg"/>
          <p:cNvPicPr/>
          <p:nvPr/>
        </p:nvPicPr>
        <p:blipFill>
          <a:blip r:embed="rId1"/>
          <a:stretch/>
        </p:blipFill>
        <p:spPr>
          <a:xfrm>
            <a:off x="0" y="0"/>
            <a:ext cx="1371600" cy="1500120"/>
          </a:xfrm>
          <a:prstGeom prst="rect">
            <a:avLst/>
          </a:prstGeom>
          <a:ln w="0">
            <a:noFill/>
          </a:ln>
        </p:spPr>
      </p:pic>
      <p:sp>
        <p:nvSpPr>
          <p:cNvPr id="165" name="Date Placeholder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C550-460D-4C5C-86B0-2DF927E7E6E6}" type="datetime">
              <a:rPr b="0" lang="sr-Latn-CS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8461-543B-4B03-9296-F669559707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ff"/>
                </a:solidFill>
                <a:latin typeface="Arial"/>
              </a:rPr>
              <a:t>@MAR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4:03:33Z</dcterms:created>
  <dc:creator>User</dc:creator>
  <dc:description/>
  <dc:language>en-US</dc:language>
  <cp:lastModifiedBy>jelena</cp:lastModifiedBy>
  <dcterms:modified xsi:type="dcterms:W3CDTF">2008-07-09T13:01:53Z</dcterms:modified>
  <cp:revision>23</cp:revision>
  <dc:subject/>
  <dc:title>ULOGA INTERNE POSLOVNE KOMUNIKACIJE</dc:title>
</cp:coreProperties>
</file>