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C388-97E0-428F-A0E9-AD5BDE96E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6FBE-8537-4EEF-AFAE-7D0A7FA1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0B6C-7758-4D55-96BF-8E21D74A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6DA9-D76C-4A8C-943A-06DB2FB4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6E3D-E5D1-4BB1-832F-1F35C5ED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F3D8-792E-4B51-957C-FED2EE84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A1B3-2967-4F21-97CD-309FB27F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7870-D8AD-4AA2-AABE-AB314D16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ACB0-5028-4578-B061-E14E4414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0478-FDE8-4712-9B8D-98E5199F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88E0-FB37-4EFB-9ED9-5392C6F7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8A14-6E3E-460D-85A5-3F052A14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C0C3-01C8-4EA7-A67A-630E22C8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A85B-2F3E-4F7B-882F-80E6B2F5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8027-5D2A-426D-8699-EE37CCD3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8ADF-A30C-4B8B-A86F-89D356EB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4EA8-F1F1-4F2F-BA5B-B7DE9AAE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47F4B-9DA4-4114-B784-3B8C27EA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8B46E-B26C-4D91-BC1E-6FF889D2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DF2D1-DB73-41C3-9DD2-117BE1CE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B0941-688A-4C25-9215-C6F22B4F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8FFF6-2279-41BD-88C5-50C30281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8FF4-E652-4B01-840A-5F3A0E1C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E799F-745C-4B81-8591-D2DE2011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C0B96-5E33-49F1-A3D6-1FAE0BEF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BAB48-2AA2-4AAA-9973-32F3D565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01441-A251-404F-AC2D-50D47FFF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4CE05-C31B-4E19-9455-6BF54230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D843B-AA88-4704-9740-8797C1D1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5338A-5D2B-4181-BA60-BBAE0043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EFB39-7DA6-4644-83B2-014EB9DB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A1543-871B-45F6-9CA5-F4F8F2BC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DD0FF-98E3-4429-9F40-CE73E9D3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305D-810A-41CC-809C-E3C0F750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5BB1D-6074-4661-81D6-2847B88D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DB5FA-8DC5-4DB7-A83F-B1A0311A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72363-DCB5-4026-97C0-D6759858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EDD5A-0020-4B80-A02F-F89FBD8D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455E0-C56F-439A-B555-7DF31651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4FEF4-D4D6-468A-9B3A-73F6C2C3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CCBCA-9F26-4C9F-884A-FE1C690A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A3C33-C77B-4AAD-97BE-325CE319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D1746-55ED-449A-A435-3C6F6E01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870A9-32ED-4F9B-A88C-0B0CEA89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A455-CE31-4A52-8C81-EF00B2C1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34DE0-C4B3-4179-9E0F-E2221E48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52256-5EC7-428A-9EF7-CF197B40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4344D-E5FB-4E2F-B9E0-160B1510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EDDFE-914C-4858-8D62-4FFEC2C0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7C916-5602-4902-9F11-75F840DC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62927-A304-4636-B075-AE11796D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907FB-5ADA-4806-8AD2-DD8EC870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602BA-9C14-47A5-A04D-36902834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81771-1582-46BD-BD42-D6AD38B4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7EE7D-4258-479D-A0E4-26CA1ACE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3ED0-5199-49B1-A57B-DA225E7E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2F865-C63B-4D1D-AE70-D51A8AAA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6E87E-642A-4DCE-B471-77A09A8E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57CE3-A3A9-4F64-ADC4-A6BBF65E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B9FA9-5544-4F41-AEA2-1C521116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8757C-DD1A-4E0C-8F05-065AC56A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F2FEB-6D99-42B4-9C07-8DAE8405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23B09-3D31-41DC-902B-A20FDF08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9CF08-CA1E-49D2-8621-C976743C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AE1A4-005F-4509-A10C-5F495879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72B42-8B1E-47A1-8450-E5D9FB4B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F636-071B-4D2F-B819-387396DA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DDAD1-E26E-4E0C-91B2-D91AB384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138E4-E9E8-4983-B270-CA2E89AB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EB067-79F0-4855-B362-D7A29CED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CD94E-F6DE-40BE-88AB-737D0A17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861CF-249E-438E-AC03-69CD38D7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E113B-249E-4306-A929-C1983C00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9C21C-C4F6-40B7-95FC-A0C5975A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C1E09-9189-4FDA-A493-C1B90399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6F0A9-A44E-4371-A59E-6D472159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E0251-C20E-4F00-BACD-9EB595B8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71DD-C04E-4182-B6CD-F1699C5A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75E6D-5BE9-4A65-B60D-40C22A14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6D189-F7BB-49BC-B41E-D08E2C36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3F419-BE83-45F8-B086-DBC7233F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2B589-7F5E-4526-8A7A-F9D4B303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BEC0A-52AC-46E6-9DD7-3BDADA5B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3972-CFD8-453D-9B86-4B75B3DA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59E4-17AD-4F27-838B-8785B10F49F4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A2BA-DCE3-4B23-BE57-2F924B5641DA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3656-6654-4D53-AD2C-26D491A29638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B225-EAA2-4835-8DCE-11A0CEEBDF31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4FDD-A730-4DFE-B771-8A1E682BFF60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D967-FBCF-469C-8947-02395CFB8789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E253-AC4C-439C-A17F-728E51D7D93B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6E44-EC01-4758-9626-CCDC026FB048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E8CF-F2A1-40CF-B1CF-33018F54C5C3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01B4-E845-41A7-879D-7E2DBF926E9B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B17B-BB6C-4D2A-9F0D-D61568487F02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8689-13FD-4DA7-A6A4-1FB9A086AAE1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6f2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ef5fa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2150-C253-463C-AFFB-7AEFDAE776E3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0DB6-A6B5-4566-A43E-6FA5E7BD9BF3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0" y="1499760"/>
            <a:ext cx="68580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Pore</a:t>
            </a: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đenje chat klijenata</a:t>
            </a:r>
            <a:br>
              <a:rPr sz="4300"/>
            </a:b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214520" y="3714840"/>
            <a:ext cx="4621320" cy="3579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1357200" y="3857760"/>
            <a:ext cx="18576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6429240" y="1285920"/>
            <a:ext cx="2714760" cy="55720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464646"/>
                </a:solidFill>
                <a:latin typeface="Gill Sans MT"/>
              </a:rPr>
              <a:t>GOOGLE  TALK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000080" y="1142640"/>
            <a:ext cx="5857920" cy="5715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Da biste koristili gTALK morate imati otvoren nalog na gmail-u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U poslednje vreme je jako zastupljen medju internet korisnicima jer 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pored zvucnog (Skype) i pisanog oblika, sada podr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ž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ava i peer-2-peer varijantu(nema ograni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č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enja u veli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č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ini i tipu fajla)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N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ovost je i voice mail, kada user nije online, mozete poslati audio poruku koju user dobija kao E-mail attachment na Gmail-u..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ffffff"/>
                </a:solidFill>
                <a:latin typeface="Gill Sans MT"/>
              </a:rPr>
              <a:t>MSN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431720" y="1643040"/>
            <a:ext cx="7407000" cy="5214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MSN je lansiran 1999 kao konkurencija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OL Instant Messenger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-u,od kompanije Microsof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Prvobitan naziv bio j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MSN Messenger Service“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,ali je kasnije pojednostavljen ka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MSN Messenger.“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Termin MSN je postao sinonim za sve messenger servise u internet sleng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6"/>
          <p:cNvSpPr/>
          <p:nvPr/>
        </p:nvSpPr>
        <p:spPr>
          <a:xfrm flipH="1">
            <a:off x="1355760" y="1440"/>
            <a:ext cx="144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MSN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285560" y="1071360"/>
            <a:ext cx="5143320" cy="5429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a je najrasprostanjeniji medju internet korisnicima govori činjenica da ga danas koristi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225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iliona ljud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a biste koristili MSN morate imati otvoren nalog na hotmail-u</a:t>
            </a:r>
            <a:r>
              <a:rPr b="0" lang="sr-Latn-CS" sz="3200" spc="-1" strike="noStrike">
                <a:solidFill>
                  <a:srgbClr val="252525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285920" y="5214960"/>
            <a:ext cx="1409760" cy="1305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6410160" y="1071720"/>
            <a:ext cx="27338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143000" y="4572000"/>
            <a:ext cx="1643040" cy="21430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Arial"/>
                <a:ea typeface="Arial"/>
              </a:rPr>
              <a:t>KOJI IZABRATI?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31720" y="1071360"/>
            <a:ext cx="7407000" cy="4071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ijedan chat klijent ne možemo izdvojiti kao najbolji.Svaki od njih nam nudi veliki broj mogućnosti,koje mi koristimo u skladu sa našim potrebam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Često korisnici imaju instalirana 2-3 različita chat klijenta,i na taj način pokrivaju najveći deo onoga što nude                .            Chat klijent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"/>
          <p:cNvPicPr/>
          <p:nvPr/>
        </p:nvPicPr>
        <p:blipFill>
          <a:blip r:embed="rId2"/>
          <a:stretch/>
        </p:blipFill>
        <p:spPr>
          <a:xfrm>
            <a:off x="3143160" y="5572080"/>
            <a:ext cx="1181160" cy="1047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3"/>
          <a:stretch/>
        </p:blipFill>
        <p:spPr>
          <a:xfrm>
            <a:off x="5072040" y="5572080"/>
            <a:ext cx="1038240" cy="1000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http://img338.imageshack.us/img338/2901/promotewallpaperthzy8.jpg"/>
          <p:cNvPicPr/>
          <p:nvPr/>
        </p:nvPicPr>
        <p:blipFill>
          <a:blip r:embed="rId4"/>
          <a:stretch/>
        </p:blipFill>
        <p:spPr>
          <a:xfrm>
            <a:off x="6786720" y="5286240"/>
            <a:ext cx="20714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464646"/>
                </a:solidFill>
                <a:latin typeface="Gill Sans MT"/>
              </a:rPr>
              <a:t>ALL-IN-ONE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000080" y="1142640"/>
            <a:ext cx="8143920" cy="3429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e nekoliko godina objavljeni su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all-in-one</a:t>
            </a:r>
            <a:r>
              <a:rPr b="1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(svi u jednom)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chat programi koji podržavaju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ICQ, AIM, MSN, Yahoo, IRC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eki od njih su: Miranda,Trillian,Jabber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1214280" y="3286080"/>
            <a:ext cx="3571920" cy="29289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 rot="20915400">
            <a:off x="5489280" y="3717720"/>
            <a:ext cx="31590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ALL-IN-ONE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431720" y="1285920"/>
            <a:ext cx="7407000" cy="5286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im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Ukoliko imate Gtalk,a vaš novi poslovni partner MSN messenger,vi zahvaljujući all-in-one ne morate dodatno da se mučite instalirajući MSN,otvarajući nalog na hotmail-u,ili slali njemu pozivnicu za Gmail,pa čekali d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je prihvati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ovoljno je da imte instaliran neki od all-in-one da biste komunicirali sa njim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1143000" y="0"/>
            <a:ext cx="1104840" cy="8668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7643880" y="4357800"/>
            <a:ext cx="11714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4643280" y="5214960"/>
            <a:ext cx="2214720" cy="9716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Arial"/>
                <a:ea typeface="Arial"/>
              </a:rPr>
              <a:t>ZAKLJUČAK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143000" y="1356840"/>
            <a:ext cx="7786800" cy="4929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Iako naizgled različiti,svi Chat klijenti pružaju donekle iste usluge svojim korisnicim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Za koji god da se odlučite u svako doba dana i noći ćete moći da komunicirate i razmenjujete fajlove sa ljudima,bilo da oni žive u zgradi do vaše ili na hiljadama kilometara dalek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9" descr=""/>
          <p:cNvPicPr/>
          <p:nvPr/>
        </p:nvPicPr>
        <p:blipFill>
          <a:blip r:embed="rId2"/>
          <a:stretch/>
        </p:blipFill>
        <p:spPr>
          <a:xfrm>
            <a:off x="8097840" y="0"/>
            <a:ext cx="10461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"/>
          <p:cNvPicPr/>
          <p:nvPr/>
        </p:nvPicPr>
        <p:blipFill>
          <a:blip r:embed="rId1"/>
          <a:stretch/>
        </p:blipFill>
        <p:spPr>
          <a:xfrm>
            <a:off x="5000760" y="0"/>
            <a:ext cx="4143240" cy="41432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PREGLED IZLAGANJA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071720" y="1213920"/>
            <a:ext cx="7858080" cy="528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lvl="1" marL="971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a je cha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Prednosti u odnosu na e-mai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Vrste chat klijenat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a pružaju korisnicima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o više o: ICQ,Gtalk,Msn i all-in-one chat klijentima.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oji 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brati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ključak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2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2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2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20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20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2000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Šta je chat?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071360" y="1785600"/>
            <a:ext cx="8072280" cy="3025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Chat ili IRC (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nternet 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ealy 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hat) je jedan od servisa koji je donekle sličan elektronskoj pošti i predstavlja ćaskanje(engl.chat) putem internet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5715000" y="3865680"/>
            <a:ext cx="2214720" cy="2035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1857240" y="4714920"/>
            <a:ext cx="2143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Gill Sans MT"/>
              </a:rPr>
              <a:t>Prednosti u odnosu na e-mail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000080" y="1714320"/>
            <a:ext cx="5143680" cy="5143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 razliku od elektronske pošte komunikacija se obavlja u realnom vremenu tj.svi učesnici u komunikaciji moraju da se nalaze istovremeno u blizini računar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6048360" y="1071720"/>
            <a:ext cx="309564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VRSTE CHAT KLIJENATA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571400" y="1785600"/>
            <a:ext cx="688644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Chat kao najrasprostranjeniji komunikacioni servis na internetu se  vrši putem chat klijenata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Google talk,Mirabilis,AOL messenger,          mIRC,XChat,MSN,Skype,Yahoo messenger,ICQ,Jabber,Trillian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http://img338.imageshack.us/img338/2901/promotewallpaperthzy8.jpg"/>
          <p:cNvPicPr/>
          <p:nvPr/>
        </p:nvPicPr>
        <p:blipFill>
          <a:blip r:embed="rId1"/>
          <a:stretch/>
        </p:blipFill>
        <p:spPr>
          <a:xfrm>
            <a:off x="6286680" y="4929120"/>
            <a:ext cx="2071440" cy="13575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1143000" y="5715000"/>
            <a:ext cx="1928880" cy="9288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"/>
          <p:cNvPicPr/>
          <p:nvPr/>
        </p:nvPicPr>
        <p:blipFill>
          <a:blip r:embed="rId3"/>
          <a:stretch/>
        </p:blipFill>
        <p:spPr>
          <a:xfrm>
            <a:off x="7286760" y="1214280"/>
            <a:ext cx="15714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ŠTA PRUŽAJU KORISNICIMA?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2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000080" y="1213920"/>
            <a:ext cx="7215120" cy="5643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Omogućavaju nam komunikaciju s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ijatelj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Rodbino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oslovnim partner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eki chat klijenti dozvoljavaju video i glasovnu komunikaciju,razmenu fajlova,kao i izražavanje emocija preko velikog broja emotikona,winkova i s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5572080" y="1785960"/>
            <a:ext cx="3571920" cy="2214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2"/>
          <a:stretch/>
        </p:blipFill>
        <p:spPr>
          <a:xfrm>
            <a:off x="7915320" y="0"/>
            <a:ext cx="1228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5" descr=""/>
          <p:cNvPicPr/>
          <p:nvPr/>
        </p:nvPicPr>
        <p:blipFill>
          <a:blip r:embed="rId1"/>
          <a:stretch/>
        </p:blipFill>
        <p:spPr>
          <a:xfrm>
            <a:off x="1000080" y="0"/>
            <a:ext cx="8143920" cy="24289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85960" y="213840"/>
            <a:ext cx="66722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ICQ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431720" y="1357200"/>
            <a:ext cx="7407000" cy="5500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Aj-Si-Kju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 (ICQ, igra reči: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engl.</a:t>
            </a:r>
            <a:r>
              <a:rPr b="0" i="1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I Seek You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 - „tražim te“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Prva verzija programa je izašl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. godine, a naziv je nastao kao gore pomenuta igra reči na engleskom jeziku.</a:t>
            </a:r>
            <a:r>
              <a:rPr b="0" lang="vi-VN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Vremenom, pojavile su se i mogućnosti prenosa fajlova, slike pa i „onlajn“ igranja između korisnik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85960" y="142920"/>
            <a:ext cx="66722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464646"/>
                </a:solidFill>
                <a:latin typeface="Gill Sans MT"/>
              </a:rPr>
              <a:t>ICQ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99720" y="1071360"/>
            <a:ext cx="6000840" cy="5500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Od 2007 god. Omogućeno je slanje besplatnih SMS poruka preko njega,podržava glasovnu i video komunikacij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edjutim iako je bio jako popularan u svoje vreme,nove generacije chat klijenat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su ga ubrzo zamenile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ada postoje oni koji su mu ostali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osledn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0" descr=""/>
          <p:cNvPicPr/>
          <p:nvPr/>
        </p:nvPicPr>
        <p:blipFill>
          <a:blip r:embed="rId1"/>
          <a:stretch/>
        </p:blipFill>
        <p:spPr>
          <a:xfrm>
            <a:off x="6429240" y="5214960"/>
            <a:ext cx="1409760" cy="1295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038240" cy="1000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"/>
          <p:cNvPicPr/>
          <p:nvPr/>
        </p:nvPicPr>
        <p:blipFill>
          <a:blip r:embed="rId3"/>
          <a:stretch/>
        </p:blipFill>
        <p:spPr>
          <a:xfrm>
            <a:off x="6899400" y="1500120"/>
            <a:ext cx="22446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http://img338.imageshack.us/img338/2901/promotewallpaperthzy8.jpg"/>
          <p:cNvPicPr/>
          <p:nvPr/>
        </p:nvPicPr>
        <p:blipFill>
          <a:blip r:embed="rId1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GOOGLE TALK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431720" y="1213920"/>
            <a:ext cx="7407000" cy="5000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Google Talk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je servis kompanije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Google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koji pruža uslugu Internet telefonije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(VoIP - Voice over Internet Protocol) i chat-a (IM - Instant Messaging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Google Talk beta verzija izašla je 24. avgusta 2005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Za sada program može da radi samo na Windows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operativnim sistemima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(2000,XP,server 2003,Vista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Očekuje se da neka od budućih verzija podržava i video konferencij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20:53:16Z</dcterms:created>
  <dc:creator>jelena</dc:creator>
  <dc:description/>
  <dc:language>en-US</dc:language>
  <cp:lastModifiedBy>jelena</cp:lastModifiedBy>
  <dcterms:modified xsi:type="dcterms:W3CDTF">2008-07-09T13:03:05Z</dcterms:modified>
  <cp:revision>72</cp:revision>
  <dc:subject/>
  <dc:title>Poređenje chat klijenata </dc:title>
</cp:coreProperties>
</file>