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938CB-6D19-4650-9EBD-905D48DF7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90C54-DB22-4A59-96C2-876744E80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4B73B-E153-4E0D-BAFA-EFA9CCF20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4F7C8-4BED-49F2-B75B-559173754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0A93F-46D2-4EDC-A043-AA6D1F932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595FC-3AA7-46C1-9BD5-0D58BB260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03041-58FD-41E3-89F4-D117FAB8D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3DB2D-0D8B-4CCA-AA86-7BAAE6B33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193CA-D098-4A07-B6A1-D9817DAF3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E5A70-52DF-492B-8EAF-8C140E7EB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03194-06C3-4634-B0B8-CE0BA0758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EFA52-925A-4A97-95CB-1597135C1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3C8EF-9D17-416E-8B32-221FCAC73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E6140-EBDE-4649-A844-5150F9FD7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CBF2C-4C4E-41AC-88C8-26AF31618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3C9DF-D1C9-46EA-943A-DBAC935EE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127C7-BD14-4CA4-B774-5DA6B0004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909E5-808C-4F53-9904-8783EB699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D627C-155E-46AC-8D7F-8788A6012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2A96E-1D66-4D0A-A6A1-3CE9772D5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09298-431D-4C70-A64F-606F9B0EF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74990-23B2-4B9E-A0FB-21E5C033F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52EFD-C996-4869-8413-F7B492579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1D49B-6CAA-4EE0-B1F0-B5A87F052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3742B-106D-40F4-983A-170CEA84F7FA}" type="datetime">
              <a:rPr b="0" lang="en-US" sz="1200" spc="-1" strike="noStrike">
                <a:solidFill>
                  <a:srgbClr val="000000"/>
                </a:solidFill>
                <a:latin typeface="Garamond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@МАRL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CD154-7803-481C-9E06-02D16B467A84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prstGeom prst="pie">
            <a:avLst/>
          </a:pr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prstGeom prst="pie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2AB9D-B4FC-4803-8382-F03860ACA43F}" type="datetime">
              <a:rPr b="0" lang="en-US" sz="1200" spc="-1" strike="noStrike">
                <a:solidFill>
                  <a:srgbClr val="000000"/>
                </a:solidFill>
                <a:latin typeface="Garamond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@МАRL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D2015-E7C7-45E5-8A31-DD6A0B1FA356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photovault.com/Link/People/Abstracts/Closeups/show.asp?tg=PACVolume01/PACV01P05_12B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4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BF3CE-8402-4B26-AEE6-CF485FEBF796}" type="datetime">
              <a:rPr b="0" lang="en-US" sz="1200" spc="-1" strike="noStrike">
                <a:solidFill>
                  <a:srgbClr val="000000"/>
                </a:solidFill>
                <a:latin typeface="Garamond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5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@МАR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040" y="2286000"/>
            <a:ext cx="7623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33"/>
                </a:solidFill>
                <a:latin typeface="Arial"/>
              </a:rPr>
              <a:t>INTERPRETACIJE POKRETA O</a:t>
            </a:r>
            <a:r>
              <a:rPr b="0" lang="sr-Latn-CS" sz="3200" spc="-1" strike="noStrike">
                <a:solidFill>
                  <a:srgbClr val="006633"/>
                </a:solidFill>
                <a:latin typeface="Arial"/>
              </a:rPr>
              <a:t>ČIMA</a:t>
            </a:r>
            <a:br>
              <a:rPr sz="3200"/>
            </a:b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7" descr="http://www.photovault.com/Link/People/Abstracts/Closeups/PACVolume01/PACV01P05_12B.tn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14240" y="1285920"/>
            <a:ext cx="866880" cy="57132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Date Placeholder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F8B28-8E0C-416D-A012-EDC9980422E7}" type="datetime">
              <a:rPr b="0" lang="en-US" sz="1200" spc="-1" strike="noStrike">
                <a:solidFill>
                  <a:srgbClr val="000000"/>
                </a:solidFill>
                <a:latin typeface="Garamond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Footer Placeholder 4"/>
          <p:cNvSpPr/>
          <p:nvPr/>
        </p:nvSpPr>
        <p:spPr>
          <a:xfrm>
            <a:off x="307188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@МАR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6633"/>
                </a:solidFill>
                <a:latin typeface="Arial"/>
              </a:rPr>
              <a:t>KONTAKT OČIMA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zdvaja usne kada vam se pogledi susretnu</a:t>
            </a: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To otkriva da je zadovoljan onim što vidi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7" descr="http://www.photovault.com/Link/People/Abstracts/Closeups/PACVolume01/PACV01P15_12.2677.tn.jpg"/>
          <p:cNvPicPr/>
          <p:nvPr/>
        </p:nvPicPr>
        <p:blipFill>
          <a:blip r:embed="rId1"/>
          <a:stretch/>
        </p:blipFill>
        <p:spPr>
          <a:xfrm>
            <a:off x="785880" y="3500280"/>
            <a:ext cx="2571840" cy="15004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9" descr="http://www.fotosearch.com/bthumb/RBL/RBL204/b02432.jpg"/>
          <p:cNvPicPr/>
          <p:nvPr/>
        </p:nvPicPr>
        <p:blipFill>
          <a:blip r:embed="rId2"/>
          <a:stretch/>
        </p:blipFill>
        <p:spPr>
          <a:xfrm>
            <a:off x="4786200" y="3286080"/>
            <a:ext cx="3214800" cy="200016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5" dur="2000" fill="hold"/>
                                        <p:tgtEl>
                                          <p:spTgt spid="13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Date Placeholder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AD5DD-B00C-4065-ACF8-64F4FC2E79C1}" type="datetime">
              <a:rPr b="0" lang="en-US" sz="1200" spc="-1" strike="noStrike">
                <a:solidFill>
                  <a:srgbClr val="000000"/>
                </a:solidFill>
                <a:latin typeface="Garamond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@МАR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6633"/>
                </a:solidFill>
                <a:latin typeface="Arial"/>
              </a:rPr>
              <a:t>POKRETI OČIMA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41" name="Picture 3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3095640" cy="11509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4" descr=""/>
          <p:cNvPicPr/>
          <p:nvPr/>
        </p:nvPicPr>
        <p:blipFill>
          <a:blip r:embed="rId2"/>
          <a:stretch/>
        </p:blipFill>
        <p:spPr>
          <a:xfrm>
            <a:off x="5148360" y="1341360"/>
            <a:ext cx="3047760" cy="12096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5" descr="Eyes Upward Left"/>
          <p:cNvPicPr/>
          <p:nvPr/>
        </p:nvPicPr>
        <p:blipFill>
          <a:blip r:embed="rId3"/>
          <a:stretch/>
        </p:blipFill>
        <p:spPr>
          <a:xfrm>
            <a:off x="857160" y="3786120"/>
            <a:ext cx="3048120" cy="12096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6" descr="Eyes Up Right"/>
          <p:cNvPicPr/>
          <p:nvPr/>
        </p:nvPicPr>
        <p:blipFill>
          <a:blip r:embed="rId4"/>
          <a:stretch/>
        </p:blipFill>
        <p:spPr>
          <a:xfrm>
            <a:off x="5143680" y="3714840"/>
            <a:ext cx="3047760" cy="1209600"/>
          </a:xfrm>
          <a:prstGeom prst="rect">
            <a:avLst/>
          </a:prstGeom>
          <a:ln w="0">
            <a:noFill/>
          </a:ln>
        </p:spPr>
      </p:pic>
      <p:sp>
        <p:nvSpPr>
          <p:cNvPr id="145" name="TextBox 9"/>
          <p:cNvSpPr/>
          <p:nvPr/>
        </p:nvSpPr>
        <p:spPr>
          <a:xfrm>
            <a:off x="5143680" y="2714760"/>
            <a:ext cx="350028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 u="sng">
                <a:solidFill>
                  <a:srgbClr val="000000"/>
                </a:solidFill>
                <a:uFillTx/>
                <a:latin typeface="Arial"/>
              </a:rPr>
              <a:t>Pogled pravo gore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-označava dosadu,sarkazam i slično.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10"/>
          <p:cNvSpPr/>
          <p:nvPr/>
        </p:nvSpPr>
        <p:spPr>
          <a:xfrm>
            <a:off x="785880" y="2643120"/>
            <a:ext cx="3286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Konstantan pogled-</a:t>
            </a:r>
            <a:r>
              <a:rPr b="0" lang="sr-Latn-CS" sz="1800" spc="-1" strike="noStrike" u="sng">
                <a:solidFill>
                  <a:srgbClr val="000000"/>
                </a:solidFill>
                <a:uFillTx/>
                <a:latin typeface="Arial"/>
              </a:rPr>
              <a:t>o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značava da je osoba  zainteresovana za razgov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11"/>
          <p:cNvSpPr/>
          <p:nvPr/>
        </p:nvSpPr>
        <p:spPr>
          <a:xfrm>
            <a:off x="5214960" y="4929120"/>
            <a:ext cx="3214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 u="sng">
                <a:solidFill>
                  <a:srgbClr val="000000"/>
                </a:solidFill>
                <a:uFillTx/>
                <a:latin typeface="Arial"/>
              </a:rPr>
              <a:t>Pogled gore desno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- označava da osoba pokušava da se seti ranije zapamćene slik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12"/>
          <p:cNvSpPr/>
          <p:nvPr/>
        </p:nvSpPr>
        <p:spPr>
          <a:xfrm>
            <a:off x="857160" y="5143680"/>
            <a:ext cx="3143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 u="sng">
                <a:solidFill>
                  <a:srgbClr val="000000"/>
                </a:solidFill>
                <a:uFillTx/>
                <a:latin typeface="Arial"/>
              </a:rPr>
              <a:t>Pogled gore levo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-označava da osoba “konstruiše” sliku u svojoj glav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Date Placeholder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33A95-F504-4F74-9DC0-184EF7E6889E}" type="datetime">
              <a:rPr b="0" lang="en-US" sz="1200" spc="-1" strike="noStrike">
                <a:solidFill>
                  <a:srgbClr val="000000"/>
                </a:solidFill>
                <a:latin typeface="Garamond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@МАR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6633"/>
                </a:solidFill>
                <a:latin typeface="Arial"/>
              </a:rPr>
              <a:t>POKRETI OČIMA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52" name="Picture 4" descr="Eyes Right"/>
          <p:cNvPicPr/>
          <p:nvPr/>
        </p:nvPicPr>
        <p:blipFill>
          <a:blip r:embed="rId1"/>
          <a:stretch/>
        </p:blipFill>
        <p:spPr>
          <a:xfrm>
            <a:off x="428760" y="714240"/>
            <a:ext cx="3047760" cy="120996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5" descr="Eyes Left"/>
          <p:cNvPicPr/>
          <p:nvPr/>
        </p:nvPicPr>
        <p:blipFill>
          <a:blip r:embed="rId2"/>
          <a:stretch/>
        </p:blipFill>
        <p:spPr>
          <a:xfrm>
            <a:off x="5643720" y="714240"/>
            <a:ext cx="3047760" cy="12099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6" descr="Eyes Down Right"/>
          <p:cNvPicPr/>
          <p:nvPr/>
        </p:nvPicPr>
        <p:blipFill>
          <a:blip r:embed="rId3"/>
          <a:stretch/>
        </p:blipFill>
        <p:spPr>
          <a:xfrm>
            <a:off x="428760" y="3929040"/>
            <a:ext cx="3047760" cy="12096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7" descr="Eyes Down Left"/>
          <p:cNvPicPr/>
          <p:nvPr/>
        </p:nvPicPr>
        <p:blipFill>
          <a:blip r:embed="rId4"/>
          <a:stretch/>
        </p:blipFill>
        <p:spPr>
          <a:xfrm>
            <a:off x="5857920" y="3857760"/>
            <a:ext cx="3048120" cy="12096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8" descr="Eyes Down"/>
          <p:cNvPicPr/>
          <p:nvPr/>
        </p:nvPicPr>
        <p:blipFill>
          <a:blip r:embed="rId5"/>
          <a:stretch/>
        </p:blipFill>
        <p:spPr>
          <a:xfrm>
            <a:off x="3071880" y="2000160"/>
            <a:ext cx="3047760" cy="1209600"/>
          </a:xfrm>
          <a:prstGeom prst="rect">
            <a:avLst/>
          </a:prstGeom>
          <a:ln w="0">
            <a:noFill/>
          </a:ln>
        </p:spPr>
      </p:pic>
      <p:sp>
        <p:nvSpPr>
          <p:cNvPr id="157" name="TextBox 10"/>
          <p:cNvSpPr/>
          <p:nvPr/>
        </p:nvSpPr>
        <p:spPr>
          <a:xfrm>
            <a:off x="428760" y="2071800"/>
            <a:ext cx="2571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 u="sng">
                <a:solidFill>
                  <a:srgbClr val="000000"/>
                </a:solidFill>
                <a:uFillTx/>
                <a:latin typeface="Arial"/>
              </a:rPr>
              <a:t>Pogled desno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-osoba pokušava da se priseti ranije zapamćenog zvuk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11"/>
          <p:cNvSpPr/>
          <p:nvPr/>
        </p:nvSpPr>
        <p:spPr>
          <a:xfrm>
            <a:off x="6143760" y="2071800"/>
            <a:ext cx="2786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 u="sng">
                <a:solidFill>
                  <a:srgbClr val="000000"/>
                </a:solidFill>
                <a:uFillTx/>
                <a:latin typeface="Arial"/>
              </a:rPr>
              <a:t>Pogled levo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-osoba pokušava da osmisli zvuk koji nikada ranije nije čul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12"/>
          <p:cNvSpPr/>
          <p:nvPr/>
        </p:nvSpPr>
        <p:spPr>
          <a:xfrm>
            <a:off x="3071880" y="3286080"/>
            <a:ext cx="307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 u="sng">
                <a:solidFill>
                  <a:srgbClr val="000000"/>
                </a:solidFill>
                <a:uFillTx/>
                <a:latin typeface="Arial"/>
              </a:rPr>
              <a:t>Pogled dole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-osoba se oseća neprijatno ili postiđen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13"/>
          <p:cNvSpPr/>
          <p:nvPr/>
        </p:nvSpPr>
        <p:spPr>
          <a:xfrm>
            <a:off x="428760" y="5143680"/>
            <a:ext cx="3071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 u="sng">
                <a:solidFill>
                  <a:srgbClr val="000000"/>
                </a:solidFill>
                <a:uFillTx/>
                <a:latin typeface="Arial"/>
              </a:rPr>
              <a:t>Pogled dole desno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-osoba razvija unutrašnji dijalog u svojoj glav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14"/>
          <p:cNvSpPr/>
          <p:nvPr/>
        </p:nvSpPr>
        <p:spPr>
          <a:xfrm>
            <a:off x="5857920" y="5072040"/>
            <a:ext cx="3286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 u="sng">
                <a:solidFill>
                  <a:srgbClr val="000000"/>
                </a:solidFill>
                <a:uFillTx/>
                <a:latin typeface="Arial"/>
              </a:rPr>
              <a:t>Pogled dole levo-osoba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okušava da zamisli kako je nešto navodi da se oseć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Date Placeholder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DFB76-37EC-4B56-A5A0-DF9EB2CB3747}" type="datetime">
              <a:rPr b="0" lang="en-US" sz="1200" spc="-1" strike="noStrike">
                <a:solidFill>
                  <a:srgbClr val="000000"/>
                </a:solidFill>
                <a:latin typeface="Garamond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@МАR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6633"/>
                </a:solidFill>
                <a:latin typeface="Arial"/>
              </a:rPr>
              <a:t>OČI...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65" name="Picture 5" descr="C:\Documents and Settings\jelena\My Documents\My Pictures\Picture1.png"/>
          <p:cNvPicPr/>
          <p:nvPr/>
        </p:nvPicPr>
        <p:blipFill>
          <a:blip r:embed="rId1"/>
          <a:stretch/>
        </p:blipFill>
        <p:spPr>
          <a:xfrm>
            <a:off x="571680" y="1428840"/>
            <a:ext cx="8001000" cy="450036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Date Placeholder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8A857-F28D-4843-A7E4-89AD5C550E2E}" type="datetime">
              <a:rPr b="0" lang="en-US" sz="1200" spc="-1" strike="noStrike">
                <a:solidFill>
                  <a:srgbClr val="000000"/>
                </a:solidFill>
                <a:latin typeface="Garamond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@МАR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6633"/>
                </a:solidFill>
                <a:latin typeface="Arial"/>
              </a:rPr>
              <a:t>ZAKLJUČAK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everbalna komunikacija stalni je podtekst svega što činimo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e možemo prestati pokazivati izraze lica ili držanje, ili prikrivati ton kojim nešto govorimo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ko grešimo u odabiru emocionalnih poruka koje upućujemo bićemo odbacivani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6" descr="C:\Documents and Settings\jelena\Desktop\New Folder (2)\gs263017[1].jpg"/>
          <p:cNvPicPr/>
          <p:nvPr/>
        </p:nvPicPr>
        <p:blipFill>
          <a:blip r:embed="rId1"/>
          <a:stretch/>
        </p:blipFill>
        <p:spPr>
          <a:xfrm>
            <a:off x="500040" y="357120"/>
            <a:ext cx="1619280" cy="10764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3" dur="2000" fill="hold"/>
                                        <p:tgtEl>
                                          <p:spTgt spid="16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Date Placeholder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0D8F4-D565-4221-8857-F26AA5C7E18D}" type="datetime">
              <a:rPr b="0" lang="en-US" sz="1200" spc="-1" strike="noStrike">
                <a:solidFill>
                  <a:srgbClr val="000000"/>
                </a:solidFill>
                <a:latin typeface="Garamond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@МАR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75" name="Text Box 5"/>
          <p:cNvSpPr/>
          <p:nvPr/>
        </p:nvSpPr>
        <p:spPr>
          <a:xfrm rot="20275800">
            <a:off x="2411280" y="2781360"/>
            <a:ext cx="489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HVALA NA PAŽNJ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!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6" dur="2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Date Placeholder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A90AC-5BEB-455B-A7C4-5F10AA205886}" type="datetime">
              <a:rPr b="0" lang="en-US" sz="1200" spc="-1" strike="noStrike">
                <a:solidFill>
                  <a:srgbClr val="000000"/>
                </a:solidFill>
                <a:latin typeface="Garamond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@МАR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Pregled izlaganja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28760" y="1571400"/>
            <a:ext cx="76435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Neverbalna komunikaci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Neverbalni znako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Kontakt oči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Pokreti očij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7" descr="http://www.fotosearch.com/bthumb/UNX/UNX017/u29012759.jpg"/>
          <p:cNvPicPr/>
          <p:nvPr/>
        </p:nvPicPr>
        <p:blipFill>
          <a:blip r:embed="rId1"/>
          <a:stretch/>
        </p:blipFill>
        <p:spPr>
          <a:xfrm>
            <a:off x="4714920" y="3929040"/>
            <a:ext cx="2405160" cy="18144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Date Placeholder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6017A-4DE3-4F21-90C8-94513FF8FC81}" type="datetime">
              <a:rPr b="0" lang="en-US" sz="1200" spc="-1" strike="noStrike">
                <a:solidFill>
                  <a:srgbClr val="000000"/>
                </a:solidFill>
                <a:latin typeface="Garamond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@МАR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6633"/>
                </a:solidFill>
                <a:latin typeface="Arial"/>
              </a:rPr>
              <a:t>NEVERBALNA KOMUNIKACIJA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Čovek najveći d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 svog vremena provodi u komunikaciji sa drugim ljudim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k se verbalna komunikacija odnosi na stvarne reči koje se koriste pri razgovoru, neverbalna komunikacija se sastoji od mnoštva znakova od kojih svaki ima svoje značenj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7" descr="http://www.photovault.com/Link/People/Abstracts/Closeups/PACVolume01/PACV01P02_15C.tn.jpg"/>
          <p:cNvPicPr/>
          <p:nvPr/>
        </p:nvPicPr>
        <p:blipFill>
          <a:blip r:embed="rId1"/>
          <a:stretch/>
        </p:blipFill>
        <p:spPr>
          <a:xfrm>
            <a:off x="500040" y="357120"/>
            <a:ext cx="857160" cy="57168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Date Placeholder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397CF-ADAD-47C8-933E-FE5BE74B52C6}" type="datetime">
              <a:rPr b="0" lang="en-US" sz="1200" spc="-1" strike="noStrike">
                <a:solidFill>
                  <a:srgbClr val="000000"/>
                </a:solidFill>
                <a:latin typeface="Garamond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@МАR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6633"/>
                </a:solidFill>
                <a:latin typeface="Arial"/>
              </a:rPr>
              <a:t>NEVERBALNA KOMUNIKACIJA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verbalna komunikacija često bude i uzrok sukoba – mnogi obračuni počinju nerazumevanjem neverbalne poruke, npr. neki pogled se protumači kao uvredljiv, a zapravo je slu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čajan ili u prolaz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7" descr="http://www.photovault.com/Link/People/Abstracts/Closeups/PACVolume01/PACPCD0658_064B.tn.jpg"/>
          <p:cNvPicPr/>
          <p:nvPr/>
        </p:nvPicPr>
        <p:blipFill>
          <a:blip r:embed="rId1"/>
          <a:stretch/>
        </p:blipFill>
        <p:spPr>
          <a:xfrm>
            <a:off x="5357880" y="4500720"/>
            <a:ext cx="1285920" cy="10713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8" descr="http://www.fotosearch.com/bthumb/GSH/GSH370/gs261100.jpg"/>
          <p:cNvPicPr/>
          <p:nvPr/>
        </p:nvPicPr>
        <p:blipFill>
          <a:blip r:embed="rId2"/>
          <a:stretch/>
        </p:blipFill>
        <p:spPr>
          <a:xfrm>
            <a:off x="1643040" y="4500720"/>
            <a:ext cx="1643040" cy="11430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Date Placeholder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B6F46-6976-40D3-BDBC-0FC33CCDE066}" type="datetime">
              <a:rPr b="0" lang="en-US" sz="1200" spc="-1" strike="noStrike">
                <a:solidFill>
                  <a:srgbClr val="000000"/>
                </a:solidFill>
                <a:latin typeface="Garamond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@МАR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6633"/>
                </a:solidFill>
                <a:latin typeface="Arial"/>
              </a:rPr>
              <a:t>NEVERBALNI ZNAKOVI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verbalni znakovi uključuju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zraze lic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n glas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sto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ložaj tela ili pokre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dir 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gl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6" descr="C:\Documents and Settings\jelena\Desktop\New Folder (2)\75780157[1].jpg"/>
          <p:cNvPicPr/>
          <p:nvPr/>
        </p:nvPicPr>
        <p:blipFill>
          <a:blip r:embed="rId1"/>
          <a:stretch/>
        </p:blipFill>
        <p:spPr>
          <a:xfrm>
            <a:off x="500040" y="357120"/>
            <a:ext cx="1619280" cy="10764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Date Placeholder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12A1E-C434-482F-9C63-4A299A06C3B3}" type="datetime">
              <a:rPr b="0" lang="en-US" sz="1200" spc="-1" strike="noStrike">
                <a:solidFill>
                  <a:srgbClr val="000000"/>
                </a:solidFill>
                <a:latin typeface="Garamond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@МАR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6633"/>
                </a:solidFill>
                <a:latin typeface="Arial"/>
              </a:rPr>
              <a:t>KONTAKT OČIMA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ontakt očima je vrlo važan u svakodnevnoj komunikaciji. Obično su razdoblja kontakta očima vrlo kratka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ada su produžena, ili kad jedna od osoba počne buljiti u drugu, dolazi do napetosti i to se može protumačiti kao pretnja</a:t>
            </a: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8" descr="C:\Documents and Settings\jelena\Desktop\New Folder (2)\1574R-26112[1].jpg"/>
          <p:cNvPicPr/>
          <p:nvPr/>
        </p:nvPicPr>
        <p:blipFill>
          <a:blip r:embed="rId1"/>
          <a:stretch/>
        </p:blipFill>
        <p:spPr>
          <a:xfrm>
            <a:off x="7072200" y="4286160"/>
            <a:ext cx="1076400" cy="161928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77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7" dur="770" fill="hold"/>
                                        <p:tgtEl>
                                          <p:spTgt spid="11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9" dur="77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1" dur="77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Date Placeholder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445D9-287F-4ACD-ADF2-2107E9AB7DDC}" type="datetime">
              <a:rPr b="0" lang="en-US" sz="1200" spc="-1" strike="noStrike">
                <a:solidFill>
                  <a:srgbClr val="000000"/>
                </a:solidFill>
                <a:latin typeface="Garamond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@МАR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6633"/>
                </a:solidFill>
                <a:latin typeface="Arial"/>
              </a:rPr>
              <a:t>KONTAKT OČIMA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zbegavanje gledanja u oči povezuje se sa nesigurnim ponašanjem, što upućuje na prepredenost, pa čak i nepoštenj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širene zenice pokazuju emocionalno uzbuđenje</a:t>
            </a: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pak, ako je dvoje ljudi zaljubljeno, kontakt očima puno je češći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7" descr="http://www.photovault.com/Link/People/Abstracts/Closeups/PACVolume01/PACV01P13_18B.tn.jpg"/>
          <p:cNvPicPr/>
          <p:nvPr/>
        </p:nvPicPr>
        <p:blipFill>
          <a:blip r:embed="rId1"/>
          <a:stretch/>
        </p:blipFill>
        <p:spPr>
          <a:xfrm>
            <a:off x="642960" y="357120"/>
            <a:ext cx="847800" cy="57168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Date Placeholder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49F1B-7494-4CE7-B46E-404AD9AA3B4D}" type="datetime">
              <a:rPr b="0" lang="en-US" sz="1200" spc="-1" strike="noStrike">
                <a:solidFill>
                  <a:srgbClr val="000000"/>
                </a:solidFill>
                <a:latin typeface="Garamond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@МАR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6633"/>
                </a:solidFill>
                <a:latin typeface="Arial"/>
              </a:rPr>
              <a:t>KONTAKT OČIMA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da vidimo nekog ko nas privla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, naše obrve se automatski podignu, a zatim spuste. Ako nam je ta osoba sklona, onda i ona podigne obrv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ve ovo traje tek deli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ć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kunde, a dešava se svim ljudima na svetu, bez obzira na godine, rasu ili društvenu pripadnos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6" descr="C:\Documents and Settings\jelena\Desktop\New Folder (2)\bn267125[1].jpg"/>
          <p:cNvPicPr/>
          <p:nvPr/>
        </p:nvPicPr>
        <p:blipFill>
          <a:blip r:embed="rId1"/>
          <a:stretch/>
        </p:blipFill>
        <p:spPr>
          <a:xfrm>
            <a:off x="571680" y="357120"/>
            <a:ext cx="1618920" cy="10764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Date Placeholder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CECF6-C58B-4A77-9A31-D79C4F4A10AE}" type="datetime">
              <a:rPr b="0" lang="en-US" sz="1200" spc="-1" strike="noStrike">
                <a:solidFill>
                  <a:srgbClr val="000000"/>
                </a:solidFill>
                <a:latin typeface="Garamond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@МАR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6633"/>
                </a:solidFill>
                <a:latin typeface="Arial"/>
              </a:rPr>
              <a:t>KONTAKT OČIMA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"Sev" obrva može lako da se propusti, ali ako ga uo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š kod onog ko te interesuje, budi sigurna da mu se dopadaš, mada on toga možda još nije svesta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rve mu ostaju blago podignute dok pri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 tobom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o je signal da misli da si fascinantn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br>
              <a:rPr sz="2800"/>
            </a:br>
            <a:br>
              <a:rPr sz="2800"/>
            </a:br>
            <a:br>
              <a:rPr sz="1900"/>
            </a:br>
            <a:br>
              <a:rPr sz="1900"/>
            </a:b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6" descr="C:\Documents and Settings\jelena\Desktop\New Folder (2)\bxp209595[1].jpg"/>
          <p:cNvPicPr/>
          <p:nvPr/>
        </p:nvPicPr>
        <p:blipFill>
          <a:blip r:embed="rId1"/>
          <a:stretch/>
        </p:blipFill>
        <p:spPr>
          <a:xfrm>
            <a:off x="500040" y="357120"/>
            <a:ext cx="1619280" cy="10764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5T19:41:35Z</dcterms:created>
  <dc:creator>User</dc:creator>
  <dc:description/>
  <dc:language>en-US</dc:language>
  <cp:lastModifiedBy>jelena</cp:lastModifiedBy>
  <dcterms:modified xsi:type="dcterms:W3CDTF">2008-07-09T13:01:20Z</dcterms:modified>
  <cp:revision>21</cp:revision>
  <dc:subject/>
  <dc:title>INTERPRETACIJE POKRETA OČIMA </dc:title>
</cp:coreProperties>
</file>