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BB7D-CEED-45DA-9F28-FD573597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6638-44B6-45BA-914D-F4C79CD4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F653-8F7B-4062-88D0-19EAC259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EE46-D11D-49B5-A482-767A17F1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9F4F-4E8F-4C51-BB12-4CFEC7E2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C338-59C0-418B-B151-819B23FB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2B74-DF1A-4BE4-89A5-2A0234D6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377A-47E7-468F-8244-F882044C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8B1E-8DA3-4BAF-A1F9-F96089AF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8950-D11A-4DF4-BC14-592BBF5D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250D-D638-4EDC-9315-EB01B756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ED63-7647-44DE-A388-9412EB32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7B6C-3AF4-4857-8A51-C1E6B96C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0FDE-3F04-4DF7-B005-93B08B1E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3C12-85F4-4903-8E2B-8F7A63D0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37B3-07BE-4B75-8A06-F4D3089A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3BE7-05E3-40C5-B971-7BE46347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D9C46-01D4-4FAD-B995-92D347E8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D349F-BD86-4BED-9D23-656BD76F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C6C4D-BBD7-4D91-9166-B9182BFF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A073A-DC03-47E4-A890-8D01A09F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B80E96-5C81-419A-B99A-EC96D676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A8AA-4CAE-4779-BC53-891DBBDF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866F2-841E-4F16-8914-800EC4F5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FE7A4-F14B-474F-9033-C584FE68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4B76E-F12C-4BF5-88F9-F783B0BC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49C258-28BA-42FE-B255-AF1F7228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F4006-DB12-415C-AE7A-A097213C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2C6A4-3AA1-4CDA-A700-D31372F0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4D573-239C-49E4-B650-6BBDA365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5A065-AEC2-4A31-AC16-D5142E4C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E7F08-03E2-426F-843A-DCFE87EE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8A1E4-29D0-4145-A21A-9FF2D9CC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A71F-5E1B-4AE5-AC4F-7B02FC04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744A6-AA85-4B78-B376-BF391969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41882-12FC-48FE-9ECB-8F2C8E7D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D4BF2-1F6E-4E92-A4BA-D9D0916B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554D0-49DE-4E44-AE48-1CF35BC9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00267-04F8-44A1-95B9-D4DA979D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87A5C-D915-4383-A2C6-6C90C186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2116C-687C-488C-AE5B-541F43C4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F7492-269C-4550-9BC5-232975DF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8B9EE-3C05-4756-B4C8-50BDAB9C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75A878-89A9-4F21-8ED6-D0C15180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931F-ACB4-4F77-A7E9-188AB630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B650BA-AA6C-47B2-94DF-2A6CA51B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1D466D-036A-46DB-859E-0E2818ED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0EA32E-8ED1-4D1E-8F9B-F6648202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80DA09-24F1-45CF-8714-3BA684D5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B4ACC-47C5-4A5B-A803-16C10372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2FF3F7-7292-4E50-BA4D-BC692E37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F6F6A-6751-4251-8F87-9E317290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F8AEAB-4070-4256-B91B-0CD61838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91C039-0C93-4982-81BA-2E52D74C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08AAC-90B7-4FDE-93F0-4C8B062E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BFF9-0F75-4333-BE2E-6C8FFD14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A570FB-FE08-4CB8-897A-09F0E58C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B1DA78-2D23-4C2F-AFCC-CA1DA3BF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65085D-6056-49AD-8BE9-08E7BCDE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B226A4-B8D1-4502-839B-B5A9A3CE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413E7E-D757-4CF2-9CBD-A008B91C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12348E-E862-46FB-8070-B7339823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105D5C-970A-42F6-9F33-24583CB6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BC1DDE-4A89-4C26-A247-63D4482A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F590AA-EE9B-4E22-A674-21ABE00C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F73F7C-453A-43BD-98DE-4228AC87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F634-3F2C-40D0-A4EB-1B4E3D97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8EB50D-485E-4E17-8C41-1B2638E9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E22AB2-87F0-4300-9554-E6B3F6B9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86F7EF-7207-420A-95C0-3BB0FEBA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615EA4-0521-4851-AC13-330C0630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7E60AF-8D59-442A-990F-6E65705B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32A37F-F8D6-48B3-8117-71840ABD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97B086-1C19-432F-9892-631834E9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6567CE-9318-4C1F-8479-FDAD1A51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0BD311-FEEA-48A2-A795-C391C938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8523E1-698B-41C8-ABE4-CA7069D3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80A7-2D7D-4B36-A054-22A36A56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7A2B0F-41A8-4450-96B6-BCA15CD6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9635E5-DC76-48C1-843C-D90B9505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439418-DBEA-412F-84A5-F975246B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8D4F3D-29A0-45FC-AB60-692CFC2D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B9AE84-1FC1-40BE-A914-A4471C22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4F40-C9C5-404C-B5C3-D2A47669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16E1-4A2A-4FF5-82D1-3B25DDE91D3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95DA-97A5-47D8-9132-7242D806C85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5587-8B79-4887-AF30-44F3687CE45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7A99-2309-4D01-AD6A-AED7DA3B663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0A5F-C930-452F-8B08-E45E70254D9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2EE2-86E9-4B1E-8433-0B6FA5F395C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A954-DAEE-4D5D-8976-CA2FDBD25D7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09320" y="160020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entury Schoolbook"/>
              </a:rPr>
              <a:t>DELOVI POSLOVNOG PISMA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4038120"/>
            <a:ext cx="61722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e5b6f"/>
                </a:solidFill>
                <a:latin typeface="Century Schoolbook"/>
              </a:rPr>
              <a:t>                 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Straight Connector 6"/>
          <p:cNvSpPr/>
          <p:nvPr/>
        </p:nvSpPr>
        <p:spPr>
          <a:xfrm flipH="1" flipV="1">
            <a:off x="0" y="1066320"/>
            <a:ext cx="9144000" cy="1800"/>
          </a:xfrm>
          <a:prstGeom prst="line">
            <a:avLst/>
          </a:prstGeom>
          <a:ln w="12600">
            <a:solidFill>
              <a:srgbClr val="69d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d13b"/>
                </a:solidFill>
                <a:latin typeface="Century Schoolbook"/>
              </a:rPr>
              <a:t>4)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zivni znaci (oznake)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su u funkciji lakšeg razvrstavanja pošte. To mogu biti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icijali ličnosti ili odeljenja firme u kojoj je pismo napisano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5)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redmet ili sažetak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edstavlja kratak sadržaj poslovnog pisma. Ispisuje se ispod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drese, pre sadržaja pisma s leve strane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048D-0174-4B21-B316-C74E8703A7E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2971800" y="5410080"/>
            <a:ext cx="3200400" cy="10670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6)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Sadržaj ili sadržina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isma je glavni deo pisma koji se saopštava poslovn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formacija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7)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zdrav.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Uljudni oproštaj sa poslovnim partnerom rečima kao: Pozdravljam Vas;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imite naše pozdrave; S poštovanjem; S osobitim poštovanjem i sl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7fd13b"/>
                </a:solidFill>
                <a:latin typeface="Century Schoolbook"/>
              </a:rPr>
              <a:t>8)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Potpis.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o je sastavni deo pisma, koji ono dobija značaj službenog dokumenta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8D95-839B-456A-AFE2-4FEE407D933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152360" cy="838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Sporedni delovi poslovnog pisma su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Oslovljavanje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prilozi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ačin otpreme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raspored kopija (dostavljeno)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dodatak ili post-scriptum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34A0-DF51-4D87-B8DA-263F221A3BD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6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771640" cy="1338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5b6f"/>
                </a:solidFill>
                <a:latin typeface="Century Schoolbook"/>
              </a:rPr>
              <a:t>NEKE PREPORUKE ZA PISANJE POSLOVNOG PISMA:</a:t>
            </a:r>
            <a:endParaRPr b="0" lang="en-US" sz="3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Treba pisati kratkim i jasnim rečenicama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ne sme se zanemariti interpunkcija (naročito</a:t>
            </a: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zapete)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zbegavati pisanje više poruka u jednom pismu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6F8D-B61D-485C-846E-B8622C08D62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1"/>
          <a:stretch/>
        </p:blipFill>
        <p:spPr>
          <a:xfrm>
            <a:off x="5486400" y="3276720"/>
            <a:ext cx="2438280" cy="838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5b6f"/>
                </a:solidFill>
                <a:latin typeface="Century Schoolbook"/>
              </a:rPr>
              <a:t>NEKE PREPORUKE ZA PISANJE POSLOVNOG PISMA:</a:t>
            </a:r>
            <a:endParaRPr b="0" lang="en-US" sz="3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Ton pisma mora biti primeran i učtiv čak i kada su u pitanju neprijatne vesti,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Odgovor na neučtivo pismo treba da bude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posebno pristojan i korektan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Pisanje poslovnog pisma ne treba shvatiti kao šablonski posao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B078-03B3-4AB3-9BE9-33071295D9C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TRI SU OSNOVNA OBLIKA:</a:t>
            </a:r>
            <a:br>
              <a:rPr sz="3200"/>
            </a:b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Evropski (francuski), zupčasti, stepenasti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Preglednost sadržaja i adrese primaoc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merički (blok forma) Pisanje        pojednostavljeno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mbinovani. Kombinacija evropskih i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američkih oblik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Firma može napraviti svoj model poslovnog pism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4E68-8263-4056-90A6-D02912FB21B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6" descr=""/>
          <p:cNvPicPr/>
          <p:nvPr/>
        </p:nvPicPr>
        <p:blipFill>
          <a:blip r:embed="rId1"/>
          <a:stretch/>
        </p:blipFill>
        <p:spPr>
          <a:xfrm>
            <a:off x="6934320" y="2057400"/>
            <a:ext cx="1752480" cy="1905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ZAKLJU</a:t>
            </a:r>
            <a:r>
              <a:rPr b="0" lang="sr-Latn-CS" sz="3000" spc="-1" strike="noStrike">
                <a:solidFill>
                  <a:srgbClr val="4e5b6f"/>
                </a:solidFill>
                <a:latin typeface="Century Schoolbook"/>
              </a:rPr>
              <a:t>Č</a:t>
            </a: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AK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sr-Latn-CS" sz="3600" spc="-1" strike="noStrike">
                <a:solidFill>
                  <a:srgbClr val="000000"/>
                </a:solidFill>
                <a:latin typeface="Century Schoolbook"/>
              </a:rPr>
              <a:t>Delovi poslovnog pisma su vrlo bitni jer se iz njih može naslutiti ozbiljnost namere partenera i uspešnost poslovanja što je bitno za ostvarivanje profita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0DF5-A999-48DD-977C-6E1B747FFD8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1"/>
          <a:stretch/>
        </p:blipFill>
        <p:spPr>
          <a:xfrm rot="21111600">
            <a:off x="1595160" y="4875120"/>
            <a:ext cx="5129280" cy="10861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Century Schoolbook"/>
              </a:rPr>
              <a:t>PREGLED IZLAGANJA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snovne odlike pisanog poslovno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komuniciranj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LOVNO P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elovi poslovnog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eke preporuke za pisanje poslovnog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225440" cy="838440"/>
          </a:xfrm>
          <a:prstGeom prst="rect">
            <a:avLst/>
          </a:prstGeom>
          <a:ln w="0">
            <a:noFill/>
          </a:ln>
        </p:spPr>
      </p:pic>
      <p:sp>
        <p:nvSpPr>
          <p:cNvPr id="359" name="Slide Number Placehold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BBCF-B2A7-4DD0-BFEB-7BB4DF5AD01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e5b6f"/>
                </a:solidFill>
                <a:latin typeface="Century Schoolbook"/>
              </a:rPr>
              <a:t>   </a:t>
            </a:r>
            <a:br>
              <a:rPr sz="3200"/>
            </a:b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isano poslovno komuniciranje, za razliku od usmenog, ostavlja pisani trag u poslovnim aktivnostim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Bitna prednost pisanog poslovnog komuniciranja je u tome što ostavlja dokument koji se može čuvati i koji služi kao dokaz u ostvarivanju prava, ili u međusobnom odnosu poslovnih partnera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D9CA-440E-4B04-8D87-5994AC00C76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7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38440" cy="10000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PISANO POSLOVNO KOMUNICIRANJE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Poslovni iskaz se može doterivati i dopunjavati sve dok definitivno ne bude poslat poslovnom partneru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uprotno tome, u usmenom poslovnom komuniciranju svaka ispravka ili dopuna je primetna, posebno su primenti neverbalni znaci komuniciranj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B9E6-5BDF-446B-B081-03142EDF657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7696080" cy="20574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OSNOVNE ODLIKE PISANOG POSLOVNOG</a:t>
            </a:r>
            <a:br>
              <a:rPr sz="3200"/>
            </a:br>
            <a:r>
              <a:rPr b="0" lang="en-US" sz="3200" spc="-1" strike="noStrike">
                <a:solidFill>
                  <a:srgbClr val="4e5b6f"/>
                </a:solidFill>
                <a:latin typeface="Century Schoolbook"/>
              </a:rPr>
              <a:t>KOMUNICIRANJA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a pism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ivi i odgovor na pozive - kratke poruk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Zapisnici (prijem, primopredaja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olb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stanc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V Izveštaj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Radovi, Priručnici, knjig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D1CF-FAF9-4323-B1E1-BADFD0846D1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7" descr=""/>
          <p:cNvPicPr/>
          <p:nvPr/>
        </p:nvPicPr>
        <p:blipFill>
          <a:blip r:embed="rId1"/>
          <a:stretch/>
        </p:blipFill>
        <p:spPr>
          <a:xfrm>
            <a:off x="4800600" y="3809880"/>
            <a:ext cx="1924200" cy="1181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Century Schoolbook"/>
              </a:rPr>
              <a:t>POSLOVNO PISMO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je najčešći oblik pisanog poslovnog komuniciranja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no se sastavlja i šalje posebno svakom poslovnom partneru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je dokument o određenom poslu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Osnovna karakteristika je da ono pre</a:t>
            </a: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tavlja odgovo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0D75-FE9D-4E48-AB17-B229535AFC7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219320" cy="885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slovno pismo ima delove koji se mogu podeliti u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glavne i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- sporedn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z poslovnog pisma ne može biti izostavljen ni jedan glavni deo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poredni delovi se unose u pismo prema potrebi, dopunjuju glavnu poruku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5A4F-172A-492D-AE6C-A338700B3C7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3076560" cy="1200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Glavni delovi poslovnog pisma su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Zaglavlje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esto i datum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dresa primaoca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ivni znaci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redmet (sažetak)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držaj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zdrav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otp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4F44-C211-4133-A810-1EB6E95BCF0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2971800" cy="288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POSLOVNO PISMO – DELOVI PISMA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Zaglavlje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drži sve bitne elemente kojima se pošiljalac poslovnog pisma legitimiš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esto i datum.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išu se odmah iza zaglavlja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d13b"/>
                </a:solidFill>
                <a:latin typeface="Century Schoolbook"/>
              </a:rPr>
              <a:t>3)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dresa primaoca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astoji se od naziva firme, njene delatnosti i odredišta (ulica, broj,poštanski broj, naziv mesta)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Line 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76E8-599B-4813-8EFD-A7C023023F8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1"/>
          <a:stretch/>
        </p:blipFill>
        <p:spPr>
          <a:xfrm>
            <a:off x="6934320" y="1981080"/>
            <a:ext cx="1752480" cy="838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20:46:39Z</dcterms:created>
  <dc:creator>Lana</dc:creator>
  <dc:description/>
  <dc:language>en-US</dc:language>
  <cp:lastModifiedBy>jelena</cp:lastModifiedBy>
  <dcterms:modified xsi:type="dcterms:W3CDTF">2008-07-09T13:02:24Z</dcterms:modified>
  <cp:revision>35</cp:revision>
  <dc:subject/>
  <dc:title>POSLOVNO PISMO</dc:title>
</cp:coreProperties>
</file>