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1A77-F2D0-4AE0-862B-2620727C4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EE7D-AE0D-4344-8032-E1939E57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330B-27F4-4F0A-B4CF-B32298C4F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D26C-F6A0-431D-9F9C-FACF51D8C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47F7-D23B-4056-8073-0305684D4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2974-98EB-4E7C-AE13-93697012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1D1C-3A12-49CB-8BE3-DCD5ADD1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2266-9B6C-46A3-888E-6251C93D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B592-D79E-4C51-A2E8-418537E3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4735-4FB0-4F51-8646-90DE22DE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4032-A802-49B9-955F-652E141C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6A43-6225-46F1-999C-378CC115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3BB2-DDE2-4ED5-8F5F-6EB7BF02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619E-542C-497F-9412-4C3D08CC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C192-7B90-4B1C-A68C-1374E145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D1F7-A3C4-44F3-9FCE-3539D5308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FC78-7063-40B3-9C02-BE8EF2F19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7BBB-933F-4325-AD43-422B647F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E1CF-B6FE-4C6E-A9B3-435C406D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68D0-B04A-4FB9-AB17-1BF31332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414E-08DD-4F34-85C6-FFFAFE64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1C9E-DA6C-499D-B99C-25EDB3EA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B663-1FF0-4B14-ADD6-6FBDE317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98C5-CD11-412D-B9A6-4B18EC9E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A13A-3D07-4E70-AA0A-D3DEA95F7433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709D-50C4-4F71-BA2A-2DC7C8B7CAF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7036-75A6-4E1B-AB3C-7F27BAFAFB03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2E66-3B3B-40B1-A42E-5B36A4ED196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hotovault.com/Link/People/Abstracts/Closeups/show.asp?tg=PACVolume01/PACV01P05_12B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0EB6-3E7A-467F-91E9-380DEFD1A969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2286000"/>
            <a:ext cx="7623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INTERPRETACIJE POKRETA O</a:t>
            </a: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ČIMA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http://www.photovault.com/Link/People/Abstracts/Closeups/PACVolume01/PACV01P05_12B.t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1285920"/>
            <a:ext cx="866880" cy="571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66F9-DEFD-4445-A84A-EBB1021A272F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0718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zdvaja usne kada vam se pogledi susretnu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otkriva da je zadovoljan onim što vid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http://www.photovault.com/Link/People/Abstracts/Closeups/PACVolume01/PACV01P15_12.2677.tn.jpg"/>
          <p:cNvPicPr/>
          <p:nvPr/>
        </p:nvPicPr>
        <p:blipFill>
          <a:blip r:embed="rId1"/>
          <a:stretch/>
        </p:blipFill>
        <p:spPr>
          <a:xfrm>
            <a:off x="785880" y="3500280"/>
            <a:ext cx="2571840" cy="1500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9" descr="http://www.fotosearch.com/bthumb/RBL/RBL204/b02432.jpg"/>
          <p:cNvPicPr/>
          <p:nvPr/>
        </p:nvPicPr>
        <p:blipFill>
          <a:blip r:embed="rId2"/>
          <a:stretch/>
        </p:blipFill>
        <p:spPr>
          <a:xfrm>
            <a:off x="4786200" y="3286080"/>
            <a:ext cx="3214800" cy="2000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CE58-8B31-48DC-AE8A-A182D4D5420A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POKRETI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3095640" cy="1150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5148360" y="1341360"/>
            <a:ext cx="3047760" cy="1209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Eyes Upward Left"/>
          <p:cNvPicPr/>
          <p:nvPr/>
        </p:nvPicPr>
        <p:blipFill>
          <a:blip r:embed="rId3"/>
          <a:stretch/>
        </p:blipFill>
        <p:spPr>
          <a:xfrm>
            <a:off x="857160" y="3786120"/>
            <a:ext cx="3048120" cy="1209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Eyes Up Right"/>
          <p:cNvPicPr/>
          <p:nvPr/>
        </p:nvPicPr>
        <p:blipFill>
          <a:blip r:embed="rId4"/>
          <a:stretch/>
        </p:blipFill>
        <p:spPr>
          <a:xfrm>
            <a:off x="5143680" y="3714840"/>
            <a:ext cx="3047760" cy="12096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9"/>
          <p:cNvSpPr/>
          <p:nvPr/>
        </p:nvSpPr>
        <p:spPr>
          <a:xfrm>
            <a:off x="5143680" y="2714760"/>
            <a:ext cx="35002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pravo gor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značava dosadu,sarkazam i slično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0"/>
          <p:cNvSpPr/>
          <p:nvPr/>
        </p:nvSpPr>
        <p:spPr>
          <a:xfrm>
            <a:off x="785880" y="2643120"/>
            <a:ext cx="32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onstantan pogled-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načava da je osoba  zainteresovana za razgov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5214960" y="492912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gore desn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označava da osoba pokušava da se seti ranije zapamćene sli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857160" y="5143680"/>
            <a:ext cx="314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gore lev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značava da osoba “konstruiše” sliku u svojoj gla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FEF4-AC4B-4B5C-ACAC-D9BEC9B12F9B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POKRETI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Picture 4" descr="Eyes Right"/>
          <p:cNvPicPr/>
          <p:nvPr/>
        </p:nvPicPr>
        <p:blipFill>
          <a:blip r:embed="rId1"/>
          <a:stretch/>
        </p:blipFill>
        <p:spPr>
          <a:xfrm>
            <a:off x="428760" y="714240"/>
            <a:ext cx="3047760" cy="1209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Eyes Left"/>
          <p:cNvPicPr/>
          <p:nvPr/>
        </p:nvPicPr>
        <p:blipFill>
          <a:blip r:embed="rId2"/>
          <a:stretch/>
        </p:blipFill>
        <p:spPr>
          <a:xfrm>
            <a:off x="5643720" y="714240"/>
            <a:ext cx="3047760" cy="1209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Eyes Down Right"/>
          <p:cNvPicPr/>
          <p:nvPr/>
        </p:nvPicPr>
        <p:blipFill>
          <a:blip r:embed="rId3"/>
          <a:stretch/>
        </p:blipFill>
        <p:spPr>
          <a:xfrm>
            <a:off x="428760" y="3929040"/>
            <a:ext cx="3047760" cy="1209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Eyes Down Left"/>
          <p:cNvPicPr/>
          <p:nvPr/>
        </p:nvPicPr>
        <p:blipFill>
          <a:blip r:embed="rId4"/>
          <a:stretch/>
        </p:blipFill>
        <p:spPr>
          <a:xfrm>
            <a:off x="5857920" y="3857760"/>
            <a:ext cx="3048120" cy="120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Eyes Down"/>
          <p:cNvPicPr/>
          <p:nvPr/>
        </p:nvPicPr>
        <p:blipFill>
          <a:blip r:embed="rId5"/>
          <a:stretch/>
        </p:blipFill>
        <p:spPr>
          <a:xfrm>
            <a:off x="3071880" y="2000160"/>
            <a:ext cx="3047760" cy="12096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0"/>
          <p:cNvSpPr/>
          <p:nvPr/>
        </p:nvSpPr>
        <p:spPr>
          <a:xfrm>
            <a:off x="428760" y="2071800"/>
            <a:ext cx="257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esn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pokušava da se priseti ranije zapamćenog zvu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6143760" y="207180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lev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pokušava da osmisli zvuk koji nikada ranije nije č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3071880" y="32860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ol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se oseća neprijatno ili postiđ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3"/>
          <p:cNvSpPr/>
          <p:nvPr/>
        </p:nvSpPr>
        <p:spPr>
          <a:xfrm>
            <a:off x="428760" y="5143680"/>
            <a:ext cx="307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ole desn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osoba razvija unutrašnji dijalog u svojoj glav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4"/>
          <p:cNvSpPr/>
          <p:nvPr/>
        </p:nvSpPr>
        <p:spPr>
          <a:xfrm>
            <a:off x="5857920" y="5072040"/>
            <a:ext cx="32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Pogled dole levo-osoba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kušava da zamisli kako je nešto navodi da se oseć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9D93-5C1A-4A8A-84DD-44C91219CB16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OČI..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5" name="Picture 5" descr="C:\Documents and Settings\jelena\My Documents\My Pictures\Picture1.png"/>
          <p:cNvPicPr/>
          <p:nvPr/>
        </p:nvPicPr>
        <p:blipFill>
          <a:blip r:embed="rId1"/>
          <a:stretch/>
        </p:blipFill>
        <p:spPr>
          <a:xfrm>
            <a:off x="571680" y="1428840"/>
            <a:ext cx="8001000" cy="4500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4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518C-037F-42FE-BED8-2CB26DFDBAA9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ZAKLJUČAK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verbalna komunikacija stalni je podtekst svega što činimo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 možemo prestati pokazivati izraze lica ili držanje, ili prikrivati ton kojim nešto govorim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ko grešimo u odabiru emocionalnih poruka koje upućujemo bićemo odbacivan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C:\Documents and Settings\jelena\Desktop\New Folder (2)\gs263017[1].jpg"/>
          <p:cNvPicPr/>
          <p:nvPr/>
        </p:nvPicPr>
        <p:blipFill>
          <a:blip r:embed="rId1"/>
          <a:stretch/>
        </p:blipFill>
        <p:spPr>
          <a:xfrm>
            <a:off x="500040" y="357120"/>
            <a:ext cx="161928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9" dur="2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0BB2-DA86-47BB-896A-CCB2678D0136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75" name="Text Box 5"/>
          <p:cNvSpPr/>
          <p:nvPr/>
        </p:nvSpPr>
        <p:spPr>
          <a:xfrm rot="20275800">
            <a:off x="2411280" y="278136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HVALA NA PAŽNJ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8002-56E5-4734-BFD4-84754FB11222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regled izlaganj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764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verbalni znak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kreti oč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http://www.fotosearch.com/bthumb/UNX/UNX017/u29012759.jpg"/>
          <p:cNvPicPr/>
          <p:nvPr/>
        </p:nvPicPr>
        <p:blipFill>
          <a:blip r:embed="rId1"/>
          <a:stretch/>
        </p:blipFill>
        <p:spPr>
          <a:xfrm>
            <a:off x="4714920" y="3929040"/>
            <a:ext cx="2405160" cy="1814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6175-94F8-4FE9-BF2C-7CE4852CC450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ovek najveći 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svog vremena provodi u komunikaciji sa drugim ljud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k se verbalna komunikacija odnosi na stvarne reči koje se koriste pri razgovoru, neverbalna komunikacija se sastoji od mnoštva znakova od kojih svaki ima svoje značenj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http://www.photovault.com/Link/People/Abstracts/Closeups/PACVolume01/PACV01P02_15C.tn.jpg"/>
          <p:cNvPicPr/>
          <p:nvPr/>
        </p:nvPicPr>
        <p:blipFill>
          <a:blip r:embed="rId1"/>
          <a:stretch/>
        </p:blipFill>
        <p:spPr>
          <a:xfrm>
            <a:off x="500040" y="357120"/>
            <a:ext cx="857160" cy="571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3277-2150-4AB4-BA02-D16CAAA66171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NEVERBALNA KOMUNIKACIJ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balna komunikacija često bude i uzrok sukoba – mnogi obračuni počinju nerazumevanjem neverbalne poruke, npr. neki pogled se protumači kao uvredljiv, a zapravo je sl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ajan ili u prolaz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http://www.photovault.com/Link/People/Abstracts/Closeups/PACVolume01/PACPCD0658_064B.tn.jpg"/>
          <p:cNvPicPr/>
          <p:nvPr/>
        </p:nvPicPr>
        <p:blipFill>
          <a:blip r:embed="rId1"/>
          <a:stretch/>
        </p:blipFill>
        <p:spPr>
          <a:xfrm>
            <a:off x="5357880" y="4500720"/>
            <a:ext cx="1285920" cy="1071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http://www.fotosearch.com/bthumb/GSH/GSH370/gs261100.jpg"/>
          <p:cNvPicPr/>
          <p:nvPr/>
        </p:nvPicPr>
        <p:blipFill>
          <a:blip r:embed="rId2"/>
          <a:stretch/>
        </p:blipFill>
        <p:spPr>
          <a:xfrm>
            <a:off x="1643040" y="4500720"/>
            <a:ext cx="164304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83CC-840A-452D-B5F7-5F130961558B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NEVERBALNI ZNAKOVI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balni znakovi uključuj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raze lic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n glas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tov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ožaj tela ili pokr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dir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g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C:\Documents and Settings\jelena\Desktop\New Folder (2)\75780157[1].jpg"/>
          <p:cNvPicPr/>
          <p:nvPr/>
        </p:nvPicPr>
        <p:blipFill>
          <a:blip r:embed="rId1"/>
          <a:stretch/>
        </p:blipFill>
        <p:spPr>
          <a:xfrm>
            <a:off x="500040" y="357120"/>
            <a:ext cx="161928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43E5-9C80-409E-8115-C56DCE1325B6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ntakt očima je vrlo važan u svakodnevnoj komunikaciji. Obično su razdoblja kontakta očima vrlo kratk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da su produžena, ili kad jedna od osoba počne buljiti u drugu, dolazi do napetosti i to se može protumačiti kao pretnja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C:\Documents and Settings\jelena\Desktop\New Folder (2)\1574R-26112[1].jpg"/>
          <p:cNvPicPr/>
          <p:nvPr/>
        </p:nvPicPr>
        <p:blipFill>
          <a:blip r:embed="rId1"/>
          <a:stretch/>
        </p:blipFill>
        <p:spPr>
          <a:xfrm>
            <a:off x="7072200" y="4286160"/>
            <a:ext cx="1076400" cy="1619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776A-D8A7-4A6F-9C84-A8703F7F852D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zbegavanje gledanja u oči povezuje se sa nesigurnim ponašanjem, što upućuje na prepredenost, pa čak i nepošten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širene zenice pokazuju emocionalno uzbuđenje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pak, ako je dvoje ljudi zaljubljeno, kontakt očima puno je češći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http://www.photovault.com/Link/People/Abstracts/Closeups/PACVolume01/PACV01P13_18B.tn.jpg"/>
          <p:cNvPicPr/>
          <p:nvPr/>
        </p:nvPicPr>
        <p:blipFill>
          <a:blip r:embed="rId1"/>
          <a:stretch/>
        </p:blipFill>
        <p:spPr>
          <a:xfrm>
            <a:off x="642960" y="357120"/>
            <a:ext cx="847800" cy="571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17D8-99BC-4337-B598-A9E09E4CD34E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da vidimo nekog ko nas privl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, naše obrve se automatski podignu, a zatim spuste. Ako nam je ta osoba sklona, onda i ona podigne obr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e ovo traje tek de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kunde, a dešava se svim ljudima na svetu, bez obzira na godine, rasu ili društvenu pripadno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C:\Documents and Settings\jelena\Desktop\New Folder (2)\bn267125[1].jpg"/>
          <p:cNvPicPr/>
          <p:nvPr/>
        </p:nvPicPr>
        <p:blipFill>
          <a:blip r:embed="rId1"/>
          <a:stretch/>
        </p:blipFill>
        <p:spPr>
          <a:xfrm>
            <a:off x="571680" y="357120"/>
            <a:ext cx="161892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0971-A170-4F83-8D1B-B2E9418DBFD0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@МАR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33"/>
                </a:solidFill>
                <a:latin typeface="Arial"/>
              </a:rPr>
              <a:t>KONTAKT OČIM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Sev" obrva može lako da se propusti, ali ako ga uo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š kod onog ko te interesuje, budi sigurna da mu se dopadaš, mada on toga možda još nije svest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rve mu ostaju blago podignute dok p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 tobom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o je signal da misli da si fascinant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800"/>
            </a:br>
            <a:br>
              <a:rPr sz="2800"/>
            </a:b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C:\Documents and Settings\jelena\Desktop\New Folder (2)\bxp209595[1].jpg"/>
          <p:cNvPicPr/>
          <p:nvPr/>
        </p:nvPicPr>
        <p:blipFill>
          <a:blip r:embed="rId1"/>
          <a:stretch/>
        </p:blipFill>
        <p:spPr>
          <a:xfrm>
            <a:off x="500040" y="357120"/>
            <a:ext cx="1619280" cy="107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19:41:35Z</dcterms:created>
  <dc:creator>User</dc:creator>
  <dc:description/>
  <dc:language>en-US</dc:language>
  <cp:lastModifiedBy>jelena</cp:lastModifiedBy>
  <dcterms:modified xsi:type="dcterms:W3CDTF">2008-07-09T13:01:20Z</dcterms:modified>
  <cp:revision>21</cp:revision>
  <dc:subject/>
  <dc:title>INTERPRETACIJE POKRETA OČIMA </dc:title>
</cp:coreProperties>
</file>