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C44A-588C-484C-A221-CB25D181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F83C-FB5E-4E72-9B5B-E9442698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7FAB-EFA1-45BA-8A77-956DC591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61F-FA9B-46E5-88F9-CAD686D4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6A8A-2F80-48CE-8B13-D3340AF8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3675-5509-4F9B-9265-D2AFAAE9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1C99-79B2-47DB-96A3-E0A9C10F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717F-F475-4367-97C5-2FCF26DD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B577-DE6A-4BC7-B4AF-029E2BEC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40CA-7B13-4E31-8B7E-0788CE96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CC15-53C8-4951-A18B-06CBC967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1FBE-C230-4A9E-AB00-B72FCB6A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63B2-E80E-4B1F-B571-4F8210D3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1399-270F-448F-8FC6-66DC35D4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7137-762F-4968-A4B2-1A3C3761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B36A-7E62-4A11-BC42-D0CCD0F9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C523-F9FC-443C-9FB9-BDF0A0F6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F25C2-B56E-4590-81B9-8C49B232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03039-F4D8-42F7-A7EC-1A8CFD71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8801C-E41B-4935-92F6-ABD0570E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F5D3B-94FF-49A9-8540-F9F884C6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162A6-A3ED-47C9-A56D-6DAAE2E3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78C-12C6-4FD3-B66B-C82A3185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BAC8A-AA2F-4CAE-87AB-9B994008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A825E-C033-426E-9227-ACDB5F48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9A830-3FA4-4F4E-BFA3-CE641B27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2C128D-B730-47A9-9CE6-52F4CDE0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F77D3-3D3C-44BC-BD73-BA73FC6E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4713C-E472-4905-B2D1-752AE193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BE037-C554-4030-A568-9452BE04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5CFD4-7340-43D0-8EDC-79ACA983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FB838-A10C-4D79-8404-0D6DEF5C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31B26-73C6-40FE-B923-0EBE1404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3E67-70CE-4002-B097-0A798034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FA496-1EEF-4571-B3F6-C699AB52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2CAF8-FE07-423C-AEB1-12472983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6B69B-C16C-4A4B-823D-CAEC616B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5FBF1-76E1-4868-A100-4A4B2E18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32CBA-2F44-42E8-A79F-E9E11A54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35711-941C-4CF8-AEB6-A5DBDF60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3BD9F-C1B3-4BE7-86BA-C1397F87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AA9F2-CD1C-498C-9632-A7DEFCCD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8D66D-8F5B-4720-A98A-F1F7C115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255D14-6842-4B2E-82F2-B075668C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EA6-FE9C-4396-9141-CB974A8D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CC9147-3AE2-4D2D-97E9-D6669E1C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1E74F8-9F58-40DC-97A9-7E93A22B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7EFD69-E30E-40A1-887C-F7F05D0B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522CDA-EB1F-447D-B927-CF8809FE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8CF641-99DB-423C-B715-621413EA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0947C4-CBB9-4981-A1E4-B928B8CC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C8A15E-05E3-40A0-A3F7-15AAD778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B3B74B-E57C-44BC-B3F3-01CB373F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1CBB15-9CEF-4EFB-9022-7C026F64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4070C0-D31D-4CAA-A66E-CC5EC1CE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EBB3-D79E-4AAB-9A1A-306E1A83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117006-79B2-42BF-961A-66315662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514F43-FF61-45AE-BE2C-DAAC1750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B9D066-2CFC-4CD7-9ECA-E3FEE1FB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441E39-11D3-43CA-845E-53813BF6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B7A7A0-720F-41B9-9707-7A429A9D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68FCE7-0264-4DA1-82DD-86AB00F2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023976-432E-4E3A-AA61-45D30FEF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01BC83-0216-4108-8977-8946E8FF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A56B3A-DE41-4D72-9C1F-50A15203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A82862-07BF-4745-B388-D6B61EDE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CBE-C186-43AB-BDAC-9304FFE5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32F139-E385-46BC-B588-E7AB158C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B5342B-3ED7-4B9D-8AAD-8A40ED5E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1AF4FA-7618-472B-9060-C4B00559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AFE945-9E0E-41A3-9380-15F750C3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8E55C1-3F18-4A97-9BA0-AE4009AA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B444EE-BAD6-40A0-A8F4-A855BE10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3BF72-CBCF-449B-998B-11C17525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579B81-A1EA-4A63-BD2C-C52EAF4C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FF0020-0905-4AEC-A55E-5C94AC84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D32DA3-4CC3-40C1-94EC-3AB3E766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C153-6DF3-46EE-BB0E-6B709CDC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2A3529-ACA0-4B26-B307-E3C5BA07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747F74-F230-49C8-9820-F7FFE73E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F20E29-A129-4141-80A8-1002EB02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8A9829-77D9-43A5-BB41-4C4C983A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F476A7-DB8D-4A11-A29C-5D3867F2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CE2-D292-493A-8BEA-49439110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3D57-B522-4E5C-A2BB-D74D361D68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87F2-162A-4948-9581-428A118BDD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BE29-B1A9-4F5C-8198-D7E25DC3A6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5569-8E90-4A93-8728-327E8FA09F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A366-F1A3-4484-81E5-BDCC7433F6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E390-34B8-469C-80B7-20CF194FFD6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3D1D-4166-4B76-9FC7-8CC778874A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09320" y="1600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entury Schoolbook"/>
              </a:rPr>
              <a:t>DELOVI POSLOVNOG PISMA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4038120"/>
            <a:ext cx="61722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5b6f"/>
                </a:solidFill>
                <a:latin typeface="Century Schoolbook"/>
              </a:rPr>
              <a:t>             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Straight Connector 6"/>
          <p:cNvSpPr/>
          <p:nvPr/>
        </p:nvSpPr>
        <p:spPr>
          <a:xfrm flipH="1" flipV="1">
            <a:off x="0" y="1066320"/>
            <a:ext cx="9144000" cy="180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d13b"/>
                </a:solidFill>
                <a:latin typeface="Century Schoolbook"/>
              </a:rPr>
              <a:t>4)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zivni znaci (oznake)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su u funkciji lakšeg razvrstavanja pošte. To mogu biti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icijali ličnosti ili odeljenja firme u kojoj je pismo napisano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5)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redmet ili sažetak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edstavlja kratak sadržaj poslovnog pisma. Ispisuje se ispod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drese, pre sadržaja pisma s leve strane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5B3C-5773-4A16-89E6-FD3DC22BC0B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2971800" y="5410080"/>
            <a:ext cx="3200400" cy="10670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6)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Sadržaj ili sadržina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isma je glavni deo pisma koji se saopštava poslovn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formacija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7)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zdrav.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Uljudni oproštaj sa poslovnim partnerom rečima kao: Pozdravljam Vas;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mite naše pozdrave; S poštovanjem; S osobitim poštovanjem i sl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8)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tpis.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o je sastavni deo pisma, koji ono dobija značaj službenog dokumenta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891D-A015-40B5-8AA7-1F94DE36FA4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152360" cy="838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poredni delovi poslovnog pisma su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Oslovljavanje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prilozi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ačin otpreme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raspored kopija (dostavljeno)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odatak ili post-scriptum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DB2A-4417-4036-B8CB-D0BB9508262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6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771640" cy="1338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5b6f"/>
                </a:solidFill>
                <a:latin typeface="Century Schoolbook"/>
              </a:rPr>
              <a:t>NEKE PREPORUKE ZA PISANJE POSLOVNOG PISMA:</a:t>
            </a:r>
            <a:endParaRPr b="0" lang="en-US" sz="3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reba pisati kratkim i jasnim rečenicama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e sme se zanemariti interpunkcija (naročito</a:t>
            </a: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zapete)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zbegavati pisanje više poruka u jednom pismu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03A3-74FE-4E27-BC7A-DEA41687762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tretch/>
        </p:blipFill>
        <p:spPr>
          <a:xfrm>
            <a:off x="5486400" y="3276720"/>
            <a:ext cx="2438280" cy="838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5b6f"/>
                </a:solidFill>
                <a:latin typeface="Century Schoolbook"/>
              </a:rPr>
              <a:t>NEKE PREPORUKE ZA PISANJE POSLOVNOG PISMA:</a:t>
            </a:r>
            <a:endParaRPr b="0" lang="en-US" sz="3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Ton pisma mora biti primeran i učtiv čak i kada su u pitanju neprijatne vesti,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Odgovor na neučtivo pismo treba da bude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posebno pristojan i korektan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Pisanje poslovnog pisma ne treba shvatiti kao šablonski posao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EF1A-A0F7-4107-BBA6-971BF697A1F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TRI SU OSNOVNA OBLIKA:</a:t>
            </a:r>
            <a:br>
              <a:rPr sz="3200"/>
            </a:b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Evropski (francuski), zupčasti, stepenasti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eglednost sadržaja i adrese primaoc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merički (blok forma) Pisanje        pojednostavljeno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mbinovani. Kombinacija evropskih i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meričkih oblik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Firma može napraviti svoj model poslovnog pism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01D2-3D5F-4F17-851F-E31B5AE3F3A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6" descr=""/>
          <p:cNvPicPr/>
          <p:nvPr/>
        </p:nvPicPr>
        <p:blipFill>
          <a:blip r:embed="rId1"/>
          <a:stretch/>
        </p:blipFill>
        <p:spPr>
          <a:xfrm>
            <a:off x="6934320" y="2057400"/>
            <a:ext cx="1752480" cy="1905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ZAKLJU</a:t>
            </a:r>
            <a:r>
              <a:rPr b="0" lang="sr-Latn-CS" sz="3000" spc="-1" strike="noStrike">
                <a:solidFill>
                  <a:srgbClr val="4e5b6f"/>
                </a:solidFill>
                <a:latin typeface="Century Schoolbook"/>
              </a:rPr>
              <a:t>Č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AK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Delovi poslovnog pisma su vrlo bitni jer se iz njih može naslutiti ozbiljnost namere partenera i uspešnost poslovanja što je bitno za ostvarivanje profita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35EA-BC5D-42D4-9584-8E05FEA2D91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1"/>
          <a:stretch/>
        </p:blipFill>
        <p:spPr>
          <a:xfrm rot="21111600">
            <a:off x="1595160" y="4875120"/>
            <a:ext cx="5129280" cy="1086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Century Schoolbook"/>
              </a:rPr>
              <a:t>PREGLED IZLAGANJA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snovne odlike pisanog poslovno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komuniciranj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LOVNO P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elovi poslovnog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eke preporuke za pisanje poslovnog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225440" cy="838440"/>
          </a:xfrm>
          <a:prstGeom prst="rect">
            <a:avLst/>
          </a:prstGeom>
          <a:ln w="0">
            <a:noFill/>
          </a:ln>
        </p:spPr>
      </p:pic>
      <p:sp>
        <p:nvSpPr>
          <p:cNvPr id="359" name="Slide Number Placehold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E61A-8B7B-4C69-8EFA-39A40D3374D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e5b6f"/>
                </a:solidFill>
                <a:latin typeface="Century Schoolbook"/>
              </a:rPr>
              <a:t>   </a:t>
            </a:r>
            <a:br>
              <a:rPr sz="3200"/>
            </a:b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isano poslovno komuniciranje, za razliku od usmenog, ostavlja pisani trag u poslovnim aktivnostim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itna prednost pisanog poslovnog komuniciranja je u tome što ostavlja dokument koji se može čuvati i koji služi kao dokaz u ostvarivanju prava, ili u međusobnom odnosu poslovnih partner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92BD-59DA-4733-BEE8-59DA74A113C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7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38440" cy="1000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oslovni iskaz se može doterivati i dopunjavati sve dok definitivno ne bude poslat poslovnom partneru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uprotno tome, u usmenom poslovnom komuniciranju svaka ispravka ili dopuna je primetna, posebno su primenti neverbalni znaci komuniciranj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007E-321E-468F-BBC2-D7F2C10066C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7696080" cy="20574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OSNOVNE ODLIKE PISANOG POSLOVNOG</a:t>
            </a:r>
            <a:br>
              <a:rPr sz="3200"/>
            </a:b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KOMUNICIRANJA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a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ivi i odgovor na pozive - kratke poruk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Zapisnici (prijem, primopredaja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olb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stanc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V Izveštaj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Radovi, Priručnici, knjig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A6C1-21F4-40E7-9306-3C671F8E5CE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7" descr=""/>
          <p:cNvPicPr/>
          <p:nvPr/>
        </p:nvPicPr>
        <p:blipFill>
          <a:blip r:embed="rId1"/>
          <a:stretch/>
        </p:blipFill>
        <p:spPr>
          <a:xfrm>
            <a:off x="4800600" y="3809880"/>
            <a:ext cx="1924200" cy="1181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Century Schoolbook"/>
              </a:rPr>
              <a:t>POSLOVNO PISMO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je najčešći oblik pisanog poslovnog komuniciranja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no se sastavlja i šalje posebno svakom poslovnom partneru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je dokument o određenom poslu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snovna karakteristika je da ono pre</a:t>
            </a: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tavlja odgovo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C773-B25C-47E4-9216-4F0F54BF6F1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219320" cy="885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ima delove koji se mogu podeliti u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glavne 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sporedn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z poslovnog pisma ne može biti izostavljen ni jedan glavni deo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poredni delovi se unose u pismo prema potrebi, dopunjuju glavnu poruku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72EF-BDC3-4202-8211-C02AD3B720C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3076560" cy="1200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lavni delovi poslovnog pisma su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Zaglavlje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esto i datum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dresa primaoca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ivni znaci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redmet (sažetak)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držaj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drav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tp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A125-53AB-48E7-986F-59C89D97267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2971800" cy="288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Zaglavlje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drži sve bitne elemente kojima se pošiljalac poslovnog pisma legitimiš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esto i datum.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išu se odmah iza zaglavlja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d13b"/>
                </a:solidFill>
                <a:latin typeface="Century Schoolbook"/>
              </a:rPr>
              <a:t>3)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dresa primaoca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stoji se od naziva firme, njene delatnosti i odredišta (ulica, broj,poštanski broj, naziv mesta)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E0E5-419A-44DE-8DEF-33F3DAEAD22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1"/>
          <a:stretch/>
        </p:blipFill>
        <p:spPr>
          <a:xfrm>
            <a:off x="6934320" y="1981080"/>
            <a:ext cx="1752480" cy="838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20:46:39Z</dcterms:created>
  <dc:creator>Lana</dc:creator>
  <dc:description/>
  <dc:language>en-US</dc:language>
  <cp:lastModifiedBy>jelena</cp:lastModifiedBy>
  <dcterms:modified xsi:type="dcterms:W3CDTF">2008-07-09T13:02:24Z</dcterms:modified>
  <cp:revision>35</cp:revision>
  <dc:subject/>
  <dc:title>POSLOVNO PISMO</dc:title>
</cp:coreProperties>
</file>