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E573-6D29-49D3-9FBC-6E3F1050B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F93C-347B-4223-95C7-020A3519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E46D-C974-4100-9775-9045F77C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53CB-C5C9-4F6B-80E0-FE32279E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2BC2-C133-46BE-B01A-9AA94EAE4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35C2-D27A-4B10-BF76-A062BE78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CE3E-44B7-4E7A-B086-145E7B16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760E-2773-403B-A789-174FB58E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C7FC-106E-4EF6-9183-16CA9C43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8D59-5F3E-4C5D-930D-7D9306D5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A159-C982-4ED1-A15A-AB44D420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0D03-93FE-4B5F-9F9A-E6E8F69C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3519-3B11-4E34-A173-5C42AE33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1B3B-6EB8-4C34-B63C-FFF0D32A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51CA-D15A-4FCA-B5FA-CCA2775C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AE20-49D7-41DB-B300-6BC892A1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3AC9-83BB-4535-ADBB-843E0F35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7749-6C7D-4030-84C7-53E5B532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3EDE-E182-4947-948E-FC022485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55F2-7376-40AE-B14D-0C49E029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5674-ECEB-4700-8F72-2A3954CF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C0AF-2282-4F70-A354-70039E18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2A3F-A731-4CAC-A225-ADC6E720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27AC-44F4-4CF6-8D9D-FA3DDF66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22BF-ED80-4B17-AFFD-962A23BA6A3C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F239-1FAE-4CAF-B582-552AC2A67DA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78C9-F7FC-4663-B9C4-7C08BEB16DC4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C757-7FFA-47E6-9C2C-8343005F1D9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hotovault.com/Link/People/Abstracts/Closeups/show.asp?tg=PACVolume01/PACV01P05_12B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D390-A578-465E-81CD-9B74FFD59644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2286000"/>
            <a:ext cx="7623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INTERPRETACIJE POKRETA O</a:t>
            </a: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ČIMA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http://www.photovault.com/Link/People/Abstracts/Closeups/PACVolume01/PACV01P05_12B.t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1285920"/>
            <a:ext cx="866880" cy="571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5C16-C376-4F78-8536-971E0A1EBB74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0718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zdvaja usne kada vam se pogledi susretnu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otkriva da je zadovoljan onim što vid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http://www.photovault.com/Link/People/Abstracts/Closeups/PACVolume01/PACV01P15_12.2677.tn.jpg"/>
          <p:cNvPicPr/>
          <p:nvPr/>
        </p:nvPicPr>
        <p:blipFill>
          <a:blip r:embed="rId1"/>
          <a:stretch/>
        </p:blipFill>
        <p:spPr>
          <a:xfrm>
            <a:off x="785880" y="3500280"/>
            <a:ext cx="2571840" cy="1500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9" descr="http://www.fotosearch.com/bthumb/RBL/RBL204/b02432.jpg"/>
          <p:cNvPicPr/>
          <p:nvPr/>
        </p:nvPicPr>
        <p:blipFill>
          <a:blip r:embed="rId2"/>
          <a:stretch/>
        </p:blipFill>
        <p:spPr>
          <a:xfrm>
            <a:off x="4786200" y="3286080"/>
            <a:ext cx="3214800" cy="2000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471D-304C-41C9-8E33-99020F5CAAC4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POKRETI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3095640" cy="1150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5148360" y="1341360"/>
            <a:ext cx="3047760" cy="1209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Eyes Upward Left"/>
          <p:cNvPicPr/>
          <p:nvPr/>
        </p:nvPicPr>
        <p:blipFill>
          <a:blip r:embed="rId3"/>
          <a:stretch/>
        </p:blipFill>
        <p:spPr>
          <a:xfrm>
            <a:off x="857160" y="3786120"/>
            <a:ext cx="3048120" cy="1209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Eyes Up Right"/>
          <p:cNvPicPr/>
          <p:nvPr/>
        </p:nvPicPr>
        <p:blipFill>
          <a:blip r:embed="rId4"/>
          <a:stretch/>
        </p:blipFill>
        <p:spPr>
          <a:xfrm>
            <a:off x="5143680" y="3714840"/>
            <a:ext cx="3047760" cy="12096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9"/>
          <p:cNvSpPr/>
          <p:nvPr/>
        </p:nvSpPr>
        <p:spPr>
          <a:xfrm>
            <a:off x="5143680" y="2714760"/>
            <a:ext cx="350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pravo gor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značava dosadu,sarkazam i slično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0"/>
          <p:cNvSpPr/>
          <p:nvPr/>
        </p:nvSpPr>
        <p:spPr>
          <a:xfrm>
            <a:off x="785880" y="2643120"/>
            <a:ext cx="32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onstantan pogled-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načava da je osoba  zainteresovana za razgov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5214960" y="492912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gore desn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označava da osoba pokušava da se seti ranije zapamćene sli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857160" y="5143680"/>
            <a:ext cx="314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gore lev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značava da osoba “konstruiše” sliku u svojoj gla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8717-0A2F-4143-AEA8-30BEC4402206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POKRETI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Picture 4" descr="Eyes Right"/>
          <p:cNvPicPr/>
          <p:nvPr/>
        </p:nvPicPr>
        <p:blipFill>
          <a:blip r:embed="rId1"/>
          <a:stretch/>
        </p:blipFill>
        <p:spPr>
          <a:xfrm>
            <a:off x="428760" y="714240"/>
            <a:ext cx="3047760" cy="1209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Eyes Left"/>
          <p:cNvPicPr/>
          <p:nvPr/>
        </p:nvPicPr>
        <p:blipFill>
          <a:blip r:embed="rId2"/>
          <a:stretch/>
        </p:blipFill>
        <p:spPr>
          <a:xfrm>
            <a:off x="5643720" y="714240"/>
            <a:ext cx="3047760" cy="1209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Eyes Down Right"/>
          <p:cNvPicPr/>
          <p:nvPr/>
        </p:nvPicPr>
        <p:blipFill>
          <a:blip r:embed="rId3"/>
          <a:stretch/>
        </p:blipFill>
        <p:spPr>
          <a:xfrm>
            <a:off x="428760" y="3929040"/>
            <a:ext cx="3047760" cy="1209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Eyes Down Left"/>
          <p:cNvPicPr/>
          <p:nvPr/>
        </p:nvPicPr>
        <p:blipFill>
          <a:blip r:embed="rId4"/>
          <a:stretch/>
        </p:blipFill>
        <p:spPr>
          <a:xfrm>
            <a:off x="5857920" y="3857760"/>
            <a:ext cx="3048120" cy="120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Eyes Down"/>
          <p:cNvPicPr/>
          <p:nvPr/>
        </p:nvPicPr>
        <p:blipFill>
          <a:blip r:embed="rId5"/>
          <a:stretch/>
        </p:blipFill>
        <p:spPr>
          <a:xfrm>
            <a:off x="3071880" y="2000160"/>
            <a:ext cx="3047760" cy="12096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0"/>
          <p:cNvSpPr/>
          <p:nvPr/>
        </p:nvSpPr>
        <p:spPr>
          <a:xfrm>
            <a:off x="428760" y="2071800"/>
            <a:ext cx="257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esn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pokušava da se priseti ranije zapamćenog zvu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6143760" y="207180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lev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pokušava da osmisli zvuk koji nikada ranije nije č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3071880" y="32860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ol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se oseća neprijatno ili postiđ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3"/>
          <p:cNvSpPr/>
          <p:nvPr/>
        </p:nvSpPr>
        <p:spPr>
          <a:xfrm>
            <a:off x="428760" y="5143680"/>
            <a:ext cx="307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ole desn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razvija unutrašnji dijalog u svojoj gla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4"/>
          <p:cNvSpPr/>
          <p:nvPr/>
        </p:nvSpPr>
        <p:spPr>
          <a:xfrm>
            <a:off x="5857920" y="5072040"/>
            <a:ext cx="32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ole levo-osoba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kušava da zamisli kako je nešto navodi da se oseć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2417-2E0D-4273-9862-790D5BF2E0EF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OČI..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5" name="Picture 5" descr="C:\Documents and Settings\jelena\My Documents\My Pictures\Picture1.png"/>
          <p:cNvPicPr/>
          <p:nvPr/>
        </p:nvPicPr>
        <p:blipFill>
          <a:blip r:embed="rId1"/>
          <a:stretch/>
        </p:blipFill>
        <p:spPr>
          <a:xfrm>
            <a:off x="571680" y="1428840"/>
            <a:ext cx="8001000" cy="4500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27D5-3D31-4E30-88AD-FA6B0E207ABF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ZAKLJUČAK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verbalna komunikacija stalni je podtekst svega što činimo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 možemo prestati pokazivati izraze lica ili držanje, ili prikrivati ton kojim nešto govorim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ko grešimo u odabiru emocionalnih poruka koje upućujemo bićemo odbacivan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C:\Documents and Settings\jelena\Desktop\New Folder (2)\gs263017[1].jpg"/>
          <p:cNvPicPr/>
          <p:nvPr/>
        </p:nvPicPr>
        <p:blipFill>
          <a:blip r:embed="rId1"/>
          <a:stretch/>
        </p:blipFill>
        <p:spPr>
          <a:xfrm>
            <a:off x="500040" y="357120"/>
            <a:ext cx="161928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6" dur="2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DB75-BD0F-4CF4-BB5E-0B57B8C7193F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5" name="Text Box 5"/>
          <p:cNvSpPr/>
          <p:nvPr/>
        </p:nvSpPr>
        <p:spPr>
          <a:xfrm rot="20275800">
            <a:off x="2411280" y="278136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HVALA NA PAŽNJ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8ED0-2D48-4141-9E97-0B0A1CF55EB8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regled izlaganj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764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verbalni znak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kreti oč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http://www.fotosearch.com/bthumb/UNX/UNX017/u29012759.jpg"/>
          <p:cNvPicPr/>
          <p:nvPr/>
        </p:nvPicPr>
        <p:blipFill>
          <a:blip r:embed="rId1"/>
          <a:stretch/>
        </p:blipFill>
        <p:spPr>
          <a:xfrm>
            <a:off x="4714920" y="3929040"/>
            <a:ext cx="2405160" cy="1814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2017-94D6-4B8D-A946-AD7967E96356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ovek najveći 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svog vremena provodi u komunikaciji sa drugim ljud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k se verbalna komunikacija odnosi na stvarne reči koje se koriste pri razgovoru, neverbalna komunikacija se sastoji od mnoštva znakova od kojih svaki ima svoje znače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http://www.photovault.com/Link/People/Abstracts/Closeups/PACVolume01/PACV01P02_15C.tn.jpg"/>
          <p:cNvPicPr/>
          <p:nvPr/>
        </p:nvPicPr>
        <p:blipFill>
          <a:blip r:embed="rId1"/>
          <a:stretch/>
        </p:blipFill>
        <p:spPr>
          <a:xfrm>
            <a:off x="500040" y="357120"/>
            <a:ext cx="857160" cy="571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952A-58DF-469E-93C0-9613BF49C684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balna komunikacija često bude i uzrok sukoba – mnogi obračuni počinju nerazumevanjem neverbalne poruke, npr. neki pogled se protumači kao uvredljiv, a zapravo je sl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ajan ili u prolaz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http://www.photovault.com/Link/People/Abstracts/Closeups/PACVolume01/PACPCD0658_064B.tn.jpg"/>
          <p:cNvPicPr/>
          <p:nvPr/>
        </p:nvPicPr>
        <p:blipFill>
          <a:blip r:embed="rId1"/>
          <a:stretch/>
        </p:blipFill>
        <p:spPr>
          <a:xfrm>
            <a:off x="5357880" y="4500720"/>
            <a:ext cx="1285920" cy="1071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http://www.fotosearch.com/bthumb/GSH/GSH370/gs261100.jpg"/>
          <p:cNvPicPr/>
          <p:nvPr/>
        </p:nvPicPr>
        <p:blipFill>
          <a:blip r:embed="rId2"/>
          <a:stretch/>
        </p:blipFill>
        <p:spPr>
          <a:xfrm>
            <a:off x="1643040" y="4500720"/>
            <a:ext cx="164304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B14B-0DAE-4B2F-A3E0-DCE6A53442F0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NEVERBALNI ZNAKOV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balni znakovi uključuj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ze lic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n glas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t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ožaj tela ili pokr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dir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g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C:\Documents and Settings\jelena\Desktop\New Folder (2)\75780157[1].jpg"/>
          <p:cNvPicPr/>
          <p:nvPr/>
        </p:nvPicPr>
        <p:blipFill>
          <a:blip r:embed="rId1"/>
          <a:stretch/>
        </p:blipFill>
        <p:spPr>
          <a:xfrm>
            <a:off x="500040" y="357120"/>
            <a:ext cx="161928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4089-D1DE-4770-A352-39EDE501B2FF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ntakt očima je vrlo važan u svakodnevnoj komunikaciji. Obično su razdoblja kontakta očima vrlo kratk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da su produžena, ili kad jedna od osoba počne buljiti u drugu, dolazi do napetosti i to se može protumačiti kao pretnja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C:\Documents and Settings\jelena\Desktop\New Folder (2)\1574R-26112[1].jpg"/>
          <p:cNvPicPr/>
          <p:nvPr/>
        </p:nvPicPr>
        <p:blipFill>
          <a:blip r:embed="rId1"/>
          <a:stretch/>
        </p:blipFill>
        <p:spPr>
          <a:xfrm>
            <a:off x="7072200" y="4286160"/>
            <a:ext cx="1076400" cy="1619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7690-E159-418D-BF69-A856627C9FAD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zbegavanje gledanja u oči povezuje se sa nesigurnim ponašanjem, što upućuje na prepredenost, pa čak i nepošten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širene zenice pokazuju emocionalno uzbuđenje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pak, ako je dvoje ljudi zaljubljeno, kontakt očima puno je češć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http://www.photovault.com/Link/People/Abstracts/Closeups/PACVolume01/PACV01P13_18B.tn.jpg"/>
          <p:cNvPicPr/>
          <p:nvPr/>
        </p:nvPicPr>
        <p:blipFill>
          <a:blip r:embed="rId1"/>
          <a:stretch/>
        </p:blipFill>
        <p:spPr>
          <a:xfrm>
            <a:off x="642960" y="357120"/>
            <a:ext cx="847800" cy="571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0D62-D431-47FE-854F-C0A7836FA526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da vidimo nekog ko nas privl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, naše obrve se automatski podignu, a zatim spuste. Ako nam je ta osoba sklona, onda i ona podigne obr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e ovo traje tek de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kunde, a dešava se svim ljudima na svetu, bez obzira na godine, rasu ili društvenu pripadno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C:\Documents and Settings\jelena\Desktop\New Folder (2)\bn267125[1].jpg"/>
          <p:cNvPicPr/>
          <p:nvPr/>
        </p:nvPicPr>
        <p:blipFill>
          <a:blip r:embed="rId1"/>
          <a:stretch/>
        </p:blipFill>
        <p:spPr>
          <a:xfrm>
            <a:off x="571680" y="357120"/>
            <a:ext cx="161892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1AFB-3B38-4BC1-B453-9BC35474CF52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Sev" obrva može lako da se propusti, ali ako ga uo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š kod onog ko te interesuje, budi sigurna da mu se dopadaš, mada on toga možda još nije svest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rve mu ostaju blago podignute dok p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 tobom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o je signal da misli da si fascinant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800"/>
            </a:br>
            <a:br>
              <a:rPr sz="2800"/>
            </a:b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C:\Documents and Settings\jelena\Desktop\New Folder (2)\bxp209595[1].jpg"/>
          <p:cNvPicPr/>
          <p:nvPr/>
        </p:nvPicPr>
        <p:blipFill>
          <a:blip r:embed="rId1"/>
          <a:stretch/>
        </p:blipFill>
        <p:spPr>
          <a:xfrm>
            <a:off x="500040" y="357120"/>
            <a:ext cx="161928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19:41:35Z</dcterms:created>
  <dc:creator>User</dc:creator>
  <dc:description/>
  <dc:language>en-US</dc:language>
  <cp:lastModifiedBy>jelena</cp:lastModifiedBy>
  <dcterms:modified xsi:type="dcterms:W3CDTF">2008-07-09T13:01:20Z</dcterms:modified>
  <cp:revision>21</cp:revision>
  <dc:subject/>
  <dc:title>INTERPRETACIJE POKRETA OČIMA </dc:title>
</cp:coreProperties>
</file>