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DA1-FFE6-4958-AEC4-BEF85969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695-327D-4ECB-AFDB-F5F99A20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FA0D-5A8E-4556-B49B-08183010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B6C5-E77A-4BB5-BECC-6EF599D5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8E0C-A229-4572-82D4-CF2DCA8D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CF12-E47A-4E3E-BB79-307F8027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4790-846A-4D07-BB0A-F0F40673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1BD5-3D43-4FDC-B504-606DE842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AAE4-D3E0-4C4A-A4A3-2B71D590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D9BF-43A0-4CEF-92DF-AC3854F3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AFE5-1C2E-4F9A-9F04-3CCA8CAE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30E-A21C-4DC6-A8A4-73258CBF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D0CD-E515-49D0-9781-6266DE46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5986-0C8E-4C60-ADFC-9763BE6E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763C-4561-481D-A4AE-C7F48FA9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74C1-87A2-470C-965D-331B5F61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F9D4-BF1D-4861-B038-342AB736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770-6294-41B0-AE24-D7ACD17D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BE8-74C7-4939-8DA6-71373179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3940-DA41-444D-9610-23D1B491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6A10-63BC-4386-9F05-1266A12A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1093-FF0A-4D6C-A3E2-7B0D90F4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2C99-EC2A-486B-AFED-C2042CC2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28F1-AE11-49C0-837C-1687D89D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8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5F46-4774-461B-9ADC-E2186688070E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E933-FC0E-4856-82F8-1988FE95F035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DD3B-2B8B-4234-9B94-0D1B4F19A671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0BE2-F957-4328-AEB3-6A982F154EBA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28840" y="2500200"/>
            <a:ext cx="7407360" cy="2571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0f62"/>
                </a:solidFill>
                <a:latin typeface="Arial"/>
              </a:rPr>
              <a:t>ŠKOLA ZA MOSTOVE I PUTEVE U PARIZU- PRVA INŽENJERSKA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0f62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770f62"/>
                </a:solidFill>
                <a:latin typeface="Arial"/>
              </a:rPr>
              <a:t>(ECOLE NATIONALE DES PONTS ET CHAUSS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91BB-8973-4E2D-9EC6-D22AD6EF0D6B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16CB-38CF-4151-B368-0CFAA56F941A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1285920" y="42876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đevinski fakultet univerziteta u Beogr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0AB2-84B1-4ABA-BA37-8AF6F44757EC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DDC7-0E97-4015-B87A-2F2E93B818AD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2124000" y="404640"/>
            <a:ext cx="532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124000" y="404640"/>
            <a:ext cx="50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124000" y="2602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258920" y="1484280"/>
            <a:ext cx="7489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jedan od fakulteta na kome studenti dobijaju tzv. op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obraz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kon toga brzo postaju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2"/>
          <a:stretch/>
        </p:blipFill>
        <p:spPr>
          <a:xfrm>
            <a:off x="3492360" y="3860640"/>
            <a:ext cx="2033640" cy="2565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E97F-1FB9-4C08-8BCE-9F2117D037EC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4CF4-4B31-4C7E-8DD4-FFC8A53AB911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2771640" y="189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eni stu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258920" y="1484280"/>
            <a:ext cx="75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 glavn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e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ja su u ponu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i programi: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5-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d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  programi postdiplomskih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ih stepena, illi mast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torski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ionalni programi za postdiplo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4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75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76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0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81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82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90F2-BEE3-4336-AFB2-BBE4115F8CDC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DB57-B98D-4DBB-B873-F8A3BA6497FE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258920" y="1628640"/>
            <a:ext cx="61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124000" y="333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1714680" y="1785960"/>
            <a:ext cx="7215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 kvalitetnom radu škole svedoči činjenica da se škola uspešno održala i do današnjih d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u trećem veku od svog osnivanja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a iza sebe ima zavidan broj visoko obrazovanih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u svom poslu najuspešnijih inženj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1A21-B480-4B2F-A84A-1CC58738E5D2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D7EC-D6BE-4D40-B92B-BE2A97C6122F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 rot="21180600">
            <a:off x="1486080" y="1991880"/>
            <a:ext cx="7072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ZAHVALJUJEMO VAM SE NA PAŽNJI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NADAMO SE DA STE UŽIV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Auto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3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0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47CC-DCBD-4775-8A92-A0BC3639C154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73C0-9AB4-49B7-BAB9-99836001F4CB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2"/>
          <p:cNvSpPr/>
          <p:nvPr/>
        </p:nvSpPr>
        <p:spPr>
          <a:xfrm>
            <a:off x="1214280" y="28584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1714680" y="1428840"/>
            <a:ext cx="678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UVOD U GRADJEVINARST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istorijsk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nastana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ionale d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s 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ssé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lokal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rad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stepeni stu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EC8A-FCA8-41FF-AC54-C7080BB9F880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58F7-7417-444E-A00B-997A0DCE46E2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1214280" y="21420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torijsk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1285920" y="15717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đevinarstvo je staro koliko i ljudska civilizacija i jedna je od najznačajnijih i najstarijih privrednih gra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1428840" y="3143160"/>
            <a:ext cx="3071880" cy="3276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3"/>
          <p:cNvSpPr/>
          <p:nvPr/>
        </p:nvSpPr>
        <p:spPr>
          <a:xfrm>
            <a:off x="4786200" y="3429000"/>
            <a:ext cx="4071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oj 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narstva kao na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discipline p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je osnivanjem slavn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FBDD-BEF4-4CD5-822B-D2A50650E3DD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D589-D81D-4D19-9895-FB3B24993E26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128592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stana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1187280" y="1557360"/>
            <a:ext cx="7715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ionale d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s 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ssées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novana 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47. godine u Francusk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najstarija civilna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da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h dana v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za jednu od najpres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jih Francuskih Velikih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t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2"/>
          <a:stretch/>
        </p:blipFill>
        <p:spPr>
          <a:xfrm>
            <a:off x="3571920" y="2571840"/>
            <a:ext cx="2143080" cy="2033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6034-8A4C-45F7-AD56-E217EDEBB24F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EF0A-B635-45EA-955D-8CB64544F157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1619280" y="333360"/>
            <a:ext cx="619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547640" y="155736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se razvijala godinama, od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j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voju poziciju kao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dukaciona ustanova u Francusk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4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410508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AA47-1206-4F3C-8FF8-AF4E07C536B2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AEB0-1172-4342-B3E4-2F61B7680964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1285920" y="28584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okal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http://www.jpmoser.com/images/golfhotelmv/marne-map.jpg"/>
          <p:cNvPicPr/>
          <p:nvPr/>
        </p:nvPicPr>
        <p:blipFill>
          <a:blip r:embed="rId2"/>
          <a:stretch/>
        </p:blipFill>
        <p:spPr>
          <a:xfrm>
            <a:off x="2428920" y="1428840"/>
            <a:ext cx="4929120" cy="19288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1143000" y="3500280"/>
            <a:ext cx="757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u  </a:t>
            </a: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Marne-la-Valle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ariza,udaljenom 15km od njega), i ima istorijske 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ne 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Pari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A63F-C47A-4210-8EA7-ECC0B2163085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C261-F12C-4342-88DA-A5E168742BEB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Straight Connector 9" descr=""/>
          <p:cNvPicPr/>
          <p:nvPr/>
        </p:nvPicPr>
        <p:blipFill>
          <a:blip r:embed="rId1"/>
          <a:stretch/>
        </p:blipFill>
        <p:spPr>
          <a:xfrm>
            <a:off x="871560" y="105408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2050920" y="260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389960" y="1784160"/>
            <a:ext cx="7291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dukacija za master studente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organizovana u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st slede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Calibri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h odse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Civilno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njerstvo i konstru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Transport, planiranje,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votna ok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M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nstvo i materij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AB89-BE99-41B1-B669-1D15C2AE6E58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CBF0-DE16-409A-8A40-5F3BF4872F7D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2050920" y="260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258920" y="170028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njena matematika i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ja,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, finans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jsko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tvo i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3492360" y="4221000"/>
            <a:ext cx="27370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E515-B8BF-4FFB-8451-6C0D5FE6D120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B739-65FE-4ED1-B668-EB6E7F1C64DE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1692360" y="333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332000" y="1557360"/>
            <a:ext cx="7632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godine je osnovan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hool of International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 stra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 osnivanja je primala z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nu pod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 od ma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2"/>
          <a:stretch/>
        </p:blipFill>
        <p:spPr>
          <a:xfrm>
            <a:off x="4067280" y="4941720"/>
            <a:ext cx="2160360" cy="1511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6:17:52Z</dcterms:created>
  <dc:creator>stud126xp</dc:creator>
  <dc:description/>
  <dc:language>en-US</dc:language>
  <cp:lastModifiedBy>jelena</cp:lastModifiedBy>
  <dcterms:modified xsi:type="dcterms:W3CDTF">2008-07-09T12:59:40Z</dcterms:modified>
  <cp:revision>34</cp:revision>
  <dc:subject/>
  <dc:title>Slide 1</dc:title>
</cp:coreProperties>
</file>