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230-338D-4865-A4EE-A2DBE773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B856-3C47-41D6-B6F4-F2A6F5F2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820-1351-4342-850F-BBD50D1B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B6C-F877-4EA2-B7CE-CB2DD7AD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D0FC-24C5-4F15-B909-DDCB1677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60FF-8B5B-4B08-B05E-7EDEC2B1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0630-56A5-4F27-B38A-34B45303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4F46-067B-47F7-AF92-F7AC32A6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45A0-60AF-419C-958C-9355096A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C156-58B8-48D6-9781-C5B38F99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A88D-27E0-4179-9948-CD7D495C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8364-E3A3-4085-8369-EF96D9A4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79B3-BBC2-485F-944A-9A9577AD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7FCF-4BF1-4D1D-97D4-070978AA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7862-89BF-429C-A018-7F8B5283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C892-4610-49ED-AD93-23BAA009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B9BF-9B59-4960-9823-058D8F45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B890A-FB18-4BBD-9129-9C9E96CC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6E358-FA77-4262-9D1A-07D5DEB4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34DB4-B2EF-4F92-9D13-739A8A42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3C3E7-25B9-4BEE-A1B4-17189F6C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1E35B-5023-4B9B-BDC5-7B61F33C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E5E0-B469-4916-8318-5D1C3C5F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BAE5B-6BE1-4C8A-A7E8-E75F7DF0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EABFB-517F-4198-B7FE-1D9959EB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4FCEE-298B-4943-8F0B-6F97B2E1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5A2BD-A6C0-4BD7-9546-49145329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30866-4A2A-4A2F-BC30-B0B25593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87C27-C06D-47D9-9493-928DA37A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D064D-6201-4FBE-BB91-5278A9DA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F0FC5-A879-4585-AD55-5A3240F6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A29B5-963E-49A4-8FBB-6305EEBF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5917C-D41E-4DF9-9531-FBFBD986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D954-CD73-4F4A-8647-F9158DB0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25824-01F0-41F8-938B-6749AFE9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FB422-C8AE-4E22-8592-C33B7FF6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E4C2A-9640-4E76-924F-8FD6E12A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6A3CE-CEA9-41EA-AE9C-992991C9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D4C48-1026-4168-943B-48A161D2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0E44F-8132-458A-B9B2-7A65CD2C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18355-CEDF-436E-AB4D-5D7846B8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BFE9E-FEBA-4CB6-9E79-89BEF468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45FD1-04E6-4FA3-AAD9-FCC2FF70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8DA0F-45F0-4068-A75D-EF538C48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868F-9C77-4518-9E87-367B7DC4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F9BBF-1D23-4D25-A4FD-7B2DCCCF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F1171-339E-4904-8745-93FEF522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EF0E3-9C27-4E9D-8208-09E0008F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8A304-71B8-4E77-9DBA-7EA27125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4923B-55D9-4A45-A84C-EE0120D0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DC4D6-EAF4-43D8-85CE-05BBA65A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6B995-4AAC-4058-8D4E-50EEB7CC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9A713-45EB-4564-B769-14BAC00E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2B248-A064-4BA4-BF31-57668D64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5AE6B-334C-4CF1-8AE8-F5DC2F0F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CCF-7F0E-4C9C-9E36-6240ED9B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36FA0-4F7C-4F1D-9BB1-25F94B7C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F7A5F-6E60-4858-A6B2-D57187F0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ECD00-136D-49CF-A517-A0D58A8E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4C4C6-CB34-4279-8052-B40A377B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EC80F-CC88-4E2A-B603-8C00592B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83147-CF22-4D86-AA13-D3022AA5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B1DF5-6629-4676-A238-C85E838B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FF9B3-0DBC-481E-824E-4FBF2843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80D3F-FAB7-43F1-BB3A-C941F696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F2C75-68EE-47E2-850F-1670703A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151E-6483-44F6-896A-D8B42256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E931A-4810-434F-9F79-61713430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10E14-0775-4816-9C66-DE224EBD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A324A-408E-4120-83BB-CF788791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E0EF0-D0C3-4B85-BEE7-EC4885B2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559CE-782E-4F12-BFF6-D10908B1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11D76-CD63-46F9-A4EF-92033547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CE3A6-5CCC-4C49-B587-176332C9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81200-FF7B-4AB2-88D2-658FDF92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C8D1D-2FC6-41D9-9EEF-E9736E47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86F17-2A22-49F0-B067-AD3257D0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4F09-EB4B-4A47-841C-556756FD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75E99-BF9E-4A79-8C92-1D2A4053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D60CE-2500-4EAF-9AD8-E8630A4E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22B84-FC59-4E7E-85A0-D30250B4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009E7-9808-421C-8E8A-257EBF14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3C295-6A5C-4D3F-96AC-19643FEC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25F9-BFD3-4562-AC88-480D240A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DF1E-76BB-4F55-8E0E-FF77099F9C9B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658D-0405-42F1-AA6B-5C60DE979ED6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9149-F4C7-41EC-8A38-42751FF9D716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9069-8718-4297-8185-A45C120FA3F4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B506-F4FF-40BD-BCC0-277D58F2585D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8051-17A4-46ED-8798-AD7D43625A3B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FD6C-5E74-499E-A7F5-2DC3BE994CCA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3A81-D93D-4495-94BC-417FECD33C0A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3EAF-9A8F-4228-BB48-26415C6F21A6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D61D-6E50-4A5E-B839-9878DEED7457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137D-1D9C-4070-8656-7AE678F337F6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F7B1-F88C-425C-ADCE-95427DED85D4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6f2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ef5f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2369-43D3-4D2E-8086-B3E6A759DD49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5FAA-FF82-4E1A-A198-9669B451A666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0" y="1499760"/>
            <a:ext cx="68580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Pore</a:t>
            </a: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đenje chat klijenata</a:t>
            </a:r>
            <a:br>
              <a:rPr sz="4300"/>
            </a:b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214520" y="3714840"/>
            <a:ext cx="4621320" cy="3579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357200" y="3857760"/>
            <a:ext cx="18576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429240" y="1285920"/>
            <a:ext cx="2714760" cy="55720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GOOGLE  TALK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5857920" cy="5715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gTALK morate imati otvoren nalog na gmail-u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U poslednje vreme je jako zastupljen medju internet korisnicima jer 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pored zvucnog (Skype) i pisanog oblika, sada podr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ž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ava i peer-2-peer varijantu(nema ogran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enja u vel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ini i tipu fajla)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N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ovost je i voice mail, kada user nije online, mozete poslati audio poruku koju user dobija kao E-mail attachment na Gmail-u..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ffffff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431720" y="1643040"/>
            <a:ext cx="7407000" cy="5214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MSN je lansiran 1999 kao konkurencija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OL Instant Messenger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u,od kompanije Microsof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Prvobitan naziv bio j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 Service“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,ali je kasnije pojednostavljen ka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.“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Termin MSN je postao sinonim za sve messenger servise u internet sleng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6"/>
          <p:cNvSpPr/>
          <p:nvPr/>
        </p:nvSpPr>
        <p:spPr>
          <a:xfrm flipH="1">
            <a:off x="1355760" y="1440"/>
            <a:ext cx="144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285560" y="1071360"/>
            <a:ext cx="5143320" cy="5429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je najrasprostanjeniji medju internet korisnicima govori činjenica da ga danas koristi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225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iliona ljud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MSN morate imati otvoren nalog na hotmail-u</a:t>
            </a: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285920" y="5214960"/>
            <a:ext cx="1409760" cy="1305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6410160" y="1071720"/>
            <a:ext cx="27338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143000" y="4572000"/>
            <a:ext cx="1643040" cy="21430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KOJI IZABRATI?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1720" y="1071360"/>
            <a:ext cx="7407000" cy="4071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ijedan chat klijent ne možemo izdvojiti kao najbolji.Svaki od njih nam nudi veliki broj mogućnosti,koje mi koristimo u skladu sa našim potreba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Često korisnici imaju instalirana 2-3 različita chat klijenta,i na taj način pokrivaju najveći deo onoga što nude                .            Chat klijent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"/>
          <p:cNvPicPr/>
          <p:nvPr/>
        </p:nvPicPr>
        <p:blipFill>
          <a:blip r:embed="rId2"/>
          <a:stretch/>
        </p:blipFill>
        <p:spPr>
          <a:xfrm>
            <a:off x="3143160" y="5572080"/>
            <a:ext cx="1181160" cy="1047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3"/>
          <a:stretch/>
        </p:blipFill>
        <p:spPr>
          <a:xfrm>
            <a:off x="5072040" y="557208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img338.imageshack.us/img338/2901/promotewallpaperthzy8.jpg"/>
          <p:cNvPicPr/>
          <p:nvPr/>
        </p:nvPicPr>
        <p:blipFill>
          <a:blip r:embed="rId4"/>
          <a:stretch/>
        </p:blipFill>
        <p:spPr>
          <a:xfrm>
            <a:off x="6786720" y="5286240"/>
            <a:ext cx="20714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64646"/>
                </a:solidFill>
                <a:latin typeface="Gill Sans MT"/>
              </a:rPr>
              <a:t>ALL-IN-ONE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8143920" cy="3429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e nekoliko godina objavljeni su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all-in-one</a:t>
            </a: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svi u jednom)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chat programi koji podržavaju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ICQ, AIM, MSN, Yahoo, IRC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od njih su: Miranda,Trillian,Jabber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214280" y="3286080"/>
            <a:ext cx="3571920" cy="2928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 rot="20915400">
            <a:off x="5489280" y="3717720"/>
            <a:ext cx="3159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LL-IN-ONE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431720" y="1285920"/>
            <a:ext cx="7407000" cy="528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Ukoliko imate Gtalk,a vaš novi poslovni partner MSN messenger,vi zahvaljujući all-in-one ne morate dodatno da se mučite instalirajući MSN,otvarajući nalog na hotmail-u,ili slali njemu pozivnicu za Gmail,pa čekali d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je prihvati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voljno je da imte instaliran neki od all-in-one da biste komunicirali sa njim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143000" y="0"/>
            <a:ext cx="1104840" cy="866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7643880" y="4357800"/>
            <a:ext cx="11714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4643280" y="5214960"/>
            <a:ext cx="2214720" cy="971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ZAKLJUČAK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143000" y="1356840"/>
            <a:ext cx="7786800" cy="4929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Iako naizgled različiti,svi Chat klijenti pružaju donekle iste usluge svojim korisnici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Za koji god da se odlučite u svako doba dana i noći ćete moći da komunicirate i razmenjujete fajlove sa ljudima,bilo da oni žive u zgradi do vaše ili na hiljadama kilometara dalek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9" descr=""/>
          <p:cNvPicPr/>
          <p:nvPr/>
        </p:nvPicPr>
        <p:blipFill>
          <a:blip r:embed="rId2"/>
          <a:stretch/>
        </p:blipFill>
        <p:spPr>
          <a:xfrm>
            <a:off x="8097840" y="0"/>
            <a:ext cx="10461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5000760" y="0"/>
            <a:ext cx="4143240" cy="41432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PREGLED IZLAGANJ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071720" y="1213920"/>
            <a:ext cx="7858080" cy="528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lvl="1" marL="971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je cha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Prednosti u odnosu na e-mai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Vrste chat klijena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pružaju korisnicim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o više o: ICQ,Gtalk,Msn i all-in-one chat klijentima.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oji 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brati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ključak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2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2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200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Šta je chat?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071360" y="1785600"/>
            <a:ext cx="8072280" cy="302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ili IRC (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nternet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aly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hat) je jedan od servisa koji je donekle sličan elektronskoj pošti i predstavlja ćaskanje(engl.chat) putem interne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5715000" y="3865680"/>
            <a:ext cx="2214720" cy="2035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1857240" y="4714920"/>
            <a:ext cx="2143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Gill Sans MT"/>
              </a:rPr>
              <a:t>Prednosti u odnosu na e-mail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000080" y="1714320"/>
            <a:ext cx="5143680" cy="5143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 razliku od elektronske pošte komunikacija se obavlja u realnom vremenu tj.svi učesnici u komunikaciji moraju da se nalaze istovremeno u blizini računar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6048360" y="1071720"/>
            <a:ext cx="30956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VRSTE CHAT KLIJENAT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571400" y="1785600"/>
            <a:ext cx="688644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kao najrasprostranjeniji komunikacioni servis na internetu se  vrši putem chat klijenata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Google talk,Mirabilis,AOL messenger,          mIRC,XChat,MSN,Skype,Yahoo messenger,ICQ,Jabber,Trillian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6286680" y="4929120"/>
            <a:ext cx="2071440" cy="1357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1143000" y="5715000"/>
            <a:ext cx="1928880" cy="928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3"/>
          <a:stretch/>
        </p:blipFill>
        <p:spPr>
          <a:xfrm>
            <a:off x="7286760" y="1214280"/>
            <a:ext cx="15714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ŠTA PRUŽAJU KORISNICIMA?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00080" y="1213920"/>
            <a:ext cx="7215120" cy="5643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mogućavaju nam komunikaciju s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jatelj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Rodbin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oslovnim partner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chat klijenti dozvoljavaju video i glasovnu komunikaciju,razmenu fajlova,kao i izražavanje emocija preko velikog broja emotikona,winkova i s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5572080" y="1785960"/>
            <a:ext cx="3571920" cy="2214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tretch/>
        </p:blipFill>
        <p:spPr>
          <a:xfrm>
            <a:off x="7915320" y="0"/>
            <a:ext cx="1228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1000080" y="0"/>
            <a:ext cx="8143920" cy="24289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85960" y="213840"/>
            <a:ext cx="66722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431720" y="1357200"/>
            <a:ext cx="7407000" cy="5500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Aj-Si-Kj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(ICQ, igra reči: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ngl.</a:t>
            </a:r>
            <a:r>
              <a:rPr b="0" i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I Seek Yo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- „tražim te“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Prva verzija programa je izaš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. godine, a naziv je nastao kao gore pomenuta igra reči na engleskom jeziku.</a:t>
            </a:r>
            <a:r>
              <a:rPr b="0" lang="vi-VN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Vremenom, pojavile su se i mogućnosti prenosa fajlova, slike pa i „onlajn“ igranja između korisnik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85960" y="142920"/>
            <a:ext cx="66722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99720" y="1071360"/>
            <a:ext cx="6000840" cy="5500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d 2007 god. Omogućeno je slanje besplatnih SMS poruka preko njega,podržava glasovnu i video komunika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edjutim iako je bio jako popularan u svoje vreme,nove generacije chat klijenat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su ga ubrzo zamenile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ada postoje oni koji su mu ostali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sledn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0" descr=""/>
          <p:cNvPicPr/>
          <p:nvPr/>
        </p:nvPicPr>
        <p:blipFill>
          <a:blip r:embed="rId1"/>
          <a:stretch/>
        </p:blipFill>
        <p:spPr>
          <a:xfrm>
            <a:off x="6429240" y="5214960"/>
            <a:ext cx="1409760" cy="1295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"/>
          <p:cNvPicPr/>
          <p:nvPr/>
        </p:nvPicPr>
        <p:blipFill>
          <a:blip r:embed="rId3"/>
          <a:stretch/>
        </p:blipFill>
        <p:spPr>
          <a:xfrm>
            <a:off x="6899400" y="1500120"/>
            <a:ext cx="22446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GOOGLE TALK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431720" y="1213920"/>
            <a:ext cx="7407000" cy="5000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je servis kompa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Google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koji pruža uslugu Internet telefo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(VoIP - Voice over Internet Protocol) i chat-a (IM - Instant Messaging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 beta verzija izašla je 24. avgusta 2005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Za sada program može da radi samo na Windows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perativnim sistemima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2000,XP,server 2003,Vista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čekuje se da neka od budućih verzija podržava i video konferen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20:53:16Z</dcterms:created>
  <dc:creator>jelena</dc:creator>
  <dc:description/>
  <dc:language>en-US</dc:language>
  <cp:lastModifiedBy>jelena</cp:lastModifiedBy>
  <dcterms:modified xsi:type="dcterms:W3CDTF">2008-07-09T13:03:05Z</dcterms:modified>
  <cp:revision>72</cp:revision>
  <dc:subject/>
  <dc:title>Poređenje chat klijenata </dc:title>
</cp:coreProperties>
</file>