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8123-3F5F-41E7-985A-CA194673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1EE6-0043-4C21-95E8-23DCB2BB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2C1D-F200-4BCF-8618-35BF12CA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0C1E-CC7B-463C-A730-2D9E5B32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0C03-ABA4-4BED-9D39-C312D69F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5977-FBF9-4D48-96F0-D117E5A9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A996-7384-4E84-A5DD-9C6EFE2F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D2AA-3D55-41E3-973C-A46FBD09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6D51-7111-4EA2-8E40-B8CBE864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1580-52C1-4D76-85BE-14109D3A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2F72-6FEE-4EF7-8C70-C5871FF3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406-1098-4108-8681-0603C45B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799D-4851-4D43-8C75-90AAA794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D59D-20E4-40A5-8C5B-809BC230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EE5D-5B0C-4426-BAD7-2F714A0C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702F-EBAC-40FE-B7AF-9F68B8DB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E0B8-A875-417C-B62E-BBE36B85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E60C9-C6A7-4678-928D-E74171B0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A87E2-A1CB-450C-9F9D-BB21105A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EDF02-1A69-492F-9F56-13E31D74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F57BA-1901-4C89-B998-A9E4A4CE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3A032-794A-411D-8E0E-C469EE11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271F-5138-4577-AC79-EBCE2D72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F4BED-F985-4432-BB6D-4B2F7EFC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66158-A425-45A6-B728-04F92928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F965D-B805-4B62-AB61-953891C4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595D-D4AE-458B-AC1A-CDFAD4F5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39F1B-BBBF-4D7E-8F18-7E531FC4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32678-2F86-4748-A307-C91A8CFB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919D4-C97D-4ACE-B06A-971489D4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B9FF4-FE6A-45BD-86A0-5B150B69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6CED6-8C61-43CE-995C-6B714C42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7A7CE-65F1-4671-8078-8F7AFC27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436-D1DB-448F-893A-2AB301BB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70EB1-C7BE-4FAC-8A62-CFB234D8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DA1FD-85B9-4199-BF52-08FF2F29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CDA2A-2ED0-4857-9627-FC58AE4F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B92E0-6CAC-431D-B4C3-EBA3D21D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261D8-1FFB-4207-B3A6-95985BFB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10A69-8D3E-409F-ACFF-F5B6F397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EA9BA-1FD6-4350-BB2B-FF81A533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03219-A48F-411B-8C06-E38033F3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C22ED-F012-41EA-BCF1-9BA0B9AB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31EB5-3509-4794-814F-A72A5952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B84-9577-4A95-A70B-5F8AC771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62E2A-BC49-4E7E-8879-71421167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057D8-59F4-4717-AB88-3FC78110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FA95F-EA08-490E-B2D2-1F23CFD5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748ED-1684-4C27-BCBE-379F9996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A2DAC-1593-46A0-B789-6225F009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8C645-496D-49EB-99C7-48A2FC8E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345FD-B6AC-4A2F-B862-0D70CA29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E1402-4DF8-4717-9FE6-A3165F17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B66E1-7971-4A83-A086-7B93ADF0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AF4FD-CE34-4C73-BE31-CA2D08D1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855B-3250-4EDA-A6A7-C56BA8ED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393B3-B870-4482-A7DB-7AE9B203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1E0BE-2C97-4459-9F39-1F367684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D386B-7383-4B85-B883-E42D4BEC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76002-359A-4695-8D29-E3E5DCBC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0DC3B-A10E-43BE-91AB-2FEF5E79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C598E-A3BF-451E-AD92-CA395E75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C21DB-26E8-43D8-86C3-6C0EC0B5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2DEBE-5287-42B4-A0C8-AF65E24D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ABBA2-0A2A-4BD8-94BA-F44B73AF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4B0A9-B297-4B32-A009-98CC9478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DAE-9F35-4F56-946F-4D6ACA36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5D554-7816-4325-994A-5C53FB0B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9B815-FDFE-41F2-9E20-9C22AE17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B605C-D4CD-4521-9187-5068EC38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F827B-624F-4A33-B0C4-8347160E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CE7D8-EC54-443E-8E6A-633BE9FE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6095F-D869-4797-92F0-425572A6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C124F-53A9-4E0F-87E3-D187D009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54E81-92FE-4389-A51E-BF9E3241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27161-06BF-49E6-BDC0-FDFD0C20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4BEF6-D61F-43B8-9157-9D5A8A51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D934-5147-480E-87D5-A68F4071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90E02-BCFD-4B06-A9C5-C17CEB49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8CFA3-0787-4BB2-90EE-A0DB906E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3B9B3-B375-484F-8F2D-76BF3333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C45FD-8D5B-423C-90A9-1BD0AE33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97733-FB9C-4EFB-BBCD-12BCA653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C76A-64CF-4504-8A16-20F97393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78C3-C4D9-4989-9F56-DCB3D46C1815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F484-2B0C-4E0F-9021-49F7995833C9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1529-3B74-40E3-B8F9-89BF326120EE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5E6A-D33E-40BA-9C4E-4898E7312EE4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6654-0565-4645-BB61-3C0D5751F5E9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03AE-1B10-43B7-8AE4-4C916B680BFC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2612-BE5B-4D2E-A2B9-F62CFED9E6DB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FE46-065F-47FF-9F81-58E9968B7E50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5E76-2034-45AB-8616-02E3612A40E6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5172-4B67-4395-8A57-779FA996377F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B59F-CF73-45C5-A318-D526A3A2E392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1C19-19A7-45E4-A94F-F48448EE342F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6f2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ef5f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5296-163B-4402-ADA7-B3DF72ED40D1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2B14-9991-4B22-A5A1-69AB2F5F49B8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0" y="1499760"/>
            <a:ext cx="68580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Pore</a:t>
            </a: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đenje chat klijenata</a:t>
            </a:r>
            <a:br>
              <a:rPr sz="4300"/>
            </a:b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214520" y="3714840"/>
            <a:ext cx="4621320" cy="3579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357200" y="3857760"/>
            <a:ext cx="18576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429240" y="1285920"/>
            <a:ext cx="2714760" cy="55720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GOOGLE  TALK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5857920" cy="5715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gTALK morate imati otvoren nalog na gmail-u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U poslednje vreme je jako zastupljen medju internet korisnicima jer 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pored zvucnog (Skype) i pisanog oblika, sada podr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ž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ava i peer-2-peer varijantu(nema ogran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enja u vel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ini i tipu fajla)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N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ovost je i voice mail, kada user nije online, mozete poslati audio poruku koju user dobija kao E-mail attachment na Gmail-u..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ffffff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431720" y="1643040"/>
            <a:ext cx="7407000" cy="5214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MSN je lansiran 1999 kao konkurencija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OL Instant Messenger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u,od kompanije Microsof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Prvobitan naziv bio j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 Service“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,ali je kasnije pojednostavljen ka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.“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Termin MSN je postao sinonim za sve messenger servise u internet sleng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6"/>
          <p:cNvSpPr/>
          <p:nvPr/>
        </p:nvSpPr>
        <p:spPr>
          <a:xfrm flipH="1">
            <a:off x="1355760" y="1440"/>
            <a:ext cx="144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285560" y="1071360"/>
            <a:ext cx="5143320" cy="5429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je najrasprostanjeniji medju internet korisnicima govori činjenica da ga danas koristi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225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iliona ljud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MSN morate imati otvoren nalog na hotmail-u</a:t>
            </a: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285920" y="5214960"/>
            <a:ext cx="1409760" cy="1305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6410160" y="1071720"/>
            <a:ext cx="27338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143000" y="4572000"/>
            <a:ext cx="1643040" cy="21430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KOJI IZABRATI?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1720" y="1071360"/>
            <a:ext cx="7407000" cy="4071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ijedan chat klijent ne možemo izdvojiti kao najbolji.Svaki od njih nam nudi veliki broj mogućnosti,koje mi koristimo u skladu sa našim potreba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Često korisnici imaju instalirana 2-3 različita chat klijenta,i na taj način pokrivaju najveći deo onoga što nude                .            Chat klijent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"/>
          <p:cNvPicPr/>
          <p:nvPr/>
        </p:nvPicPr>
        <p:blipFill>
          <a:blip r:embed="rId2"/>
          <a:stretch/>
        </p:blipFill>
        <p:spPr>
          <a:xfrm>
            <a:off x="3143160" y="5572080"/>
            <a:ext cx="1181160" cy="1047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3"/>
          <a:stretch/>
        </p:blipFill>
        <p:spPr>
          <a:xfrm>
            <a:off x="5072040" y="557208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img338.imageshack.us/img338/2901/promotewallpaperthzy8.jpg"/>
          <p:cNvPicPr/>
          <p:nvPr/>
        </p:nvPicPr>
        <p:blipFill>
          <a:blip r:embed="rId4"/>
          <a:stretch/>
        </p:blipFill>
        <p:spPr>
          <a:xfrm>
            <a:off x="6786720" y="5286240"/>
            <a:ext cx="20714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64646"/>
                </a:solidFill>
                <a:latin typeface="Gill Sans MT"/>
              </a:rPr>
              <a:t>ALL-IN-ONE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8143920" cy="3429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e nekoliko godina objavljeni su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all-in-one</a:t>
            </a: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svi u jednom)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chat programi koji podržavaju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ICQ, AIM, MSN, Yahoo, IRC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od njih su: Miranda,Trillian,Jabber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214280" y="3286080"/>
            <a:ext cx="3571920" cy="2928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 rot="20915400">
            <a:off x="5489280" y="3717720"/>
            <a:ext cx="3159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LL-IN-ONE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431720" y="1285920"/>
            <a:ext cx="7407000" cy="528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Ukoliko imate Gtalk,a vaš novi poslovni partner MSN messenger,vi zahvaljujući all-in-one ne morate dodatno da se mučite instalirajući MSN,otvarajući nalog na hotmail-u,ili slali njemu pozivnicu za Gmail,pa čekali d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je prihvati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voljno je da imte instaliran neki od all-in-one da biste komunicirali sa njim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143000" y="0"/>
            <a:ext cx="1104840" cy="866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7643880" y="4357800"/>
            <a:ext cx="11714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4643280" y="5214960"/>
            <a:ext cx="2214720" cy="971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ZAKLJUČAK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143000" y="1356840"/>
            <a:ext cx="7786800" cy="4929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Iako naizgled različiti,svi Chat klijenti pružaju donekle iste usluge svojim korisnici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Za koji god da se odlučite u svako doba dana i noći ćete moći da komunicirate i razmenjujete fajlove sa ljudima,bilo da oni žive u zgradi do vaše ili na hiljadama kilometara dalek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9" descr=""/>
          <p:cNvPicPr/>
          <p:nvPr/>
        </p:nvPicPr>
        <p:blipFill>
          <a:blip r:embed="rId2"/>
          <a:stretch/>
        </p:blipFill>
        <p:spPr>
          <a:xfrm>
            <a:off x="8097840" y="0"/>
            <a:ext cx="10461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5000760" y="0"/>
            <a:ext cx="4143240" cy="41432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PREGLED IZLAGANJ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071720" y="1213920"/>
            <a:ext cx="7858080" cy="528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lvl="1" marL="971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je cha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Prednosti u odnosu na e-mai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Vrste chat klijena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pružaju korisnicim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o više o: ICQ,Gtalk,Msn i all-in-one chat klijentima.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oji 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brati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ključak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2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2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200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Šta je chat?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071360" y="1785600"/>
            <a:ext cx="8072280" cy="302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ili IRC (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nternet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aly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hat) je jedan od servisa koji je donekle sličan elektronskoj pošti i predstavlja ćaskanje(engl.chat) putem interne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5715000" y="3865680"/>
            <a:ext cx="2214720" cy="2035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1857240" y="4714920"/>
            <a:ext cx="2143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Gill Sans MT"/>
              </a:rPr>
              <a:t>Prednosti u odnosu na e-mail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000080" y="1714320"/>
            <a:ext cx="5143680" cy="5143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 razliku od elektronske pošte komunikacija se obavlja u realnom vremenu tj.svi učesnici u komunikaciji moraju da se nalaze istovremeno u blizini računar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6048360" y="1071720"/>
            <a:ext cx="30956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VRSTE CHAT KLIJENAT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571400" y="1785600"/>
            <a:ext cx="688644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kao najrasprostranjeniji komunikacioni servis na internetu se  vrši putem chat klijenata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Google talk,Mirabilis,AOL messenger,          mIRC,XChat,MSN,Skype,Yahoo messenger,ICQ,Jabber,Trillian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6286680" y="4929120"/>
            <a:ext cx="2071440" cy="1357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1143000" y="5715000"/>
            <a:ext cx="1928880" cy="928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3"/>
          <a:stretch/>
        </p:blipFill>
        <p:spPr>
          <a:xfrm>
            <a:off x="7286760" y="1214280"/>
            <a:ext cx="15714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ŠTA PRUŽAJU KORISNICIMA?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00080" y="1213920"/>
            <a:ext cx="7215120" cy="5643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mogućavaju nam komunikaciju s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jatelj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Rodbin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oslovnim partner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chat klijenti dozvoljavaju video i glasovnu komunikaciju,razmenu fajlova,kao i izražavanje emocija preko velikog broja emotikona,winkova i s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5572080" y="1785960"/>
            <a:ext cx="3571920" cy="2214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tretch/>
        </p:blipFill>
        <p:spPr>
          <a:xfrm>
            <a:off x="7915320" y="0"/>
            <a:ext cx="1228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1000080" y="0"/>
            <a:ext cx="8143920" cy="24289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85960" y="213840"/>
            <a:ext cx="66722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431720" y="1357200"/>
            <a:ext cx="7407000" cy="5500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Aj-Si-Kj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(ICQ, igra reči: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ngl.</a:t>
            </a:r>
            <a:r>
              <a:rPr b="0" i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I Seek Yo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- „tražim te“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Prva verzija programa je izaš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. godine, a naziv je nastao kao gore pomenuta igra reči na engleskom jeziku.</a:t>
            </a:r>
            <a:r>
              <a:rPr b="0" lang="vi-VN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Vremenom, pojavile su se i mogućnosti prenosa fajlova, slike pa i „onlajn“ igranja između korisnik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85960" y="142920"/>
            <a:ext cx="66722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99720" y="1071360"/>
            <a:ext cx="6000840" cy="5500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d 2007 god. Omogućeno je slanje besplatnih SMS poruka preko njega,podržava glasovnu i video komunika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edjutim iako je bio jako popularan u svoje vreme,nove generacije chat klijenat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su ga ubrzo zamenile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ada postoje oni koji su mu ostali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sledn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0" descr=""/>
          <p:cNvPicPr/>
          <p:nvPr/>
        </p:nvPicPr>
        <p:blipFill>
          <a:blip r:embed="rId1"/>
          <a:stretch/>
        </p:blipFill>
        <p:spPr>
          <a:xfrm>
            <a:off x="6429240" y="5214960"/>
            <a:ext cx="1409760" cy="1295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"/>
          <p:cNvPicPr/>
          <p:nvPr/>
        </p:nvPicPr>
        <p:blipFill>
          <a:blip r:embed="rId3"/>
          <a:stretch/>
        </p:blipFill>
        <p:spPr>
          <a:xfrm>
            <a:off x="6899400" y="1500120"/>
            <a:ext cx="22446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GOOGLE TALK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431720" y="1213920"/>
            <a:ext cx="7407000" cy="5000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je servis kompa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Google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koji pruža uslugu Internet telefo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(VoIP - Voice over Internet Protocol) i chat-a (IM - Instant Messaging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 beta verzija izašla je 24. avgusta 2005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Za sada program može da radi samo na Windows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perativnim sistemima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2000,XP,server 2003,Vista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čekuje se da neka od budućih verzija podržava i video konferen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20:53:16Z</dcterms:created>
  <dc:creator>jelena</dc:creator>
  <dc:description/>
  <dc:language>en-US</dc:language>
  <cp:lastModifiedBy>jelena</cp:lastModifiedBy>
  <dcterms:modified xsi:type="dcterms:W3CDTF">2008-07-09T13:03:05Z</dcterms:modified>
  <cp:revision>72</cp:revision>
  <dc:subject/>
  <dc:title>Poređenje chat klijenata </dc:title>
</cp:coreProperties>
</file>