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CBA-6718-4F8D-8575-CD61FE14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A5F-1C1E-4B7A-A515-A8B185A9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2794-A566-45C5-96A5-568DF1F5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D1D-5574-485A-AE87-0C862251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F05D-4C54-4993-9D68-8909717B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5C0D-F920-45BD-909A-81617F30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D490-1542-4742-9DA3-B40E99EE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AE13-9847-4106-B796-74B17C9E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AB27-E945-4F2D-8738-FE5D599A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236C-AA33-4052-BA8D-FDAF7EDA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7F95-8894-42EE-89E6-2BE64F59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F96-2BDF-4680-875B-F10C70E3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F728-BAE0-4713-9175-FE9B73C8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7932-50D6-4F90-9F99-0DCD30AC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3B9E-036D-45EA-ABA6-D4A567A3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3D4E-940F-4599-9826-ED7358AD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52BE-BB26-4089-8117-12B60587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1E942-EBAD-4CAD-A3DD-ED5735EC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123B5-1E07-4A5A-BA6A-3602DE43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EF683-C41D-4929-A44F-A6E0AE1F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75440-E4F3-4531-A439-2298449B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2535D-DED7-4092-8F48-7EEC5D38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FEFE-6F7B-4875-84AF-3FA20A10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F96C9-6A99-4AA2-93FC-FC93AE62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4BD70-0C38-458A-98BA-8D8093C9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FE23E-37C5-438E-A7D5-1D43BC7B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C937F-A5AD-49CF-9A67-1F3459D6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6EC15-36FD-44A3-BE73-F598719E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C8D8F-DB6E-4B21-A8F3-0F2FA3CB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E1E27-D1D3-4B7C-A8D2-ABA6A602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94575-499E-47DD-85B5-0BFDA9CA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0B653-8B82-421E-9932-79A57308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89A68-DC83-4269-9DBE-6C69EDF6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A6C-0776-4675-A771-75D3DBDE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61C08-31EB-4188-9C05-DDF48A7F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6E753-78A1-41B7-B8F3-86AF53F9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323FB-1B71-419C-9819-F41F1110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55572-99FE-4CDF-8851-71E24E0E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02C87-FD13-4552-A2FA-4ED6A749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DB8C2-DB0A-44F2-9821-D421CD3D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AB693-8D46-44CD-8E8D-F9DD7907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D6332-139D-43F7-9C8C-290742DE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A3EA3-0E58-4938-8888-835F7B7E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C57C5-843F-4FC4-B5E8-F832AC8C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E04-5E19-4E07-98FD-F939294C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F5910-DA13-4AA5-87CD-4824A945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127C9-9DC4-4154-8219-AD758CD0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0F7F69-312A-4475-A3F7-2AAD691B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03BAD1-AB55-46A0-AF1A-A32C07E4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6DD27-A150-411D-9EC2-6B38690E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ED5D0D-DF88-457E-86FD-F79FE65C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1194B-4DC9-462E-A579-ED71060C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7F9276-4FBA-43F3-8501-6E49B9B2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CF138-92BA-4E83-B0F9-74562888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6A745-03AE-40DB-BED1-889E506C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8F6-2558-441A-8B2C-0BD0E4D5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375313-73D9-46D9-8E72-B71B934B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8361F-DF50-48CD-8C72-E430886B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A64A8D-EEDD-483B-8E2D-1FB8841D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114F5-A3DF-48B1-9568-2054A577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339A10-D5E1-42CE-974D-BB0AD133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662F4-6FD7-43FD-8628-2610FE2C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2146D8-39AC-4464-AA69-42A2AA2D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3C2672-B84E-43B8-B78F-81C0F8CD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F8BC81-6424-43EE-8400-542195B6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27C8B3-7960-4A06-86E1-224EF3F7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9B9-FF74-4398-B4E9-5EFDC3B3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70AFF-07B0-4404-90F6-94E49210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87677-2D05-424C-AAC3-0A01C43E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66525-2610-43F5-8961-2514BAF9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3D7ECD-E02B-4579-A072-4E85F929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3C4ED6-F57F-460B-AA6A-96D19492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AAE2BF-EBE4-45C7-AAD8-DB9D429F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8EF889-022F-452D-BB1C-312DDCA2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BC6BB0-7447-4172-967F-F05E11C4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5CB914-0146-4E63-979E-3B3773AB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D517DA-2FD3-4B26-9DC7-92B4F3CF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30A-5B92-4757-9A35-64C1C09A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40C040-D8DF-4D62-9B47-BE2F3D77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7AE752-E2EC-47A0-A6E5-342C14BC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E2F393-0DD9-420B-A1C8-AB8B2033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9D78BE-5E5F-43E3-8395-C2CB9E57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45886E-864C-4979-9166-BD57FD8B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495-F852-42E8-809C-37F73814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B81A-72BE-4107-9086-20E1222EDB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77E9-D47B-4D31-873F-1CFAFA2A4D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7D74-A2FE-4F39-B149-216BB2BAA2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54F3-8100-4FEA-8AAD-1E0919A541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ED87-C394-4B6B-A9ED-E6F4D8F6D7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FDB7-BD76-4E91-8DB4-EB365C6F6F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1869-20C1-4AAA-B6BC-2E494A4ED00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09320" y="1600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entury Schoolbook"/>
              </a:rPr>
              <a:t>DELOVI POSLOVNOG PISM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038120"/>
            <a:ext cx="61722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5b6f"/>
                </a:solidFill>
                <a:latin typeface="Century Schoolbook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Straight Connector 6"/>
          <p:cNvSpPr/>
          <p:nvPr/>
        </p:nvSpPr>
        <p:spPr>
          <a:xfrm flipH="1" flipV="1">
            <a:off x="0" y="1066320"/>
            <a:ext cx="9144000" cy="180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d13b"/>
                </a:solidFill>
                <a:latin typeface="Century Schoolbook"/>
              </a:rPr>
              <a:t>4)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ivni znaci (oznake)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u u funkciji lakšeg razvrstavanja pošte. To mogu bit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icijali ličnosti ili odeljenja firme u kojoj je pismo napisa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5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redmet ili sažetak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dstavlja kratak sadržaj poslovnog pisma. Ispisuje se ispod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drese, pre sadržaja pisma s leve strane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D2AA-8DA1-4472-9D96-5D26891D7C8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2971800" y="5410080"/>
            <a:ext cx="3200400" cy="1067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6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Sadržaj ili sadržina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isma je glavni deo pisma koji se saopštava poslovn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formacij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7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drav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Uljudni oproštaj sa poslovnim partnerom rečima kao: Pozdravljam Vas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mite naše pozdrave; S poštovanjem; S osobitim poštovanjem i sl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8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tpis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o je sastavni deo pisma, koji ono dobija značaj službenog dokument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B0C4-23AC-4451-9F15-366565DA2C4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poredni delovi poslovnog pisma su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Oslovljavanj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prilozi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ačin otprem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raspored kopija (dostavljeno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odatak ili post-scriptu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2239-C490-4A28-9987-EA450E74AF9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771640" cy="1338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reba pisati kratkim i jasnim rečenicama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e sme se zanemariti interpunkcija (naročito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zapete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zbegavati pisanje više poruka u jednom pismu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9EBF-9CBA-48DA-B6EC-C192E36B9B6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243828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Ton pisma mora biti primeran i učtiv čak i kada su u pitanju neprijatne vesti,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Odgovor na neučtivo pismo treba da bude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osebno pristojan i korektan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isanje poslovnog pisma ne treba shvatiti kao šablonski posao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1599-D206-4C59-85B4-F534EC07DC9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TRI SU OSNOVNA OBLIKA:</a:t>
            </a:r>
            <a:br>
              <a:rPr sz="3200"/>
            </a:b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vropski (francuski), zupčasti, stepenast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glednost sadržaja i adrese primaoc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 (blok forma) Pisanje        pojednostavlje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mbinovani. Kombinacija evropskih 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h oblik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Firma može napraviti svoj model poslovnog pism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2FC1-463C-47D6-8F45-601BCB417EA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6934320" y="20574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ZAKLJU</a:t>
            </a:r>
            <a:r>
              <a:rPr b="0" lang="sr-Latn-CS" sz="3000" spc="-1" strike="noStrike">
                <a:solidFill>
                  <a:srgbClr val="4e5b6f"/>
                </a:solidFill>
                <a:latin typeface="Century Schoolbook"/>
              </a:rPr>
              <a:t>Č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AK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Delovi poslovnog pisma su vrlo bitni jer se iz njih može naslutiti ozbiljnost namere partenera i uspešnost poslovanja što je bitno za ostvarivanje profita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22DB-EB68-4B1A-9A62-11D819BB799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1"/>
          <a:stretch/>
        </p:blipFill>
        <p:spPr>
          <a:xfrm rot="21111600">
            <a:off x="1595160" y="4875120"/>
            <a:ext cx="5129280" cy="1086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REGLED IZLAGANJ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LOVNO P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lovi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eke preporuke za pisanje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225440" cy="838440"/>
          </a:xfrm>
          <a:prstGeom prst="rect">
            <a:avLst/>
          </a:prstGeom>
          <a:ln w="0">
            <a:noFill/>
          </a:ln>
        </p:spPr>
      </p:pic>
      <p:sp>
        <p:nvSpPr>
          <p:cNvPr id="359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D814-4D44-4A92-A7CC-AB1E91D4C58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e5b6f"/>
                </a:solidFill>
                <a:latin typeface="Century Schoolbook"/>
              </a:rPr>
              <a:t>   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isano poslovno komuniciranje, za razliku od usmenog, ostavlja pisani trag u poslovnim aktivnostim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itna prednost pisanog poslovnog komuniciranja je u tome što ostavlja dokument koji se može čuvati i koji služi kao dokaz u ostvarivanju prava, ili u međusobnom odnosu poslovnih partner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EE28-1DD8-48DA-B396-35193D9090A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8440" cy="1000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oslovni iskaz se može doterivati i dopunjavati sve dok definitivno ne bude poslat poslovnom partneru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uprotno tome, u usmenom poslovnom komuniciranju svaka ispravka ili dopuna je primetna, posebno su primenti neverbalni znaci komuniciranj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D9B6-A05E-4FB8-A841-4D3D0837E1F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7696080" cy="2057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a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i i odgovor na pozive - kratke poruk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pisnici (prijem, primopredaja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lb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anc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V Izveštaj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adovi, Priručnici, knjig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4C61-FC6D-49EE-8C74-A2F2D9276D5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1924200" cy="1181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OSLOVNO PISMO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najčešći oblik pisanog poslovnog komuniciran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no se sastavlja i šalje posebno svakom poslovnom partner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dokument o određenom poslu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a karakteristika je da ono pre</a:t>
            </a: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tavlja odgovo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94F2-3C8F-4ABF-AD95-85211EC2FAE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219320" cy="885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ima delove koji se mogu podeliti 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glavne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sporedn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z poslovnog pisma ne može biti izostavljen ni jedan glavni de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edni delovi se unose u pismo prema potrebi, dopunjuju glavnu poruk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20E2-457E-43B9-B6AE-6584229CD0A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3076560" cy="1200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lavni delovi poslovnog pisma s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glavlje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esto i datum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dresa primaoca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ni znaci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edmet (sažetak)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aj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drav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tp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BCA5-56AC-48A7-B3E7-F2D3F133947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2971800" cy="288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Zaglavlj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i sve bitne elemente kojima se pošiljalac poslovnog pisma legitimiš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esto i datum.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šu se odmah iza zaglavl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d13b"/>
                </a:solidFill>
                <a:latin typeface="Century Schoolbook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dresa primaoca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oji se od naziva firme, njene delatnosti i odredišta (ulica, broj,poštanski broj, naziv mesta)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BBE5-CEDD-4109-862B-C819E5D2583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1"/>
          <a:stretch/>
        </p:blipFill>
        <p:spPr>
          <a:xfrm>
            <a:off x="6934320" y="1981080"/>
            <a:ext cx="1752480" cy="838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20:46:39Z</dcterms:created>
  <dc:creator>Lana</dc:creator>
  <dc:description/>
  <dc:language>en-US</dc:language>
  <cp:lastModifiedBy>jelena</cp:lastModifiedBy>
  <dcterms:modified xsi:type="dcterms:W3CDTF">2008-07-09T13:02:24Z</dcterms:modified>
  <cp:revision>35</cp:revision>
  <dc:subject/>
  <dc:title>POSLOVNO PISMO</dc:title>
</cp:coreProperties>
</file>