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AA1-A5C2-482B-8FDF-C5EE88F4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019-F4F8-4F5E-82D7-6B5761D9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80E-637F-4947-9C6B-F8B723D3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2ED-B4AB-47A0-9A84-D46C13D9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F587-865E-4402-AF70-E2EA8D7A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0129-48BE-4577-BC07-CBE78021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289F-74CF-40E0-B0C0-562403FE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DEC5-4CC1-4286-A30B-B958D201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77E4-9CF0-4503-B1EE-5353813C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7DAE-6AB1-4C93-A467-5179282B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A051-473F-4726-A6D7-269D0A76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327-A85A-4350-B42D-D4C8DC0C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BF11-286B-4929-AB2B-B286CD17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5FDC-701F-4518-A18C-3A31E97B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3392-A64E-4B5D-82EB-9FC75AF0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5A66-7E8F-4B07-A1DD-7A8FE20D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F949-8589-4F7B-A8B8-E78E509D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FF0-B1A2-40FB-94E2-36269BB0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16D-3DA4-43DE-BF87-9BF6951E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9EE-70A4-46DD-AC17-6E6C0779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704-5AE4-429F-8C14-305E0C6D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3AB-4BDA-4AB2-8D4E-9DD8B841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B9E-D442-4696-A47F-F6A33CF5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14F-F00E-498E-950C-760095F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53A4-13E3-4D89-A4DA-998D126DBEBA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1D35-4C60-4FF0-9990-E11E6CA98B0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A5DF-A046-4FD2-B68B-9D5BEAD362C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2EC7-76B2-4E6A-A55E-85BC3C876E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otovault.com/Link/People/Abstracts/Closeups/show.asp?tg=PACVolume01/PACV01P05_12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C6C0-7E15-4C88-A6F7-ACA0FF2AA7FA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NTERPRETACIJE POKRETA O</a:t>
            </a: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ČIMA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photovault.com/Link/People/Abstracts/Closeups/PACVolume01/PACV01P05_12B.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8668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050D-A47C-4B9F-9EDD-B8D02853441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zdvaja usne kada vam se pogledi susretn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tkriva da je zadovoljan onim što vid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www.photovault.com/Link/People/Abstracts/Closeups/PACVolume01/PACV01P15_12.2677.tn.jpg"/>
          <p:cNvPicPr/>
          <p:nvPr/>
        </p:nvPicPr>
        <p:blipFill>
          <a:blip r:embed="rId1"/>
          <a:stretch/>
        </p:blipFill>
        <p:spPr>
          <a:xfrm>
            <a:off x="785880" y="350028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ttp://www.fotosearch.com/bthumb/RBL/RBL204/b0243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2148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C69F-5AE7-4E52-9ADD-AACFCA6B84E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yes Upward Left"/>
          <p:cNvPicPr/>
          <p:nvPr/>
        </p:nvPicPr>
        <p:blipFill>
          <a:blip r:embed="rId3"/>
          <a:stretch/>
        </p:blipFill>
        <p:spPr>
          <a:xfrm>
            <a:off x="857160" y="378612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s Up Right"/>
          <p:cNvPicPr/>
          <p:nvPr/>
        </p:nvPicPr>
        <p:blipFill>
          <a:blip r:embed="rId4"/>
          <a:stretch/>
        </p:blipFill>
        <p:spPr>
          <a:xfrm>
            <a:off x="5143680" y="371484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143680" y="2714760"/>
            <a:ext cx="350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pravo go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osadu,sarkazam i slično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785880" y="26431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nstantan pogled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čava da je osoba  zainteresovana za razgo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214960" y="492912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označava da osoba pokušava da se seti ranije zapamćene s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857160" y="51436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a osoba “konstruiše” sliku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3062-559E-4754-BCB5-F0146281CED3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Eyes Right"/>
          <p:cNvPicPr/>
          <p:nvPr/>
        </p:nvPicPr>
        <p:blipFill>
          <a:blip r:embed="rId1"/>
          <a:stretch/>
        </p:blipFill>
        <p:spPr>
          <a:xfrm>
            <a:off x="42876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Eyes Left"/>
          <p:cNvPicPr/>
          <p:nvPr/>
        </p:nvPicPr>
        <p:blipFill>
          <a:blip r:embed="rId2"/>
          <a:stretch/>
        </p:blipFill>
        <p:spPr>
          <a:xfrm>
            <a:off x="564372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Eyes Down Right"/>
          <p:cNvPicPr/>
          <p:nvPr/>
        </p:nvPicPr>
        <p:blipFill>
          <a:blip r:embed="rId3"/>
          <a:stretch/>
        </p:blipFill>
        <p:spPr>
          <a:xfrm>
            <a:off x="428760" y="392904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Eyes Down Left"/>
          <p:cNvPicPr/>
          <p:nvPr/>
        </p:nvPicPr>
        <p:blipFill>
          <a:blip r:embed="rId4"/>
          <a:stretch/>
        </p:blipFill>
        <p:spPr>
          <a:xfrm>
            <a:off x="5857920" y="385776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yes Down"/>
          <p:cNvPicPr/>
          <p:nvPr/>
        </p:nvPicPr>
        <p:blipFill>
          <a:blip r:embed="rId5"/>
          <a:stretch/>
        </p:blipFill>
        <p:spPr>
          <a:xfrm>
            <a:off x="3071880" y="200016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428760" y="207180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se priseti ranije zapamćenog zvu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143760" y="20718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osmisli zvuk koji nikada ranije nije č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071880" y="3286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se oseća neprijatno ili postiđ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428760" y="514368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razvija unutrašnji dijalog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5857920" y="5072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levo-osob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kušava da zamisli kako je nešto navodi da se oseć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7335-E62D-4669-ADBF-4C4013DAE62A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OČI..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5" descr="C:\Documents and Settings\jelena\My Documents\My Pictures\Picture1.png"/>
          <p:cNvPicPr/>
          <p:nvPr/>
        </p:nvPicPr>
        <p:blipFill>
          <a:blip r:embed="rId1"/>
          <a:stretch/>
        </p:blipFill>
        <p:spPr>
          <a:xfrm>
            <a:off x="571680" y="142884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2B70-9F78-4841-A142-6CD2EDF0876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balna komunikacija stalni je podtekst svega što činim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 možemo prestati pokazivati izraze lica ili držanje, ili prikrivati ton kojim nešto govor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grešimo u odabiru emocionalnih poruka koje upućujemo bićemo odbaciva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jelena\Desktop\New Folder (2)\gs26301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A7EA-B982-4E1A-A654-B01C34C41089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 rot="20275800">
            <a:off x="2411280" y="2781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F7AC-B468-4069-B74C-9128D638B7D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6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reti oč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ttp://www.fotosearch.com/bthumb/UNX/UNX017/u29012759.jpg"/>
          <p:cNvPicPr/>
          <p:nvPr/>
        </p:nvPicPr>
        <p:blipFill>
          <a:blip r:embed="rId1"/>
          <a:stretch/>
        </p:blipFill>
        <p:spPr>
          <a:xfrm>
            <a:off x="4714920" y="3929040"/>
            <a:ext cx="240516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8C32-1B0C-4D02-B490-2629606B283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vek najveći 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vog vremena provodi u komunikaciji sa drugim ljud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 se verbalna komunikacija odnosi na stvarne reči koje se koriste pri razgovoru, neverbalna komunikacija se sastoji od mnoštva znakova od kojih svaki ima svoj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photovault.com/Link/People/Abstracts/Closeups/PACVolume01/PACV01P02_15C.tn.jpg"/>
          <p:cNvPicPr/>
          <p:nvPr/>
        </p:nvPicPr>
        <p:blipFill>
          <a:blip r:embed="rId1"/>
          <a:stretch/>
        </p:blipFill>
        <p:spPr>
          <a:xfrm>
            <a:off x="50004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523D-F61E-4B4D-8521-8BF05480FFA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a komunikacija često bude i uzrok sukoba – mnogi obračuni počinju nerazumevanjem neverbalne poruke, npr. neki pogled se protumači kao uvredljiv, a zapravo je sl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jan ili u prola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photovault.com/Link/People/Abstracts/Closeups/PACVolume01/PACPCD0658_064B.tn.jpg"/>
          <p:cNvPicPr/>
          <p:nvPr/>
        </p:nvPicPr>
        <p:blipFill>
          <a:blip r:embed="rId1"/>
          <a:stretch/>
        </p:blipFill>
        <p:spPr>
          <a:xfrm>
            <a:off x="5357880" y="450072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fotosearch.com/bthumb/GSH/GSH370/gs261100.jpg"/>
          <p:cNvPicPr/>
          <p:nvPr/>
        </p:nvPicPr>
        <p:blipFill>
          <a:blip r:embed="rId2"/>
          <a:stretch/>
        </p:blipFill>
        <p:spPr>
          <a:xfrm>
            <a:off x="1643040" y="4500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62EF-77A8-493E-9D9A-DB87B4C36FF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i znakovi uključu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ze lic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 gla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žaj tela ili pokr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i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:\Documents and Settings\jelena\Desktop\New Folder (2)\7578015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7413-E4C2-4C68-A478-D31612A567D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akt očima je vrlo važan u svakodnevnoj komunikaciji. Obično su razdoblja kontakta očima vrlo krat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da su produžena, ili kad jedna od osoba počne buljiti u drugu, dolazi do napetosti i to se može protumačiti kao pretnj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:\Documents and Settings\jelena\Desktop\New Folder (2)\1574R-26112[1].jpg"/>
          <p:cNvPicPr/>
          <p:nvPr/>
        </p:nvPicPr>
        <p:blipFill>
          <a:blip r:embed="rId1"/>
          <a:stretch/>
        </p:blipFill>
        <p:spPr>
          <a:xfrm>
            <a:off x="7072200" y="42861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4154-2240-48B7-8012-4A612EB728B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begavanje gledanja u oči povezuje se sa nesigurnim ponašanjem, što upućuje na prepredenost, pa čak i nepošte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širene zenice pokazuju emocionalno uzbuđenje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ak, ako je dvoje ljudi zaljubljeno, kontakt očima puno je češć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photovault.com/Link/People/Abstracts/Closeups/PACVolume01/PACV01P13_18B.tn.jpg"/>
          <p:cNvPicPr/>
          <p:nvPr/>
        </p:nvPicPr>
        <p:blipFill>
          <a:blip r:embed="rId1"/>
          <a:stretch/>
        </p:blipFill>
        <p:spPr>
          <a:xfrm>
            <a:off x="642960" y="357120"/>
            <a:ext cx="847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5A4A-6173-4F34-A261-8D149F63910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vidimo nekog ko nas privl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aše obrve se automatski podignu, a zatim spuste. Ako nam je ta osoba sklona, onda i ona podigne obr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ovo traje tek de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kunde, a dešava se svim ljudima na svetu, bez obzira na godine, rasu ili društvenu pripad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jelena\Desktop\New Folder (2)\bn267125[1].jpg"/>
          <p:cNvPicPr/>
          <p:nvPr/>
        </p:nvPicPr>
        <p:blipFill>
          <a:blip r:embed="rId1"/>
          <a:stretch/>
        </p:blipFill>
        <p:spPr>
          <a:xfrm>
            <a:off x="571680" y="357120"/>
            <a:ext cx="16189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AC6B-5CED-42CE-BEBA-CC7EC10E850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v" obrva može lako da se propusti, ali ako ga u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š kod onog ko te interesuje, budi sigurna da mu se dopadaš, mada on toga možda još nije sv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ve mu ostaju blago podignute dok p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 tobo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o je signal da misli da si fascinant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:\Documents and Settings\jelena\Desktop\New Folder (2)\bxp209595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41:35Z</dcterms:created>
  <dc:creator>User</dc:creator>
  <dc:description/>
  <dc:language>en-US</dc:language>
  <cp:lastModifiedBy>jelena</cp:lastModifiedBy>
  <dcterms:modified xsi:type="dcterms:W3CDTF">2008-07-09T13:01:20Z</dcterms:modified>
  <cp:revision>21</cp:revision>
  <dc:subject/>
  <dc:title>INTERPRETACIJE POKRETA OČIMA </dc:title>
</cp:coreProperties>
</file>