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47A1-BD17-4127-A380-BA4CA076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3BA7-3C7C-4F9F-8A0F-DB471B89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7F7F-D273-4F1C-BF40-A6D2CDE8A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F2D3-CA0B-4226-AEA3-FAB98966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E6C0-DA49-4495-8A0B-0911E3CB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9676-E5F8-4524-9133-1242A416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D436-EFBE-44C9-9E2C-BEBF4F81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F97B-C7A2-4F47-B0F7-0073B3D9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0FB2-85EB-40DC-96BC-93811579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4180-54F1-4DCA-AE7F-0882CEF5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FC1A-F58B-476D-BC89-06F9AD77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BCDD-DD40-47AC-9975-03760DA0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551F-20E7-485F-8C6C-957C17C8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D775-3FFC-4267-B373-335E7A7E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40E3-39DB-4065-BA59-3AC6BA09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9E5C-CF4D-4662-AD1E-50AF8457D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D2DB-6D26-418A-9D6D-DF1EF4D9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8264A-FF40-43B6-AF15-CEF43117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1D04D-3783-4673-93CF-71AA12AE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0FF7B-72A4-4E23-B845-DB38C4BA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2B22D-7A87-4AC9-AD2E-821C85ED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EC59D-F9F2-478C-AFEC-03A83028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5FFB-31C6-4D0E-B883-7751C3A2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577B5-59C7-4D60-A0F8-1BD0AFAB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0FA80-EA15-49E7-89EA-5242B300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8A478-182F-4015-856F-B1A900DF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43F7D-9DB5-4647-8A66-F084D886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0E185-81E5-4B7A-97DB-8962E7B9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075DF-B38E-42A6-A964-AF83589E6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74AD5-9A30-4D58-B00E-83B2DAB40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1EA98-F0B4-4095-921D-3BA49AF8B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AAA32-B1F9-4AE5-861A-68A73149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71791-93AB-4721-A5C6-DF6FE260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D3F0-D1E0-462D-B7B6-F1A9355A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90E2F-68B2-4BD4-B0BE-D5A499C8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32621-64AE-4A1C-BB5F-027F8F74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9EDDB-66E5-433F-A352-604E3A32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63189-C285-4A4F-BF7F-D49FFB5B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18514-57E5-4512-9657-074346C7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4E7AB-6EE9-42A6-975B-D7B78C64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7DE0D-96A8-4C36-9F8D-8447973A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A93BC-B1B0-467A-8F8A-E271F54CD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1419E-2B06-4235-9DC3-2556BA2C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DE8DC-DE97-4FCD-9C73-BAF95A5A0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A923-BBCD-48A6-9BDB-1C74247A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0E987-904E-4C13-A7A2-5F1DDF09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5E87A-CF97-4BCD-8EA8-F4607235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A32AC-70C8-49D7-9497-6CF3EC83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C8ED5-9C85-44EF-9EDB-4D013231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F50C6-57D3-456C-B1E6-CEDE12DD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A48EC-0C1D-4943-ACCD-FE54B5F9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9A5B0-4CBB-472B-BD34-6153CC87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09C09-EB31-4F8E-AAF8-BBD5AA21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AE7AD-4CC3-45C9-AC09-663ACA8C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D75E2-B6D8-473B-99CD-5D84E0805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0DBD-891C-46B8-8EC4-A8205A34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A843C-B0DA-4212-9DE2-7BBE5328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57A9F-1480-4F5E-A4F5-6DD460D0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6CCA6-A937-40E1-8E79-EE0557C1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56AC3-ACB2-4CF2-8ECC-E1B5A36C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4A4F5-A2E4-4F63-84C6-C2EF1C0F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AA046-F749-4CCE-A83E-DF42150C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DF334-5019-40B9-B507-31B025D5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EE097-039F-487C-9EE5-22797E1A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7C745-0A5A-49ED-B41E-8690812A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E2CCE-4259-4A61-B3E2-EFFEF1D0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3CFE-32A5-4005-9809-38324155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651C0-5E71-42FA-8115-69619F4E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43E6A-11B2-485F-A23D-150812BC3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4C156-2FE8-4D88-824B-11BD5AC97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CC453-7B74-41B3-B85A-ADC38DC0B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E3928-DA97-4146-A01C-FEADF904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D22AA-0913-4F77-B4C7-033EC500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F2DF7-6717-4389-AE96-8181FF95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17BD0-D2C9-4175-BBE1-DD948A3A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7F549-4328-43B0-8740-B31A56CC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4CC57-B556-4BAF-BFB7-1902547E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FB8A-1C31-4A33-910B-7F249304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66A16-AB54-4F64-96BF-0F8DEF65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A9A74-4CAD-40C9-940E-7352460C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D8725-9412-4743-8FF9-F3E9DE53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E4C54-096A-4543-9F96-6AE9C0D5C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CD7C3-9A5F-47D8-ACC4-4137100F2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C0BC-63E0-4E6C-BFD4-CB629FE5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7ffff">
              <a:alpha val="33000"/>
            </a:srgbClr>
          </a:solidFill>
          <a:ln cap="rnd" w="3240">
            <a:solidFill>
              <a:srgbClr val="b1d9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4ffff"/>
            </a:solidFill>
            <a:miter/>
          </a:ln>
          <a:effectLst>
            <a:outerShdw dist="12600" dir="5400000" blurRad="0" rotWithShape="0">
              <a:srgbClr val="9eb7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5434-260F-4597-B88A-DA006DF0DBC1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D30C-A44F-414C-BC26-5D34943B8032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7ffff">
              <a:alpha val="33000"/>
            </a:srgbClr>
          </a:solidFill>
          <a:ln cap="rnd" w="3240">
            <a:solidFill>
              <a:srgbClr val="b1d9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4ffff"/>
            </a:solidFill>
            <a:miter/>
          </a:ln>
          <a:effectLst>
            <a:outerShdw dist="12600" dir="5400000" blurRad="0" rotWithShape="0">
              <a:srgbClr val="9eb7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268ea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9DDF-D82A-48C3-9396-B7217EFFC5F2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DF1F-2C29-4A12-BE97-6C4F7579EF26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268ea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3B84-4F19-4ADD-8E12-B0AFA3060F2D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6C19-EBD8-4CD8-B621-7D795A54548A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12A7-FAFC-4745-891A-A242BF752061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1130-2B31-4C25-BFB2-5FEC282327A3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09A8-0C2A-49B3-8D4B-A71018684A5D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A0A3-AE98-4066-942C-632A0A76ABBB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703A-0125-40DF-AA66-E914D6384AF6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309A-DDA2-4FE3-ACD9-22593C1B3F43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6f2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ef5fa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A168-FF41-48E8-8EBE-E817F6E9A6FC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11E4-3163-42F9-9D27-A42B2DB4C198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6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0" y="1499760"/>
            <a:ext cx="68580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Pore</a:t>
            </a: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đenje chat klijenata</a:t>
            </a:r>
            <a:br>
              <a:rPr sz="4300"/>
            </a:b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214520" y="3714840"/>
            <a:ext cx="4621320" cy="3579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1357200" y="3857760"/>
            <a:ext cx="18576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6429240" y="1285920"/>
            <a:ext cx="2714760" cy="557208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464646"/>
                </a:solidFill>
                <a:latin typeface="Gill Sans MT"/>
              </a:rPr>
              <a:t>GOOGLE  TALK</a:t>
            </a:r>
            <a:endParaRPr b="0" lang="en-US" sz="39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000080" y="1142640"/>
            <a:ext cx="5857920" cy="5715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Da biste koristili gTALK morate imati otvoren nalog na gmail-u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U poslednje vreme je jako zastupljen medju internet korisnicima jer 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pored zvucnog (Skype) i pisanog oblika, sada podr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ž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ava i peer-2-peer varijantu(nema ograni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č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enja u veli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č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ini i tipu fajla)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N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ovost je i voice mail, kada user nije online, mozete poslati audio poruku koju user dobija kao E-mail attachment na Gmail-u..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ffffff"/>
                </a:solidFill>
                <a:latin typeface="Gill Sans MT"/>
              </a:rPr>
              <a:t>MSN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431720" y="1643040"/>
            <a:ext cx="7407000" cy="5214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MSN je lansiran 1999 kao konkurencija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OL Instant Messenger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-u,od kompanije Microsof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Prvobitan naziv bio j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"MSN Messenger Service“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,ali je kasnije pojednostavljen ka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"MSN Messenger.“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Termin MSN je postao sinonim za sve messenger servise u internet sleng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traight Connector 6"/>
          <p:cNvSpPr/>
          <p:nvPr/>
        </p:nvSpPr>
        <p:spPr>
          <a:xfrm flipH="1">
            <a:off x="1355760" y="1440"/>
            <a:ext cx="144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MSN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285560" y="1071360"/>
            <a:ext cx="5143320" cy="54291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a je najrasprostanjeniji medju internet korisnicima govori činjenica da ga danas koristi 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225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miliona ljud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a biste koristili MSN morate imati otvoren nalog na hotmail-u</a:t>
            </a:r>
            <a:r>
              <a:rPr b="0" lang="sr-Latn-CS" sz="3200" spc="-1" strike="noStrike">
                <a:solidFill>
                  <a:srgbClr val="252525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1285920" y="5214960"/>
            <a:ext cx="1409760" cy="1305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6410160" y="1071720"/>
            <a:ext cx="27338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143000" y="4572000"/>
            <a:ext cx="1643040" cy="214308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64646"/>
                </a:solidFill>
                <a:latin typeface="Arial"/>
                <a:ea typeface="Arial"/>
              </a:rPr>
              <a:t>KOJI IZABRATI?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31720" y="1071360"/>
            <a:ext cx="7407000" cy="4071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Nijedan chat klijent ne možemo izdvojiti kao najbolji.Svaki od njih nam nudi veliki broj mogućnosti,koje mi koristimo u skladu sa našim potrebam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Često korisnici imaju instalirana 2-3 različita chat klijenta,i na taj način pokrivaju najveći deo onoga što nude                .            Chat klijent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"/>
          <p:cNvPicPr/>
          <p:nvPr/>
        </p:nvPicPr>
        <p:blipFill>
          <a:blip r:embed="rId2"/>
          <a:stretch/>
        </p:blipFill>
        <p:spPr>
          <a:xfrm>
            <a:off x="3143160" y="5572080"/>
            <a:ext cx="1181160" cy="10479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"/>
          <p:cNvPicPr/>
          <p:nvPr/>
        </p:nvPicPr>
        <p:blipFill>
          <a:blip r:embed="rId3"/>
          <a:stretch/>
        </p:blipFill>
        <p:spPr>
          <a:xfrm>
            <a:off x="5072040" y="5572080"/>
            <a:ext cx="1038240" cy="1000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http://img338.imageshack.us/img338/2901/promotewallpaperthzy8.jpg"/>
          <p:cNvPicPr/>
          <p:nvPr/>
        </p:nvPicPr>
        <p:blipFill>
          <a:blip r:embed="rId4"/>
          <a:stretch/>
        </p:blipFill>
        <p:spPr>
          <a:xfrm>
            <a:off x="6786720" y="5286240"/>
            <a:ext cx="207144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464646"/>
                </a:solidFill>
                <a:latin typeface="Gill Sans MT"/>
              </a:rPr>
              <a:t>ALL-IN-ONE</a:t>
            </a:r>
            <a:endParaRPr b="0" lang="en-US" sz="39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000080" y="1142640"/>
            <a:ext cx="8143920" cy="3429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re nekoliko godina objavljeni su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all-in-one</a:t>
            </a:r>
            <a:r>
              <a:rPr b="1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(svi u jednom)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chat programi koji podržavaju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ICQ, AIM, MSN, Yahoo, IRC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Neki od njih su: Miranda,Trillian,Jabber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1214280" y="3286080"/>
            <a:ext cx="3571920" cy="29289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2"/>
          <a:stretch/>
        </p:blipFill>
        <p:spPr>
          <a:xfrm rot="20915400">
            <a:off x="5489280" y="3717720"/>
            <a:ext cx="31590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ALL-IN-ONE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431720" y="1285920"/>
            <a:ext cx="7407000" cy="5286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rime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Ukoliko imate Gtalk,a vaš novi poslovni partner MSN messenger,vi zahvaljujući all-in-one ne morate dodatno da se mučite instalirajući MSN,otvarajući nalog na hotmail-u,ili slali njemu pozivnicu za Gmail,pa čekali d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je prihvati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ovoljno je da imte instaliran neki od all-in-one da biste komunicirali sa njim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1143000" y="0"/>
            <a:ext cx="1104840" cy="8668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7643880" y="4357800"/>
            <a:ext cx="117144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4643280" y="5214960"/>
            <a:ext cx="2214720" cy="97164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64646"/>
                </a:solidFill>
                <a:latin typeface="Arial"/>
                <a:ea typeface="Arial"/>
              </a:rPr>
              <a:t>ZAKLJUČAK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143000" y="1356840"/>
            <a:ext cx="7786800" cy="4929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Iako naizgled različiti,svi Chat klijenti pružaju donekle iste usluge svojim korisnicim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Za koji god da se odlučite u svako doba dana i noći ćete moći da komunicirate i razmenjujete fajlove sa ljudima,bilo da oni žive u zgradi do vaše ili na hiljadama kilometara dalek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19" descr=""/>
          <p:cNvPicPr/>
          <p:nvPr/>
        </p:nvPicPr>
        <p:blipFill>
          <a:blip r:embed="rId2"/>
          <a:stretch/>
        </p:blipFill>
        <p:spPr>
          <a:xfrm>
            <a:off x="8097840" y="0"/>
            <a:ext cx="10461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4" descr=""/>
          <p:cNvPicPr/>
          <p:nvPr/>
        </p:nvPicPr>
        <p:blipFill>
          <a:blip r:embed="rId1"/>
          <a:stretch/>
        </p:blipFill>
        <p:spPr>
          <a:xfrm>
            <a:off x="5000760" y="0"/>
            <a:ext cx="4143240" cy="414324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64646"/>
                </a:solidFill>
                <a:latin typeface="Gill Sans MT"/>
              </a:rPr>
              <a:t>PREGLED IZLAGANJA</a:t>
            </a:r>
            <a:endParaRPr b="0" lang="en-US" sz="32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071720" y="1213920"/>
            <a:ext cx="7858080" cy="528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lvl="1" marL="971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Šta je chat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Prednosti u odnosu na e-mai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Vrste chat klijenat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Šta pružaju korisnicima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što više o: ICQ,Gtalk,Msn i all-in-one chat klijentima.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oji 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zabrati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Zaključak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2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2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20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20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20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2000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2000"/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Šta je chat?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071360" y="1785600"/>
            <a:ext cx="8072280" cy="3025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Chat ili IRC (</a:t>
            </a:r>
            <a:r>
              <a:rPr b="1" lang="sr-Latn-CS" sz="3200" spc="-1" strike="noStrike">
                <a:solidFill>
                  <a:srgbClr val="00b0f0"/>
                </a:solidFill>
                <a:latin typeface="Arial"/>
                <a:ea typeface="Arial"/>
              </a:rPr>
              <a:t>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nternet </a:t>
            </a:r>
            <a:r>
              <a:rPr b="1" lang="sr-Latn-CS" sz="3200" spc="-1" strike="noStrike">
                <a:solidFill>
                  <a:srgbClr val="00b0f0"/>
                </a:solidFill>
                <a:latin typeface="Arial"/>
                <a:ea typeface="Arial"/>
              </a:rPr>
              <a:t>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ealy </a:t>
            </a:r>
            <a:r>
              <a:rPr b="1" lang="sr-Latn-CS" sz="3200" spc="-1" strike="noStrike">
                <a:solidFill>
                  <a:srgbClr val="00b0f0"/>
                </a:solidFill>
                <a:latin typeface="Arial"/>
                <a:ea typeface="Arial"/>
              </a:rPr>
              <a:t>C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hat) je jedan od servisa koji je donekle sličan elektronskoj pošti i predstavlja ćaskanje(engl.chat) putem internet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1"/>
          <a:stretch/>
        </p:blipFill>
        <p:spPr>
          <a:xfrm>
            <a:off x="5715000" y="3865680"/>
            <a:ext cx="2214720" cy="2035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"/>
          <p:cNvPicPr/>
          <p:nvPr/>
        </p:nvPicPr>
        <p:blipFill>
          <a:blip r:embed="rId2"/>
          <a:stretch/>
        </p:blipFill>
        <p:spPr>
          <a:xfrm>
            <a:off x="1857240" y="4714920"/>
            <a:ext cx="21434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64646"/>
                </a:solidFill>
                <a:latin typeface="Gill Sans MT"/>
              </a:rPr>
              <a:t>Prednosti u odnosu na e-mail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000080" y="1714320"/>
            <a:ext cx="5143680" cy="5143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Za razliku od elektronske pošte komunikacija se obavlja u realnom vremenu tj.svi učesnici u komunikaciji moraju da se nalaze istovremeno u blizini računar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6048360" y="1071720"/>
            <a:ext cx="309564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64646"/>
                </a:solidFill>
                <a:latin typeface="Gill Sans MT"/>
              </a:rPr>
              <a:t>VRSTE CHAT KLIJENATA</a:t>
            </a:r>
            <a:endParaRPr b="0" lang="en-US" sz="32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571400" y="1785600"/>
            <a:ext cx="688644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Chat kao najrasprostranjeniji komunikacioni servis na internetu se  vrši putem chat klijenata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Google talk,Mirabilis,AOL messenger,          mIRC,XChat,MSN,Skype,Yahoo messenger,ICQ,Jabber,Trillian.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http://img338.imageshack.us/img338/2901/promotewallpaperthzy8.jpg"/>
          <p:cNvPicPr/>
          <p:nvPr/>
        </p:nvPicPr>
        <p:blipFill>
          <a:blip r:embed="rId1"/>
          <a:stretch/>
        </p:blipFill>
        <p:spPr>
          <a:xfrm>
            <a:off x="6286680" y="4929120"/>
            <a:ext cx="2071440" cy="13575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2"/>
          <a:stretch/>
        </p:blipFill>
        <p:spPr>
          <a:xfrm>
            <a:off x="1143000" y="5715000"/>
            <a:ext cx="1928880" cy="9288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"/>
          <p:cNvPicPr/>
          <p:nvPr/>
        </p:nvPicPr>
        <p:blipFill>
          <a:blip r:embed="rId3"/>
          <a:stretch/>
        </p:blipFill>
        <p:spPr>
          <a:xfrm>
            <a:off x="7286760" y="1214280"/>
            <a:ext cx="15714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64646"/>
                </a:solidFill>
                <a:latin typeface="Gill Sans MT"/>
              </a:rPr>
              <a:t>ŠTA PRUŽAJU KORISNICIMA?</a:t>
            </a:r>
            <a:endParaRPr b="0" lang="en-US" sz="32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2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000080" y="1213920"/>
            <a:ext cx="7215120" cy="5643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Omogućavaju nam komunikaciju s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rijatelji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Rodbino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oslovnim partneri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Neki chat klijenti dozvoljavaju video i glasovnu komunikaciju,razmenu fajlova,kao i izražavanje emocija preko velikog broja emotikona,winkova i s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5572080" y="1785960"/>
            <a:ext cx="3571920" cy="2214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"/>
          <p:cNvPicPr/>
          <p:nvPr/>
        </p:nvPicPr>
        <p:blipFill>
          <a:blip r:embed="rId2"/>
          <a:stretch/>
        </p:blipFill>
        <p:spPr>
          <a:xfrm>
            <a:off x="7915320" y="0"/>
            <a:ext cx="12286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5" descr=""/>
          <p:cNvPicPr/>
          <p:nvPr/>
        </p:nvPicPr>
        <p:blipFill>
          <a:blip r:embed="rId1"/>
          <a:stretch/>
        </p:blipFill>
        <p:spPr>
          <a:xfrm>
            <a:off x="1000080" y="0"/>
            <a:ext cx="8143920" cy="24289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785960" y="213840"/>
            <a:ext cx="66722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ICQ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431720" y="1357200"/>
            <a:ext cx="7407000" cy="5500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Aj-Si-Kju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 (ICQ, igra reči: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engl.</a:t>
            </a:r>
            <a:r>
              <a:rPr b="0" i="1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I Seek You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 - „tražim te“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Prva verzija programa je izašl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. godine, a naziv je nastao kao gore pomenuta igra reči na engleskom jeziku.</a:t>
            </a:r>
            <a:r>
              <a:rPr b="0" lang="vi-VN" sz="3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Vremenom, pojavile su se i mogućnosti prenosa fajlova, slike pa i „onlajn“ igranja između korisnik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85960" y="142920"/>
            <a:ext cx="66722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464646"/>
                </a:solidFill>
                <a:latin typeface="Gill Sans MT"/>
              </a:rPr>
              <a:t>ICQ</a:t>
            </a:r>
            <a:endParaRPr b="0" lang="en-US" sz="39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99720" y="1071360"/>
            <a:ext cx="6000840" cy="5500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Od 2007 god. Omogućeno je slanje besplatnih SMS poruka preko njega,podržava glasovnu i video komunikacij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Medjutim iako je bio jako popularan u svoje vreme,nove generacije chat klijenata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su ga ubrzo zamenile,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mada postoje oni koji su mu ostali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osledn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0" descr=""/>
          <p:cNvPicPr/>
          <p:nvPr/>
        </p:nvPicPr>
        <p:blipFill>
          <a:blip r:embed="rId1"/>
          <a:stretch/>
        </p:blipFill>
        <p:spPr>
          <a:xfrm>
            <a:off x="6429240" y="5214960"/>
            <a:ext cx="1409760" cy="1295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038240" cy="10000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"/>
          <p:cNvPicPr/>
          <p:nvPr/>
        </p:nvPicPr>
        <p:blipFill>
          <a:blip r:embed="rId3"/>
          <a:stretch/>
        </p:blipFill>
        <p:spPr>
          <a:xfrm>
            <a:off x="6899400" y="1500120"/>
            <a:ext cx="22446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http://img338.imageshack.us/img338/2901/promotewallpaperthzy8.jpg"/>
          <p:cNvPicPr/>
          <p:nvPr/>
        </p:nvPicPr>
        <p:blipFill>
          <a:blip r:embed="rId1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GOOGLE TALK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431720" y="1213920"/>
            <a:ext cx="7407000" cy="50007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Google Talk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je servis kompanije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Google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koji pruža uslugu Internet telefonije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(VoIP - Voice over Internet Protocol) i chat-a (IM - Instant Messaging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Google Talk beta verzija izašla je 24. avgusta 2005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Za sada program može da radi samo na Windows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operativnim sistemima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(2000,XP,server 2003,Vista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Očekuje se da neka od budućih verzija podržava i video konferencij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20:53:16Z</dcterms:created>
  <dc:creator>jelena</dc:creator>
  <dc:description/>
  <dc:language>en-US</dc:language>
  <cp:lastModifiedBy>jelena</cp:lastModifiedBy>
  <dcterms:modified xsi:type="dcterms:W3CDTF">2008-07-09T13:03:05Z</dcterms:modified>
  <cp:revision>72</cp:revision>
  <dc:subject/>
  <dc:title>Poređenje chat klijenata </dc:title>
</cp:coreProperties>
</file>