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sn.com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0800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ffffff"/>
                </a:solidFill>
                <a:latin typeface="Tahoma"/>
              </a:rPr>
              <a:t>Poređenje webmail servisa</a:t>
            </a:r>
            <a:endParaRPr b="0" lang="en-US" sz="3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maj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500800" y="435780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rednosti i mane Hotmail-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137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ednost hotmaila je jednostavnost korišć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o se tiče opcija kalendara i adresara skoro da su iste kao sa yahoo tj. ostalim webmail server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lika prednost je povezanost sa portalom </a:t>
            </a:r>
            <a:r>
              <a:rPr b="0" lang="sr-Latn-CS" sz="2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ww.msn.c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što omogućava pregled najnovijih vesti,ali ova opcija nekim korisnicima može smetati tako da je ovo ujedno i velika man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wsletter sistem je odličan dodatak sa pregršt raznovsnih tema i grup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1125360"/>
            <a:ext cx="655344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Hotmai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1" name="Picture 4" descr="hotmail"/>
          <p:cNvPicPr/>
          <p:nvPr/>
        </p:nvPicPr>
        <p:blipFill>
          <a:blip r:embed="rId1"/>
          <a:stretch/>
        </p:blipFill>
        <p:spPr>
          <a:xfrm>
            <a:off x="1835280" y="1916280"/>
            <a:ext cx="5761080" cy="46544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Gmail (Google mail)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lobodan prostor na disku: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&gt; </a:t>
            </a: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2.5 Gb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Jednostavnost korišćenja: </a:t>
            </a: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ocena 10 od 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Dodatne opcije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adresar, kalendar, spam filter, </a:t>
            </a:r>
            <a:br>
              <a:rPr sz="2800"/>
            </a:b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antivirus zaštita, 100Mb prostora za ličnu prezentaciju (googlepages.com), integrisan gtalk, program za online čitanje raznih datoteka, autosave kucane poruke, stalno dodatavanje novih dodatnih opcij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rednosti i mane Gmail-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Google je proizveo novi vid webmail-a na ideji da više nikada ne brišete poruke i da uvek možete pronaći traženu poruku jednostavnom pretragom pristigle i poslate pošt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a poruka se grupiše sa odgovorima i prikazuje kao celina (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quoted text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kaz na više jezika (podržan je i srpski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e predhodno navedene opcije kod drugih webmail servera postoje kod gmail-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rednosti i mane Gmail-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Autosave je opcija koja tokom pisanje poruke povremeno sačuva ono što je napisan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stoji i program koji otvara skoro sve vaše dokumente onlin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ednost gmail-a je što je integrisao svoj chat “gtalk” u svoj webmail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Glavna mana Gmail-a je nešto sporije otvranje webmail aplikaci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mail"/>
          <p:cNvPicPr/>
          <p:nvPr/>
        </p:nvPicPr>
        <p:blipFill>
          <a:blip r:embed="rId1"/>
          <a:stretch/>
        </p:blipFill>
        <p:spPr>
          <a:xfrm>
            <a:off x="136440" y="1628640"/>
            <a:ext cx="8828280" cy="506124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Gmai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560" y="1125360"/>
            <a:ext cx="856944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Dodatnu opciju predstavljaju messenger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1" name="Picture 5" descr="messengeri"/>
          <p:cNvPicPr/>
          <p:nvPr/>
        </p:nvPicPr>
        <p:blipFill>
          <a:blip r:embed="rId1"/>
          <a:stretch/>
        </p:blipFill>
        <p:spPr>
          <a:xfrm>
            <a:off x="1403280" y="1916280"/>
            <a:ext cx="65534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Zašto uopšte koristiti webmai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ednost webmaila u odnosu na “običan” mail koji dobijate od vaseg ISP-a je najviše u tome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o se webmail-u može pristupiti putem bilo kog računara i sa bilo kog dela zeml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vek sa sobom imate svoj adresar i svoje email poštu koju ste predhodno primali i slali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dosta propratnih opcija koje su integrisane na jednom mestu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Webmail serveri uopšt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d izbora webmail servera bitni parametri su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lobodan prostor na disku (server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Jednostavnost korišće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pratne opcije i pogodnost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hodno navedenim parametrima izvršićemo prikaz tri popularna besplatna webmail server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Yahoo, Hotmail, Gmai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Yahoo !!!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lobodan prostor na disku:  </a:t>
            </a: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1 Gb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Jednostavnost korišćenja: </a:t>
            </a: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ocena 8 od 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Dodatne opcije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adresar, kalendar, notepad, spam filter, </a:t>
            </a:r>
            <a:br>
              <a:rPr sz="2800"/>
            </a:b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antivirus zaštita, 10Mb prostora za ličnu prezentaciju (geocities.com), </a:t>
            </a:r>
            <a:br>
              <a:rPr sz="2800"/>
            </a:b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acation response 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Prednosti i mane Yahoo-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stor na disku je sasvim dovoljan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alendar vam omogućava da planirate vreme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Jako korisna opcija je i podsetnik koji će vas opominjati radi važnih datuma i sličn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stoji i opcija da svoj kalendar podelite sa drugim korisnicima što je veliki plu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nutar maila je integrisana opcija prikaza vesti, vremenske prognoze itd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jveća mana je što vam tokom provere pošte u vidnom polju stoje razne reklam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na je i grublji izgled inbox-a, koji se može promeniti ali samo u drugu boju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YAHOO MAIL beta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” je nova opcija u fazi testiranja. Veoma podseća na programe za proveru pošte ali je razlika u tome što je online.</a:t>
            </a:r>
            <a:br>
              <a:rPr sz="2800"/>
            </a:b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e opcije su iste kao i kod običnog yahoo-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rednosti i mane Yahoo-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yahoo mail box"/>
          <p:cNvPicPr/>
          <p:nvPr/>
        </p:nvPicPr>
        <p:blipFill>
          <a:blip r:embed="rId1"/>
          <a:srcRect l="858" t="0" r="0" b="0"/>
          <a:stretch/>
        </p:blipFill>
        <p:spPr>
          <a:xfrm>
            <a:off x="611280" y="2133720"/>
            <a:ext cx="8316720" cy="448128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cc"/>
                </a:solidFill>
                <a:latin typeface="Arial"/>
              </a:rPr>
              <a:t>YAHOO MAIL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cc"/>
                </a:solidFill>
                <a:latin typeface="Arial"/>
              </a:rPr>
              <a:t>YAHOO MAIL </a:t>
            </a:r>
            <a:r>
              <a:rPr b="1" lang="sr-Latn-CS" sz="3600" spc="-1" strike="noStrike">
                <a:solidFill>
                  <a:srgbClr val="ff3300"/>
                </a:solidFill>
                <a:latin typeface="Arial"/>
              </a:rPr>
              <a:t>BET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5" name="Picture 4" descr="yahoo mail beta"/>
          <p:cNvPicPr/>
          <p:nvPr/>
        </p:nvPicPr>
        <p:blipFill>
          <a:blip r:embed="rId1"/>
          <a:srcRect l="0" t="0" r="1138" b="0"/>
          <a:stretch/>
        </p:blipFill>
        <p:spPr>
          <a:xfrm>
            <a:off x="611280" y="1989000"/>
            <a:ext cx="7921440" cy="446112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Hotmail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lobodan prostor na disku:  </a:t>
            </a: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1 Gb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Jednostavnost korišćenja: </a:t>
            </a: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ocena 9 od 10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Dodatne opcije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Adresar, kalendar, junk mail filter.</a:t>
            </a:r>
            <a:br>
              <a:rPr sz="2800"/>
            </a:b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jbitnija dodatna opcija je mogućnost praćenja velikog broja newsletter-a i dobijanje raznih reklamnih poruka iz oblasti koja vas interesuj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2:07Z</dcterms:modified>
  <cp:revision>24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