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85059-C179-4103-B289-3B86FF2157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26560" y="44240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8D649-7E73-4C67-B5E3-8EF439C28E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2264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1669C-FF3B-4FCC-9B73-66B7155DEE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2944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196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2656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2944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196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69AC6-CBE3-448B-A65F-F749063C28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187280" y="155700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ADE8C-96FB-4546-95E9-F90B656829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2264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26560" y="44240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2264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2944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196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2656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2944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196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7D907-1D1E-4D0D-9A42-F0CE2B0407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E60E3-40A9-418D-8FF7-2B86C711B7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ADC3D-18BA-44F8-AC5C-2E47973209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87280" y="155700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A89EE-299F-4286-BE97-9E671126FB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6F249-5BDE-4E5E-89B4-4A6C11B232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2264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167E8-1FB9-4A1B-AA3C-05073286B1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EBE85-FB5E-4F95-B66E-775B70216C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5516640"/>
            <a:ext cx="9144000" cy="1341360"/>
          </a:xfrm>
          <a:prstGeom prst="rect">
            <a:avLst/>
          </a:prstGeom>
          <a:gradFill rotWithShape="0">
            <a:gsLst>
              <a:gs pos="0">
                <a:srgbClr val="765e2f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235160" indent="-228600">
              <a:spcBef>
                <a:spcPts val="700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4304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A261F-E958-4AEA-92DE-55190E2DD5AE}" type="slidenum">
              <a:rPr b="0" lang="en-US" sz="1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Times New Roman"/>
              </a:rPr>
              <a:t> od 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10"/>
          <p:cNvSpPr/>
          <p:nvPr/>
        </p:nvSpPr>
        <p:spPr>
          <a:xfrm>
            <a:off x="0" y="2664000"/>
            <a:ext cx="6227640" cy="10080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235160" indent="-228600">
              <a:spcBef>
                <a:spcPts val="700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4304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360" y="2708280"/>
            <a:ext cx="6408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Verbalne i Neverbalne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Komunikacije</a:t>
            </a: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5072040" y="4214880"/>
            <a:ext cx="3236760" cy="22348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ww.grfic.com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o je samo primer, nikako ne predajte ovo kao vasu prezentaciju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179280" y="6453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mart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2007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C8943-13C9-457F-B63B-A9ED6D48E856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Masovni Mediji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Masovni mediji (tv,radio,novine,internet ...)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Mas mediji spadaju pod verbalane komunikacije i u današnje vreme pretstvaljaju bitan deo života svakog čoveka (informisanost)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Oblici mas medija mogu biti usmeni (tv, radio) ili pismeni (novine, www) ali su u oba slučaja posredni 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2420640"/>
            <a:ext cx="615636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ff"/>
                </a:solidFill>
                <a:latin typeface="Tahoma"/>
              </a:rPr>
              <a:t>HVALA NA PAŽNJI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AAFF2-5CF5-427D-BB30-37A8AB838EA1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adr</a:t>
            </a: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žaj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Šta je komunikacija?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Komunikacioni znakovi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odela komunikacij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Neverbalna komunikacij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Verbalna komunikacij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22117-C740-4789-9EE0-E33ED737806C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Komunikacij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Poreklo reči komunikacija je od lat. reči “communicatio” ili “communicare” što znači saopštiti ili saopštavati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Komunikacija je sastavni deo svakog kontakta među ljudima, a njen najrazvijeniji oblik je govor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Pod pojmom </a:t>
            </a: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komunikacija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kod ljudi podrazumevamo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prenošenje poruka putem znakov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Postoje dve vrste komunikacijskih znakova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Simboli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Signali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A831D-8667-4D62-B8D5-AE58AEE1C5B8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Komunikacioni znakovi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Simboli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su znaci koji se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namerno i svesno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upućuju da bi se drugima nešto saopštilo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Takvi znaci su npr. reči i rečenice u razgovoru.</a:t>
            </a:r>
            <a:br>
              <a:rPr sz="2400"/>
            </a:b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Signali</a:t>
            </a: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su znaci koji se javljaju spontano tj.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nenamerno i nesvesno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. Nazivamo ih i </a:t>
            </a:r>
            <a:r>
              <a:rPr b="0" i="1" lang="sr-Latn-CS" sz="2400" spc="-1" strike="noStrike">
                <a:solidFill>
                  <a:srgbClr val="4d4d4d"/>
                </a:solidFill>
                <a:latin typeface="Arial"/>
              </a:rPr>
              <a:t>ekspresivnim znakovima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Takvi su npr. bledilo ili rumenilo lica ili neka grimasa i pokret kao izraz uzbuđenja a ne namernog ponašanj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5A2B1-1E04-465C-A0DC-17DE8BDA0676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Podela komunikacij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8317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Prema vrsti znakova koji se koriste razlikujemo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d4d4d"/>
                </a:solidFill>
                <a:latin typeface="Arial"/>
              </a:rPr>
              <a:t>Komunikaciju simbolima (svesno, namerno)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d4d4d"/>
                </a:solidFill>
                <a:latin typeface="Arial"/>
              </a:rPr>
              <a:t>Ekspresivnu komunikaciju (nesveno, spontano)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Ukoliko se za komuniciranje koriste neka tehnička </a:t>
            </a:r>
            <a:br>
              <a:rPr sz="2400"/>
            </a:b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sredstva takva komunikacija je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posredna.</a:t>
            </a:r>
            <a:br>
              <a:rPr sz="2400"/>
            </a:b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Komunikacija je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neposredna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kad nema tehničkih sredstava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Najvažnija podela komunikacije je na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55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4d4d4d"/>
                </a:solidFill>
                <a:latin typeface="Arial"/>
              </a:rPr>
              <a:t>Verbalnu</a:t>
            </a:r>
            <a:endParaRPr b="1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55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4d4d4d"/>
                </a:solidFill>
                <a:latin typeface="Arial"/>
              </a:rPr>
              <a:t>Neverbalnu</a:t>
            </a:r>
            <a:endParaRPr b="1" lang="en-US" sz="2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9A6B1-6908-4FD2-B445-33D50FEBB862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Neverbalna Komunikacij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Neverbalna je komunikacija pri kojoj se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ne koriste reči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Komunikacija među ljudima je puna neverbalnih komunikacionih znakova a bez njih bi ona bila mnogo siromašnija, nepotpunija i teže bi se odvijal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Neverbalnom komunikacijom se izražavaju prvenstveno emocije i stavovi učesnika u komunikaciji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Putem neverbalne komunikacije mi možemo da vidimo reagovanja slušaoca a da nam on ništa ni ne kaže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7566C-9BC9-4283-B863-A15DA7773052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Neverbalna Komunikacij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8209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Propratne glasovne odlike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su vrsta neverbalnih znakova.</a:t>
            </a:r>
            <a:br>
              <a:rPr sz="2400"/>
            </a:b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Ustvari to nisu pravi govorni znaci (kao reči) već karakteristike pri izgovaranju reči i rečenica npr. razlike u brzini, intenzitetu i ritmu izgovaranja (npr. kod homonima)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Ekstralingvistički komunikacioni znaci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su oni koji nisu sastvaljeni ni od osnovnih ni propratnih glasovnih draži,</a:t>
            </a:r>
            <a:br>
              <a:rPr sz="2400"/>
            </a:b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a uglavnom se odnose na pokrete i facijalnu ekspresiju.</a:t>
            </a:r>
            <a:br>
              <a:rPr sz="2400"/>
            </a:b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Pod facijalnom ekspresijom podrazumevamo razne izraze lica izazvanom pokretima mišića lic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49750-DDFB-4B3C-88E8-B501E735DD0B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Verbalna Komunikacij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- Verbalna komunikacija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je ona koja se odvija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putem reći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i sklopova reči određenog jezik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Verbalna komunikacija je najbogatija i najrazvijenija simbolička komunikacija.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Kako svaki jezik raspolaže sa stotinama hiljada reći, i mogućnostima njihovog menjanja i kombinovanja, verbalna komunikacija predstavalja gotovo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neograničenu mogućnost kombinovanja znakova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, formulisanja i saopštavanja složenih sadržaj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577A3-F95C-4397-BD85-4359AF92744E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cc"/>
                </a:solidFill>
                <a:latin typeface="Arial"/>
              </a:rPr>
              <a:t>Verbalna Komunikacija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- Verbalna komunikacija počiva na sposobnosti čoveka da proizvodi veći broj glasova koji se povezuju u skupove glasova ili reči.</a:t>
            </a:r>
            <a:br>
              <a:rPr sz="2800"/>
            </a:b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- Na izgovaranju glasova počiva </a:t>
            </a:r>
            <a:r>
              <a:rPr b="1" lang="sr-Latn-CS" sz="2800" spc="-1" strike="noStrike">
                <a:solidFill>
                  <a:srgbClr val="4d4d4d"/>
                </a:solidFill>
                <a:latin typeface="Arial"/>
              </a:rPr>
              <a:t>usmena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verbalna komunikacija, dok je </a:t>
            </a:r>
            <a:r>
              <a:rPr b="1" lang="sr-Latn-CS" sz="2800" spc="-1" strike="noStrike">
                <a:solidFill>
                  <a:srgbClr val="4d4d4d"/>
                </a:solidFill>
                <a:latin typeface="Arial"/>
              </a:rPr>
              <a:t>pismena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oslonjenja na slova tj. grafički prikaz glasova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2T22:18:25Z</dcterms:created>
  <dc:creator>Jovan Cvetanovic 114/06</dc:creator>
  <dc:description/>
  <dc:language>en-US</dc:language>
  <cp:lastModifiedBy>HOME</cp:lastModifiedBy>
  <dcterms:modified xsi:type="dcterms:W3CDTF">2008-02-02T11:01:50Z</dcterms:modified>
  <cp:revision>20</cp:revision>
  <dc:subject>Komunikacije</dc:subject>
  <dc:title>Verbalne i Neverbalne Komunikacij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wner">
    <vt:lpwstr>Jovan Cvetanovic</vt:lpwstr>
  </property>
</Properties>
</file>