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embeddings/oleObject13.bin" ContentType="application/vnd.openxmlformats-officedocument.oleObjec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43.png" ContentType="image/png"/>
  <Override PartName="/ppt/media/image44.wmf" ContentType="image/x-wmf"/>
  <Override PartName="/ppt/media/image45.wmf" ContentType="image/x-wmf"/>
  <Override PartName="/ppt/media/image46.wmf" ContentType="image/x-wmf"/>
  <Override PartName="/ppt/media/image48.wmf" ContentType="image/x-wmf"/>
  <Override PartName="/ppt/media/image11.wmf" ContentType="image/x-wmf"/>
  <Override PartName="/ppt/media/image12.wmf" ContentType="image/x-wmf"/>
  <Override PartName="/ppt/media/image10.wmf" ContentType="image/x-wmf"/>
  <Override PartName="/ppt/media/image47.wmf" ContentType="image/x-wmf"/>
  <Override PartName="/ppt/media/image37.wmf" ContentType="image/x-wmf"/>
  <Override PartName="/ppt/media/image7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88A8-5CA7-4768-BA47-B03CD085C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9633-0AE5-42DE-A173-6303273A8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C566-8D43-4370-A3FB-71536DBFD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82F4-BB72-4F39-A249-4035807AC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7F89D-EFEF-4828-9F84-AE9C44F8F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EA3F3-EBA7-4968-B439-C3C726ADB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0367F-1276-48D5-93D6-1AF28AD8C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55616-9384-48DC-B5A6-7F359F57E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81A7F-A407-4D73-B25B-9C5E16DF1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2248D-1D5A-4814-8943-5E7987078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E33CE-C968-44B1-ABF5-7235DE329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756D-7C16-471D-A561-3A9DC76B2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3B032-BD03-4AE0-8D58-A6779C61B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A10C5-AFA1-46EB-9FFC-D2F7F9444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84D52-5679-484F-8B23-761F56315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43475-5817-4E93-BA5D-FD8B4255B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F7213-5B0A-4C30-A66B-6A13AB8FA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9AE1-6D55-454C-A1AB-630BB6CF1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CFCC-DCCD-4013-947F-52F88E48E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F9C6-45F3-46B4-B50E-E75872154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5FF2-11BC-4166-82C4-477F50143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FEAA-5EC8-4BCD-8432-402B8EF6C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E1C1-3E99-4C4C-893F-7EF4980B3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38BD-F332-43DD-8DAB-705400DAD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c9c696"/>
              </a:gs>
              <a:gs pos="100000">
                <a:srgbClr val="e6e3a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2bf9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bf91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bbb9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b0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5e2a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96AC0-BDDC-46AF-BFDE-8432B13915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2bf9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bf91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bbb9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b0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5e2a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3604D-E7A4-447D-8A7E-531BFB76C3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6e3a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66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1.wmf"/><Relationship Id="rId7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wmf"/><Relationship Id="rId3" Type="http://schemas.openxmlformats.org/officeDocument/2006/relationships/image" Target="../media/image43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44.wm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6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8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9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0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1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3.wmf"/><Relationship Id="rId27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9.wmf"/><Relationship Id="rId13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2.wmf"/><Relationship Id="rId15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4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7.wmf"/><Relationship Id="rId7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4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5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6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37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38.wmf"/><Relationship Id="rId23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15600" y="189000"/>
            <a:ext cx="852804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8800" spc="-1" strike="noStrike">
                <a:solidFill>
                  <a:srgbClr val="b39257"/>
                </a:solidFill>
                <a:latin typeface="Times New Roman"/>
              </a:rPr>
              <a:t>TEHNIČKA MEHANIKA 1</a:t>
            </a:r>
            <a:br>
              <a:rPr sz="9600"/>
            </a:br>
            <a:r>
              <a:rPr b="1" lang="en-US" sz="6600" spc="-1" strike="noStrike">
                <a:solidFill>
                  <a:srgbClr val="333333"/>
                </a:solidFill>
                <a:latin typeface="Times New Roman"/>
              </a:rPr>
              <a:t>STATIKA</a:t>
            </a:r>
            <a:br>
              <a:rPr sz="6600"/>
            </a:br>
            <a:br>
              <a:rPr sz="4000"/>
            </a:br>
            <a:r>
              <a:rPr b="1" lang="en-US" sz="4400" spc="-1" strike="noStrike">
                <a:solidFill>
                  <a:srgbClr val="666633"/>
                </a:solidFill>
                <a:latin typeface="Times New Roman"/>
              </a:rPr>
              <a:t>VIII predavanje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/>
          <p:nvPr/>
        </p:nvSpPr>
        <p:spPr>
          <a:xfrm>
            <a:off x="0" y="0"/>
            <a:ext cx="868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Uslovi ravnoteže elementa nosača su:</a:t>
            </a: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2" name=""/>
          <p:cNvGraphicFramePr/>
          <p:nvPr/>
        </p:nvGraphicFramePr>
        <p:xfrm>
          <a:off x="0" y="663480"/>
          <a:ext cx="9144000" cy="212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63480"/>
                    <a:ext cx="9144000" cy="212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4" name=""/>
          <p:cNvGraphicFramePr/>
          <p:nvPr/>
        </p:nvGraphicFramePr>
        <p:xfrm>
          <a:off x="0" y="2584440"/>
          <a:ext cx="4572000" cy="2038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2584440"/>
                    <a:ext cx="4572000" cy="20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6" name=""/>
          <p:cNvSpPr/>
          <p:nvPr/>
        </p:nvSpPr>
        <p:spPr>
          <a:xfrm>
            <a:off x="0" y="4619520"/>
            <a:ext cx="783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 gornjim izrazima iskoristili smo slede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će vez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7" name=""/>
          <p:cNvGraphicFramePr/>
          <p:nvPr/>
        </p:nvGraphicFramePr>
        <p:xfrm>
          <a:off x="1440" y="5195880"/>
          <a:ext cx="4570560" cy="1604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8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40" y="5195880"/>
                    <a:ext cx="4570560" cy="160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9" name=""/>
          <p:cNvGraphicFramePr/>
          <p:nvPr/>
        </p:nvGraphicFramePr>
        <p:xfrm>
          <a:off x="0" y="0"/>
          <a:ext cx="7029360" cy="310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7029360" cy="310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1" name=""/>
          <p:cNvSpPr/>
          <p:nvPr/>
        </p:nvSpPr>
        <p:spPr>
          <a:xfrm>
            <a:off x="0" y="3390840"/>
            <a:ext cx="783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N</a:t>
            </a:r>
            <a:r>
              <a:rPr b="1" lang="sr-Latn-C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SAČ KAO POLIGONALNA LINIJ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85960" y="4965480"/>
            <a:ext cx="728640" cy="1074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614600" y="4965840"/>
            <a:ext cx="1612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3227400" y="4965840"/>
            <a:ext cx="922320" cy="768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 flipV="1">
            <a:off x="4149720" y="4773600"/>
            <a:ext cx="1266840" cy="960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 rot="1838400">
            <a:off x="499680" y="6004080"/>
            <a:ext cx="654120" cy="1904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577800" y="5848200"/>
            <a:ext cx="576360" cy="34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1614600" y="4657680"/>
            <a:ext cx="0" cy="30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1844640" y="4657680"/>
            <a:ext cx="0" cy="30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075040" y="4657680"/>
            <a:ext cx="0" cy="30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06520" y="4657680"/>
            <a:ext cx="0" cy="30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536920" y="4657680"/>
            <a:ext cx="0" cy="30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766960" y="4657680"/>
            <a:ext cx="0" cy="30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2997360" y="4657680"/>
            <a:ext cx="0" cy="30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3227400" y="4657680"/>
            <a:ext cx="0" cy="30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1614600" y="4657680"/>
            <a:ext cx="1612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7" name=""/>
          <p:cNvGrpSpPr/>
          <p:nvPr/>
        </p:nvGrpSpPr>
        <p:grpSpPr>
          <a:xfrm>
            <a:off x="4409640" y="4731480"/>
            <a:ext cx="1400400" cy="1523520"/>
            <a:chOff x="4409640" y="4731480"/>
            <a:chExt cx="1400400" cy="1523520"/>
          </a:xfrm>
        </p:grpSpPr>
        <p:sp>
          <p:nvSpPr>
            <p:cNvPr id="508" name=""/>
            <p:cNvSpPr/>
            <p:nvPr/>
          </p:nvSpPr>
          <p:spPr>
            <a:xfrm flipV="1">
              <a:off x="4746600" y="4929840"/>
              <a:ext cx="613440" cy="46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 flipH="1">
              <a:off x="4478400" y="5392440"/>
              <a:ext cx="267840" cy="53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4746600" y="5392440"/>
              <a:ext cx="323280" cy="42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 rot="19378800">
              <a:off x="5204880" y="4829040"/>
              <a:ext cx="498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 rot="19378800">
              <a:off x="4531320" y="5682240"/>
              <a:ext cx="345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 rot="19378800">
              <a:off x="4934160" y="5297040"/>
              <a:ext cx="500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8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4" name=""/>
          <p:cNvSpPr/>
          <p:nvPr/>
        </p:nvSpPr>
        <p:spPr>
          <a:xfrm>
            <a:off x="2114640" y="5079960"/>
            <a:ext cx="768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 flipH="1">
            <a:off x="1576080" y="5079960"/>
            <a:ext cx="538200" cy="268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2114640" y="5079960"/>
            <a:ext cx="0" cy="536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2728800" y="5022720"/>
            <a:ext cx="49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538280" y="5214960"/>
            <a:ext cx="34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2190600" y="5195880"/>
            <a:ext cx="50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0" name=""/>
          <p:cNvGraphicFramePr/>
          <p:nvPr/>
        </p:nvGraphicFramePr>
        <p:xfrm>
          <a:off x="7029360" y="4389480"/>
          <a:ext cx="1255680" cy="2468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029360" y="4389480"/>
                    <a:ext cx="1255680" cy="24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2" name=""/>
          <p:cNvGraphicFramePr/>
          <p:nvPr/>
        </p:nvGraphicFramePr>
        <p:xfrm>
          <a:off x="0" y="779400"/>
          <a:ext cx="6568920" cy="198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79400"/>
                    <a:ext cx="6568920" cy="198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"/>
          <p:cNvSpPr/>
          <p:nvPr/>
        </p:nvSpPr>
        <p:spPr>
          <a:xfrm>
            <a:off x="0" y="203040"/>
            <a:ext cx="706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Jednačine (1) i (2) postaj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0" y="3371760"/>
          <a:ext cx="7183440" cy="2800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3371760"/>
                    <a:ext cx="7183440" cy="280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0" y="0"/>
            <a:ext cx="806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Iz jednačina (1), (2) i (3) sled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8" name=""/>
          <p:cNvGraphicFramePr/>
          <p:nvPr/>
        </p:nvGraphicFramePr>
        <p:xfrm>
          <a:off x="0" y="433440"/>
          <a:ext cx="9144000" cy="23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33440"/>
                    <a:ext cx="9144000" cy="23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0" name=""/>
          <p:cNvSpPr/>
          <p:nvPr/>
        </p:nvSpPr>
        <p:spPr>
          <a:xfrm>
            <a:off x="0" y="2968560"/>
            <a:ext cx="8834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Iz gornje dve jednačine, imamo šest skalarnih uslova ravnoteže elementa linijskog nosač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1" name=""/>
          <p:cNvGraphicFramePr/>
          <p:nvPr/>
        </p:nvGraphicFramePr>
        <p:xfrm>
          <a:off x="0" y="3951360"/>
          <a:ext cx="41497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3951360"/>
                    <a:ext cx="41497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79280" y="189000"/>
            <a:ext cx="871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Times New Roman"/>
              </a:rPr>
              <a:t>SILE U PRESEKU LINIJSKOG PROSTORNOG NOSA</a:t>
            </a:r>
            <a:r>
              <a:rPr b="1" lang="sr-Latn-CS" sz="4400" spc="-1" strike="noStrike" u="sng">
                <a:solidFill>
                  <a:srgbClr val="ff0000"/>
                </a:solidFill>
                <a:uFillTx/>
                <a:latin typeface="Times New Roman"/>
              </a:rPr>
              <a:t>Č</a:t>
            </a:r>
            <a:r>
              <a:rPr b="1" lang="en-US" sz="4400" spc="-1" strike="noStrike" u="sng">
                <a:solidFill>
                  <a:srgbClr val="ff0000"/>
                </a:solidFill>
                <a:uFillTx/>
                <a:latin typeface="Times New Roman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162396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Posmatramo deo nosača koji je pod uticajem aktivnih i reaktivnih sila u ravnoteži. U tački P uočimo poprečni presek nosač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423720" y="3274920"/>
            <a:ext cx="4521240" cy="3881160"/>
            <a:chOff x="423720" y="3274920"/>
            <a:chExt cx="4521240" cy="3881160"/>
          </a:xfrm>
        </p:grpSpPr>
        <p:sp>
          <p:nvSpPr>
            <p:cNvPr id="215" name=""/>
            <p:cNvSpPr/>
            <p:nvPr/>
          </p:nvSpPr>
          <p:spPr>
            <a:xfrm flipH="1">
              <a:off x="1306440" y="4083120"/>
              <a:ext cx="3458160" cy="3072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440" y="919"/>
                  </a:moveTo>
                  <a:arcTo wR="10800" hR="10800" stAng="-6828609" swAng="7334790"/>
                  <a:lnTo>
                    <a:pt x="10800" y="10800"/>
                  </a:lnTo>
                  <a:close/>
                </a:path>
                <a:path fill="none" w="21600" h="21600">
                  <a:moveTo>
                    <a:pt x="6440" y="919"/>
                  </a:moveTo>
                  <a:arcTo wR="10800" hR="10800" stAng="-6828609" swAng="7334790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384200" y="4465800"/>
              <a:ext cx="192240" cy="84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 flipV="1">
              <a:off x="1384200" y="4235400"/>
              <a:ext cx="230400" cy="23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1384200" y="5309640"/>
              <a:ext cx="192240" cy="19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 flipV="1">
              <a:off x="693360" y="5617800"/>
              <a:ext cx="614520" cy="2300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1692360" y="4465440"/>
              <a:ext cx="422280" cy="42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1538280" y="4119120"/>
              <a:ext cx="422280" cy="42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538280" y="454356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538280" y="4849920"/>
              <a:ext cx="15408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652760" y="4427640"/>
              <a:ext cx="0" cy="26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806480" y="4275000"/>
              <a:ext cx="0" cy="26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960560" y="411948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652760" y="4695840"/>
              <a:ext cx="19368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806480" y="4543560"/>
              <a:ext cx="192240" cy="3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960560" y="4427640"/>
              <a:ext cx="15408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190600" y="3505320"/>
              <a:ext cx="500040" cy="13827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1" name=""/>
            <p:cNvGrpSpPr/>
            <p:nvPr/>
          </p:nvGrpSpPr>
          <p:grpSpPr>
            <a:xfrm>
              <a:off x="539640" y="5848200"/>
              <a:ext cx="730080" cy="614160"/>
              <a:chOff x="539640" y="5848200"/>
              <a:chExt cx="730080" cy="614160"/>
            </a:xfrm>
          </p:grpSpPr>
          <p:sp>
            <p:nvSpPr>
              <p:cNvPr id="232" name=""/>
              <p:cNvSpPr/>
              <p:nvPr/>
            </p:nvSpPr>
            <p:spPr>
              <a:xfrm flipH="1">
                <a:off x="731520" y="5848200"/>
                <a:ext cx="538200" cy="46008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H="1">
                <a:off x="539640" y="6270480"/>
                <a:ext cx="230400" cy="19188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4" name=""/>
            <p:cNvSpPr/>
            <p:nvPr/>
          </p:nvSpPr>
          <p:spPr>
            <a:xfrm>
              <a:off x="1346040" y="5618160"/>
              <a:ext cx="538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3689280" y="3929040"/>
              <a:ext cx="728640" cy="2682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6" name=""/>
            <p:cNvGrpSpPr/>
            <p:nvPr/>
          </p:nvGrpSpPr>
          <p:grpSpPr>
            <a:xfrm>
              <a:off x="3701880" y="4200840"/>
              <a:ext cx="817920" cy="491040"/>
              <a:chOff x="3701880" y="4200840"/>
              <a:chExt cx="817920" cy="491040"/>
            </a:xfrm>
          </p:grpSpPr>
          <p:sp>
            <p:nvSpPr>
              <p:cNvPr id="237" name=""/>
              <p:cNvSpPr/>
              <p:nvPr/>
            </p:nvSpPr>
            <p:spPr>
              <a:xfrm>
                <a:off x="3701880" y="4200840"/>
                <a:ext cx="609840" cy="3596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4263480" y="4536360"/>
                <a:ext cx="256320" cy="1555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423720" y="4888080"/>
              <a:ext cx="80676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40" name=""/>
            <p:cNvGraphicFramePr/>
            <p:nvPr/>
          </p:nvGraphicFramePr>
          <p:xfrm>
            <a:off x="480960" y="4888080"/>
            <a:ext cx="479520" cy="637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4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80960" y="4888080"/>
                      <a:ext cx="479520" cy="637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42" name=""/>
            <p:cNvGraphicFramePr/>
            <p:nvPr/>
          </p:nvGraphicFramePr>
          <p:xfrm>
            <a:off x="885960" y="6319800"/>
            <a:ext cx="538200" cy="538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4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885960" y="6319800"/>
                      <a:ext cx="538200" cy="53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44" name=""/>
            <p:cNvGraphicFramePr/>
            <p:nvPr/>
          </p:nvGraphicFramePr>
          <p:xfrm>
            <a:off x="2882880" y="4465800"/>
            <a:ext cx="488880" cy="6523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45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882880" y="4465800"/>
                      <a:ext cx="488880" cy="652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46" name=""/>
            <p:cNvGrpSpPr/>
            <p:nvPr/>
          </p:nvGrpSpPr>
          <p:grpSpPr>
            <a:xfrm>
              <a:off x="2370240" y="4162320"/>
              <a:ext cx="1164240" cy="118080"/>
              <a:chOff x="2370240" y="4162320"/>
              <a:chExt cx="1164240" cy="118080"/>
            </a:xfrm>
          </p:grpSpPr>
          <p:sp>
            <p:nvSpPr>
              <p:cNvPr id="247" name=""/>
              <p:cNvSpPr/>
              <p:nvPr/>
            </p:nvSpPr>
            <p:spPr>
              <a:xfrm>
                <a:off x="2370240" y="4162320"/>
                <a:ext cx="870840" cy="82800"/>
              </a:xfrm>
              <a:prstGeom prst="line">
                <a:avLst/>
              </a:prstGeom>
              <a:ln w="63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170520" y="4242240"/>
                <a:ext cx="363960" cy="38160"/>
              </a:xfrm>
              <a:prstGeom prst="line">
                <a:avLst/>
              </a:prstGeom>
              <a:ln w="63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9" name=""/>
            <p:cNvSpPr/>
            <p:nvPr/>
          </p:nvSpPr>
          <p:spPr>
            <a:xfrm flipH="1" flipV="1">
              <a:off x="1346040" y="3774600"/>
              <a:ext cx="1036800" cy="38412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382840" y="4159080"/>
              <a:ext cx="1036800" cy="38448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1" name=""/>
            <p:cNvGrpSpPr/>
            <p:nvPr/>
          </p:nvGrpSpPr>
          <p:grpSpPr>
            <a:xfrm>
              <a:off x="1224720" y="4021920"/>
              <a:ext cx="1164240" cy="118080"/>
              <a:chOff x="1224720" y="4021920"/>
              <a:chExt cx="1164240" cy="118080"/>
            </a:xfrm>
          </p:grpSpPr>
          <p:sp>
            <p:nvSpPr>
              <p:cNvPr id="252" name=""/>
              <p:cNvSpPr/>
              <p:nvPr/>
            </p:nvSpPr>
            <p:spPr>
              <a:xfrm flipH="1" flipV="1">
                <a:off x="1518120" y="4057200"/>
                <a:ext cx="870840" cy="82800"/>
              </a:xfrm>
              <a:prstGeom prst="line">
                <a:avLst/>
              </a:prstGeom>
              <a:ln w="63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H="1" flipV="1">
                <a:off x="1224720" y="4021920"/>
                <a:ext cx="363960" cy="38160"/>
              </a:xfrm>
              <a:prstGeom prst="line">
                <a:avLst/>
              </a:prstGeom>
              <a:ln w="63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aphicFrame>
          <p:nvGraphicFramePr>
            <p:cNvPr id="254" name=""/>
            <p:cNvGraphicFramePr/>
            <p:nvPr/>
          </p:nvGraphicFramePr>
          <p:xfrm>
            <a:off x="1360440" y="3274920"/>
            <a:ext cx="403200" cy="576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5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360440" y="3274920"/>
                      <a:ext cx="403200" cy="576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56" name=""/>
            <p:cNvGraphicFramePr/>
            <p:nvPr/>
          </p:nvGraphicFramePr>
          <p:xfrm>
            <a:off x="3376440" y="4311720"/>
            <a:ext cx="700200" cy="5382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5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3376440" y="4311720"/>
                      <a:ext cx="700200" cy="53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58" name=""/>
            <p:cNvGraphicFramePr/>
            <p:nvPr/>
          </p:nvGraphicFramePr>
          <p:xfrm>
            <a:off x="442800" y="3813120"/>
            <a:ext cx="847800" cy="6526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25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442800" y="3813120"/>
                      <a:ext cx="847800" cy="65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60" name=""/>
            <p:cNvSpPr/>
            <p:nvPr/>
          </p:nvSpPr>
          <p:spPr>
            <a:xfrm flipV="1">
              <a:off x="2459160" y="3928680"/>
              <a:ext cx="691920" cy="23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61" name=""/>
            <p:cNvGraphicFramePr/>
            <p:nvPr/>
          </p:nvGraphicFramePr>
          <p:xfrm>
            <a:off x="2697120" y="3352680"/>
            <a:ext cx="392040" cy="55116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262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2697120" y="3352680"/>
                      <a:ext cx="392040" cy="551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63" name=""/>
            <p:cNvSpPr/>
            <p:nvPr/>
          </p:nvSpPr>
          <p:spPr>
            <a:xfrm>
              <a:off x="3765600" y="4235400"/>
              <a:ext cx="806400" cy="23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64" name=""/>
            <p:cNvGraphicFramePr/>
            <p:nvPr/>
          </p:nvGraphicFramePr>
          <p:xfrm>
            <a:off x="4572000" y="4005360"/>
            <a:ext cx="372960" cy="609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265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572000" y="4005360"/>
                      <a:ext cx="37296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66" name=""/>
            <p:cNvSpPr/>
            <p:nvPr/>
          </p:nvSpPr>
          <p:spPr>
            <a:xfrm>
              <a:off x="2152800" y="4159080"/>
              <a:ext cx="422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4802040" y="4657680"/>
            <a:ext cx="4032360" cy="1228680"/>
            <a:chOff x="4802040" y="4657680"/>
            <a:chExt cx="4032360" cy="1228680"/>
          </a:xfrm>
        </p:grpSpPr>
        <p:sp>
          <p:nvSpPr>
            <p:cNvPr id="268" name=""/>
            <p:cNvSpPr/>
            <p:nvPr/>
          </p:nvSpPr>
          <p:spPr>
            <a:xfrm flipH="1" flipV="1">
              <a:off x="5148000" y="4888080"/>
              <a:ext cx="153720" cy="65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4917600" y="5541840"/>
              <a:ext cx="384120" cy="26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5302080" y="5271840"/>
              <a:ext cx="729000" cy="26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302080" y="5541840"/>
              <a:ext cx="806760" cy="23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878440" y="5349960"/>
              <a:ext cx="0" cy="34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762520" y="5388120"/>
              <a:ext cx="0" cy="26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646600" y="5425920"/>
              <a:ext cx="0" cy="23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494320" y="5464080"/>
              <a:ext cx="0" cy="11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76" name=""/>
            <p:cNvGraphicFramePr/>
            <p:nvPr/>
          </p:nvGraphicFramePr>
          <p:xfrm>
            <a:off x="5838840" y="4811760"/>
            <a:ext cx="311040" cy="43488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277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38840" y="4811760"/>
                      <a:ext cx="311040" cy="434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78" name=""/>
            <p:cNvGraphicFramePr/>
            <p:nvPr/>
          </p:nvGraphicFramePr>
          <p:xfrm>
            <a:off x="6108840" y="5425920"/>
            <a:ext cx="282600" cy="46044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279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6108840" y="5425920"/>
                      <a:ext cx="282600" cy="46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80" name=""/>
            <p:cNvGraphicFramePr/>
            <p:nvPr/>
          </p:nvGraphicFramePr>
          <p:xfrm>
            <a:off x="5224320" y="4735440"/>
            <a:ext cx="270000" cy="41616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281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5224320" y="4735440"/>
                      <a:ext cx="270000" cy="416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82" name=""/>
            <p:cNvGraphicFramePr/>
            <p:nvPr/>
          </p:nvGraphicFramePr>
          <p:xfrm>
            <a:off x="4802040" y="5272200"/>
            <a:ext cx="284400" cy="39672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283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4802040" y="5272200"/>
                      <a:ext cx="284400" cy="396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84" name=""/>
            <p:cNvSpPr/>
            <p:nvPr/>
          </p:nvSpPr>
          <p:spPr>
            <a:xfrm>
              <a:off x="6607080" y="4657680"/>
              <a:ext cx="22273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Osculatorna rava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5916600" y="5157360"/>
              <a:ext cx="806400" cy="38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4832280" y="3236760"/>
            <a:ext cx="4311720" cy="584280"/>
            <a:chOff x="4832280" y="3236760"/>
            <a:chExt cx="4311720" cy="584280"/>
          </a:xfrm>
        </p:grpSpPr>
        <p:graphicFrame>
          <p:nvGraphicFramePr>
            <p:cNvPr id="287" name=""/>
            <p:cNvGraphicFramePr/>
            <p:nvPr/>
          </p:nvGraphicFramePr>
          <p:xfrm>
            <a:off x="4832280" y="3313080"/>
            <a:ext cx="1257480" cy="507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288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4832280" y="3313080"/>
                      <a:ext cx="1257480" cy="507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89" name=""/>
            <p:cNvSpPr/>
            <p:nvPr/>
          </p:nvSpPr>
          <p:spPr>
            <a:xfrm>
              <a:off x="6031080" y="3236760"/>
              <a:ext cx="3112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Prirodni trijeda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395280" y="404640"/>
            <a:ext cx="8497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dukcijom svih sila desno od P dobijamo      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a redukcijom levo od P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i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       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7956720" y="357120"/>
          <a:ext cx="517320" cy="69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56720" y="357120"/>
                    <a:ext cx="517320" cy="69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3" name=""/>
          <p:cNvGraphicFramePr/>
          <p:nvPr/>
        </p:nvGraphicFramePr>
        <p:xfrm>
          <a:off x="461880" y="1201680"/>
          <a:ext cx="730440" cy="561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1880" y="1201680"/>
                    <a:ext cx="73044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5" name=""/>
          <p:cNvGraphicFramePr/>
          <p:nvPr/>
        </p:nvGraphicFramePr>
        <p:xfrm>
          <a:off x="5473800" y="1123920"/>
          <a:ext cx="403200" cy="576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73800" y="1123920"/>
                    <a:ext cx="40320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7" name=""/>
          <p:cNvGraphicFramePr/>
          <p:nvPr/>
        </p:nvGraphicFramePr>
        <p:xfrm>
          <a:off x="6222960" y="1149480"/>
          <a:ext cx="768240" cy="590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222960" y="1149480"/>
                    <a:ext cx="768240" cy="59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" name=""/>
          <p:cNvSpPr/>
          <p:nvPr/>
        </p:nvSpPr>
        <p:spPr>
          <a:xfrm>
            <a:off x="539640" y="1816200"/>
            <a:ext cx="629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Uslovi r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vnote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že nosača su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693720" y="2546280"/>
          <a:ext cx="4070520" cy="1346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0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93720" y="2546280"/>
                    <a:ext cx="4070520" cy="134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2" name=""/>
          <p:cNvSpPr/>
          <p:nvPr/>
        </p:nvSpPr>
        <p:spPr>
          <a:xfrm>
            <a:off x="577800" y="3889440"/>
            <a:ext cx="833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Uslovi r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vnote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že mogu se prikazati i u obliku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577800" y="4503600"/>
          <a:ext cx="5735520" cy="1346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0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77800" y="4503600"/>
                    <a:ext cx="5735520" cy="134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395280" y="404640"/>
            <a:ext cx="8497800" cy="1216080"/>
            <a:chOff x="395280" y="404640"/>
            <a:chExt cx="8497800" cy="1216080"/>
          </a:xfrm>
        </p:grpSpPr>
        <p:sp>
          <p:nvSpPr>
            <p:cNvPr id="306" name=""/>
            <p:cNvSpPr/>
            <p:nvPr/>
          </p:nvSpPr>
          <p:spPr>
            <a:xfrm>
              <a:off x="395280" y="404640"/>
              <a:ext cx="8497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Razložimo      i       na pravce prirodnog trijedra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307" name=""/>
            <p:cNvGraphicFramePr/>
            <p:nvPr/>
          </p:nvGraphicFramePr>
          <p:xfrm>
            <a:off x="2411280" y="433440"/>
            <a:ext cx="374760" cy="4986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0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411280" y="433440"/>
                      <a:ext cx="374760" cy="498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09" name=""/>
            <p:cNvGraphicFramePr/>
            <p:nvPr/>
          </p:nvGraphicFramePr>
          <p:xfrm>
            <a:off x="3130560" y="500040"/>
            <a:ext cx="558720" cy="432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1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130560" y="500040"/>
                      <a:ext cx="558720" cy="43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11" name=""/>
            <p:cNvGraphicFramePr/>
            <p:nvPr/>
          </p:nvGraphicFramePr>
          <p:xfrm>
            <a:off x="539640" y="971640"/>
            <a:ext cx="1094040" cy="6490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12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39640" y="971640"/>
                      <a:ext cx="1094040" cy="649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313" name=""/>
          <p:cNvGraphicFramePr/>
          <p:nvPr/>
        </p:nvGraphicFramePr>
        <p:xfrm>
          <a:off x="0" y="1673280"/>
          <a:ext cx="9144000" cy="1260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1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1673280"/>
                    <a:ext cx="9144000" cy="12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5" name=""/>
          <p:cNvSpPr/>
          <p:nvPr/>
        </p:nvSpPr>
        <p:spPr>
          <a:xfrm>
            <a:off x="0" y="2928960"/>
            <a:ext cx="84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Množeći       sa            dobijam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1806480" y="2928960"/>
            <a:ext cx="2016360" cy="649440"/>
            <a:chOff x="1806480" y="2928960"/>
            <a:chExt cx="2016360" cy="649440"/>
          </a:xfrm>
        </p:grpSpPr>
        <p:graphicFrame>
          <p:nvGraphicFramePr>
            <p:cNvPr id="317" name=""/>
            <p:cNvGraphicFramePr/>
            <p:nvPr/>
          </p:nvGraphicFramePr>
          <p:xfrm>
            <a:off x="1806480" y="3006720"/>
            <a:ext cx="374760" cy="4986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318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1806480" y="3006720"/>
                      <a:ext cx="374760" cy="498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19" name=""/>
            <p:cNvGraphicFramePr/>
            <p:nvPr/>
          </p:nvGraphicFramePr>
          <p:xfrm>
            <a:off x="2728800" y="2928960"/>
            <a:ext cx="1094040" cy="6494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320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2728800" y="2928960"/>
                      <a:ext cx="1094040" cy="649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321" name=""/>
          <p:cNvGraphicFramePr/>
          <p:nvPr/>
        </p:nvGraphicFramePr>
        <p:xfrm>
          <a:off x="270000" y="3889440"/>
          <a:ext cx="4686120" cy="21034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2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70000" y="3889440"/>
                    <a:ext cx="4686120" cy="210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0" y="1009800"/>
            <a:ext cx="84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Množeći        sa            dobijam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4" name=""/>
          <p:cNvGraphicFramePr/>
          <p:nvPr/>
        </p:nvGraphicFramePr>
        <p:xfrm>
          <a:off x="1652760" y="1027080"/>
          <a:ext cx="728640" cy="55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52760" y="1027080"/>
                    <a:ext cx="728640" cy="5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6" name=""/>
          <p:cNvGraphicFramePr/>
          <p:nvPr/>
        </p:nvGraphicFramePr>
        <p:xfrm>
          <a:off x="2787480" y="936720"/>
          <a:ext cx="1094040" cy="649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87480" y="936720"/>
                    <a:ext cx="1094040" cy="64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8" name=""/>
          <p:cNvGraphicFramePr/>
          <p:nvPr/>
        </p:nvGraphicFramePr>
        <p:xfrm>
          <a:off x="270000" y="1969920"/>
          <a:ext cx="5743440" cy="3200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0000" y="1969920"/>
                    <a:ext cx="574344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0" y="0"/>
            <a:ext cx="9144000" cy="57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 u="sng">
                <a:solidFill>
                  <a:srgbClr val="cc0000"/>
                </a:solidFill>
                <a:uFillTx/>
                <a:latin typeface="Times New Roman"/>
              </a:rPr>
              <a:t>N-normalna sila-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predstavlja zbir algebarskih vrednosti ortogonalnih projekcija svih sila desno od preseka na orijentisani pravac tangente u posmatranoj tački ose nosača, odnosno zbir algebarskih vrednosti ortogonalnih projekcija svih sila levo od preseka na suprotno orijentisani prava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 u="sng">
                <a:solidFill>
                  <a:srgbClr val="cc0000"/>
                </a:solidFill>
                <a:uFillTx/>
                <a:latin typeface="Times New Roman"/>
              </a:rPr>
              <a:t>Transverzalna sila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u pravcu glavne normale </a:t>
            </a:r>
            <a:r>
              <a:rPr b="1" lang="sr-Latn-CS" sz="2800" spc="-1" strike="noStrike">
                <a:solidFill>
                  <a:srgbClr val="cc0000"/>
                </a:solidFill>
                <a:latin typeface="Times New Roman"/>
              </a:rPr>
              <a:t>(T</a:t>
            </a:r>
            <a:r>
              <a:rPr b="1" lang="sr-Latn-CS" sz="2800" spc="-1" strike="noStrike" baseline="-25000">
                <a:solidFill>
                  <a:srgbClr val="cc0000"/>
                </a:solidFill>
                <a:latin typeface="Times New Roman"/>
              </a:rPr>
              <a:t>n</a:t>
            </a:r>
            <a:r>
              <a:rPr b="1" lang="sr-Latn-CS" sz="2800" spc="-1" strike="noStrike">
                <a:solidFill>
                  <a:srgbClr val="cc0000"/>
                </a:solidFill>
                <a:latin typeface="Times New Roman"/>
              </a:rPr>
              <a:t>)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odnosno binormale </a:t>
            </a:r>
            <a:r>
              <a:rPr b="1" lang="sr-Latn-CS" sz="2800" spc="-1" strike="noStrike">
                <a:solidFill>
                  <a:srgbClr val="cc0000"/>
                </a:solidFill>
                <a:latin typeface="Times New Roman"/>
              </a:rPr>
              <a:t>(T</a:t>
            </a:r>
            <a:r>
              <a:rPr b="1" lang="sr-Latn-CS" sz="2800" spc="-1" strike="noStrike" baseline="-25000">
                <a:solidFill>
                  <a:srgbClr val="cc0000"/>
                </a:solidFill>
                <a:latin typeface="Times New Roman"/>
              </a:rPr>
              <a:t>b</a:t>
            </a:r>
            <a:r>
              <a:rPr b="1" lang="sr-Latn-CS" sz="2800" spc="-1" strike="noStrike">
                <a:solidFill>
                  <a:srgbClr val="cc0000"/>
                </a:solidFill>
                <a:latin typeface="Times New Roman"/>
              </a:rPr>
              <a:t>)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predstavlja zbir algebarskih vrednosti ortogonalnih projekcija svih sila desno od preseka na orijentisani pravac glavne normale odnosno binormale u posmatranoj tački ose nosača, ili zbir algebarskih vrednsoti ortogonalnih projekcija svih sila levo od preseka na suprotno orijentisani prava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0" y="0"/>
            <a:ext cx="9144000" cy="66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 u="sng">
                <a:solidFill>
                  <a:srgbClr val="cc0000"/>
                </a:solidFill>
                <a:uFillTx/>
                <a:latin typeface="Times New Roman"/>
              </a:rPr>
              <a:t>M</a:t>
            </a:r>
            <a:r>
              <a:rPr b="1" lang="sr-Latn-CS" sz="3200" spc="-1" strike="noStrike" u="sng" baseline="-25000">
                <a:solidFill>
                  <a:srgbClr val="cc0000"/>
                </a:solidFill>
                <a:uFillTx/>
                <a:latin typeface="Times New Roman"/>
              </a:rPr>
              <a:t>t</a:t>
            </a:r>
            <a:r>
              <a:rPr b="1" lang="sr-Latn-CS" sz="3200" spc="-1" strike="noStrike" u="sng">
                <a:solidFill>
                  <a:srgbClr val="cc0000"/>
                </a:solidFill>
                <a:uFillTx/>
                <a:latin typeface="Times New Roman"/>
              </a:rPr>
              <a:t>-Torzioni moment-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predstavlja zbir momenata svih sila desno od preseka oko orijentisanog pravca tangente u posmatranoj tački ose nosača, odnosno zbir momenata svih sila levo od preseka oko suprotno orijentisanog pravc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 u="sng">
                <a:solidFill>
                  <a:srgbClr val="cc0000"/>
                </a:solidFill>
                <a:uFillTx/>
                <a:latin typeface="Times New Roman"/>
              </a:rPr>
              <a:t>M</a:t>
            </a:r>
            <a:r>
              <a:rPr b="1" lang="en-US" sz="3200" spc="-1" strike="noStrike" u="sng" baseline="-25000">
                <a:solidFill>
                  <a:srgbClr val="cc0000"/>
                </a:solidFill>
                <a:uFillTx/>
                <a:latin typeface="Times New Roman"/>
              </a:rPr>
              <a:t>n</a:t>
            </a:r>
            <a:r>
              <a:rPr b="1" lang="sr-Latn-CS" sz="3200" spc="-1" strike="noStrike" u="sng">
                <a:solidFill>
                  <a:srgbClr val="cc0000"/>
                </a:solidFill>
                <a:uFillTx/>
                <a:latin typeface="Times New Roman"/>
              </a:rPr>
              <a:t>-</a:t>
            </a:r>
            <a:r>
              <a:rPr b="1" lang="en-US" sz="3200" spc="-1" strike="noStrike" u="sng">
                <a:solidFill>
                  <a:srgbClr val="cc0000"/>
                </a:solidFill>
                <a:uFillTx/>
                <a:latin typeface="Times New Roman"/>
              </a:rPr>
              <a:t>Momenat savijanja oko glavne normale</a:t>
            </a:r>
            <a:r>
              <a:rPr b="1" lang="sr-Latn-CS" sz="3200" spc="-1" strike="noStrike" u="sng">
                <a:solidFill>
                  <a:srgbClr val="cc0000"/>
                </a:solidFill>
                <a:uFillTx/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dnosno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M</a:t>
            </a:r>
            <a:r>
              <a:rPr b="1" lang="en-US" sz="3200" spc="-1" strike="noStrike" baseline="-25000">
                <a:solidFill>
                  <a:srgbClr val="cc0000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-momenat savijanja oko binormal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 posmatranoj ta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i ose nosa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predstavlja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ir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momenata svih sila desno od preseka oko orijentisanog pravca glavne normale odnosno binormale u toj tački ose nosača, ili zbir momenata svih sila levo od preseka oko suprotno orijentisanog pravc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250920" y="260280"/>
            <a:ext cx="8642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Umesto glavne normale i binormale mogu se koristiti bilo koja dva pravca u ravni poprečnog preseka. Jedino se tangenta nosača ne menj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31840" y="1969920"/>
            <a:ext cx="606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00"/>
                </a:solidFill>
                <a:latin typeface="Times New Roman"/>
              </a:rPr>
              <a:t>Konvencija o pozitivnom smeru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1116000" y="3198960"/>
            <a:ext cx="2456640" cy="2264760"/>
            <a:chOff x="1116000" y="3198960"/>
            <a:chExt cx="2456640" cy="2264760"/>
          </a:xfrm>
        </p:grpSpPr>
        <p:sp>
          <p:nvSpPr>
            <p:cNvPr id="335" name=""/>
            <p:cNvSpPr/>
            <p:nvPr/>
          </p:nvSpPr>
          <p:spPr>
            <a:xfrm flipH="1">
              <a:off x="1116000" y="3391200"/>
              <a:ext cx="2456640" cy="2072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268280" y="3198960"/>
              <a:ext cx="692280" cy="84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3803760" y="3160800"/>
            <a:ext cx="2456640" cy="2264760"/>
            <a:chOff x="3803760" y="3160800"/>
            <a:chExt cx="2456640" cy="2264760"/>
          </a:xfrm>
        </p:grpSpPr>
        <p:sp>
          <p:nvSpPr>
            <p:cNvPr id="338" name=""/>
            <p:cNvSpPr/>
            <p:nvPr/>
          </p:nvSpPr>
          <p:spPr>
            <a:xfrm flipH="1">
              <a:off x="3803760" y="3353040"/>
              <a:ext cx="2456640" cy="2072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956040" y="3160800"/>
              <a:ext cx="692280" cy="84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6377040" y="3236760"/>
            <a:ext cx="2456640" cy="2264760"/>
            <a:chOff x="6377040" y="3236760"/>
            <a:chExt cx="2456640" cy="2264760"/>
          </a:xfrm>
        </p:grpSpPr>
        <p:sp>
          <p:nvSpPr>
            <p:cNvPr id="341" name=""/>
            <p:cNvSpPr/>
            <p:nvPr/>
          </p:nvSpPr>
          <p:spPr>
            <a:xfrm flipH="1">
              <a:off x="6377040" y="3429000"/>
              <a:ext cx="2456640" cy="2072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529320" y="3236760"/>
              <a:ext cx="692280" cy="84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1116000" y="4927680"/>
            <a:ext cx="2456640" cy="2264760"/>
            <a:chOff x="1116000" y="4927680"/>
            <a:chExt cx="2456640" cy="2264760"/>
          </a:xfrm>
        </p:grpSpPr>
        <p:sp>
          <p:nvSpPr>
            <p:cNvPr id="344" name=""/>
            <p:cNvSpPr/>
            <p:nvPr/>
          </p:nvSpPr>
          <p:spPr>
            <a:xfrm flipH="1">
              <a:off x="1116000" y="5119920"/>
              <a:ext cx="2456640" cy="2072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268280" y="4927680"/>
              <a:ext cx="692280" cy="84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3957480" y="4965840"/>
            <a:ext cx="2456640" cy="2264760"/>
            <a:chOff x="3957480" y="4965840"/>
            <a:chExt cx="2456640" cy="2264760"/>
          </a:xfrm>
        </p:grpSpPr>
        <p:sp>
          <p:nvSpPr>
            <p:cNvPr id="347" name=""/>
            <p:cNvSpPr/>
            <p:nvPr/>
          </p:nvSpPr>
          <p:spPr>
            <a:xfrm flipH="1">
              <a:off x="3957480" y="5158080"/>
              <a:ext cx="2456640" cy="2072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109760" y="4965840"/>
              <a:ext cx="692280" cy="84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" name=""/>
          <p:cNvGrpSpPr/>
          <p:nvPr/>
        </p:nvGrpSpPr>
        <p:grpSpPr>
          <a:xfrm>
            <a:off x="6338880" y="4965840"/>
            <a:ext cx="2456640" cy="2264760"/>
            <a:chOff x="6338880" y="4965840"/>
            <a:chExt cx="2456640" cy="2264760"/>
          </a:xfrm>
        </p:grpSpPr>
        <p:sp>
          <p:nvSpPr>
            <p:cNvPr id="350" name=""/>
            <p:cNvSpPr/>
            <p:nvPr/>
          </p:nvSpPr>
          <p:spPr>
            <a:xfrm flipH="1">
              <a:off x="6338880" y="5158080"/>
              <a:ext cx="2456640" cy="2072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491160" y="4965840"/>
              <a:ext cx="692280" cy="84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2" name=""/>
          <p:cNvSpPr/>
          <p:nvPr/>
        </p:nvSpPr>
        <p:spPr>
          <a:xfrm flipH="1">
            <a:off x="885960" y="3620520"/>
            <a:ext cx="691920" cy="34596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flipV="1">
            <a:off x="1614600" y="3236760"/>
            <a:ext cx="691920" cy="3463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70000" y="3236760"/>
            <a:ext cx="103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cc"/>
                </a:solidFill>
                <a:latin typeface="Times New Roman"/>
              </a:rPr>
              <a:t>N&gt;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460520" y="2852640"/>
            <a:ext cx="103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Times New Roman"/>
              </a:rPr>
              <a:t>N&gt;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6799320" y="1892160"/>
            <a:ext cx="2456640" cy="2264760"/>
            <a:chOff x="6799320" y="1892160"/>
            <a:chExt cx="2456640" cy="2264760"/>
          </a:xfrm>
        </p:grpSpPr>
        <p:sp>
          <p:nvSpPr>
            <p:cNvPr id="357" name=""/>
            <p:cNvSpPr/>
            <p:nvPr/>
          </p:nvSpPr>
          <p:spPr>
            <a:xfrm flipH="1">
              <a:off x="6799320" y="2084400"/>
              <a:ext cx="2456640" cy="2072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51600" y="1892160"/>
              <a:ext cx="692280" cy="84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"/>
          <p:cNvSpPr/>
          <p:nvPr/>
        </p:nvSpPr>
        <p:spPr>
          <a:xfrm flipV="1">
            <a:off x="7259760" y="1854000"/>
            <a:ext cx="691920" cy="42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259760" y="2238480"/>
            <a:ext cx="345960" cy="42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 flipH="1" flipV="1">
            <a:off x="6684480" y="2122560"/>
            <a:ext cx="614520" cy="154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2" name=""/>
          <p:cNvGraphicFramePr/>
          <p:nvPr/>
        </p:nvGraphicFramePr>
        <p:xfrm>
          <a:off x="7989840" y="1739880"/>
          <a:ext cx="246240" cy="34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89840" y="1739880"/>
                    <a:ext cx="246240" cy="34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4" name=""/>
          <p:cNvGraphicFramePr/>
          <p:nvPr/>
        </p:nvGraphicFramePr>
        <p:xfrm>
          <a:off x="7643880" y="2354400"/>
          <a:ext cx="247680" cy="345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43880" y="2354400"/>
                    <a:ext cx="247680" cy="34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6" name=""/>
          <p:cNvGraphicFramePr/>
          <p:nvPr/>
        </p:nvGraphicFramePr>
        <p:xfrm>
          <a:off x="6384960" y="1854360"/>
          <a:ext cx="263520" cy="407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384960" y="1854360"/>
                    <a:ext cx="2635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8" name=""/>
          <p:cNvSpPr/>
          <p:nvPr/>
        </p:nvSpPr>
        <p:spPr>
          <a:xfrm>
            <a:off x="4264200" y="3429000"/>
            <a:ext cx="461880" cy="6127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flipH="1" flipV="1">
            <a:off x="4071600" y="3466800"/>
            <a:ext cx="461880" cy="57636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33840" y="3352680"/>
            <a:ext cx="1036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Times New Roman"/>
              </a:rPr>
              <a:t>T</a:t>
            </a:r>
            <a:r>
              <a:rPr b="1" lang="sr-Latn-CS" sz="2800" spc="-1" strike="noStrike" baseline="-25000">
                <a:solidFill>
                  <a:srgbClr val="ff3300"/>
                </a:solidFill>
                <a:latin typeface="Times New Roman"/>
              </a:rPr>
              <a:t>n</a:t>
            </a:r>
            <a:r>
              <a:rPr b="1" lang="sr-Latn-CS" sz="2800" spc="-1" strike="noStrike">
                <a:solidFill>
                  <a:srgbClr val="ff3300"/>
                </a:solidFill>
                <a:latin typeface="Times New Roman"/>
              </a:rPr>
              <a:t>&gt;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997360" y="3274920"/>
            <a:ext cx="1036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sr-Latn-CS" sz="2800" spc="-1" strike="noStrike" baseline="-25000">
                <a:solidFill>
                  <a:srgbClr val="0000cc"/>
                </a:solidFill>
                <a:latin typeface="Times New Roman"/>
              </a:rPr>
              <a:t>n</a:t>
            </a:r>
            <a:r>
              <a:rPr b="1" lang="sr-Latn-CS" sz="2800" spc="-1" strike="noStrike">
                <a:solidFill>
                  <a:srgbClr val="0000cc"/>
                </a:solidFill>
                <a:latin typeface="Times New Roman"/>
              </a:rPr>
              <a:t> &gt;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 flipH="1" flipV="1">
            <a:off x="6914880" y="3659040"/>
            <a:ext cx="880920" cy="4622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916600" y="3083040"/>
            <a:ext cx="884160" cy="53640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7491240" y="3467160"/>
            <a:ext cx="1036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Times New Roman"/>
              </a:rPr>
              <a:t>T</a:t>
            </a:r>
            <a:r>
              <a:rPr b="1" lang="sr-Latn-CS" sz="2800" spc="-1" strike="noStrike" baseline="-25000">
                <a:solidFill>
                  <a:srgbClr val="ff3300"/>
                </a:solidFill>
                <a:latin typeface="Times New Roman"/>
              </a:rPr>
              <a:t>b</a:t>
            </a:r>
            <a:r>
              <a:rPr b="1" lang="sr-Latn-CS" sz="2800" spc="-1" strike="noStrike">
                <a:solidFill>
                  <a:srgbClr val="ff3300"/>
                </a:solidFill>
                <a:latin typeface="Times New Roman"/>
              </a:rPr>
              <a:t>&gt;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878440" y="2660760"/>
            <a:ext cx="1036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sr-Latn-CS" sz="2800" spc="-1" strike="noStrike" baseline="-25000">
                <a:solidFill>
                  <a:srgbClr val="0000cc"/>
                </a:solidFill>
                <a:latin typeface="Times New Roman"/>
              </a:rPr>
              <a:t>b</a:t>
            </a:r>
            <a:r>
              <a:rPr b="1" lang="sr-Latn-CS" sz="2800" spc="-1" strike="noStrike">
                <a:solidFill>
                  <a:srgbClr val="0000cc"/>
                </a:solidFill>
                <a:latin typeface="Times New Roman"/>
              </a:rPr>
              <a:t>&gt;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6" name=""/>
          <p:cNvGrpSpPr/>
          <p:nvPr/>
        </p:nvGrpSpPr>
        <p:grpSpPr>
          <a:xfrm>
            <a:off x="1599120" y="4715640"/>
            <a:ext cx="761760" cy="574560"/>
            <a:chOff x="1599120" y="4715640"/>
            <a:chExt cx="761760" cy="574560"/>
          </a:xfrm>
        </p:grpSpPr>
        <p:sp>
          <p:nvSpPr>
            <p:cNvPr id="377" name=""/>
            <p:cNvSpPr/>
            <p:nvPr/>
          </p:nvSpPr>
          <p:spPr>
            <a:xfrm flipV="1">
              <a:off x="1599120" y="4859280"/>
              <a:ext cx="561600" cy="43092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2120760" y="4715640"/>
              <a:ext cx="240120" cy="17928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846000" y="5310360"/>
            <a:ext cx="730080" cy="614160"/>
            <a:chOff x="846000" y="5310360"/>
            <a:chExt cx="730080" cy="614160"/>
          </a:xfrm>
        </p:grpSpPr>
        <p:sp>
          <p:nvSpPr>
            <p:cNvPr id="380" name=""/>
            <p:cNvSpPr/>
            <p:nvPr/>
          </p:nvSpPr>
          <p:spPr>
            <a:xfrm flipH="1">
              <a:off x="1037880" y="5310360"/>
              <a:ext cx="538200" cy="460080"/>
            </a:xfrm>
            <a:prstGeom prst="line">
              <a:avLst/>
            </a:prstGeom>
            <a:ln w="63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 flipH="1">
              <a:off x="846000" y="5732640"/>
              <a:ext cx="230400" cy="191880"/>
            </a:xfrm>
            <a:prstGeom prst="line">
              <a:avLst/>
            </a:prstGeom>
            <a:ln w="63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2" name=""/>
          <p:cNvSpPr/>
          <p:nvPr/>
        </p:nvSpPr>
        <p:spPr>
          <a:xfrm>
            <a:off x="1230480" y="4311720"/>
            <a:ext cx="1036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Times New Roman"/>
              </a:rPr>
              <a:t>M</a:t>
            </a:r>
            <a:r>
              <a:rPr b="1" lang="sr-Latn-CS" sz="2800" spc="-1" strike="noStrike" baseline="-25000">
                <a:solidFill>
                  <a:srgbClr val="ff3300"/>
                </a:solidFill>
                <a:latin typeface="Times New Roman"/>
              </a:rPr>
              <a:t>t</a:t>
            </a:r>
            <a:r>
              <a:rPr b="1" lang="sr-Latn-CS" sz="2800" spc="-1" strike="noStrike">
                <a:solidFill>
                  <a:srgbClr val="ff3300"/>
                </a:solidFill>
                <a:latin typeface="Times New Roman"/>
              </a:rPr>
              <a:t>&gt;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47760" y="5041800"/>
            <a:ext cx="1036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9900ff"/>
                </a:solidFill>
                <a:latin typeface="Times New Roman"/>
              </a:rPr>
              <a:t>M</a:t>
            </a:r>
            <a:r>
              <a:rPr b="1" lang="sr-Latn-CS" sz="2800" spc="-1" strike="noStrike" baseline="-25000">
                <a:solidFill>
                  <a:srgbClr val="9900ff"/>
                </a:solidFill>
                <a:latin typeface="Times New Roman"/>
              </a:rPr>
              <a:t>t</a:t>
            </a:r>
            <a:r>
              <a:rPr b="1" lang="sr-Latn-CS" sz="2800" spc="-1" strike="noStrike">
                <a:solidFill>
                  <a:srgbClr val="9900ff"/>
                </a:solidFill>
                <a:latin typeface="Times New Roman"/>
              </a:rPr>
              <a:t>&gt;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4572000" y="5425920"/>
            <a:ext cx="614160" cy="730080"/>
            <a:chOff x="4572000" y="5425920"/>
            <a:chExt cx="614160" cy="730080"/>
          </a:xfrm>
        </p:grpSpPr>
        <p:sp>
          <p:nvSpPr>
            <p:cNvPr id="385" name=""/>
            <p:cNvSpPr/>
            <p:nvPr/>
          </p:nvSpPr>
          <p:spPr>
            <a:xfrm>
              <a:off x="4572000" y="5425920"/>
              <a:ext cx="460080" cy="53820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994280" y="5925600"/>
              <a:ext cx="191880" cy="23040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" name=""/>
          <p:cNvGrpSpPr/>
          <p:nvPr/>
        </p:nvGrpSpPr>
        <p:grpSpPr>
          <a:xfrm>
            <a:off x="3803760" y="4695480"/>
            <a:ext cx="614160" cy="730080"/>
            <a:chOff x="3803760" y="4695480"/>
            <a:chExt cx="614160" cy="730080"/>
          </a:xfrm>
        </p:grpSpPr>
        <p:sp>
          <p:nvSpPr>
            <p:cNvPr id="388" name=""/>
            <p:cNvSpPr/>
            <p:nvPr/>
          </p:nvSpPr>
          <p:spPr>
            <a:xfrm flipH="1" flipV="1">
              <a:off x="3957840" y="4887720"/>
              <a:ext cx="460080" cy="537840"/>
            </a:xfrm>
            <a:prstGeom prst="line">
              <a:avLst/>
            </a:prstGeom>
            <a:ln w="63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 flipV="1">
              <a:off x="3803760" y="4695480"/>
              <a:ext cx="191880" cy="230040"/>
            </a:xfrm>
            <a:prstGeom prst="line">
              <a:avLst/>
            </a:prstGeom>
            <a:ln w="63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"/>
          <p:cNvSpPr/>
          <p:nvPr/>
        </p:nvSpPr>
        <p:spPr>
          <a:xfrm>
            <a:off x="7491240" y="5234040"/>
            <a:ext cx="1036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Times New Roman"/>
              </a:rPr>
              <a:t>M</a:t>
            </a:r>
            <a:r>
              <a:rPr b="1" lang="sr-Latn-CS" sz="2800" spc="-1" strike="noStrike" baseline="-25000">
                <a:solidFill>
                  <a:srgbClr val="ff3300"/>
                </a:solidFill>
                <a:latin typeface="Times New Roman"/>
              </a:rPr>
              <a:t>b</a:t>
            </a:r>
            <a:r>
              <a:rPr b="1" lang="sr-Latn-CS" sz="2800" spc="-1" strike="noStrike">
                <a:solidFill>
                  <a:srgbClr val="ff3300"/>
                </a:solidFill>
                <a:latin typeface="Times New Roman"/>
              </a:rPr>
              <a:t>&gt;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070680" y="4503600"/>
            <a:ext cx="1036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9900ff"/>
                </a:solidFill>
                <a:latin typeface="Times New Roman"/>
              </a:rPr>
              <a:t>M</a:t>
            </a:r>
            <a:r>
              <a:rPr b="1" lang="sr-Latn-CS" sz="2800" spc="-1" strike="noStrike" baseline="-25000">
                <a:solidFill>
                  <a:srgbClr val="9900ff"/>
                </a:solidFill>
                <a:latin typeface="Times New Roman"/>
              </a:rPr>
              <a:t>b</a:t>
            </a:r>
            <a:r>
              <a:rPr b="1" lang="sr-Latn-CS" sz="2800" spc="-1" strike="noStrike">
                <a:solidFill>
                  <a:srgbClr val="9900ff"/>
                </a:solidFill>
                <a:latin typeface="Times New Roman"/>
              </a:rPr>
              <a:t>&gt;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867720" y="5393160"/>
            <a:ext cx="860760" cy="411120"/>
            <a:chOff x="6867720" y="5393160"/>
            <a:chExt cx="860760" cy="411120"/>
          </a:xfrm>
        </p:grpSpPr>
        <p:sp>
          <p:nvSpPr>
            <p:cNvPr id="393" name=""/>
            <p:cNvSpPr/>
            <p:nvPr/>
          </p:nvSpPr>
          <p:spPr>
            <a:xfrm flipH="1" flipV="1">
              <a:off x="7087320" y="5504760"/>
              <a:ext cx="641160" cy="29952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 flipH="1" flipV="1">
              <a:off x="6867720" y="5393160"/>
              <a:ext cx="269640" cy="13032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5829840" y="4898520"/>
            <a:ext cx="864000" cy="403920"/>
            <a:chOff x="5829840" y="4898520"/>
            <a:chExt cx="864000" cy="403920"/>
          </a:xfrm>
        </p:grpSpPr>
        <p:sp>
          <p:nvSpPr>
            <p:cNvPr id="396" name=""/>
            <p:cNvSpPr/>
            <p:nvPr/>
          </p:nvSpPr>
          <p:spPr>
            <a:xfrm>
              <a:off x="5829840" y="4898520"/>
              <a:ext cx="643680" cy="294840"/>
            </a:xfrm>
            <a:prstGeom prst="line">
              <a:avLst/>
            </a:prstGeom>
            <a:ln w="63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423120" y="5174280"/>
              <a:ext cx="270720" cy="128160"/>
            </a:xfrm>
            <a:prstGeom prst="line">
              <a:avLst/>
            </a:prstGeom>
            <a:ln w="63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8" name=""/>
          <p:cNvSpPr/>
          <p:nvPr/>
        </p:nvSpPr>
        <p:spPr>
          <a:xfrm>
            <a:off x="5148360" y="5425920"/>
            <a:ext cx="1036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Times New Roman"/>
              </a:rPr>
              <a:t>M</a:t>
            </a:r>
            <a:r>
              <a:rPr b="1" lang="sr-Latn-CS" sz="2800" spc="-1" strike="noStrike" baseline="-25000">
                <a:solidFill>
                  <a:srgbClr val="ff3300"/>
                </a:solidFill>
                <a:latin typeface="Times New Roman"/>
              </a:rPr>
              <a:t>n</a:t>
            </a:r>
            <a:r>
              <a:rPr b="1" lang="sr-Latn-CS" sz="2800" spc="-1" strike="noStrike">
                <a:solidFill>
                  <a:srgbClr val="ff3300"/>
                </a:solidFill>
                <a:latin typeface="Times New Roman"/>
              </a:rPr>
              <a:t>&gt;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111560" y="4503600"/>
            <a:ext cx="1036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9900ff"/>
                </a:solidFill>
                <a:latin typeface="Times New Roman"/>
              </a:rPr>
              <a:t>M</a:t>
            </a:r>
            <a:r>
              <a:rPr b="1" lang="sr-Latn-CS" sz="2800" spc="-1" strike="noStrike" baseline="-25000">
                <a:solidFill>
                  <a:srgbClr val="9900ff"/>
                </a:solidFill>
                <a:latin typeface="Times New Roman"/>
              </a:rPr>
              <a:t>n</a:t>
            </a:r>
            <a:r>
              <a:rPr b="1" lang="sr-Latn-CS" sz="2800" spc="-1" strike="noStrike">
                <a:solidFill>
                  <a:srgbClr val="9900ff"/>
                </a:solidFill>
                <a:latin typeface="Times New Roman"/>
              </a:rPr>
              <a:t>&gt;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0" y="1160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00"/>
                </a:solidFill>
                <a:latin typeface="Times New Roman"/>
              </a:rPr>
              <a:t>Uslovi ravnoteže elementa prostornog nosač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423720" y="4888080"/>
            <a:ext cx="8067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3535200" y="1857240"/>
            <a:ext cx="5144040" cy="4584600"/>
            <a:chOff x="3535200" y="1857240"/>
            <a:chExt cx="5144040" cy="4584600"/>
          </a:xfrm>
        </p:grpSpPr>
        <p:graphicFrame>
          <p:nvGraphicFramePr>
            <p:cNvPr id="403" name=""/>
            <p:cNvGraphicFramePr/>
            <p:nvPr/>
          </p:nvGraphicFramePr>
          <p:xfrm>
            <a:off x="5646600" y="1857240"/>
            <a:ext cx="2419560" cy="423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0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646600" y="1857240"/>
                      <a:ext cx="2419560" cy="423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05" name=""/>
            <p:cNvGraphicFramePr/>
            <p:nvPr/>
          </p:nvGraphicFramePr>
          <p:xfrm>
            <a:off x="4263840" y="2928600"/>
            <a:ext cx="854280" cy="5778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0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263840" y="2928600"/>
                      <a:ext cx="854280" cy="577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07" name=""/>
            <p:cNvGraphicFramePr/>
            <p:nvPr/>
          </p:nvGraphicFramePr>
          <p:xfrm>
            <a:off x="3535200" y="3720960"/>
            <a:ext cx="981000" cy="5889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408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535200" y="3720960"/>
                      <a:ext cx="981000" cy="588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09" name=""/>
            <p:cNvSpPr/>
            <p:nvPr/>
          </p:nvSpPr>
          <p:spPr>
            <a:xfrm flipH="1" rot="1111200">
              <a:off x="4822920" y="2900880"/>
              <a:ext cx="3457800" cy="3071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215" y="273"/>
                  </a:moveTo>
                  <a:arcTo wR="10800" hR="10800" stAng="-4624802" swAng="51309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3215" y="273"/>
                  </a:moveTo>
                  <a:arcTo wR="10800" hR="10800" stAng="-4624802" swAng="5130983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0" name=""/>
            <p:cNvGrpSpPr/>
            <p:nvPr/>
          </p:nvGrpSpPr>
          <p:grpSpPr>
            <a:xfrm>
              <a:off x="4109760" y="4119480"/>
              <a:ext cx="730080" cy="614160"/>
              <a:chOff x="4109760" y="4119480"/>
              <a:chExt cx="730080" cy="614160"/>
            </a:xfrm>
          </p:grpSpPr>
          <p:sp>
            <p:nvSpPr>
              <p:cNvPr id="411" name=""/>
              <p:cNvSpPr/>
              <p:nvPr/>
            </p:nvSpPr>
            <p:spPr>
              <a:xfrm flipH="1">
                <a:off x="4302000" y="4119480"/>
                <a:ext cx="537840" cy="460080"/>
              </a:xfrm>
              <a:prstGeom prst="line">
                <a:avLst/>
              </a:prstGeom>
              <a:ln w="63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 flipH="1">
                <a:off x="4109760" y="4541760"/>
                <a:ext cx="230040" cy="191880"/>
              </a:xfrm>
              <a:prstGeom prst="line">
                <a:avLst/>
              </a:prstGeom>
              <a:ln w="63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3" name=""/>
            <p:cNvSpPr/>
            <p:nvPr/>
          </p:nvSpPr>
          <p:spPr>
            <a:xfrm flipH="1" flipV="1">
              <a:off x="4379400" y="3504600"/>
              <a:ext cx="461880" cy="5763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4" name=""/>
            <p:cNvGrpSpPr/>
            <p:nvPr/>
          </p:nvGrpSpPr>
          <p:grpSpPr>
            <a:xfrm>
              <a:off x="6645600" y="2276280"/>
              <a:ext cx="730080" cy="614160"/>
              <a:chOff x="6645600" y="2276280"/>
              <a:chExt cx="730080" cy="614160"/>
            </a:xfrm>
          </p:grpSpPr>
          <p:sp>
            <p:nvSpPr>
              <p:cNvPr id="415" name=""/>
              <p:cNvSpPr/>
              <p:nvPr/>
            </p:nvSpPr>
            <p:spPr>
              <a:xfrm flipV="1">
                <a:off x="6645600" y="2430360"/>
                <a:ext cx="537840" cy="460080"/>
              </a:xfrm>
              <a:prstGeom prst="line">
                <a:avLst/>
              </a:prstGeom>
              <a:ln w="63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flipV="1">
                <a:off x="7145640" y="2276280"/>
                <a:ext cx="230040" cy="191880"/>
              </a:xfrm>
              <a:prstGeom prst="line">
                <a:avLst/>
              </a:prstGeom>
              <a:ln w="63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7" name=""/>
            <p:cNvSpPr/>
            <p:nvPr/>
          </p:nvSpPr>
          <p:spPr>
            <a:xfrm>
              <a:off x="6644520" y="2889000"/>
              <a:ext cx="576360" cy="461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108400" y="2544480"/>
              <a:ext cx="538200" cy="538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9" name=""/>
            <p:cNvGrpSpPr/>
            <p:nvPr/>
          </p:nvGrpSpPr>
          <p:grpSpPr>
            <a:xfrm>
              <a:off x="5646600" y="3083040"/>
              <a:ext cx="614160" cy="730080"/>
              <a:chOff x="5646600" y="3083040"/>
              <a:chExt cx="614160" cy="730080"/>
            </a:xfrm>
          </p:grpSpPr>
          <p:sp>
            <p:nvSpPr>
              <p:cNvPr id="420" name=""/>
              <p:cNvSpPr/>
              <p:nvPr/>
            </p:nvSpPr>
            <p:spPr>
              <a:xfrm>
                <a:off x="5646600" y="3083040"/>
                <a:ext cx="460080" cy="5378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6068880" y="3583080"/>
                <a:ext cx="191880" cy="230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2" name=""/>
            <p:cNvSpPr/>
            <p:nvPr/>
          </p:nvSpPr>
          <p:spPr>
            <a:xfrm>
              <a:off x="4956120" y="4197240"/>
              <a:ext cx="652320" cy="806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723000" y="3044520"/>
              <a:ext cx="806400" cy="88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 flipV="1">
              <a:off x="5532480" y="3504600"/>
              <a:ext cx="1573200" cy="1382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425" name=""/>
            <p:cNvGraphicFramePr/>
            <p:nvPr/>
          </p:nvGraphicFramePr>
          <p:xfrm>
            <a:off x="6761160" y="2784240"/>
            <a:ext cx="1805040" cy="3589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426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761160" y="2784240"/>
                      <a:ext cx="1805040" cy="358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27" name=""/>
            <p:cNvGraphicFramePr/>
            <p:nvPr/>
          </p:nvGraphicFramePr>
          <p:xfrm>
            <a:off x="5300640" y="2352600"/>
            <a:ext cx="823680" cy="4222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428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300640" y="2352600"/>
                      <a:ext cx="823680" cy="422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29" name=""/>
            <p:cNvGraphicFramePr/>
            <p:nvPr/>
          </p:nvGraphicFramePr>
          <p:xfrm>
            <a:off x="5916600" y="3020760"/>
            <a:ext cx="806400" cy="3920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430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5916600" y="3020760"/>
                      <a:ext cx="806400" cy="392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31" name=""/>
            <p:cNvSpPr/>
            <p:nvPr/>
          </p:nvSpPr>
          <p:spPr>
            <a:xfrm>
              <a:off x="5378400" y="3159000"/>
              <a:ext cx="422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 rot="19092600">
              <a:off x="5762880" y="3734640"/>
              <a:ext cx="576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d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917960" y="3735000"/>
              <a:ext cx="422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261120" y="2392200"/>
              <a:ext cx="536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5" name=""/>
          <p:cNvGrpSpPr/>
          <p:nvPr/>
        </p:nvGrpSpPr>
        <p:grpSpPr>
          <a:xfrm>
            <a:off x="385920" y="2338560"/>
            <a:ext cx="3801600" cy="3590640"/>
            <a:chOff x="385920" y="2338560"/>
            <a:chExt cx="3801600" cy="3590640"/>
          </a:xfrm>
        </p:grpSpPr>
        <p:sp>
          <p:nvSpPr>
            <p:cNvPr id="436" name=""/>
            <p:cNvSpPr/>
            <p:nvPr/>
          </p:nvSpPr>
          <p:spPr>
            <a:xfrm flipH="1">
              <a:off x="729360" y="2858040"/>
              <a:ext cx="3457800" cy="3071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215" y="273"/>
                  </a:moveTo>
                  <a:arcTo wR="10800" hR="10800" stAng="-4624802" swAng="51309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3215" y="273"/>
                  </a:moveTo>
                  <a:arcTo wR="10800" hR="10800" stAng="-4624802" swAng="5130983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808200" y="3241440"/>
              <a:ext cx="191880" cy="84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 flipV="1">
              <a:off x="808200" y="3011400"/>
              <a:ext cx="230040" cy="22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 flipH="1">
              <a:off x="807840" y="4085280"/>
              <a:ext cx="191880" cy="19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 flipV="1">
              <a:off x="1154160" y="3260520"/>
              <a:ext cx="422280" cy="42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 flipV="1">
              <a:off x="961920" y="2895480"/>
              <a:ext cx="422280" cy="42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961920" y="3319200"/>
              <a:ext cx="0" cy="30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076400" y="3203280"/>
              <a:ext cx="0" cy="26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230480" y="3051000"/>
              <a:ext cx="0" cy="26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384200" y="2895480"/>
              <a:ext cx="0" cy="30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 flipH="1">
              <a:off x="1115280" y="3319200"/>
              <a:ext cx="1996920" cy="2225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452" y="20"/>
                  </a:moveTo>
                  <a:arcTo wR="10800" hR="10800" stAng="-5192272" swAng="5192272"/>
                  <a:lnTo>
                    <a:pt x="10800" y="10800"/>
                  </a:lnTo>
                  <a:close/>
                </a:path>
                <a:path fill="none" w="21600" h="21600">
                  <a:moveTo>
                    <a:pt x="11452" y="20"/>
                  </a:moveTo>
                  <a:arcTo wR="10800" hR="10800" stAng="-5192272" swAng="5192272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076400" y="3433680"/>
              <a:ext cx="538200" cy="42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344600" y="3165480"/>
              <a:ext cx="538200" cy="42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384200" y="3511440"/>
              <a:ext cx="0" cy="30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90560" y="3279600"/>
              <a:ext cx="0" cy="30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230480" y="3989160"/>
              <a:ext cx="460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576440" y="3471840"/>
              <a:ext cx="690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2800" spc="-1" strike="noStrike">
                  <a:solidFill>
                    <a:srgbClr val="000000"/>
                  </a:solidFill>
                  <a:latin typeface="Times New Roman"/>
                </a:rPr>
                <a:t>d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85920" y="2358720"/>
              <a:ext cx="498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077840" y="2338560"/>
              <a:ext cx="498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55" name=""/>
            <p:cNvCxnSpPr>
              <a:stCxn id="447" idx="0"/>
              <a:endCxn id="453" idx="2"/>
            </p:cNvCxnSpPr>
            <p:nvPr/>
          </p:nvCxnSpPr>
          <p:spPr>
            <a:xfrm flipH="1" flipV="1">
              <a:off x="634680" y="2877120"/>
              <a:ext cx="442080" cy="55620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</a:ln>
          </p:spPr>
        </p:cxnSp>
        <p:cxnSp>
          <p:nvCxnSpPr>
            <p:cNvPr id="456" name=""/>
            <p:cNvCxnSpPr>
              <a:stCxn id="448" idx="0"/>
              <a:endCxn id="454" idx="2"/>
            </p:cNvCxnSpPr>
            <p:nvPr/>
          </p:nvCxnSpPr>
          <p:spPr>
            <a:xfrm flipH="1" flipV="1">
              <a:off x="1326960" y="2856600"/>
              <a:ext cx="18000" cy="30852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</a:ln>
          </p:spPr>
        </p:cxnSp>
        <p:grpSp>
          <p:nvGrpSpPr>
            <p:cNvPr id="457" name=""/>
            <p:cNvGrpSpPr/>
            <p:nvPr/>
          </p:nvGrpSpPr>
          <p:grpSpPr>
            <a:xfrm>
              <a:off x="961920" y="3606480"/>
              <a:ext cx="191880" cy="75600"/>
              <a:chOff x="961920" y="3606480"/>
              <a:chExt cx="191880" cy="75600"/>
            </a:xfrm>
          </p:grpSpPr>
          <p:sp>
            <p:nvSpPr>
              <p:cNvPr id="458" name=""/>
              <p:cNvSpPr/>
              <p:nvPr/>
            </p:nvSpPr>
            <p:spPr>
              <a:xfrm>
                <a:off x="961920" y="3623400"/>
                <a:ext cx="191880" cy="58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961920" y="3606480"/>
                <a:ext cx="115560" cy="58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0" name=""/>
            <p:cNvGrpSpPr/>
            <p:nvPr/>
          </p:nvGrpSpPr>
          <p:grpSpPr>
            <a:xfrm>
              <a:off x="1116000" y="3452760"/>
              <a:ext cx="191880" cy="75240"/>
              <a:chOff x="1116000" y="3452760"/>
              <a:chExt cx="191880" cy="75240"/>
            </a:xfrm>
          </p:grpSpPr>
          <p:sp>
            <p:nvSpPr>
              <p:cNvPr id="461" name=""/>
              <p:cNvSpPr/>
              <p:nvPr/>
            </p:nvSpPr>
            <p:spPr>
              <a:xfrm>
                <a:off x="1116000" y="3469680"/>
                <a:ext cx="191880" cy="58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1116000" y="3452760"/>
                <a:ext cx="115560" cy="57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3" name=""/>
            <p:cNvGrpSpPr/>
            <p:nvPr/>
          </p:nvGrpSpPr>
          <p:grpSpPr>
            <a:xfrm>
              <a:off x="1268280" y="3298680"/>
              <a:ext cx="191880" cy="75600"/>
              <a:chOff x="1268280" y="3298680"/>
              <a:chExt cx="191880" cy="75600"/>
            </a:xfrm>
          </p:grpSpPr>
          <p:sp>
            <p:nvSpPr>
              <p:cNvPr id="464" name=""/>
              <p:cNvSpPr/>
              <p:nvPr/>
            </p:nvSpPr>
            <p:spPr>
              <a:xfrm>
                <a:off x="1268280" y="3315600"/>
                <a:ext cx="191880" cy="58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1268280" y="3298680"/>
                <a:ext cx="115560" cy="58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6" name=""/>
            <p:cNvGrpSpPr/>
            <p:nvPr/>
          </p:nvGrpSpPr>
          <p:grpSpPr>
            <a:xfrm>
              <a:off x="1384200" y="3182760"/>
              <a:ext cx="191880" cy="75600"/>
              <a:chOff x="1384200" y="3182760"/>
              <a:chExt cx="191880" cy="75600"/>
            </a:xfrm>
          </p:grpSpPr>
          <p:sp>
            <p:nvSpPr>
              <p:cNvPr id="467" name=""/>
              <p:cNvSpPr/>
              <p:nvPr/>
            </p:nvSpPr>
            <p:spPr>
              <a:xfrm>
                <a:off x="1384200" y="3199680"/>
                <a:ext cx="191880" cy="58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1384200" y="3182760"/>
                <a:ext cx="115560" cy="58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aphicFrame>
          <p:nvGraphicFramePr>
            <p:cNvPr id="469" name=""/>
            <p:cNvGraphicFramePr/>
            <p:nvPr/>
          </p:nvGraphicFramePr>
          <p:xfrm>
            <a:off x="1576440" y="2952720"/>
            <a:ext cx="357120" cy="38376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470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576440" y="2952720"/>
                      <a:ext cx="357120" cy="383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71" name=""/>
            <p:cNvGraphicFramePr/>
            <p:nvPr/>
          </p:nvGraphicFramePr>
          <p:xfrm>
            <a:off x="966960" y="2646360"/>
            <a:ext cx="287280" cy="45972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472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966960" y="2646360"/>
                      <a:ext cx="287280" cy="459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73" name=""/>
          <p:cNvSpPr/>
          <p:nvPr/>
        </p:nvSpPr>
        <p:spPr>
          <a:xfrm>
            <a:off x="0" y="1795320"/>
            <a:ext cx="395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Nosač je u ravnotež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4" name=""/>
          <p:cNvGraphicFramePr/>
          <p:nvPr/>
        </p:nvGraphicFramePr>
        <p:xfrm>
          <a:off x="6222960" y="4608360"/>
          <a:ext cx="2921040" cy="7020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475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222960" y="4608360"/>
                    <a:ext cx="2921040" cy="7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6" name=""/>
          <p:cNvSpPr/>
          <p:nvPr/>
        </p:nvSpPr>
        <p:spPr>
          <a:xfrm>
            <a:off x="0" y="4619520"/>
            <a:ext cx="464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Uslovi ravnoteže nosača s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7" name=""/>
          <p:cNvGraphicFramePr/>
          <p:nvPr/>
        </p:nvGraphicFramePr>
        <p:xfrm>
          <a:off x="0" y="5157720"/>
          <a:ext cx="2421000" cy="14893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478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0" y="5157720"/>
                    <a:ext cx="2421000" cy="14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9" name=""/>
          <p:cNvGraphicFramePr/>
          <p:nvPr/>
        </p:nvGraphicFramePr>
        <p:xfrm>
          <a:off x="0" y="0"/>
          <a:ext cx="7107120" cy="11556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480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0" y="0"/>
                    <a:ext cx="7107120" cy="115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2T23:18:18Z</dcterms:created>
  <dc:creator>Natasa Trisovic</dc:creator>
  <dc:description/>
  <dc:language>en-US</dc:language>
  <cp:lastModifiedBy>Sumarac</cp:lastModifiedBy>
  <dcterms:modified xsi:type="dcterms:W3CDTF">2007-03-24T23:25:26Z</dcterms:modified>
  <cp:revision>557</cp:revision>
  <dc:subject/>
  <dc:title>Slide 1</dc:title>
</cp:coreProperties>
</file>