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691-9919-4F09-89D6-76261F20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1F9-0F97-4940-BCAA-2C5D86B2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A3E-8150-4FC1-BA22-D2448D2C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DD4-3082-49CF-A7A1-2A6FD062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FC97-637C-4528-A180-44AD759E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F19D-AB86-4E01-8B8B-7963BC2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5AE4-7408-4C72-A2CE-2081EC93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883E-19F2-4C1F-B54F-E3EDEAC6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65ED-1C74-420A-B2ED-5E6CBB03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70F6-E82A-4872-9C80-D4A83BE7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F317-1C3A-48C8-A8B9-B1E4288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E5B-AED1-4462-BE57-76E15DCD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0796-CEDE-4CF7-B065-6BFDA8D2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7415-7965-45D3-B757-5E9CF81A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C2D9-D943-4850-9F6D-C45D3524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3D63-268B-45FE-906E-4ED4143E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6727-5836-4ADF-BE34-8DFA801F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3DA-CA37-4852-B450-6E8AE686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9DF-4AE1-41BF-A7C5-D039D115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CDA-1159-4C51-B06F-47FFF8A0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76F-04EC-465E-8072-AE47035F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388-B739-417F-80F0-948825E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62F-92F3-45B0-8544-AAEDCB1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4A6-EBA6-4FCD-8A67-40926E6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1DCE-4847-44EC-AD40-0C05FD7E0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D78F-E4C5-4EE3-8F7A-3DD5AFF5D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191120" y="1589040"/>
            <a:ext cx="4800600" cy="458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440" y="3471840"/>
            <a:ext cx="4192560" cy="2281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93384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VIRTUELNI  RAD  SILA  U  SISTEMU  MATEIJALNIH T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KA  I  NA  KRUTOM   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43080" y="9907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e na virtuelnom pomeranju  njene napadn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6"/>
          <p:cNvCxnSpPr/>
          <p:nvPr/>
        </p:nvCxnSpPr>
        <p:spPr>
          <a:xfrm flipV="1">
            <a:off x="952200" y="194292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501480" cy="6174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9"/>
          <p:cNvCxnSpPr/>
          <p:nvPr/>
        </p:nvCxnSpPr>
        <p:spPr>
          <a:xfrm flipV="1">
            <a:off x="952200" y="2666160"/>
            <a:ext cx="1220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2171880"/>
            <a:ext cx="6480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1"/>
          <p:cNvCxnSpPr/>
          <p:nvPr/>
        </p:nvCxnSpPr>
        <p:spPr>
          <a:xfrm flipV="1">
            <a:off x="2133360" y="163800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84440" y="1333440"/>
            <a:ext cx="501840" cy="617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72080" y="1828800"/>
            <a:ext cx="3309840" cy="571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4"/>
          <p:cNvSpPr/>
          <p:nvPr/>
        </p:nvSpPr>
        <p:spPr>
          <a:xfrm>
            <a:off x="343080" y="312408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i rad sile jednak je proizvodu sile i virtuelnog pomeranja u pravcu s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43080" y="420048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a na sistemu materijalnih tača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1371600" y="518148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400480" y="598176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3505320" y="521964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87624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247840" y="60580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369576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23"/>
          <p:cNvSpPr/>
          <p:nvPr/>
        </p:nvSpPr>
        <p:spPr>
          <a:xfrm>
            <a:off x="1467720" y="527832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1486080" y="523872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27"/>
          <p:cNvSpPr/>
          <p:nvPr/>
        </p:nvSpPr>
        <p:spPr>
          <a:xfrm flipV="1">
            <a:off x="2514600" y="52765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9"/>
          <p:cNvCxnSpPr>
            <a:stCxn id="225" idx="7"/>
          </p:cNvCxnSpPr>
          <p:nvPr/>
        </p:nvCxnSpPr>
        <p:spPr>
          <a:xfrm flipV="1">
            <a:off x="3601080" y="46861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31"/>
          <p:cNvCxnSpPr>
            <a:stCxn id="225" idx="4"/>
          </p:cNvCxnSpPr>
          <p:nvPr/>
        </p:nvCxnSpPr>
        <p:spPr>
          <a:xfrm>
            <a:off x="3562200" y="533376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962520" y="453384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301920" y="5415120"/>
            <a:ext cx="368280" cy="490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448160" y="4724280"/>
            <a:ext cx="4695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457880" y="5745240"/>
            <a:ext cx="3039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304920" y="190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)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d sila na krutom tel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5"/>
          <p:cNvCxnSpPr/>
          <p:nvPr/>
        </p:nvCxnSpPr>
        <p:spPr>
          <a:xfrm flipH="1">
            <a:off x="608760" y="259092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V="1">
            <a:off x="1447560" y="2552400"/>
            <a:ext cx="15627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 flipH="1" flipV="1">
            <a:off x="1409400" y="913680"/>
            <a:ext cx="388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0"/>
          <p:cNvSpPr/>
          <p:nvPr/>
        </p:nvSpPr>
        <p:spPr>
          <a:xfrm>
            <a:off x="4190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278136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28880" y="647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990720" y="800280"/>
            <a:ext cx="175248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828800" y="2286000"/>
            <a:ext cx="1522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562040" y="2819520"/>
            <a:ext cx="15264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2362320" y="167652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1714680" y="125748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Straight Arrow Connector 19"/>
          <p:cNvCxnSpPr>
            <a:endCxn id="246" idx="3"/>
          </p:cNvCxnSpPr>
          <p:nvPr/>
        </p:nvCxnSpPr>
        <p:spPr>
          <a:xfrm flipV="1">
            <a:off x="1447920" y="2382480"/>
            <a:ext cx="4039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19040" cy="62856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2"/>
          <p:cNvCxnSpPr>
            <a:stCxn id="246" idx="4"/>
            <a:endCxn id="247" idx="0"/>
          </p:cNvCxnSpPr>
          <p:nvPr/>
        </p:nvCxnSpPr>
        <p:spPr>
          <a:xfrm flipH="1">
            <a:off x="1638000" y="2400480"/>
            <a:ext cx="2671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817640" y="2343240"/>
            <a:ext cx="430200" cy="5522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4"/>
          <p:cNvCxnSpPr>
            <a:endCxn id="248" idx="3"/>
          </p:cNvCxnSpPr>
          <p:nvPr/>
        </p:nvCxnSpPr>
        <p:spPr>
          <a:xfrm flipV="1">
            <a:off x="1942200" y="1773000"/>
            <a:ext cx="4417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7"/>
          <p:cNvCxnSpPr/>
          <p:nvPr/>
        </p:nvCxnSpPr>
        <p:spPr>
          <a:xfrm>
            <a:off x="1600200" y="293328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29"/>
          <p:cNvSpPr/>
          <p:nvPr/>
        </p:nvSpPr>
        <p:spPr>
          <a:xfrm>
            <a:off x="1143000" y="25909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14600" y="2998800"/>
            <a:ext cx="399960" cy="614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1"/>
          <p:cNvSpPr/>
          <p:nvPr/>
        </p:nvSpPr>
        <p:spPr>
          <a:xfrm>
            <a:off x="2247840" y="110484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1676520" y="6094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738440" y="1676520"/>
            <a:ext cx="460080" cy="55224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34"/>
          <p:cNvCxnSpPr/>
          <p:nvPr/>
        </p:nvCxnSpPr>
        <p:spPr>
          <a:xfrm>
            <a:off x="2476440" y="175212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728800" y="1366920"/>
            <a:ext cx="430200" cy="614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163600" y="647640"/>
            <a:ext cx="492120" cy="6145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7"/>
          <p:cNvCxnSpPr/>
          <p:nvPr/>
        </p:nvCxnSpPr>
        <p:spPr>
          <a:xfrm flipV="1">
            <a:off x="1866600" y="1256760"/>
            <a:ext cx="7628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39"/>
          <p:cNvCxnSpPr>
            <a:endCxn id="249" idx="5"/>
          </p:cNvCxnSpPr>
          <p:nvPr/>
        </p:nvCxnSpPr>
        <p:spPr>
          <a:xfrm flipH="1" flipV="1">
            <a:off x="1844280" y="1353240"/>
            <a:ext cx="99360" cy="9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414440" y="1371600"/>
            <a:ext cx="522360" cy="552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3"/>
          <p:cNvSpPr/>
          <p:nvPr/>
        </p:nvSpPr>
        <p:spPr>
          <a:xfrm>
            <a:off x="19810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505320" y="838080"/>
            <a:ext cx="258264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409920" y="1295280"/>
            <a:ext cx="2697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3322800" y="1866960"/>
            <a:ext cx="283356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3022560" y="2689200"/>
            <a:ext cx="35416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17680" y="3581280"/>
            <a:ext cx="5578200" cy="93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95360" y="4572000"/>
            <a:ext cx="28810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0"/>
          <p:cNvSpPr/>
          <p:nvPr/>
        </p:nvSpPr>
        <p:spPr>
          <a:xfrm>
            <a:off x="45720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 RAVAN,  ako A→S im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571680" y="5986440"/>
            <a:ext cx="4400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028880" y="304920"/>
            <a:ext cx="68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NCIP VIRTUELNIH RADO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4"/>
          <p:cNvSpPr/>
          <p:nvPr/>
        </p:nvSpPr>
        <p:spPr>
          <a:xfrm>
            <a:off x="1371600" y="15620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2400480" y="236232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350532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87624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247840" y="24382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69576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1467720" y="165888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1486080" y="161928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2514600" y="165744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13"/>
          <p:cNvCxnSpPr>
            <a:stCxn id="279" idx="7"/>
          </p:cNvCxnSpPr>
          <p:nvPr/>
        </p:nvCxnSpPr>
        <p:spPr>
          <a:xfrm flipV="1">
            <a:off x="3601080" y="10663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>
            <a:stCxn id="279" idx="4"/>
          </p:cNvCxnSpPr>
          <p:nvPr/>
        </p:nvCxnSpPr>
        <p:spPr>
          <a:xfrm>
            <a:off x="3562200" y="171432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01920" y="1795320"/>
            <a:ext cx="368280" cy="490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7"/>
          <p:cNvSpPr/>
          <p:nvPr/>
        </p:nvSpPr>
        <p:spPr>
          <a:xfrm>
            <a:off x="4267080" y="95256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mo sistem materijalnih tačaka koji je u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vnotež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t.j. sile koje deluju na svaku pojedinu tačku u sistemu zadovoljavaju uslove ravnotež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23960" y="3695760"/>
            <a:ext cx="31352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90480" y="4457880"/>
            <a:ext cx="331020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3320" y="5257800"/>
            <a:ext cx="357192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922320" y="5832360"/>
            <a:ext cx="3021120" cy="9874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20"/>
          <p:cNvCxnSpPr/>
          <p:nvPr/>
        </p:nvCxnSpPr>
        <p:spPr>
          <a:xfrm flipV="1">
            <a:off x="1409400" y="140904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538280" y="1014480"/>
            <a:ext cx="4176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3"/>
          <p:cNvCxnSpPr>
            <a:stCxn id="279" idx="5"/>
          </p:cNvCxnSpPr>
          <p:nvPr/>
        </p:nvCxnSpPr>
        <p:spPr>
          <a:xfrm>
            <a:off x="3602160" y="1697040"/>
            <a:ext cx="513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608280" y="2492280"/>
            <a:ext cx="44316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Arc 29"/>
          <p:cNvSpPr/>
          <p:nvPr/>
        </p:nvSpPr>
        <p:spPr>
          <a:xfrm flipH="1">
            <a:off x="1104120" y="1562040"/>
            <a:ext cx="11811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30"/>
          <p:cNvSpPr/>
          <p:nvPr/>
        </p:nvSpPr>
        <p:spPr>
          <a:xfrm>
            <a:off x="2552760" y="1486080"/>
            <a:ext cx="11048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92680" cy="987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4191120" y="2239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 VIRTUELNIH RA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28600" y="1066680"/>
            <a:ext cx="872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RINCIP VIRTUELNIH RADOVA (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ALAMBEROV PRINCIP)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se sitem materijalnih tačaka nalazi pod mehaničkim uticajem nekog ravnotežnog sistema aktivnih sila i reakcija veza, tada je zbir radova tih aktivnih sila i reakcija veza na virtuelnim pomeranjima njihovih napadnih tačaka jednak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28600" y="387504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ISTEM SA IDEALNIM VEZAMA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je sitem sa idealnim vezama, zbir radova reakcija veza na virtuelnim pomeranjima takvog sistema jednak je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5489640"/>
            <a:ext cx="2120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4"/>
          <p:cNvSpPr/>
          <p:nvPr/>
        </p:nvSpPr>
        <p:spPr>
          <a:xfrm>
            <a:off x="228600" y="38160"/>
            <a:ext cx="872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stavlja sitem materijalnih tačaka sa idealnim vezama, jer unutrašnje sile (reakcije unutrašnjih veza) između materijalnih tačaka u sastavu krutog tela ne vrše rad na virtuelnim pomeranjima krutog tela. Isto važi i za spšoljašnje reakcije v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28600" y="217332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ŠTA JEDNAČINA STAT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19040" y="2781360"/>
            <a:ext cx="209232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380880" y="38876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se sistem materijalnih tačaka, čije su veze idealne, nalazi pod uticajem nekog ravnotežnog sistema sila, tada je zbir radova aktivnih sila na virtuelnim pomeranjima tačaka tog sistema jednak nul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871640"/>
            <a:ext cx="7543800" cy="4896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90440" y="39600"/>
            <a:ext cx="8953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ZADAT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30 %, SEPTEMBAR 2006.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enom principa virtuelnih radova odrediti, za nosač i opterecenje prikazane na slici pod d), reakcije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moment 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190440" y="39600"/>
            <a:ext cx="89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200" y="2552760"/>
            <a:ext cx="4880160" cy="2324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91040" y="2400480"/>
            <a:ext cx="3152880" cy="3031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6560" y="2324160"/>
            <a:ext cx="415800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81560" cy="2921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70160"/>
            <a:ext cx="914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30:07Z</dcterms:modified>
  <cp:revision>773</cp:revision>
  <dc:subject/>
  <dc:title>Slide 1</dc:title>
</cp:coreProperties>
</file>