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2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BDB5-807F-4D87-B511-535C180A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46F8-CD9E-4233-9C97-5FE3C695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C93-EEFD-48D6-AEDC-CA21F10B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DC0-4C57-452C-A2C2-D10D8EE0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6ACA-8F38-4E02-B11E-6CC4B3ED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1DBF-F321-485B-9A9E-F733D50F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EDFF-F8F2-428E-AC06-EA5A6FC0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E542-7A35-49EF-9736-1E8E87D9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CBB9-F9E8-4B86-B12A-6EB033F2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4CD1-310E-42B4-85FF-C0CFA7A2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C407-2560-45FD-AE41-919E837E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458-2766-4A5F-8A4B-AAAA5907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C2B3-049F-4B33-A1F4-59565402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B026-CBA5-4C83-AB4E-C5BBE965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407D-6440-4F47-B3FF-98D11010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1B9D-7B14-445C-AEA5-4273B27C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066F-76AD-4888-B6F0-477E719F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F0D-2FBA-40A9-84D5-71421914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AED-D3A1-4C4B-9903-08459A36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678-5A09-44D4-BFDA-34AB70CC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7EE-605E-4696-B0AC-4C26E516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A91-BDF8-474E-8513-15D8CAE3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B4C-FA03-4159-BA93-BBB6A578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AD19-E8AC-483A-A0D6-5EB6B265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700C-7479-4373-B94B-F0B5A486C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46FE-7564-41E2-A160-B580E9BC9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17160" y="0"/>
            <a:ext cx="746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 RAVNOTE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Ž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nalitički uslovi ravnotež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istema sil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zajedničkom napadnom tač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50920" y="1244520"/>
                <a:ext cx="8642160" cy="534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-10800" y="0"/>
            <a:ext cx="861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rafički uslov ravnotež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istema sil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zajedničkom napadnom tačk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Ako je sistem sila sa zajedničkom napad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tačkom u ravnoteži onda 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ligon sila zatv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256000" y="2978280"/>
            <a:ext cx="1386360" cy="1337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90080" y="2745000"/>
            <a:ext cx="1506600" cy="2609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5269680" y="4272120"/>
            <a:ext cx="2164680" cy="107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20720" y="270828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212040" y="2494080"/>
            <a:ext cx="2165040" cy="107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366640" y="2248200"/>
            <a:ext cx="1386360" cy="13377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399760" y="3285000"/>
            <a:ext cx="2237760" cy="28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893880" y="3537360"/>
            <a:ext cx="1507320" cy="2609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85800" y="4941720"/>
            <a:ext cx="548640" cy="675720"/>
            <a:chOff x="685800" y="4941720"/>
            <a:chExt cx="548640" cy="675720"/>
          </a:xfrm>
        </p:grpSpPr>
        <p:grpSp>
          <p:nvGrpSpPr>
            <p:cNvPr id="565" name=""/>
            <p:cNvGrpSpPr/>
            <p:nvPr/>
          </p:nvGrpSpPr>
          <p:grpSpPr>
            <a:xfrm>
              <a:off x="685800" y="4941720"/>
              <a:ext cx="452160" cy="581400"/>
              <a:chOff x="685800" y="4941720"/>
              <a:chExt cx="452160" cy="581400"/>
            </a:xfrm>
          </p:grpSpPr>
          <p:sp>
            <p:nvSpPr>
              <p:cNvPr id="566" name=""/>
              <p:cNvSpPr/>
              <p:nvPr/>
            </p:nvSpPr>
            <p:spPr>
              <a:xfrm>
                <a:off x="685800" y="49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900000" y="501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901440" y="51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12720" y="2133720"/>
            <a:ext cx="548640" cy="675360"/>
            <a:chOff x="612720" y="2133720"/>
            <a:chExt cx="548640" cy="675360"/>
          </a:xfrm>
        </p:grpSpPr>
        <p:grpSp>
          <p:nvGrpSpPr>
            <p:cNvPr id="570" name=""/>
            <p:cNvGrpSpPr/>
            <p:nvPr/>
          </p:nvGrpSpPr>
          <p:grpSpPr>
            <a:xfrm>
              <a:off x="612720" y="2133720"/>
              <a:ext cx="452160" cy="581400"/>
              <a:chOff x="612720" y="2133720"/>
              <a:chExt cx="452160" cy="581400"/>
            </a:xfrm>
          </p:grpSpPr>
          <p:sp>
            <p:nvSpPr>
              <p:cNvPr id="571" name=""/>
              <p:cNvSpPr/>
              <p:nvPr/>
            </p:nvSpPr>
            <p:spPr>
              <a:xfrm>
                <a:off x="61272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26920" y="2204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828360" y="234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702160" y="2133720"/>
            <a:ext cx="549000" cy="675360"/>
            <a:chOff x="2702160" y="2133720"/>
            <a:chExt cx="549000" cy="675360"/>
          </a:xfrm>
        </p:grpSpPr>
        <p:grpSp>
          <p:nvGrpSpPr>
            <p:cNvPr id="575" name=""/>
            <p:cNvGrpSpPr/>
            <p:nvPr/>
          </p:nvGrpSpPr>
          <p:grpSpPr>
            <a:xfrm>
              <a:off x="2702160" y="2133720"/>
              <a:ext cx="452160" cy="581400"/>
              <a:chOff x="2702160" y="2133720"/>
              <a:chExt cx="452160" cy="581400"/>
            </a:xfrm>
          </p:grpSpPr>
          <p:sp>
            <p:nvSpPr>
              <p:cNvPr id="576" name=""/>
              <p:cNvSpPr/>
              <p:nvPr/>
            </p:nvSpPr>
            <p:spPr>
              <a:xfrm>
                <a:off x="270216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916360" y="2204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2918160" y="234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637080" y="2708280"/>
            <a:ext cx="549000" cy="675720"/>
            <a:chOff x="3637080" y="2708280"/>
            <a:chExt cx="549000" cy="675720"/>
          </a:xfrm>
        </p:grpSpPr>
        <p:grpSp>
          <p:nvGrpSpPr>
            <p:cNvPr id="580" name=""/>
            <p:cNvGrpSpPr/>
            <p:nvPr/>
          </p:nvGrpSpPr>
          <p:grpSpPr>
            <a:xfrm>
              <a:off x="3637080" y="2708280"/>
              <a:ext cx="452160" cy="581400"/>
              <a:chOff x="3637080" y="2708280"/>
              <a:chExt cx="452160" cy="581400"/>
            </a:xfrm>
          </p:grpSpPr>
          <p:sp>
            <p:nvSpPr>
              <p:cNvPr id="581" name=""/>
              <p:cNvSpPr/>
              <p:nvPr/>
            </p:nvSpPr>
            <p:spPr>
              <a:xfrm>
                <a:off x="363708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851280" y="2779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85308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34108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188560" y="3860640"/>
            <a:ext cx="549000" cy="675720"/>
            <a:chOff x="8188560" y="3860640"/>
            <a:chExt cx="549000" cy="675720"/>
          </a:xfrm>
        </p:grpSpPr>
        <p:grpSp>
          <p:nvGrpSpPr>
            <p:cNvPr id="586" name=""/>
            <p:cNvGrpSpPr/>
            <p:nvPr/>
          </p:nvGrpSpPr>
          <p:grpSpPr>
            <a:xfrm>
              <a:off x="8188560" y="3860640"/>
              <a:ext cx="452160" cy="581400"/>
              <a:chOff x="8188560" y="3860640"/>
              <a:chExt cx="452160" cy="581400"/>
            </a:xfrm>
          </p:grpSpPr>
          <p:sp>
            <p:nvSpPr>
              <p:cNvPr id="587" name=""/>
              <p:cNvSpPr/>
              <p:nvPr/>
            </p:nvSpPr>
            <p:spPr>
              <a:xfrm>
                <a:off x="818856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402760" y="3931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840456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5524560" y="4653000"/>
            <a:ext cx="549000" cy="675720"/>
            <a:chOff x="5524560" y="4653000"/>
            <a:chExt cx="549000" cy="675720"/>
          </a:xfrm>
        </p:grpSpPr>
        <p:grpSp>
          <p:nvGrpSpPr>
            <p:cNvPr id="591" name=""/>
            <p:cNvGrpSpPr/>
            <p:nvPr/>
          </p:nvGrpSpPr>
          <p:grpSpPr>
            <a:xfrm>
              <a:off x="5524560" y="4653000"/>
              <a:ext cx="452160" cy="581400"/>
              <a:chOff x="5524560" y="4653000"/>
              <a:chExt cx="452160" cy="581400"/>
            </a:xfrm>
          </p:grpSpPr>
          <p:sp>
            <p:nvSpPr>
              <p:cNvPr id="592" name=""/>
              <p:cNvSpPr/>
              <p:nvPr/>
            </p:nvSpPr>
            <p:spPr>
              <a:xfrm>
                <a:off x="5524560" y="465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738760" y="472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740560" y="486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308560" y="3141720"/>
            <a:ext cx="548640" cy="675720"/>
            <a:chOff x="5308560" y="3141720"/>
            <a:chExt cx="548640" cy="675720"/>
          </a:xfrm>
        </p:grpSpPr>
        <p:grpSp>
          <p:nvGrpSpPr>
            <p:cNvPr id="596" name=""/>
            <p:cNvGrpSpPr/>
            <p:nvPr/>
          </p:nvGrpSpPr>
          <p:grpSpPr>
            <a:xfrm>
              <a:off x="5308560" y="3141720"/>
              <a:ext cx="452160" cy="581400"/>
              <a:chOff x="5308560" y="3141720"/>
              <a:chExt cx="452160" cy="581400"/>
            </a:xfrm>
          </p:grpSpPr>
          <p:sp>
            <p:nvSpPr>
              <p:cNvPr id="597" name=""/>
              <p:cNvSpPr/>
              <p:nvPr/>
            </p:nvSpPr>
            <p:spPr>
              <a:xfrm>
                <a:off x="5308560" y="31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22760" y="321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5524200" y="33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972560" y="2205000"/>
            <a:ext cx="549000" cy="675720"/>
            <a:chOff x="7972560" y="2205000"/>
            <a:chExt cx="549000" cy="675720"/>
          </a:xfrm>
        </p:grpSpPr>
        <p:grpSp>
          <p:nvGrpSpPr>
            <p:cNvPr id="601" name=""/>
            <p:cNvGrpSpPr/>
            <p:nvPr/>
          </p:nvGrpSpPr>
          <p:grpSpPr>
            <a:xfrm>
              <a:off x="7972560" y="2205000"/>
              <a:ext cx="452160" cy="581400"/>
              <a:chOff x="7972560" y="2205000"/>
              <a:chExt cx="452160" cy="581400"/>
            </a:xfrm>
          </p:grpSpPr>
          <p:sp>
            <p:nvSpPr>
              <p:cNvPr id="602" name=""/>
              <p:cNvSpPr/>
              <p:nvPr/>
            </p:nvSpPr>
            <p:spPr>
              <a:xfrm>
                <a:off x="7972560" y="220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186760" y="2275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8188560" y="24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 flipH="1">
            <a:off x="5299920" y="2716920"/>
            <a:ext cx="3590280" cy="1572120"/>
          </a:xfrm>
          <a:prstGeom prst="line">
            <a:avLst/>
          </a:prstGeom>
          <a:ln w="442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6588360" y="2764080"/>
            <a:ext cx="2291400" cy="300600"/>
          </a:xfrm>
          <a:prstGeom prst="line">
            <a:avLst/>
          </a:prstGeom>
          <a:ln w="4428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604920" y="3645000"/>
            <a:ext cx="587880" cy="672480"/>
            <a:chOff x="6604920" y="3645000"/>
            <a:chExt cx="587880" cy="672480"/>
          </a:xfrm>
        </p:grpSpPr>
        <p:grpSp>
          <p:nvGrpSpPr>
            <p:cNvPr id="608" name=""/>
            <p:cNvGrpSpPr/>
            <p:nvPr/>
          </p:nvGrpSpPr>
          <p:grpSpPr>
            <a:xfrm>
              <a:off x="6604920" y="3645000"/>
              <a:ext cx="587880" cy="581400"/>
              <a:chOff x="6604920" y="3645000"/>
              <a:chExt cx="587880" cy="581400"/>
            </a:xfrm>
          </p:grpSpPr>
          <p:sp>
            <p:nvSpPr>
              <p:cNvPr id="609" name=""/>
              <p:cNvSpPr/>
              <p:nvPr/>
            </p:nvSpPr>
            <p:spPr>
              <a:xfrm>
                <a:off x="6604920" y="3645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19480" y="3715920"/>
                <a:ext cx="2156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6819840" y="386064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747480" y="2421000"/>
            <a:ext cx="723600" cy="673200"/>
            <a:chOff x="6747480" y="2421000"/>
            <a:chExt cx="723600" cy="673200"/>
          </a:xfrm>
        </p:grpSpPr>
        <p:grpSp>
          <p:nvGrpSpPr>
            <p:cNvPr id="613" name=""/>
            <p:cNvGrpSpPr/>
            <p:nvPr/>
          </p:nvGrpSpPr>
          <p:grpSpPr>
            <a:xfrm>
              <a:off x="6747480" y="2421000"/>
              <a:ext cx="723600" cy="581400"/>
              <a:chOff x="6747480" y="2421000"/>
              <a:chExt cx="723600" cy="581400"/>
            </a:xfrm>
          </p:grpSpPr>
          <p:sp>
            <p:nvSpPr>
              <p:cNvPr id="614" name=""/>
              <p:cNvSpPr/>
              <p:nvPr/>
            </p:nvSpPr>
            <p:spPr>
              <a:xfrm>
                <a:off x="6747480" y="242100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962400" y="2491920"/>
                <a:ext cx="2156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>
              <a:off x="6962760" y="26370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 flipV="1">
            <a:off x="6656040" y="2719440"/>
            <a:ext cx="2237400" cy="283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412720" y="4437000"/>
            <a:ext cx="2345040" cy="675360"/>
            <a:chOff x="2412720" y="4437000"/>
            <a:chExt cx="2345040" cy="675360"/>
          </a:xfrm>
        </p:grpSpPr>
        <p:grpSp>
          <p:nvGrpSpPr>
            <p:cNvPr id="619" name=""/>
            <p:cNvGrpSpPr/>
            <p:nvPr/>
          </p:nvGrpSpPr>
          <p:grpSpPr>
            <a:xfrm>
              <a:off x="2412720" y="4437000"/>
              <a:ext cx="548640" cy="675360"/>
              <a:chOff x="2412720" y="4437000"/>
              <a:chExt cx="548640" cy="67536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2412720" y="4437000"/>
                <a:ext cx="452160" cy="581400"/>
                <a:chOff x="2412720" y="4437000"/>
                <a:chExt cx="452160" cy="5814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12720" y="443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626920" y="450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2628360" y="46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276360" y="4437000"/>
              <a:ext cx="548640" cy="675360"/>
              <a:chOff x="3276360" y="4437000"/>
              <a:chExt cx="548640" cy="675360"/>
            </a:xfrm>
          </p:grpSpPr>
          <p:sp>
            <p:nvSpPr>
              <p:cNvPr id="625" name=""/>
              <p:cNvSpPr/>
              <p:nvPr/>
            </p:nvSpPr>
            <p:spPr>
              <a:xfrm>
                <a:off x="3276360" y="44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90560" y="4507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92000" y="46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068000" y="4437000"/>
              <a:ext cx="689760" cy="581400"/>
              <a:chOff x="4068000" y="4437000"/>
              <a:chExt cx="689760" cy="581400"/>
            </a:xfrm>
          </p:grpSpPr>
          <p:sp>
            <p:nvSpPr>
              <p:cNvPr id="629" name=""/>
              <p:cNvSpPr/>
              <p:nvPr/>
            </p:nvSpPr>
            <p:spPr>
              <a:xfrm>
                <a:off x="4068000" y="4437000"/>
                <a:ext cx="68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F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82920" y="450972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2916360" y="443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08360" y="443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693440" y="5084640"/>
            <a:ext cx="2594880" cy="680400"/>
            <a:chOff x="1693440" y="5084640"/>
            <a:chExt cx="2594880" cy="680400"/>
          </a:xfrm>
        </p:grpSpPr>
        <p:grpSp>
          <p:nvGrpSpPr>
            <p:cNvPr id="634" name=""/>
            <p:cNvGrpSpPr/>
            <p:nvPr/>
          </p:nvGrpSpPr>
          <p:grpSpPr>
            <a:xfrm>
              <a:off x="2773440" y="5089320"/>
              <a:ext cx="548640" cy="675720"/>
              <a:chOff x="2773440" y="5089320"/>
              <a:chExt cx="548640" cy="675720"/>
            </a:xfrm>
          </p:grpSpPr>
          <p:sp>
            <p:nvSpPr>
              <p:cNvPr id="635" name=""/>
              <p:cNvSpPr/>
              <p:nvPr/>
            </p:nvSpPr>
            <p:spPr>
              <a:xfrm>
                <a:off x="2773440" y="5089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987640" y="51606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989080" y="5305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3565080" y="5089320"/>
              <a:ext cx="723240" cy="581400"/>
              <a:chOff x="3565080" y="5089320"/>
              <a:chExt cx="723240" cy="581400"/>
            </a:xfrm>
          </p:grpSpPr>
          <p:sp>
            <p:nvSpPr>
              <p:cNvPr id="639" name=""/>
              <p:cNvSpPr/>
              <p:nvPr/>
            </p:nvSpPr>
            <p:spPr>
              <a:xfrm>
                <a:off x="3565080" y="5089320"/>
                <a:ext cx="72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F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79640" y="5162400"/>
                <a:ext cx="4330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2413440" y="50893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24520" y="50878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1693440" y="5084640"/>
              <a:ext cx="689760" cy="581400"/>
              <a:chOff x="1693440" y="5084640"/>
              <a:chExt cx="689760" cy="581400"/>
            </a:xfrm>
          </p:grpSpPr>
          <p:sp>
            <p:nvSpPr>
              <p:cNvPr id="644" name=""/>
              <p:cNvSpPr/>
              <p:nvPr/>
            </p:nvSpPr>
            <p:spPr>
              <a:xfrm>
                <a:off x="1693440" y="5084640"/>
                <a:ext cx="68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F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08360" y="515772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6" name=""/>
          <p:cNvGrpSpPr/>
          <p:nvPr/>
        </p:nvGrpSpPr>
        <p:grpSpPr>
          <a:xfrm>
            <a:off x="1332720" y="5734080"/>
            <a:ext cx="2593080" cy="675720"/>
            <a:chOff x="1332720" y="5734080"/>
            <a:chExt cx="2593080" cy="675720"/>
          </a:xfrm>
        </p:grpSpPr>
        <p:grpSp>
          <p:nvGrpSpPr>
            <p:cNvPr id="647" name=""/>
            <p:cNvGrpSpPr/>
            <p:nvPr/>
          </p:nvGrpSpPr>
          <p:grpSpPr>
            <a:xfrm>
              <a:off x="2486160" y="5734080"/>
              <a:ext cx="549000" cy="675720"/>
              <a:chOff x="2486160" y="5734080"/>
              <a:chExt cx="549000" cy="675720"/>
            </a:xfrm>
          </p:grpSpPr>
          <p:sp>
            <p:nvSpPr>
              <p:cNvPr id="648" name=""/>
              <p:cNvSpPr/>
              <p:nvPr/>
            </p:nvSpPr>
            <p:spPr>
              <a:xfrm>
                <a:off x="2486160" y="5734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00360" y="5805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02160" y="5950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277440" y="5734080"/>
              <a:ext cx="648360" cy="581400"/>
              <a:chOff x="3277440" y="5734080"/>
              <a:chExt cx="648360" cy="581400"/>
            </a:xfrm>
          </p:grpSpPr>
          <p:sp>
            <p:nvSpPr>
              <p:cNvPr id="652" name=""/>
              <p:cNvSpPr/>
              <p:nvPr/>
            </p:nvSpPr>
            <p:spPr>
              <a:xfrm>
                <a:off x="3277440" y="5734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92360" y="5807160"/>
                <a:ext cx="4334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125800" y="5734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17800" y="5734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1332720" y="5754960"/>
              <a:ext cx="825480" cy="581400"/>
              <a:chOff x="1332720" y="5754960"/>
              <a:chExt cx="825480" cy="581400"/>
            </a:xfrm>
          </p:grpSpPr>
          <p:sp>
            <p:nvSpPr>
              <p:cNvPr id="657" name=""/>
              <p:cNvSpPr/>
              <p:nvPr/>
            </p:nvSpPr>
            <p:spPr>
              <a:xfrm>
                <a:off x="1332720" y="5754960"/>
                <a:ext cx="82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F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547640" y="5827680"/>
                <a:ext cx="4330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3851280" y="5661000"/>
            <a:ext cx="2305080" cy="1008000"/>
            <a:chOff x="3851280" y="5661000"/>
            <a:chExt cx="2305080" cy="1008000"/>
          </a:xfrm>
        </p:grpSpPr>
        <p:sp>
          <p:nvSpPr>
            <p:cNvPr id="660" name=""/>
            <p:cNvSpPr/>
            <p:nvPr/>
          </p:nvSpPr>
          <p:spPr>
            <a:xfrm>
              <a:off x="3851280" y="5661000"/>
              <a:ext cx="2305080" cy="10080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3852000" y="5805360"/>
              <a:ext cx="2069640" cy="648720"/>
              <a:chOff x="3852000" y="5805360"/>
              <a:chExt cx="2069640" cy="648720"/>
            </a:xfrm>
          </p:grpSpPr>
          <p:sp>
            <p:nvSpPr>
              <p:cNvPr id="662" name=""/>
              <p:cNvSpPr/>
              <p:nvPr/>
            </p:nvSpPr>
            <p:spPr>
              <a:xfrm>
                <a:off x="5012280" y="5805360"/>
                <a:ext cx="9093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 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506920" y="5896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45080" y="582444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3852000" y="5845320"/>
                <a:ext cx="825480" cy="581400"/>
                <a:chOff x="3852000" y="5845320"/>
                <a:chExt cx="825480" cy="58140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852000" y="5845320"/>
                  <a:ext cx="825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3399ff"/>
                      </a:solidFill>
                      <a:latin typeface="Times New Roman"/>
                    </a:rPr>
                    <a:t> </a:t>
                  </a:r>
                  <a:r>
                    <a:rPr b="1" i="1" lang="en-US" sz="3200" spc="-1" strike="noStrike">
                      <a:solidFill>
                        <a:srgbClr val="3399ff"/>
                      </a:solidFill>
                      <a:latin typeface="Times New Roman"/>
                    </a:rPr>
                    <a:t>F’’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066920" y="5918040"/>
                  <a:ext cx="43308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8" name=""/>
          <p:cNvSpPr/>
          <p:nvPr/>
        </p:nvSpPr>
        <p:spPr>
          <a:xfrm>
            <a:off x="6215400" y="5303880"/>
            <a:ext cx="293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Prema A2 sle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a je sistem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u ravnote</a:t>
            </a: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ž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-6120" y="0"/>
            <a:ext cx="585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U ravnoteži mogu biti najma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ve kolinear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27200" y="1917720"/>
            <a:ext cx="236196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79280" y="1123920"/>
            <a:ext cx="3600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11280" y="2924280"/>
            <a:ext cx="100800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1547640" y="285120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5120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 flipV="1">
            <a:off x="1979640" y="1771200"/>
            <a:ext cx="100800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908000" y="25639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5639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8" name=""/>
          <p:cNvGrpSpPr/>
          <p:nvPr/>
        </p:nvGrpSpPr>
        <p:grpSpPr>
          <a:xfrm>
            <a:off x="254160" y="3067200"/>
            <a:ext cx="549000" cy="675360"/>
            <a:chOff x="254160" y="3067200"/>
            <a:chExt cx="549000" cy="675360"/>
          </a:xfrm>
        </p:grpSpPr>
        <p:grpSp>
          <p:nvGrpSpPr>
            <p:cNvPr id="679" name=""/>
            <p:cNvGrpSpPr/>
            <p:nvPr/>
          </p:nvGrpSpPr>
          <p:grpSpPr>
            <a:xfrm>
              <a:off x="254160" y="3067200"/>
              <a:ext cx="452160" cy="581400"/>
              <a:chOff x="254160" y="3067200"/>
              <a:chExt cx="452160" cy="581400"/>
            </a:xfrm>
          </p:grpSpPr>
          <p:sp>
            <p:nvSpPr>
              <p:cNvPr id="680" name=""/>
              <p:cNvSpPr/>
              <p:nvPr/>
            </p:nvSpPr>
            <p:spPr>
              <a:xfrm>
                <a:off x="254160" y="3067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68360" y="3138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470160" y="3282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486160" y="1195560"/>
            <a:ext cx="549000" cy="675360"/>
            <a:chOff x="2486160" y="1195560"/>
            <a:chExt cx="549000" cy="675360"/>
          </a:xfrm>
        </p:grpSpPr>
        <p:grpSp>
          <p:nvGrpSpPr>
            <p:cNvPr id="684" name=""/>
            <p:cNvGrpSpPr/>
            <p:nvPr/>
          </p:nvGrpSpPr>
          <p:grpSpPr>
            <a:xfrm>
              <a:off x="2486160" y="1195560"/>
              <a:ext cx="452160" cy="581400"/>
              <a:chOff x="2486160" y="1195560"/>
              <a:chExt cx="452160" cy="581400"/>
            </a:xfrm>
          </p:grpSpPr>
          <p:sp>
            <p:nvSpPr>
              <p:cNvPr id="685" name=""/>
              <p:cNvSpPr/>
              <p:nvPr/>
            </p:nvSpPr>
            <p:spPr>
              <a:xfrm>
                <a:off x="2486160" y="1195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00360" y="1266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702160" y="141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181080" y="1052640"/>
            <a:ext cx="549000" cy="675360"/>
            <a:chOff x="181080" y="1052640"/>
            <a:chExt cx="549000" cy="675360"/>
          </a:xfrm>
        </p:grpSpPr>
        <p:grpSp>
          <p:nvGrpSpPr>
            <p:cNvPr id="689" name=""/>
            <p:cNvGrpSpPr/>
            <p:nvPr/>
          </p:nvGrpSpPr>
          <p:grpSpPr>
            <a:xfrm>
              <a:off x="181080" y="1052640"/>
              <a:ext cx="452160" cy="581400"/>
              <a:chOff x="181080" y="1052640"/>
              <a:chExt cx="452160" cy="581400"/>
            </a:xfrm>
          </p:grpSpPr>
          <p:sp>
            <p:nvSpPr>
              <p:cNvPr id="690" name=""/>
              <p:cNvSpPr/>
              <p:nvPr/>
            </p:nvSpPr>
            <p:spPr>
              <a:xfrm>
                <a:off x="18108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95280" y="1123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397080" y="126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332000" y="1052640"/>
            <a:ext cx="549000" cy="675360"/>
            <a:chOff x="1332000" y="1052640"/>
            <a:chExt cx="549000" cy="675360"/>
          </a:xfrm>
        </p:grpSpPr>
        <p:grpSp>
          <p:nvGrpSpPr>
            <p:cNvPr id="694" name=""/>
            <p:cNvGrpSpPr/>
            <p:nvPr/>
          </p:nvGrpSpPr>
          <p:grpSpPr>
            <a:xfrm>
              <a:off x="1332000" y="1052640"/>
              <a:ext cx="452160" cy="581400"/>
              <a:chOff x="1332000" y="1052640"/>
              <a:chExt cx="452160" cy="581400"/>
            </a:xfrm>
          </p:grpSpPr>
          <p:sp>
            <p:nvSpPr>
              <p:cNvPr id="695" name=""/>
              <p:cNvSpPr/>
              <p:nvPr/>
            </p:nvSpPr>
            <p:spPr>
              <a:xfrm>
                <a:off x="133200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546200" y="1123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1548000" y="126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683640" y="11239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332000" y="4076640"/>
            <a:ext cx="2361960" cy="1945800"/>
            <a:chOff x="1332000" y="4076640"/>
            <a:chExt cx="2361960" cy="1945800"/>
          </a:xfrm>
        </p:grpSpPr>
        <p:sp>
          <p:nvSpPr>
            <p:cNvPr id="700" name=""/>
            <p:cNvSpPr/>
            <p:nvPr/>
          </p:nvSpPr>
          <p:spPr>
            <a:xfrm>
              <a:off x="1332000" y="4076640"/>
              <a:ext cx="236196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3600" y="5229360"/>
              <a:ext cx="1728720" cy="288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067200" y="4437000"/>
              <a:ext cx="569520" cy="648720"/>
              <a:chOff x="3067200" y="4437000"/>
              <a:chExt cx="569520" cy="648720"/>
            </a:xfrm>
          </p:grpSpPr>
          <p:sp>
            <p:nvSpPr>
              <p:cNvPr id="703" name=""/>
              <p:cNvSpPr/>
              <p:nvPr/>
            </p:nvSpPr>
            <p:spPr>
              <a:xfrm>
                <a:off x="3067200" y="4437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273480" y="4508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 flipH="1" flipV="1">
              <a:off x="2973240" y="4220640"/>
              <a:ext cx="287280" cy="12956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533240" y="4221000"/>
              <a:ext cx="1439640" cy="1008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1687680" y="4221000"/>
              <a:ext cx="569520" cy="648720"/>
              <a:chOff x="1687680" y="4221000"/>
              <a:chExt cx="569520" cy="648720"/>
            </a:xfrm>
          </p:grpSpPr>
          <p:sp>
            <p:nvSpPr>
              <p:cNvPr id="708" name=""/>
              <p:cNvSpPr/>
              <p:nvPr/>
            </p:nvSpPr>
            <p:spPr>
              <a:xfrm>
                <a:off x="1687680" y="4221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93960" y="42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976760" y="5373720"/>
              <a:ext cx="569520" cy="648720"/>
              <a:chOff x="1976760" y="5373720"/>
              <a:chExt cx="569520" cy="648720"/>
            </a:xfrm>
          </p:grpSpPr>
          <p:sp>
            <p:nvSpPr>
              <p:cNvPr id="711" name=""/>
              <p:cNvSpPr/>
              <p:nvPr/>
            </p:nvSpPr>
            <p:spPr>
              <a:xfrm>
                <a:off x="1976760" y="537372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183040" y="544464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4365720" y="6021360"/>
            <a:ext cx="2941920" cy="648720"/>
            <a:chOff x="4365720" y="6021360"/>
            <a:chExt cx="2941920" cy="648720"/>
          </a:xfrm>
        </p:grpSpPr>
        <p:grpSp>
          <p:nvGrpSpPr>
            <p:cNvPr id="714" name=""/>
            <p:cNvGrpSpPr/>
            <p:nvPr/>
          </p:nvGrpSpPr>
          <p:grpSpPr>
            <a:xfrm>
              <a:off x="4365720" y="6021360"/>
              <a:ext cx="569520" cy="648720"/>
              <a:chOff x="4365720" y="6021360"/>
              <a:chExt cx="569520" cy="648720"/>
            </a:xfrm>
          </p:grpSpPr>
          <p:sp>
            <p:nvSpPr>
              <p:cNvPr id="715" name=""/>
              <p:cNvSpPr/>
              <p:nvPr/>
            </p:nvSpPr>
            <p:spPr>
              <a:xfrm>
                <a:off x="436572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57200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5229360" y="6021360"/>
              <a:ext cx="569520" cy="648720"/>
              <a:chOff x="5229360" y="6021360"/>
              <a:chExt cx="569520" cy="648720"/>
            </a:xfrm>
          </p:grpSpPr>
          <p:sp>
            <p:nvSpPr>
              <p:cNvPr id="718" name=""/>
              <p:cNvSpPr/>
              <p:nvPr/>
            </p:nvSpPr>
            <p:spPr>
              <a:xfrm>
                <a:off x="522936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3564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94800" y="6021360"/>
              <a:ext cx="569520" cy="648720"/>
              <a:chOff x="6094800" y="6021360"/>
              <a:chExt cx="569520" cy="648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9480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0108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486288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2652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89080" y="602136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457520" y="0"/>
            <a:ext cx="4684320" cy="3671280"/>
            <a:chOff x="4457520" y="0"/>
            <a:chExt cx="4684320" cy="3671280"/>
          </a:xfrm>
        </p:grpSpPr>
        <p:sp>
          <p:nvSpPr>
            <p:cNvPr id="727" name=""/>
            <p:cNvSpPr/>
            <p:nvPr/>
          </p:nvSpPr>
          <p:spPr>
            <a:xfrm>
              <a:off x="4457520" y="2970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779680" y="27212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25760" y="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598280" y="189720"/>
              <a:ext cx="4369320" cy="3481560"/>
              <a:chOff x="4598280" y="189720"/>
              <a:chExt cx="4369320" cy="348156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4598280" y="189720"/>
                <a:ext cx="4369320" cy="3481560"/>
                <a:chOff x="4598280" y="189720"/>
                <a:chExt cx="4369320" cy="3481560"/>
              </a:xfrm>
            </p:grpSpPr>
            <p:sp>
              <p:nvSpPr>
                <p:cNvPr id="732" name=""/>
                <p:cNvSpPr/>
                <p:nvPr/>
              </p:nvSpPr>
              <p:spPr>
                <a:xfrm flipH="1">
                  <a:off x="4598280" y="240012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426360" y="240012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6426360" y="18972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5978160" y="1963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6" name=""/>
          <p:cNvSpPr/>
          <p:nvPr/>
        </p:nvSpPr>
        <p:spPr>
          <a:xfrm flipH="1" flipV="1">
            <a:off x="5940360" y="1699920"/>
            <a:ext cx="1224000" cy="36036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940360" y="1700280"/>
            <a:ext cx="287280" cy="208908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6227640" y="1483920"/>
            <a:ext cx="2737080" cy="230508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7164000" y="1484280"/>
            <a:ext cx="1800360" cy="57636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445360" y="3213000"/>
            <a:ext cx="569520" cy="648720"/>
            <a:chOff x="5445360" y="3213000"/>
            <a:chExt cx="569520" cy="648720"/>
          </a:xfrm>
        </p:grpSpPr>
        <p:sp>
          <p:nvSpPr>
            <p:cNvPr id="741" name=""/>
            <p:cNvSpPr/>
            <p:nvPr/>
          </p:nvSpPr>
          <p:spPr>
            <a:xfrm>
              <a:off x="5445360" y="3213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651640" y="328428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7029720" y="3068640"/>
            <a:ext cx="569520" cy="648720"/>
            <a:chOff x="7029720" y="3068640"/>
            <a:chExt cx="569520" cy="648720"/>
          </a:xfrm>
        </p:grpSpPr>
        <p:sp>
          <p:nvSpPr>
            <p:cNvPr id="744" name=""/>
            <p:cNvSpPr/>
            <p:nvPr/>
          </p:nvSpPr>
          <p:spPr>
            <a:xfrm>
              <a:off x="702972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36000" y="313992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7750440" y="1125360"/>
            <a:ext cx="569520" cy="648720"/>
            <a:chOff x="7750440" y="1125360"/>
            <a:chExt cx="569520" cy="648720"/>
          </a:xfrm>
        </p:grpSpPr>
        <p:sp>
          <p:nvSpPr>
            <p:cNvPr id="747" name=""/>
            <p:cNvSpPr/>
            <p:nvPr/>
          </p:nvSpPr>
          <p:spPr>
            <a:xfrm>
              <a:off x="7750440" y="112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956720" y="119664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453360" y="1268280"/>
            <a:ext cx="569520" cy="648720"/>
            <a:chOff x="6453360" y="1268280"/>
            <a:chExt cx="569520" cy="648720"/>
          </a:xfrm>
        </p:grpSpPr>
        <p:sp>
          <p:nvSpPr>
            <p:cNvPr id="750" name=""/>
            <p:cNvSpPr/>
            <p:nvPr/>
          </p:nvSpPr>
          <p:spPr>
            <a:xfrm>
              <a:off x="6453360" y="1268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59640" y="133956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157720" y="4508640"/>
            <a:ext cx="3768840" cy="648720"/>
            <a:chOff x="5157720" y="4508640"/>
            <a:chExt cx="3768840" cy="648720"/>
          </a:xfrm>
        </p:grpSpPr>
        <p:sp>
          <p:nvSpPr>
            <p:cNvPr id="753" name=""/>
            <p:cNvSpPr/>
            <p:nvPr/>
          </p:nvSpPr>
          <p:spPr>
            <a:xfrm>
              <a:off x="5157720" y="450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64000" y="4579920"/>
              <a:ext cx="2156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6021000" y="4508640"/>
              <a:ext cx="569520" cy="648720"/>
              <a:chOff x="6021000" y="4508640"/>
              <a:chExt cx="569520" cy="648720"/>
            </a:xfrm>
          </p:grpSpPr>
          <p:sp>
            <p:nvSpPr>
              <p:cNvPr id="756" name=""/>
              <p:cNvSpPr/>
              <p:nvPr/>
            </p:nvSpPr>
            <p:spPr>
              <a:xfrm>
                <a:off x="6021000" y="450864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227280" y="4579560"/>
                <a:ext cx="2156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6894000" y="4508640"/>
              <a:ext cx="1393920" cy="648720"/>
              <a:chOff x="6894000" y="4508640"/>
              <a:chExt cx="1393920" cy="648720"/>
            </a:xfrm>
          </p:grpSpPr>
          <p:sp>
            <p:nvSpPr>
              <p:cNvPr id="759" name=""/>
              <p:cNvSpPr/>
              <p:nvPr/>
            </p:nvSpPr>
            <p:spPr>
              <a:xfrm>
                <a:off x="6894000" y="4508640"/>
                <a:ext cx="13939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3</a:t>
                </a: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 + 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092720" y="4579560"/>
                <a:ext cx="2156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5654520" y="45086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18160" y="45086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08000" y="450864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885080" y="4579920"/>
              <a:ext cx="2156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249480" y="6021360"/>
            <a:ext cx="40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ri nekolinearne s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413240" y="3933720"/>
            <a:ext cx="47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četiri nekomplanar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328320" y="765000"/>
            <a:ext cx="8620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eorema o tri neparalelne si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a bi sistem od tri neparalelne s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koje deluju na neko kruto te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i od kojih se napadne lin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veju od njih sek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bio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uravnotežen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potrebno j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a te sile obrazuju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avan sistem sila 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zajedničkom napadnom tačk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0" y="3692520"/>
            <a:ext cx="9144000" cy="2689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2484360" y="404640"/>
            <a:ext cx="5796000" cy="326088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395280" y="333360"/>
            <a:ext cx="188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 flipH="1" flipV="1">
            <a:off x="6515280" y="2706840"/>
            <a:ext cx="230472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987640" y="2492280"/>
            <a:ext cx="0" cy="288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2990520" y="3603600"/>
            <a:ext cx="11160" cy="1640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1979280" y="256392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23280" y="2491920"/>
            <a:ext cx="1368360" cy="4032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-720" y="623664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56000" y="3068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492720" y="31417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843640" y="62784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989440" y="4292640"/>
            <a:ext cx="452160" cy="581400"/>
            <a:chOff x="2989440" y="4292640"/>
            <a:chExt cx="452160" cy="581400"/>
          </a:xfrm>
        </p:grpSpPr>
        <p:sp>
          <p:nvSpPr>
            <p:cNvPr id="781" name=""/>
            <p:cNvSpPr/>
            <p:nvPr/>
          </p:nvSpPr>
          <p:spPr>
            <a:xfrm>
              <a:off x="2989440" y="429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03640" y="4363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-9720" y="0"/>
            <a:ext cx="8969760" cy="2043720"/>
            <a:chOff x="-9720" y="0"/>
            <a:chExt cx="8969760" cy="2043720"/>
          </a:xfrm>
        </p:grpSpPr>
        <p:grpSp>
          <p:nvGrpSpPr>
            <p:cNvPr id="784" name=""/>
            <p:cNvGrpSpPr/>
            <p:nvPr/>
          </p:nvGrpSpPr>
          <p:grpSpPr>
            <a:xfrm>
              <a:off x="-9720" y="0"/>
              <a:ext cx="8969760" cy="2043720"/>
              <a:chOff x="-9720" y="0"/>
              <a:chExt cx="8969760" cy="2043720"/>
            </a:xfrm>
          </p:grpSpPr>
          <p:sp>
            <p:nvSpPr>
              <p:cNvPr id="785" name=""/>
              <p:cNvSpPr/>
              <p:nvPr/>
            </p:nvSpPr>
            <p:spPr>
              <a:xfrm>
                <a:off x="-9720" y="0"/>
                <a:ext cx="896976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Ravnoteža četiri sile u ravn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Data je sila       , i napadne linije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(1), (2) i</a:t>
                </a:r>
                <a:r>
                  <a:rPr b="0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(3)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Treba odrediti sile                         duž datih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napadnih linija, tako da ove sile budu u ravnoteži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3459240" y="1008000"/>
                <a:ext cx="549000" cy="675720"/>
                <a:chOff x="3459240" y="1008000"/>
                <a:chExt cx="549000" cy="675720"/>
              </a:xfrm>
            </p:grpSpPr>
            <p:grpSp>
              <p:nvGrpSpPr>
                <p:cNvPr id="787" name=""/>
                <p:cNvGrpSpPr/>
                <p:nvPr/>
              </p:nvGrpSpPr>
              <p:grpSpPr>
                <a:xfrm>
                  <a:off x="3459240" y="1008000"/>
                  <a:ext cx="452160" cy="581400"/>
                  <a:chOff x="3459240" y="1008000"/>
                  <a:chExt cx="452160" cy="58140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345924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673440" y="10789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"/>
                <p:cNvSpPr/>
                <p:nvPr/>
              </p:nvSpPr>
              <p:spPr>
                <a:xfrm>
                  <a:off x="367524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4178160" y="1008000"/>
                <a:ext cx="548640" cy="675720"/>
                <a:chOff x="4178160" y="1008000"/>
                <a:chExt cx="548640" cy="675720"/>
              </a:xfrm>
            </p:grpSpPr>
            <p:grpSp>
              <p:nvGrpSpPr>
                <p:cNvPr id="792" name=""/>
                <p:cNvGrpSpPr/>
                <p:nvPr/>
              </p:nvGrpSpPr>
              <p:grpSpPr>
                <a:xfrm>
                  <a:off x="4178160" y="1008000"/>
                  <a:ext cx="452160" cy="581400"/>
                  <a:chOff x="4178160" y="1008000"/>
                  <a:chExt cx="452160" cy="58140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417816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392360" y="1078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5" name=""/>
                <p:cNvSpPr/>
                <p:nvPr/>
              </p:nvSpPr>
              <p:spPr>
                <a:xfrm>
                  <a:off x="439380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4970520" y="1008000"/>
                <a:ext cx="549000" cy="675720"/>
                <a:chOff x="4970520" y="1008000"/>
                <a:chExt cx="549000" cy="675720"/>
              </a:xfrm>
            </p:grpSpPr>
            <p:grpSp>
              <p:nvGrpSpPr>
                <p:cNvPr id="797" name=""/>
                <p:cNvGrpSpPr/>
                <p:nvPr/>
              </p:nvGrpSpPr>
              <p:grpSpPr>
                <a:xfrm>
                  <a:off x="4970520" y="1008000"/>
                  <a:ext cx="452160" cy="581400"/>
                  <a:chOff x="4970520" y="1008000"/>
                  <a:chExt cx="452160" cy="58140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>
                    <a:off x="497052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5184720" y="10789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0" name=""/>
                <p:cNvSpPr/>
                <p:nvPr/>
              </p:nvSpPr>
              <p:spPr>
                <a:xfrm>
                  <a:off x="518652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1" name=""/>
            <p:cNvGrpSpPr/>
            <p:nvPr/>
          </p:nvGrpSpPr>
          <p:grpSpPr>
            <a:xfrm>
              <a:off x="2125800" y="476280"/>
              <a:ext cx="452160" cy="581400"/>
              <a:chOff x="2125800" y="476280"/>
              <a:chExt cx="452160" cy="581400"/>
            </a:xfrm>
          </p:grpSpPr>
          <p:sp>
            <p:nvSpPr>
              <p:cNvPr id="802" name=""/>
              <p:cNvSpPr/>
              <p:nvPr/>
            </p:nvSpPr>
            <p:spPr>
              <a:xfrm>
                <a:off x="2125800" y="476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340000" y="547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4" name=""/>
          <p:cNvGrpSpPr/>
          <p:nvPr/>
        </p:nvGrpSpPr>
        <p:grpSpPr>
          <a:xfrm>
            <a:off x="7523280" y="2634840"/>
            <a:ext cx="13680" cy="3746520"/>
            <a:chOff x="7523280" y="2634840"/>
            <a:chExt cx="13680" cy="3746520"/>
          </a:xfrm>
        </p:grpSpPr>
        <p:sp>
          <p:nvSpPr>
            <p:cNvPr id="805" name=""/>
            <p:cNvSpPr/>
            <p:nvPr/>
          </p:nvSpPr>
          <p:spPr>
            <a:xfrm flipH="1" flipV="1">
              <a:off x="7523280" y="2634840"/>
              <a:ext cx="1440" cy="3746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525800" y="3746520"/>
              <a:ext cx="11160" cy="16408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 flipV="1">
            <a:off x="4858560" y="2634840"/>
            <a:ext cx="1368360" cy="4032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535640" y="6381000"/>
            <a:ext cx="291600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4785480" y="2419200"/>
            <a:ext cx="3457800" cy="4176720"/>
          </a:xfrm>
          <a:prstGeom prst="line">
            <a:avLst/>
          </a:prstGeom>
          <a:ln w="38160">
            <a:solidFill>
              <a:srgbClr val="cc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148720" y="350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028360" y="3284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588360" y="6093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8028720" y="241920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7524720" y="4435560"/>
            <a:ext cx="452160" cy="581400"/>
            <a:chOff x="7524720" y="4435560"/>
            <a:chExt cx="452160" cy="581400"/>
          </a:xfrm>
        </p:grpSpPr>
        <p:sp>
          <p:nvSpPr>
            <p:cNvPr id="815" name=""/>
            <p:cNvSpPr/>
            <p:nvPr/>
          </p:nvSpPr>
          <p:spPr>
            <a:xfrm>
              <a:off x="7524720" y="4435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738920" y="45064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6588000" y="2708280"/>
            <a:ext cx="0" cy="16574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6516720" y="4363920"/>
            <a:ext cx="1008000" cy="6494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554880" y="2707920"/>
            <a:ext cx="1000080" cy="646560"/>
          </a:xfrm>
          <a:prstGeom prst="line">
            <a:avLst/>
          </a:prstGeom>
          <a:ln w="442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560280" y="3274560"/>
            <a:ext cx="978840" cy="114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909320" y="5220000"/>
            <a:ext cx="1042920" cy="1237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5363640" y="5157360"/>
            <a:ext cx="574920" cy="716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508720" y="5229360"/>
            <a:ext cx="4316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4917600" y="5131800"/>
            <a:ext cx="480600" cy="1294200"/>
          </a:xfrm>
          <a:prstGeom prst="line">
            <a:avLst/>
          </a:prstGeom>
          <a:ln w="57240">
            <a:solidFill>
              <a:srgbClr val="00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936320" y="6411960"/>
            <a:ext cx="569880" cy="75600"/>
          </a:xfrm>
          <a:prstGeom prst="line">
            <a:avLst/>
          </a:prstGeom>
          <a:ln w="57240">
            <a:solidFill>
              <a:srgbClr val="00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437360" y="5516640"/>
            <a:ext cx="569520" cy="648720"/>
            <a:chOff x="4437360" y="5516640"/>
            <a:chExt cx="569520" cy="648720"/>
          </a:xfrm>
        </p:grpSpPr>
        <p:sp>
          <p:nvSpPr>
            <p:cNvPr id="827" name=""/>
            <p:cNvSpPr/>
            <p:nvPr/>
          </p:nvSpPr>
          <p:spPr>
            <a:xfrm>
              <a:off x="4437360" y="5516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43640" y="5587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6742440" y="2421000"/>
            <a:ext cx="569520" cy="648720"/>
            <a:chOff x="6742440" y="2421000"/>
            <a:chExt cx="569520" cy="648720"/>
          </a:xfrm>
        </p:grpSpPr>
        <p:sp>
          <p:nvSpPr>
            <p:cNvPr id="830" name=""/>
            <p:cNvSpPr/>
            <p:nvPr/>
          </p:nvSpPr>
          <p:spPr>
            <a:xfrm>
              <a:off x="6742440" y="2421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48720" y="2491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518440" y="6093000"/>
            <a:ext cx="569520" cy="648720"/>
            <a:chOff x="5518440" y="6093000"/>
            <a:chExt cx="569520" cy="648720"/>
          </a:xfrm>
        </p:grpSpPr>
        <p:sp>
          <p:nvSpPr>
            <p:cNvPr id="833" name=""/>
            <p:cNvSpPr/>
            <p:nvPr/>
          </p:nvSpPr>
          <p:spPr>
            <a:xfrm>
              <a:off x="5518440" y="6093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24720" y="6163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589440" y="3357720"/>
            <a:ext cx="587880" cy="581400"/>
            <a:chOff x="6589440" y="3357720"/>
            <a:chExt cx="587880" cy="581400"/>
          </a:xfrm>
        </p:grpSpPr>
        <p:sp>
          <p:nvSpPr>
            <p:cNvPr id="836" name=""/>
            <p:cNvSpPr/>
            <p:nvPr/>
          </p:nvSpPr>
          <p:spPr>
            <a:xfrm>
              <a:off x="6589440" y="3357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804000" y="342864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868000" y="5157720"/>
            <a:ext cx="825480" cy="581400"/>
            <a:chOff x="5868000" y="5157720"/>
            <a:chExt cx="825480" cy="581400"/>
          </a:xfrm>
        </p:grpSpPr>
        <p:sp>
          <p:nvSpPr>
            <p:cNvPr id="839" name=""/>
            <p:cNvSpPr/>
            <p:nvPr/>
          </p:nvSpPr>
          <p:spPr>
            <a:xfrm>
              <a:off x="5868000" y="515772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298920" y="52293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181080" y="5513400"/>
            <a:ext cx="3670560" cy="648720"/>
            <a:chOff x="181080" y="5513400"/>
            <a:chExt cx="3670560" cy="648720"/>
          </a:xfrm>
        </p:grpSpPr>
        <p:grpSp>
          <p:nvGrpSpPr>
            <p:cNvPr id="842" name=""/>
            <p:cNvGrpSpPr/>
            <p:nvPr/>
          </p:nvGrpSpPr>
          <p:grpSpPr>
            <a:xfrm>
              <a:off x="909720" y="5513400"/>
              <a:ext cx="2941920" cy="648720"/>
              <a:chOff x="909720" y="5513400"/>
              <a:chExt cx="2941920" cy="648720"/>
            </a:xfrm>
          </p:grpSpPr>
          <p:grpSp>
            <p:nvGrpSpPr>
              <p:cNvPr id="843" name=""/>
              <p:cNvGrpSpPr/>
              <p:nvPr/>
            </p:nvGrpSpPr>
            <p:grpSpPr>
              <a:xfrm>
                <a:off x="909720" y="5513400"/>
                <a:ext cx="569520" cy="648720"/>
                <a:chOff x="909720" y="5513400"/>
                <a:chExt cx="569520" cy="64872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90972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11600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1773360" y="5513400"/>
                <a:ext cx="569520" cy="648720"/>
                <a:chOff x="1773360" y="5513400"/>
                <a:chExt cx="569520" cy="64872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177336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97964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2638800" y="5513400"/>
                <a:ext cx="569520" cy="648720"/>
                <a:chOff x="2638800" y="5513400"/>
                <a:chExt cx="569520" cy="64872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263880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284508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1406880" y="55134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270520" y="55134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133080" y="5513400"/>
                <a:ext cx="71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=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1080" y="5513400"/>
              <a:ext cx="452160" cy="581400"/>
              <a:chOff x="181080" y="5513400"/>
              <a:chExt cx="452160" cy="581400"/>
            </a:xfrm>
          </p:grpSpPr>
          <p:sp>
            <p:nvSpPr>
              <p:cNvPr id="856" name=""/>
              <p:cNvSpPr/>
              <p:nvPr/>
            </p:nvSpPr>
            <p:spPr>
              <a:xfrm>
                <a:off x="181080" y="5513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95280" y="55846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541440" y="55134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4.27746E-006 L 4.44444E-006 -0.05225 E">
                                      <p:cBhvr>
                                        <p:cTn id="234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zlaganje date sile na komponente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zajedničk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napadn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tačk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2700360" y="2997360"/>
            <a:ext cx="396072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8000"/>
                </a:solidFill>
                <a:latin typeface="Times New Roman"/>
              </a:rPr>
              <a:t>Uvodne napomen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02640" y="333360"/>
            <a:ext cx="80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vo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: podsećanje na k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onvencij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o smerov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75320" y="2994120"/>
            <a:ext cx="50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Pozitivan matemat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ički s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630960" y="5586480"/>
            <a:ext cx="518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Negativa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matemat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ički s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1042920" y="1413000"/>
          <a:ext cx="1800360" cy="10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180036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5508720" y="3789360"/>
          <a:ext cx="1790640" cy="11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3789360"/>
                    <a:ext cx="179064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"/>
          <p:cNvSpPr/>
          <p:nvPr/>
        </p:nvSpPr>
        <p:spPr>
          <a:xfrm>
            <a:off x="1620720" y="170028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3399ff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086520" y="400536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3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468360" y="84744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rojekcija sile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 na osu može se izraziti kao skalarni proizvod vektora sile i jediničnog vektora ose. Npr. , a s obzirom da je "kosinus" parna trigonometrijska funkcija može se napisati da j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79280" y="3630600"/>
                <a:ext cx="871380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250920" y="2987640"/>
            <a:ext cx="8605800" cy="36813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108000" y="231840"/>
            <a:ext cx="903600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Ugao između odgovarajuće ose i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nekog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vektora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(recimo vektora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sile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određuje se tako što se jedinični vektor ose, i vektor sile dovedu u isti početak (videti prvu među donjim slikama). Ugao se meri od jediničnog vektora ka vektoru sile u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pozitivnom matematičkom sme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Ovo je prikazano na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sledećim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slikama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 predavanje</a:t>
            </a:r>
            <a:br>
              <a:rPr sz="4400"/>
            </a:br>
            <a:br>
              <a:rPr sz="44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NALIZA SILA</a:t>
            </a:r>
            <a:br>
              <a:rPr sz="4800"/>
            </a:br>
            <a:r>
              <a:rPr b="1" lang="sr-Latn-CS" sz="4800" spc="-1" strike="noStrike">
                <a:solidFill>
                  <a:srgbClr val="33cc33"/>
                </a:solidFill>
                <a:latin typeface="Times New Roman"/>
              </a:rPr>
              <a:t>GEOMETRIJSKA STATIKA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)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ISTEM SILA SA ZAJEDNI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ČKOM NAPADNOM TAČKOM</a:t>
            </a:r>
            <a:br>
              <a:rPr sz="4400"/>
            </a:b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(SISTEM SUČELJNIH SILA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179280" y="1816200"/>
            <a:ext cx="8755200" cy="506880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182520" y="0"/>
            <a:ext cx="9213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no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predhodnoj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ci na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sledećim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kama prikazani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u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jevi odr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vanja ugla </a:t>
            </a:r>
            <a:r>
              <a:rPr b="1" i="1" lang="en-US" sz="2800" spc="-1" strike="noStrike">
                <a:solidFill>
                  <a:srgbClr val="3399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zm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 ose </a:t>
            </a:r>
            <a:r>
              <a:rPr b="1" i="1" lang="en-US" sz="2800" spc="-1" strike="noStrike">
                <a:solidFill>
                  <a:srgbClr val="3399ff"/>
                </a:solidFill>
                <a:latin typeface="Times New Roman"/>
              </a:rPr>
              <a:t>Oy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 vektora s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Potpuno analogan postupak se primenjuje i za odr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va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gla  </a:t>
            </a:r>
            <a:r>
              <a:rPr b="1" i="1" lang="en-US" sz="2800" spc="-1" strike="noStrike">
                <a:solidFill>
                  <a:srgbClr val="3399ff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zm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 ose </a:t>
            </a:r>
            <a:r>
              <a:rPr b="1" i="1" lang="en-US" sz="2800" spc="-1" strike="noStrike">
                <a:solidFill>
                  <a:srgbClr val="3399ff"/>
                </a:solidFill>
                <a:latin typeface="Times New Roman"/>
              </a:rPr>
              <a:t>Oz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 vektora s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zlaganje date sile na komponente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zajedničk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napadn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tačk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je sila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koja deluje u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 Kroz istu tačku prolaze 3 nekomplanarne prave, čiji su jedinični vekt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trebnoje odrediti sile i datim pravcima čija će rezultanta biti data sil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2916360" y="1844640"/>
            <a:ext cx="5034960" cy="2592360"/>
            <a:chOff x="2916360" y="1844640"/>
            <a:chExt cx="5034960" cy="2592360"/>
          </a:xfrm>
        </p:grpSpPr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5143320" y="2924280"/>
                  <a:ext cx="280800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1" name=""/>
                <p:cNvSpPr txBox="1"/>
                <p:nvPr/>
              </p:nvSpPr>
              <p:spPr>
                <a:xfrm>
                  <a:off x="6300360" y="3813120"/>
                  <a:ext cx="498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2" name=""/>
                <p:cNvSpPr txBox="1"/>
                <p:nvPr/>
              </p:nvSpPr>
              <p:spPr>
                <a:xfrm>
                  <a:off x="2916360" y="1844640"/>
                  <a:ext cx="498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755640" y="4724280"/>
                <a:ext cx="79074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19200" y="5516640"/>
                <a:ext cx="82008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"/>
          <p:cNvGrpSpPr/>
          <p:nvPr/>
        </p:nvGrpSpPr>
        <p:grpSpPr>
          <a:xfrm>
            <a:off x="5365800" y="115560"/>
            <a:ext cx="3527280" cy="3384360"/>
            <a:chOff x="5365800" y="115560"/>
            <a:chExt cx="3527280" cy="3384360"/>
          </a:xfrm>
        </p:grpSpPr>
        <p:sp>
          <p:nvSpPr>
            <p:cNvPr id="886" name=""/>
            <p:cNvSpPr/>
            <p:nvPr/>
          </p:nvSpPr>
          <p:spPr>
            <a:xfrm>
              <a:off x="5365800" y="3284280"/>
              <a:ext cx="35272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581440" y="115560"/>
              <a:ext cx="0" cy="33843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 flipV="1">
            <a:off x="5581800" y="691920"/>
            <a:ext cx="2016000" cy="2592360"/>
          </a:xfrm>
          <a:prstGeom prst="line">
            <a:avLst/>
          </a:prstGeom>
          <a:ln w="7632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581800" y="692280"/>
            <a:ext cx="2016000" cy="0"/>
          </a:xfrm>
          <a:prstGeom prst="line">
            <a:avLst/>
          </a:prstGeom>
          <a:ln w="3816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597800" y="691920"/>
            <a:ext cx="0" cy="2592360"/>
          </a:xfrm>
          <a:prstGeom prst="line">
            <a:avLst/>
          </a:prstGeom>
          <a:ln w="3816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6516720" y="2089080"/>
          <a:ext cx="766800" cy="11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089080"/>
                    <a:ext cx="76680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3" name=""/>
          <p:cNvSpPr/>
          <p:nvPr/>
        </p:nvSpPr>
        <p:spPr>
          <a:xfrm>
            <a:off x="824652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078160" y="1159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375960" y="24192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959520" y="3427560"/>
            <a:ext cx="52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d6009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757920" y="763560"/>
            <a:ext cx="406440" cy="581400"/>
            <a:chOff x="6757920" y="763560"/>
            <a:chExt cx="406440" cy="581400"/>
          </a:xfrm>
        </p:grpSpPr>
        <p:sp>
          <p:nvSpPr>
            <p:cNvPr id="898" name=""/>
            <p:cNvSpPr/>
            <p:nvPr/>
          </p:nvSpPr>
          <p:spPr>
            <a:xfrm>
              <a:off x="6757920" y="763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899040" y="91296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4870080" y="979560"/>
            <a:ext cx="51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d60093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581800" y="3284640"/>
            <a:ext cx="201600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581800" y="691920"/>
            <a:ext cx="0" cy="259236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39640" y="4005360"/>
                <a:ext cx="691056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900000" y="5970600"/>
                <a:ext cx="7840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510160" y="2276280"/>
            <a:ext cx="1152720" cy="1081080"/>
            <a:chOff x="5510160" y="2276280"/>
            <a:chExt cx="1152720" cy="1081080"/>
          </a:xfrm>
        </p:grpSpPr>
        <p:sp>
          <p:nvSpPr>
            <p:cNvPr id="906" name=""/>
            <p:cNvSpPr/>
            <p:nvPr/>
          </p:nvSpPr>
          <p:spPr>
            <a:xfrm>
              <a:off x="5510160" y="3288600"/>
              <a:ext cx="1152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5580360" y="2276280"/>
              <a:ext cx="0" cy="10810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222880" y="2563920"/>
            <a:ext cx="1014120" cy="1302120"/>
            <a:chOff x="5222880" y="2563920"/>
            <a:chExt cx="1014120" cy="1302120"/>
          </a:xfrm>
        </p:grpSpPr>
        <p:grpSp>
          <p:nvGrpSpPr>
            <p:cNvPr id="909" name=""/>
            <p:cNvGrpSpPr/>
            <p:nvPr/>
          </p:nvGrpSpPr>
          <p:grpSpPr>
            <a:xfrm>
              <a:off x="5943600" y="3284640"/>
              <a:ext cx="293400" cy="581400"/>
              <a:chOff x="5943600" y="3284640"/>
              <a:chExt cx="293400" cy="581400"/>
            </a:xfrm>
          </p:grpSpPr>
          <p:sp>
            <p:nvSpPr>
              <p:cNvPr id="910" name=""/>
              <p:cNvSpPr/>
              <p:nvPr/>
            </p:nvSpPr>
            <p:spPr>
              <a:xfrm>
                <a:off x="5943600" y="32846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8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014880" y="335736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5222880" y="2563920"/>
              <a:ext cx="293400" cy="581400"/>
              <a:chOff x="5222880" y="2563920"/>
              <a:chExt cx="293400" cy="581400"/>
            </a:xfrm>
          </p:grpSpPr>
          <p:sp>
            <p:nvSpPr>
              <p:cNvPr id="913" name=""/>
              <p:cNvSpPr/>
              <p:nvPr/>
            </p:nvSpPr>
            <p:spPr>
              <a:xfrm>
                <a:off x="5222880" y="25639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8000"/>
                    </a:solidFill>
                    <a:latin typeface="Times New Roman"/>
                  </a:rPr>
                  <a:t>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94160" y="263664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5" name=""/>
          <p:cNvGrpSpPr/>
          <p:nvPr/>
        </p:nvGrpSpPr>
        <p:grpSpPr>
          <a:xfrm>
            <a:off x="318960" y="260280"/>
            <a:ext cx="3942000" cy="2043720"/>
            <a:chOff x="318960" y="260280"/>
            <a:chExt cx="3942000" cy="2043720"/>
          </a:xfrm>
        </p:grpSpPr>
        <p:sp>
          <p:nvSpPr>
            <p:cNvPr id="916" name=""/>
            <p:cNvSpPr/>
            <p:nvPr/>
          </p:nvSpPr>
          <p:spPr>
            <a:xfrm>
              <a:off x="318960" y="260280"/>
              <a:ext cx="3942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Primer u ravn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Projekcije jediničn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vektora       na prav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koordinatnih o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1872720" y="1241280"/>
              <a:ext cx="406440" cy="581400"/>
              <a:chOff x="1872720" y="1241280"/>
              <a:chExt cx="406440" cy="581400"/>
            </a:xfrm>
          </p:grpSpPr>
          <p:sp>
            <p:nvSpPr>
              <p:cNvPr id="918" name=""/>
              <p:cNvSpPr/>
              <p:nvPr/>
            </p:nvSpPr>
            <p:spPr>
              <a:xfrm>
                <a:off x="1872720" y="1241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d60093"/>
                    </a:solidFill>
                    <a:latin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013840" y="1390680"/>
                <a:ext cx="215640" cy="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920" name=""/>
          <p:cNvGraphicFramePr/>
          <p:nvPr/>
        </p:nvGraphicFramePr>
        <p:xfrm>
          <a:off x="5581800" y="1555920"/>
          <a:ext cx="103824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1800" y="1555920"/>
                    <a:ext cx="103824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5654520" y="1700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468360" y="2997360"/>
                <a:ext cx="4103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2452680" y="457524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452680" y="2076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5724360" y="2708280"/>
                <a:ext cx="2737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0" y="5734080"/>
                <a:ext cx="88455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414360" y="-157320"/>
                <a:ext cx="8261280" cy="18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929" name=""/>
          <p:cNvGrpSpPr/>
          <p:nvPr/>
        </p:nvGrpSpPr>
        <p:grpSpPr>
          <a:xfrm>
            <a:off x="1172880" y="1413000"/>
            <a:ext cx="4035600" cy="4284000"/>
            <a:chOff x="1172880" y="1413000"/>
            <a:chExt cx="4035600" cy="4284000"/>
          </a:xfrm>
        </p:grpSpPr>
        <p:sp>
          <p:nvSpPr>
            <p:cNvPr id="930" name=""/>
            <p:cNvSpPr/>
            <p:nvPr/>
          </p:nvSpPr>
          <p:spPr>
            <a:xfrm flipH="1">
              <a:off x="1172880" y="4591800"/>
              <a:ext cx="1271160" cy="900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44400" y="4591800"/>
              <a:ext cx="2764080" cy="1105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2444400" y="1413000"/>
              <a:ext cx="8640" cy="3178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"/>
          <p:cNvSpPr/>
          <p:nvPr/>
        </p:nvSpPr>
        <p:spPr>
          <a:xfrm flipV="1">
            <a:off x="2463840" y="3231720"/>
            <a:ext cx="1482840" cy="1325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3060720" y="3284640"/>
            <a:ext cx="452160" cy="581400"/>
            <a:chOff x="3060720" y="3284640"/>
            <a:chExt cx="452160" cy="581400"/>
          </a:xfrm>
        </p:grpSpPr>
        <p:sp>
          <p:nvSpPr>
            <p:cNvPr id="935" name=""/>
            <p:cNvSpPr/>
            <p:nvPr/>
          </p:nvSpPr>
          <p:spPr>
            <a:xfrm>
              <a:off x="306072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09040" y="3335040"/>
              <a:ext cx="149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 flipV="1">
            <a:off x="2452680" y="2076120"/>
            <a:ext cx="0" cy="24987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1850760" y="4575240"/>
            <a:ext cx="601560" cy="4078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452680" y="4575240"/>
            <a:ext cx="2054160" cy="8157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912240" y="4653000"/>
            <a:ext cx="583200" cy="648720"/>
            <a:chOff x="912240" y="4653000"/>
            <a:chExt cx="583200" cy="648720"/>
          </a:xfrm>
        </p:grpSpPr>
        <p:sp>
          <p:nvSpPr>
            <p:cNvPr id="941" name=""/>
            <p:cNvSpPr/>
            <p:nvPr/>
          </p:nvSpPr>
          <p:spPr>
            <a:xfrm>
              <a:off x="912240" y="46530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51200" y="470448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4800240" y="4941720"/>
            <a:ext cx="583200" cy="648720"/>
            <a:chOff x="4800240" y="4941720"/>
            <a:chExt cx="583200" cy="648720"/>
          </a:xfrm>
        </p:grpSpPr>
        <p:sp>
          <p:nvSpPr>
            <p:cNvPr id="944" name=""/>
            <p:cNvSpPr/>
            <p:nvPr/>
          </p:nvSpPr>
          <p:spPr>
            <a:xfrm>
              <a:off x="4800240" y="494172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939200" y="499320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1921320" y="1413000"/>
            <a:ext cx="583200" cy="648720"/>
            <a:chOff x="1921320" y="1413000"/>
            <a:chExt cx="583200" cy="648720"/>
          </a:xfrm>
        </p:grpSpPr>
        <p:sp>
          <p:nvSpPr>
            <p:cNvPr id="947" name=""/>
            <p:cNvSpPr/>
            <p:nvPr/>
          </p:nvSpPr>
          <p:spPr>
            <a:xfrm>
              <a:off x="1921320" y="14130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59560" y="1464120"/>
              <a:ext cx="1501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3905280" y="3300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3904920" y="2852640"/>
            <a:ext cx="601560" cy="408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3904920" y="5391000"/>
            <a:ext cx="601560" cy="408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851120" y="243360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505400" y="2841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851120" y="242100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850760" y="2013120"/>
            <a:ext cx="601560" cy="4078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451240" y="203688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852560" y="4575240"/>
            <a:ext cx="2054160" cy="1223640"/>
            <a:chOff x="1852560" y="4575240"/>
            <a:chExt cx="2054160" cy="1223640"/>
          </a:xfrm>
        </p:grpSpPr>
        <p:sp>
          <p:nvSpPr>
            <p:cNvPr id="958" name=""/>
            <p:cNvSpPr/>
            <p:nvPr/>
          </p:nvSpPr>
          <p:spPr>
            <a:xfrm>
              <a:off x="1852560" y="4982760"/>
              <a:ext cx="2054160" cy="8161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1852560" y="4575240"/>
              <a:ext cx="601920" cy="4075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 flipH="1">
            <a:off x="1042920" y="5229360"/>
            <a:ext cx="504720" cy="3981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716360" y="5516640"/>
            <a:ext cx="517680" cy="1998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484360" y="1197000"/>
            <a:ext cx="0" cy="7207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2115000" y="4727520"/>
            <a:ext cx="628920" cy="648720"/>
            <a:chOff x="2115000" y="4727520"/>
            <a:chExt cx="628920" cy="648720"/>
          </a:xfrm>
        </p:grpSpPr>
        <p:sp>
          <p:nvSpPr>
            <p:cNvPr id="964" name=""/>
            <p:cNvSpPr/>
            <p:nvPr/>
          </p:nvSpPr>
          <p:spPr>
            <a:xfrm>
              <a:off x="2115000" y="472752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52880" y="477900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937680" y="4581360"/>
            <a:ext cx="628920" cy="648720"/>
            <a:chOff x="3937680" y="4581360"/>
            <a:chExt cx="628920" cy="648720"/>
          </a:xfrm>
        </p:grpSpPr>
        <p:sp>
          <p:nvSpPr>
            <p:cNvPr id="967" name=""/>
            <p:cNvSpPr/>
            <p:nvPr/>
          </p:nvSpPr>
          <p:spPr>
            <a:xfrm>
              <a:off x="3937680" y="45813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75560" y="463248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1849320" y="2924280"/>
            <a:ext cx="628920" cy="648720"/>
            <a:chOff x="1849320" y="2924280"/>
            <a:chExt cx="628920" cy="648720"/>
          </a:xfrm>
        </p:grpSpPr>
        <p:sp>
          <p:nvSpPr>
            <p:cNvPr id="970" name=""/>
            <p:cNvSpPr/>
            <p:nvPr/>
          </p:nvSpPr>
          <p:spPr>
            <a:xfrm>
              <a:off x="1849320" y="292428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986480" y="2975760"/>
              <a:ext cx="1501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190944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771640" y="907920"/>
                <a:ext cx="3175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611280" y="2565360"/>
                <a:ext cx="8064360" cy="24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71640" y="765000"/>
                <a:ext cx="6769080" cy="510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Z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900000" y="692280"/>
                <a:ext cx="6859800" cy="509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1042920" y="692280"/>
                <a:ext cx="6808680" cy="50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79280" y="2349360"/>
                <a:ext cx="8964720" cy="239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9" name=""/>
          <p:cNvSpPr/>
          <p:nvPr/>
        </p:nvSpPr>
        <p:spPr>
          <a:xfrm>
            <a:off x="2481840" y="1052640"/>
            <a:ext cx="442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lov nekomplana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23640" y="18900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685800" y="1988640"/>
            <a:ext cx="3814560" cy="3533040"/>
            <a:chOff x="685800" y="1988640"/>
            <a:chExt cx="3814560" cy="3533040"/>
          </a:xfrm>
        </p:grpSpPr>
        <p:grpSp>
          <p:nvGrpSpPr>
            <p:cNvPr id="982" name=""/>
            <p:cNvGrpSpPr/>
            <p:nvPr/>
          </p:nvGrpSpPr>
          <p:grpSpPr>
            <a:xfrm>
              <a:off x="973080" y="1988640"/>
              <a:ext cx="3527280" cy="3384360"/>
              <a:chOff x="973080" y="1988640"/>
              <a:chExt cx="3527280" cy="3384360"/>
            </a:xfrm>
          </p:grpSpPr>
          <p:sp>
            <p:nvSpPr>
              <p:cNvPr id="983" name=""/>
              <p:cNvSpPr/>
              <p:nvPr/>
            </p:nvSpPr>
            <p:spPr>
              <a:xfrm>
                <a:off x="973080" y="5157360"/>
                <a:ext cx="352728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1188720" y="1988640"/>
                <a:ext cx="0" cy="33843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2195640" y="4292640"/>
              <a:ext cx="208908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6" name=""/>
            <p:cNvGraphicFramePr/>
            <p:nvPr/>
          </p:nvGraphicFramePr>
          <p:xfrm>
            <a:off x="3348000" y="3573360"/>
            <a:ext cx="444600" cy="69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8000" y="3573360"/>
                      <a:ext cx="444600" cy="6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8" name=""/>
            <p:cNvSpPr/>
            <p:nvPr/>
          </p:nvSpPr>
          <p:spPr>
            <a:xfrm>
              <a:off x="3853800" y="4940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5800" y="2347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1371240" y="2949840"/>
              <a:ext cx="2312640" cy="1411560"/>
              <a:chOff x="1371240" y="2949840"/>
              <a:chExt cx="2312640" cy="1411560"/>
            </a:xfrm>
          </p:grpSpPr>
          <p:sp>
            <p:nvSpPr>
              <p:cNvPr id="991" name=""/>
              <p:cNvSpPr/>
              <p:nvPr/>
            </p:nvSpPr>
            <p:spPr>
              <a:xfrm flipV="1">
                <a:off x="2090160" y="3346560"/>
                <a:ext cx="1593720" cy="9849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 flipV="1">
                <a:off x="1371240" y="2949840"/>
                <a:ext cx="871920" cy="14115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3" name=""/>
            <p:cNvGraphicFramePr/>
            <p:nvPr/>
          </p:nvGraphicFramePr>
          <p:xfrm>
            <a:off x="1979640" y="3860640"/>
            <a:ext cx="647640" cy="48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79640" y="3860640"/>
                      <a:ext cx="64764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5" name=""/>
            <p:cNvGrpSpPr/>
            <p:nvPr/>
          </p:nvGrpSpPr>
          <p:grpSpPr>
            <a:xfrm>
              <a:off x="3647520" y="2924280"/>
              <a:ext cx="583200" cy="648720"/>
              <a:chOff x="3647520" y="2924280"/>
              <a:chExt cx="583200" cy="648720"/>
            </a:xfrm>
          </p:grpSpPr>
          <p:sp>
            <p:nvSpPr>
              <p:cNvPr id="996" name=""/>
              <p:cNvSpPr/>
              <p:nvPr/>
            </p:nvSpPr>
            <p:spPr>
              <a:xfrm>
                <a:off x="3647520" y="292428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n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1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786480" y="2975760"/>
                <a:ext cx="14976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1199520" y="2349360"/>
              <a:ext cx="583200" cy="648720"/>
              <a:chOff x="1199520" y="2349360"/>
              <a:chExt cx="583200" cy="648720"/>
            </a:xfrm>
          </p:grpSpPr>
          <p:sp>
            <p:nvSpPr>
              <p:cNvPr id="999" name=""/>
              <p:cNvSpPr/>
              <p:nvPr/>
            </p:nvSpPr>
            <p:spPr>
              <a:xfrm>
                <a:off x="1199520" y="234936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n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2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338480" y="2400840"/>
                <a:ext cx="14976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2997720" y="364500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ff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 baseline="-25000">
                  <a:solidFill>
                    <a:srgbClr val="33ccff"/>
                  </a:solidFill>
                  <a:latin typeface="Symbol"/>
                  <a:ea typeface="Symbol"/>
                </a:rPr>
                <a:t>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89720" y="328464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ff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 baseline="-25000">
                  <a:solidFill>
                    <a:srgbClr val="33ccff"/>
                  </a:solidFill>
                  <a:latin typeface="Symbol"/>
                  <a:ea typeface="Symbol"/>
                </a:rPr>
                <a:t>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5003640" y="1484280"/>
                <a:ext cx="28832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OJE TRI VRSTE ZADATAKA KOD SISTEMA SILA SA ZAJED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M NAPADNOM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1. SLAG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određivanje rezultante (grafički, analitički)</a:t>
            </a:r>
            <a:br>
              <a:rPr sz="3200"/>
            </a:b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AVNOTEŽ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grafički i analitički)</a:t>
            </a:r>
            <a:br>
              <a:rPr sz="3200"/>
            </a:br>
            <a:r>
              <a:rPr b="1" lang="sr-Latn-CS" sz="3200" spc="-1" strike="noStrike">
                <a:solidFill>
                  <a:srgbClr val="00cc99"/>
                </a:solidFill>
                <a:latin typeface="Times New Roman"/>
              </a:rPr>
              <a:t>3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cc99"/>
                </a:solidFill>
                <a:latin typeface="Times New Roman"/>
              </a:rPr>
              <a:t>RAZLAG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ile na komponente (anailtički u prostoru, grafički i analitički u ravni)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826920" y="549360"/>
                <a:ext cx="7282080" cy="24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836640" y="4221000"/>
                <a:ext cx="625644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6" name=""/>
          <p:cNvSpPr/>
          <p:nvPr/>
        </p:nvSpPr>
        <p:spPr>
          <a:xfrm>
            <a:off x="248040" y="335772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slov nekolinear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I)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095640" y="62064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Dve paralelne sile istog s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6560" y="8366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611280" y="220500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"/>
          <p:cNvGraphicFramePr/>
          <p:nvPr/>
        </p:nvGraphicFramePr>
        <p:xfrm>
          <a:off x="3084480" y="220500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4480" y="220500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4" name=""/>
          <p:cNvGrpSpPr/>
          <p:nvPr/>
        </p:nvGrpSpPr>
        <p:grpSpPr>
          <a:xfrm>
            <a:off x="36720" y="2637000"/>
            <a:ext cx="549000" cy="675360"/>
            <a:chOff x="36720" y="2637000"/>
            <a:chExt cx="549000" cy="675360"/>
          </a:xfrm>
        </p:grpSpPr>
        <p:grpSp>
          <p:nvGrpSpPr>
            <p:cNvPr id="1015" name=""/>
            <p:cNvGrpSpPr/>
            <p:nvPr/>
          </p:nvGrpSpPr>
          <p:grpSpPr>
            <a:xfrm>
              <a:off x="36720" y="2637000"/>
              <a:ext cx="452160" cy="581400"/>
              <a:chOff x="36720" y="2637000"/>
              <a:chExt cx="452160" cy="581400"/>
            </a:xfrm>
          </p:grpSpPr>
          <p:sp>
            <p:nvSpPr>
              <p:cNvPr id="1016" name=""/>
              <p:cNvSpPr/>
              <p:nvPr/>
            </p:nvSpPr>
            <p:spPr>
              <a:xfrm>
                <a:off x="3672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092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25272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8245080" y="4941720"/>
            <a:ext cx="587880" cy="675720"/>
            <a:chOff x="8245080" y="4941720"/>
            <a:chExt cx="587880" cy="675720"/>
          </a:xfrm>
        </p:grpSpPr>
        <p:grpSp>
          <p:nvGrpSpPr>
            <p:cNvPr id="1020" name=""/>
            <p:cNvGrpSpPr/>
            <p:nvPr/>
          </p:nvGrpSpPr>
          <p:grpSpPr>
            <a:xfrm>
              <a:off x="8245080" y="4941720"/>
              <a:ext cx="587880" cy="581400"/>
              <a:chOff x="8245080" y="4941720"/>
              <a:chExt cx="587880" cy="581400"/>
            </a:xfrm>
          </p:grpSpPr>
          <p:sp>
            <p:nvSpPr>
              <p:cNvPr id="1021" name=""/>
              <p:cNvSpPr/>
              <p:nvPr/>
            </p:nvSpPr>
            <p:spPr>
              <a:xfrm>
                <a:off x="8245080" y="4941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459640" y="5012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>
              <a:off x="8461800" y="51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682560" y="227808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3710160" y="3427560"/>
            <a:ext cx="452160" cy="581400"/>
            <a:chOff x="3710160" y="3427560"/>
            <a:chExt cx="452160" cy="581400"/>
          </a:xfrm>
        </p:grpSpPr>
        <p:sp>
          <p:nvSpPr>
            <p:cNvPr id="1026" name=""/>
            <p:cNvSpPr/>
            <p:nvPr/>
          </p:nvSpPr>
          <p:spPr>
            <a:xfrm>
              <a:off x="3710160" y="3427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924360" y="3498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"/>
          <p:cNvSpPr/>
          <p:nvPr/>
        </p:nvSpPr>
        <p:spPr>
          <a:xfrm flipV="1">
            <a:off x="682560" y="227664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156120" y="227808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436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844720" y="15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4861080" y="4003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610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4" name=""/>
          <p:cNvGrpSpPr/>
          <p:nvPr/>
        </p:nvGrpSpPr>
        <p:grpSpPr>
          <a:xfrm>
            <a:off x="7944840" y="3355920"/>
            <a:ext cx="587880" cy="581400"/>
            <a:chOff x="7944840" y="3355920"/>
            <a:chExt cx="587880" cy="581400"/>
          </a:xfrm>
        </p:grpSpPr>
        <p:sp>
          <p:nvSpPr>
            <p:cNvPr id="1035" name=""/>
            <p:cNvSpPr/>
            <p:nvPr/>
          </p:nvSpPr>
          <p:spPr>
            <a:xfrm>
              <a:off x="7944840" y="3355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232480" y="3427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3708360" y="4075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3708360" y="5516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4861080" y="4003560"/>
          <a:ext cx="13320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610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7334280" y="40035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342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3" name=""/>
          <p:cNvGrpSpPr/>
          <p:nvPr/>
        </p:nvGrpSpPr>
        <p:grpSpPr>
          <a:xfrm>
            <a:off x="4383000" y="2635200"/>
            <a:ext cx="3502080" cy="2881440"/>
            <a:chOff x="4383000" y="2635200"/>
            <a:chExt cx="3502080" cy="2881440"/>
          </a:xfrm>
        </p:grpSpPr>
        <p:sp>
          <p:nvSpPr>
            <p:cNvPr id="1044" name=""/>
            <p:cNvSpPr/>
            <p:nvPr/>
          </p:nvSpPr>
          <p:spPr>
            <a:xfrm>
              <a:off x="4716360" y="2635200"/>
              <a:ext cx="3168720" cy="273708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4383000" y="4768920"/>
              <a:ext cx="548640" cy="675720"/>
              <a:chOff x="4383000" y="4768920"/>
              <a:chExt cx="548640" cy="675720"/>
            </a:xfrm>
          </p:grpSpPr>
          <p:grpSp>
            <p:nvGrpSpPr>
              <p:cNvPr id="1046" name=""/>
              <p:cNvGrpSpPr/>
              <p:nvPr/>
            </p:nvGrpSpPr>
            <p:grpSpPr>
              <a:xfrm>
                <a:off x="4383000" y="4768920"/>
                <a:ext cx="452160" cy="581400"/>
                <a:chOff x="4383000" y="4768920"/>
                <a:chExt cx="452160" cy="58140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4383000" y="47689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597200" y="483984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>
                <a:off x="4598640" y="4984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6878880" y="4362480"/>
              <a:ext cx="549000" cy="675720"/>
              <a:chOff x="6878880" y="4362480"/>
              <a:chExt cx="549000" cy="67572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6878880" y="4362480"/>
                <a:ext cx="452160" cy="581400"/>
                <a:chOff x="6878880" y="4362480"/>
                <a:chExt cx="452160" cy="58140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6878880" y="43624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093080" y="44334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>
                <a:off x="7094880" y="4578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"/>
            <p:cNvSpPr/>
            <p:nvPr/>
          </p:nvSpPr>
          <p:spPr>
            <a:xfrm>
              <a:off x="4932360" y="4076640"/>
              <a:ext cx="0" cy="1440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405560" y="4076640"/>
              <a:ext cx="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57380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094520" y="3354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4932360" y="4075200"/>
              <a:ext cx="244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"/>
          <p:cNvSpPr/>
          <p:nvPr/>
        </p:nvSpPr>
        <p:spPr>
          <a:xfrm flipV="1">
            <a:off x="5867280" y="2204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3708360" y="4075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381800" y="4075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605800" y="4075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381800" y="4940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3708360" y="407520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453440" y="407520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4932360" y="2565360"/>
            <a:ext cx="1224000" cy="1509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5221440" y="2417760"/>
            <a:ext cx="2232000" cy="1657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709440" y="4292640"/>
            <a:ext cx="587880" cy="675720"/>
            <a:chOff x="3709440" y="4292640"/>
            <a:chExt cx="587880" cy="675720"/>
          </a:xfrm>
        </p:grpSpPr>
        <p:grpSp>
          <p:nvGrpSpPr>
            <p:cNvPr id="1070" name=""/>
            <p:cNvGrpSpPr/>
            <p:nvPr/>
          </p:nvGrpSpPr>
          <p:grpSpPr>
            <a:xfrm>
              <a:off x="3709440" y="4292640"/>
              <a:ext cx="587880" cy="581400"/>
              <a:chOff x="3709440" y="4292640"/>
              <a:chExt cx="587880" cy="581400"/>
            </a:xfrm>
          </p:grpSpPr>
          <p:sp>
            <p:nvSpPr>
              <p:cNvPr id="1071" name=""/>
              <p:cNvSpPr/>
              <p:nvPr/>
            </p:nvSpPr>
            <p:spPr>
              <a:xfrm>
                <a:off x="3709440" y="4292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924000" y="4363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3926160" y="450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322200" y="4438800"/>
                <a:ext cx="26780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50920" y="5734080"/>
                <a:ext cx="34560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6" name=""/>
          <p:cNvGrpSpPr/>
          <p:nvPr/>
        </p:nvGrpSpPr>
        <p:grpSpPr>
          <a:xfrm>
            <a:off x="3133800" y="2611440"/>
            <a:ext cx="549000" cy="675720"/>
            <a:chOff x="3133800" y="2611440"/>
            <a:chExt cx="549000" cy="675720"/>
          </a:xfrm>
        </p:grpSpPr>
        <p:grpSp>
          <p:nvGrpSpPr>
            <p:cNvPr id="1077" name=""/>
            <p:cNvGrpSpPr/>
            <p:nvPr/>
          </p:nvGrpSpPr>
          <p:grpSpPr>
            <a:xfrm>
              <a:off x="3133800" y="2611440"/>
              <a:ext cx="452160" cy="581400"/>
              <a:chOff x="3133800" y="2611440"/>
              <a:chExt cx="452160" cy="581400"/>
            </a:xfrm>
          </p:grpSpPr>
          <p:sp>
            <p:nvSpPr>
              <p:cNvPr id="1078" name=""/>
              <p:cNvSpPr/>
              <p:nvPr/>
            </p:nvSpPr>
            <p:spPr>
              <a:xfrm>
                <a:off x="3133800" y="2611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348000" y="2682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3349800" y="2827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917960" y="16272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095640" y="62064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Dve paralelne sile istog s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24000" y="692280"/>
            <a:ext cx="316836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5" name=""/>
          <p:cNvGraphicFramePr/>
          <p:nvPr/>
        </p:nvGraphicFramePr>
        <p:xfrm>
          <a:off x="468360" y="206064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7" name=""/>
          <p:cNvGraphicFramePr/>
          <p:nvPr/>
        </p:nvGraphicFramePr>
        <p:xfrm>
          <a:off x="2941560" y="206064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1560" y="206064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9" name=""/>
          <p:cNvGrpSpPr/>
          <p:nvPr/>
        </p:nvGrpSpPr>
        <p:grpSpPr>
          <a:xfrm>
            <a:off x="-34920" y="2492280"/>
            <a:ext cx="548640" cy="675720"/>
            <a:chOff x="-34920" y="2492280"/>
            <a:chExt cx="548640" cy="675720"/>
          </a:xfrm>
        </p:grpSpPr>
        <p:grpSp>
          <p:nvGrpSpPr>
            <p:cNvPr id="1090" name=""/>
            <p:cNvGrpSpPr/>
            <p:nvPr/>
          </p:nvGrpSpPr>
          <p:grpSpPr>
            <a:xfrm>
              <a:off x="-34920" y="2492280"/>
              <a:ext cx="452160" cy="581400"/>
              <a:chOff x="-34920" y="2492280"/>
              <a:chExt cx="452160" cy="581400"/>
            </a:xfrm>
          </p:grpSpPr>
          <p:sp>
            <p:nvSpPr>
              <p:cNvPr id="1091" name=""/>
              <p:cNvSpPr/>
              <p:nvPr/>
            </p:nvSpPr>
            <p:spPr>
              <a:xfrm>
                <a:off x="-3492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79280" y="2563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>
              <a:off x="18072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2341800" y="2276640"/>
            <a:ext cx="549000" cy="675360"/>
            <a:chOff x="2341800" y="2276640"/>
            <a:chExt cx="549000" cy="675360"/>
          </a:xfrm>
        </p:grpSpPr>
        <p:grpSp>
          <p:nvGrpSpPr>
            <p:cNvPr id="1095" name=""/>
            <p:cNvGrpSpPr/>
            <p:nvPr/>
          </p:nvGrpSpPr>
          <p:grpSpPr>
            <a:xfrm>
              <a:off x="2341800" y="2276640"/>
              <a:ext cx="452160" cy="581400"/>
              <a:chOff x="2341800" y="2276640"/>
              <a:chExt cx="452160" cy="581400"/>
            </a:xfrm>
          </p:grpSpPr>
          <p:sp>
            <p:nvSpPr>
              <p:cNvPr id="1096" name=""/>
              <p:cNvSpPr/>
              <p:nvPr/>
            </p:nvSpPr>
            <p:spPr>
              <a:xfrm>
                <a:off x="2341800" y="227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556000" y="2347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2557800" y="24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539640" y="213372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3911760" y="2419200"/>
            <a:ext cx="452160" cy="581400"/>
            <a:chOff x="3911760" y="2419200"/>
            <a:chExt cx="452160" cy="581400"/>
          </a:xfrm>
        </p:grpSpPr>
        <p:sp>
          <p:nvSpPr>
            <p:cNvPr id="1101" name=""/>
            <p:cNvSpPr/>
            <p:nvPr/>
          </p:nvSpPr>
          <p:spPr>
            <a:xfrm>
              <a:off x="3911760" y="2419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125960" y="2490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 flipV="1">
            <a:off x="539640" y="2131560"/>
            <a:ext cx="2449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013200" y="213372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4144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702160" y="1411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5062680" y="2995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26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9" name=""/>
          <p:cNvSpPr/>
          <p:nvPr/>
        </p:nvSpPr>
        <p:spPr>
          <a:xfrm flipH="1">
            <a:off x="3909960" y="3067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583400" y="3067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8146440" y="2347920"/>
            <a:ext cx="587880" cy="581400"/>
            <a:chOff x="8146440" y="2347920"/>
            <a:chExt cx="587880" cy="581400"/>
          </a:xfrm>
        </p:grpSpPr>
        <p:sp>
          <p:nvSpPr>
            <p:cNvPr id="1112" name=""/>
            <p:cNvSpPr/>
            <p:nvPr/>
          </p:nvSpPr>
          <p:spPr>
            <a:xfrm>
              <a:off x="8146440" y="234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434080" y="241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3909960" y="3067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8807400" y="3067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7583400" y="3932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3909960" y="4508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4917960" y="1557360"/>
            <a:ext cx="1441440" cy="17272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 flipV="1">
            <a:off x="5421240" y="1412640"/>
            <a:ext cx="2232000" cy="165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5062680" y="2995560"/>
          <a:ext cx="13320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626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2" name=""/>
          <p:cNvGraphicFramePr/>
          <p:nvPr/>
        </p:nvGraphicFramePr>
        <p:xfrm>
          <a:off x="7535880" y="29955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358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4" name=""/>
          <p:cNvGrpSpPr/>
          <p:nvPr/>
        </p:nvGrpSpPr>
        <p:grpSpPr>
          <a:xfrm>
            <a:off x="4584600" y="3760920"/>
            <a:ext cx="548640" cy="675360"/>
            <a:chOff x="4584600" y="3760920"/>
            <a:chExt cx="548640" cy="675360"/>
          </a:xfrm>
        </p:grpSpPr>
        <p:grpSp>
          <p:nvGrpSpPr>
            <p:cNvPr id="1125" name=""/>
            <p:cNvGrpSpPr/>
            <p:nvPr/>
          </p:nvGrpSpPr>
          <p:grpSpPr>
            <a:xfrm>
              <a:off x="4584600" y="3760920"/>
              <a:ext cx="452160" cy="581400"/>
              <a:chOff x="4584600" y="3760920"/>
              <a:chExt cx="452160" cy="581400"/>
            </a:xfrm>
          </p:grpSpPr>
          <p:sp>
            <p:nvSpPr>
              <p:cNvPr id="1126" name=""/>
              <p:cNvSpPr/>
              <p:nvPr/>
            </p:nvSpPr>
            <p:spPr>
              <a:xfrm>
                <a:off x="4584600" y="3760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798800" y="3831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4800240" y="3976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080480" y="3354480"/>
            <a:ext cx="549000" cy="675360"/>
            <a:chOff x="7080480" y="3354480"/>
            <a:chExt cx="549000" cy="675360"/>
          </a:xfrm>
        </p:grpSpPr>
        <p:grpSp>
          <p:nvGrpSpPr>
            <p:cNvPr id="1130" name=""/>
            <p:cNvGrpSpPr/>
            <p:nvPr/>
          </p:nvGrpSpPr>
          <p:grpSpPr>
            <a:xfrm>
              <a:off x="7080480" y="3354480"/>
              <a:ext cx="452160" cy="581400"/>
              <a:chOff x="7080480" y="3354480"/>
              <a:chExt cx="452160" cy="581400"/>
            </a:xfrm>
          </p:grpSpPr>
          <p:sp>
            <p:nvSpPr>
              <p:cNvPr id="1131" name=""/>
              <p:cNvSpPr/>
              <p:nvPr/>
            </p:nvSpPr>
            <p:spPr>
              <a:xfrm>
                <a:off x="7080480" y="3354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294680" y="34254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"/>
            <p:cNvSpPr/>
            <p:nvPr/>
          </p:nvSpPr>
          <p:spPr>
            <a:xfrm>
              <a:off x="7296480" y="357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5133960" y="306864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607160" y="306864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7754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7296120" y="2346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5133960" y="306720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 flipV="1">
            <a:off x="4917600" y="3355560"/>
            <a:ext cx="115092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5997240" y="2781360"/>
            <a:ext cx="1152360" cy="14382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653240" y="3068640"/>
            <a:ext cx="115272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3924360" y="306864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070320" y="24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6215400" y="4484520"/>
            <a:ext cx="616680" cy="675720"/>
            <a:chOff x="6215400" y="4484520"/>
            <a:chExt cx="616680" cy="675720"/>
          </a:xfrm>
        </p:grpSpPr>
        <p:grpSp>
          <p:nvGrpSpPr>
            <p:cNvPr id="1145" name=""/>
            <p:cNvGrpSpPr/>
            <p:nvPr/>
          </p:nvGrpSpPr>
          <p:grpSpPr>
            <a:xfrm>
              <a:off x="6215400" y="4484520"/>
              <a:ext cx="452160" cy="581400"/>
              <a:chOff x="6215400" y="4484520"/>
              <a:chExt cx="452160" cy="581400"/>
            </a:xfrm>
          </p:grpSpPr>
          <p:sp>
            <p:nvSpPr>
              <p:cNvPr id="1146" name=""/>
              <p:cNvSpPr/>
              <p:nvPr/>
            </p:nvSpPr>
            <p:spPr>
              <a:xfrm>
                <a:off x="6215400" y="4484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429600" y="4555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6431760" y="4700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 flipV="1">
            <a:off x="6068880" y="1196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68880" y="1916280"/>
            <a:ext cx="0" cy="23047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5997600" y="2997360"/>
          <a:ext cx="133200" cy="12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97600" y="29973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3" name=""/>
          <p:cNvGrpSpPr/>
          <p:nvPr/>
        </p:nvGrpSpPr>
        <p:grpSpPr>
          <a:xfrm>
            <a:off x="8519760" y="4005360"/>
            <a:ext cx="587880" cy="675360"/>
            <a:chOff x="8519760" y="4005360"/>
            <a:chExt cx="587880" cy="675360"/>
          </a:xfrm>
        </p:grpSpPr>
        <p:grpSp>
          <p:nvGrpSpPr>
            <p:cNvPr id="1154" name=""/>
            <p:cNvGrpSpPr/>
            <p:nvPr/>
          </p:nvGrpSpPr>
          <p:grpSpPr>
            <a:xfrm>
              <a:off x="8519760" y="4005360"/>
              <a:ext cx="587880" cy="581400"/>
              <a:chOff x="8519760" y="4005360"/>
              <a:chExt cx="587880" cy="581400"/>
            </a:xfrm>
          </p:grpSpPr>
          <p:sp>
            <p:nvSpPr>
              <p:cNvPr id="1155" name=""/>
              <p:cNvSpPr/>
              <p:nvPr/>
            </p:nvSpPr>
            <p:spPr>
              <a:xfrm>
                <a:off x="8519760" y="40053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734320" y="40762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8736480" y="42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3261960" y="4149720"/>
            <a:ext cx="587880" cy="675720"/>
            <a:chOff x="3261960" y="4149720"/>
            <a:chExt cx="587880" cy="675720"/>
          </a:xfrm>
        </p:grpSpPr>
        <p:grpSp>
          <p:nvGrpSpPr>
            <p:cNvPr id="1159" name=""/>
            <p:cNvGrpSpPr/>
            <p:nvPr/>
          </p:nvGrpSpPr>
          <p:grpSpPr>
            <a:xfrm>
              <a:off x="3261960" y="4149720"/>
              <a:ext cx="587880" cy="581400"/>
              <a:chOff x="3261960" y="4149720"/>
              <a:chExt cx="587880" cy="581400"/>
            </a:xfrm>
          </p:grpSpPr>
          <p:sp>
            <p:nvSpPr>
              <p:cNvPr id="1160" name=""/>
              <p:cNvSpPr/>
              <p:nvPr/>
            </p:nvSpPr>
            <p:spPr>
              <a:xfrm>
                <a:off x="3261960" y="414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476520" y="4220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34786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"/>
          <p:cNvSpPr/>
          <p:nvPr/>
        </p:nvSpPr>
        <p:spPr>
          <a:xfrm flipH="1">
            <a:off x="900000" y="39337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900000" y="393372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900000" y="537372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900000" y="62388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900000" y="393372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37372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124000" y="3933720"/>
            <a:ext cx="0" cy="230508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2411280" y="5589720"/>
                <a:ext cx="65534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71" name=""/>
          <p:cNvGrpSpPr/>
          <p:nvPr/>
        </p:nvGrpSpPr>
        <p:grpSpPr>
          <a:xfrm>
            <a:off x="1093680" y="3357720"/>
            <a:ext cx="452160" cy="581400"/>
            <a:chOff x="1093680" y="3357720"/>
            <a:chExt cx="452160" cy="581400"/>
          </a:xfrm>
        </p:grpSpPr>
        <p:sp>
          <p:nvSpPr>
            <p:cNvPr id="1172" name=""/>
            <p:cNvSpPr/>
            <p:nvPr/>
          </p:nvSpPr>
          <p:spPr>
            <a:xfrm>
              <a:off x="1093680" y="33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07880" y="34286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1188360" y="6278400"/>
            <a:ext cx="587880" cy="581400"/>
            <a:chOff x="1188360" y="6278400"/>
            <a:chExt cx="587880" cy="581400"/>
          </a:xfrm>
        </p:grpSpPr>
        <p:sp>
          <p:nvSpPr>
            <p:cNvPr id="1175" name=""/>
            <p:cNvSpPr/>
            <p:nvPr/>
          </p:nvSpPr>
          <p:spPr>
            <a:xfrm>
              <a:off x="1188360" y="6278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476000" y="6349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325440" y="4149720"/>
            <a:ext cx="548640" cy="675720"/>
            <a:chOff x="325440" y="4149720"/>
            <a:chExt cx="548640" cy="675720"/>
          </a:xfrm>
        </p:grpSpPr>
        <p:grpSp>
          <p:nvGrpSpPr>
            <p:cNvPr id="1178" name=""/>
            <p:cNvGrpSpPr/>
            <p:nvPr/>
          </p:nvGrpSpPr>
          <p:grpSpPr>
            <a:xfrm>
              <a:off x="325440" y="4149720"/>
              <a:ext cx="452160" cy="581400"/>
              <a:chOff x="325440" y="4149720"/>
              <a:chExt cx="452160" cy="581400"/>
            </a:xfrm>
          </p:grpSpPr>
          <p:sp>
            <p:nvSpPr>
              <p:cNvPr id="1179" name=""/>
              <p:cNvSpPr/>
              <p:nvPr/>
            </p:nvSpPr>
            <p:spPr>
              <a:xfrm>
                <a:off x="325440" y="414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9640" y="4220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1" name=""/>
            <p:cNvSpPr/>
            <p:nvPr/>
          </p:nvSpPr>
          <p:spPr>
            <a:xfrm>
              <a:off x="54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252360" y="5373720"/>
            <a:ext cx="548640" cy="675720"/>
            <a:chOff x="252360" y="5373720"/>
            <a:chExt cx="548640" cy="675720"/>
          </a:xfrm>
        </p:grpSpPr>
        <p:grpSp>
          <p:nvGrpSpPr>
            <p:cNvPr id="1183" name=""/>
            <p:cNvGrpSpPr/>
            <p:nvPr/>
          </p:nvGrpSpPr>
          <p:grpSpPr>
            <a:xfrm>
              <a:off x="252360" y="5373720"/>
              <a:ext cx="452160" cy="581400"/>
              <a:chOff x="252360" y="5373720"/>
              <a:chExt cx="452160" cy="581400"/>
            </a:xfrm>
          </p:grpSpPr>
          <p:sp>
            <p:nvSpPr>
              <p:cNvPr id="1184" name=""/>
              <p:cNvSpPr/>
              <p:nvPr/>
            </p:nvSpPr>
            <p:spPr>
              <a:xfrm>
                <a:off x="252360" y="537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66560" y="5444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468000" y="558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1044000" y="4076640"/>
            <a:ext cx="587880" cy="675720"/>
            <a:chOff x="1044000" y="4076640"/>
            <a:chExt cx="587880" cy="675720"/>
          </a:xfrm>
        </p:grpSpPr>
        <p:grpSp>
          <p:nvGrpSpPr>
            <p:cNvPr id="1188" name=""/>
            <p:cNvGrpSpPr/>
            <p:nvPr/>
          </p:nvGrpSpPr>
          <p:grpSpPr>
            <a:xfrm>
              <a:off x="1044000" y="4076640"/>
              <a:ext cx="587880" cy="581400"/>
              <a:chOff x="1044000" y="4076640"/>
              <a:chExt cx="587880" cy="581400"/>
            </a:xfrm>
          </p:grpSpPr>
          <p:sp>
            <p:nvSpPr>
              <p:cNvPr id="1189" name=""/>
              <p:cNvSpPr/>
              <p:nvPr/>
            </p:nvSpPr>
            <p:spPr>
              <a:xfrm>
                <a:off x="1044000" y="4076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258560" y="4147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1260720" y="429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1404360" y="5229360"/>
            <a:ext cx="587880" cy="675360"/>
            <a:chOff x="1404360" y="5229360"/>
            <a:chExt cx="587880" cy="675360"/>
          </a:xfrm>
        </p:grpSpPr>
        <p:grpSp>
          <p:nvGrpSpPr>
            <p:cNvPr id="1193" name=""/>
            <p:cNvGrpSpPr/>
            <p:nvPr/>
          </p:nvGrpSpPr>
          <p:grpSpPr>
            <a:xfrm>
              <a:off x="1404360" y="5229360"/>
              <a:ext cx="587880" cy="581400"/>
              <a:chOff x="1404360" y="5229360"/>
              <a:chExt cx="587880" cy="581400"/>
            </a:xfrm>
          </p:grpSpPr>
          <p:sp>
            <p:nvSpPr>
              <p:cNvPr id="1194" name=""/>
              <p:cNvSpPr/>
              <p:nvPr/>
            </p:nvSpPr>
            <p:spPr>
              <a:xfrm>
                <a:off x="1404360" y="52293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618920" y="53002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1621080" y="54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2125800" y="4508640"/>
            <a:ext cx="616680" cy="675360"/>
            <a:chOff x="2125800" y="4508640"/>
            <a:chExt cx="616680" cy="675360"/>
          </a:xfrm>
        </p:grpSpPr>
        <p:grpSp>
          <p:nvGrpSpPr>
            <p:cNvPr id="1198" name=""/>
            <p:cNvGrpSpPr/>
            <p:nvPr/>
          </p:nvGrpSpPr>
          <p:grpSpPr>
            <a:xfrm>
              <a:off x="2125800" y="4508640"/>
              <a:ext cx="452160" cy="581400"/>
              <a:chOff x="2125800" y="4508640"/>
              <a:chExt cx="452160" cy="581400"/>
            </a:xfrm>
          </p:grpSpPr>
          <p:sp>
            <p:nvSpPr>
              <p:cNvPr id="1199" name=""/>
              <p:cNvSpPr/>
              <p:nvPr/>
            </p:nvSpPr>
            <p:spPr>
              <a:xfrm>
                <a:off x="2125800" y="450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340000" y="4579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234216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10226 -0.16786 E">
                                      <p:cBhvr>
                                        <p:cTn id="453" dur="2000" fill="hold"/>
                                        <p:tgtEl>
                                          <p:spTgt spid="1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5896E-006 L 0.18107 -0.32531 E">
                                      <p:cBhvr>
                                        <p:cTn id="456" dur="2000" fill="hold"/>
                                        <p:tgtEl>
                                          <p:spTgt spid="1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7341E-007 L -0.17326 -0.16786 E">
                                      <p:cBhvr>
                                        <p:cTn id="459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21267 -0.35653 E">
                                      <p:cBhvr>
                                        <p:cTn id="462" dur="2000" fill="hold"/>
                                        <p:tgtEl>
                                          <p:spTgt spid="1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2.77457E-006 L 3.33333E-006 0.16786 E">
                                      <p:cBhvr>
                                        <p:cTn id="476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2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8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2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4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6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2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3203640" y="4076640"/>
            <a:ext cx="1873080" cy="151308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olo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žaj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8519760" y="2709720"/>
            <a:ext cx="587880" cy="675720"/>
            <a:chOff x="8519760" y="2709720"/>
            <a:chExt cx="587880" cy="675720"/>
          </a:xfrm>
        </p:grpSpPr>
        <p:grpSp>
          <p:nvGrpSpPr>
            <p:cNvPr id="1205" name=""/>
            <p:cNvGrpSpPr/>
            <p:nvPr/>
          </p:nvGrpSpPr>
          <p:grpSpPr>
            <a:xfrm>
              <a:off x="8519760" y="2709720"/>
              <a:ext cx="587880" cy="581400"/>
              <a:chOff x="8519760" y="2709720"/>
              <a:chExt cx="587880" cy="581400"/>
            </a:xfrm>
          </p:grpSpPr>
          <p:sp>
            <p:nvSpPr>
              <p:cNvPr id="1206" name=""/>
              <p:cNvSpPr/>
              <p:nvPr/>
            </p:nvSpPr>
            <p:spPr>
              <a:xfrm>
                <a:off x="8519760" y="270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734320" y="2780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8736480" y="292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3984840" y="1195560"/>
            <a:ext cx="452160" cy="581400"/>
            <a:chOff x="3984840" y="1195560"/>
            <a:chExt cx="452160" cy="581400"/>
          </a:xfrm>
        </p:grpSpPr>
        <p:sp>
          <p:nvSpPr>
            <p:cNvPr id="1210" name=""/>
            <p:cNvSpPr/>
            <p:nvPr/>
          </p:nvSpPr>
          <p:spPr>
            <a:xfrm>
              <a:off x="3984840" y="1195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199040" y="1266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2" name=""/>
          <p:cNvGraphicFramePr/>
          <p:nvPr/>
        </p:nvGraphicFramePr>
        <p:xfrm>
          <a:off x="5135400" y="177156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5400" y="17715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4" name=""/>
          <p:cNvGrpSpPr/>
          <p:nvPr/>
        </p:nvGrpSpPr>
        <p:grpSpPr>
          <a:xfrm>
            <a:off x="8219520" y="1123920"/>
            <a:ext cx="587880" cy="581400"/>
            <a:chOff x="8219520" y="1123920"/>
            <a:chExt cx="587880" cy="581400"/>
          </a:xfrm>
        </p:grpSpPr>
        <p:sp>
          <p:nvSpPr>
            <p:cNvPr id="1215" name=""/>
            <p:cNvSpPr/>
            <p:nvPr/>
          </p:nvSpPr>
          <p:spPr>
            <a:xfrm>
              <a:off x="8219520" y="112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507160" y="119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"/>
          <p:cNvSpPr/>
          <p:nvPr/>
        </p:nvSpPr>
        <p:spPr>
          <a:xfrm>
            <a:off x="3983040" y="1843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3983040" y="3284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"/>
          <p:cNvGraphicFramePr/>
          <p:nvPr/>
        </p:nvGraphicFramePr>
        <p:xfrm>
          <a:off x="5135400" y="177156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5400" y="17715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1" name=""/>
          <p:cNvGraphicFramePr/>
          <p:nvPr/>
        </p:nvGraphicFramePr>
        <p:xfrm>
          <a:off x="7608960" y="1771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08960" y="1771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3" name=""/>
          <p:cNvSpPr/>
          <p:nvPr/>
        </p:nvSpPr>
        <p:spPr>
          <a:xfrm>
            <a:off x="4978440" y="404640"/>
            <a:ext cx="3168720" cy="27370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5173560" y="2900520"/>
            <a:ext cx="548640" cy="675360"/>
            <a:chOff x="5173560" y="2900520"/>
            <a:chExt cx="548640" cy="675360"/>
          </a:xfrm>
        </p:grpSpPr>
        <p:grpSp>
          <p:nvGrpSpPr>
            <p:cNvPr id="1225" name=""/>
            <p:cNvGrpSpPr/>
            <p:nvPr/>
          </p:nvGrpSpPr>
          <p:grpSpPr>
            <a:xfrm>
              <a:off x="5173560" y="2900520"/>
              <a:ext cx="452160" cy="581400"/>
              <a:chOff x="5173560" y="2900520"/>
              <a:chExt cx="452160" cy="581400"/>
            </a:xfrm>
          </p:grpSpPr>
          <p:sp>
            <p:nvSpPr>
              <p:cNvPr id="1226" name=""/>
              <p:cNvSpPr/>
              <p:nvPr/>
            </p:nvSpPr>
            <p:spPr>
              <a:xfrm>
                <a:off x="5173560" y="2900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387760" y="29714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5389200" y="311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140600" y="2131920"/>
            <a:ext cx="548640" cy="675720"/>
            <a:chOff x="7140600" y="2131920"/>
            <a:chExt cx="548640" cy="675720"/>
          </a:xfrm>
        </p:grpSpPr>
        <p:grpSp>
          <p:nvGrpSpPr>
            <p:cNvPr id="1230" name=""/>
            <p:cNvGrpSpPr/>
            <p:nvPr/>
          </p:nvGrpSpPr>
          <p:grpSpPr>
            <a:xfrm>
              <a:off x="7140600" y="2131920"/>
              <a:ext cx="452160" cy="581400"/>
              <a:chOff x="7140600" y="2131920"/>
              <a:chExt cx="452160" cy="581400"/>
            </a:xfrm>
          </p:grpSpPr>
          <p:sp>
            <p:nvSpPr>
              <p:cNvPr id="1231" name=""/>
              <p:cNvSpPr/>
              <p:nvPr/>
            </p:nvSpPr>
            <p:spPr>
              <a:xfrm>
                <a:off x="7140600" y="213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354800" y="2202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>
              <a:off x="7356240" y="23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5194440" y="184644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667640" y="1846440"/>
            <a:ext cx="0" cy="86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835520" y="1198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356600" y="1123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194440" y="18442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6141960" y="-2736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3983040" y="1843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656480" y="1843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880480" y="1843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7656480" y="2708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983040" y="184320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7728120" y="184320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5207040" y="333360"/>
            <a:ext cx="1224000" cy="1509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495400" y="185760"/>
            <a:ext cx="2232360" cy="1657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3984120" y="2060640"/>
            <a:ext cx="587880" cy="675720"/>
            <a:chOff x="3984120" y="2060640"/>
            <a:chExt cx="587880" cy="675720"/>
          </a:xfrm>
        </p:grpSpPr>
        <p:grpSp>
          <p:nvGrpSpPr>
            <p:cNvPr id="1249" name=""/>
            <p:cNvGrpSpPr/>
            <p:nvPr/>
          </p:nvGrpSpPr>
          <p:grpSpPr>
            <a:xfrm>
              <a:off x="3984120" y="2060640"/>
              <a:ext cx="587880" cy="581400"/>
              <a:chOff x="3984120" y="2060640"/>
              <a:chExt cx="587880" cy="581400"/>
            </a:xfrm>
          </p:grpSpPr>
          <p:sp>
            <p:nvSpPr>
              <p:cNvPr id="1250" name=""/>
              <p:cNvSpPr/>
              <p:nvPr/>
            </p:nvSpPr>
            <p:spPr>
              <a:xfrm>
                <a:off x="3984120" y="2060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198680" y="2131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>
              <a:off x="4200840" y="22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6141960" y="1846440"/>
            <a:ext cx="0" cy="23047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6288480" y="3573360"/>
            <a:ext cx="616680" cy="675720"/>
            <a:chOff x="6288480" y="3573360"/>
            <a:chExt cx="616680" cy="675720"/>
          </a:xfrm>
        </p:grpSpPr>
        <p:grpSp>
          <p:nvGrpSpPr>
            <p:cNvPr id="1255" name=""/>
            <p:cNvGrpSpPr/>
            <p:nvPr/>
          </p:nvGrpSpPr>
          <p:grpSpPr>
            <a:xfrm>
              <a:off x="6288480" y="3573360"/>
              <a:ext cx="452160" cy="581400"/>
              <a:chOff x="6288480" y="3573360"/>
              <a:chExt cx="452160" cy="581400"/>
            </a:xfrm>
          </p:grpSpPr>
          <p:sp>
            <p:nvSpPr>
              <p:cNvPr id="1256" name=""/>
              <p:cNvSpPr/>
              <p:nvPr/>
            </p:nvSpPr>
            <p:spPr>
              <a:xfrm>
                <a:off x="6288480" y="3573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502680" y="364428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6504840" y="3789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6229080" y="177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5062680" y="0"/>
            <a:ext cx="2734920" cy="5302080"/>
            <a:chOff x="5062680" y="0"/>
            <a:chExt cx="2734920" cy="5302080"/>
          </a:xfrm>
        </p:grpSpPr>
        <p:sp>
          <p:nvSpPr>
            <p:cNvPr id="1261" name=""/>
            <p:cNvSpPr/>
            <p:nvPr/>
          </p:nvSpPr>
          <p:spPr>
            <a:xfrm>
              <a:off x="5207040" y="3357720"/>
              <a:ext cx="0" cy="180000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655040" y="2709720"/>
              <a:ext cx="0" cy="244800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141960" y="4078440"/>
              <a:ext cx="0" cy="71892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206680" y="4726080"/>
              <a:ext cx="934920" cy="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5207040" y="5157720"/>
              <a:ext cx="2448000" cy="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5062680" y="4581360"/>
              <a:ext cx="287280" cy="28908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5998680" y="4581360"/>
              <a:ext cx="287640" cy="28908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5062680" y="5013360"/>
              <a:ext cx="287280" cy="28872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7509960" y="5013360"/>
              <a:ext cx="287640" cy="28872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423040" y="4149720"/>
              <a:ext cx="54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57960" y="4581360"/>
              <a:ext cx="5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51640" y="0"/>
              <a:ext cx="6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0" y="62064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z sličnosti troug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4067280" y="691920"/>
            <a:ext cx="2089080" cy="2592360"/>
            <a:chOff x="4067280" y="691920"/>
            <a:chExt cx="2089080" cy="2592360"/>
          </a:xfrm>
        </p:grpSpPr>
        <p:sp>
          <p:nvSpPr>
            <p:cNvPr id="1275" name=""/>
            <p:cNvSpPr/>
            <p:nvPr/>
          </p:nvSpPr>
          <p:spPr>
            <a:xfrm rot="16200000">
              <a:off x="5111640" y="799560"/>
              <a:ext cx="1152360" cy="93672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3960000" y="2095920"/>
              <a:ext cx="1295640" cy="108108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6156360" y="692280"/>
            <a:ext cx="2736720" cy="2017440"/>
            <a:chOff x="6156360" y="692280"/>
            <a:chExt cx="2736720" cy="2017440"/>
          </a:xfrm>
        </p:grpSpPr>
        <p:sp>
          <p:nvSpPr>
            <p:cNvPr id="1278" name=""/>
            <p:cNvSpPr/>
            <p:nvPr/>
          </p:nvSpPr>
          <p:spPr>
            <a:xfrm>
              <a:off x="6156360" y="692280"/>
              <a:ext cx="1511280" cy="115416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667640" y="1844640"/>
              <a:ext cx="1225440" cy="86508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179280" y="1268280"/>
                <a:ext cx="1440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050920" y="1274760"/>
                <a:ext cx="159084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195640" y="5373720"/>
                <a:ext cx="6696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468360" y="3129120"/>
                <a:ext cx="2611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0" y="4149720"/>
                <a:ext cx="50418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2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8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2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3600" spc="-1" strike="noStrike">
                <a:solidFill>
                  <a:srgbClr val="0000cc"/>
                </a:solidFill>
                <a:latin typeface="Times New Roman"/>
              </a:rPr>
              <a:t>Rezultanta dve paralelne sile istog smera deluje po pravoj paralelnoj datim silama, deleći rastojanje između napadnih linija sila u odnosu koji je obrnuto proporcionalan intenzitetu sil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2050920" y="3700440"/>
                <a:ext cx="4176720" cy="28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"/>
          <p:cNvGrpSpPr/>
          <p:nvPr/>
        </p:nvGrpSpPr>
        <p:grpSpPr>
          <a:xfrm>
            <a:off x="4525920" y="-27000"/>
            <a:ext cx="3502080" cy="3192480"/>
            <a:chOff x="4525920" y="-27000"/>
            <a:chExt cx="3502080" cy="3192480"/>
          </a:xfrm>
        </p:grpSpPr>
        <p:graphicFrame>
          <p:nvGraphicFramePr>
            <p:cNvPr id="1288" name=""/>
            <p:cNvGraphicFramePr/>
            <p:nvPr/>
          </p:nvGraphicFramePr>
          <p:xfrm>
            <a:off x="5003640" y="1363680"/>
            <a:ext cx="133560" cy="1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03640" y="13636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0" name=""/>
            <p:cNvGraphicFramePr/>
            <p:nvPr/>
          </p:nvGraphicFramePr>
          <p:xfrm>
            <a:off x="5003640" y="1363680"/>
            <a:ext cx="133560" cy="1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3636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2" name=""/>
            <p:cNvGraphicFramePr/>
            <p:nvPr/>
          </p:nvGraphicFramePr>
          <p:xfrm>
            <a:off x="7477200" y="1363680"/>
            <a:ext cx="133200" cy="1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77200" y="136368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94" name=""/>
            <p:cNvGrpSpPr/>
            <p:nvPr/>
          </p:nvGrpSpPr>
          <p:grpSpPr>
            <a:xfrm>
              <a:off x="4525920" y="-27000"/>
              <a:ext cx="3502080" cy="3192480"/>
              <a:chOff x="4525920" y="-27000"/>
              <a:chExt cx="3502080" cy="3192480"/>
            </a:xfrm>
          </p:grpSpPr>
          <p:sp>
            <p:nvSpPr>
              <p:cNvPr id="1295" name=""/>
              <p:cNvSpPr/>
              <p:nvPr/>
            </p:nvSpPr>
            <p:spPr>
              <a:xfrm>
                <a:off x="4859280" y="-27000"/>
                <a:ext cx="3168720" cy="2736720"/>
              </a:xfrm>
              <a:custGeom>
                <a:avLst/>
                <a:gdLst/>
                <a:ahLst/>
                <a:rect l="l" t="t" r="r" b="b"/>
                <a:pathLst>
                  <a:path w="1488" h="1188">
                    <a:moveTo>
                      <a:pt x="1225" y="137"/>
                    </a:moveTo>
                    <a:cubicBezTo>
                      <a:pt x="1170" y="80"/>
                      <a:pt x="1135" y="55"/>
                      <a:pt x="1061" y="18"/>
                    </a:cubicBezTo>
                    <a:cubicBezTo>
                      <a:pt x="1044" y="9"/>
                      <a:pt x="1006" y="0"/>
                      <a:pt x="1006" y="0"/>
                    </a:cubicBezTo>
                    <a:cubicBezTo>
                      <a:pt x="914" y="10"/>
                      <a:pt x="831" y="37"/>
                      <a:pt x="741" y="55"/>
                    </a:cubicBezTo>
                    <a:cubicBezTo>
                      <a:pt x="613" y="48"/>
                      <a:pt x="493" y="43"/>
                      <a:pt x="366" y="64"/>
                    </a:cubicBezTo>
                    <a:cubicBezTo>
                      <a:pt x="313" y="81"/>
                      <a:pt x="266" y="107"/>
                      <a:pt x="220" y="137"/>
                    </a:cubicBezTo>
                    <a:cubicBezTo>
                      <a:pt x="192" y="155"/>
                      <a:pt x="182" y="189"/>
                      <a:pt x="156" y="210"/>
                    </a:cubicBezTo>
                    <a:cubicBezTo>
                      <a:pt x="105" y="252"/>
                      <a:pt x="67" y="296"/>
                      <a:pt x="37" y="356"/>
                    </a:cubicBezTo>
                    <a:cubicBezTo>
                      <a:pt x="26" y="402"/>
                      <a:pt x="8" y="436"/>
                      <a:pt x="0" y="484"/>
                    </a:cubicBezTo>
                    <a:cubicBezTo>
                      <a:pt x="9" y="578"/>
                      <a:pt x="16" y="752"/>
                      <a:pt x="64" y="832"/>
                    </a:cubicBezTo>
                    <a:cubicBezTo>
                      <a:pt x="99" y="891"/>
                      <a:pt x="127" y="894"/>
                      <a:pt x="165" y="942"/>
                    </a:cubicBezTo>
                    <a:cubicBezTo>
                      <a:pt x="211" y="1001"/>
                      <a:pt x="184" y="1028"/>
                      <a:pt x="256" y="1070"/>
                    </a:cubicBezTo>
                    <a:cubicBezTo>
                      <a:pt x="295" y="1092"/>
                      <a:pt x="361" y="1091"/>
                      <a:pt x="403" y="1097"/>
                    </a:cubicBezTo>
                    <a:cubicBezTo>
                      <a:pt x="460" y="1116"/>
                      <a:pt x="520" y="1131"/>
                      <a:pt x="576" y="1152"/>
                    </a:cubicBezTo>
                    <a:cubicBezTo>
                      <a:pt x="589" y="1157"/>
                      <a:pt x="600" y="1166"/>
                      <a:pt x="613" y="1170"/>
                    </a:cubicBezTo>
                    <a:cubicBezTo>
                      <a:pt x="643" y="1179"/>
                      <a:pt x="674" y="1181"/>
                      <a:pt x="704" y="1188"/>
                    </a:cubicBezTo>
                    <a:cubicBezTo>
                      <a:pt x="816" y="1182"/>
                      <a:pt x="914" y="1164"/>
                      <a:pt x="1024" y="1152"/>
                    </a:cubicBezTo>
                    <a:cubicBezTo>
                      <a:pt x="1124" y="1128"/>
                      <a:pt x="1005" y="1161"/>
                      <a:pt x="1088" y="1124"/>
                    </a:cubicBezTo>
                    <a:cubicBezTo>
                      <a:pt x="1138" y="1102"/>
                      <a:pt x="1192" y="1087"/>
                      <a:pt x="1244" y="1070"/>
                    </a:cubicBezTo>
                    <a:cubicBezTo>
                      <a:pt x="1282" y="1030"/>
                      <a:pt x="1239" y="1070"/>
                      <a:pt x="1289" y="1042"/>
                    </a:cubicBezTo>
                    <a:cubicBezTo>
                      <a:pt x="1369" y="998"/>
                      <a:pt x="1443" y="948"/>
                      <a:pt x="1472" y="859"/>
                    </a:cubicBezTo>
                    <a:cubicBezTo>
                      <a:pt x="1488" y="697"/>
                      <a:pt x="1471" y="526"/>
                      <a:pt x="1436" y="366"/>
                    </a:cubicBezTo>
                    <a:cubicBezTo>
                      <a:pt x="1428" y="331"/>
                      <a:pt x="1414" y="249"/>
                      <a:pt x="1381" y="228"/>
                    </a:cubicBezTo>
                    <a:cubicBezTo>
                      <a:pt x="1365" y="218"/>
                      <a:pt x="1344" y="216"/>
                      <a:pt x="1326" y="210"/>
                    </a:cubicBezTo>
                    <a:cubicBezTo>
                      <a:pt x="1317" y="207"/>
                      <a:pt x="1299" y="201"/>
                      <a:pt x="1299" y="201"/>
                    </a:cubicBezTo>
                    <a:cubicBezTo>
                      <a:pt x="1275" y="178"/>
                      <a:pt x="1249" y="159"/>
                      <a:pt x="1225" y="137"/>
                    </a:cubicBezTo>
                    <a:close/>
                  </a:path>
                </a:pathLst>
              </a:custGeom>
              <a:solidFill>
                <a:srgbClr val="b1a887"/>
              </a:solidFill>
              <a:ln w="34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6" name=""/>
              <p:cNvGrpSpPr/>
              <p:nvPr/>
            </p:nvGrpSpPr>
            <p:grpSpPr>
              <a:xfrm>
                <a:off x="4525920" y="2128680"/>
                <a:ext cx="548640" cy="675720"/>
                <a:chOff x="4525920" y="2128680"/>
                <a:chExt cx="548640" cy="675720"/>
              </a:xfrm>
            </p:grpSpPr>
            <p:grpSp>
              <p:nvGrpSpPr>
                <p:cNvPr id="1297" name=""/>
                <p:cNvGrpSpPr/>
                <p:nvPr/>
              </p:nvGrpSpPr>
              <p:grpSpPr>
                <a:xfrm>
                  <a:off x="4525920" y="2128680"/>
                  <a:ext cx="452160" cy="581400"/>
                  <a:chOff x="4525920" y="2128680"/>
                  <a:chExt cx="452160" cy="581400"/>
                </a:xfrm>
              </p:grpSpPr>
              <p:sp>
                <p:nvSpPr>
                  <p:cNvPr id="1298" name=""/>
                  <p:cNvSpPr/>
                  <p:nvPr/>
                </p:nvSpPr>
                <p:spPr>
                  <a:xfrm>
                    <a:off x="4525920" y="212868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4740120" y="219960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0" name=""/>
                <p:cNvSpPr/>
                <p:nvPr/>
              </p:nvSpPr>
              <p:spPr>
                <a:xfrm>
                  <a:off x="4741560" y="2344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"/>
              <p:cNvGrpSpPr/>
              <p:nvPr/>
            </p:nvGrpSpPr>
            <p:grpSpPr>
              <a:xfrm>
                <a:off x="6878880" y="357120"/>
                <a:ext cx="549000" cy="675720"/>
                <a:chOff x="6878880" y="357120"/>
                <a:chExt cx="549000" cy="675720"/>
              </a:xfrm>
            </p:grpSpPr>
            <p:grpSp>
              <p:nvGrpSpPr>
                <p:cNvPr id="1302" name=""/>
                <p:cNvGrpSpPr/>
                <p:nvPr/>
              </p:nvGrpSpPr>
              <p:grpSpPr>
                <a:xfrm>
                  <a:off x="6878880" y="357120"/>
                  <a:ext cx="452160" cy="581400"/>
                  <a:chOff x="6878880" y="357120"/>
                  <a:chExt cx="452160" cy="58140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6878880" y="35712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7093080" y="42804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5" name=""/>
                <p:cNvSpPr/>
                <p:nvPr/>
              </p:nvSpPr>
              <p:spPr>
                <a:xfrm>
                  <a:off x="7094880" y="573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6" name=""/>
              <p:cNvSpPr/>
              <p:nvPr/>
            </p:nvSpPr>
            <p:spPr>
              <a:xfrm>
                <a:off x="5005440" y="83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381800" y="148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5075280" y="1434600"/>
                <a:ext cx="2449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 flipV="1">
                <a:off x="7524720" y="572760"/>
                <a:ext cx="23760" cy="865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076720" y="1438200"/>
                <a:ext cx="1800" cy="172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1" name=""/>
          <p:cNvSpPr/>
          <p:nvPr/>
        </p:nvSpPr>
        <p:spPr>
          <a:xfrm flipV="1">
            <a:off x="1547640" y="285480"/>
            <a:ext cx="759636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1619280" y="143460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79280" y="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 Dve paralel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uprotni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mer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8519760" y="-27000"/>
            <a:ext cx="587880" cy="675720"/>
            <a:chOff x="8519760" y="-27000"/>
            <a:chExt cx="587880" cy="675720"/>
          </a:xfrm>
        </p:grpSpPr>
        <p:grpSp>
          <p:nvGrpSpPr>
            <p:cNvPr id="1315" name=""/>
            <p:cNvGrpSpPr/>
            <p:nvPr/>
          </p:nvGrpSpPr>
          <p:grpSpPr>
            <a:xfrm>
              <a:off x="8519760" y="-27000"/>
              <a:ext cx="587880" cy="581400"/>
              <a:chOff x="8519760" y="-27000"/>
              <a:chExt cx="587880" cy="581400"/>
            </a:xfrm>
          </p:grpSpPr>
          <p:sp>
            <p:nvSpPr>
              <p:cNvPr id="1316" name=""/>
              <p:cNvSpPr/>
              <p:nvPr/>
            </p:nvSpPr>
            <p:spPr>
              <a:xfrm>
                <a:off x="8519760" y="-27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734320" y="43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8" name=""/>
            <p:cNvSpPr/>
            <p:nvPr/>
          </p:nvSpPr>
          <p:spPr>
            <a:xfrm>
              <a:off x="8736480" y="1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3851280" y="1434960"/>
            <a:ext cx="1224000" cy="1659240"/>
            <a:chOff x="3851280" y="1434960"/>
            <a:chExt cx="1224000" cy="1659240"/>
          </a:xfrm>
        </p:grpSpPr>
        <p:sp>
          <p:nvSpPr>
            <p:cNvPr id="1320" name=""/>
            <p:cNvSpPr/>
            <p:nvPr/>
          </p:nvSpPr>
          <p:spPr>
            <a:xfrm>
              <a:off x="3851280" y="1434960"/>
              <a:ext cx="0" cy="16592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3851280" y="3094200"/>
              <a:ext cx="1224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3851280" y="787320"/>
            <a:ext cx="5291280" cy="1159200"/>
            <a:chOff x="3851280" y="787320"/>
            <a:chExt cx="5291280" cy="1159200"/>
          </a:xfrm>
        </p:grpSpPr>
        <p:grpSp>
          <p:nvGrpSpPr>
            <p:cNvPr id="1323" name=""/>
            <p:cNvGrpSpPr/>
            <p:nvPr/>
          </p:nvGrpSpPr>
          <p:grpSpPr>
            <a:xfrm>
              <a:off x="3853080" y="787320"/>
              <a:ext cx="452160" cy="581400"/>
              <a:chOff x="3853080" y="787320"/>
              <a:chExt cx="452160" cy="581400"/>
            </a:xfrm>
          </p:grpSpPr>
          <p:sp>
            <p:nvSpPr>
              <p:cNvPr id="1324" name=""/>
              <p:cNvSpPr/>
              <p:nvPr/>
            </p:nvSpPr>
            <p:spPr>
              <a:xfrm>
                <a:off x="3853080" y="787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067280" y="858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8554680" y="1365120"/>
              <a:ext cx="587880" cy="581400"/>
              <a:chOff x="8554680" y="1365120"/>
              <a:chExt cx="587880" cy="581400"/>
            </a:xfrm>
          </p:grpSpPr>
          <p:sp>
            <p:nvSpPr>
              <p:cNvPr id="1327" name=""/>
              <p:cNvSpPr/>
              <p:nvPr/>
            </p:nvSpPr>
            <p:spPr>
              <a:xfrm>
                <a:off x="8554680" y="13651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842320" y="14364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9" name=""/>
            <p:cNvSpPr/>
            <p:nvPr/>
          </p:nvSpPr>
          <p:spPr>
            <a:xfrm flipH="1">
              <a:off x="3851280" y="14349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24720" y="14349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8748720" y="57312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7524720" y="57312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3851280" y="1434960"/>
            <a:ext cx="1224000" cy="1659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7596360" y="57312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3852360" y="1652760"/>
            <a:ext cx="587880" cy="675360"/>
            <a:chOff x="3852360" y="1652760"/>
            <a:chExt cx="587880" cy="675360"/>
          </a:xfrm>
        </p:grpSpPr>
        <p:grpSp>
          <p:nvGrpSpPr>
            <p:cNvPr id="1336" name=""/>
            <p:cNvGrpSpPr/>
            <p:nvPr/>
          </p:nvGrpSpPr>
          <p:grpSpPr>
            <a:xfrm>
              <a:off x="3852360" y="1652760"/>
              <a:ext cx="587880" cy="581400"/>
              <a:chOff x="3852360" y="1652760"/>
              <a:chExt cx="587880" cy="581400"/>
            </a:xfrm>
          </p:grpSpPr>
          <p:sp>
            <p:nvSpPr>
              <p:cNvPr id="1337" name=""/>
              <p:cNvSpPr/>
              <p:nvPr/>
            </p:nvSpPr>
            <p:spPr>
              <a:xfrm>
                <a:off x="3852360" y="16527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066920" y="17236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9" name=""/>
            <p:cNvSpPr/>
            <p:nvPr/>
          </p:nvSpPr>
          <p:spPr>
            <a:xfrm>
              <a:off x="4069080" y="1868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324000" y="1568520"/>
                <a:ext cx="26780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79280" y="2720880"/>
                <a:ext cx="34560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2" name=""/>
          <p:cNvGrpSpPr/>
          <p:nvPr/>
        </p:nvGrpSpPr>
        <p:grpSpPr>
          <a:xfrm>
            <a:off x="5437440" y="3573360"/>
            <a:ext cx="3598560" cy="3168720"/>
            <a:chOff x="5437440" y="3573360"/>
            <a:chExt cx="3598560" cy="3168720"/>
          </a:xfrm>
        </p:grpSpPr>
        <p:sp>
          <p:nvSpPr>
            <p:cNvPr id="1343" name=""/>
            <p:cNvSpPr/>
            <p:nvPr/>
          </p:nvSpPr>
          <p:spPr>
            <a:xfrm>
              <a:off x="5867280" y="3573360"/>
              <a:ext cx="3168720" cy="273672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44" name=""/>
            <p:cNvGraphicFramePr/>
            <p:nvPr/>
          </p:nvGraphicFramePr>
          <p:xfrm>
            <a:off x="6012000" y="4941720"/>
            <a:ext cx="133200" cy="13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2000" y="494172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6" name=""/>
            <p:cNvGraphicFramePr/>
            <p:nvPr/>
          </p:nvGraphicFramePr>
          <p:xfrm>
            <a:off x="8485200" y="4941720"/>
            <a:ext cx="133560" cy="130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85200" y="494172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48" name=""/>
            <p:cNvGrpSpPr/>
            <p:nvPr/>
          </p:nvGrpSpPr>
          <p:grpSpPr>
            <a:xfrm>
              <a:off x="5437440" y="5373720"/>
              <a:ext cx="549000" cy="675360"/>
              <a:chOff x="5437440" y="5373720"/>
              <a:chExt cx="549000" cy="675360"/>
            </a:xfrm>
          </p:grpSpPr>
          <p:grpSp>
            <p:nvGrpSpPr>
              <p:cNvPr id="1349" name=""/>
              <p:cNvGrpSpPr/>
              <p:nvPr/>
            </p:nvGrpSpPr>
            <p:grpSpPr>
              <a:xfrm>
                <a:off x="5437440" y="5373720"/>
                <a:ext cx="452160" cy="581400"/>
                <a:chOff x="5437440" y="5373720"/>
                <a:chExt cx="452160" cy="581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5437440" y="5373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651640" y="5444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"/>
              <p:cNvSpPr/>
              <p:nvPr/>
            </p:nvSpPr>
            <p:spPr>
              <a:xfrm>
                <a:off x="5653440" y="5589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6083280" y="5014800"/>
              <a:ext cx="1800" cy="172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6083280" y="5013360"/>
              <a:ext cx="244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8532360" y="4149360"/>
              <a:ext cx="2412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085080" y="436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102880" y="49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8" name=""/>
            <p:cNvGrpSpPr/>
            <p:nvPr/>
          </p:nvGrpSpPr>
          <p:grpSpPr>
            <a:xfrm>
              <a:off x="7886880" y="4078080"/>
              <a:ext cx="549000" cy="675720"/>
              <a:chOff x="7886880" y="4078080"/>
              <a:chExt cx="549000" cy="675720"/>
            </a:xfrm>
          </p:grpSpPr>
          <p:grpSp>
            <p:nvGrpSpPr>
              <p:cNvPr id="1359" name=""/>
              <p:cNvGrpSpPr/>
              <p:nvPr/>
            </p:nvGrpSpPr>
            <p:grpSpPr>
              <a:xfrm>
                <a:off x="7886880" y="4078080"/>
                <a:ext cx="452160" cy="581400"/>
                <a:chOff x="7886880" y="4078080"/>
                <a:chExt cx="452160" cy="58140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7886880" y="4078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8101080" y="4149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2" name=""/>
              <p:cNvSpPr/>
              <p:nvPr/>
            </p:nvSpPr>
            <p:spPr>
              <a:xfrm>
                <a:off x="8102880" y="429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3" name=""/>
          <p:cNvSpPr/>
          <p:nvPr/>
        </p:nvSpPr>
        <p:spPr>
          <a:xfrm>
            <a:off x="154944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H="1" flipV="1">
            <a:off x="6948360" y="2852280"/>
            <a:ext cx="14472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2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2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2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4859280" y="-4586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547640" y="-168480"/>
            <a:ext cx="759636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755640" y="980640"/>
            <a:ext cx="4319640" cy="5877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050920" y="982800"/>
            <a:ext cx="244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0" y="-85680"/>
            <a:ext cx="43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 Dve paralel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uprotni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mer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8554680" y="189000"/>
            <a:ext cx="587880" cy="675360"/>
            <a:chOff x="8554680" y="189000"/>
            <a:chExt cx="587880" cy="675360"/>
          </a:xfrm>
        </p:grpSpPr>
        <p:grpSp>
          <p:nvGrpSpPr>
            <p:cNvPr id="1371" name=""/>
            <p:cNvGrpSpPr/>
            <p:nvPr/>
          </p:nvGrpSpPr>
          <p:grpSpPr>
            <a:xfrm>
              <a:off x="8554680" y="189000"/>
              <a:ext cx="587880" cy="581400"/>
              <a:chOff x="8554680" y="189000"/>
              <a:chExt cx="587880" cy="581400"/>
            </a:xfrm>
          </p:grpSpPr>
          <p:sp>
            <p:nvSpPr>
              <p:cNvPr id="1372" name=""/>
              <p:cNvSpPr/>
              <p:nvPr/>
            </p:nvSpPr>
            <p:spPr>
              <a:xfrm>
                <a:off x="8554680" y="189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769240" y="259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"/>
            <p:cNvSpPr/>
            <p:nvPr/>
          </p:nvSpPr>
          <p:spPr>
            <a:xfrm>
              <a:off x="877140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3853080" y="333360"/>
            <a:ext cx="452160" cy="581400"/>
            <a:chOff x="3853080" y="333360"/>
            <a:chExt cx="452160" cy="581400"/>
          </a:xfrm>
        </p:grpSpPr>
        <p:sp>
          <p:nvSpPr>
            <p:cNvPr id="1376" name=""/>
            <p:cNvSpPr/>
            <p:nvPr/>
          </p:nvSpPr>
          <p:spPr>
            <a:xfrm>
              <a:off x="3853080" y="33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67280" y="404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78" name=""/>
          <p:cNvGraphicFramePr/>
          <p:nvPr/>
        </p:nvGraphicFramePr>
        <p:xfrm>
          <a:off x="5003640" y="90972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97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0" name=""/>
          <p:cNvGrpSpPr/>
          <p:nvPr/>
        </p:nvGrpSpPr>
        <p:grpSpPr>
          <a:xfrm>
            <a:off x="8554680" y="911160"/>
            <a:ext cx="587880" cy="581400"/>
            <a:chOff x="8554680" y="911160"/>
            <a:chExt cx="587880" cy="581400"/>
          </a:xfrm>
        </p:grpSpPr>
        <p:sp>
          <p:nvSpPr>
            <p:cNvPr id="1381" name=""/>
            <p:cNvSpPr/>
            <p:nvPr/>
          </p:nvSpPr>
          <p:spPr>
            <a:xfrm>
              <a:off x="8554680" y="9111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842320" y="9824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3851280" y="981000"/>
            <a:ext cx="0" cy="16588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3851280" y="26398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5" name=""/>
          <p:cNvGraphicFramePr/>
          <p:nvPr/>
        </p:nvGraphicFramePr>
        <p:xfrm>
          <a:off x="5003640" y="9097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9097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7" name=""/>
          <p:cNvGraphicFramePr/>
          <p:nvPr/>
        </p:nvGraphicFramePr>
        <p:xfrm>
          <a:off x="7477200" y="9097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0" y="9097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9" name=""/>
          <p:cNvGrpSpPr/>
          <p:nvPr/>
        </p:nvGrpSpPr>
        <p:grpSpPr>
          <a:xfrm>
            <a:off x="4525920" y="1674720"/>
            <a:ext cx="548640" cy="675720"/>
            <a:chOff x="4525920" y="1674720"/>
            <a:chExt cx="548640" cy="675720"/>
          </a:xfrm>
        </p:grpSpPr>
        <p:grpSp>
          <p:nvGrpSpPr>
            <p:cNvPr id="1390" name=""/>
            <p:cNvGrpSpPr/>
            <p:nvPr/>
          </p:nvGrpSpPr>
          <p:grpSpPr>
            <a:xfrm>
              <a:off x="4525920" y="1674720"/>
              <a:ext cx="452160" cy="581400"/>
              <a:chOff x="4525920" y="1674720"/>
              <a:chExt cx="452160" cy="581400"/>
            </a:xfrm>
          </p:grpSpPr>
          <p:sp>
            <p:nvSpPr>
              <p:cNvPr id="1391" name=""/>
              <p:cNvSpPr/>
              <p:nvPr/>
            </p:nvSpPr>
            <p:spPr>
              <a:xfrm>
                <a:off x="4525920" y="1674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740120" y="1745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"/>
            <p:cNvSpPr/>
            <p:nvPr/>
          </p:nvSpPr>
          <p:spPr>
            <a:xfrm>
              <a:off x="4741560" y="1890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6878880" y="163440"/>
            <a:ext cx="549000" cy="675720"/>
            <a:chOff x="6878880" y="163440"/>
            <a:chExt cx="549000" cy="675720"/>
          </a:xfrm>
        </p:grpSpPr>
        <p:grpSp>
          <p:nvGrpSpPr>
            <p:cNvPr id="1395" name=""/>
            <p:cNvGrpSpPr/>
            <p:nvPr/>
          </p:nvGrpSpPr>
          <p:grpSpPr>
            <a:xfrm>
              <a:off x="6878880" y="163440"/>
              <a:ext cx="452160" cy="581400"/>
              <a:chOff x="6878880" y="163440"/>
              <a:chExt cx="452160" cy="581400"/>
            </a:xfrm>
          </p:grpSpPr>
          <p:sp>
            <p:nvSpPr>
              <p:cNvPr id="1396" name=""/>
              <p:cNvSpPr/>
              <p:nvPr/>
            </p:nvSpPr>
            <p:spPr>
              <a:xfrm>
                <a:off x="6878880" y="163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093080" y="234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8" name=""/>
            <p:cNvSpPr/>
            <p:nvPr/>
          </p:nvSpPr>
          <p:spPr>
            <a:xfrm>
              <a:off x="7094880" y="37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5005440" y="38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7381800" y="1030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5075280" y="9806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2050920" y="623880"/>
            <a:ext cx="0" cy="5541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3851280" y="9810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7524720" y="9810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8748720" y="11916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7524720" y="11916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3851280" y="98100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7596360" y="11916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9" name=""/>
          <p:cNvGrpSpPr/>
          <p:nvPr/>
        </p:nvGrpSpPr>
        <p:grpSpPr>
          <a:xfrm>
            <a:off x="3852360" y="1198440"/>
            <a:ext cx="587880" cy="675720"/>
            <a:chOff x="3852360" y="1198440"/>
            <a:chExt cx="587880" cy="675720"/>
          </a:xfrm>
        </p:grpSpPr>
        <p:grpSp>
          <p:nvGrpSpPr>
            <p:cNvPr id="1410" name=""/>
            <p:cNvGrpSpPr/>
            <p:nvPr/>
          </p:nvGrpSpPr>
          <p:grpSpPr>
            <a:xfrm>
              <a:off x="3852360" y="1198440"/>
              <a:ext cx="587880" cy="581400"/>
              <a:chOff x="3852360" y="1198440"/>
              <a:chExt cx="587880" cy="581400"/>
            </a:xfrm>
          </p:grpSpPr>
          <p:sp>
            <p:nvSpPr>
              <p:cNvPr id="1411" name=""/>
              <p:cNvSpPr/>
              <p:nvPr/>
            </p:nvSpPr>
            <p:spPr>
              <a:xfrm>
                <a:off x="3852360" y="1198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066920" y="12693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4069080" y="1414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5940360" y="278136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5" name=""/>
          <p:cNvGraphicFramePr/>
          <p:nvPr/>
        </p:nvGraphicFramePr>
        <p:xfrm>
          <a:off x="6084720" y="414972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414972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7" name=""/>
          <p:cNvGraphicFramePr/>
          <p:nvPr/>
        </p:nvGraphicFramePr>
        <p:xfrm>
          <a:off x="8558280" y="414972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58280" y="41497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9" name=""/>
          <p:cNvGrpSpPr/>
          <p:nvPr/>
        </p:nvGrpSpPr>
        <p:grpSpPr>
          <a:xfrm>
            <a:off x="6229440" y="4365720"/>
            <a:ext cx="549000" cy="675360"/>
            <a:chOff x="6229440" y="4365720"/>
            <a:chExt cx="549000" cy="675360"/>
          </a:xfrm>
        </p:grpSpPr>
        <p:grpSp>
          <p:nvGrpSpPr>
            <p:cNvPr id="1420" name=""/>
            <p:cNvGrpSpPr/>
            <p:nvPr/>
          </p:nvGrpSpPr>
          <p:grpSpPr>
            <a:xfrm>
              <a:off x="6229440" y="4365720"/>
              <a:ext cx="452160" cy="581400"/>
              <a:chOff x="6229440" y="4365720"/>
              <a:chExt cx="452160" cy="581400"/>
            </a:xfrm>
          </p:grpSpPr>
          <p:sp>
            <p:nvSpPr>
              <p:cNvPr id="1421" name=""/>
              <p:cNvSpPr/>
              <p:nvPr/>
            </p:nvSpPr>
            <p:spPr>
              <a:xfrm>
                <a:off x="6229440" y="4365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443640" y="4436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644544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6156360" y="422280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6156360" y="42206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 flipV="1">
            <a:off x="8605800" y="335736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15780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817560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7959960" y="3286080"/>
            <a:ext cx="549000" cy="675720"/>
            <a:chOff x="7959960" y="3286080"/>
            <a:chExt cx="549000" cy="675720"/>
          </a:xfrm>
        </p:grpSpPr>
        <p:grpSp>
          <p:nvGrpSpPr>
            <p:cNvPr id="1430" name=""/>
            <p:cNvGrpSpPr/>
            <p:nvPr/>
          </p:nvGrpSpPr>
          <p:grpSpPr>
            <a:xfrm>
              <a:off x="7959960" y="3286080"/>
              <a:ext cx="452160" cy="581400"/>
              <a:chOff x="7959960" y="3286080"/>
              <a:chExt cx="452160" cy="581400"/>
            </a:xfrm>
          </p:grpSpPr>
          <p:sp>
            <p:nvSpPr>
              <p:cNvPr id="1431" name=""/>
              <p:cNvSpPr/>
              <p:nvPr/>
            </p:nvSpPr>
            <p:spPr>
              <a:xfrm>
                <a:off x="7959960" y="3286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174160" y="3357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3" name=""/>
            <p:cNvSpPr/>
            <p:nvPr/>
          </p:nvSpPr>
          <p:spPr>
            <a:xfrm>
              <a:off x="8175960" y="3502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4" name=""/>
          <p:cNvSpPr/>
          <p:nvPr/>
        </p:nvSpPr>
        <p:spPr>
          <a:xfrm flipH="1" flipV="1">
            <a:off x="7524720" y="11880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076720" y="98424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900000" y="4221000"/>
            <a:ext cx="2303640" cy="2449800"/>
            <a:chOff x="900000" y="4221000"/>
            <a:chExt cx="2303640" cy="2449800"/>
          </a:xfrm>
        </p:grpSpPr>
        <p:sp>
          <p:nvSpPr>
            <p:cNvPr id="1437" name=""/>
            <p:cNvSpPr/>
            <p:nvPr/>
          </p:nvSpPr>
          <p:spPr>
            <a:xfrm flipV="1">
              <a:off x="900000" y="5805360"/>
              <a:ext cx="1150920" cy="8654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1979640" y="4221000"/>
              <a:ext cx="1224000" cy="165600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2050920" y="5084640"/>
            <a:ext cx="0" cy="79236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2197440" y="5229360"/>
            <a:ext cx="616680" cy="675360"/>
            <a:chOff x="2197440" y="5229360"/>
            <a:chExt cx="616680" cy="675360"/>
          </a:xfrm>
        </p:grpSpPr>
        <p:grpSp>
          <p:nvGrpSpPr>
            <p:cNvPr id="1441" name=""/>
            <p:cNvGrpSpPr/>
            <p:nvPr/>
          </p:nvGrpSpPr>
          <p:grpSpPr>
            <a:xfrm>
              <a:off x="2197440" y="5229360"/>
              <a:ext cx="452160" cy="581400"/>
              <a:chOff x="2197440" y="5229360"/>
              <a:chExt cx="452160" cy="581400"/>
            </a:xfrm>
          </p:grpSpPr>
          <p:sp>
            <p:nvSpPr>
              <p:cNvPr id="1442" name=""/>
              <p:cNvSpPr/>
              <p:nvPr/>
            </p:nvSpPr>
            <p:spPr>
              <a:xfrm>
                <a:off x="2197440" y="5229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411640" y="530028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4" name=""/>
            <p:cNvSpPr/>
            <p:nvPr/>
          </p:nvSpPr>
          <p:spPr>
            <a:xfrm>
              <a:off x="2413800" y="544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45" name=""/>
          <p:cNvGraphicFramePr/>
          <p:nvPr/>
        </p:nvGraphicFramePr>
        <p:xfrm>
          <a:off x="1979640" y="907920"/>
          <a:ext cx="133200" cy="13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79640" y="9079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154908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cc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549440" y="465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79720" y="39322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3879720" y="393228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3951360" y="4724280"/>
            <a:ext cx="2376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951360" y="47242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103720" y="3932280"/>
            <a:ext cx="0" cy="79200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4600800" y="3284640"/>
            <a:ext cx="452160" cy="581400"/>
            <a:chOff x="4600800" y="3284640"/>
            <a:chExt cx="452160" cy="581400"/>
          </a:xfrm>
        </p:grpSpPr>
        <p:sp>
          <p:nvSpPr>
            <p:cNvPr id="1455" name=""/>
            <p:cNvSpPr/>
            <p:nvPr/>
          </p:nvSpPr>
          <p:spPr>
            <a:xfrm>
              <a:off x="4600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815000" y="3355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3328920" y="4651200"/>
            <a:ext cx="548640" cy="675720"/>
            <a:chOff x="3328920" y="4651200"/>
            <a:chExt cx="548640" cy="675720"/>
          </a:xfrm>
        </p:grpSpPr>
        <p:grpSp>
          <p:nvGrpSpPr>
            <p:cNvPr id="1458" name=""/>
            <p:cNvGrpSpPr/>
            <p:nvPr/>
          </p:nvGrpSpPr>
          <p:grpSpPr>
            <a:xfrm>
              <a:off x="3328920" y="4651200"/>
              <a:ext cx="452160" cy="581400"/>
              <a:chOff x="3328920" y="4651200"/>
              <a:chExt cx="452160" cy="581400"/>
            </a:xfrm>
          </p:grpSpPr>
          <p:sp>
            <p:nvSpPr>
              <p:cNvPr id="1459" name=""/>
              <p:cNvSpPr/>
              <p:nvPr/>
            </p:nvSpPr>
            <p:spPr>
              <a:xfrm>
                <a:off x="332892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543120" y="4722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1" name=""/>
            <p:cNvSpPr/>
            <p:nvPr/>
          </p:nvSpPr>
          <p:spPr>
            <a:xfrm>
              <a:off x="3544560" y="48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4024440" y="5275440"/>
            <a:ext cx="549000" cy="675360"/>
            <a:chOff x="4024440" y="5275440"/>
            <a:chExt cx="549000" cy="675360"/>
          </a:xfrm>
        </p:grpSpPr>
        <p:grpSp>
          <p:nvGrpSpPr>
            <p:cNvPr id="1463" name=""/>
            <p:cNvGrpSpPr/>
            <p:nvPr/>
          </p:nvGrpSpPr>
          <p:grpSpPr>
            <a:xfrm>
              <a:off x="4024440" y="5275440"/>
              <a:ext cx="452160" cy="581400"/>
              <a:chOff x="4024440" y="5275440"/>
              <a:chExt cx="452160" cy="581400"/>
            </a:xfrm>
          </p:grpSpPr>
          <p:sp>
            <p:nvSpPr>
              <p:cNvPr id="1464" name=""/>
              <p:cNvSpPr/>
              <p:nvPr/>
            </p:nvSpPr>
            <p:spPr>
              <a:xfrm>
                <a:off x="4024440" y="5275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238640" y="5346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>
              <a:off x="4240440" y="5491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5104800" y="4505400"/>
            <a:ext cx="587880" cy="581400"/>
            <a:chOff x="5104800" y="4505400"/>
            <a:chExt cx="587880" cy="581400"/>
          </a:xfrm>
        </p:grpSpPr>
        <p:sp>
          <p:nvSpPr>
            <p:cNvPr id="1468" name=""/>
            <p:cNvSpPr/>
            <p:nvPr/>
          </p:nvSpPr>
          <p:spPr>
            <a:xfrm>
              <a:off x="5104800" y="4505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392440" y="4576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5105520" y="3860640"/>
            <a:ext cx="616680" cy="675720"/>
            <a:chOff x="5105520" y="3860640"/>
            <a:chExt cx="616680" cy="675720"/>
          </a:xfrm>
        </p:grpSpPr>
        <p:grpSp>
          <p:nvGrpSpPr>
            <p:cNvPr id="1471" name=""/>
            <p:cNvGrpSpPr/>
            <p:nvPr/>
          </p:nvGrpSpPr>
          <p:grpSpPr>
            <a:xfrm>
              <a:off x="5105520" y="3860640"/>
              <a:ext cx="452160" cy="581400"/>
              <a:chOff x="5105520" y="3860640"/>
              <a:chExt cx="452160" cy="581400"/>
            </a:xfrm>
          </p:grpSpPr>
          <p:sp>
            <p:nvSpPr>
              <p:cNvPr id="1472" name=""/>
              <p:cNvSpPr/>
              <p:nvPr/>
            </p:nvSpPr>
            <p:spPr>
              <a:xfrm>
                <a:off x="510552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319720" y="3931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4" name=""/>
            <p:cNvSpPr/>
            <p:nvPr/>
          </p:nvSpPr>
          <p:spPr>
            <a:xfrm>
              <a:off x="5321880" y="4076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2987640" y="5734080"/>
                <a:ext cx="61927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6" name=""/>
          <p:cNvSpPr/>
          <p:nvPr/>
        </p:nvSpPr>
        <p:spPr>
          <a:xfrm flipH="1">
            <a:off x="3879720" y="393228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4096800" y="4003560"/>
            <a:ext cx="587880" cy="675720"/>
            <a:chOff x="4096800" y="4003560"/>
            <a:chExt cx="587880" cy="675720"/>
          </a:xfrm>
        </p:grpSpPr>
        <p:grpSp>
          <p:nvGrpSpPr>
            <p:cNvPr id="1478" name=""/>
            <p:cNvGrpSpPr/>
            <p:nvPr/>
          </p:nvGrpSpPr>
          <p:grpSpPr>
            <a:xfrm>
              <a:off x="4096800" y="4003560"/>
              <a:ext cx="587880" cy="581400"/>
              <a:chOff x="4096800" y="4003560"/>
              <a:chExt cx="587880" cy="581400"/>
            </a:xfrm>
          </p:grpSpPr>
          <p:sp>
            <p:nvSpPr>
              <p:cNvPr id="1479" name=""/>
              <p:cNvSpPr/>
              <p:nvPr/>
            </p:nvSpPr>
            <p:spPr>
              <a:xfrm>
                <a:off x="4096800" y="40035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311360" y="40744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1" name=""/>
            <p:cNvSpPr/>
            <p:nvPr/>
          </p:nvSpPr>
          <p:spPr>
            <a:xfrm>
              <a:off x="4313520" y="421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2" name=""/>
          <p:cNvSpPr/>
          <p:nvPr/>
        </p:nvSpPr>
        <p:spPr>
          <a:xfrm flipV="1">
            <a:off x="3951360" y="472608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4673160" y="4987800"/>
            <a:ext cx="587880" cy="675720"/>
            <a:chOff x="4673160" y="4987800"/>
            <a:chExt cx="587880" cy="675720"/>
          </a:xfrm>
        </p:grpSpPr>
        <p:grpSp>
          <p:nvGrpSpPr>
            <p:cNvPr id="1484" name=""/>
            <p:cNvGrpSpPr/>
            <p:nvPr/>
          </p:nvGrpSpPr>
          <p:grpSpPr>
            <a:xfrm>
              <a:off x="4673160" y="4987800"/>
              <a:ext cx="587880" cy="581400"/>
              <a:chOff x="4673160" y="4987800"/>
              <a:chExt cx="587880" cy="581400"/>
            </a:xfrm>
          </p:grpSpPr>
          <p:sp>
            <p:nvSpPr>
              <p:cNvPr id="1485" name=""/>
              <p:cNvSpPr/>
              <p:nvPr/>
            </p:nvSpPr>
            <p:spPr>
              <a:xfrm>
                <a:off x="4673160" y="49878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887720" y="50587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4889880" y="5203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7341E-007 L -0.60642 0.59792 E">
                                      <p:cBhvr>
                                        <p:cTn id="654" dur="3000" fill="hold"/>
                                        <p:tgtEl>
                                          <p:spTgt spid="1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57225E-006 L -0.32274 0.58729 E">
                                      <p:cBhvr>
                                        <p:cTn id="656" dur="3000" fill="hold"/>
                                        <p:tgtEl>
                                          <p:spTgt spid="1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55 0.04532 L -0.63316 0.51723 E">
                                      <p:cBhvr>
                                        <p:cTn id="659" dur="3000" fill="hold"/>
                                        <p:tgtEl>
                                          <p:spTgt spid="1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948E-006 L -0.33854 0.60832 E">
                                      <p:cBhvr>
                                        <p:cTn id="662" dur="3000" fill="hold"/>
                                        <p:tgtEl>
                                          <p:spTgt spid="1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2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2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6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2.25434E-006 L 4.44444E-006 -0.59769 E">
                                      <p:cBhvr>
                                        <p:cTn id="689" dur="3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2.65896E-006 L -3.05556E-006 -0.55584 E">
                                      <p:cBhvr>
                                        <p:cTn id="691" dur="2000" fill="hold"/>
                                        <p:tgtEl>
                                          <p:spTgt spid="1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3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2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2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70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2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1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2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2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30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2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7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9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1000"/>
                            </p:stCondLst>
                            <p:childTnLst>
                              <p:par>
                                <p:cTn id="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2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30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2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62200" y="-270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9" name=""/>
          <p:cNvGraphicFramePr/>
          <p:nvPr/>
        </p:nvGraphicFramePr>
        <p:xfrm>
          <a:off x="6180120" y="136368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801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"/>
          <p:cNvSpPr/>
          <p:nvPr/>
        </p:nvSpPr>
        <p:spPr>
          <a:xfrm rot="5400000">
            <a:off x="1476000" y="691920"/>
            <a:ext cx="4103640" cy="55450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rot="5400000">
            <a:off x="214920" y="1951560"/>
            <a:ext cx="4103640" cy="302580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754200" y="141300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250920" y="285480"/>
            <a:ext cx="759600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322200" y="143460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79280" y="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Položaj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5236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754200" y="623880"/>
            <a:ext cx="0" cy="5541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0720" y="112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2773440" y="1484280"/>
            <a:ext cx="452160" cy="581400"/>
            <a:chOff x="2773440" y="1484280"/>
            <a:chExt cx="452160" cy="581400"/>
          </a:xfrm>
        </p:grpSpPr>
        <p:sp>
          <p:nvSpPr>
            <p:cNvPr id="1501" name=""/>
            <p:cNvSpPr/>
            <p:nvPr/>
          </p:nvSpPr>
          <p:spPr>
            <a:xfrm>
              <a:off x="2773440" y="148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987640" y="1555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6805080" y="907920"/>
            <a:ext cx="587880" cy="581400"/>
            <a:chOff x="6805080" y="907920"/>
            <a:chExt cx="587880" cy="581400"/>
          </a:xfrm>
        </p:grpSpPr>
        <p:sp>
          <p:nvSpPr>
            <p:cNvPr id="1504" name=""/>
            <p:cNvSpPr/>
            <p:nvPr/>
          </p:nvSpPr>
          <p:spPr>
            <a:xfrm>
              <a:off x="6805080" y="90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092720" y="97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 flipH="1">
            <a:off x="2554200" y="14349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227640" y="14349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4427640" y="3500280"/>
                <a:ext cx="147960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6753240" y="3500280"/>
                <a:ext cx="163512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859280" y="5084640"/>
                <a:ext cx="39816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754200" y="5516640"/>
            <a:ext cx="0" cy="100800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227640" y="1413000"/>
            <a:ext cx="0" cy="496872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780000" y="3141720"/>
            <a:ext cx="0" cy="331164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826920" y="6453360"/>
            <a:ext cx="5400720" cy="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3635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611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6083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06560" y="5877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643280" y="5877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887640" y="299736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z sličnosti troug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6805080" y="0"/>
            <a:ext cx="587880" cy="675720"/>
            <a:chOff x="6805080" y="0"/>
            <a:chExt cx="587880" cy="675720"/>
          </a:xfrm>
        </p:grpSpPr>
        <p:grpSp>
          <p:nvGrpSpPr>
            <p:cNvPr id="1522" name=""/>
            <p:cNvGrpSpPr/>
            <p:nvPr/>
          </p:nvGrpSpPr>
          <p:grpSpPr>
            <a:xfrm>
              <a:off x="6805080" y="0"/>
              <a:ext cx="587880" cy="581400"/>
              <a:chOff x="6805080" y="0"/>
              <a:chExt cx="587880" cy="581400"/>
            </a:xfrm>
          </p:grpSpPr>
          <p:sp>
            <p:nvSpPr>
              <p:cNvPr id="1523" name=""/>
              <p:cNvSpPr/>
              <p:nvPr/>
            </p:nvSpPr>
            <p:spPr>
              <a:xfrm>
                <a:off x="6805080" y="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019640" y="70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5" name=""/>
            <p:cNvSpPr/>
            <p:nvPr/>
          </p:nvSpPr>
          <p:spPr>
            <a:xfrm>
              <a:off x="7021800" y="21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6" name=""/>
          <p:cNvSpPr/>
          <p:nvPr/>
        </p:nvSpPr>
        <p:spPr>
          <a:xfrm>
            <a:off x="7451640" y="57312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6299280" y="57312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6227640" y="57312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3706920" y="13636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69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3706920" y="136368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69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3" name=""/>
          <p:cNvSpPr/>
          <p:nvPr/>
        </p:nvSpPr>
        <p:spPr>
          <a:xfrm rot="5400000">
            <a:off x="2338920" y="1627920"/>
            <a:ext cx="1655640" cy="122580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2554200" y="1434960"/>
            <a:ext cx="1224000" cy="1659240"/>
            <a:chOff x="2554200" y="1434960"/>
            <a:chExt cx="1224000" cy="1659240"/>
          </a:xfrm>
        </p:grpSpPr>
        <p:sp>
          <p:nvSpPr>
            <p:cNvPr id="1535" name=""/>
            <p:cNvSpPr/>
            <p:nvPr/>
          </p:nvSpPr>
          <p:spPr>
            <a:xfrm>
              <a:off x="2554200" y="1434960"/>
              <a:ext cx="0" cy="16592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2554200" y="3094200"/>
              <a:ext cx="1224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"/>
          <p:cNvSpPr/>
          <p:nvPr/>
        </p:nvSpPr>
        <p:spPr>
          <a:xfrm flipH="1">
            <a:off x="2554200" y="1434960"/>
            <a:ext cx="1224000" cy="1659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2771280" y="2708280"/>
            <a:ext cx="587880" cy="675720"/>
            <a:chOff x="2771280" y="2708280"/>
            <a:chExt cx="587880" cy="675720"/>
          </a:xfrm>
        </p:grpSpPr>
        <p:grpSp>
          <p:nvGrpSpPr>
            <p:cNvPr id="1539" name=""/>
            <p:cNvGrpSpPr/>
            <p:nvPr/>
          </p:nvGrpSpPr>
          <p:grpSpPr>
            <a:xfrm>
              <a:off x="2771280" y="2708280"/>
              <a:ext cx="587880" cy="581400"/>
              <a:chOff x="2771280" y="2708280"/>
              <a:chExt cx="587880" cy="581400"/>
            </a:xfrm>
          </p:grpSpPr>
          <p:sp>
            <p:nvSpPr>
              <p:cNvPr id="1540" name=""/>
              <p:cNvSpPr/>
              <p:nvPr/>
            </p:nvSpPr>
            <p:spPr>
              <a:xfrm>
                <a:off x="2771280" y="27082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985840" y="277920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2" name=""/>
            <p:cNvSpPr/>
            <p:nvPr/>
          </p:nvSpPr>
          <p:spPr>
            <a:xfrm>
              <a:off x="29880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29200" y="2128680"/>
            <a:ext cx="549000" cy="675720"/>
            <a:chOff x="3229200" y="2128680"/>
            <a:chExt cx="549000" cy="675720"/>
          </a:xfrm>
        </p:grpSpPr>
        <p:grpSp>
          <p:nvGrpSpPr>
            <p:cNvPr id="1544" name=""/>
            <p:cNvGrpSpPr/>
            <p:nvPr/>
          </p:nvGrpSpPr>
          <p:grpSpPr>
            <a:xfrm>
              <a:off x="3229200" y="2128680"/>
              <a:ext cx="452160" cy="581400"/>
              <a:chOff x="3229200" y="2128680"/>
              <a:chExt cx="452160" cy="581400"/>
            </a:xfrm>
          </p:grpSpPr>
          <p:sp>
            <p:nvSpPr>
              <p:cNvPr id="1545" name=""/>
              <p:cNvSpPr/>
              <p:nvPr/>
            </p:nvSpPr>
            <p:spPr>
              <a:xfrm>
                <a:off x="3229200" y="2128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443400" y="21996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3445200" y="2344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5676840" y="189000"/>
            <a:ext cx="548640" cy="675360"/>
            <a:chOff x="5676840" y="189000"/>
            <a:chExt cx="548640" cy="675360"/>
          </a:xfrm>
        </p:grpSpPr>
        <p:grpSp>
          <p:nvGrpSpPr>
            <p:cNvPr id="1549" name=""/>
            <p:cNvGrpSpPr/>
            <p:nvPr/>
          </p:nvGrpSpPr>
          <p:grpSpPr>
            <a:xfrm>
              <a:off x="5676840" y="189000"/>
              <a:ext cx="452160" cy="581400"/>
              <a:chOff x="5676840" y="189000"/>
              <a:chExt cx="452160" cy="581400"/>
            </a:xfrm>
          </p:grpSpPr>
          <p:sp>
            <p:nvSpPr>
              <p:cNvPr id="1550" name=""/>
              <p:cNvSpPr/>
              <p:nvPr/>
            </p:nvSpPr>
            <p:spPr>
              <a:xfrm>
                <a:off x="5676840" y="189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91040" y="259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"/>
            <p:cNvSpPr/>
            <p:nvPr/>
          </p:nvSpPr>
          <p:spPr>
            <a:xfrm>
              <a:off x="589248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3708360" y="8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726160" y="907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3778200" y="143460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flipH="1" flipV="1">
            <a:off x="6227640" y="57276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780000" y="143820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rot="16200000">
            <a:off x="6445080" y="404280"/>
            <a:ext cx="863640" cy="11527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6227640" y="549360"/>
            <a:ext cx="2452680" cy="1948320"/>
            <a:chOff x="6227640" y="549360"/>
            <a:chExt cx="2452680" cy="1948320"/>
          </a:xfrm>
        </p:grpSpPr>
        <p:sp>
          <p:nvSpPr>
            <p:cNvPr id="1560" name=""/>
            <p:cNvSpPr/>
            <p:nvPr/>
          </p:nvSpPr>
          <p:spPr>
            <a:xfrm>
              <a:off x="7667640" y="549360"/>
              <a:ext cx="433440" cy="86364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5400000">
              <a:off x="6622920" y="1161720"/>
              <a:ext cx="433440" cy="122400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11080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661080" y="191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1471680" y="476280"/>
            <a:ext cx="2308320" cy="2592000"/>
            <a:chOff x="1471680" y="476280"/>
            <a:chExt cx="2308320" cy="2592000"/>
          </a:xfrm>
        </p:grpSpPr>
        <p:sp>
          <p:nvSpPr>
            <p:cNvPr id="1565" name=""/>
            <p:cNvSpPr/>
            <p:nvPr/>
          </p:nvSpPr>
          <p:spPr>
            <a:xfrm rot="16200000">
              <a:off x="2951280" y="441360"/>
              <a:ext cx="433440" cy="122400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702160" y="47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10800000">
              <a:off x="1979640" y="1412640"/>
              <a:ext cx="433440" cy="165564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471680" y="19861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2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2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90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2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95280" y="4221000"/>
                <a:ext cx="396072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5796000" y="4149720"/>
                <a:ext cx="302400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71" name=""/>
          <p:cNvGrpSpPr/>
          <p:nvPr/>
        </p:nvGrpSpPr>
        <p:grpSpPr>
          <a:xfrm>
            <a:off x="0" y="-360"/>
            <a:ext cx="9144000" cy="4149720"/>
            <a:chOff x="0" y="-360"/>
            <a:chExt cx="9144000" cy="4149720"/>
          </a:xfrm>
        </p:grpSpPr>
        <p:sp>
          <p:nvSpPr>
            <p:cNvPr id="1572" name="PlaceHolder 1"/>
            <p:cNvSpPr>
              <a:spLocks noGrp="1"/>
            </p:cNvSpPr>
            <p:nvPr>
              <p:ph/>
            </p:nvPr>
          </p:nvSpPr>
          <p:spPr>
            <a:xfrm>
              <a:off x="0" y="-360"/>
              <a:ext cx="9144000" cy="41497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a dve paralelne sile suprotnih smerova, ima smer sile većeg intenziteta, a intenzitet joj je jednak razlic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pa je z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a deluje sa strane sile većeg intenziteta, </a:t>
              </a:r>
              <a:r>
                <a:rPr b="1" lang="sr-Latn-CS" sz="3200" spc="-1" strike="noStrike">
                  <a:solidFill>
                    <a:srgbClr val="00ccff"/>
                  </a:solidFill>
                  <a:latin typeface="Times New Roman"/>
                </a:rPr>
                <a:t>ima smer veće sile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pri tome je odnos rastojanja napadne linije rezultante od napadnih linija sila obrnuto proporcionalan njihovim intenzitetim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3" name=""/>
                <p:cNvSpPr txBox="1"/>
                <p:nvPr/>
              </p:nvSpPr>
              <p:spPr>
                <a:xfrm>
                  <a:off x="2987640" y="933480"/>
                  <a:ext cx="18716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4" name=""/>
                <p:cNvSpPr txBox="1"/>
                <p:nvPr/>
              </p:nvSpPr>
              <p:spPr>
                <a:xfrm>
                  <a:off x="1763640" y="1481040"/>
                  <a:ext cx="352908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&gt;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,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−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2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2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/>
          <p:nvPr/>
        </p:nvSpPr>
        <p:spPr>
          <a:xfrm>
            <a:off x="179280" y="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. Spreg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ko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6" name=""/>
              <p:cNvSpPr txBox="1"/>
              <p:nvPr/>
            </p:nvSpPr>
            <p:spPr>
              <a:xfrm>
                <a:off x="1620720" y="404640"/>
                <a:ext cx="16560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7" name=""/>
              <p:cNvSpPr txBox="1"/>
              <p:nvPr/>
            </p:nvSpPr>
            <p:spPr>
              <a:xfrm>
                <a:off x="324000" y="3284640"/>
                <a:ext cx="20937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78" name=""/>
          <p:cNvSpPr/>
          <p:nvPr/>
        </p:nvSpPr>
        <p:spPr>
          <a:xfrm>
            <a:off x="0" y="105264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da je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ka C u beskonačno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9" name=""/>
          <p:cNvGraphicFramePr/>
          <p:nvPr/>
        </p:nvGraphicFramePr>
        <p:xfrm>
          <a:off x="5003640" y="177012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7701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1" name=""/>
          <p:cNvGraphicFramePr/>
          <p:nvPr/>
        </p:nvGraphicFramePr>
        <p:xfrm>
          <a:off x="5003640" y="17701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7701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3" name=""/>
          <p:cNvGraphicFramePr/>
          <p:nvPr/>
        </p:nvGraphicFramePr>
        <p:xfrm>
          <a:off x="7477200" y="17701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0" y="17701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5" name=""/>
          <p:cNvSpPr/>
          <p:nvPr/>
        </p:nvSpPr>
        <p:spPr>
          <a:xfrm>
            <a:off x="4859280" y="3794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4525920" y="2535120"/>
            <a:ext cx="548640" cy="675720"/>
            <a:chOff x="4525920" y="2535120"/>
            <a:chExt cx="548640" cy="675720"/>
          </a:xfrm>
        </p:grpSpPr>
        <p:grpSp>
          <p:nvGrpSpPr>
            <p:cNvPr id="1587" name=""/>
            <p:cNvGrpSpPr/>
            <p:nvPr/>
          </p:nvGrpSpPr>
          <p:grpSpPr>
            <a:xfrm>
              <a:off x="4525920" y="2535120"/>
              <a:ext cx="452160" cy="581400"/>
              <a:chOff x="4525920" y="2535120"/>
              <a:chExt cx="452160" cy="581400"/>
            </a:xfrm>
          </p:grpSpPr>
          <p:sp>
            <p:nvSpPr>
              <p:cNvPr id="1588" name=""/>
              <p:cNvSpPr/>
              <p:nvPr/>
            </p:nvSpPr>
            <p:spPr>
              <a:xfrm>
                <a:off x="4525920" y="2535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740120" y="26060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0" name=""/>
            <p:cNvSpPr/>
            <p:nvPr/>
          </p:nvSpPr>
          <p:spPr>
            <a:xfrm>
              <a:off x="4741560" y="2751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6878880" y="763560"/>
            <a:ext cx="549000" cy="675720"/>
            <a:chOff x="6878880" y="763560"/>
            <a:chExt cx="549000" cy="675720"/>
          </a:xfrm>
        </p:grpSpPr>
        <p:grpSp>
          <p:nvGrpSpPr>
            <p:cNvPr id="1592" name=""/>
            <p:cNvGrpSpPr/>
            <p:nvPr/>
          </p:nvGrpSpPr>
          <p:grpSpPr>
            <a:xfrm>
              <a:off x="6878880" y="763560"/>
              <a:ext cx="452160" cy="581400"/>
              <a:chOff x="6878880" y="763560"/>
              <a:chExt cx="452160" cy="581400"/>
            </a:xfrm>
          </p:grpSpPr>
          <p:sp>
            <p:nvSpPr>
              <p:cNvPr id="1593" name=""/>
              <p:cNvSpPr/>
              <p:nvPr/>
            </p:nvSpPr>
            <p:spPr>
              <a:xfrm>
                <a:off x="6878880" y="763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93080" y="834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5" name=""/>
            <p:cNvSpPr/>
            <p:nvPr/>
          </p:nvSpPr>
          <p:spPr>
            <a:xfrm>
              <a:off x="7094880" y="9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6" name=""/>
          <p:cNvSpPr/>
          <p:nvPr/>
        </p:nvSpPr>
        <p:spPr>
          <a:xfrm>
            <a:off x="5005440" y="1243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7381800" y="189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5075280" y="18410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5076720" y="184464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4067280" y="188640"/>
            <a:ext cx="4681440" cy="633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1619280" y="184104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7741800" y="189000"/>
            <a:ext cx="587880" cy="675360"/>
            <a:chOff x="7741800" y="189000"/>
            <a:chExt cx="587880" cy="675360"/>
          </a:xfrm>
        </p:grpSpPr>
        <p:grpSp>
          <p:nvGrpSpPr>
            <p:cNvPr id="1603" name=""/>
            <p:cNvGrpSpPr/>
            <p:nvPr/>
          </p:nvGrpSpPr>
          <p:grpSpPr>
            <a:xfrm>
              <a:off x="7741800" y="189000"/>
              <a:ext cx="587880" cy="581400"/>
              <a:chOff x="7741800" y="189000"/>
              <a:chExt cx="587880" cy="581400"/>
            </a:xfrm>
          </p:grpSpPr>
          <p:sp>
            <p:nvSpPr>
              <p:cNvPr id="1604" name=""/>
              <p:cNvSpPr/>
              <p:nvPr/>
            </p:nvSpPr>
            <p:spPr>
              <a:xfrm>
                <a:off x="7741800" y="189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956360" y="259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>
              <a:off x="795852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3851280" y="1841400"/>
            <a:ext cx="0" cy="16588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3851280" y="35002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3853080" y="1193760"/>
            <a:ext cx="452160" cy="581400"/>
            <a:chOff x="3853080" y="1193760"/>
            <a:chExt cx="452160" cy="581400"/>
          </a:xfrm>
        </p:grpSpPr>
        <p:sp>
          <p:nvSpPr>
            <p:cNvPr id="1610" name=""/>
            <p:cNvSpPr/>
            <p:nvPr/>
          </p:nvSpPr>
          <p:spPr>
            <a:xfrm>
              <a:off x="3853080" y="1193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67280" y="12650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8554680" y="1771560"/>
            <a:ext cx="587880" cy="581400"/>
            <a:chOff x="8554680" y="1771560"/>
            <a:chExt cx="587880" cy="581400"/>
          </a:xfrm>
        </p:grpSpPr>
        <p:sp>
          <p:nvSpPr>
            <p:cNvPr id="1613" name=""/>
            <p:cNvSpPr/>
            <p:nvPr/>
          </p:nvSpPr>
          <p:spPr>
            <a:xfrm>
              <a:off x="8554680" y="17715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842320" y="18428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"/>
          <p:cNvSpPr/>
          <p:nvPr/>
        </p:nvSpPr>
        <p:spPr>
          <a:xfrm flipH="1">
            <a:off x="3851280" y="18414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524720" y="18414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8748720" y="189000"/>
            <a:ext cx="0" cy="165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7524720" y="18900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3851280" y="184140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7524720" y="188640"/>
            <a:ext cx="122400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3852360" y="2058840"/>
            <a:ext cx="587880" cy="675720"/>
            <a:chOff x="3852360" y="2058840"/>
            <a:chExt cx="587880" cy="675720"/>
          </a:xfrm>
        </p:grpSpPr>
        <p:grpSp>
          <p:nvGrpSpPr>
            <p:cNvPr id="1622" name=""/>
            <p:cNvGrpSpPr/>
            <p:nvPr/>
          </p:nvGrpSpPr>
          <p:grpSpPr>
            <a:xfrm>
              <a:off x="3852360" y="2058840"/>
              <a:ext cx="587880" cy="581400"/>
              <a:chOff x="3852360" y="2058840"/>
              <a:chExt cx="587880" cy="581400"/>
            </a:xfrm>
          </p:grpSpPr>
          <p:sp>
            <p:nvSpPr>
              <p:cNvPr id="1623" name=""/>
              <p:cNvSpPr/>
              <p:nvPr/>
            </p:nvSpPr>
            <p:spPr>
              <a:xfrm>
                <a:off x="3852360" y="20588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066920" y="21297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5" name=""/>
            <p:cNvSpPr/>
            <p:nvPr/>
          </p:nvSpPr>
          <p:spPr>
            <a:xfrm>
              <a:off x="406908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6" name=""/>
          <p:cNvSpPr/>
          <p:nvPr/>
        </p:nvSpPr>
        <p:spPr>
          <a:xfrm rot="18333600">
            <a:off x="2764800" y="5598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940360" y="36450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8" name=""/>
          <p:cNvGraphicFramePr/>
          <p:nvPr/>
        </p:nvGraphicFramePr>
        <p:xfrm>
          <a:off x="6084720" y="501336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5013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0" name=""/>
          <p:cNvGraphicFramePr/>
          <p:nvPr/>
        </p:nvGraphicFramePr>
        <p:xfrm>
          <a:off x="8558280" y="50133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58280" y="50133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2" name=""/>
          <p:cNvGrpSpPr/>
          <p:nvPr/>
        </p:nvGrpSpPr>
        <p:grpSpPr>
          <a:xfrm>
            <a:off x="5510160" y="5445000"/>
            <a:ext cx="548640" cy="675720"/>
            <a:chOff x="5510160" y="5445000"/>
            <a:chExt cx="548640" cy="675720"/>
          </a:xfrm>
        </p:grpSpPr>
        <p:grpSp>
          <p:nvGrpSpPr>
            <p:cNvPr id="1633" name=""/>
            <p:cNvGrpSpPr/>
            <p:nvPr/>
          </p:nvGrpSpPr>
          <p:grpSpPr>
            <a:xfrm>
              <a:off x="5510160" y="5445000"/>
              <a:ext cx="452160" cy="581400"/>
              <a:chOff x="5510160" y="5445000"/>
              <a:chExt cx="452160" cy="581400"/>
            </a:xfrm>
          </p:grpSpPr>
          <p:sp>
            <p:nvSpPr>
              <p:cNvPr id="1634" name=""/>
              <p:cNvSpPr/>
              <p:nvPr/>
            </p:nvSpPr>
            <p:spPr>
              <a:xfrm>
                <a:off x="5510160" y="544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724360" y="5515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6" name=""/>
            <p:cNvSpPr/>
            <p:nvPr/>
          </p:nvSpPr>
          <p:spPr>
            <a:xfrm>
              <a:off x="5725800" y="566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"/>
          <p:cNvSpPr/>
          <p:nvPr/>
        </p:nvSpPr>
        <p:spPr>
          <a:xfrm flipV="1">
            <a:off x="6156360" y="50842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8605800" y="3355920"/>
            <a:ext cx="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1578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817560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7959960" y="4149720"/>
            <a:ext cx="549000" cy="675720"/>
            <a:chOff x="7959960" y="4149720"/>
            <a:chExt cx="549000" cy="675720"/>
          </a:xfrm>
        </p:grpSpPr>
        <p:grpSp>
          <p:nvGrpSpPr>
            <p:cNvPr id="1642" name=""/>
            <p:cNvGrpSpPr/>
            <p:nvPr/>
          </p:nvGrpSpPr>
          <p:grpSpPr>
            <a:xfrm>
              <a:off x="7959960" y="4149720"/>
              <a:ext cx="452160" cy="581400"/>
              <a:chOff x="7959960" y="4149720"/>
              <a:chExt cx="452160" cy="581400"/>
            </a:xfrm>
          </p:grpSpPr>
          <p:sp>
            <p:nvSpPr>
              <p:cNvPr id="1643" name=""/>
              <p:cNvSpPr/>
              <p:nvPr/>
            </p:nvSpPr>
            <p:spPr>
              <a:xfrm>
                <a:off x="7959960" y="414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8174160" y="4220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5" name=""/>
            <p:cNvSpPr/>
            <p:nvPr/>
          </p:nvSpPr>
          <p:spPr>
            <a:xfrm>
              <a:off x="817596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"/>
          <p:cNvSpPr/>
          <p:nvPr/>
        </p:nvSpPr>
        <p:spPr>
          <a:xfrm flipH="1" flipV="1">
            <a:off x="7235640" y="3068280"/>
            <a:ext cx="14436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7524720" y="117360"/>
            <a:ext cx="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flipH="1">
            <a:off x="3276360" y="5734080"/>
            <a:ext cx="36036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6156360" y="508644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2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2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4000"/>
                            </p:stCondLst>
                            <p:childTnLst>
                              <p:par>
                                <p:cTn id="8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5" dur="2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2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80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2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2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3" dur="2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2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2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2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2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8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47 0.22035 E">
                                      <p:cBhvr>
                                        <p:cTn id="872" dur="2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47 0.22035 E">
                                      <p:cBhvr>
                                        <p:cTn id="874" dur="2000" fill="hold"/>
                                        <p:tgtEl>
                                          <p:spTgt spid="1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7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78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79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08080" y="0"/>
            <a:ext cx="8901000" cy="2304000"/>
            <a:chOff x="208080" y="0"/>
            <a:chExt cx="8901000" cy="2304000"/>
          </a:xfrm>
        </p:grpSpPr>
        <p:sp>
          <p:nvSpPr>
            <p:cNvPr id="215" name=""/>
            <p:cNvSpPr/>
            <p:nvPr/>
          </p:nvSpPr>
          <p:spPr>
            <a:xfrm>
              <a:off x="208080" y="260280"/>
              <a:ext cx="8901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Neka je                               proizvoljni prostorni sistem sila, ali takav da se napadne linije tih sila seku u istoj tački: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. 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Ovakav sistem sila se naz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sistem centralnih sil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, a tačka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je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centar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684440" y="0"/>
                  <a:ext cx="31687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7" name=""/>
          <p:cNvSpPr/>
          <p:nvPr/>
        </p:nvSpPr>
        <p:spPr>
          <a:xfrm>
            <a:off x="1152360" y="328464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-484200" y="3706200"/>
            <a:ext cx="3057840" cy="812520"/>
            <a:chOff x="-484200" y="3706200"/>
            <a:chExt cx="3057840" cy="812520"/>
          </a:xfrm>
        </p:grpSpPr>
        <p:sp>
          <p:nvSpPr>
            <p:cNvPr id="219" name=""/>
            <p:cNvSpPr/>
            <p:nvPr/>
          </p:nvSpPr>
          <p:spPr>
            <a:xfrm>
              <a:off x="-484200" y="370620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56320" y="3902760"/>
              <a:ext cx="1476720" cy="435240"/>
              <a:chOff x="256320" y="3902760"/>
              <a:chExt cx="1476720" cy="435240"/>
            </a:xfrm>
          </p:grpSpPr>
          <p:sp>
            <p:nvSpPr>
              <p:cNvPr id="221" name=""/>
              <p:cNvSpPr/>
              <p:nvPr/>
            </p:nvSpPr>
            <p:spPr>
              <a:xfrm flipH="1" flipV="1">
                <a:off x="256320" y="3902760"/>
                <a:ext cx="1380600" cy="3700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9244200">
                <a:off x="1651320" y="42566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290520" y="3213000"/>
            <a:ext cx="548640" cy="675720"/>
            <a:chOff x="290520" y="3213000"/>
            <a:chExt cx="548640" cy="675720"/>
          </a:xfrm>
        </p:grpSpPr>
        <p:grpSp>
          <p:nvGrpSpPr>
            <p:cNvPr id="224" name=""/>
            <p:cNvGrpSpPr/>
            <p:nvPr/>
          </p:nvGrpSpPr>
          <p:grpSpPr>
            <a:xfrm>
              <a:off x="290520" y="3213000"/>
              <a:ext cx="452160" cy="581400"/>
              <a:chOff x="290520" y="3213000"/>
              <a:chExt cx="452160" cy="581400"/>
            </a:xfrm>
          </p:grpSpPr>
          <p:sp>
            <p:nvSpPr>
              <p:cNvPr id="225" name=""/>
              <p:cNvSpPr/>
              <p:nvPr/>
            </p:nvSpPr>
            <p:spPr>
              <a:xfrm>
                <a:off x="29052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4720" y="3283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061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57440" y="2637000"/>
            <a:ext cx="549000" cy="675360"/>
            <a:chOff x="1657440" y="2637000"/>
            <a:chExt cx="549000" cy="675360"/>
          </a:xfrm>
        </p:grpSpPr>
        <p:grpSp>
          <p:nvGrpSpPr>
            <p:cNvPr id="229" name=""/>
            <p:cNvGrpSpPr/>
            <p:nvPr/>
          </p:nvGrpSpPr>
          <p:grpSpPr>
            <a:xfrm>
              <a:off x="1657440" y="2637000"/>
              <a:ext cx="452160" cy="581400"/>
              <a:chOff x="1657440" y="2637000"/>
              <a:chExt cx="452160" cy="581400"/>
            </a:xfrm>
          </p:grpSpPr>
          <p:sp>
            <p:nvSpPr>
              <p:cNvPr id="230" name=""/>
              <p:cNvSpPr/>
              <p:nvPr/>
            </p:nvSpPr>
            <p:spPr>
              <a:xfrm>
                <a:off x="165744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7164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87344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773440" y="2492280"/>
            <a:ext cx="549000" cy="675720"/>
            <a:chOff x="2773440" y="2492280"/>
            <a:chExt cx="549000" cy="675720"/>
          </a:xfrm>
        </p:grpSpPr>
        <p:grpSp>
          <p:nvGrpSpPr>
            <p:cNvPr id="234" name=""/>
            <p:cNvGrpSpPr/>
            <p:nvPr/>
          </p:nvGrpSpPr>
          <p:grpSpPr>
            <a:xfrm>
              <a:off x="2773440" y="2492280"/>
              <a:ext cx="452160" cy="581400"/>
              <a:chOff x="2773440" y="2492280"/>
              <a:chExt cx="452160" cy="581400"/>
            </a:xfrm>
          </p:grpSpPr>
          <p:sp>
            <p:nvSpPr>
              <p:cNvPr id="235" name=""/>
              <p:cNvSpPr/>
              <p:nvPr/>
            </p:nvSpPr>
            <p:spPr>
              <a:xfrm>
                <a:off x="277344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87640" y="2563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8944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404720" y="4365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629080" y="5589720"/>
            <a:ext cx="549000" cy="675360"/>
            <a:chOff x="2629080" y="5589720"/>
            <a:chExt cx="549000" cy="675360"/>
          </a:xfrm>
        </p:grpSpPr>
        <p:grpSp>
          <p:nvGrpSpPr>
            <p:cNvPr id="240" name=""/>
            <p:cNvGrpSpPr/>
            <p:nvPr/>
          </p:nvGrpSpPr>
          <p:grpSpPr>
            <a:xfrm>
              <a:off x="2629080" y="5589720"/>
              <a:ext cx="452160" cy="581400"/>
              <a:chOff x="2629080" y="5589720"/>
              <a:chExt cx="452160" cy="581400"/>
            </a:xfrm>
          </p:grpSpPr>
          <p:sp>
            <p:nvSpPr>
              <p:cNvPr id="241" name=""/>
              <p:cNvSpPr/>
              <p:nvPr/>
            </p:nvSpPr>
            <p:spPr>
              <a:xfrm>
                <a:off x="2629080" y="558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43280" y="5660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845080" y="580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61800" y="1893600"/>
            <a:ext cx="1006920" cy="2999520"/>
            <a:chOff x="1261800" y="1893600"/>
            <a:chExt cx="1006920" cy="2999520"/>
          </a:xfrm>
        </p:grpSpPr>
        <p:sp>
          <p:nvSpPr>
            <p:cNvPr id="245" name=""/>
            <p:cNvSpPr/>
            <p:nvPr/>
          </p:nvSpPr>
          <p:spPr>
            <a:xfrm>
              <a:off x="1261800" y="189360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505520" y="2620080"/>
              <a:ext cx="511560" cy="1454760"/>
              <a:chOff x="1505520" y="2620080"/>
              <a:chExt cx="511560" cy="1454760"/>
            </a:xfrm>
          </p:grpSpPr>
          <p:sp>
            <p:nvSpPr>
              <p:cNvPr id="247" name=""/>
              <p:cNvSpPr/>
              <p:nvPr/>
            </p:nvSpPr>
            <p:spPr>
              <a:xfrm flipH="1" flipV="1">
                <a:off x="1505520" y="262008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2637800">
                <a:off x="1934280" y="39924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1735200" y="2481480"/>
            <a:ext cx="2217960" cy="2256840"/>
            <a:chOff x="1735200" y="2481480"/>
            <a:chExt cx="2217960" cy="2256840"/>
          </a:xfrm>
        </p:grpSpPr>
        <p:sp>
          <p:nvSpPr>
            <p:cNvPr id="250" name=""/>
            <p:cNvSpPr/>
            <p:nvPr/>
          </p:nvSpPr>
          <p:spPr>
            <a:xfrm flipH="1">
              <a:off x="1735200" y="248148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2334600" y="3028320"/>
              <a:ext cx="1081080" cy="1087920"/>
              <a:chOff x="2334600" y="3028320"/>
              <a:chExt cx="1081080" cy="1087920"/>
            </a:xfrm>
          </p:grpSpPr>
          <p:sp>
            <p:nvSpPr>
              <p:cNvPr id="252" name=""/>
              <p:cNvSpPr/>
              <p:nvPr/>
            </p:nvSpPr>
            <p:spPr>
              <a:xfrm flipV="1">
                <a:off x="2412000" y="302832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6421400">
                <a:off x="2336400" y="40442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908360" y="4149360"/>
            <a:ext cx="2089080" cy="2376360"/>
            <a:chOff x="1908360" y="4149360"/>
            <a:chExt cx="2089080" cy="2376360"/>
          </a:xfrm>
        </p:grpSpPr>
        <p:sp>
          <p:nvSpPr>
            <p:cNvPr id="255" name=""/>
            <p:cNvSpPr/>
            <p:nvPr/>
          </p:nvSpPr>
          <p:spPr>
            <a:xfrm flipH="1" flipV="1">
              <a:off x="1908360" y="414936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2480040" y="4792680"/>
              <a:ext cx="1011240" cy="1157400"/>
              <a:chOff x="2480040" y="4792680"/>
              <a:chExt cx="1011240" cy="1157400"/>
            </a:xfrm>
          </p:grpSpPr>
          <p:sp>
            <p:nvSpPr>
              <p:cNvPr id="257" name=""/>
              <p:cNvSpPr/>
              <p:nvPr/>
            </p:nvSpPr>
            <p:spPr>
              <a:xfrm>
                <a:off x="2549880" y="487476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472200">
                <a:off x="2484000" y="47970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924360" y="4836960"/>
                <a:ext cx="15843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3998160" y="418932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A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96000" y="335592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158720" y="3777480"/>
            <a:ext cx="3057840" cy="812520"/>
            <a:chOff x="4158720" y="3777480"/>
            <a:chExt cx="3057840" cy="812520"/>
          </a:xfrm>
        </p:grpSpPr>
        <p:sp>
          <p:nvSpPr>
            <p:cNvPr id="263" name=""/>
            <p:cNvSpPr/>
            <p:nvPr/>
          </p:nvSpPr>
          <p:spPr>
            <a:xfrm>
              <a:off x="4158720" y="377748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899600" y="3974400"/>
              <a:ext cx="1476360" cy="434880"/>
              <a:chOff x="4899600" y="3974400"/>
              <a:chExt cx="1476360" cy="434880"/>
            </a:xfrm>
          </p:grpSpPr>
          <p:sp>
            <p:nvSpPr>
              <p:cNvPr id="265" name=""/>
              <p:cNvSpPr/>
              <p:nvPr/>
            </p:nvSpPr>
            <p:spPr>
              <a:xfrm flipH="1" flipV="1">
                <a:off x="4899600" y="3974400"/>
                <a:ext cx="1380600" cy="3700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9244200">
                <a:off x="6294240" y="432792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4934160" y="3284640"/>
            <a:ext cx="549000" cy="675360"/>
            <a:chOff x="4934160" y="3284640"/>
            <a:chExt cx="549000" cy="675360"/>
          </a:xfrm>
        </p:grpSpPr>
        <p:grpSp>
          <p:nvGrpSpPr>
            <p:cNvPr id="268" name=""/>
            <p:cNvGrpSpPr/>
            <p:nvPr/>
          </p:nvGrpSpPr>
          <p:grpSpPr>
            <a:xfrm>
              <a:off x="4934160" y="3284640"/>
              <a:ext cx="452160" cy="581400"/>
              <a:chOff x="4934160" y="3284640"/>
              <a:chExt cx="452160" cy="581400"/>
            </a:xfrm>
          </p:grpSpPr>
          <p:sp>
            <p:nvSpPr>
              <p:cNvPr id="269" name=""/>
              <p:cNvSpPr/>
              <p:nvPr/>
            </p:nvSpPr>
            <p:spPr>
              <a:xfrm>
                <a:off x="4934160" y="3284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48360" y="3355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5150160" y="35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300720" y="2708280"/>
            <a:ext cx="548640" cy="675720"/>
            <a:chOff x="6300720" y="2708280"/>
            <a:chExt cx="548640" cy="675720"/>
          </a:xfrm>
        </p:grpSpPr>
        <p:grpSp>
          <p:nvGrpSpPr>
            <p:cNvPr id="273" name=""/>
            <p:cNvGrpSpPr/>
            <p:nvPr/>
          </p:nvGrpSpPr>
          <p:grpSpPr>
            <a:xfrm>
              <a:off x="6300720" y="2708280"/>
              <a:ext cx="452160" cy="581400"/>
              <a:chOff x="6300720" y="2708280"/>
              <a:chExt cx="452160" cy="581400"/>
            </a:xfrm>
          </p:grpSpPr>
          <p:sp>
            <p:nvSpPr>
              <p:cNvPr id="274" name=""/>
              <p:cNvSpPr/>
              <p:nvPr/>
            </p:nvSpPr>
            <p:spPr>
              <a:xfrm>
                <a:off x="630072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514920" y="2779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651636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8029800" y="3068640"/>
            <a:ext cx="549000" cy="675720"/>
            <a:chOff x="8029800" y="3068640"/>
            <a:chExt cx="549000" cy="675720"/>
          </a:xfrm>
        </p:grpSpPr>
        <p:grpSp>
          <p:nvGrpSpPr>
            <p:cNvPr id="278" name=""/>
            <p:cNvGrpSpPr/>
            <p:nvPr/>
          </p:nvGrpSpPr>
          <p:grpSpPr>
            <a:xfrm>
              <a:off x="8029800" y="3068640"/>
              <a:ext cx="452160" cy="581400"/>
              <a:chOff x="8029800" y="3068640"/>
              <a:chExt cx="452160" cy="581400"/>
            </a:xfrm>
          </p:grpSpPr>
          <p:sp>
            <p:nvSpPr>
              <p:cNvPr id="279" name=""/>
              <p:cNvSpPr/>
              <p:nvPr/>
            </p:nvSpPr>
            <p:spPr>
              <a:xfrm>
                <a:off x="8029800" y="306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44000" y="3139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824580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048000" y="4437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272360" y="5661000"/>
            <a:ext cx="548640" cy="675720"/>
            <a:chOff x="7272360" y="5661000"/>
            <a:chExt cx="548640" cy="675720"/>
          </a:xfrm>
        </p:grpSpPr>
        <p:grpSp>
          <p:nvGrpSpPr>
            <p:cNvPr id="284" name=""/>
            <p:cNvGrpSpPr/>
            <p:nvPr/>
          </p:nvGrpSpPr>
          <p:grpSpPr>
            <a:xfrm>
              <a:off x="7272360" y="5661000"/>
              <a:ext cx="452160" cy="581400"/>
              <a:chOff x="7272360" y="5661000"/>
              <a:chExt cx="452160" cy="581400"/>
            </a:xfrm>
          </p:grpSpPr>
          <p:sp>
            <p:nvSpPr>
              <p:cNvPr id="285" name=""/>
              <p:cNvSpPr/>
              <p:nvPr/>
            </p:nvSpPr>
            <p:spPr>
              <a:xfrm>
                <a:off x="7272360" y="566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86560" y="5731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7488000" y="587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05080" y="1964880"/>
            <a:ext cx="1006920" cy="2999520"/>
            <a:chOff x="5905080" y="1964880"/>
            <a:chExt cx="1006920" cy="2999520"/>
          </a:xfrm>
        </p:grpSpPr>
        <p:sp>
          <p:nvSpPr>
            <p:cNvPr id="289" name=""/>
            <p:cNvSpPr/>
            <p:nvPr/>
          </p:nvSpPr>
          <p:spPr>
            <a:xfrm>
              <a:off x="5905080" y="196488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148800" y="2691720"/>
              <a:ext cx="511560" cy="1454760"/>
              <a:chOff x="6148800" y="2691720"/>
              <a:chExt cx="511560" cy="1454760"/>
            </a:xfrm>
          </p:grpSpPr>
          <p:sp>
            <p:nvSpPr>
              <p:cNvPr id="291" name=""/>
              <p:cNvSpPr/>
              <p:nvPr/>
            </p:nvSpPr>
            <p:spPr>
              <a:xfrm flipH="1" flipV="1">
                <a:off x="6148800" y="269172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2637800">
                <a:off x="6577560" y="40640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6378120" y="2553120"/>
            <a:ext cx="2217960" cy="2256840"/>
            <a:chOff x="6378120" y="2553120"/>
            <a:chExt cx="2217960" cy="2256840"/>
          </a:xfrm>
        </p:grpSpPr>
        <p:sp>
          <p:nvSpPr>
            <p:cNvPr id="294" name=""/>
            <p:cNvSpPr/>
            <p:nvPr/>
          </p:nvSpPr>
          <p:spPr>
            <a:xfrm flipH="1">
              <a:off x="6378120" y="255312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6977520" y="3099960"/>
              <a:ext cx="1081080" cy="1087920"/>
              <a:chOff x="6977520" y="3099960"/>
              <a:chExt cx="1081080" cy="1087920"/>
            </a:xfrm>
          </p:grpSpPr>
          <p:sp>
            <p:nvSpPr>
              <p:cNvPr id="296" name=""/>
              <p:cNvSpPr/>
              <p:nvPr/>
            </p:nvSpPr>
            <p:spPr>
              <a:xfrm flipV="1">
                <a:off x="7054920" y="309996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421400">
                <a:off x="6979320" y="411588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6551280" y="4221360"/>
            <a:ext cx="2089080" cy="2376360"/>
            <a:chOff x="6551280" y="4221360"/>
            <a:chExt cx="2089080" cy="2376360"/>
          </a:xfrm>
        </p:grpSpPr>
        <p:sp>
          <p:nvSpPr>
            <p:cNvPr id="299" name=""/>
            <p:cNvSpPr/>
            <p:nvPr/>
          </p:nvSpPr>
          <p:spPr>
            <a:xfrm flipH="1" flipV="1">
              <a:off x="6551280" y="422136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7122960" y="4864680"/>
              <a:ext cx="1011240" cy="1157400"/>
              <a:chOff x="7122960" y="4864680"/>
              <a:chExt cx="1011240" cy="1157400"/>
            </a:xfrm>
          </p:grpSpPr>
          <p:sp>
            <p:nvSpPr>
              <p:cNvPr id="301" name=""/>
              <p:cNvSpPr/>
              <p:nvPr/>
            </p:nvSpPr>
            <p:spPr>
              <a:xfrm>
                <a:off x="7192800" y="494676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472200">
                <a:off x="7126920" y="48690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0394 0.01042 E">
                                      <p:cBhvr>
                                        <p:cTn id="2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0.00798 0.0419 E">
                                      <p:cBhvr>
                                        <p:cTn id="2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3143 0.04189 E">
                                      <p:cBhvr>
                                        <p:cTn id="26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-0.04723 -0.06297 E">
                                      <p:cBhvr>
                                        <p:cTn id="29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2268360" y="2133720"/>
            <a:ext cx="6480360" cy="4724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3060720" y="3500280"/>
            <a:ext cx="452160" cy="581400"/>
            <a:chOff x="3060720" y="3500280"/>
            <a:chExt cx="452160" cy="581400"/>
          </a:xfrm>
        </p:grpSpPr>
        <p:sp>
          <p:nvSpPr>
            <p:cNvPr id="1652" name=""/>
            <p:cNvSpPr/>
            <p:nvPr/>
          </p:nvSpPr>
          <p:spPr>
            <a:xfrm>
              <a:off x="306072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274920" y="35715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7237080" y="5587920"/>
            <a:ext cx="587880" cy="581400"/>
            <a:chOff x="7237080" y="5587920"/>
            <a:chExt cx="587880" cy="581400"/>
          </a:xfrm>
        </p:grpSpPr>
        <p:sp>
          <p:nvSpPr>
            <p:cNvPr id="1655" name=""/>
            <p:cNvSpPr/>
            <p:nvPr/>
          </p:nvSpPr>
          <p:spPr>
            <a:xfrm>
              <a:off x="7237080" y="558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24720" y="565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7" name=""/>
          <p:cNvSpPr/>
          <p:nvPr/>
        </p:nvSpPr>
        <p:spPr>
          <a:xfrm>
            <a:off x="3203640" y="335592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3203640" y="33526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03640" y="551664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79280" y="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preg sila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edstavlja sistem od dve sile jednakog intenziteta i pravca, a suprotnih smerova koje deluju duž različitih napadnih lin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"/>
          <p:cNvGrpSpPr/>
          <p:nvPr/>
        </p:nvGrpSpPr>
        <p:grpSpPr>
          <a:xfrm>
            <a:off x="109440" y="1413000"/>
            <a:ext cx="4533840" cy="654480"/>
            <a:chOff x="109440" y="1413000"/>
            <a:chExt cx="4533840" cy="654480"/>
          </a:xfrm>
        </p:grpSpPr>
        <p:grpSp>
          <p:nvGrpSpPr>
            <p:cNvPr id="1662" name=""/>
            <p:cNvGrpSpPr/>
            <p:nvPr/>
          </p:nvGrpSpPr>
          <p:grpSpPr>
            <a:xfrm>
              <a:off x="109440" y="1486080"/>
              <a:ext cx="452160" cy="581400"/>
              <a:chOff x="109440" y="1486080"/>
              <a:chExt cx="452160" cy="581400"/>
            </a:xfrm>
          </p:grpSpPr>
          <p:sp>
            <p:nvSpPr>
              <p:cNvPr id="1663" name=""/>
              <p:cNvSpPr/>
              <p:nvPr/>
            </p:nvSpPr>
            <p:spPr>
              <a:xfrm>
                <a:off x="109440" y="1486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23640" y="155700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886680" y="1482840"/>
              <a:ext cx="587880" cy="581400"/>
              <a:chOff x="886680" y="1482840"/>
              <a:chExt cx="587880" cy="581400"/>
            </a:xfrm>
          </p:grpSpPr>
          <p:sp>
            <p:nvSpPr>
              <p:cNvPr id="1666" name=""/>
              <p:cNvSpPr/>
              <p:nvPr/>
            </p:nvSpPr>
            <p:spPr>
              <a:xfrm>
                <a:off x="886680" y="14828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174320" y="155412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8" name=""/>
            <p:cNvSpPr/>
            <p:nvPr/>
          </p:nvSpPr>
          <p:spPr>
            <a:xfrm>
              <a:off x="1547640" y="1413000"/>
              <a:ext cx="30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- 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su spre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žne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 sil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10920" y="14860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0" name=""/>
          <p:cNvSpPr/>
          <p:nvPr/>
        </p:nvSpPr>
        <p:spPr>
          <a:xfrm>
            <a:off x="6515280" y="5516640"/>
            <a:ext cx="1223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7981920" y="220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2627280" y="2633760"/>
            <a:ext cx="360360" cy="360360"/>
            <a:chOff x="2627280" y="2633760"/>
            <a:chExt cx="360360" cy="360360"/>
          </a:xfrm>
        </p:grpSpPr>
        <p:sp>
          <p:nvSpPr>
            <p:cNvPr id="1673" name=""/>
            <p:cNvSpPr/>
            <p:nvPr/>
          </p:nvSpPr>
          <p:spPr>
            <a:xfrm>
              <a:off x="2627280" y="263376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771640" y="277812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3060720" y="2417760"/>
            <a:ext cx="406440" cy="581400"/>
            <a:chOff x="3060720" y="2417760"/>
            <a:chExt cx="406440" cy="581400"/>
          </a:xfrm>
        </p:grpSpPr>
        <p:sp>
          <p:nvSpPr>
            <p:cNvPr id="1676" name=""/>
            <p:cNvSpPr/>
            <p:nvPr/>
          </p:nvSpPr>
          <p:spPr>
            <a:xfrm>
              <a:off x="3060720" y="2417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201840" y="256716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3419640" y="2494080"/>
            <a:ext cx="5616360" cy="4535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H="1" flipV="1">
            <a:off x="4281480" y="2781000"/>
            <a:ext cx="3168720" cy="33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3995640" y="4078440"/>
            <a:ext cx="452160" cy="581400"/>
            <a:chOff x="3995640" y="4078440"/>
            <a:chExt cx="452160" cy="581400"/>
          </a:xfrm>
        </p:grpSpPr>
        <p:sp>
          <p:nvSpPr>
            <p:cNvPr id="1681" name=""/>
            <p:cNvSpPr/>
            <p:nvPr/>
          </p:nvSpPr>
          <p:spPr>
            <a:xfrm>
              <a:off x="3995640" y="4078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209840" y="41493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8172000" y="6165720"/>
            <a:ext cx="587880" cy="581400"/>
            <a:chOff x="8172000" y="6165720"/>
            <a:chExt cx="587880" cy="581400"/>
          </a:xfrm>
        </p:grpSpPr>
        <p:sp>
          <p:nvSpPr>
            <p:cNvPr id="1684" name=""/>
            <p:cNvSpPr/>
            <p:nvPr/>
          </p:nvSpPr>
          <p:spPr>
            <a:xfrm>
              <a:off x="8172000" y="6165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459640" y="62370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4138560" y="393372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4138560" y="39304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5362200" y="3933720"/>
            <a:ext cx="2087640" cy="215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138560" y="609444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7450200" y="3068280"/>
            <a:ext cx="0" cy="374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6586920" y="4722840"/>
            <a:ext cx="358560" cy="581400"/>
            <a:chOff x="6586920" y="4722840"/>
            <a:chExt cx="358560" cy="581400"/>
          </a:xfrm>
        </p:grpSpPr>
        <p:sp>
          <p:nvSpPr>
            <p:cNvPr id="1692" name=""/>
            <p:cNvSpPr/>
            <p:nvPr/>
          </p:nvSpPr>
          <p:spPr>
            <a:xfrm>
              <a:off x="6586920" y="47228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29480" y="48657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7460280" y="551340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458840" y="39337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451640" y="4653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7450200" y="3933720"/>
            <a:ext cx="0" cy="21592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8245440" y="270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5580720" y="3716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0" y="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sr-Latn-CS" sz="3200" spc="-1" strike="noStrike">
                <a:solidFill>
                  <a:srgbClr val="ff0066"/>
                </a:solidFill>
                <a:latin typeface="Times New Roman"/>
              </a:rPr>
              <a:t> –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ormalno rastojanje između linija dejst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prežnih sila se zove  </a:t>
            </a:r>
            <a:r>
              <a:rPr b="1" i="1" lang="sr-Latn-CS" sz="3200" spc="-1" strike="noStrike">
                <a:solidFill>
                  <a:srgbClr val="ff0066"/>
                </a:solidFill>
                <a:latin typeface="Times New Roman"/>
              </a:rPr>
              <a:t>krak spre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450200" y="60944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0" y="1052640"/>
            <a:ext cx="9144000" cy="4968360"/>
            <a:chOff x="0" y="1052640"/>
            <a:chExt cx="9144000" cy="4968360"/>
          </a:xfrm>
        </p:grpSpPr>
        <p:sp>
          <p:nvSpPr>
            <p:cNvPr id="1703" name=""/>
            <p:cNvSpPr/>
            <p:nvPr/>
          </p:nvSpPr>
          <p:spPr>
            <a:xfrm>
              <a:off x="0" y="1052640"/>
              <a:ext cx="914400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Elementi spreg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Intenzitet: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Ravan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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određena vektorim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Smer obrtanj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prega je isti ka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mer obrtanja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a se poklopi sa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najkraćim pute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4" name=""/>
            <p:cNvGrpSpPr/>
            <p:nvPr/>
          </p:nvGrpSpPr>
          <p:grpSpPr>
            <a:xfrm>
              <a:off x="2557800" y="4002120"/>
              <a:ext cx="358560" cy="581400"/>
              <a:chOff x="2557800" y="4002120"/>
              <a:chExt cx="358560" cy="581400"/>
            </a:xfrm>
          </p:grpSpPr>
          <p:sp>
            <p:nvSpPr>
              <p:cNvPr id="1705" name=""/>
              <p:cNvSpPr/>
              <p:nvPr/>
            </p:nvSpPr>
            <p:spPr>
              <a:xfrm>
                <a:off x="2557800" y="400212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700360" y="4145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7" name=""/>
            <p:cNvGrpSpPr/>
            <p:nvPr/>
          </p:nvGrpSpPr>
          <p:grpSpPr>
            <a:xfrm>
              <a:off x="2844720" y="4505400"/>
              <a:ext cx="452160" cy="581400"/>
              <a:chOff x="2844720" y="4505400"/>
              <a:chExt cx="452160" cy="581400"/>
            </a:xfrm>
          </p:grpSpPr>
          <p:sp>
            <p:nvSpPr>
              <p:cNvPr id="1708" name=""/>
              <p:cNvSpPr/>
              <p:nvPr/>
            </p:nvSpPr>
            <p:spPr>
              <a:xfrm>
                <a:off x="2844720" y="4505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58920" y="457632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1405080" y="2560680"/>
              <a:ext cx="452160" cy="581400"/>
              <a:chOff x="1405080" y="2560680"/>
              <a:chExt cx="452160" cy="581400"/>
            </a:xfrm>
          </p:grpSpPr>
          <p:sp>
            <p:nvSpPr>
              <p:cNvPr id="1711" name=""/>
              <p:cNvSpPr/>
              <p:nvPr/>
            </p:nvSpPr>
            <p:spPr>
              <a:xfrm>
                <a:off x="1405080" y="2560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619280" y="2631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468360" y="2492280"/>
              <a:ext cx="358560" cy="581400"/>
              <a:chOff x="468360" y="2492280"/>
              <a:chExt cx="358560" cy="581400"/>
            </a:xfrm>
          </p:grpSpPr>
          <p:sp>
            <p:nvSpPr>
              <p:cNvPr id="1714" name=""/>
              <p:cNvSpPr/>
              <p:nvPr/>
            </p:nvSpPr>
            <p:spPr>
              <a:xfrm>
                <a:off x="468360" y="249228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10920" y="2635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16" name=""/>
                <p:cNvSpPr txBox="1"/>
                <p:nvPr/>
              </p:nvSpPr>
              <p:spPr>
                <a:xfrm>
                  <a:off x="2556000" y="1495440"/>
                  <a:ext cx="316836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</m:d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717" name=""/>
          <p:cNvGraphicFramePr/>
          <p:nvPr/>
        </p:nvGraphicFramePr>
        <p:xfrm>
          <a:off x="5867280" y="3932280"/>
          <a:ext cx="32400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932280"/>
                    <a:ext cx="3240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9" name=""/>
          <p:cNvGrpSpPr/>
          <p:nvPr/>
        </p:nvGrpSpPr>
        <p:grpSpPr>
          <a:xfrm>
            <a:off x="3708360" y="6308640"/>
            <a:ext cx="360360" cy="360360"/>
            <a:chOff x="3708360" y="6308640"/>
            <a:chExt cx="360360" cy="360360"/>
          </a:xfrm>
        </p:grpSpPr>
        <p:sp>
          <p:nvSpPr>
            <p:cNvPr id="1720" name=""/>
            <p:cNvSpPr/>
            <p:nvPr/>
          </p:nvSpPr>
          <p:spPr>
            <a:xfrm>
              <a:off x="3708360" y="630864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852720" y="645300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4141800" y="6093000"/>
            <a:ext cx="406440" cy="581400"/>
            <a:chOff x="4141800" y="6093000"/>
            <a:chExt cx="406440" cy="581400"/>
          </a:xfrm>
        </p:grpSpPr>
        <p:sp>
          <p:nvSpPr>
            <p:cNvPr id="1723" name=""/>
            <p:cNvSpPr/>
            <p:nvPr/>
          </p:nvSpPr>
          <p:spPr>
            <a:xfrm>
              <a:off x="4141800" y="6093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82920" y="624204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2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000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2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6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800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2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"/>
          <p:cNvSpPr/>
          <p:nvPr/>
        </p:nvSpPr>
        <p:spPr>
          <a:xfrm>
            <a:off x="1620720" y="2133720"/>
            <a:ext cx="5616720" cy="4535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 flipV="1">
            <a:off x="1044360" y="907920"/>
            <a:ext cx="4606920" cy="482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7" name=""/>
          <p:cNvGrpSpPr/>
          <p:nvPr/>
        </p:nvGrpSpPr>
        <p:grpSpPr>
          <a:xfrm>
            <a:off x="2197080" y="3718080"/>
            <a:ext cx="452160" cy="581400"/>
            <a:chOff x="2197080" y="3718080"/>
            <a:chExt cx="452160" cy="581400"/>
          </a:xfrm>
        </p:grpSpPr>
        <p:sp>
          <p:nvSpPr>
            <p:cNvPr id="1728" name=""/>
            <p:cNvSpPr/>
            <p:nvPr/>
          </p:nvSpPr>
          <p:spPr>
            <a:xfrm>
              <a:off x="2197080" y="3718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411280" y="3789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6373440" y="5805360"/>
            <a:ext cx="587880" cy="581400"/>
            <a:chOff x="6373440" y="5805360"/>
            <a:chExt cx="587880" cy="581400"/>
          </a:xfrm>
        </p:grpSpPr>
        <p:sp>
          <p:nvSpPr>
            <p:cNvPr id="1731" name=""/>
            <p:cNvSpPr/>
            <p:nvPr/>
          </p:nvSpPr>
          <p:spPr>
            <a:xfrm>
              <a:off x="6373440" y="58053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661080" y="5876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2340000" y="357336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2340000" y="35701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H="1" flipV="1">
            <a:off x="3563640" y="3573360"/>
            <a:ext cx="2087640" cy="215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340000" y="573408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5651640" y="2707920"/>
            <a:ext cx="0" cy="374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4788000" y="4362480"/>
            <a:ext cx="358560" cy="581400"/>
            <a:chOff x="4788000" y="4362480"/>
            <a:chExt cx="358560" cy="581400"/>
          </a:xfrm>
        </p:grpSpPr>
        <p:sp>
          <p:nvSpPr>
            <p:cNvPr id="1739" name=""/>
            <p:cNvSpPr/>
            <p:nvPr/>
          </p:nvSpPr>
          <p:spPr>
            <a:xfrm>
              <a:off x="4788000" y="43624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30560" y="45054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1" name=""/>
          <p:cNvSpPr/>
          <p:nvPr/>
        </p:nvSpPr>
        <p:spPr>
          <a:xfrm>
            <a:off x="5661720" y="51530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659920" y="357336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653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5651640" y="3573360"/>
            <a:ext cx="0" cy="21592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446880" y="23479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3782160" y="335592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773800" y="299736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8" name=""/>
          <p:cNvGraphicFramePr/>
          <p:nvPr/>
        </p:nvGraphicFramePr>
        <p:xfrm>
          <a:off x="2735280" y="2976480"/>
          <a:ext cx="324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5280" y="2976480"/>
                    <a:ext cx="324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0" name=""/>
          <p:cNvSpPr/>
          <p:nvPr/>
        </p:nvSpPr>
        <p:spPr>
          <a:xfrm>
            <a:off x="5651640" y="57340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1" name=""/>
          <p:cNvGraphicFramePr/>
          <p:nvPr/>
        </p:nvGraphicFramePr>
        <p:xfrm>
          <a:off x="4068720" y="3571920"/>
          <a:ext cx="32400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8720" y="3571920"/>
                    <a:ext cx="3240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"/>
          <p:cNvSpPr/>
          <p:nvPr/>
        </p:nvSpPr>
        <p:spPr>
          <a:xfrm flipH="1">
            <a:off x="539280" y="3571920"/>
            <a:ext cx="3024360" cy="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2411280" y="284040"/>
            <a:ext cx="6732720" cy="1565640"/>
            <a:chOff x="2411280" y="284040"/>
            <a:chExt cx="6732720" cy="1565640"/>
          </a:xfrm>
        </p:grpSpPr>
        <p:sp>
          <p:nvSpPr>
            <p:cNvPr id="1755" name=""/>
            <p:cNvSpPr/>
            <p:nvPr/>
          </p:nvSpPr>
          <p:spPr>
            <a:xfrm>
              <a:off x="2411280" y="284040"/>
              <a:ext cx="6732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Ilustracija za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smer obrtanj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sprega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ažno je napomenuti da je vektor      uvek usmeren od        ka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8461440" y="689040"/>
              <a:ext cx="358560" cy="581400"/>
              <a:chOff x="8461440" y="689040"/>
              <a:chExt cx="358560" cy="581400"/>
            </a:xfrm>
          </p:grpSpPr>
          <p:sp>
            <p:nvSpPr>
              <p:cNvPr id="1757" name=""/>
              <p:cNvSpPr/>
              <p:nvPr/>
            </p:nvSpPr>
            <p:spPr>
              <a:xfrm>
                <a:off x="8461440" y="6890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604000" y="8319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5854320" y="1268280"/>
              <a:ext cx="587880" cy="581400"/>
              <a:chOff x="5854320" y="1268280"/>
              <a:chExt cx="587880" cy="581400"/>
            </a:xfrm>
          </p:grpSpPr>
          <p:sp>
            <p:nvSpPr>
              <p:cNvPr id="1760" name=""/>
              <p:cNvSpPr/>
              <p:nvPr/>
            </p:nvSpPr>
            <p:spPr>
              <a:xfrm>
                <a:off x="5854320" y="12682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41960" y="13395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7166160" y="1268280"/>
              <a:ext cx="452160" cy="581400"/>
              <a:chOff x="7166160" y="1268280"/>
              <a:chExt cx="452160" cy="581400"/>
            </a:xfrm>
          </p:grpSpPr>
          <p:sp>
            <p:nvSpPr>
              <p:cNvPr id="1763" name=""/>
              <p:cNvSpPr/>
              <p:nvPr/>
            </p:nvSpPr>
            <p:spPr>
              <a:xfrm>
                <a:off x="716616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380360" y="13395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5" name=""/>
          <p:cNvGrpSpPr/>
          <p:nvPr/>
        </p:nvGrpSpPr>
        <p:grpSpPr>
          <a:xfrm>
            <a:off x="2556000" y="6021360"/>
            <a:ext cx="360360" cy="360360"/>
            <a:chOff x="2556000" y="6021360"/>
            <a:chExt cx="360360" cy="360360"/>
          </a:xfrm>
        </p:grpSpPr>
        <p:sp>
          <p:nvSpPr>
            <p:cNvPr id="1766" name=""/>
            <p:cNvSpPr/>
            <p:nvPr/>
          </p:nvSpPr>
          <p:spPr>
            <a:xfrm>
              <a:off x="2556000" y="602136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700360" y="616572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2989080" y="5805360"/>
            <a:ext cx="406440" cy="581400"/>
            <a:chOff x="2989080" y="5805360"/>
            <a:chExt cx="406440" cy="581400"/>
          </a:xfrm>
        </p:grpSpPr>
        <p:sp>
          <p:nvSpPr>
            <p:cNvPr id="1769" name=""/>
            <p:cNvSpPr/>
            <p:nvPr/>
          </p:nvSpPr>
          <p:spPr>
            <a:xfrm>
              <a:off x="2989080" y="5805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30560" y="5954760"/>
              <a:ext cx="21600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56647E-006 L -0.22048 -0.31468 E">
                                      <p:cBhvr>
                                        <p:cTn id="944" dur="2000" fill="hold"/>
                                        <p:tgtEl>
                                          <p:spTgt spid="1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20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40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2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2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4392720" y="2489040"/>
            <a:ext cx="3887640" cy="3745080"/>
          </a:xfrm>
          <a:prstGeom prst="parallelogram">
            <a:avLst>
              <a:gd name="adj" fmla="val 25952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489800" y="32097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4392720" y="2489040"/>
            <a:ext cx="1008000" cy="374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va tri elementa sprega sila se mogu definisati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vektorom momenta spreg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4537440" y="3857760"/>
            <a:ext cx="358560" cy="581400"/>
            <a:chOff x="4537440" y="3857760"/>
            <a:chExt cx="358560" cy="581400"/>
          </a:xfrm>
        </p:grpSpPr>
        <p:sp>
          <p:nvSpPr>
            <p:cNvPr id="1776" name=""/>
            <p:cNvSpPr/>
            <p:nvPr/>
          </p:nvSpPr>
          <p:spPr>
            <a:xfrm>
              <a:off x="4537440" y="3857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680000" y="4000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6481080" y="1841400"/>
            <a:ext cx="587880" cy="581400"/>
            <a:chOff x="6481080" y="1841400"/>
            <a:chExt cx="587880" cy="581400"/>
          </a:xfrm>
        </p:grpSpPr>
        <p:sp>
          <p:nvSpPr>
            <p:cNvPr id="1779" name=""/>
            <p:cNvSpPr/>
            <p:nvPr/>
          </p:nvSpPr>
          <p:spPr>
            <a:xfrm>
              <a:off x="6481080" y="1841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768720" y="1912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5834160" y="5513400"/>
            <a:ext cx="452160" cy="581400"/>
            <a:chOff x="5834160" y="5513400"/>
            <a:chExt cx="452160" cy="581400"/>
          </a:xfrm>
        </p:grpSpPr>
        <p:sp>
          <p:nvSpPr>
            <p:cNvPr id="1782" name=""/>
            <p:cNvSpPr/>
            <p:nvPr/>
          </p:nvSpPr>
          <p:spPr>
            <a:xfrm>
              <a:off x="5834160" y="5513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048360" y="5584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6084720" y="620640"/>
            <a:ext cx="2880000" cy="936720"/>
          </a:xfrm>
          <a:prstGeom prst="rect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6154560" y="598320"/>
                <a:ext cx="26654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786" name=""/>
          <p:cNvGrpSpPr/>
          <p:nvPr/>
        </p:nvGrpSpPr>
        <p:grpSpPr>
          <a:xfrm>
            <a:off x="4176720" y="2705040"/>
            <a:ext cx="406440" cy="581400"/>
            <a:chOff x="4176720" y="2705040"/>
            <a:chExt cx="406440" cy="581400"/>
          </a:xfrm>
        </p:grpSpPr>
        <p:sp>
          <p:nvSpPr>
            <p:cNvPr id="1787" name=""/>
            <p:cNvSpPr/>
            <p:nvPr/>
          </p:nvSpPr>
          <p:spPr>
            <a:xfrm>
              <a:off x="4176720" y="2705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317840" y="285444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3457080" y="1268280"/>
            <a:ext cx="5680080" cy="5618520"/>
            <a:chOff x="3457080" y="1268280"/>
            <a:chExt cx="5680080" cy="5618520"/>
          </a:xfrm>
        </p:grpSpPr>
        <p:sp>
          <p:nvSpPr>
            <p:cNvPr id="1790" name=""/>
            <p:cNvSpPr/>
            <p:nvPr/>
          </p:nvSpPr>
          <p:spPr>
            <a:xfrm>
              <a:off x="3457080" y="6305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773920" y="4576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459400" y="1268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3891960" y="522288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408280" y="5222880"/>
              <a:ext cx="3728880" cy="1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385960" y="1412640"/>
              <a:ext cx="22320" cy="3809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861800" y="4861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"/>
          <p:cNvSpPr/>
          <p:nvPr/>
        </p:nvSpPr>
        <p:spPr>
          <a:xfrm>
            <a:off x="4897440" y="1986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889440" y="565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5544720" y="630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7776720" y="558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8281440" y="392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040360" y="2849400"/>
            <a:ext cx="73080" cy="71640"/>
          </a:xfrm>
          <a:prstGeom prst="ellipse">
            <a:avLst/>
          </a:prstGeom>
          <a:solidFill>
            <a:srgbClr val="ff00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468360" y="1125360"/>
                <a:ext cx="136692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395280" y="2060640"/>
                <a:ext cx="19717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324000" y="5081760"/>
                <a:ext cx="3384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×</m:t>
                    </m:r>
                    <m:r>
                      <m:t xml:space="preserve">F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324000" y="5945040"/>
                <a:ext cx="2855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395280" y="2652840"/>
                <a:ext cx="2368440" cy="22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>
            <a:off x="3708720" y="119700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429080" y="3500280"/>
            <a:ext cx="2879640" cy="273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 flipV="1">
            <a:off x="4319640" y="2633760"/>
            <a:ext cx="938160" cy="504720"/>
          </a:xfrm>
          <a:prstGeom prst="line">
            <a:avLst/>
          </a:prstGeom>
          <a:ln w="5724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7261400">
            <a:off x="4867200" y="2580840"/>
            <a:ext cx="72000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 flipH="1">
            <a:off x="6048360" y="24890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5472000" y="62341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2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20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40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6000"/>
                            </p:stCondLst>
                            <p:childTnLst>
                              <p:par>
                                <p:cTn id="9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2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8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2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2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2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2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2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20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2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2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4" name=""/>
          <p:cNvGraphicFramePr/>
          <p:nvPr/>
        </p:nvGraphicFramePr>
        <p:xfrm>
          <a:off x="2340000" y="1268280"/>
          <a:ext cx="62532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268280"/>
                    <a:ext cx="625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6" name=""/>
          <p:cNvGraphicFramePr/>
          <p:nvPr/>
        </p:nvGraphicFramePr>
        <p:xfrm>
          <a:off x="900000" y="260280"/>
          <a:ext cx="146232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60280"/>
                    <a:ext cx="146232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8" name=""/>
          <p:cNvGraphicFramePr/>
          <p:nvPr/>
        </p:nvGraphicFramePr>
        <p:xfrm>
          <a:off x="417600" y="1339920"/>
          <a:ext cx="698400" cy="13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600" y="133992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0" name=""/>
          <p:cNvGrpSpPr/>
          <p:nvPr/>
        </p:nvGrpSpPr>
        <p:grpSpPr>
          <a:xfrm>
            <a:off x="1549440" y="2421000"/>
            <a:ext cx="293400" cy="581400"/>
            <a:chOff x="1549440" y="2421000"/>
            <a:chExt cx="293400" cy="581400"/>
          </a:xfrm>
        </p:grpSpPr>
        <p:sp>
          <p:nvSpPr>
            <p:cNvPr id="1821" name=""/>
            <p:cNvSpPr/>
            <p:nvPr/>
          </p:nvSpPr>
          <p:spPr>
            <a:xfrm>
              <a:off x="1549440" y="2421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20720" y="249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2486160" y="549360"/>
            <a:ext cx="293400" cy="581400"/>
            <a:chOff x="2486160" y="549360"/>
            <a:chExt cx="293400" cy="581400"/>
          </a:xfrm>
        </p:grpSpPr>
        <p:sp>
          <p:nvSpPr>
            <p:cNvPr id="1824" name=""/>
            <p:cNvSpPr/>
            <p:nvPr/>
          </p:nvSpPr>
          <p:spPr>
            <a:xfrm>
              <a:off x="2486160" y="549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557440" y="62208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6" name=""/>
          <p:cNvGrpSpPr/>
          <p:nvPr/>
        </p:nvGrpSpPr>
        <p:grpSpPr>
          <a:xfrm>
            <a:off x="397800" y="620640"/>
            <a:ext cx="384840" cy="581400"/>
            <a:chOff x="397800" y="620640"/>
            <a:chExt cx="384840" cy="581400"/>
          </a:xfrm>
        </p:grpSpPr>
        <p:sp>
          <p:nvSpPr>
            <p:cNvPr id="1827" name=""/>
            <p:cNvSpPr/>
            <p:nvPr/>
          </p:nvSpPr>
          <p:spPr>
            <a:xfrm>
              <a:off x="397800" y="62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69800" y="69372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29" name=""/>
          <p:cNvGraphicFramePr/>
          <p:nvPr/>
        </p:nvGraphicFramePr>
        <p:xfrm>
          <a:off x="5148360" y="3213000"/>
          <a:ext cx="625320" cy="13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3213000"/>
                    <a:ext cx="625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1" name=""/>
          <p:cNvGraphicFramePr/>
          <p:nvPr/>
        </p:nvGraphicFramePr>
        <p:xfrm>
          <a:off x="3708360" y="2205000"/>
          <a:ext cx="146196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2205000"/>
                    <a:ext cx="14619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3" name=""/>
          <p:cNvGraphicFramePr/>
          <p:nvPr/>
        </p:nvGraphicFramePr>
        <p:xfrm>
          <a:off x="3225960" y="3284640"/>
          <a:ext cx="698400" cy="130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25960" y="328464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5" name=""/>
          <p:cNvGrpSpPr/>
          <p:nvPr/>
        </p:nvGrpSpPr>
        <p:grpSpPr>
          <a:xfrm>
            <a:off x="4357800" y="4365720"/>
            <a:ext cx="293400" cy="581400"/>
            <a:chOff x="4357800" y="4365720"/>
            <a:chExt cx="293400" cy="581400"/>
          </a:xfrm>
        </p:grpSpPr>
        <p:sp>
          <p:nvSpPr>
            <p:cNvPr id="1836" name=""/>
            <p:cNvSpPr/>
            <p:nvPr/>
          </p:nvSpPr>
          <p:spPr>
            <a:xfrm>
              <a:off x="4357800" y="4365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429080" y="44384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5294520" y="2494080"/>
            <a:ext cx="293400" cy="581400"/>
            <a:chOff x="5294520" y="2494080"/>
            <a:chExt cx="293400" cy="581400"/>
          </a:xfrm>
        </p:grpSpPr>
        <p:sp>
          <p:nvSpPr>
            <p:cNvPr id="1839" name=""/>
            <p:cNvSpPr/>
            <p:nvPr/>
          </p:nvSpPr>
          <p:spPr>
            <a:xfrm>
              <a:off x="5294520" y="2494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365800" y="256680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3206160" y="2565360"/>
            <a:ext cx="384840" cy="581400"/>
            <a:chOff x="3206160" y="2565360"/>
            <a:chExt cx="384840" cy="581400"/>
          </a:xfrm>
        </p:grpSpPr>
        <p:sp>
          <p:nvSpPr>
            <p:cNvPr id="1842" name=""/>
            <p:cNvSpPr/>
            <p:nvPr/>
          </p:nvSpPr>
          <p:spPr>
            <a:xfrm>
              <a:off x="3206160" y="25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278160" y="263844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44" name=""/>
          <p:cNvGraphicFramePr/>
          <p:nvPr/>
        </p:nvGraphicFramePr>
        <p:xfrm>
          <a:off x="8244000" y="4869000"/>
          <a:ext cx="625320" cy="1385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44000" y="4869000"/>
                    <a:ext cx="6253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6" name=""/>
          <p:cNvGraphicFramePr/>
          <p:nvPr/>
        </p:nvGraphicFramePr>
        <p:xfrm>
          <a:off x="6804000" y="3860640"/>
          <a:ext cx="1461960" cy="3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04000" y="3860640"/>
                    <a:ext cx="14619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8" name=""/>
          <p:cNvGraphicFramePr/>
          <p:nvPr/>
        </p:nvGraphicFramePr>
        <p:xfrm>
          <a:off x="6321600" y="4940280"/>
          <a:ext cx="698400" cy="1303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21600" y="494028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0" name=""/>
          <p:cNvGrpSpPr/>
          <p:nvPr/>
        </p:nvGrpSpPr>
        <p:grpSpPr>
          <a:xfrm>
            <a:off x="7453440" y="6021360"/>
            <a:ext cx="293400" cy="581400"/>
            <a:chOff x="7453440" y="6021360"/>
            <a:chExt cx="293400" cy="581400"/>
          </a:xfrm>
        </p:grpSpPr>
        <p:sp>
          <p:nvSpPr>
            <p:cNvPr id="1851" name=""/>
            <p:cNvSpPr/>
            <p:nvPr/>
          </p:nvSpPr>
          <p:spPr>
            <a:xfrm>
              <a:off x="7453440" y="6021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524720" y="60944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8390160" y="4149720"/>
            <a:ext cx="293400" cy="581400"/>
            <a:chOff x="8390160" y="4149720"/>
            <a:chExt cx="293400" cy="581400"/>
          </a:xfrm>
        </p:grpSpPr>
        <p:sp>
          <p:nvSpPr>
            <p:cNvPr id="1854" name=""/>
            <p:cNvSpPr/>
            <p:nvPr/>
          </p:nvSpPr>
          <p:spPr>
            <a:xfrm>
              <a:off x="8390160" y="4149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461440" y="422280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6301800" y="4221000"/>
            <a:ext cx="384840" cy="581400"/>
            <a:chOff x="6301800" y="4221000"/>
            <a:chExt cx="384840" cy="581400"/>
          </a:xfrm>
        </p:grpSpPr>
        <p:sp>
          <p:nvSpPr>
            <p:cNvPr id="1857" name=""/>
            <p:cNvSpPr/>
            <p:nvPr/>
          </p:nvSpPr>
          <p:spPr>
            <a:xfrm>
              <a:off x="6301800" y="4221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373800" y="429408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132000" y="189000"/>
                <a:ext cx="324036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0" y="3500280"/>
                <a:ext cx="3240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3276720" y="5468760"/>
                <a:ext cx="3240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10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4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2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1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4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10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10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10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2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1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8" dur="1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2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2" name=""/>
          <p:cNvGrpSpPr/>
          <p:nvPr/>
        </p:nvGrpSpPr>
        <p:grpSpPr>
          <a:xfrm>
            <a:off x="2469960" y="622440"/>
            <a:ext cx="4967640" cy="3889440"/>
            <a:chOff x="2469960" y="622440"/>
            <a:chExt cx="4967640" cy="3889440"/>
          </a:xfrm>
        </p:grpSpPr>
        <p:sp>
          <p:nvSpPr>
            <p:cNvPr id="1863" name=""/>
            <p:cNvSpPr/>
            <p:nvPr/>
          </p:nvSpPr>
          <p:spPr>
            <a:xfrm flipH="1" flipV="1">
              <a:off x="3693600" y="1341360"/>
              <a:ext cx="2433960" cy="25178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2557440" y="622440"/>
              <a:ext cx="452160" cy="581400"/>
              <a:chOff x="2557440" y="622440"/>
              <a:chExt cx="452160" cy="581400"/>
            </a:xfrm>
          </p:grpSpPr>
          <p:sp>
            <p:nvSpPr>
              <p:cNvPr id="1865" name=""/>
              <p:cNvSpPr/>
              <p:nvPr/>
            </p:nvSpPr>
            <p:spPr>
              <a:xfrm>
                <a:off x="2557440" y="622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771640" y="6933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7" name=""/>
            <p:cNvGrpSpPr/>
            <p:nvPr/>
          </p:nvGrpSpPr>
          <p:grpSpPr>
            <a:xfrm>
              <a:off x="6849720" y="3930480"/>
              <a:ext cx="587880" cy="581400"/>
              <a:chOff x="6849720" y="3930480"/>
              <a:chExt cx="587880" cy="581400"/>
            </a:xfrm>
          </p:grpSpPr>
          <p:sp>
            <p:nvSpPr>
              <p:cNvPr id="1868" name=""/>
              <p:cNvSpPr/>
              <p:nvPr/>
            </p:nvSpPr>
            <p:spPr>
              <a:xfrm>
                <a:off x="6849720" y="39304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137360" y="40017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0" name=""/>
            <p:cNvSpPr/>
            <p:nvPr/>
          </p:nvSpPr>
          <p:spPr>
            <a:xfrm flipH="1">
              <a:off x="2469960" y="1335240"/>
              <a:ext cx="122364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127920" y="3859200"/>
              <a:ext cx="122364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2" name=""/>
          <p:cNvSpPr/>
          <p:nvPr/>
        </p:nvSpPr>
        <p:spPr>
          <a:xfrm flipH="1" flipV="1">
            <a:off x="4990680" y="2709360"/>
            <a:ext cx="115092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637080" y="2494080"/>
            <a:ext cx="1152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3693960" y="134136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kvivalencija dva sprega u istoj rav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200120" y="1414440"/>
            <a:ext cx="1370880" cy="2237040"/>
            <a:chOff x="4200120" y="1414440"/>
            <a:chExt cx="1370880" cy="2237040"/>
          </a:xfrm>
        </p:grpSpPr>
        <p:grpSp>
          <p:nvGrpSpPr>
            <p:cNvPr id="1877" name=""/>
            <p:cNvGrpSpPr/>
            <p:nvPr/>
          </p:nvGrpSpPr>
          <p:grpSpPr>
            <a:xfrm>
              <a:off x="4847400" y="3070080"/>
              <a:ext cx="723600" cy="581400"/>
              <a:chOff x="4847400" y="3070080"/>
              <a:chExt cx="723600" cy="581400"/>
            </a:xfrm>
          </p:grpSpPr>
          <p:sp>
            <p:nvSpPr>
              <p:cNvPr id="1878" name=""/>
              <p:cNvSpPr/>
              <p:nvPr/>
            </p:nvSpPr>
            <p:spPr>
              <a:xfrm>
                <a:off x="4847400" y="307008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135400" y="3141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4200120" y="1414440"/>
              <a:ext cx="587880" cy="581400"/>
              <a:chOff x="4200120" y="1414440"/>
              <a:chExt cx="587880" cy="581400"/>
            </a:xfrm>
          </p:grpSpPr>
          <p:sp>
            <p:nvSpPr>
              <p:cNvPr id="1881" name=""/>
              <p:cNvSpPr/>
              <p:nvPr/>
            </p:nvSpPr>
            <p:spPr>
              <a:xfrm>
                <a:off x="4200120" y="1414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414680" y="148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3" name=""/>
          <p:cNvSpPr/>
          <p:nvPr/>
        </p:nvSpPr>
        <p:spPr>
          <a:xfrm>
            <a:off x="3708360" y="1341360"/>
            <a:ext cx="107964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4991040" y="2709720"/>
            <a:ext cx="115272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6143760" y="270972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543040" y="134136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6213600" y="270972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8" name=""/>
          <p:cNvGrpSpPr/>
          <p:nvPr/>
        </p:nvGrpSpPr>
        <p:grpSpPr>
          <a:xfrm>
            <a:off x="3127680" y="1414440"/>
            <a:ext cx="569520" cy="648720"/>
            <a:chOff x="3127680" y="1414440"/>
            <a:chExt cx="569520" cy="648720"/>
          </a:xfrm>
        </p:grpSpPr>
        <p:sp>
          <p:nvSpPr>
            <p:cNvPr id="1889" name=""/>
            <p:cNvSpPr/>
            <p:nvPr/>
          </p:nvSpPr>
          <p:spPr>
            <a:xfrm>
              <a:off x="3127680" y="141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33960" y="14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148080" y="3211560"/>
            <a:ext cx="705240" cy="648720"/>
            <a:chOff x="6148080" y="3211560"/>
            <a:chExt cx="705240" cy="648720"/>
          </a:xfrm>
        </p:grpSpPr>
        <p:sp>
          <p:nvSpPr>
            <p:cNvPr id="1892" name=""/>
            <p:cNvSpPr/>
            <p:nvPr/>
          </p:nvSpPr>
          <p:spPr>
            <a:xfrm>
              <a:off x="6148080" y="32115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ff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430680" y="32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3551040" y="2637000"/>
            <a:ext cx="2735640" cy="1915920"/>
            <a:chOff x="3551040" y="2637000"/>
            <a:chExt cx="2735640" cy="1915920"/>
          </a:xfrm>
        </p:grpSpPr>
        <p:sp>
          <p:nvSpPr>
            <p:cNvPr id="1895" name=""/>
            <p:cNvSpPr/>
            <p:nvPr/>
          </p:nvSpPr>
          <p:spPr>
            <a:xfrm flipH="1">
              <a:off x="3712680" y="4336920"/>
              <a:ext cx="2413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 flipV="1">
              <a:off x="3708000" y="2637000"/>
              <a:ext cx="4680" cy="1915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6126120" y="3904920"/>
              <a:ext cx="0" cy="6476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 flipV="1">
              <a:off x="5964120" y="4192200"/>
              <a:ext cx="32256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 flipV="1">
              <a:off x="3551040" y="4192200"/>
              <a:ext cx="32220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712040" y="3718080"/>
              <a:ext cx="41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i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1" name=""/>
          <p:cNvSpPr/>
          <p:nvPr/>
        </p:nvSpPr>
        <p:spPr>
          <a:xfrm flipH="1" flipV="1">
            <a:off x="6012000" y="906480"/>
            <a:ext cx="2433600" cy="25178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5445360" y="906480"/>
            <a:ext cx="569520" cy="1152360"/>
            <a:chOff x="5445360" y="906480"/>
            <a:chExt cx="569520" cy="1152360"/>
          </a:xfrm>
        </p:grpSpPr>
        <p:sp>
          <p:nvSpPr>
            <p:cNvPr id="1903" name=""/>
            <p:cNvSpPr/>
            <p:nvPr/>
          </p:nvSpPr>
          <p:spPr>
            <a:xfrm>
              <a:off x="6012000" y="906480"/>
              <a:ext cx="0" cy="115236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5445360" y="979560"/>
              <a:ext cx="569520" cy="648720"/>
              <a:chOff x="5445360" y="979560"/>
              <a:chExt cx="569520" cy="648720"/>
            </a:xfrm>
          </p:grpSpPr>
          <p:sp>
            <p:nvSpPr>
              <p:cNvPr id="1905" name=""/>
              <p:cNvSpPr/>
              <p:nvPr/>
            </p:nvSpPr>
            <p:spPr>
              <a:xfrm>
                <a:off x="5445360" y="9795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ffcc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51640" y="1050480"/>
                <a:ext cx="21600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7" name=""/>
          <p:cNvGrpSpPr/>
          <p:nvPr/>
        </p:nvGrpSpPr>
        <p:grpSpPr>
          <a:xfrm>
            <a:off x="8461440" y="2274840"/>
            <a:ext cx="709560" cy="1152720"/>
            <a:chOff x="8461440" y="2274840"/>
            <a:chExt cx="709560" cy="1152720"/>
          </a:xfrm>
        </p:grpSpPr>
        <p:sp>
          <p:nvSpPr>
            <p:cNvPr id="1908" name=""/>
            <p:cNvSpPr/>
            <p:nvPr/>
          </p:nvSpPr>
          <p:spPr>
            <a:xfrm flipV="1">
              <a:off x="8461440" y="2274840"/>
              <a:ext cx="0" cy="11527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9" name=""/>
            <p:cNvGrpSpPr/>
            <p:nvPr/>
          </p:nvGrpSpPr>
          <p:grpSpPr>
            <a:xfrm>
              <a:off x="8465760" y="2776680"/>
              <a:ext cx="705240" cy="648720"/>
              <a:chOff x="8465760" y="2776680"/>
              <a:chExt cx="705240" cy="648720"/>
            </a:xfrm>
          </p:grpSpPr>
          <p:sp>
            <p:nvSpPr>
              <p:cNvPr id="1910" name=""/>
              <p:cNvSpPr/>
              <p:nvPr/>
            </p:nvSpPr>
            <p:spPr>
              <a:xfrm>
                <a:off x="8465760" y="2776680"/>
                <a:ext cx="705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ff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ffcc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748360" y="2850840"/>
                <a:ext cx="21564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2" name=""/>
          <p:cNvGrpSpPr/>
          <p:nvPr/>
        </p:nvGrpSpPr>
        <p:grpSpPr>
          <a:xfrm>
            <a:off x="3059280" y="3357720"/>
            <a:ext cx="433080" cy="144360"/>
            <a:chOff x="3059280" y="3357720"/>
            <a:chExt cx="433080" cy="144360"/>
          </a:xfrm>
        </p:grpSpPr>
        <p:sp>
          <p:nvSpPr>
            <p:cNvPr id="1913" name=""/>
            <p:cNvSpPr/>
            <p:nvPr/>
          </p:nvSpPr>
          <p:spPr>
            <a:xfrm>
              <a:off x="3059280" y="335772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59280" y="343080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59280" y="350208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6659640" y="2421000"/>
            <a:ext cx="433440" cy="144360"/>
            <a:chOff x="6659640" y="2421000"/>
            <a:chExt cx="433440" cy="144360"/>
          </a:xfrm>
        </p:grpSpPr>
        <p:sp>
          <p:nvSpPr>
            <p:cNvPr id="1917" name=""/>
            <p:cNvSpPr/>
            <p:nvPr/>
          </p:nvSpPr>
          <p:spPr>
            <a:xfrm>
              <a:off x="6659640" y="2421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659640" y="24940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59640" y="2565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325440" y="3209760"/>
            <a:ext cx="6275520" cy="3171960"/>
            <a:chOff x="325440" y="3209760"/>
            <a:chExt cx="6275520" cy="3171960"/>
          </a:xfrm>
        </p:grpSpPr>
        <p:sp>
          <p:nvSpPr>
            <p:cNvPr id="1921" name=""/>
            <p:cNvSpPr/>
            <p:nvPr/>
          </p:nvSpPr>
          <p:spPr>
            <a:xfrm>
              <a:off x="325440" y="4510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 flipV="1">
              <a:off x="2484360" y="3720960"/>
              <a:ext cx="2448000" cy="25164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1117800" y="3865680"/>
              <a:ext cx="452160" cy="581400"/>
              <a:chOff x="1117800" y="3865680"/>
              <a:chExt cx="452160" cy="581400"/>
            </a:xfrm>
          </p:grpSpPr>
          <p:sp>
            <p:nvSpPr>
              <p:cNvPr id="1924" name=""/>
              <p:cNvSpPr/>
              <p:nvPr/>
            </p:nvSpPr>
            <p:spPr>
              <a:xfrm>
                <a:off x="1117800" y="3865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332000" y="3936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6013080" y="5589720"/>
              <a:ext cx="587880" cy="581400"/>
              <a:chOff x="6013080" y="5589720"/>
              <a:chExt cx="587880" cy="581400"/>
            </a:xfrm>
          </p:grpSpPr>
          <p:sp>
            <p:nvSpPr>
              <p:cNvPr id="1927" name=""/>
              <p:cNvSpPr/>
              <p:nvPr/>
            </p:nvSpPr>
            <p:spPr>
              <a:xfrm>
                <a:off x="6013080" y="558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300720" y="56610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9" name=""/>
            <p:cNvSpPr/>
            <p:nvPr/>
          </p:nvSpPr>
          <p:spPr>
            <a:xfrm flipH="1">
              <a:off x="1260360" y="371808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16520" y="62355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755640" y="3718080"/>
              <a:ext cx="0" cy="25192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39640" y="3718080"/>
              <a:ext cx="6476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39640" y="6237360"/>
              <a:ext cx="43196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611280" y="6093000"/>
              <a:ext cx="288720" cy="2887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611280" y="3573000"/>
              <a:ext cx="28872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861080" y="5657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173320" y="3209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6229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49416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245440" y="3354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013440" y="47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4788000" y="19162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2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2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2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2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2" dur="2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2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2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2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2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2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2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2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 flipH="1" flipV="1">
            <a:off x="2325600" y="1341360"/>
            <a:ext cx="2433600" cy="25178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1189080" y="7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1403280" y="836640"/>
            <a:ext cx="21600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5481000" y="3930480"/>
            <a:ext cx="587880" cy="581400"/>
            <a:chOff x="5481000" y="3930480"/>
            <a:chExt cx="587880" cy="581400"/>
          </a:xfrm>
        </p:grpSpPr>
        <p:sp>
          <p:nvSpPr>
            <p:cNvPr id="1947" name=""/>
            <p:cNvSpPr/>
            <p:nvPr/>
          </p:nvSpPr>
          <p:spPr>
            <a:xfrm>
              <a:off x="5481000" y="39304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768640" y="40017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9" name=""/>
          <p:cNvSpPr/>
          <p:nvPr/>
        </p:nvSpPr>
        <p:spPr>
          <a:xfrm flipH="1">
            <a:off x="1101600" y="13352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4759200" y="3859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 flipV="1">
            <a:off x="3622320" y="2709360"/>
            <a:ext cx="115092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2268360" y="2494080"/>
            <a:ext cx="115272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325600" y="134136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24000" y="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 sličnosti trouglova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5" name=""/>
          <p:cNvGrpSpPr/>
          <p:nvPr/>
        </p:nvGrpSpPr>
        <p:grpSpPr>
          <a:xfrm>
            <a:off x="2831760" y="1414440"/>
            <a:ext cx="1370880" cy="2237040"/>
            <a:chOff x="2831760" y="1414440"/>
            <a:chExt cx="1370880" cy="2237040"/>
          </a:xfrm>
        </p:grpSpPr>
        <p:grpSp>
          <p:nvGrpSpPr>
            <p:cNvPr id="1956" name=""/>
            <p:cNvGrpSpPr/>
            <p:nvPr/>
          </p:nvGrpSpPr>
          <p:grpSpPr>
            <a:xfrm>
              <a:off x="3479040" y="3070080"/>
              <a:ext cx="723600" cy="581400"/>
              <a:chOff x="3479040" y="3070080"/>
              <a:chExt cx="723600" cy="581400"/>
            </a:xfrm>
          </p:grpSpPr>
          <p:sp>
            <p:nvSpPr>
              <p:cNvPr id="1957" name=""/>
              <p:cNvSpPr/>
              <p:nvPr/>
            </p:nvSpPr>
            <p:spPr>
              <a:xfrm>
                <a:off x="3479040" y="307008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767040" y="3141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2831760" y="1414440"/>
              <a:ext cx="587880" cy="581400"/>
              <a:chOff x="2831760" y="1414440"/>
              <a:chExt cx="587880" cy="581400"/>
            </a:xfrm>
          </p:grpSpPr>
          <p:sp>
            <p:nvSpPr>
              <p:cNvPr id="1960" name=""/>
              <p:cNvSpPr/>
              <p:nvPr/>
            </p:nvSpPr>
            <p:spPr>
              <a:xfrm>
                <a:off x="2831760" y="1414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046320" y="148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2" name=""/>
          <p:cNvSpPr/>
          <p:nvPr/>
        </p:nvSpPr>
        <p:spPr>
          <a:xfrm>
            <a:off x="2340000" y="1341360"/>
            <a:ext cx="107964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3622680" y="2709720"/>
            <a:ext cx="1152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4775040" y="270972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1174680" y="134136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844880" y="270972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1759320" y="1414440"/>
            <a:ext cx="569520" cy="648720"/>
            <a:chOff x="1759320" y="1414440"/>
            <a:chExt cx="569520" cy="648720"/>
          </a:xfrm>
        </p:grpSpPr>
        <p:sp>
          <p:nvSpPr>
            <p:cNvPr id="1968" name=""/>
            <p:cNvSpPr/>
            <p:nvPr/>
          </p:nvSpPr>
          <p:spPr>
            <a:xfrm>
              <a:off x="1759320" y="141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965600" y="14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4779720" y="3211560"/>
            <a:ext cx="705240" cy="648720"/>
            <a:chOff x="4779720" y="3211560"/>
            <a:chExt cx="705240" cy="648720"/>
          </a:xfrm>
        </p:grpSpPr>
        <p:sp>
          <p:nvSpPr>
            <p:cNvPr id="1971" name=""/>
            <p:cNvSpPr/>
            <p:nvPr/>
          </p:nvSpPr>
          <p:spPr>
            <a:xfrm>
              <a:off x="4779720" y="32115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ff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062320" y="32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"/>
          <p:cNvSpPr/>
          <p:nvPr/>
        </p:nvSpPr>
        <p:spPr>
          <a:xfrm flipH="1">
            <a:off x="2344320" y="4437000"/>
            <a:ext cx="2413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H="1" flipV="1">
            <a:off x="2339640" y="2637000"/>
            <a:ext cx="4680" cy="19159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4757760" y="3904920"/>
            <a:ext cx="0" cy="6476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H="1" flipV="1">
            <a:off x="4595400" y="4292640"/>
            <a:ext cx="322200" cy="288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H="1" flipV="1">
            <a:off x="2182680" y="4292640"/>
            <a:ext cx="322560" cy="288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3343320" y="385776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81080" y="2133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611280" y="1341360"/>
            <a:ext cx="0" cy="25192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395280" y="1341360"/>
            <a:ext cx="64764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95280" y="3860640"/>
            <a:ext cx="431964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466560" y="3715920"/>
            <a:ext cx="289080" cy="28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466560" y="1196640"/>
            <a:ext cx="289080" cy="28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486108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12580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144360" y="5084640"/>
            <a:ext cx="8820000" cy="1623600"/>
            <a:chOff x="144360" y="5084640"/>
            <a:chExt cx="8820000" cy="1623600"/>
          </a:xfrm>
        </p:grpSpPr>
        <p:sp>
          <p:nvSpPr>
            <p:cNvPr id="1988" name=""/>
            <p:cNvSpPr/>
            <p:nvPr/>
          </p:nvSpPr>
          <p:spPr>
            <a:xfrm>
              <a:off x="144360" y="5084640"/>
              <a:ext cx="88200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reg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je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statički ekvivalentan spregu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)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. Dakle, vektor momenta sprega je slobodan u svojoj ravni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979640" y="5155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555640" y="5155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28720" y="5659200"/>
              <a:ext cx="21564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620720" y="5659200"/>
              <a:ext cx="216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93" name=""/>
              <p:cNvSpPr txBox="1"/>
              <p:nvPr/>
            </p:nvSpPr>
            <p:spPr>
              <a:xfrm>
                <a:off x="3995640" y="189000"/>
                <a:ext cx="243684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6659640" y="549360"/>
                <a:ext cx="2360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95" name=""/>
          <p:cNvGrpSpPr/>
          <p:nvPr/>
        </p:nvGrpSpPr>
        <p:grpSpPr>
          <a:xfrm>
            <a:off x="5940360" y="1557360"/>
            <a:ext cx="3419640" cy="2043720"/>
            <a:chOff x="5940360" y="1557360"/>
            <a:chExt cx="3419640" cy="2043720"/>
          </a:xfrm>
        </p:grpSpPr>
        <p:sp>
          <p:nvSpPr>
            <p:cNvPr id="1996" name=""/>
            <p:cNvSpPr/>
            <p:nvPr/>
          </p:nvSpPr>
          <p:spPr>
            <a:xfrm>
              <a:off x="5940360" y="1557360"/>
              <a:ext cx="3419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Napomen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reg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’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’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je tako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izabra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a bud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524720" y="2133720"/>
              <a:ext cx="1224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265960" y="2133720"/>
              <a:ext cx="1224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"/>
          <p:cNvSpPr/>
          <p:nvPr/>
        </p:nvSpPr>
        <p:spPr>
          <a:xfrm>
            <a:off x="2340000" y="1413000"/>
            <a:ext cx="2448000" cy="2449440"/>
          </a:xfrm>
          <a:prstGeom prst="rtTriangle">
            <a:avLst/>
          </a:prstGeom>
          <a:solidFill>
            <a:srgbClr val="b39257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340000" y="1341360"/>
            <a:ext cx="1008000" cy="110808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1256040" y="1341000"/>
            <a:ext cx="2091960" cy="2093040"/>
            <a:chOff x="1256040" y="1341000"/>
            <a:chExt cx="2091960" cy="2093040"/>
          </a:xfrm>
        </p:grpSpPr>
        <p:sp>
          <p:nvSpPr>
            <p:cNvPr id="2002" name=""/>
            <p:cNvSpPr/>
            <p:nvPr/>
          </p:nvSpPr>
          <p:spPr>
            <a:xfrm flipH="1" rot="5400000">
              <a:off x="2628720" y="2202840"/>
              <a:ext cx="430200" cy="1008000"/>
            </a:xfrm>
            <a:custGeom>
              <a:avLst/>
              <a:gdLst>
                <a:gd name="textAreaLeft" fmla="*/ 274680 w 430200"/>
                <a:gd name="textAreaRight" fmla="*/ 430200 w 4302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744"/>
                  </a:lnTo>
                  <a:cubicBezTo>
                    <a:pt x="10800" y="10644"/>
                    <a:pt x="5400" y="11544"/>
                    <a:pt x="0" y="11544"/>
                  </a:cubicBezTo>
                  <a:cubicBezTo>
                    <a:pt x="5400" y="11544"/>
                    <a:pt x="10800" y="12444"/>
                    <a:pt x="10800" y="1334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629080" y="285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 rot="10800000">
              <a:off x="1764360" y="1341000"/>
              <a:ext cx="430200" cy="1150920"/>
            </a:xfrm>
            <a:custGeom>
              <a:avLst/>
              <a:gdLst>
                <a:gd name="textAreaLeft" fmla="*/ 274680 w 430200"/>
                <a:gd name="textAreaRight" fmla="*/ 430200 w 43020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744"/>
                  </a:lnTo>
                  <a:cubicBezTo>
                    <a:pt x="10800" y="10644"/>
                    <a:pt x="5400" y="11544"/>
                    <a:pt x="0" y="11544"/>
                  </a:cubicBezTo>
                  <a:cubicBezTo>
                    <a:pt x="5400" y="11544"/>
                    <a:pt x="10800" y="12444"/>
                    <a:pt x="10800" y="1334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256040" y="1557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7380360" y="3716280"/>
                <a:ext cx="1295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2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2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20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2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0" dur="2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2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2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2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611280" y="692280"/>
            <a:ext cx="3529080" cy="244944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 flipH="1" flipV="1">
            <a:off x="3564000" y="1844280"/>
            <a:ext cx="2232000" cy="352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9" name=""/>
          <p:cNvGrpSpPr/>
          <p:nvPr/>
        </p:nvGrpSpPr>
        <p:grpSpPr>
          <a:xfrm>
            <a:off x="2917800" y="2133720"/>
            <a:ext cx="452160" cy="581400"/>
            <a:chOff x="2917800" y="2133720"/>
            <a:chExt cx="452160" cy="581400"/>
          </a:xfrm>
        </p:grpSpPr>
        <p:sp>
          <p:nvSpPr>
            <p:cNvPr id="2010" name=""/>
            <p:cNvSpPr/>
            <p:nvPr/>
          </p:nvSpPr>
          <p:spPr>
            <a:xfrm>
              <a:off x="2917800" y="2133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132000" y="22046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1117080" y="981000"/>
            <a:ext cx="587880" cy="581400"/>
            <a:chOff x="1117080" y="981000"/>
            <a:chExt cx="587880" cy="581400"/>
          </a:xfrm>
        </p:grpSpPr>
        <p:sp>
          <p:nvSpPr>
            <p:cNvPr id="2013" name=""/>
            <p:cNvSpPr/>
            <p:nvPr/>
          </p:nvSpPr>
          <p:spPr>
            <a:xfrm>
              <a:off x="1117080" y="9810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404720" y="1052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kvivalencija spregova u dve paralelne rav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1042560" y="1844640"/>
            <a:ext cx="2521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564000" y="184464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1042920" y="62064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H="1" flipV="1">
            <a:off x="1042920" y="1844280"/>
            <a:ext cx="7274160" cy="352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54144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565440" y="155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292720" y="4221000"/>
            <a:ext cx="3529080" cy="244980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7669440" y="5662440"/>
            <a:ext cx="452160" cy="581400"/>
            <a:chOff x="7669440" y="5662440"/>
            <a:chExt cx="452160" cy="581400"/>
          </a:xfrm>
        </p:grpSpPr>
        <p:sp>
          <p:nvSpPr>
            <p:cNvPr id="2024" name=""/>
            <p:cNvSpPr/>
            <p:nvPr/>
          </p:nvSpPr>
          <p:spPr>
            <a:xfrm>
              <a:off x="7669440" y="5662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883640" y="573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6" name=""/>
          <p:cNvGrpSpPr/>
          <p:nvPr/>
        </p:nvGrpSpPr>
        <p:grpSpPr>
          <a:xfrm>
            <a:off x="5868360" y="4510080"/>
            <a:ext cx="587880" cy="581400"/>
            <a:chOff x="5868360" y="4510080"/>
            <a:chExt cx="587880" cy="581400"/>
          </a:xfrm>
        </p:grpSpPr>
        <p:sp>
          <p:nvSpPr>
            <p:cNvPr id="2027" name=""/>
            <p:cNvSpPr/>
            <p:nvPr/>
          </p:nvSpPr>
          <p:spPr>
            <a:xfrm>
              <a:off x="5868360" y="45100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156000" y="45813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9" name=""/>
          <p:cNvSpPr/>
          <p:nvPr/>
        </p:nvSpPr>
        <p:spPr>
          <a:xfrm>
            <a:off x="8315280" y="5373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5794200" y="4149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5158080" y="5086440"/>
            <a:ext cx="3736440" cy="720000"/>
            <a:chOff x="5158080" y="5086440"/>
            <a:chExt cx="3736440" cy="720000"/>
          </a:xfrm>
        </p:grpSpPr>
        <p:sp>
          <p:nvSpPr>
            <p:cNvPr id="2032" name=""/>
            <p:cNvSpPr/>
            <p:nvPr/>
          </p:nvSpPr>
          <p:spPr>
            <a:xfrm flipH="1">
              <a:off x="5793840" y="5373720"/>
              <a:ext cx="2521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158080" y="51577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8325000" y="5086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5" name=""/>
          <p:cNvSpPr/>
          <p:nvPr/>
        </p:nvSpPr>
        <p:spPr>
          <a:xfrm flipH="1" flipV="1">
            <a:off x="6084360" y="4292280"/>
            <a:ext cx="2232360" cy="108108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5364000" y="4724280"/>
            <a:ext cx="432000" cy="64944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796000" y="537372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8317080" y="414972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5869080" y="5661000"/>
            <a:ext cx="452160" cy="581400"/>
            <a:chOff x="5869080" y="5661000"/>
            <a:chExt cx="452160" cy="581400"/>
          </a:xfrm>
        </p:grpSpPr>
        <p:sp>
          <p:nvSpPr>
            <p:cNvPr id="2040" name=""/>
            <p:cNvSpPr/>
            <p:nvPr/>
          </p:nvSpPr>
          <p:spPr>
            <a:xfrm>
              <a:off x="5869080" y="566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083280" y="57322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7597440" y="4365720"/>
            <a:ext cx="587880" cy="581400"/>
            <a:chOff x="7597440" y="4365720"/>
            <a:chExt cx="587880" cy="581400"/>
          </a:xfrm>
        </p:grpSpPr>
        <p:sp>
          <p:nvSpPr>
            <p:cNvPr id="2043" name=""/>
            <p:cNvSpPr/>
            <p:nvPr/>
          </p:nvSpPr>
          <p:spPr>
            <a:xfrm>
              <a:off x="7597440" y="4365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885080" y="44370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4573440" y="306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494160" y="76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742080" y="6021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140360" y="3645000"/>
            <a:ext cx="358560" cy="2376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rot="10800000">
            <a:off x="4858920" y="1268280"/>
            <a:ext cx="358920" cy="2376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5293440" y="2133720"/>
            <a:ext cx="792000" cy="581400"/>
            <a:chOff x="5293440" y="2133720"/>
            <a:chExt cx="792000" cy="581400"/>
          </a:xfrm>
        </p:grpSpPr>
        <p:sp>
          <p:nvSpPr>
            <p:cNvPr id="2051" name=""/>
            <p:cNvSpPr/>
            <p:nvPr/>
          </p:nvSpPr>
          <p:spPr>
            <a:xfrm>
              <a:off x="5293440" y="213372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2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797800" y="2205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"/>
          <p:cNvGrpSpPr/>
          <p:nvPr/>
        </p:nvGrpSpPr>
        <p:grpSpPr>
          <a:xfrm>
            <a:off x="3349080" y="4508640"/>
            <a:ext cx="656280" cy="581400"/>
            <a:chOff x="3349080" y="4508640"/>
            <a:chExt cx="656280" cy="581400"/>
          </a:xfrm>
        </p:grpSpPr>
        <p:sp>
          <p:nvSpPr>
            <p:cNvPr id="2054" name=""/>
            <p:cNvSpPr/>
            <p:nvPr/>
          </p:nvSpPr>
          <p:spPr>
            <a:xfrm>
              <a:off x="3349080" y="450864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708360" y="4581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6" name=""/>
          <p:cNvSpPr/>
          <p:nvPr/>
        </p:nvSpPr>
        <p:spPr>
          <a:xfrm>
            <a:off x="6443640" y="357336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20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2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2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2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2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2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2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2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2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4509E-006 L 0.40174 0.2622 E">
                                      <p:cBhvr>
                                        <p:cTn id="1365" dur="2000" fill="hold"/>
                                        <p:tgtEl>
                                          <p:spTgt spid="20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4509E-006 L -0.39375 -0.43006 E">
                                      <p:cBhvr>
                                        <p:cTn id="1368" dur="2000" fill="hold"/>
                                        <p:tgtEl>
                                          <p:spTgt spid="2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65896E-006 L 0.12604 0.2622 E">
                                      <p:cBhvr>
                                        <p:cTn id="1371" dur="2000" fill="hold"/>
                                        <p:tgtEl>
                                          <p:spTgt spid="2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65896E-006 L -0.11805 -0.07353 E">
                                      <p:cBhvr>
                                        <p:cTn id="1374" dur="2000" fill="hold"/>
                                        <p:tgtEl>
                                          <p:spTgt spid="2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1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1" dur="2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5" dur="20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9" dur="2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3" dur="2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7" dur="2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1" dur="2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4" dur="2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7" dur="2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/>
          <p:nvPr/>
        </p:nvSpPr>
        <p:spPr>
          <a:xfrm>
            <a:off x="611280" y="835200"/>
            <a:ext cx="3529080" cy="244944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2917800" y="2276640"/>
            <a:ext cx="452160" cy="581400"/>
            <a:chOff x="2917800" y="2276640"/>
            <a:chExt cx="452160" cy="581400"/>
          </a:xfrm>
        </p:grpSpPr>
        <p:sp>
          <p:nvSpPr>
            <p:cNvPr id="2059" name=""/>
            <p:cNvSpPr/>
            <p:nvPr/>
          </p:nvSpPr>
          <p:spPr>
            <a:xfrm>
              <a:off x="2917800" y="22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132000" y="23475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1117080" y="1123920"/>
            <a:ext cx="587880" cy="581400"/>
            <a:chOff x="1117080" y="1123920"/>
            <a:chExt cx="587880" cy="581400"/>
          </a:xfrm>
        </p:grpSpPr>
        <p:sp>
          <p:nvSpPr>
            <p:cNvPr id="2062" name=""/>
            <p:cNvSpPr/>
            <p:nvPr/>
          </p:nvSpPr>
          <p:spPr>
            <a:xfrm>
              <a:off x="1117080" y="112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404720" y="119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4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aklju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ak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1042560" y="1987560"/>
            <a:ext cx="2521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564000" y="198756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V="1">
            <a:off x="1042920" y="76356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41440" y="1627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565440" y="17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292720" y="4221000"/>
            <a:ext cx="3529080" cy="244980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7669440" y="5662440"/>
            <a:ext cx="452160" cy="581400"/>
            <a:chOff x="7669440" y="5662440"/>
            <a:chExt cx="452160" cy="581400"/>
          </a:xfrm>
        </p:grpSpPr>
        <p:sp>
          <p:nvSpPr>
            <p:cNvPr id="2072" name=""/>
            <p:cNvSpPr/>
            <p:nvPr/>
          </p:nvSpPr>
          <p:spPr>
            <a:xfrm>
              <a:off x="7669440" y="5662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883640" y="573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5868360" y="4510080"/>
            <a:ext cx="587880" cy="581400"/>
            <a:chOff x="5868360" y="4510080"/>
            <a:chExt cx="587880" cy="581400"/>
          </a:xfrm>
        </p:grpSpPr>
        <p:sp>
          <p:nvSpPr>
            <p:cNvPr id="2075" name=""/>
            <p:cNvSpPr/>
            <p:nvPr/>
          </p:nvSpPr>
          <p:spPr>
            <a:xfrm>
              <a:off x="5868360" y="45100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56000" y="45813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7" name=""/>
          <p:cNvSpPr/>
          <p:nvPr/>
        </p:nvSpPr>
        <p:spPr>
          <a:xfrm>
            <a:off x="8315280" y="5373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5794200" y="4149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5158080" y="5086440"/>
            <a:ext cx="3736440" cy="720000"/>
            <a:chOff x="5158080" y="5086440"/>
            <a:chExt cx="3736440" cy="720000"/>
          </a:xfrm>
        </p:grpSpPr>
        <p:sp>
          <p:nvSpPr>
            <p:cNvPr id="2080" name=""/>
            <p:cNvSpPr/>
            <p:nvPr/>
          </p:nvSpPr>
          <p:spPr>
            <a:xfrm flipH="1">
              <a:off x="5793840" y="5373720"/>
              <a:ext cx="2521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158080" y="51577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325000" y="5086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3494160" y="9079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742080" y="6021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0" y="407664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Vektor momen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prega je slobodan vektor u delu prostora koji zauzima posmatrano kruto tel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rot="2206800">
            <a:off x="4284360" y="3428640"/>
            <a:ext cx="1008000" cy="431640"/>
          </a:xfrm>
          <a:prstGeom prst="leftRightArrow">
            <a:avLst>
              <a:gd name="adj1" fmla="val 50000"/>
              <a:gd name="adj2" fmla="val 46489"/>
            </a:avLst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1079640" y="3430440"/>
            <a:ext cx="5724360" cy="1584360"/>
          </a:xfrm>
          <a:prstGeom prst="flowChartInputOutpu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2195640" y="1270080"/>
            <a:ext cx="4608360" cy="2158920"/>
          </a:xfrm>
          <a:prstGeom prst="rec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9" name=""/>
          <p:cNvGrpSpPr/>
          <p:nvPr/>
        </p:nvGrpSpPr>
        <p:grpSpPr>
          <a:xfrm>
            <a:off x="2997360" y="2565360"/>
            <a:ext cx="569520" cy="648720"/>
            <a:chOff x="2997360" y="2565360"/>
            <a:chExt cx="569520" cy="648720"/>
          </a:xfrm>
        </p:grpSpPr>
        <p:sp>
          <p:nvSpPr>
            <p:cNvPr id="2090" name=""/>
            <p:cNvSpPr/>
            <p:nvPr/>
          </p:nvSpPr>
          <p:spPr>
            <a:xfrm>
              <a:off x="299736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203640" y="2636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2" name=""/>
          <p:cNvGrpSpPr/>
          <p:nvPr/>
        </p:nvGrpSpPr>
        <p:grpSpPr>
          <a:xfrm>
            <a:off x="5084640" y="1486080"/>
            <a:ext cx="705240" cy="648720"/>
            <a:chOff x="5084640" y="1486080"/>
            <a:chExt cx="705240" cy="648720"/>
          </a:xfrm>
        </p:grpSpPr>
        <p:sp>
          <p:nvSpPr>
            <p:cNvPr id="2093" name=""/>
            <p:cNvSpPr/>
            <p:nvPr/>
          </p:nvSpPr>
          <p:spPr>
            <a:xfrm>
              <a:off x="5084640" y="148608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364000" y="1557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5" name=""/>
          <p:cNvSpPr/>
          <p:nvPr/>
        </p:nvSpPr>
        <p:spPr>
          <a:xfrm>
            <a:off x="0" y="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Sabiranje spreg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abiranje spregova u različitim ravnima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948280" y="328608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sr-Latn-C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6166080" y="1125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H="1" flipV="1">
            <a:off x="3240360" y="3583440"/>
            <a:ext cx="947880" cy="1177560"/>
          </a:xfrm>
          <a:prstGeom prst="line">
            <a:avLst/>
          </a:prstGeom>
          <a:ln w="284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V="1">
            <a:off x="4148640" y="4479840"/>
            <a:ext cx="745200" cy="2876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2548800" y="3589200"/>
            <a:ext cx="705960" cy="239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1" name=""/>
          <p:cNvGrpSpPr/>
          <p:nvPr/>
        </p:nvGrpSpPr>
        <p:grpSpPr>
          <a:xfrm>
            <a:off x="1989360" y="3573360"/>
            <a:ext cx="569520" cy="648720"/>
            <a:chOff x="1989360" y="3573360"/>
            <a:chExt cx="569520" cy="648720"/>
          </a:xfrm>
        </p:grpSpPr>
        <p:sp>
          <p:nvSpPr>
            <p:cNvPr id="2102" name=""/>
            <p:cNvSpPr/>
            <p:nvPr/>
          </p:nvSpPr>
          <p:spPr>
            <a:xfrm>
              <a:off x="1989360" y="3573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195640" y="3644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4868640" y="4222800"/>
            <a:ext cx="705240" cy="648720"/>
            <a:chOff x="4868640" y="4222800"/>
            <a:chExt cx="705240" cy="648720"/>
          </a:xfrm>
        </p:grpSpPr>
        <p:sp>
          <p:nvSpPr>
            <p:cNvPr id="2105" name=""/>
            <p:cNvSpPr/>
            <p:nvPr/>
          </p:nvSpPr>
          <p:spPr>
            <a:xfrm>
              <a:off x="4868640" y="422280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148000" y="4294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3666240" y="1432800"/>
            <a:ext cx="1337400" cy="1799640"/>
            <a:chOff x="3666240" y="1432800"/>
            <a:chExt cx="1337400" cy="1799640"/>
          </a:xfrm>
        </p:grpSpPr>
        <p:sp>
          <p:nvSpPr>
            <p:cNvPr id="2108" name=""/>
            <p:cNvSpPr/>
            <p:nvPr/>
          </p:nvSpPr>
          <p:spPr>
            <a:xfrm>
              <a:off x="3666240" y="2558520"/>
              <a:ext cx="226800" cy="67392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3706920" y="2062080"/>
              <a:ext cx="1296720" cy="503280"/>
            </a:xfrm>
            <a:prstGeom prst="line">
              <a:avLst/>
            </a:prstGeom>
            <a:ln w="316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 flipV="1">
              <a:off x="4745880" y="1432800"/>
              <a:ext cx="226800" cy="67356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3932280" y="1773360"/>
            <a:ext cx="456480" cy="648720"/>
            <a:chOff x="3932280" y="1773360"/>
            <a:chExt cx="456480" cy="648720"/>
          </a:xfrm>
        </p:grpSpPr>
        <p:sp>
          <p:nvSpPr>
            <p:cNvPr id="2112" name=""/>
            <p:cNvSpPr/>
            <p:nvPr/>
          </p:nvSpPr>
          <p:spPr>
            <a:xfrm>
              <a:off x="3932280" y="17733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066920" y="19177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3645000" y="3646440"/>
            <a:ext cx="456480" cy="648720"/>
            <a:chOff x="3645000" y="3646440"/>
            <a:chExt cx="456480" cy="648720"/>
          </a:xfrm>
        </p:grpSpPr>
        <p:sp>
          <p:nvSpPr>
            <p:cNvPr id="2115" name=""/>
            <p:cNvSpPr/>
            <p:nvPr/>
          </p:nvSpPr>
          <p:spPr>
            <a:xfrm>
              <a:off x="3645000" y="36464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779640" y="37911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7" name=""/>
          <p:cNvSpPr/>
          <p:nvPr/>
        </p:nvSpPr>
        <p:spPr>
          <a:xfrm flipH="1">
            <a:off x="1331640" y="342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flipH="1">
            <a:off x="694836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1260000" y="285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7094160" y="285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1" name=""/>
              <p:cNvSpPr txBox="1"/>
              <p:nvPr/>
            </p:nvSpPr>
            <p:spPr>
              <a:xfrm>
                <a:off x="2193840" y="5084640"/>
                <a:ext cx="38181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,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096600" y="17784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058240" y="2131920"/>
            <a:ext cx="142920" cy="172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583680" y="3467520"/>
            <a:ext cx="1476360" cy="435600"/>
            <a:chOff x="6583680" y="3467520"/>
            <a:chExt cx="1476360" cy="435600"/>
          </a:xfrm>
        </p:grpSpPr>
        <p:sp>
          <p:nvSpPr>
            <p:cNvPr id="306" name=""/>
            <p:cNvSpPr/>
            <p:nvPr/>
          </p:nvSpPr>
          <p:spPr>
            <a:xfrm flipH="1" flipV="1">
              <a:off x="6583680" y="3467520"/>
              <a:ext cx="1380240" cy="370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244800">
              <a:off x="7978320" y="38214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546960" y="3571920"/>
            <a:ext cx="549000" cy="675720"/>
            <a:chOff x="6546960" y="3571920"/>
            <a:chExt cx="549000" cy="675720"/>
          </a:xfrm>
        </p:grpSpPr>
        <p:grpSp>
          <p:nvGrpSpPr>
            <p:cNvPr id="309" name=""/>
            <p:cNvGrpSpPr/>
            <p:nvPr/>
          </p:nvGrpSpPr>
          <p:grpSpPr>
            <a:xfrm>
              <a:off x="6546960" y="3571920"/>
              <a:ext cx="452160" cy="581400"/>
              <a:chOff x="6546960" y="3571920"/>
              <a:chExt cx="452160" cy="581400"/>
            </a:xfrm>
          </p:grpSpPr>
          <p:sp>
            <p:nvSpPr>
              <p:cNvPr id="310" name=""/>
              <p:cNvSpPr/>
              <p:nvPr/>
            </p:nvSpPr>
            <p:spPr>
              <a:xfrm>
                <a:off x="6546960" y="357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61160" y="3642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6762960" y="378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826240" y="2563920"/>
            <a:ext cx="549000" cy="675360"/>
            <a:chOff x="5826240" y="2563920"/>
            <a:chExt cx="549000" cy="675360"/>
          </a:xfrm>
        </p:grpSpPr>
        <p:grpSp>
          <p:nvGrpSpPr>
            <p:cNvPr id="314" name=""/>
            <p:cNvGrpSpPr/>
            <p:nvPr/>
          </p:nvGrpSpPr>
          <p:grpSpPr>
            <a:xfrm>
              <a:off x="5826240" y="2563920"/>
              <a:ext cx="452160" cy="581400"/>
              <a:chOff x="5826240" y="2563920"/>
              <a:chExt cx="452160" cy="581400"/>
            </a:xfrm>
          </p:grpSpPr>
          <p:sp>
            <p:nvSpPr>
              <p:cNvPr id="315" name=""/>
              <p:cNvSpPr/>
              <p:nvPr/>
            </p:nvSpPr>
            <p:spPr>
              <a:xfrm>
                <a:off x="5826240" y="2563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40440" y="2634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6042240" y="27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14960" y="907920"/>
            <a:ext cx="548640" cy="675720"/>
            <a:chOff x="6114960" y="907920"/>
            <a:chExt cx="548640" cy="675720"/>
          </a:xfrm>
        </p:grpSpPr>
        <p:grpSp>
          <p:nvGrpSpPr>
            <p:cNvPr id="319" name=""/>
            <p:cNvGrpSpPr/>
            <p:nvPr/>
          </p:nvGrpSpPr>
          <p:grpSpPr>
            <a:xfrm>
              <a:off x="6114960" y="907920"/>
              <a:ext cx="452160" cy="581400"/>
              <a:chOff x="6114960" y="907920"/>
              <a:chExt cx="452160" cy="581400"/>
            </a:xfrm>
          </p:grpSpPr>
          <p:sp>
            <p:nvSpPr>
              <p:cNvPr id="320" name=""/>
              <p:cNvSpPr/>
              <p:nvPr/>
            </p:nvSpPr>
            <p:spPr>
              <a:xfrm>
                <a:off x="6114960" y="90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29160" y="978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6330600" y="112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553520" y="907920"/>
            <a:ext cx="549000" cy="675720"/>
            <a:chOff x="7553520" y="907920"/>
            <a:chExt cx="549000" cy="675720"/>
          </a:xfrm>
        </p:grpSpPr>
        <p:grpSp>
          <p:nvGrpSpPr>
            <p:cNvPr id="324" name=""/>
            <p:cNvGrpSpPr/>
            <p:nvPr/>
          </p:nvGrpSpPr>
          <p:grpSpPr>
            <a:xfrm>
              <a:off x="7553520" y="907920"/>
              <a:ext cx="452160" cy="581400"/>
              <a:chOff x="7553520" y="907920"/>
              <a:chExt cx="452160" cy="581400"/>
            </a:xfrm>
          </p:grpSpPr>
          <p:sp>
            <p:nvSpPr>
              <p:cNvPr id="325" name=""/>
              <p:cNvSpPr/>
              <p:nvPr/>
            </p:nvSpPr>
            <p:spPr>
              <a:xfrm>
                <a:off x="7553520" y="90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767720" y="978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7769520" y="112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177600" y="2040480"/>
            <a:ext cx="511200" cy="1455480"/>
            <a:chOff x="6177600" y="2040480"/>
            <a:chExt cx="511200" cy="1455480"/>
          </a:xfrm>
        </p:grpSpPr>
        <p:sp>
          <p:nvSpPr>
            <p:cNvPr id="329" name=""/>
            <p:cNvSpPr/>
            <p:nvPr/>
          </p:nvSpPr>
          <p:spPr>
            <a:xfrm flipH="1" flipV="1">
              <a:off x="6177600" y="2040480"/>
              <a:ext cx="451440" cy="1356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2638400">
              <a:off x="6605640" y="34131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145560" y="1009800"/>
            <a:ext cx="1081800" cy="1087920"/>
            <a:chOff x="6145560" y="1009800"/>
            <a:chExt cx="1081800" cy="1087920"/>
          </a:xfrm>
        </p:grpSpPr>
        <p:sp>
          <p:nvSpPr>
            <p:cNvPr id="332" name=""/>
            <p:cNvSpPr/>
            <p:nvPr/>
          </p:nvSpPr>
          <p:spPr>
            <a:xfrm flipV="1">
              <a:off x="6222960" y="1009800"/>
              <a:ext cx="100440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6422000">
              <a:off x="6147720" y="20253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8129880" y="2852640"/>
            <a:ext cx="616680" cy="675720"/>
            <a:chOff x="8129880" y="2852640"/>
            <a:chExt cx="616680" cy="675720"/>
          </a:xfrm>
        </p:grpSpPr>
        <p:grpSp>
          <p:nvGrpSpPr>
            <p:cNvPr id="335" name=""/>
            <p:cNvGrpSpPr/>
            <p:nvPr/>
          </p:nvGrpSpPr>
          <p:grpSpPr>
            <a:xfrm>
              <a:off x="8129880" y="2852640"/>
              <a:ext cx="452160" cy="581400"/>
              <a:chOff x="8129880" y="2852640"/>
              <a:chExt cx="452160" cy="581400"/>
            </a:xfrm>
          </p:grpSpPr>
          <p:sp>
            <p:nvSpPr>
              <p:cNvPr id="336" name=""/>
              <p:cNvSpPr/>
              <p:nvPr/>
            </p:nvSpPr>
            <p:spPr>
              <a:xfrm>
                <a:off x="8129880" y="28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344080" y="2923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8346240" y="3068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1080" y="189000"/>
            <a:ext cx="4534920" cy="1068840"/>
            <a:chOff x="181080" y="189000"/>
            <a:chExt cx="4534920" cy="1068840"/>
          </a:xfrm>
        </p:grpSpPr>
        <p:sp>
          <p:nvSpPr>
            <p:cNvPr id="340" name=""/>
            <p:cNvSpPr/>
            <p:nvPr/>
          </p:nvSpPr>
          <p:spPr>
            <a:xfrm>
              <a:off x="824400" y="189000"/>
              <a:ext cx="389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predstavlja završn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stranicu poligona si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81080" y="260280"/>
              <a:ext cx="616680" cy="675360"/>
              <a:chOff x="181080" y="260280"/>
              <a:chExt cx="616680" cy="67536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181080" y="260280"/>
                <a:ext cx="452160" cy="581400"/>
                <a:chOff x="181080" y="260280"/>
                <a:chExt cx="452160" cy="5814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81080" y="260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95280" y="331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397440" y="475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7184880" y="976680"/>
            <a:ext cx="1011600" cy="1158120"/>
            <a:chOff x="7184880" y="976680"/>
            <a:chExt cx="1011600" cy="1158120"/>
          </a:xfrm>
        </p:grpSpPr>
        <p:sp>
          <p:nvSpPr>
            <p:cNvPr id="347" name=""/>
            <p:cNvSpPr/>
            <p:nvPr/>
          </p:nvSpPr>
          <p:spPr>
            <a:xfrm>
              <a:off x="7255080" y="105912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472200">
              <a:off x="7189200" y="9810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559520" y="4776480"/>
            <a:ext cx="1476360" cy="434880"/>
            <a:chOff x="1559520" y="4776480"/>
            <a:chExt cx="1476360" cy="434880"/>
          </a:xfrm>
        </p:grpSpPr>
        <p:sp>
          <p:nvSpPr>
            <p:cNvPr id="350" name=""/>
            <p:cNvSpPr/>
            <p:nvPr/>
          </p:nvSpPr>
          <p:spPr>
            <a:xfrm flipH="1" flipV="1">
              <a:off x="1559520" y="4776480"/>
              <a:ext cx="1380600" cy="3700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244800">
              <a:off x="2954160" y="51300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522440" y="4879800"/>
            <a:ext cx="548640" cy="675720"/>
            <a:chOff x="1522440" y="4879800"/>
            <a:chExt cx="548640" cy="675720"/>
          </a:xfrm>
        </p:grpSpPr>
        <p:grpSp>
          <p:nvGrpSpPr>
            <p:cNvPr id="353" name=""/>
            <p:cNvGrpSpPr/>
            <p:nvPr/>
          </p:nvGrpSpPr>
          <p:grpSpPr>
            <a:xfrm>
              <a:off x="1522440" y="4879800"/>
              <a:ext cx="452160" cy="581400"/>
              <a:chOff x="1522440" y="4879800"/>
              <a:chExt cx="452160" cy="581400"/>
            </a:xfrm>
          </p:grpSpPr>
          <p:sp>
            <p:nvSpPr>
              <p:cNvPr id="354" name=""/>
              <p:cNvSpPr/>
              <p:nvPr/>
            </p:nvSpPr>
            <p:spPr>
              <a:xfrm>
                <a:off x="1522440" y="4879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36640" y="4950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1738080" y="509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801720" y="3871800"/>
            <a:ext cx="548640" cy="675720"/>
            <a:chOff x="801720" y="3871800"/>
            <a:chExt cx="548640" cy="675720"/>
          </a:xfrm>
        </p:grpSpPr>
        <p:grpSp>
          <p:nvGrpSpPr>
            <p:cNvPr id="358" name=""/>
            <p:cNvGrpSpPr/>
            <p:nvPr/>
          </p:nvGrpSpPr>
          <p:grpSpPr>
            <a:xfrm>
              <a:off x="801720" y="3871800"/>
              <a:ext cx="452160" cy="581400"/>
              <a:chOff x="801720" y="3871800"/>
              <a:chExt cx="452160" cy="581400"/>
            </a:xfrm>
          </p:grpSpPr>
          <p:sp>
            <p:nvSpPr>
              <p:cNvPr id="359" name=""/>
              <p:cNvSpPr/>
              <p:nvPr/>
            </p:nvSpPr>
            <p:spPr>
              <a:xfrm>
                <a:off x="801720" y="3871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15920" y="3942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017360" y="408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090800" y="2216160"/>
            <a:ext cx="549000" cy="675720"/>
            <a:chOff x="1090800" y="2216160"/>
            <a:chExt cx="549000" cy="675720"/>
          </a:xfrm>
        </p:grpSpPr>
        <p:grpSp>
          <p:nvGrpSpPr>
            <p:cNvPr id="363" name=""/>
            <p:cNvGrpSpPr/>
            <p:nvPr/>
          </p:nvGrpSpPr>
          <p:grpSpPr>
            <a:xfrm>
              <a:off x="1090800" y="2216160"/>
              <a:ext cx="452160" cy="581400"/>
              <a:chOff x="1090800" y="2216160"/>
              <a:chExt cx="452160" cy="581400"/>
            </a:xfrm>
          </p:grpSpPr>
          <p:sp>
            <p:nvSpPr>
              <p:cNvPr id="364" name=""/>
              <p:cNvSpPr/>
              <p:nvPr/>
            </p:nvSpPr>
            <p:spPr>
              <a:xfrm>
                <a:off x="1090800" y="2216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05000" y="2287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306800" y="243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833920" y="2492280"/>
            <a:ext cx="549000" cy="675720"/>
            <a:chOff x="2833920" y="2492280"/>
            <a:chExt cx="549000" cy="675720"/>
          </a:xfrm>
        </p:grpSpPr>
        <p:grpSp>
          <p:nvGrpSpPr>
            <p:cNvPr id="368" name=""/>
            <p:cNvGrpSpPr/>
            <p:nvPr/>
          </p:nvGrpSpPr>
          <p:grpSpPr>
            <a:xfrm>
              <a:off x="2833920" y="2492280"/>
              <a:ext cx="452160" cy="581400"/>
              <a:chOff x="2833920" y="2492280"/>
              <a:chExt cx="452160" cy="581400"/>
            </a:xfrm>
          </p:grpSpPr>
          <p:sp>
            <p:nvSpPr>
              <p:cNvPr id="369" name=""/>
              <p:cNvSpPr/>
              <p:nvPr/>
            </p:nvSpPr>
            <p:spPr>
              <a:xfrm>
                <a:off x="283392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48120" y="2563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04992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153080" y="3349440"/>
            <a:ext cx="511200" cy="1454760"/>
            <a:chOff x="1153080" y="3349440"/>
            <a:chExt cx="511200" cy="1454760"/>
          </a:xfrm>
        </p:grpSpPr>
        <p:sp>
          <p:nvSpPr>
            <p:cNvPr id="373" name=""/>
            <p:cNvSpPr/>
            <p:nvPr/>
          </p:nvSpPr>
          <p:spPr>
            <a:xfrm flipH="1" flipV="1">
              <a:off x="1153080" y="3349440"/>
              <a:ext cx="451800" cy="13557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2638400">
              <a:off x="1581480" y="47217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121400" y="2318040"/>
            <a:ext cx="1081080" cy="1087560"/>
            <a:chOff x="1121400" y="2318040"/>
            <a:chExt cx="1081080" cy="1087560"/>
          </a:xfrm>
        </p:grpSpPr>
        <p:sp>
          <p:nvSpPr>
            <p:cNvPr id="376" name=""/>
            <p:cNvSpPr/>
            <p:nvPr/>
          </p:nvSpPr>
          <p:spPr>
            <a:xfrm flipV="1">
              <a:off x="1198440" y="2318040"/>
              <a:ext cx="100404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422000">
              <a:off x="1123200" y="33336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179080" y="2343240"/>
            <a:ext cx="1066320" cy="1226520"/>
            <a:chOff x="2179080" y="2343240"/>
            <a:chExt cx="1066320" cy="1226520"/>
          </a:xfrm>
        </p:grpSpPr>
        <p:sp>
          <p:nvSpPr>
            <p:cNvPr id="379" name=""/>
            <p:cNvSpPr/>
            <p:nvPr/>
          </p:nvSpPr>
          <p:spPr>
            <a:xfrm>
              <a:off x="2248560" y="2428920"/>
              <a:ext cx="996840" cy="11408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14626800">
              <a:off x="2165400" y="2377440"/>
              <a:ext cx="94680" cy="2880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 flipH="1" flipV="1">
            <a:off x="1160280" y="3366720"/>
            <a:ext cx="1873080" cy="1800360"/>
          </a:xfrm>
          <a:prstGeom prst="line">
            <a:avLst/>
          </a:prstGeom>
          <a:ln w="5724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2168280" y="2358720"/>
            <a:ext cx="865080" cy="2808360"/>
          </a:xfrm>
          <a:prstGeom prst="line">
            <a:avLst/>
          </a:prstGeom>
          <a:ln w="57240">
            <a:solidFill>
              <a:srgbClr val="cc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29600" y="1268280"/>
            <a:ext cx="36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Kako se konstruiš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123000" y="3787920"/>
            <a:ext cx="616680" cy="675360"/>
            <a:chOff x="3123000" y="3787920"/>
            <a:chExt cx="616680" cy="675360"/>
          </a:xfrm>
        </p:grpSpPr>
        <p:grpSp>
          <p:nvGrpSpPr>
            <p:cNvPr id="385" name=""/>
            <p:cNvGrpSpPr/>
            <p:nvPr/>
          </p:nvGrpSpPr>
          <p:grpSpPr>
            <a:xfrm>
              <a:off x="3123000" y="3787920"/>
              <a:ext cx="452160" cy="581400"/>
              <a:chOff x="3123000" y="3787920"/>
              <a:chExt cx="452160" cy="581400"/>
            </a:xfrm>
          </p:grpSpPr>
          <p:sp>
            <p:nvSpPr>
              <p:cNvPr id="386" name=""/>
              <p:cNvSpPr/>
              <p:nvPr/>
            </p:nvSpPr>
            <p:spPr>
              <a:xfrm>
                <a:off x="3123000" y="378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337200" y="38588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339360" y="4003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V="1">
            <a:off x="3033720" y="3571920"/>
            <a:ext cx="230040" cy="1595520"/>
          </a:xfrm>
          <a:prstGeom prst="line">
            <a:avLst/>
          </a:prstGeom>
          <a:ln w="57240">
            <a:solidFill>
              <a:srgbClr val="3399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49560" y="50115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70200" y="465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480" y="3068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6920" y="17715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73480" y="31399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068720" y="4005360"/>
            <a:ext cx="2527200" cy="675360"/>
            <a:chOff x="4068720" y="4005360"/>
            <a:chExt cx="2527200" cy="675360"/>
          </a:xfrm>
        </p:grpSpPr>
        <p:grpSp>
          <p:nvGrpSpPr>
            <p:cNvPr id="396" name=""/>
            <p:cNvGrpSpPr/>
            <p:nvPr/>
          </p:nvGrpSpPr>
          <p:grpSpPr>
            <a:xfrm>
              <a:off x="4068720" y="4005360"/>
              <a:ext cx="548640" cy="675360"/>
              <a:chOff x="4068720" y="4005360"/>
              <a:chExt cx="548640" cy="67536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4068720" y="4005360"/>
                <a:ext cx="452160" cy="581400"/>
                <a:chOff x="4068720" y="4005360"/>
                <a:chExt cx="452160" cy="5814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068720" y="4005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282920" y="4076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4284360" y="4221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4932360" y="4005360"/>
              <a:ext cx="548640" cy="675360"/>
              <a:chOff x="4932360" y="4005360"/>
              <a:chExt cx="548640" cy="675360"/>
            </a:xfrm>
          </p:grpSpPr>
          <p:sp>
            <p:nvSpPr>
              <p:cNvPr id="402" name=""/>
              <p:cNvSpPr/>
              <p:nvPr/>
            </p:nvSpPr>
            <p:spPr>
              <a:xfrm>
                <a:off x="4932360" y="4005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46560" y="40762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148000" y="4221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5732280" y="4005360"/>
              <a:ext cx="863640" cy="648720"/>
              <a:chOff x="5732280" y="4005360"/>
              <a:chExt cx="863640" cy="648720"/>
            </a:xfrm>
          </p:grpSpPr>
          <p:sp>
            <p:nvSpPr>
              <p:cNvPr id="406" name=""/>
              <p:cNvSpPr/>
              <p:nvPr/>
            </p:nvSpPr>
            <p:spPr>
              <a:xfrm>
                <a:off x="5732280" y="40053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938920" y="407808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572360" y="4005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64360" y="4005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635360" y="4649760"/>
            <a:ext cx="2735280" cy="680400"/>
            <a:chOff x="4635360" y="4649760"/>
            <a:chExt cx="2735280" cy="680400"/>
          </a:xfrm>
        </p:grpSpPr>
        <p:grpSp>
          <p:nvGrpSpPr>
            <p:cNvPr id="411" name=""/>
            <p:cNvGrpSpPr/>
            <p:nvPr/>
          </p:nvGrpSpPr>
          <p:grpSpPr>
            <a:xfrm>
              <a:off x="5707080" y="4654440"/>
              <a:ext cx="548640" cy="675720"/>
              <a:chOff x="5707080" y="4654440"/>
              <a:chExt cx="548640" cy="6757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07080" y="4654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21280" y="472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922720" y="4870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507000" y="4654440"/>
              <a:ext cx="863640" cy="648720"/>
              <a:chOff x="6507000" y="4654440"/>
              <a:chExt cx="863640" cy="648720"/>
            </a:xfrm>
          </p:grpSpPr>
          <p:sp>
            <p:nvSpPr>
              <p:cNvPr id="416" name=""/>
              <p:cNvSpPr/>
              <p:nvPr/>
            </p:nvSpPr>
            <p:spPr>
              <a:xfrm>
                <a:off x="6507000" y="465444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cc3399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cc33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13640" y="4727520"/>
                <a:ext cx="433440" cy="0"/>
              </a:xfrm>
              <a:prstGeom prst="line">
                <a:avLst/>
              </a:prstGeom>
              <a:ln w="25560">
                <a:solidFill>
                  <a:srgbClr val="cc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5347080" y="46544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58160" y="4653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635360" y="4649760"/>
              <a:ext cx="863640" cy="648720"/>
              <a:chOff x="4635360" y="4649760"/>
              <a:chExt cx="863640" cy="648720"/>
            </a:xfrm>
          </p:grpSpPr>
          <p:sp>
            <p:nvSpPr>
              <p:cNvPr id="421" name=""/>
              <p:cNvSpPr/>
              <p:nvPr/>
            </p:nvSpPr>
            <p:spPr>
              <a:xfrm>
                <a:off x="4635360" y="46497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2000" y="472284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5354640" y="5348160"/>
            <a:ext cx="2808000" cy="675720"/>
            <a:chOff x="5354640" y="5348160"/>
            <a:chExt cx="2808000" cy="675720"/>
          </a:xfrm>
        </p:grpSpPr>
        <p:grpSp>
          <p:nvGrpSpPr>
            <p:cNvPr id="424" name=""/>
            <p:cNvGrpSpPr/>
            <p:nvPr/>
          </p:nvGrpSpPr>
          <p:grpSpPr>
            <a:xfrm>
              <a:off x="6499440" y="5348160"/>
              <a:ext cx="549000" cy="675720"/>
              <a:chOff x="6499440" y="5348160"/>
              <a:chExt cx="549000" cy="675720"/>
            </a:xfrm>
          </p:grpSpPr>
          <p:sp>
            <p:nvSpPr>
              <p:cNvPr id="425" name=""/>
              <p:cNvSpPr/>
              <p:nvPr/>
            </p:nvSpPr>
            <p:spPr>
              <a:xfrm>
                <a:off x="6499440" y="5348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713640" y="54194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15440" y="5564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7299000" y="5348160"/>
              <a:ext cx="863640" cy="648720"/>
              <a:chOff x="7299000" y="5348160"/>
              <a:chExt cx="863640" cy="648720"/>
            </a:xfrm>
          </p:grpSpPr>
          <p:sp>
            <p:nvSpPr>
              <p:cNvPr id="429" name=""/>
              <p:cNvSpPr/>
              <p:nvPr/>
            </p:nvSpPr>
            <p:spPr>
              <a:xfrm>
                <a:off x="7299000" y="53481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99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05640" y="5421240"/>
                <a:ext cx="4334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6139080" y="5348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31080" y="5348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354640" y="5369040"/>
              <a:ext cx="863640" cy="648720"/>
              <a:chOff x="5354640" y="5369040"/>
              <a:chExt cx="863640" cy="648720"/>
            </a:xfrm>
          </p:grpSpPr>
          <p:sp>
            <p:nvSpPr>
              <p:cNvPr id="434" name=""/>
              <p:cNvSpPr/>
              <p:nvPr/>
            </p:nvSpPr>
            <p:spPr>
              <a:xfrm>
                <a:off x="5354640" y="536904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cc3399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cc33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560920" y="5441760"/>
                <a:ext cx="433080" cy="0"/>
              </a:xfrm>
              <a:prstGeom prst="line">
                <a:avLst/>
              </a:prstGeom>
              <a:ln w="25560">
                <a:solidFill>
                  <a:srgbClr val="cc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181080" y="6021360"/>
            <a:ext cx="5180760" cy="675720"/>
            <a:chOff x="181080" y="6021360"/>
            <a:chExt cx="5180760" cy="675720"/>
          </a:xfrm>
        </p:grpSpPr>
        <p:grpSp>
          <p:nvGrpSpPr>
            <p:cNvPr id="437" name=""/>
            <p:cNvGrpSpPr/>
            <p:nvPr/>
          </p:nvGrpSpPr>
          <p:grpSpPr>
            <a:xfrm>
              <a:off x="181080" y="6021360"/>
              <a:ext cx="549000" cy="675720"/>
              <a:chOff x="181080" y="6021360"/>
              <a:chExt cx="549000" cy="6757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181080" y="6021360"/>
                <a:ext cx="452160" cy="581400"/>
                <a:chOff x="181080" y="6021360"/>
                <a:chExt cx="452160" cy="5814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181080" y="602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95280" y="609228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39708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1044720" y="6021360"/>
              <a:ext cx="549000" cy="675720"/>
              <a:chOff x="1044720" y="6021360"/>
              <a:chExt cx="549000" cy="675720"/>
            </a:xfrm>
          </p:grpSpPr>
          <p:sp>
            <p:nvSpPr>
              <p:cNvPr id="443" name=""/>
              <p:cNvSpPr/>
              <p:nvPr/>
            </p:nvSpPr>
            <p:spPr>
              <a:xfrm>
                <a:off x="104472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5892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6072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68436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0544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1838520" y="6021360"/>
              <a:ext cx="549000" cy="675720"/>
              <a:chOff x="1838520" y="6021360"/>
              <a:chExt cx="549000" cy="675720"/>
            </a:xfrm>
          </p:grpSpPr>
          <p:sp>
            <p:nvSpPr>
              <p:cNvPr id="449" name=""/>
              <p:cNvSpPr/>
              <p:nvPr/>
            </p:nvSpPr>
            <p:spPr>
              <a:xfrm>
                <a:off x="183852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5272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05452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147816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702160" y="6021360"/>
              <a:ext cx="549000" cy="675720"/>
              <a:chOff x="2702160" y="6021360"/>
              <a:chExt cx="549000" cy="675720"/>
            </a:xfrm>
          </p:grpSpPr>
          <p:sp>
            <p:nvSpPr>
              <p:cNvPr id="454" name=""/>
              <p:cNvSpPr/>
              <p:nvPr/>
            </p:nvSpPr>
            <p:spPr>
              <a:xfrm>
                <a:off x="270216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91636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1816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234180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73360" y="6021360"/>
              <a:ext cx="863640" cy="648720"/>
              <a:chOff x="3573360" y="6021360"/>
              <a:chExt cx="863640" cy="648720"/>
            </a:xfrm>
          </p:grpSpPr>
          <p:sp>
            <p:nvSpPr>
              <p:cNvPr id="459" name=""/>
              <p:cNvSpPr/>
              <p:nvPr/>
            </p:nvSpPr>
            <p:spPr>
              <a:xfrm>
                <a:off x="3573360" y="60213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99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780000" y="6094440"/>
                <a:ext cx="4334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745160" y="6021360"/>
              <a:ext cx="616680" cy="675720"/>
              <a:chOff x="4745160" y="6021360"/>
              <a:chExt cx="616680" cy="67572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4745160" y="6021360"/>
                <a:ext cx="452160" cy="581400"/>
                <a:chOff x="4745160" y="6021360"/>
                <a:chExt cx="452160" cy="5814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45160" y="602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959360" y="609228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4961520" y="6237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437364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485720" y="3284640"/>
            <a:ext cx="863640" cy="648720"/>
            <a:chOff x="1485720" y="3284640"/>
            <a:chExt cx="863640" cy="648720"/>
          </a:xfrm>
        </p:grpSpPr>
        <p:sp>
          <p:nvSpPr>
            <p:cNvPr id="468" name=""/>
            <p:cNvSpPr/>
            <p:nvPr/>
          </p:nvSpPr>
          <p:spPr>
            <a:xfrm>
              <a:off x="1485720" y="328464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OA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92360" y="3357360"/>
              <a:ext cx="4334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420640" y="3357720"/>
            <a:ext cx="863640" cy="648720"/>
            <a:chOff x="2420640" y="3357720"/>
            <a:chExt cx="863640" cy="648720"/>
          </a:xfrm>
        </p:grpSpPr>
        <p:sp>
          <p:nvSpPr>
            <p:cNvPr id="471" name=""/>
            <p:cNvSpPr/>
            <p:nvPr/>
          </p:nvSpPr>
          <p:spPr>
            <a:xfrm>
              <a:off x="2420640" y="335772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3399"/>
                  </a:solidFill>
                  <a:latin typeface="Times New Roman"/>
                </a:rPr>
                <a:t>OA</a:t>
              </a:r>
              <a:r>
                <a:rPr b="1" i="1" lang="sr-Latn-CS" sz="3200" spc="-1" strike="noStrike" baseline="-25000">
                  <a:solidFill>
                    <a:srgbClr val="cc33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27280" y="3430440"/>
              <a:ext cx="433440" cy="0"/>
            </a:xfrm>
            <a:prstGeom prst="line">
              <a:avLst/>
            </a:prstGeom>
            <a:ln w="25560">
              <a:solidFill>
                <a:srgbClr val="cc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4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179280" y="2349360"/>
            <a:ext cx="5724720" cy="1584360"/>
          </a:xfrm>
          <a:prstGeom prst="flowChartInputOutpu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295280" y="189000"/>
            <a:ext cx="4608720" cy="2158920"/>
          </a:xfrm>
          <a:prstGeom prst="rec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083200" y="220500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sr-Latn-C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300640" y="4428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431640" y="234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6048360" y="234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60000" y="177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6194160" y="177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0" name=""/>
              <p:cNvSpPr txBox="1"/>
              <p:nvPr/>
            </p:nvSpPr>
            <p:spPr>
              <a:xfrm>
                <a:off x="5362560" y="3284640"/>
                <a:ext cx="37814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,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31" name=""/>
          <p:cNvGrpSpPr/>
          <p:nvPr/>
        </p:nvGrpSpPr>
        <p:grpSpPr>
          <a:xfrm>
            <a:off x="2052720" y="189000"/>
            <a:ext cx="452160" cy="581400"/>
            <a:chOff x="2052720" y="189000"/>
            <a:chExt cx="452160" cy="581400"/>
          </a:xfrm>
        </p:grpSpPr>
        <p:sp>
          <p:nvSpPr>
            <p:cNvPr id="2132" name=""/>
            <p:cNvSpPr/>
            <p:nvPr/>
          </p:nvSpPr>
          <p:spPr>
            <a:xfrm>
              <a:off x="205272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266920" y="25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528360" y="1700280"/>
            <a:ext cx="587880" cy="581400"/>
            <a:chOff x="3528360" y="1700280"/>
            <a:chExt cx="587880" cy="581400"/>
          </a:xfrm>
        </p:grpSpPr>
        <p:sp>
          <p:nvSpPr>
            <p:cNvPr id="2135" name=""/>
            <p:cNvSpPr/>
            <p:nvPr/>
          </p:nvSpPr>
          <p:spPr>
            <a:xfrm>
              <a:off x="3528360" y="17002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816000" y="1771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7" name=""/>
          <p:cNvSpPr/>
          <p:nvPr/>
        </p:nvSpPr>
        <p:spPr>
          <a:xfrm>
            <a:off x="3743280" y="34275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1584360" y="23479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1584360" y="76356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2809800" y="234792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 flipH="1" flipV="1">
            <a:off x="2772720" y="2319840"/>
            <a:ext cx="950040" cy="1107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 flipH="1" flipV="1">
            <a:off x="2799360" y="725040"/>
            <a:ext cx="950040" cy="26751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H="1" flipV="1">
            <a:off x="2804400" y="708120"/>
            <a:ext cx="2880" cy="165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1657440" y="1700280"/>
            <a:ext cx="452160" cy="581400"/>
            <a:chOff x="1657440" y="1700280"/>
            <a:chExt cx="452160" cy="581400"/>
          </a:xfrm>
        </p:grpSpPr>
        <p:sp>
          <p:nvSpPr>
            <p:cNvPr id="2145" name=""/>
            <p:cNvSpPr/>
            <p:nvPr/>
          </p:nvSpPr>
          <p:spPr>
            <a:xfrm>
              <a:off x="1657440" y="17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871640" y="177120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4161960" y="2847960"/>
            <a:ext cx="587880" cy="581400"/>
            <a:chOff x="4161960" y="2847960"/>
            <a:chExt cx="587880" cy="581400"/>
          </a:xfrm>
        </p:grpSpPr>
        <p:sp>
          <p:nvSpPr>
            <p:cNvPr id="2148" name=""/>
            <p:cNvSpPr/>
            <p:nvPr/>
          </p:nvSpPr>
          <p:spPr>
            <a:xfrm>
              <a:off x="4161960" y="28479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449600" y="291924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3097440" y="1123920"/>
            <a:ext cx="358560" cy="581400"/>
            <a:chOff x="3097440" y="1123920"/>
            <a:chExt cx="358560" cy="581400"/>
          </a:xfrm>
        </p:grpSpPr>
        <p:sp>
          <p:nvSpPr>
            <p:cNvPr id="2151" name=""/>
            <p:cNvSpPr/>
            <p:nvPr/>
          </p:nvSpPr>
          <p:spPr>
            <a:xfrm>
              <a:off x="3097440" y="11239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240000" y="126864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2305080" y="1195560"/>
            <a:ext cx="474840" cy="581400"/>
            <a:chOff x="2305080" y="1195560"/>
            <a:chExt cx="474840" cy="581400"/>
          </a:xfrm>
        </p:grpSpPr>
        <p:sp>
          <p:nvSpPr>
            <p:cNvPr id="2154" name=""/>
            <p:cNvSpPr/>
            <p:nvPr/>
          </p:nvSpPr>
          <p:spPr>
            <a:xfrm>
              <a:off x="2305080" y="11955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448000" y="133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2593440" y="2708280"/>
            <a:ext cx="610560" cy="581400"/>
            <a:chOff x="2593440" y="2708280"/>
            <a:chExt cx="610560" cy="581400"/>
          </a:xfrm>
        </p:grpSpPr>
        <p:sp>
          <p:nvSpPr>
            <p:cNvPr id="2157" name=""/>
            <p:cNvSpPr/>
            <p:nvPr/>
          </p:nvSpPr>
          <p:spPr>
            <a:xfrm>
              <a:off x="2593440" y="270828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’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734920" y="2779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1655640" y="4797360"/>
                <a:ext cx="5292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,,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431640" y="5661000"/>
            <a:ext cx="78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ektori momenta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pregov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sabiraju se kao slobodni ve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896760" y="1900080"/>
                <a:ext cx="7297920" cy="438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 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2" name=""/>
          <p:cNvSpPr/>
          <p:nvPr/>
        </p:nvSpPr>
        <p:spPr>
          <a:xfrm>
            <a:off x="755640" y="47628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 istoj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3" name=""/>
              <p:cNvSpPr txBox="1"/>
              <p:nvPr/>
            </p:nvSpPr>
            <p:spPr>
              <a:xfrm>
                <a:off x="250920" y="2728800"/>
                <a:ext cx="3933720" cy="34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64" name=""/>
          <p:cNvGrpSpPr/>
          <p:nvPr/>
        </p:nvGrpSpPr>
        <p:grpSpPr>
          <a:xfrm>
            <a:off x="250920" y="620640"/>
            <a:ext cx="8713800" cy="1556280"/>
            <a:chOff x="250920" y="620640"/>
            <a:chExt cx="8713800" cy="1556280"/>
          </a:xfrm>
        </p:grpSpPr>
        <p:sp>
          <p:nvSpPr>
            <p:cNvPr id="2165" name=""/>
            <p:cNvSpPr/>
            <p:nvPr/>
          </p:nvSpPr>
          <p:spPr>
            <a:xfrm>
              <a:off x="250920" y="620640"/>
              <a:ext cx="87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vnote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ža spregova. </a:t>
              </a: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Dati su vektori         i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istog smera. Oni se mogu transformisati u spregove sa istim krakom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6" name=""/>
            <p:cNvGrpSpPr/>
            <p:nvPr/>
          </p:nvGrpSpPr>
          <p:grpSpPr>
            <a:xfrm>
              <a:off x="6741360" y="620640"/>
              <a:ext cx="659160" cy="648720"/>
              <a:chOff x="6741360" y="620640"/>
              <a:chExt cx="659160" cy="648720"/>
            </a:xfrm>
          </p:grpSpPr>
          <p:sp>
            <p:nvSpPr>
              <p:cNvPr id="2167" name=""/>
              <p:cNvSpPr/>
              <p:nvPr/>
            </p:nvSpPr>
            <p:spPr>
              <a:xfrm>
                <a:off x="6741360" y="620640"/>
                <a:ext cx="659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946920" y="6915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9" name=""/>
            <p:cNvGrpSpPr/>
            <p:nvPr/>
          </p:nvGrpSpPr>
          <p:grpSpPr>
            <a:xfrm>
              <a:off x="7822440" y="620640"/>
              <a:ext cx="659160" cy="648720"/>
              <a:chOff x="7822440" y="620640"/>
              <a:chExt cx="659160" cy="648720"/>
            </a:xfrm>
          </p:grpSpPr>
          <p:sp>
            <p:nvSpPr>
              <p:cNvPr id="2170" name=""/>
              <p:cNvSpPr/>
              <p:nvPr/>
            </p:nvSpPr>
            <p:spPr>
              <a:xfrm>
                <a:off x="7822440" y="620640"/>
                <a:ext cx="659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8028000" y="6915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2" name=""/>
          <p:cNvSpPr/>
          <p:nvPr/>
        </p:nvSpPr>
        <p:spPr>
          <a:xfrm flipV="1">
            <a:off x="515520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V="1">
            <a:off x="5134320" y="5600520"/>
            <a:ext cx="1081080" cy="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 flipH="1" flipV="1">
            <a:off x="4768560" y="4267080"/>
            <a:ext cx="110232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5" name=""/>
          <p:cNvGrpSpPr/>
          <p:nvPr/>
        </p:nvGrpSpPr>
        <p:grpSpPr>
          <a:xfrm>
            <a:off x="7448760" y="3641760"/>
            <a:ext cx="569520" cy="648720"/>
            <a:chOff x="7448760" y="3641760"/>
            <a:chExt cx="569520" cy="648720"/>
          </a:xfrm>
        </p:grpSpPr>
        <p:sp>
          <p:nvSpPr>
            <p:cNvPr id="2176" name=""/>
            <p:cNvSpPr/>
            <p:nvPr/>
          </p:nvSpPr>
          <p:spPr>
            <a:xfrm>
              <a:off x="744876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655040" y="3712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7448400" y="5657760"/>
            <a:ext cx="705240" cy="648720"/>
            <a:chOff x="7448400" y="5657760"/>
            <a:chExt cx="705240" cy="648720"/>
          </a:xfrm>
        </p:grpSpPr>
        <p:sp>
          <p:nvSpPr>
            <p:cNvPr id="2179" name=""/>
            <p:cNvSpPr/>
            <p:nvPr/>
          </p:nvSpPr>
          <p:spPr>
            <a:xfrm>
              <a:off x="744840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727760" y="57290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"/>
          <p:cNvGrpSpPr/>
          <p:nvPr/>
        </p:nvGrpSpPr>
        <p:grpSpPr>
          <a:xfrm>
            <a:off x="7953120" y="4576680"/>
            <a:ext cx="522000" cy="648720"/>
            <a:chOff x="7953120" y="4576680"/>
            <a:chExt cx="522000" cy="648720"/>
          </a:xfrm>
        </p:grpSpPr>
        <p:sp>
          <p:nvSpPr>
            <p:cNvPr id="2182" name=""/>
            <p:cNvSpPr/>
            <p:nvPr/>
          </p:nvSpPr>
          <p:spPr>
            <a:xfrm>
              <a:off x="7953120" y="457668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088120" y="47293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"/>
          <p:cNvSpPr/>
          <p:nvPr/>
        </p:nvSpPr>
        <p:spPr>
          <a:xfrm flipV="1">
            <a:off x="7459200" y="4260960"/>
            <a:ext cx="71856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7437600" y="5600520"/>
            <a:ext cx="1081080" cy="9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 flipH="1" flipV="1">
            <a:off x="7071480" y="4266720"/>
            <a:ext cx="1102680" cy="5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5145120" y="3641760"/>
            <a:ext cx="569520" cy="648720"/>
            <a:chOff x="5145120" y="3641760"/>
            <a:chExt cx="569520" cy="648720"/>
          </a:xfrm>
        </p:grpSpPr>
        <p:sp>
          <p:nvSpPr>
            <p:cNvPr id="2188" name=""/>
            <p:cNvSpPr/>
            <p:nvPr/>
          </p:nvSpPr>
          <p:spPr>
            <a:xfrm>
              <a:off x="514512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351400" y="3712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5144760" y="5657760"/>
            <a:ext cx="705240" cy="648720"/>
            <a:chOff x="5144760" y="5657760"/>
            <a:chExt cx="705240" cy="648720"/>
          </a:xfrm>
        </p:grpSpPr>
        <p:sp>
          <p:nvSpPr>
            <p:cNvPr id="2191" name=""/>
            <p:cNvSpPr/>
            <p:nvPr/>
          </p:nvSpPr>
          <p:spPr>
            <a:xfrm>
              <a:off x="514476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424120" y="57290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5648040" y="4505400"/>
            <a:ext cx="522000" cy="648720"/>
            <a:chOff x="5648040" y="4505400"/>
            <a:chExt cx="522000" cy="648720"/>
          </a:xfrm>
        </p:grpSpPr>
        <p:sp>
          <p:nvSpPr>
            <p:cNvPr id="2194" name=""/>
            <p:cNvSpPr/>
            <p:nvPr/>
          </p:nvSpPr>
          <p:spPr>
            <a:xfrm>
              <a:off x="5648040" y="450540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83040" y="4657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6" name=""/>
          <p:cNvSpPr/>
          <p:nvPr/>
        </p:nvSpPr>
        <p:spPr>
          <a:xfrm>
            <a:off x="4497480" y="54421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5937480" y="3857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6801120" y="52974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8240760" y="3713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1657440" y="115920"/>
                <a:ext cx="7451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1" name=""/>
          <p:cNvSpPr/>
          <p:nvPr/>
        </p:nvSpPr>
        <p:spPr>
          <a:xfrm>
            <a:off x="179280" y="189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Ako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Dva sprega se svode na ravnotežni sistem, ukoliko je njihov zbir jednak nu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akle, dva sprega mogu biti u ravnoteži samo ukoliko su im vektori momenata paralelni, jednakog intenziteta i suprotnog s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257544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2554560" y="5600520"/>
            <a:ext cx="1081080" cy="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 flipH="1" flipV="1">
            <a:off x="2188800" y="4267080"/>
            <a:ext cx="110232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5" name=""/>
          <p:cNvGrpSpPr/>
          <p:nvPr/>
        </p:nvGrpSpPr>
        <p:grpSpPr>
          <a:xfrm>
            <a:off x="6597720" y="3500280"/>
            <a:ext cx="569520" cy="648720"/>
            <a:chOff x="6597720" y="3500280"/>
            <a:chExt cx="569520" cy="648720"/>
          </a:xfrm>
        </p:grpSpPr>
        <p:sp>
          <p:nvSpPr>
            <p:cNvPr id="2206" name=""/>
            <p:cNvSpPr/>
            <p:nvPr/>
          </p:nvSpPr>
          <p:spPr>
            <a:xfrm>
              <a:off x="6597720" y="3500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804000" y="3571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8" name=""/>
          <p:cNvGrpSpPr/>
          <p:nvPr/>
        </p:nvGrpSpPr>
        <p:grpSpPr>
          <a:xfrm>
            <a:off x="4365360" y="5877000"/>
            <a:ext cx="705240" cy="648720"/>
            <a:chOff x="4365360" y="5877000"/>
            <a:chExt cx="705240" cy="648720"/>
          </a:xfrm>
        </p:grpSpPr>
        <p:sp>
          <p:nvSpPr>
            <p:cNvPr id="2209" name=""/>
            <p:cNvSpPr/>
            <p:nvPr/>
          </p:nvSpPr>
          <p:spPr>
            <a:xfrm>
              <a:off x="4365360" y="587700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44720" y="5948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6297480" y="4576680"/>
            <a:ext cx="522000" cy="648720"/>
            <a:chOff x="6297480" y="4576680"/>
            <a:chExt cx="522000" cy="648720"/>
          </a:xfrm>
        </p:grpSpPr>
        <p:sp>
          <p:nvSpPr>
            <p:cNvPr id="2212" name=""/>
            <p:cNvSpPr/>
            <p:nvPr/>
          </p:nvSpPr>
          <p:spPr>
            <a:xfrm>
              <a:off x="6297480" y="457668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432480" y="47293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4" name=""/>
          <p:cNvSpPr/>
          <p:nvPr/>
        </p:nvSpPr>
        <p:spPr>
          <a:xfrm flipV="1">
            <a:off x="580284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6515280" y="4270320"/>
            <a:ext cx="1081080" cy="9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H="1" flipV="1">
            <a:off x="4717800" y="5639760"/>
            <a:ext cx="1102320" cy="46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7" name=""/>
          <p:cNvGrpSpPr/>
          <p:nvPr/>
        </p:nvGrpSpPr>
        <p:grpSpPr>
          <a:xfrm>
            <a:off x="2565720" y="3641760"/>
            <a:ext cx="569520" cy="648720"/>
            <a:chOff x="2565720" y="3641760"/>
            <a:chExt cx="569520" cy="648720"/>
          </a:xfrm>
        </p:grpSpPr>
        <p:sp>
          <p:nvSpPr>
            <p:cNvPr id="2218" name=""/>
            <p:cNvSpPr/>
            <p:nvPr/>
          </p:nvSpPr>
          <p:spPr>
            <a:xfrm>
              <a:off x="256572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772000" y="3712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0" name=""/>
          <p:cNvGrpSpPr/>
          <p:nvPr/>
        </p:nvGrpSpPr>
        <p:grpSpPr>
          <a:xfrm>
            <a:off x="2565000" y="5657760"/>
            <a:ext cx="705240" cy="648720"/>
            <a:chOff x="2565000" y="5657760"/>
            <a:chExt cx="705240" cy="648720"/>
          </a:xfrm>
        </p:grpSpPr>
        <p:sp>
          <p:nvSpPr>
            <p:cNvPr id="2221" name=""/>
            <p:cNvSpPr/>
            <p:nvPr/>
          </p:nvSpPr>
          <p:spPr>
            <a:xfrm>
              <a:off x="256500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844360" y="57290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3068640" y="4505400"/>
            <a:ext cx="522000" cy="648720"/>
            <a:chOff x="3068640" y="4505400"/>
            <a:chExt cx="522000" cy="648720"/>
          </a:xfrm>
        </p:grpSpPr>
        <p:sp>
          <p:nvSpPr>
            <p:cNvPr id="2224" name=""/>
            <p:cNvSpPr/>
            <p:nvPr/>
          </p:nvSpPr>
          <p:spPr>
            <a:xfrm>
              <a:off x="3068640" y="450540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203640" y="4657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6" name=""/>
          <p:cNvSpPr/>
          <p:nvPr/>
        </p:nvSpPr>
        <p:spPr>
          <a:xfrm>
            <a:off x="1989360" y="51577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3357720" y="3857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5877000" y="5300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5877000" y="3860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361120" y="5877000"/>
            <a:ext cx="569520" cy="648720"/>
            <a:chOff x="5361120" y="5877000"/>
            <a:chExt cx="569520" cy="648720"/>
          </a:xfrm>
        </p:grpSpPr>
        <p:sp>
          <p:nvSpPr>
            <p:cNvPr id="2231" name=""/>
            <p:cNvSpPr/>
            <p:nvPr/>
          </p:nvSpPr>
          <p:spPr>
            <a:xfrm>
              <a:off x="5361120" y="587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567400" y="594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7457760" y="3500280"/>
            <a:ext cx="705240" cy="648720"/>
            <a:chOff x="7457760" y="3500280"/>
            <a:chExt cx="705240" cy="648720"/>
          </a:xfrm>
        </p:grpSpPr>
        <p:sp>
          <p:nvSpPr>
            <p:cNvPr id="2234" name=""/>
            <p:cNvSpPr/>
            <p:nvPr/>
          </p:nvSpPr>
          <p:spPr>
            <a:xfrm>
              <a:off x="7457760" y="350028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737120" y="3571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6" name=""/>
          <p:cNvSpPr/>
          <p:nvPr/>
        </p:nvSpPr>
        <p:spPr>
          <a:xfrm>
            <a:off x="7110720" y="357336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5005440" y="5877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"/>
          <p:cNvSpPr/>
          <p:nvPr/>
        </p:nvSpPr>
        <p:spPr>
          <a:xfrm>
            <a:off x="468360" y="260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pregova va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9" name=""/>
              <p:cNvSpPr txBox="1"/>
              <p:nvPr/>
            </p:nvSpPr>
            <p:spPr>
              <a:xfrm>
                <a:off x="252360" y="982800"/>
                <a:ext cx="80899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0" name=""/>
          <p:cNvSpPr/>
          <p:nvPr/>
        </p:nvSpPr>
        <p:spPr>
          <a:xfrm>
            <a:off x="468360" y="242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- ako su svi  spregovi u jednoj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250920" y="3141720"/>
            <a:ext cx="8893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U ravnoteži mogu bi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2 kolinearna vektora momenta sp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3 komplanarna (ne kolinearna) vektora momenta sp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4 ne komplana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2" name=""/>
          <p:cNvGrpSpPr/>
          <p:nvPr/>
        </p:nvGrpSpPr>
        <p:grpSpPr>
          <a:xfrm>
            <a:off x="950400" y="4201560"/>
            <a:ext cx="2778840" cy="234720"/>
            <a:chOff x="950400" y="4201560"/>
            <a:chExt cx="2778840" cy="234720"/>
          </a:xfrm>
        </p:grpSpPr>
        <p:sp>
          <p:nvSpPr>
            <p:cNvPr id="2243" name=""/>
            <p:cNvSpPr/>
            <p:nvPr/>
          </p:nvSpPr>
          <p:spPr>
            <a:xfrm flipV="1">
              <a:off x="950400" y="4268880"/>
              <a:ext cx="2778840" cy="63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1290960" y="4205160"/>
              <a:ext cx="318240" cy="1231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320480" y="4329720"/>
              <a:ext cx="301320" cy="106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958680" y="4201560"/>
              <a:ext cx="318600" cy="1227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987120" y="4326120"/>
              <a:ext cx="301680" cy="1069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4572000" y="4116960"/>
            <a:ext cx="2779560" cy="237600"/>
            <a:chOff x="4572000" y="4116960"/>
            <a:chExt cx="2779560" cy="237600"/>
          </a:xfrm>
        </p:grpSpPr>
        <p:sp>
          <p:nvSpPr>
            <p:cNvPr id="2249" name=""/>
            <p:cNvSpPr/>
            <p:nvPr/>
          </p:nvSpPr>
          <p:spPr>
            <a:xfrm flipH="1">
              <a:off x="4572000" y="4226040"/>
              <a:ext cx="2779560" cy="421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691680" y="4227840"/>
              <a:ext cx="318960" cy="120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6680880" y="4116960"/>
              <a:ext cx="300240" cy="10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7023600" y="4233960"/>
              <a:ext cx="319320" cy="1206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 flipV="1">
              <a:off x="7013880" y="4123080"/>
              <a:ext cx="300600" cy="10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4937040" y="5186160"/>
            <a:ext cx="2797560" cy="1560240"/>
            <a:chOff x="4937040" y="5186160"/>
            <a:chExt cx="2797560" cy="1560240"/>
          </a:xfrm>
        </p:grpSpPr>
        <p:grpSp>
          <p:nvGrpSpPr>
            <p:cNvPr id="2255" name=""/>
            <p:cNvGrpSpPr/>
            <p:nvPr/>
          </p:nvGrpSpPr>
          <p:grpSpPr>
            <a:xfrm>
              <a:off x="5336640" y="5296680"/>
              <a:ext cx="2392200" cy="1416240"/>
              <a:chOff x="5336640" y="5296680"/>
              <a:chExt cx="2392200" cy="1416240"/>
            </a:xfrm>
          </p:grpSpPr>
          <p:sp>
            <p:nvSpPr>
              <p:cNvPr id="2256" name=""/>
              <p:cNvSpPr/>
              <p:nvPr/>
            </p:nvSpPr>
            <p:spPr>
              <a:xfrm flipV="1">
                <a:off x="5336640" y="5296680"/>
                <a:ext cx="2392200" cy="14162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>
                <a:off x="5631480" y="6279120"/>
                <a:ext cx="217440" cy="263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5658120" y="6474600"/>
                <a:ext cx="315000" cy="543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H="1">
                <a:off x="5340240" y="6438600"/>
                <a:ext cx="217440" cy="263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V="1">
                <a:off x="5365800" y="6634800"/>
                <a:ext cx="315360" cy="543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4956120" y="5186160"/>
              <a:ext cx="2778480" cy="232200"/>
              <a:chOff x="4956120" y="5186160"/>
              <a:chExt cx="2778480" cy="232200"/>
            </a:xfrm>
          </p:grpSpPr>
          <p:sp>
            <p:nvSpPr>
              <p:cNvPr id="2262" name=""/>
              <p:cNvSpPr/>
              <p:nvPr/>
            </p:nvSpPr>
            <p:spPr>
              <a:xfrm flipH="1">
                <a:off x="4956120" y="5284800"/>
                <a:ext cx="2778480" cy="853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7076880" y="5292000"/>
                <a:ext cx="317160" cy="125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 flipV="1">
                <a:off x="7062480" y="5186160"/>
                <a:ext cx="302040" cy="1044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V="1">
                <a:off x="7408800" y="5293080"/>
                <a:ext cx="317520" cy="125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 flipV="1">
                <a:off x="7395480" y="5186880"/>
                <a:ext cx="302400" cy="1047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4937040" y="5359320"/>
              <a:ext cx="415080" cy="1387080"/>
              <a:chOff x="4937040" y="5359320"/>
              <a:chExt cx="415080" cy="1387080"/>
            </a:xfrm>
          </p:grpSpPr>
          <p:sp>
            <p:nvSpPr>
              <p:cNvPr id="2268" name=""/>
              <p:cNvSpPr/>
              <p:nvPr/>
            </p:nvSpPr>
            <p:spPr>
              <a:xfrm>
                <a:off x="4941000" y="5359320"/>
                <a:ext cx="411120" cy="1387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H="1" flipV="1">
                <a:off x="5037120" y="5689440"/>
                <a:ext cx="204840" cy="272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>
                <a:off x="5024520" y="5717880"/>
                <a:ext cx="19440" cy="318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H="1" flipV="1">
                <a:off x="4949280" y="5368680"/>
                <a:ext cx="205200" cy="2725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H="1">
                <a:off x="4937040" y="5396400"/>
                <a:ext cx="19080" cy="3189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3" name=""/>
          <p:cNvGrpSpPr/>
          <p:nvPr/>
        </p:nvGrpSpPr>
        <p:grpSpPr>
          <a:xfrm>
            <a:off x="4859280" y="836640"/>
            <a:ext cx="2622600" cy="2319480"/>
            <a:chOff x="4859280" y="836640"/>
            <a:chExt cx="2622600" cy="2319480"/>
          </a:xfrm>
        </p:grpSpPr>
        <p:sp>
          <p:nvSpPr>
            <p:cNvPr id="2274" name=""/>
            <p:cNvSpPr/>
            <p:nvPr/>
          </p:nvSpPr>
          <p:spPr>
            <a:xfrm>
              <a:off x="5119560" y="1270080"/>
              <a:ext cx="236232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4859280" y="836640"/>
              <a:ext cx="237672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H="1">
              <a:off x="5435640" y="1484280"/>
              <a:ext cx="1008000" cy="865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7" name=""/>
            <p:cNvGraphicFramePr/>
            <p:nvPr/>
          </p:nvGraphicFramePr>
          <p:xfrm>
            <a:off x="6372360" y="1413000"/>
            <a:ext cx="133200" cy="12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72360" y="1413000"/>
                      <a:ext cx="13320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279" name=""/>
            <p:cNvGrpSpPr/>
            <p:nvPr/>
          </p:nvGrpSpPr>
          <p:grpSpPr>
            <a:xfrm>
              <a:off x="5294520" y="1628640"/>
              <a:ext cx="452160" cy="581400"/>
              <a:chOff x="5294520" y="1628640"/>
              <a:chExt cx="452160" cy="581400"/>
            </a:xfrm>
          </p:grpSpPr>
          <p:sp>
            <p:nvSpPr>
              <p:cNvPr id="2280" name=""/>
              <p:cNvSpPr/>
              <p:nvPr/>
            </p:nvSpPr>
            <p:spPr>
              <a:xfrm>
                <a:off x="5294520" y="162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508720" y="169992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2" name=""/>
            <p:cNvSpPr/>
            <p:nvPr/>
          </p:nvSpPr>
          <p:spPr>
            <a:xfrm>
              <a:off x="6086160" y="1052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3" name=""/>
          <p:cNvSpPr/>
          <p:nvPr/>
        </p:nvSpPr>
        <p:spPr>
          <a:xfrm>
            <a:off x="468360" y="138600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H="1">
            <a:off x="395280" y="1125360"/>
            <a:ext cx="2160720" cy="18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826920" y="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EDUKCIJA SILE NA TAČ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5506920" y="1484280"/>
            <a:ext cx="288144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940360" y="2708280"/>
            <a:ext cx="100800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8" name=""/>
          <p:cNvGraphicFramePr/>
          <p:nvPr/>
        </p:nvGraphicFramePr>
        <p:xfrm>
          <a:off x="6877080" y="263520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26352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0" name=""/>
          <p:cNvSpPr/>
          <p:nvPr/>
        </p:nvSpPr>
        <p:spPr>
          <a:xfrm flipV="1">
            <a:off x="6948360" y="1844280"/>
            <a:ext cx="100836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1" name=""/>
          <p:cNvGraphicFramePr/>
          <p:nvPr/>
        </p:nvGraphicFramePr>
        <p:xfrm>
          <a:off x="6877080" y="263700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263700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3" name=""/>
          <p:cNvGrpSpPr/>
          <p:nvPr/>
        </p:nvGrpSpPr>
        <p:grpSpPr>
          <a:xfrm>
            <a:off x="6157800" y="3284640"/>
            <a:ext cx="452160" cy="581400"/>
            <a:chOff x="6157800" y="3284640"/>
            <a:chExt cx="452160" cy="581400"/>
          </a:xfrm>
        </p:grpSpPr>
        <p:sp>
          <p:nvSpPr>
            <p:cNvPr id="2294" name=""/>
            <p:cNvSpPr/>
            <p:nvPr/>
          </p:nvSpPr>
          <p:spPr>
            <a:xfrm>
              <a:off x="6157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372360" y="3355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6" name=""/>
          <p:cNvSpPr/>
          <p:nvPr/>
        </p:nvSpPr>
        <p:spPr>
          <a:xfrm flipH="1">
            <a:off x="971640" y="1628640"/>
            <a:ext cx="1008000" cy="8636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7" name=""/>
          <p:cNvGraphicFramePr/>
          <p:nvPr/>
        </p:nvGraphicFramePr>
        <p:xfrm>
          <a:off x="1908000" y="155736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1557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9" name=""/>
          <p:cNvGrpSpPr/>
          <p:nvPr/>
        </p:nvGrpSpPr>
        <p:grpSpPr>
          <a:xfrm>
            <a:off x="1093680" y="1557360"/>
            <a:ext cx="452160" cy="581400"/>
            <a:chOff x="1093680" y="1557360"/>
            <a:chExt cx="452160" cy="581400"/>
          </a:xfrm>
        </p:grpSpPr>
        <p:sp>
          <p:nvSpPr>
            <p:cNvPr id="2300" name=""/>
            <p:cNvSpPr/>
            <p:nvPr/>
          </p:nvSpPr>
          <p:spPr>
            <a:xfrm>
              <a:off x="1093680" y="1557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307880" y="162828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2" name=""/>
          <p:cNvSpPr/>
          <p:nvPr/>
        </p:nvSpPr>
        <p:spPr>
          <a:xfrm>
            <a:off x="1980720" y="134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3" name=""/>
          <p:cNvGrpSpPr/>
          <p:nvPr/>
        </p:nvGrpSpPr>
        <p:grpSpPr>
          <a:xfrm>
            <a:off x="3851280" y="2033640"/>
            <a:ext cx="433440" cy="144360"/>
            <a:chOff x="3851280" y="2033640"/>
            <a:chExt cx="433440" cy="144360"/>
          </a:xfrm>
        </p:grpSpPr>
        <p:sp>
          <p:nvSpPr>
            <p:cNvPr id="2304" name=""/>
            <p:cNvSpPr/>
            <p:nvPr/>
          </p:nvSpPr>
          <p:spPr>
            <a:xfrm>
              <a:off x="3851280" y="2033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851280" y="2106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851280" y="2178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7" name=""/>
          <p:cNvSpPr/>
          <p:nvPr/>
        </p:nvSpPr>
        <p:spPr>
          <a:xfrm>
            <a:off x="3709080" y="141300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7670520" y="1844640"/>
            <a:ext cx="587520" cy="581400"/>
            <a:chOff x="7670520" y="1844640"/>
            <a:chExt cx="587520" cy="581400"/>
          </a:xfrm>
        </p:grpSpPr>
        <p:sp>
          <p:nvSpPr>
            <p:cNvPr id="2309" name=""/>
            <p:cNvSpPr/>
            <p:nvPr/>
          </p:nvSpPr>
          <p:spPr>
            <a:xfrm>
              <a:off x="7670520" y="18446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029440" y="191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1" name=""/>
          <p:cNvSpPr/>
          <p:nvPr/>
        </p:nvSpPr>
        <p:spPr>
          <a:xfrm flipH="1" flipV="1">
            <a:off x="6454800" y="1488240"/>
            <a:ext cx="483840" cy="12092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2" name=""/>
          <p:cNvGrpSpPr/>
          <p:nvPr/>
        </p:nvGrpSpPr>
        <p:grpSpPr>
          <a:xfrm>
            <a:off x="6661440" y="1628640"/>
            <a:ext cx="358560" cy="581400"/>
            <a:chOff x="6661440" y="1628640"/>
            <a:chExt cx="358560" cy="581400"/>
          </a:xfrm>
        </p:grpSpPr>
        <p:sp>
          <p:nvSpPr>
            <p:cNvPr id="2313" name=""/>
            <p:cNvSpPr/>
            <p:nvPr/>
          </p:nvSpPr>
          <p:spPr>
            <a:xfrm>
              <a:off x="6661440" y="162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804000" y="177336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5" name=""/>
          <p:cNvSpPr/>
          <p:nvPr/>
        </p:nvSpPr>
        <p:spPr>
          <a:xfrm>
            <a:off x="644688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905040" y="3813120"/>
                <a:ext cx="368136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5840280" y="407844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 flipH="1">
            <a:off x="6372000" y="4365720"/>
            <a:ext cx="277164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9" name=""/>
          <p:cNvGraphicFramePr/>
          <p:nvPr/>
        </p:nvGraphicFramePr>
        <p:xfrm>
          <a:off x="7524720" y="5516640"/>
          <a:ext cx="133560" cy="12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24720" y="551664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1" name=""/>
          <p:cNvGrpSpPr/>
          <p:nvPr/>
        </p:nvGrpSpPr>
        <p:grpSpPr>
          <a:xfrm>
            <a:off x="6013440" y="5877000"/>
            <a:ext cx="452160" cy="581400"/>
            <a:chOff x="6013440" y="5877000"/>
            <a:chExt cx="452160" cy="581400"/>
          </a:xfrm>
        </p:grpSpPr>
        <p:sp>
          <p:nvSpPr>
            <p:cNvPr id="2322" name=""/>
            <p:cNvSpPr/>
            <p:nvPr/>
          </p:nvSpPr>
          <p:spPr>
            <a:xfrm>
              <a:off x="6013440" y="587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27640" y="5948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4" name=""/>
          <p:cNvSpPr/>
          <p:nvPr/>
        </p:nvSpPr>
        <p:spPr>
          <a:xfrm flipH="1">
            <a:off x="5580000" y="3645000"/>
            <a:ext cx="237672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5" name=""/>
          <p:cNvGraphicFramePr/>
          <p:nvPr/>
        </p:nvGraphicFramePr>
        <p:xfrm>
          <a:off x="7201080" y="4176720"/>
          <a:ext cx="133200" cy="13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01080" y="41767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7" name=""/>
          <p:cNvGrpSpPr/>
          <p:nvPr/>
        </p:nvGrpSpPr>
        <p:grpSpPr>
          <a:xfrm>
            <a:off x="6015240" y="4437000"/>
            <a:ext cx="452160" cy="581400"/>
            <a:chOff x="6015240" y="4437000"/>
            <a:chExt cx="452160" cy="581400"/>
          </a:xfrm>
        </p:grpSpPr>
        <p:sp>
          <p:nvSpPr>
            <p:cNvPr id="2328" name=""/>
            <p:cNvSpPr/>
            <p:nvPr/>
          </p:nvSpPr>
          <p:spPr>
            <a:xfrm>
              <a:off x="6015240" y="443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229440" y="4508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0" name=""/>
          <p:cNvSpPr/>
          <p:nvPr/>
        </p:nvSpPr>
        <p:spPr>
          <a:xfrm>
            <a:off x="7021080" y="3645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7526520" y="486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6300720" y="4276800"/>
            <a:ext cx="935280" cy="73656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5477400" y="4969440"/>
            <a:ext cx="2128320" cy="591120"/>
            <a:chOff x="5477400" y="4969440"/>
            <a:chExt cx="2128320" cy="591120"/>
          </a:xfrm>
        </p:grpSpPr>
        <p:sp>
          <p:nvSpPr>
            <p:cNvPr id="2334" name=""/>
            <p:cNvSpPr/>
            <p:nvPr/>
          </p:nvSpPr>
          <p:spPr>
            <a:xfrm>
              <a:off x="5526720" y="5023080"/>
              <a:ext cx="2079000" cy="5374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>
              <a:off x="5694480" y="5033520"/>
              <a:ext cx="248760" cy="52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722920" y="5090400"/>
              <a:ext cx="195120" cy="15912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>
              <a:off x="5477400" y="4969440"/>
              <a:ext cx="248040" cy="52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501520" y="5025240"/>
              <a:ext cx="196560" cy="1594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55760" y="4508640"/>
            <a:ext cx="854280" cy="581400"/>
            <a:chOff x="4955760" y="4508640"/>
            <a:chExt cx="854280" cy="581400"/>
          </a:xfrm>
        </p:grpSpPr>
        <p:sp>
          <p:nvSpPr>
            <p:cNvPr id="2340" name=""/>
            <p:cNvSpPr/>
            <p:nvPr/>
          </p:nvSpPr>
          <p:spPr>
            <a:xfrm>
              <a:off x="4955760" y="4508640"/>
              <a:ext cx="85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30000">
                  <a:solidFill>
                    <a:srgbClr val="660066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148000" y="457992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0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20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2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3" dur="2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20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20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2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20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20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10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5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20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2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5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54335E-006 L 0.03924 0.18867 E">
                                      <p:cBhvr>
                                        <p:cTn id="1509" dur="2000" fill="hold"/>
                                        <p:tgtEl>
                                          <p:spTgt spid="2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20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1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15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6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7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18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1" dur="10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20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2" name=""/>
          <p:cNvGrpSpPr/>
          <p:nvPr/>
        </p:nvGrpSpPr>
        <p:grpSpPr>
          <a:xfrm>
            <a:off x="0" y="476280"/>
            <a:ext cx="9144000" cy="7407720"/>
            <a:chOff x="0" y="476280"/>
            <a:chExt cx="9144000" cy="7407720"/>
          </a:xfrm>
        </p:grpSpPr>
        <p:sp>
          <p:nvSpPr>
            <p:cNvPr id="2343" name=""/>
            <p:cNvSpPr/>
            <p:nvPr/>
          </p:nvSpPr>
          <p:spPr>
            <a:xfrm>
              <a:off x="0" y="476280"/>
              <a:ext cx="9144000" cy="74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Mehanički uticaj sile </a:t>
              </a:r>
              <a:r>
                <a:rPr b="1" i="1" lang="sr-Latn-CS" sz="40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na kruto telo, duž njene napadne linije u tački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, može se mehanički ekvivalentno zameniti silom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čija je napadna linija premeštena u tačku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i spregom sila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U poslednjem slučaju kaže se da je 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izvršena redukcija sil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na tačku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859280" y="549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820000" y="1773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1908000" y="549360"/>
            <a:ext cx="4969080" cy="4895640"/>
            <a:chOff x="1908000" y="549360"/>
            <a:chExt cx="4969080" cy="4895640"/>
          </a:xfrm>
        </p:grpSpPr>
        <p:sp>
          <p:nvSpPr>
            <p:cNvPr id="2347" name=""/>
            <p:cNvSpPr/>
            <p:nvPr/>
          </p:nvSpPr>
          <p:spPr>
            <a:xfrm>
              <a:off x="4859280" y="549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796000" y="54450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9" name=""/>
                <p:cNvSpPr txBox="1"/>
                <p:nvPr/>
              </p:nvSpPr>
              <p:spPr>
                <a:xfrm>
                  <a:off x="1908000" y="3606840"/>
                  <a:ext cx="49690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P</m:t>
                      </m:r>
                      <m:r>
                        <m:t xml:space="preserve">×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350" name=""/>
            <p:cNvSpPr/>
            <p:nvPr/>
          </p:nvSpPr>
          <p:spPr>
            <a:xfrm>
              <a:off x="5003640" y="3933720"/>
              <a:ext cx="50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1" name=""/>
          <p:cNvGrpSpPr/>
          <p:nvPr/>
        </p:nvGrpSpPr>
        <p:grpSpPr>
          <a:xfrm>
            <a:off x="0" y="1368360"/>
            <a:ext cx="9144000" cy="3141360"/>
            <a:chOff x="0" y="1368360"/>
            <a:chExt cx="9144000" cy="3141360"/>
          </a:xfrm>
        </p:grpSpPr>
        <p:sp>
          <p:nvSpPr>
            <p:cNvPr id="2352" name=""/>
            <p:cNvSpPr/>
            <p:nvPr/>
          </p:nvSpPr>
          <p:spPr>
            <a:xfrm>
              <a:off x="0" y="1368360"/>
              <a:ext cx="9144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Pri redukciji se dobija redukcioni moment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sr-Latn-CS" sz="4000" spc="-1" strike="noStrike" baseline="30000">
                  <a:solidFill>
                    <a:srgbClr val="ff0000"/>
                  </a:solidFill>
                  <a:latin typeface="Times New Roman"/>
                </a:rPr>
                <a:t>(A)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il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za t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čku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. Za razliku od sprega sila, 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redukcioni moment nije slobodan vektor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, i vezan je za redukcionu tačku.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932360" y="2089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916360" y="20890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"/>
          <p:cNvSpPr/>
          <p:nvPr/>
        </p:nvSpPr>
        <p:spPr>
          <a:xfrm>
            <a:off x="0" y="1341360"/>
            <a:ext cx="3995640" cy="39592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V="1">
            <a:off x="-1260360" y="1700280"/>
            <a:ext cx="511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-900000" y="3213000"/>
            <a:ext cx="511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 flipV="1">
            <a:off x="252360" y="4147920"/>
            <a:ext cx="46087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9" name=""/>
          <p:cNvGrpSpPr/>
          <p:nvPr/>
        </p:nvGrpSpPr>
        <p:grpSpPr>
          <a:xfrm>
            <a:off x="0" y="0"/>
            <a:ext cx="9144000" cy="1312920"/>
            <a:chOff x="0" y="0"/>
            <a:chExt cx="9144000" cy="1312920"/>
          </a:xfrm>
        </p:grpSpPr>
        <p:sp>
          <p:nvSpPr>
            <p:cNvPr id="2360" name=""/>
            <p:cNvSpPr/>
            <p:nvPr/>
          </p:nvSpPr>
          <p:spPr>
            <a:xfrm>
              <a:off x="0" y="0"/>
              <a:ext cx="9144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Zavisnost redukcionog momenta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sr-Latn-CS" sz="4000" spc="-1" strike="noStrike" baseline="30000">
                  <a:solidFill>
                    <a:srgbClr val="ff0000"/>
                  </a:solidFill>
                  <a:latin typeface="Times New Roman"/>
                </a:rPr>
                <a:t>(A)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od izbora tačk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. 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451640" y="730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1487160" y="1583280"/>
            <a:ext cx="577080" cy="672120"/>
            <a:chOff x="1487160" y="1583280"/>
            <a:chExt cx="577080" cy="672120"/>
          </a:xfrm>
        </p:grpSpPr>
        <p:sp>
          <p:nvSpPr>
            <p:cNvPr id="2363" name=""/>
            <p:cNvSpPr/>
            <p:nvPr/>
          </p:nvSpPr>
          <p:spPr>
            <a:xfrm rot="20776800">
              <a:off x="1549440" y="1628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V="1">
              <a:off x="1712160" y="165780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5" name=""/>
          <p:cNvGrpSpPr/>
          <p:nvPr/>
        </p:nvGrpSpPr>
        <p:grpSpPr>
          <a:xfrm>
            <a:off x="1632960" y="3078720"/>
            <a:ext cx="708840" cy="704160"/>
            <a:chOff x="1632960" y="3078720"/>
            <a:chExt cx="708840" cy="704160"/>
          </a:xfrm>
        </p:grpSpPr>
        <p:sp>
          <p:nvSpPr>
            <p:cNvPr id="2366" name=""/>
            <p:cNvSpPr/>
            <p:nvPr/>
          </p:nvSpPr>
          <p:spPr>
            <a:xfrm rot="20776800">
              <a:off x="1693440" y="3139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1929600" y="3167640"/>
              <a:ext cx="209520" cy="51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8" name=""/>
          <p:cNvSpPr/>
          <p:nvPr/>
        </p:nvSpPr>
        <p:spPr>
          <a:xfrm flipV="1">
            <a:off x="2581200" y="4422240"/>
            <a:ext cx="1189440" cy="290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227160" y="3885480"/>
            <a:ext cx="1188720" cy="290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>
            <a:off x="1133640" y="2059920"/>
            <a:ext cx="118872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1417320" y="3594960"/>
            <a:ext cx="118944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405800" y="3910680"/>
            <a:ext cx="1176840" cy="82332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 flipV="1">
            <a:off x="2328480" y="2068200"/>
            <a:ext cx="237600" cy="267552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1418040" y="2082240"/>
            <a:ext cx="913680" cy="1814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5" name=""/>
          <p:cNvGrpSpPr/>
          <p:nvPr/>
        </p:nvGrpSpPr>
        <p:grpSpPr>
          <a:xfrm>
            <a:off x="479160" y="3383640"/>
            <a:ext cx="577080" cy="672120"/>
            <a:chOff x="479160" y="3383640"/>
            <a:chExt cx="577080" cy="672120"/>
          </a:xfrm>
        </p:grpSpPr>
        <p:sp>
          <p:nvSpPr>
            <p:cNvPr id="2376" name=""/>
            <p:cNvSpPr/>
            <p:nvPr/>
          </p:nvSpPr>
          <p:spPr>
            <a:xfrm rot="20776800">
              <a:off x="54144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704160" y="3458160"/>
              <a:ext cx="209880" cy="511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8" name=""/>
          <p:cNvGrpSpPr/>
          <p:nvPr/>
        </p:nvGrpSpPr>
        <p:grpSpPr>
          <a:xfrm>
            <a:off x="2850480" y="3910680"/>
            <a:ext cx="708840" cy="704160"/>
            <a:chOff x="2850480" y="3910680"/>
            <a:chExt cx="708840" cy="704160"/>
          </a:xfrm>
        </p:grpSpPr>
        <p:sp>
          <p:nvSpPr>
            <p:cNvPr id="2379" name=""/>
            <p:cNvSpPr/>
            <p:nvPr/>
          </p:nvSpPr>
          <p:spPr>
            <a:xfrm rot="20776800">
              <a:off x="2910960" y="39718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3147120" y="3999600"/>
              <a:ext cx="209520" cy="5148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2357280" y="2503440"/>
            <a:ext cx="597240" cy="738720"/>
            <a:chOff x="2357280" y="2503440"/>
            <a:chExt cx="597240" cy="738720"/>
          </a:xfrm>
        </p:grpSpPr>
        <p:sp>
          <p:nvSpPr>
            <p:cNvPr id="2382" name=""/>
            <p:cNvSpPr/>
            <p:nvPr/>
          </p:nvSpPr>
          <p:spPr>
            <a:xfrm rot="20776800">
              <a:off x="2427480" y="25480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V="1">
              <a:off x="2524680" y="2670480"/>
              <a:ext cx="209880" cy="5112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4" name=""/>
          <p:cNvGrpSpPr/>
          <p:nvPr/>
        </p:nvGrpSpPr>
        <p:grpSpPr>
          <a:xfrm>
            <a:off x="1486080" y="2534400"/>
            <a:ext cx="467280" cy="645120"/>
            <a:chOff x="1486080" y="2534400"/>
            <a:chExt cx="467280" cy="645120"/>
          </a:xfrm>
        </p:grpSpPr>
        <p:sp>
          <p:nvSpPr>
            <p:cNvPr id="2385" name=""/>
            <p:cNvSpPr/>
            <p:nvPr/>
          </p:nvSpPr>
          <p:spPr>
            <a:xfrm rot="20776800">
              <a:off x="1550160" y="2566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V="1">
              <a:off x="1660680" y="267084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1846080" y="3823200"/>
            <a:ext cx="511920" cy="656280"/>
            <a:chOff x="1846080" y="3823200"/>
            <a:chExt cx="511920" cy="656280"/>
          </a:xfrm>
        </p:grpSpPr>
        <p:sp>
          <p:nvSpPr>
            <p:cNvPr id="2388" name=""/>
            <p:cNvSpPr/>
            <p:nvPr/>
          </p:nvSpPr>
          <p:spPr>
            <a:xfrm rot="20776800">
              <a:off x="1909440" y="38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2055600" y="397944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0" name=""/>
          <p:cNvSpPr/>
          <p:nvPr/>
        </p:nvSpPr>
        <p:spPr>
          <a:xfrm flipH="1">
            <a:off x="1349640" y="4723920"/>
            <a:ext cx="118872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1" name=""/>
          <p:cNvGrpSpPr/>
          <p:nvPr/>
        </p:nvGrpSpPr>
        <p:grpSpPr>
          <a:xfrm>
            <a:off x="1271160" y="4318560"/>
            <a:ext cx="577080" cy="672120"/>
            <a:chOff x="1271160" y="4318560"/>
            <a:chExt cx="577080" cy="672120"/>
          </a:xfrm>
        </p:grpSpPr>
        <p:sp>
          <p:nvSpPr>
            <p:cNvPr id="2392" name=""/>
            <p:cNvSpPr/>
            <p:nvPr/>
          </p:nvSpPr>
          <p:spPr>
            <a:xfrm rot="20776800">
              <a:off x="1333440" y="4363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1496160" y="439308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4" name=""/>
          <p:cNvSpPr/>
          <p:nvPr/>
        </p:nvSpPr>
        <p:spPr>
          <a:xfrm>
            <a:off x="1046160" y="33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349720" y="4581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269800" y="155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"/>
          <p:cNvGrpSpPr/>
          <p:nvPr/>
        </p:nvGrpSpPr>
        <p:grpSpPr>
          <a:xfrm>
            <a:off x="4356000" y="981000"/>
            <a:ext cx="4787640" cy="3095280"/>
            <a:chOff x="4356000" y="981000"/>
            <a:chExt cx="4787640" cy="3095280"/>
          </a:xfrm>
        </p:grpSpPr>
        <mc:AlternateContent>
          <mc:Choice xmlns:a14="http://schemas.microsoft.com/office/drawing/2010/main" Requires="a14">
            <p:sp>
              <p:nvSpPr>
                <p:cNvPr id="2398" name=""/>
                <p:cNvSpPr txBox="1"/>
                <p:nvPr/>
              </p:nvSpPr>
              <p:spPr>
                <a:xfrm>
                  <a:off x="4356000" y="981000"/>
                  <a:ext cx="4787640" cy="30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P</m:t>
                          </m:r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99" name=""/>
            <p:cNvSpPr/>
            <p:nvPr/>
          </p:nvSpPr>
          <p:spPr>
            <a:xfrm>
              <a:off x="7347960" y="1116360"/>
              <a:ext cx="37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0" name=""/>
          <p:cNvGrpSpPr/>
          <p:nvPr/>
        </p:nvGrpSpPr>
        <p:grpSpPr>
          <a:xfrm>
            <a:off x="3780000" y="4581360"/>
            <a:ext cx="5364000" cy="1922400"/>
            <a:chOff x="3780000" y="4581360"/>
            <a:chExt cx="5364000" cy="1922400"/>
          </a:xfrm>
        </p:grpSpPr>
        <mc:AlternateContent>
          <mc:Choice xmlns:a14="http://schemas.microsoft.com/office/drawing/2010/main" Requires="a14">
            <p:sp>
              <p:nvSpPr>
                <p:cNvPr id="2401" name=""/>
                <p:cNvSpPr txBox="1"/>
                <p:nvPr/>
              </p:nvSpPr>
              <p:spPr>
                <a:xfrm>
                  <a:off x="4788000" y="4581360"/>
                  <a:ext cx="1582560" cy="70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↑</m:t>
                      </m:r>
                      <m:r>
                        <m:t xml:space="preserve">↑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2" name=""/>
                <p:cNvSpPr txBox="1"/>
                <p:nvPr/>
              </p:nvSpPr>
              <p:spPr>
                <a:xfrm>
                  <a:off x="6156360" y="5745240"/>
                  <a:ext cx="298764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403" name=""/>
            <p:cNvSpPr/>
            <p:nvPr/>
          </p:nvSpPr>
          <p:spPr>
            <a:xfrm>
              <a:off x="3780000" y="4581360"/>
              <a:ext cx="500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Z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važi za sve momente jednakos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/>
          <p:nvPr/>
        </p:nvSpPr>
        <p:spPr>
          <a:xfrm>
            <a:off x="0" y="2174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Redukcioni moment je slobodan vektor,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duž prave paralelne sa napadnom linijom sile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Svakoj pravoj paralelnoj sa silom 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odgovara po jedan vektor redukcionog momenta sile. 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684360" y="3500280"/>
            <a:ext cx="3274920" cy="30243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 flipV="1">
            <a:off x="216000" y="5371920"/>
            <a:ext cx="4608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1990440" y="3744000"/>
            <a:ext cx="577080" cy="672120"/>
            <a:chOff x="1990440" y="3744000"/>
            <a:chExt cx="577080" cy="672120"/>
          </a:xfrm>
        </p:grpSpPr>
        <p:sp>
          <p:nvSpPr>
            <p:cNvPr id="2408" name=""/>
            <p:cNvSpPr/>
            <p:nvPr/>
          </p:nvSpPr>
          <p:spPr>
            <a:xfrm rot="20776800">
              <a:off x="2052720" y="3789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2215440" y="381852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0" name=""/>
          <p:cNvSpPr/>
          <p:nvPr/>
        </p:nvSpPr>
        <p:spPr>
          <a:xfrm flipV="1">
            <a:off x="1954440" y="5665680"/>
            <a:ext cx="1679400" cy="424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1" name=""/>
          <p:cNvGrpSpPr/>
          <p:nvPr/>
        </p:nvGrpSpPr>
        <p:grpSpPr>
          <a:xfrm>
            <a:off x="2494080" y="5336280"/>
            <a:ext cx="511920" cy="656280"/>
            <a:chOff x="2494080" y="5336280"/>
            <a:chExt cx="511920" cy="656280"/>
          </a:xfrm>
        </p:grpSpPr>
        <p:sp>
          <p:nvSpPr>
            <p:cNvPr id="2412" name=""/>
            <p:cNvSpPr/>
            <p:nvPr/>
          </p:nvSpPr>
          <p:spPr>
            <a:xfrm rot="20776800">
              <a:off x="2557440" y="537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V="1">
              <a:off x="2703600" y="549252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4" name=""/>
          <p:cNvSpPr/>
          <p:nvPr/>
        </p:nvSpPr>
        <p:spPr>
          <a:xfrm>
            <a:off x="1549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3357720" y="5084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V="1">
            <a:off x="-396720" y="3860640"/>
            <a:ext cx="4608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4716360" y="4508640"/>
            <a:ext cx="1008000" cy="431640"/>
          </a:xfrm>
          <a:prstGeom prst="leftRightArrow">
            <a:avLst>
              <a:gd name="adj1" fmla="val 50000"/>
              <a:gd name="adj2" fmla="val 46489"/>
            </a:avLst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012000" y="3933720"/>
                <a:ext cx="302400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↑</m:t>
                        </m:r>
                        <m:r>
                          <m:t xml:space="preserve">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9" name=""/>
          <p:cNvSpPr/>
          <p:nvPr/>
        </p:nvSpPr>
        <p:spPr>
          <a:xfrm flipH="1">
            <a:off x="1638000" y="4222080"/>
            <a:ext cx="1189440" cy="28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2340000" y="2133720"/>
            <a:ext cx="21600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4000" y="2049480"/>
                <a:ext cx="765936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6265800" y="2205000"/>
                <a:ext cx="287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116000" y="5516640"/>
                <a:ext cx="56278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50920" y="3778200"/>
                <a:ext cx="860400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240840" y="189000"/>
            <a:ext cx="895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sećanje na razlaganje sile na pravce usvoje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ordinatnih osa na primeru jedne 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mponenat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2843280" y="1125360"/>
                <a:ext cx="6001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"/>
          <p:cNvSpPr/>
          <p:nvPr/>
        </p:nvSpPr>
        <p:spPr>
          <a:xfrm>
            <a:off x="0" y="217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Statički moment sile = Redukcionom momentu s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1225440" y="2924280"/>
            <a:ext cx="327528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3" name=""/>
          <p:cNvGrpSpPr/>
          <p:nvPr/>
        </p:nvGrpSpPr>
        <p:grpSpPr>
          <a:xfrm>
            <a:off x="3215880" y="3454920"/>
            <a:ext cx="577080" cy="672120"/>
            <a:chOff x="3215880" y="3454920"/>
            <a:chExt cx="577080" cy="672120"/>
          </a:xfrm>
        </p:grpSpPr>
        <p:sp>
          <p:nvSpPr>
            <p:cNvPr id="2424" name=""/>
            <p:cNvSpPr/>
            <p:nvPr/>
          </p:nvSpPr>
          <p:spPr>
            <a:xfrm rot="20776800">
              <a:off x="327816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V="1">
              <a:off x="3440880" y="352944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6" name=""/>
          <p:cNvGrpSpPr/>
          <p:nvPr/>
        </p:nvGrpSpPr>
        <p:grpSpPr>
          <a:xfrm>
            <a:off x="2854440" y="4044960"/>
            <a:ext cx="467280" cy="645120"/>
            <a:chOff x="2854440" y="4044960"/>
            <a:chExt cx="467280" cy="645120"/>
          </a:xfrm>
        </p:grpSpPr>
        <p:sp>
          <p:nvSpPr>
            <p:cNvPr id="2427" name=""/>
            <p:cNvSpPr/>
            <p:nvPr/>
          </p:nvSpPr>
          <p:spPr>
            <a:xfrm rot="20776800">
              <a:off x="2918520" y="40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V="1">
              <a:off x="3063960" y="419076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1794240" y="5513400"/>
            <a:ext cx="21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2340000" y="3500280"/>
            <a:ext cx="71928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 flipH="1" flipV="1">
            <a:off x="3067920" y="3449160"/>
            <a:ext cx="636480" cy="1068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396360" y="981000"/>
            <a:ext cx="5680080" cy="5618520"/>
            <a:chOff x="396360" y="981000"/>
            <a:chExt cx="5680080" cy="5618520"/>
          </a:xfrm>
        </p:grpSpPr>
        <p:sp>
          <p:nvSpPr>
            <p:cNvPr id="2433" name=""/>
            <p:cNvSpPr/>
            <p:nvPr/>
          </p:nvSpPr>
          <p:spPr>
            <a:xfrm>
              <a:off x="396360" y="6018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713200" y="42894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398680" y="981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831240" y="493560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347560" y="4935600"/>
              <a:ext cx="3728880" cy="1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H="1" flipV="1">
              <a:off x="2325240" y="1125360"/>
              <a:ext cx="22320" cy="3809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801080" y="4573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0" name=""/>
          <p:cNvGrpSpPr/>
          <p:nvPr/>
        </p:nvGrpSpPr>
        <p:grpSpPr>
          <a:xfrm>
            <a:off x="1541520" y="2291760"/>
            <a:ext cx="802440" cy="2663640"/>
            <a:chOff x="1541520" y="2291760"/>
            <a:chExt cx="802440" cy="2663640"/>
          </a:xfrm>
        </p:grpSpPr>
        <p:sp>
          <p:nvSpPr>
            <p:cNvPr id="2441" name=""/>
            <p:cNvSpPr/>
            <p:nvPr/>
          </p:nvSpPr>
          <p:spPr>
            <a:xfrm>
              <a:off x="1549080" y="2291760"/>
              <a:ext cx="794880" cy="2663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H="1" flipV="1">
              <a:off x="1643400" y="2619000"/>
              <a:ext cx="202320" cy="27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1626120" y="2648160"/>
              <a:ext cx="23400" cy="3186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H="1" flipV="1">
              <a:off x="1559160" y="2297520"/>
              <a:ext cx="202320" cy="27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H="1">
              <a:off x="1541520" y="2325600"/>
              <a:ext cx="23400" cy="3189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1271160" y="4031280"/>
            <a:ext cx="577080" cy="672120"/>
            <a:chOff x="1271160" y="4031280"/>
            <a:chExt cx="577080" cy="672120"/>
          </a:xfrm>
        </p:grpSpPr>
        <p:sp>
          <p:nvSpPr>
            <p:cNvPr id="2447" name=""/>
            <p:cNvSpPr/>
            <p:nvPr/>
          </p:nvSpPr>
          <p:spPr>
            <a:xfrm rot="20776800">
              <a:off x="1333440" y="40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1496160" y="410580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"/>
          <p:cNvGrpSpPr/>
          <p:nvPr/>
        </p:nvGrpSpPr>
        <p:grpSpPr>
          <a:xfrm>
            <a:off x="635760" y="2276640"/>
            <a:ext cx="866520" cy="581400"/>
            <a:chOff x="635760" y="2276640"/>
            <a:chExt cx="866520" cy="581400"/>
          </a:xfrm>
        </p:grpSpPr>
        <p:sp>
          <p:nvSpPr>
            <p:cNvPr id="2450" name=""/>
            <p:cNvSpPr/>
            <p:nvPr/>
          </p:nvSpPr>
          <p:spPr>
            <a:xfrm>
              <a:off x="773280" y="234936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35760" y="2276640"/>
              <a:ext cx="86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O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2" name=""/>
          <p:cNvSpPr/>
          <p:nvPr/>
        </p:nvSpPr>
        <p:spPr>
          <a:xfrm>
            <a:off x="3781080" y="4005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2844720" y="4437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4" name=""/>
          <p:cNvGrpSpPr/>
          <p:nvPr/>
        </p:nvGrpSpPr>
        <p:grpSpPr>
          <a:xfrm>
            <a:off x="4282200" y="1916280"/>
            <a:ext cx="4543920" cy="1662480"/>
            <a:chOff x="4282200" y="1916280"/>
            <a:chExt cx="4543920" cy="1662480"/>
          </a:xfrm>
        </p:grpSpPr>
        <p:sp>
          <p:nvSpPr>
            <p:cNvPr id="2455" name=""/>
            <p:cNvSpPr/>
            <p:nvPr/>
          </p:nvSpPr>
          <p:spPr>
            <a:xfrm>
              <a:off x="4282200" y="1916280"/>
              <a:ext cx="4543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ffff66"/>
                  </a:solidFill>
                  <a:latin typeface="Times New Roman"/>
                </a:rPr>
                <a:t>x,y,z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)     </a:t>
              </a: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[</a:t>
              </a: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=X i + Y j + Z k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 [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k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                        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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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500360" y="249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292720" y="2492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156360" y="2492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092720" y="249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0" name=""/>
            <p:cNvGrpSpPr/>
            <p:nvPr/>
          </p:nvGrpSpPr>
          <p:grpSpPr>
            <a:xfrm>
              <a:off x="4744440" y="2997360"/>
              <a:ext cx="1520280" cy="581400"/>
              <a:chOff x="4744440" y="2997360"/>
              <a:chExt cx="1520280" cy="581400"/>
            </a:xfrm>
          </p:grpSpPr>
          <p:sp>
            <p:nvSpPr>
              <p:cNvPr id="2461" name=""/>
              <p:cNvSpPr/>
              <p:nvPr/>
            </p:nvSpPr>
            <p:spPr>
              <a:xfrm>
                <a:off x="4878360" y="307008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744440" y="2997360"/>
                <a:ext cx="152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30000">
                    <a:solidFill>
                      <a:srgbClr val="0000cc"/>
                    </a:solidFill>
                    <a:latin typeface="Times New Roman"/>
                  </a:rPr>
                  <a:t>(O) </a:t>
                </a: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= 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3" name=""/>
            <p:cNvGrpSpPr/>
            <p:nvPr/>
          </p:nvGrpSpPr>
          <p:grpSpPr>
            <a:xfrm>
              <a:off x="6229080" y="3140280"/>
              <a:ext cx="287280" cy="287280"/>
              <a:chOff x="6229080" y="3140280"/>
              <a:chExt cx="287280" cy="287280"/>
            </a:xfrm>
          </p:grpSpPr>
          <p:sp>
            <p:nvSpPr>
              <p:cNvPr id="2464" name=""/>
              <p:cNvSpPr/>
              <p:nvPr/>
            </p:nvSpPr>
            <p:spPr>
              <a:xfrm flipV="1">
                <a:off x="6229080" y="3140280"/>
                <a:ext cx="287280" cy="287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229080" y="3140280"/>
                <a:ext cx="287280" cy="287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6" name=""/>
            <p:cNvGrpSpPr/>
            <p:nvPr/>
          </p:nvGrpSpPr>
          <p:grpSpPr>
            <a:xfrm>
              <a:off x="6494400" y="2997360"/>
              <a:ext cx="452160" cy="581400"/>
              <a:chOff x="6494400" y="2997360"/>
              <a:chExt cx="452160" cy="581400"/>
            </a:xfrm>
          </p:grpSpPr>
          <p:sp>
            <p:nvSpPr>
              <p:cNvPr id="2467" name=""/>
              <p:cNvSpPr/>
              <p:nvPr/>
            </p:nvSpPr>
            <p:spPr>
              <a:xfrm>
                <a:off x="649440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70860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9" name=""/>
            <p:cNvSpPr/>
            <p:nvPr/>
          </p:nvSpPr>
          <p:spPr>
            <a:xfrm>
              <a:off x="5868720" y="314028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0" name=""/>
          <p:cNvSpPr/>
          <p:nvPr/>
        </p:nvSpPr>
        <p:spPr>
          <a:xfrm>
            <a:off x="3494160" y="3357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2340360" y="4521240"/>
            <a:ext cx="1342440" cy="414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77457E-006 L -0.14965 0.06289 E">
                                      <p:cBhvr>
                                        <p:cTn id="1536" dur="2000" fill="hold"/>
                                        <p:tgtEl>
                                          <p:spTgt spid="2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20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2000"/>
                                        <p:tgtEl>
                                          <p:spTgt spid="2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1719360" y="333360"/>
                <a:ext cx="4973400" cy="22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j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k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3" name=""/>
              <p:cNvSpPr txBox="1"/>
              <p:nvPr/>
            </p:nvSpPr>
            <p:spPr>
              <a:xfrm>
                <a:off x="0" y="2852640"/>
                <a:ext cx="9144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4" name=""/>
              <p:cNvSpPr txBox="1"/>
              <p:nvPr/>
            </p:nvSpPr>
            <p:spPr>
              <a:xfrm>
                <a:off x="333360" y="5359320"/>
                <a:ext cx="827100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75" name=""/>
          <p:cNvSpPr/>
          <p:nvPr/>
        </p:nvSpPr>
        <p:spPr>
          <a:xfrm>
            <a:off x="0" y="4076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en-US" sz="40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redukciona ta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č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ka tada va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ž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62036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779320" y="4221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57800" y="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077920" y="4578480"/>
            <a:ext cx="2192400" cy="2019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70320" y="4578480"/>
            <a:ext cx="4551480" cy="2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270320" y="216000"/>
            <a:ext cx="14400" cy="4362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30320" y="4143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730560" y="3139920"/>
            <a:ext cx="1800" cy="31006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060360" y="5661000"/>
            <a:ext cx="2305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364000" y="4581360"/>
            <a:ext cx="1154160" cy="1081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64000" y="5664240"/>
            <a:ext cx="1368720" cy="50472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84720" y="692280"/>
            <a:ext cx="2373120" cy="23749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284720" y="620280"/>
            <a:ext cx="0" cy="2016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556000" y="5661000"/>
            <a:ext cx="576000" cy="504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16720" y="4581360"/>
            <a:ext cx="1944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589720" y="2781360"/>
            <a:ext cx="569520" cy="648720"/>
            <a:chOff x="5589720" y="2781360"/>
            <a:chExt cx="569520" cy="648720"/>
          </a:xfrm>
        </p:grpSpPr>
        <p:sp>
          <p:nvSpPr>
            <p:cNvPr id="495" name=""/>
            <p:cNvSpPr/>
            <p:nvPr/>
          </p:nvSpPr>
          <p:spPr>
            <a:xfrm>
              <a:off x="5589720" y="2781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96000" y="285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824800" y="5279040"/>
            <a:ext cx="912600" cy="885240"/>
            <a:chOff x="5824800" y="5279040"/>
            <a:chExt cx="912600" cy="885240"/>
          </a:xfrm>
        </p:grpSpPr>
        <p:sp>
          <p:nvSpPr>
            <p:cNvPr id="498" name=""/>
            <p:cNvSpPr/>
            <p:nvPr/>
          </p:nvSpPr>
          <p:spPr>
            <a:xfrm rot="1493400">
              <a:off x="5928120" y="539712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99cc00"/>
                  </a:solidFill>
                  <a:latin typeface="Times New Roman"/>
                </a:rPr>
                <a:t>k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55720" y="5433120"/>
              <a:ext cx="195840" cy="9072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5359320" y="3068280"/>
            <a:ext cx="136692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89000" y="5373720"/>
            <a:ext cx="78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54200" y="544500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46440" y="3932280"/>
            <a:ext cx="76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812000" y="400356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29360" y="1268280"/>
            <a:ext cx="852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68720" y="133992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62560" y="3716280"/>
            <a:ext cx="1440" cy="19479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55640" y="6165720"/>
            <a:ext cx="4105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732720" y="4581360"/>
            <a:ext cx="1728720" cy="1584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284720" y="2637000"/>
            <a:ext cx="1079280" cy="10792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33440" y="3716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3416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788720" y="5229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33800" y="5877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97000" y="5084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5000" y="602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17720" y="2349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44640" y="333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76640" y="4076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81720" y="39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324000" y="260280"/>
                <a:ext cx="162864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235080" y="0"/>
            <a:ext cx="8916120" cy="2043720"/>
            <a:chOff x="235080" y="0"/>
            <a:chExt cx="8916120" cy="2043720"/>
          </a:xfrm>
        </p:grpSpPr>
        <p:sp>
          <p:nvSpPr>
            <p:cNvPr id="523" name=""/>
            <p:cNvSpPr/>
            <p:nvPr/>
          </p:nvSpPr>
          <p:spPr>
            <a:xfrm>
              <a:off x="873360" y="0"/>
              <a:ext cx="82778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rezultanta sistema sila sa zajedni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čk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napadnom tačkom jednaka je vektorsk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zbiru svih sila i deluje u zajedničkoj napadnoj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tačk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235080" y="71640"/>
              <a:ext cx="616680" cy="675720"/>
              <a:chOff x="235080" y="71640"/>
              <a:chExt cx="616680" cy="67572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235080" y="71640"/>
                <a:ext cx="452160" cy="581400"/>
                <a:chOff x="235080" y="71640"/>
                <a:chExt cx="452160" cy="5814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235080" y="7164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49280" y="14256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>
                <a:off x="451440" y="287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2411280" y="1341360"/>
                <a:ext cx="208764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387000" y="2708280"/>
            <a:ext cx="793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  druge  strane</a:t>
            </a:r>
            <a:r>
              <a:rPr b="1" lang="sr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rezultanta  se  definiše  k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ktorski zbir komponen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116000" y="3716280"/>
                <a:ext cx="6335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5003640" y="1773360"/>
                <a:ext cx="287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8317440" y="170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956720" y="3860640"/>
            <a:ext cx="8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**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226080" y="4581360"/>
            <a:ext cx="8926920" cy="581400"/>
            <a:chOff x="226080" y="4581360"/>
            <a:chExt cx="8926920" cy="581400"/>
          </a:xfrm>
        </p:grpSpPr>
        <p:sp>
          <p:nvSpPr>
            <p:cNvPr id="536" name=""/>
            <p:cNvSpPr/>
            <p:nvPr/>
          </p:nvSpPr>
          <p:spPr>
            <a:xfrm>
              <a:off x="226080" y="4581360"/>
              <a:ext cx="892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Množeći jednačinu </a:t>
              </a:r>
              <a:r>
                <a:rPr b="0" lang="sr-Latn-CS" sz="3200" spc="-1" strike="noStrike">
                  <a:solidFill>
                    <a:srgbClr val="3399ff"/>
                  </a:solidFill>
                  <a:latin typeface="Times New Roman"/>
                </a:rPr>
                <a:t>(</a:t>
              </a:r>
              <a:r>
                <a:rPr b="0" lang="en-US" sz="3200" spc="-1" strike="noStrike">
                  <a:solidFill>
                    <a:srgbClr val="3399ff"/>
                  </a:solidFill>
                  <a:latin typeface="Times New Roman"/>
                </a:rPr>
                <a:t>*</a:t>
              </a:r>
              <a:r>
                <a:rPr b="0" lang="sr-Latn-CS" sz="3200" spc="-1" strike="noStrike">
                  <a:solidFill>
                    <a:srgbClr val="3399ff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 sa 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i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,  j,  k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 respektivno sledi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72160" y="465264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03800" y="465264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35800" y="465264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89080" y="5135400"/>
                <a:ext cx="8243640" cy="162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1692360" y="1268280"/>
                <a:ext cx="54687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0" y="2276640"/>
                <a:ext cx="914400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466560" y="5229360"/>
                <a:ext cx="820908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15720" y="189000"/>
            <a:ext cx="82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nalogno predhodnom razmatranju intenz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zultante se može pisati u obli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9800" y="2205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71680" y="4221000"/>
            <a:ext cx="8331120" cy="1068840"/>
            <a:chOff x="571680" y="4221000"/>
            <a:chExt cx="8331120" cy="1068840"/>
          </a:xfrm>
        </p:grpSpPr>
        <p:sp>
          <p:nvSpPr>
            <p:cNvPr id="547" name=""/>
            <p:cNvSpPr/>
            <p:nvPr/>
          </p:nvSpPr>
          <p:spPr>
            <a:xfrm>
              <a:off x="571680" y="4221000"/>
              <a:ext cx="8331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a kosinusi pravaca rezultante         se računaj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pomoću već pomenutih izraz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840640" y="4294080"/>
              <a:ext cx="616680" cy="675360"/>
              <a:chOff x="5840640" y="4294080"/>
              <a:chExt cx="616680" cy="67536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840640" y="4294080"/>
                <a:ext cx="452160" cy="581400"/>
                <a:chOff x="5840640" y="4294080"/>
                <a:chExt cx="452160" cy="58140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5840640" y="4294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054840" y="4365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6057000" y="4509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0T20:32:27Z</dcterms:modified>
  <cp:revision>261</cp:revision>
  <dc:subject/>
  <dc:title>Slide 1</dc:title>
</cp:coreProperties>
</file>