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0673-7427-4BA6-BDF8-616CF5EDE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93E1-8180-4833-8B69-8A626052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0163-A699-4575-94B4-CE8E9645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C4BB-0C4A-4F8D-BB07-C0CB8034A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65C1-935A-435F-A66A-2527ED759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38EA-F322-4593-BB04-77041ED1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65C3-7542-4765-BAE7-358F0427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E20C-9096-4BCE-B146-E53E8B0C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E178-4504-4186-84F3-CC76E70A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546D-9F21-4C73-95E1-E3AB04FA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78E1-5117-4FC9-9061-6A3FC192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1E12-4F6E-4462-B4FA-C53003CF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51F9-617D-4A3A-941B-3AACBE41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72C7-5070-4D09-A307-4773038C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F283-21BC-48E4-9B45-AB7C1EE3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6DAC-1E77-4A92-AEC7-9299EAD62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9A26-5300-4A77-816B-3C0DEA51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FF44-0150-4EF1-8B10-055A6D14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5D83-FBE4-4CA4-970B-A6413948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DF48-BA95-486B-BAD0-C719340B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8EB9-5CF2-4A95-B8BB-D44800FA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1EFF-3004-4BB8-8229-0048754A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2BDF-C103-4942-88D7-0DE15D4D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038E-D92C-4E61-B50E-7627C168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7066-52B0-4238-8950-F547EB7EF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792F-837C-4D28-8CD9-675358FBD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V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2030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Konzola u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 flipV="1">
            <a:off x="1460520" y="2162160"/>
            <a:ext cx="1440" cy="998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0" y="1508040"/>
          <a:ext cx="563400" cy="12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08040"/>
                    <a:ext cx="56340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8" name="" descr=""/>
          <p:cNvPicPr/>
          <p:nvPr/>
        </p:nvPicPr>
        <p:blipFill>
          <a:blip r:embed="rId3"/>
          <a:stretch/>
        </p:blipFill>
        <p:spPr>
          <a:xfrm>
            <a:off x="1268280" y="1162080"/>
            <a:ext cx="4211640" cy="163188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423720" y="2046240"/>
            <a:ext cx="844560" cy="0"/>
          </a:xfrm>
          <a:prstGeom prst="line">
            <a:avLst/>
          </a:prstGeom>
          <a:ln w="63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85920" y="139212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538280" y="250668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77800" y="23907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766600" y="1123920"/>
            <a:ext cx="652680" cy="882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727440" y="1316160"/>
            <a:ext cx="5684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: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r=3  →n=3-3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31608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Konzola u prostor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2424240" y="4005360"/>
            <a:ext cx="4211640" cy="163188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1579680" y="4889520"/>
            <a:ext cx="84456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730600" y="354492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386000" y="408132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187880" y="3236760"/>
            <a:ext cx="87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3922200" y="3967200"/>
            <a:ext cx="652680" cy="882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4957920" y="4889520"/>
            <a:ext cx="1650960" cy="844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879800" y="4351320"/>
            <a:ext cx="115920" cy="1305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346040" y="4927680"/>
            <a:ext cx="1268640" cy="10746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608880" y="4849920"/>
            <a:ext cx="69048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2652840" y="3621240"/>
            <a:ext cx="0" cy="57456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2652840" y="4965840"/>
            <a:ext cx="0" cy="8841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690280" y="4389480"/>
            <a:ext cx="538200" cy="4604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730600" y="519588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Z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3344760" y="3736800"/>
            <a:ext cx="730080" cy="614160"/>
            <a:chOff x="3344760" y="3736800"/>
            <a:chExt cx="730080" cy="614160"/>
          </a:xfrm>
        </p:grpSpPr>
        <p:sp>
          <p:nvSpPr>
            <p:cNvPr id="511" name=""/>
            <p:cNvSpPr/>
            <p:nvPr/>
          </p:nvSpPr>
          <p:spPr>
            <a:xfrm flipH="1">
              <a:off x="3536640" y="3736800"/>
              <a:ext cx="538200" cy="4600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3344760" y="4159080"/>
              <a:ext cx="230400" cy="19188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2646000" y="5775840"/>
            <a:ext cx="11520" cy="954000"/>
            <a:chOff x="2646000" y="5775840"/>
            <a:chExt cx="11520" cy="954000"/>
          </a:xfrm>
        </p:grpSpPr>
        <p:sp>
          <p:nvSpPr>
            <p:cNvPr id="514" name=""/>
            <p:cNvSpPr/>
            <p:nvPr/>
          </p:nvSpPr>
          <p:spPr>
            <a:xfrm flipH="1" flipV="1">
              <a:off x="2646000" y="6022080"/>
              <a:ext cx="11520" cy="7077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 flipV="1">
              <a:off x="2649960" y="5775840"/>
              <a:ext cx="1080" cy="29952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504360" y="4880880"/>
            <a:ext cx="954000" cy="11520"/>
            <a:chOff x="504360" y="4880880"/>
            <a:chExt cx="954000" cy="11520"/>
          </a:xfrm>
        </p:grpSpPr>
        <p:sp>
          <p:nvSpPr>
            <p:cNvPr id="517" name=""/>
            <p:cNvSpPr/>
            <p:nvPr/>
          </p:nvSpPr>
          <p:spPr>
            <a:xfrm flipV="1">
              <a:off x="504360" y="4880880"/>
              <a:ext cx="707760" cy="115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1158840" y="4884840"/>
              <a:ext cx="299520" cy="108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2843280" y="6040440"/>
            <a:ext cx="87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5920" y="4119480"/>
            <a:ext cx="87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116000" y="550224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953400" y="423540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152800" y="358308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071960" y="5886360"/>
            <a:ext cx="4762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: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y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.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24360" y="36590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6-6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395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II) Složeni nosači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su oni nosači koji se sastoje od sistema štapova, vezanih međusobno unutrašnjim vez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1393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Gerberova gre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501480" y="2468520"/>
            <a:ext cx="384480" cy="2700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2959200" y="2468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731880" y="2468520"/>
            <a:ext cx="806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723000" y="2430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538280" y="2430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614600" y="2468520"/>
            <a:ext cx="1996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1998720" y="2468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3611520" y="2430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689280" y="2468520"/>
            <a:ext cx="728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417920" y="2430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468520"/>
            <a:ext cx="2227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4994280" y="2468520"/>
            <a:ext cx="384120" cy="2746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5"/>
          <a:stretch/>
        </p:blipFill>
        <p:spPr>
          <a:xfrm>
            <a:off x="5838840" y="2468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6800760" y="2468520"/>
            <a:ext cx="1074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6"/>
          <a:stretch/>
        </p:blipFill>
        <p:spPr>
          <a:xfrm>
            <a:off x="7183440" y="2468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923760" y="1969920"/>
            <a:ext cx="4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459160" y="1892160"/>
            <a:ext cx="4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727440" y="18921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454720" y="19303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953400" y="193032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N=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422360" y="2506680"/>
            <a:ext cx="3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497400" y="2546280"/>
            <a:ext cx="3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264200" y="2546280"/>
            <a:ext cx="3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184800" y="2584440"/>
            <a:ext cx="9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Mz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23720" y="3083040"/>
            <a:ext cx="4071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5, 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N-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4273560"/>
            <a:ext cx="91440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Broj međuzglobova je: M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N-1. Da bi nosač bio stabilan mora biti: 3N=r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(r=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3N-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3N-2(N-1)=N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885960" y="741240"/>
            <a:ext cx="230040" cy="88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116000" y="1163520"/>
            <a:ext cx="18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59200" y="1125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035160" y="1163520"/>
            <a:ext cx="134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4187880" y="1163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1116000" y="77940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726080" y="433440"/>
            <a:ext cx="4147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2; 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4=N+2=2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764240" y="1316160"/>
            <a:ext cx="4147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2(N-1)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23760" y="3813120"/>
            <a:ext cx="18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766960" y="37749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843280" y="3813120"/>
            <a:ext cx="884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726000" y="37749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803760" y="3813120"/>
            <a:ext cx="134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4956120" y="3774960"/>
            <a:ext cx="384120" cy="27468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4"/>
          <a:stretch/>
        </p:blipFill>
        <p:spPr>
          <a:xfrm>
            <a:off x="731880" y="3813120"/>
            <a:ext cx="384120" cy="27000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5"/>
          <a:stretch/>
        </p:blipFill>
        <p:spPr>
          <a:xfrm>
            <a:off x="1730520" y="3813120"/>
            <a:ext cx="384120" cy="27000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4802040" y="2968560"/>
            <a:ext cx="1920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3; 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648480" y="2928960"/>
            <a:ext cx="249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2(N-1)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454720" y="3621240"/>
            <a:ext cx="33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3N-r=3x3-9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70000" y="4351320"/>
            <a:ext cx="83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Veze nisu dobro (pravilno) raspoređ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70000" y="4888080"/>
            <a:ext cx="887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U krajnjem polju ne smeju biti dva međuzglo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70000" y="5541840"/>
            <a:ext cx="887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U srednjim poljima broj međuzglobova ne sme biti veći od d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0" y="241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Luk sa tri zglob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770040" y="663480"/>
            <a:ext cx="3265560" cy="2534760"/>
            <a:chOff x="770040" y="663480"/>
            <a:chExt cx="3265560" cy="2534760"/>
          </a:xfrm>
        </p:grpSpPr>
        <p:sp>
          <p:nvSpPr>
            <p:cNvPr id="578" name=""/>
            <p:cNvSpPr/>
            <p:nvPr/>
          </p:nvSpPr>
          <p:spPr>
            <a:xfrm flipH="1">
              <a:off x="1308240" y="1277640"/>
              <a:ext cx="1920240" cy="192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9" name="" descr=""/>
            <p:cNvPicPr/>
            <p:nvPr/>
          </p:nvPicPr>
          <p:blipFill>
            <a:blip r:embed="rId1"/>
            <a:stretch/>
          </p:blipFill>
          <p:spPr>
            <a:xfrm>
              <a:off x="1116000" y="2238120"/>
              <a:ext cx="384120" cy="2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2268720" y="1239840"/>
              <a:ext cx="777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384560" y="1277640"/>
              <a:ext cx="1920240" cy="192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2"/>
            <a:stretch/>
          </p:blipFill>
          <p:spPr>
            <a:xfrm>
              <a:off x="3113280" y="2238120"/>
              <a:ext cx="384120" cy="2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1346400" y="227628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1308240" y="1239480"/>
              <a:ext cx="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884240" y="1738080"/>
              <a:ext cx="38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09640" y="931680"/>
              <a:ext cx="5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70040" y="1777680"/>
              <a:ext cx="46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421080" y="1777680"/>
              <a:ext cx="61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152800" y="663480"/>
              <a:ext cx="61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4226040" y="932040"/>
            <a:ext cx="4917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=3N-rs-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3x2-4-2=6-6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2698920"/>
            <a:ext cx="895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Odre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đivanje reakcija veza luka na tri zglob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347760" y="3352680"/>
            <a:ext cx="4110120" cy="3187440"/>
            <a:chOff x="347760" y="3352680"/>
            <a:chExt cx="4110120" cy="3187440"/>
          </a:xfrm>
        </p:grpSpPr>
        <p:sp>
          <p:nvSpPr>
            <p:cNvPr id="593" name=""/>
            <p:cNvSpPr/>
            <p:nvPr/>
          </p:nvSpPr>
          <p:spPr>
            <a:xfrm flipV="1">
              <a:off x="1154160" y="4081320"/>
              <a:ext cx="0" cy="107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154160" y="4081320"/>
              <a:ext cx="96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114640" y="4043160"/>
              <a:ext cx="777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192400" y="4081320"/>
              <a:ext cx="1074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267360" y="4081320"/>
              <a:ext cx="0" cy="169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8" name="" descr=""/>
            <p:cNvPicPr/>
            <p:nvPr/>
          </p:nvPicPr>
          <p:blipFill>
            <a:blip r:embed="rId3"/>
            <a:stretch/>
          </p:blipFill>
          <p:spPr>
            <a:xfrm>
              <a:off x="962280" y="515772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" descr=""/>
            <p:cNvPicPr/>
            <p:nvPr/>
          </p:nvPicPr>
          <p:blipFill>
            <a:blip r:embed="rId4"/>
            <a:stretch/>
          </p:blipFill>
          <p:spPr>
            <a:xfrm>
              <a:off x="3075120" y="5771880"/>
              <a:ext cx="384120" cy="2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1154160" y="5464080"/>
              <a:ext cx="0" cy="10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267360" y="6040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92400" y="5848200"/>
              <a:ext cx="0" cy="69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154160" y="6348240"/>
              <a:ext cx="103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152800" y="6348240"/>
              <a:ext cx="11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689640" y="4081320"/>
              <a:ext cx="61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27800" y="5810040"/>
              <a:ext cx="73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27800" y="5157720"/>
              <a:ext cx="65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997440" y="4081320"/>
              <a:ext cx="0" cy="10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997440" y="519552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154160" y="3390840"/>
              <a:ext cx="0" cy="690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3680" y="4081320"/>
              <a:ext cx="690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267360" y="3352680"/>
              <a:ext cx="0" cy="690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3267360" y="4081320"/>
              <a:ext cx="690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47760" y="408132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231920" y="339084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383280" y="3504960"/>
              <a:ext cx="730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652840" y="335268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462320" y="5733720"/>
              <a:ext cx="576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460960" y="5771880"/>
              <a:ext cx="576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497400" y="431136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497400" y="519552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346400" y="500364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884600" y="354456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576520" y="531000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4764240" y="4159080"/>
            <a:ext cx="4186080" cy="13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pozna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dređivanje reakcija primenom dekompozicije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884240" y="3274920"/>
            <a:ext cx="0" cy="6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46000" y="2928960"/>
            <a:ext cx="0" cy="107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148280" y="327672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44560" y="3622680"/>
            <a:ext cx="1038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44560" y="665280"/>
            <a:ext cx="0" cy="690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152360" y="3008160"/>
            <a:ext cx="5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187880" y="1316160"/>
            <a:ext cx="107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62480" y="1316160"/>
            <a:ext cx="0" cy="16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5070600" y="3006720"/>
            <a:ext cx="384120" cy="27000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4148280" y="3583080"/>
            <a:ext cx="1114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684760" y="1316160"/>
            <a:ext cx="61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722920" y="3044880"/>
            <a:ext cx="73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722920" y="2392200"/>
            <a:ext cx="65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992920" y="1316160"/>
            <a:ext cx="0" cy="1076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992920" y="243036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262480" y="587520"/>
            <a:ext cx="0" cy="690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5262480" y="1316160"/>
            <a:ext cx="6904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378400" y="739800"/>
            <a:ext cx="730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648320" y="587520"/>
            <a:ext cx="730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456080" y="3006720"/>
            <a:ext cx="5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492880" y="1546200"/>
            <a:ext cx="69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492880" y="2430360"/>
            <a:ext cx="69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0" y="254484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262480" y="327672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5262480" y="3008160"/>
            <a:ext cx="690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5262480" y="3046320"/>
            <a:ext cx="0" cy="690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1766880" y="627120"/>
            <a:ext cx="0" cy="690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3457080" y="1317600"/>
            <a:ext cx="6908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186080" y="588960"/>
            <a:ext cx="0" cy="690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0" y="3083040"/>
            <a:ext cx="437976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o 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764240" y="2968560"/>
            <a:ext cx="437976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o 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-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B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38160" y="665280"/>
            <a:ext cx="2690640" cy="2645640"/>
            <a:chOff x="38160" y="665280"/>
            <a:chExt cx="2690640" cy="2645640"/>
          </a:xfrm>
        </p:grpSpPr>
        <p:sp>
          <p:nvSpPr>
            <p:cNvPr id="659" name=""/>
            <p:cNvSpPr/>
            <p:nvPr/>
          </p:nvSpPr>
          <p:spPr>
            <a:xfrm flipV="1">
              <a:off x="844560" y="1355760"/>
              <a:ext cx="0" cy="107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44560" y="1355760"/>
              <a:ext cx="96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1" name="" descr=""/>
            <p:cNvPicPr/>
            <p:nvPr/>
          </p:nvPicPr>
          <p:blipFill>
            <a:blip r:embed="rId2"/>
            <a:stretch/>
          </p:blipFill>
          <p:spPr>
            <a:xfrm>
              <a:off x="652320" y="2432160"/>
              <a:ext cx="38448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>
              <a:off x="154080" y="1355760"/>
              <a:ext cx="690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8160" y="1355760"/>
              <a:ext cx="730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922320" y="66528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036800" y="2278080"/>
              <a:ext cx="53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4080" y="2470320"/>
              <a:ext cx="690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844560" y="2507760"/>
              <a:ext cx="0" cy="690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768320" y="1355760"/>
              <a:ext cx="690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17360" y="1854360"/>
              <a:ext cx="806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15920" y="2662200"/>
              <a:ext cx="882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960560" y="1508040"/>
              <a:ext cx="768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3305160" y="1469880"/>
            <a:ext cx="76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44640" y="549360"/>
            <a:ext cx="76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305160" y="587520"/>
            <a:ext cx="76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0" y="5157720"/>
          <a:ext cx="41112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157720"/>
                    <a:ext cx="41112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"/>
          <p:cNvGraphicFramePr/>
          <p:nvPr/>
        </p:nvGraphicFramePr>
        <p:xfrm>
          <a:off x="4687920" y="4927680"/>
          <a:ext cx="479520" cy="108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7920" y="4927680"/>
                    <a:ext cx="47952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"/>
          <p:cNvSpPr/>
          <p:nvPr/>
        </p:nvSpPr>
        <p:spPr>
          <a:xfrm>
            <a:off x="6031080" y="2354400"/>
            <a:ext cx="806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340240" y="3006720"/>
            <a:ext cx="882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Određivanje prvo spoljašnjih reakcija (Delimična dekompozicija)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000080" y="3159000"/>
            <a:ext cx="0" cy="107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112920" y="373536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038320" y="3543480"/>
            <a:ext cx="0" cy="69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113360" y="1585800"/>
            <a:ext cx="5030640" cy="41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: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F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(G)LEV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0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3112920" y="4427640"/>
            <a:ext cx="0" cy="690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193680" y="1930320"/>
            <a:ext cx="4110120" cy="3222360"/>
            <a:chOff x="193680" y="1930320"/>
            <a:chExt cx="4110120" cy="3222360"/>
          </a:xfrm>
        </p:grpSpPr>
        <p:sp>
          <p:nvSpPr>
            <p:cNvPr id="688" name=""/>
            <p:cNvSpPr/>
            <p:nvPr/>
          </p:nvSpPr>
          <p:spPr>
            <a:xfrm flipV="1">
              <a:off x="1000080" y="2658960"/>
              <a:ext cx="0" cy="107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00080" y="2658960"/>
              <a:ext cx="96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960560" y="2621160"/>
              <a:ext cx="777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038320" y="2658960"/>
              <a:ext cx="107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12920" y="2658960"/>
              <a:ext cx="0" cy="169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3" name="" descr=""/>
            <p:cNvPicPr/>
            <p:nvPr/>
          </p:nvPicPr>
          <p:blipFill>
            <a:blip r:embed="rId1"/>
            <a:stretch/>
          </p:blipFill>
          <p:spPr>
            <a:xfrm>
              <a:off x="808200" y="3735360"/>
              <a:ext cx="38412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" descr=""/>
            <p:cNvPicPr/>
            <p:nvPr/>
          </p:nvPicPr>
          <p:blipFill>
            <a:blip r:embed="rId2"/>
            <a:stretch/>
          </p:blipFill>
          <p:spPr>
            <a:xfrm>
              <a:off x="2921040" y="434988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1000080" y="4926240"/>
              <a:ext cx="103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998720" y="4926240"/>
              <a:ext cx="11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535200" y="2658960"/>
              <a:ext cx="6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573360" y="4388040"/>
              <a:ext cx="73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573360" y="3735360"/>
              <a:ext cx="6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843360" y="2658960"/>
              <a:ext cx="0" cy="10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43360" y="377352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000080" y="1968480"/>
              <a:ext cx="0" cy="690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9600" y="2658960"/>
              <a:ext cx="690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12920" y="1930320"/>
              <a:ext cx="0" cy="690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3112560" y="2658960"/>
              <a:ext cx="690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93680" y="2658960"/>
              <a:ext cx="730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077840" y="196848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228840" y="208296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498760" y="1930320"/>
              <a:ext cx="730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308240" y="4311720"/>
              <a:ext cx="576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306520" y="4349880"/>
              <a:ext cx="576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343320" y="288936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343320" y="377352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192320" y="358164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730520" y="2122560"/>
              <a:ext cx="53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422440" y="388800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573360" y="431172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1000080" y="3851280"/>
              <a:ext cx="0" cy="690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09600" y="3773520"/>
              <a:ext cx="690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3112560" y="4389480"/>
              <a:ext cx="690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93680" y="3159360"/>
              <a:ext cx="806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31840" y="4005360"/>
              <a:ext cx="882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075120" y="4503960"/>
              <a:ext cx="882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24" name=""/>
          <p:cNvGraphicFramePr/>
          <p:nvPr/>
        </p:nvGraphicFramePr>
        <p:xfrm>
          <a:off x="4071960" y="3006720"/>
          <a:ext cx="339840" cy="7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1960" y="3006720"/>
                    <a:ext cx="33984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4111560" y="4149720"/>
          <a:ext cx="393840" cy="89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1560" y="4149720"/>
                    <a:ext cx="39384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Zatim određujemo unutrašnje reakcije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189240" y="1009800"/>
            <a:ext cx="572472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F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→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→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ontrola rešen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461880" y="1123920"/>
            <a:ext cx="2690640" cy="2837880"/>
            <a:chOff x="461880" y="1123920"/>
            <a:chExt cx="2690640" cy="2837880"/>
          </a:xfrm>
        </p:grpSpPr>
        <p:grpSp>
          <p:nvGrpSpPr>
            <p:cNvPr id="731" name=""/>
            <p:cNvGrpSpPr/>
            <p:nvPr/>
          </p:nvGrpSpPr>
          <p:grpSpPr>
            <a:xfrm>
              <a:off x="461880" y="1316160"/>
              <a:ext cx="2690640" cy="2645640"/>
              <a:chOff x="461880" y="1316160"/>
              <a:chExt cx="2690640" cy="2645640"/>
            </a:xfrm>
          </p:grpSpPr>
          <p:sp>
            <p:nvSpPr>
              <p:cNvPr id="732" name=""/>
              <p:cNvSpPr/>
              <p:nvPr/>
            </p:nvSpPr>
            <p:spPr>
              <a:xfrm flipV="1">
                <a:off x="1268280" y="2006640"/>
                <a:ext cx="0" cy="1076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268280" y="2006640"/>
                <a:ext cx="960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3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76040" y="3083040"/>
                <a:ext cx="384480" cy="26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5" name=""/>
              <p:cNvSpPr/>
              <p:nvPr/>
            </p:nvSpPr>
            <p:spPr>
              <a:xfrm>
                <a:off x="577800" y="2006640"/>
                <a:ext cx="6904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61880" y="2006640"/>
                <a:ext cx="7300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346040" y="1316160"/>
                <a:ext cx="7304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460520" y="2928960"/>
                <a:ext cx="537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77800" y="3121200"/>
                <a:ext cx="6904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1268280" y="3158640"/>
                <a:ext cx="0" cy="690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192040" y="2006640"/>
                <a:ext cx="690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41080" y="2505240"/>
                <a:ext cx="8064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39640" y="3313080"/>
                <a:ext cx="8827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384280" y="2158920"/>
                <a:ext cx="7682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>
              <a:off x="1268640" y="1279800"/>
              <a:ext cx="0" cy="690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2189160" y="1279800"/>
              <a:ext cx="0" cy="690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305080" y="1123920"/>
              <a:ext cx="768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0" y="4043520"/>
            <a:ext cx="914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etod delimične dekompozici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1. Cilj je da se prvo postavi potpun sistem jednačina za određivanje reakcija spoljnih veza-ukidaju se samo spoljne ve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0" y="0"/>
            <a:ext cx="9144000" cy="65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. Postavljamo uslove ravnoteže spoljnih sila(aktivne i reakcije spoljnih veza) za nosač kao celi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3. Raspolažemo uslovima anuliranja momenata u međuzglobovima za sile levo ili desno od međuzglo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4.Naknadno postavljamo uslove ravnoteže za pojedine delove, iz kojih nalazimo reakcije unutrašnjih v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4.Nosači mogu biti: </a:t>
            </a:r>
            <a:r>
              <a:rPr b="1" lang="sr-Latn-CS" sz="3600" spc="-1" strike="noStrike">
                <a:solidFill>
                  <a:srgbClr val="cc0000"/>
                </a:solidFill>
                <a:latin typeface="Times New Roman"/>
              </a:rPr>
              <a:t>puni i rešetkas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181080" y="260280"/>
            <a:ext cx="87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REŠETKASTI NOSAČI</a:t>
            </a:r>
            <a:r>
              <a:rPr b="1" lang="sr-Latn-CS" sz="3200" spc="-1" strike="noStrike" u="sng">
                <a:solidFill>
                  <a:srgbClr val="660066"/>
                </a:solidFill>
                <a:uFillTx/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5112000" y="900360"/>
            <a:ext cx="722520" cy="48384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5691600" y="1047600"/>
            <a:ext cx="511560" cy="648720"/>
            <a:chOff x="5691600" y="1047600"/>
            <a:chExt cx="511560" cy="648720"/>
          </a:xfrm>
        </p:grpSpPr>
        <p:sp>
          <p:nvSpPr>
            <p:cNvPr id="753" name=""/>
            <p:cNvSpPr/>
            <p:nvPr/>
          </p:nvSpPr>
          <p:spPr>
            <a:xfrm>
              <a:off x="5691600" y="104760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824080" y="1091520"/>
              <a:ext cx="1364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2190600" y="1355760"/>
            <a:ext cx="3647160" cy="1418400"/>
            <a:chOff x="2190600" y="1355760"/>
            <a:chExt cx="3647160" cy="1418400"/>
          </a:xfrm>
        </p:grpSpPr>
        <p:grpSp>
          <p:nvGrpSpPr>
            <p:cNvPr id="756" name=""/>
            <p:cNvGrpSpPr/>
            <p:nvPr/>
          </p:nvGrpSpPr>
          <p:grpSpPr>
            <a:xfrm>
              <a:off x="5394240" y="2182680"/>
              <a:ext cx="443520" cy="350640"/>
              <a:chOff x="5394240" y="2182680"/>
              <a:chExt cx="443520" cy="350640"/>
            </a:xfrm>
          </p:grpSpPr>
          <p:sp>
            <p:nvSpPr>
              <p:cNvPr id="757" name=""/>
              <p:cNvSpPr/>
              <p:nvPr/>
            </p:nvSpPr>
            <p:spPr>
              <a:xfrm>
                <a:off x="5542560" y="218268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394240" y="2430000"/>
                <a:ext cx="44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394240" y="2533320"/>
                <a:ext cx="44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5491800" y="2277720"/>
                <a:ext cx="9936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 flipV="1">
                <a:off x="5591520" y="2277720"/>
                <a:ext cx="9936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2190600" y="2174760"/>
              <a:ext cx="443520" cy="409680"/>
              <a:chOff x="2190600" y="2174760"/>
              <a:chExt cx="443520" cy="409680"/>
            </a:xfrm>
          </p:grpSpPr>
          <p:sp>
            <p:nvSpPr>
              <p:cNvPr id="763" name=""/>
              <p:cNvSpPr/>
              <p:nvPr/>
            </p:nvSpPr>
            <p:spPr>
              <a:xfrm>
                <a:off x="2338920" y="217476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190600" y="2421720"/>
                <a:ext cx="44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2288160" y="2269800"/>
                <a:ext cx="9936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 flipV="1">
                <a:off x="2387880" y="2269440"/>
                <a:ext cx="9936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190600" y="2430360"/>
                <a:ext cx="443520" cy="1540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"/>
            <p:cNvSpPr/>
            <p:nvPr/>
          </p:nvSpPr>
          <p:spPr>
            <a:xfrm>
              <a:off x="3429720" y="2182680"/>
              <a:ext cx="914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436840" y="2227320"/>
              <a:ext cx="98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521160" y="2227320"/>
              <a:ext cx="98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556880" y="2227320"/>
              <a:ext cx="98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507920" y="2174760"/>
              <a:ext cx="91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979000" y="1406520"/>
              <a:ext cx="98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063320" y="1406520"/>
              <a:ext cx="98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965760" y="1364040"/>
              <a:ext cx="91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056200" y="1355760"/>
              <a:ext cx="91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78920" y="1355760"/>
              <a:ext cx="9180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2436480" y="1406520"/>
              <a:ext cx="49356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930040" y="1458720"/>
              <a:ext cx="541800" cy="71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3520800" y="1406520"/>
              <a:ext cx="49356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 flipV="1">
              <a:off x="4014360" y="1406160"/>
              <a:ext cx="49284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4605120" y="1406520"/>
              <a:ext cx="49356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 flipV="1">
              <a:off x="5098680" y="1406160"/>
              <a:ext cx="49284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467880" y="2234160"/>
              <a:ext cx="575280" cy="540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4001040" y="2276640"/>
            <a:ext cx="511560" cy="648720"/>
            <a:chOff x="4001040" y="2276640"/>
            <a:chExt cx="511560" cy="648720"/>
          </a:xfrm>
        </p:grpSpPr>
        <p:sp>
          <p:nvSpPr>
            <p:cNvPr id="786" name=""/>
            <p:cNvSpPr/>
            <p:nvPr/>
          </p:nvSpPr>
          <p:spPr>
            <a:xfrm>
              <a:off x="4001040" y="227664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133520" y="2320560"/>
              <a:ext cx="1364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0" y="2852640"/>
            <a:ext cx="9144000" cy="39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red punih nosača, imamo i rešetkaste. Karakteristike rešetki s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Kod rešetke imamo samo prave štap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U čvoru rešetke ose svih štapova moraju da se seku u jednoj tačk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Aktivne sile deluju samo u čvorovima rešetk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Oslonci su samo u čorovi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-720" y="0"/>
            <a:ext cx="32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E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lementi rešet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461880" y="549360"/>
            <a:ext cx="7758360" cy="3259080"/>
            <a:chOff x="461880" y="549360"/>
            <a:chExt cx="7758360" cy="3259080"/>
          </a:xfrm>
        </p:grpSpPr>
        <p:grpSp>
          <p:nvGrpSpPr>
            <p:cNvPr id="791" name=""/>
            <p:cNvGrpSpPr/>
            <p:nvPr/>
          </p:nvGrpSpPr>
          <p:grpSpPr>
            <a:xfrm>
              <a:off x="5164200" y="2719440"/>
              <a:ext cx="444240" cy="350640"/>
              <a:chOff x="5164200" y="2719440"/>
              <a:chExt cx="444240" cy="350640"/>
            </a:xfrm>
          </p:grpSpPr>
          <p:sp>
            <p:nvSpPr>
              <p:cNvPr id="792" name=""/>
              <p:cNvSpPr/>
              <p:nvPr/>
            </p:nvSpPr>
            <p:spPr>
              <a:xfrm>
                <a:off x="5312880" y="271944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164200" y="2966760"/>
                <a:ext cx="44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164200" y="3070080"/>
                <a:ext cx="44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5261760" y="2814480"/>
                <a:ext cx="9972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 flipV="1">
                <a:off x="5361480" y="2814480"/>
                <a:ext cx="9972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1960560" y="2711520"/>
              <a:ext cx="444240" cy="408960"/>
              <a:chOff x="1960560" y="2711520"/>
              <a:chExt cx="444240" cy="408960"/>
            </a:xfrm>
          </p:grpSpPr>
          <p:sp>
            <p:nvSpPr>
              <p:cNvPr id="798" name=""/>
              <p:cNvSpPr/>
              <p:nvPr/>
            </p:nvSpPr>
            <p:spPr>
              <a:xfrm>
                <a:off x="2109240" y="271152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960560" y="2958120"/>
                <a:ext cx="44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>
                <a:off x="2058120" y="280656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 flipV="1">
                <a:off x="2157840" y="280620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960560" y="2966760"/>
                <a:ext cx="444240" cy="1537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3" name=""/>
            <p:cNvSpPr/>
            <p:nvPr/>
          </p:nvSpPr>
          <p:spPr>
            <a:xfrm>
              <a:off x="2651040" y="2719440"/>
              <a:ext cx="9072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190600" y="2776680"/>
              <a:ext cx="46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290760" y="2764080"/>
              <a:ext cx="987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25760" y="2764080"/>
              <a:ext cx="987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278240" y="2711520"/>
              <a:ext cx="9072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2749680" y="1393920"/>
              <a:ext cx="977760" cy="54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03760" y="1393920"/>
              <a:ext cx="1015920" cy="54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727440" y="131760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826160" y="189252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649600" y="1892520"/>
              <a:ext cx="9216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2206440" y="1943280"/>
              <a:ext cx="493560" cy="76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2690640" y="1995480"/>
              <a:ext cx="9720" cy="70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3290400" y="1393920"/>
              <a:ext cx="474840" cy="131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 flipV="1">
              <a:off x="3803760" y="1432080"/>
              <a:ext cx="474480" cy="127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4375080" y="1943280"/>
              <a:ext cx="493920" cy="76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 flipV="1">
              <a:off x="4868640" y="1943280"/>
              <a:ext cx="493560" cy="76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214800" y="2719440"/>
              <a:ext cx="903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28800" y="1970280"/>
              <a:ext cx="49860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28800" y="2776680"/>
              <a:ext cx="46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572000" y="587520"/>
              <a:ext cx="2879640" cy="652320"/>
            </a:xfrm>
            <a:prstGeom prst="borderCallout1">
              <a:avLst>
                <a:gd name="adj1" fmla="val 18750"/>
                <a:gd name="adj2" fmla="val -8333"/>
                <a:gd name="adj3" fmla="val 146472"/>
                <a:gd name="adj4" fmla="val -15324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Gornji poja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65560" y="3198960"/>
              <a:ext cx="2036520" cy="609480"/>
            </a:xfrm>
            <a:prstGeom prst="borderCallout1">
              <a:avLst>
                <a:gd name="adj1" fmla="val 18750"/>
                <a:gd name="adj2" fmla="val -8333"/>
                <a:gd name="adj3" fmla="val -121356"/>
                <a:gd name="adj4" fmla="val -265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Vertikal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722920" y="2162160"/>
              <a:ext cx="2497320" cy="609840"/>
            </a:xfrm>
            <a:prstGeom prst="borderCallout1">
              <a:avLst>
                <a:gd name="adj1" fmla="val 18750"/>
                <a:gd name="adj2" fmla="val -8333"/>
                <a:gd name="adj3" fmla="val 100782"/>
                <a:gd name="adj4" fmla="val -368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Donji poja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61880" y="549360"/>
              <a:ext cx="2297160" cy="609840"/>
            </a:xfrm>
            <a:prstGeom prst="borderCallout1">
              <a:avLst>
                <a:gd name="adj1" fmla="val 18750"/>
                <a:gd name="adj2" fmla="val -8333"/>
                <a:gd name="adj3" fmla="val 303907"/>
                <a:gd name="adj4" fmla="val 11237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Dijagonal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193680" y="3967200"/>
            <a:ext cx="845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šetka je kruta, ako se rastojanja između njenih čvorova nemogu menj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9280" y="18900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NOSA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Č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268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d nosačem u Mehanici (Statici) podrazumevamo krut štap ili sistem krutih štapova, čija je sloboda kretanja, sistema kao celine, pa i svakog štapa u sastavu sistema, eliminisana, a pri tome im je namena da primaju aktivne sile i prenose ih na oslo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5502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1.Nosači mogu biti: 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prostorni, ravanski i linij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46958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DELA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šetka je kruta, ako se rastojanja između njenih čvorova 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ogu menj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93720" y="2928960"/>
            <a:ext cx="2149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693720" y="1278000"/>
            <a:ext cx="0" cy="16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459160" y="23922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70040" y="112392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1384200" y="1507680"/>
            <a:ext cx="768600" cy="76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384200" y="227664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693720" y="227664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346040" y="2276640"/>
            <a:ext cx="119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614600" y="1854360"/>
            <a:ext cx="383760" cy="84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036880" y="170028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536920" y="1278000"/>
            <a:ext cx="9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923760" y="1700280"/>
            <a:ext cx="5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652760" y="108576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rot="19902600">
            <a:off x="6157440" y="220176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5588280" y="2257560"/>
            <a:ext cx="565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6210720" y="1922400"/>
            <a:ext cx="567360" cy="30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6806160" y="1602000"/>
            <a:ext cx="565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rot="19902600">
            <a:off x="6771960" y="186048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5551920" y="1441440"/>
            <a:ext cx="565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6174360" y="1106640"/>
            <a:ext cx="565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rot="19902600">
            <a:off x="6116760" y="1389240"/>
            <a:ext cx="6012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rot="19902600">
            <a:off x="6738480" y="104472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rot="19902600">
            <a:off x="5489640" y="1717560"/>
            <a:ext cx="6012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523120" y="1760040"/>
            <a:ext cx="42480" cy="75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H="1" flipV="1">
            <a:off x="5546160" y="1802880"/>
            <a:ext cx="614160" cy="39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144840" y="1426680"/>
            <a:ext cx="42840" cy="75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 flipV="1">
            <a:off x="6145200" y="1425600"/>
            <a:ext cx="610200" cy="453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767280" y="1092240"/>
            <a:ext cx="44280" cy="758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H="1" flipV="1">
            <a:off x="6767640" y="1090080"/>
            <a:ext cx="610200" cy="453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rot="19902600">
            <a:off x="5532120" y="249876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rot="19902600">
            <a:off x="7354440" y="153828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764240" y="3044880"/>
            <a:ext cx="203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300720" y="24685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4764240" y="1393920"/>
            <a:ext cx="0" cy="16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840200" y="104760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570640" y="2622600"/>
            <a:ext cx="0" cy="42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4725720" y="2546280"/>
            <a:ext cx="804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723000" y="193032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686560" y="2546280"/>
            <a:ext cx="119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301440" y="2122560"/>
            <a:ext cx="383040" cy="84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605720" y="1163520"/>
            <a:ext cx="99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953400" y="2506680"/>
            <a:ext cx="2717640" cy="609480"/>
          </a:xfrm>
          <a:prstGeom prst="borderCallout1">
            <a:avLst>
              <a:gd name="adj1" fmla="val 18750"/>
              <a:gd name="adj2" fmla="val -8333"/>
              <a:gd name="adj3" fmla="val -25782"/>
              <a:gd name="adj4" fmla="val -334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ruta rešet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61880" y="3236760"/>
            <a:ext cx="334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Labilna rešet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923760" y="3967200"/>
            <a:ext cx="2803680" cy="922320"/>
            <a:chOff x="923760" y="3967200"/>
            <a:chExt cx="2803680" cy="922320"/>
          </a:xfrm>
        </p:grpSpPr>
        <p:sp>
          <p:nvSpPr>
            <p:cNvPr id="872" name=""/>
            <p:cNvSpPr/>
            <p:nvPr/>
          </p:nvSpPr>
          <p:spPr>
            <a:xfrm>
              <a:off x="2009520" y="4794120"/>
              <a:ext cx="9072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015920" y="4838760"/>
              <a:ext cx="987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100240" y="4838760"/>
              <a:ext cx="98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087360" y="4786200"/>
              <a:ext cx="9072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012680" y="4017960"/>
              <a:ext cx="98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74680" y="4017960"/>
              <a:ext cx="98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98360" y="397512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35160" y="396720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923760" y="396720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961920" y="4083120"/>
              <a:ext cx="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>
              <a:off x="2036520" y="4044600"/>
              <a:ext cx="15840" cy="74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 flipV="1">
              <a:off x="3072960" y="4082760"/>
              <a:ext cx="14040" cy="70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23760" y="4773600"/>
              <a:ext cx="903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1000080" y="4005360"/>
              <a:ext cx="460440" cy="806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2076120" y="4005360"/>
              <a:ext cx="460440" cy="806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3189240" y="4005360"/>
              <a:ext cx="460440" cy="806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151080" y="4005360"/>
              <a:ext cx="498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635280" y="396720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501480" y="4888080"/>
            <a:ext cx="7718760" cy="19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zna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- broj čvorova rešet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-broj štapova rešet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0" y="0"/>
            <a:ext cx="883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dnos između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kod rešetkastih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1998720" y="855720"/>
            <a:ext cx="3647160" cy="1802520"/>
            <a:chOff x="1998720" y="855720"/>
            <a:chExt cx="3647160" cy="1802520"/>
          </a:xfrm>
        </p:grpSpPr>
        <p:grpSp>
          <p:nvGrpSpPr>
            <p:cNvPr id="893" name=""/>
            <p:cNvGrpSpPr/>
            <p:nvPr/>
          </p:nvGrpSpPr>
          <p:grpSpPr>
            <a:xfrm>
              <a:off x="5202000" y="2257200"/>
              <a:ext cx="443880" cy="349920"/>
              <a:chOff x="5202000" y="2257200"/>
              <a:chExt cx="443880" cy="349920"/>
            </a:xfrm>
          </p:grpSpPr>
          <p:sp>
            <p:nvSpPr>
              <p:cNvPr id="894" name=""/>
              <p:cNvSpPr/>
              <p:nvPr/>
            </p:nvSpPr>
            <p:spPr>
              <a:xfrm>
                <a:off x="5350320" y="225720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202000" y="2503800"/>
                <a:ext cx="44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202000" y="2607120"/>
                <a:ext cx="44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5299200" y="235224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 flipV="1">
                <a:off x="5398920" y="235188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1998720" y="2249280"/>
              <a:ext cx="443880" cy="408960"/>
              <a:chOff x="1998720" y="2249280"/>
              <a:chExt cx="443880" cy="408960"/>
            </a:xfrm>
          </p:grpSpPr>
          <p:sp>
            <p:nvSpPr>
              <p:cNvPr id="900" name=""/>
              <p:cNvSpPr/>
              <p:nvPr/>
            </p:nvSpPr>
            <p:spPr>
              <a:xfrm>
                <a:off x="2147040" y="224928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998720" y="2495880"/>
                <a:ext cx="44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2095920" y="2344320"/>
                <a:ext cx="99720" cy="15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 flipV="1">
                <a:off x="2195640" y="2344320"/>
                <a:ext cx="99720" cy="15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998720" y="2504520"/>
                <a:ext cx="443880" cy="1537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5" name=""/>
            <p:cNvSpPr/>
            <p:nvPr/>
          </p:nvSpPr>
          <p:spPr>
            <a:xfrm>
              <a:off x="2688840" y="2257200"/>
              <a:ext cx="9036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228400" y="2314440"/>
              <a:ext cx="46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328560" y="2301480"/>
              <a:ext cx="98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316040" y="2249280"/>
              <a:ext cx="9036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2787480" y="931320"/>
              <a:ext cx="977400" cy="54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841560" y="931680"/>
              <a:ext cx="1015560" cy="54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765240" y="85572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3960" y="1468080"/>
              <a:ext cx="914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687400" y="142992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2228400" y="1507680"/>
              <a:ext cx="49968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2728440" y="1532880"/>
              <a:ext cx="9360" cy="70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3303360" y="931680"/>
              <a:ext cx="499680" cy="134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3803040" y="969480"/>
              <a:ext cx="512280" cy="131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4417560" y="1545840"/>
              <a:ext cx="499680" cy="73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 flipV="1">
              <a:off x="4917600" y="1545480"/>
              <a:ext cx="482400" cy="70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252600" y="2257200"/>
              <a:ext cx="9000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766600" y="1507680"/>
              <a:ext cx="498240" cy="76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766600" y="2314440"/>
              <a:ext cx="49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865400" y="2257200"/>
              <a:ext cx="9000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955760" y="2314440"/>
              <a:ext cx="42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417560" y="2314440"/>
              <a:ext cx="46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4908240" y="1545480"/>
              <a:ext cx="9000" cy="70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"/>
          <p:cNvSpPr/>
          <p:nvPr/>
        </p:nvSpPr>
        <p:spPr>
          <a:xfrm>
            <a:off x="270000" y="2814480"/>
            <a:ext cx="8680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2k-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=2k-3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nos između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d krute rešetke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09600" y="4773600"/>
            <a:ext cx="779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šetka u ravni je kruta ako je sastavljena iz trouglo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570640" y="779400"/>
            <a:ext cx="3573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=9;s=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k-s=18-15=3=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dređivanje reakcija rešetkastih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H="1" flipV="1">
            <a:off x="3779280" y="1389960"/>
            <a:ext cx="903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3876840" y="1441440"/>
            <a:ext cx="987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2792160" y="1441440"/>
            <a:ext cx="987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1757520" y="1432080"/>
            <a:ext cx="93312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H="1" flipV="1">
            <a:off x="2701800" y="1397880"/>
            <a:ext cx="9072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3335400" y="226224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2251080" y="226224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3243240" y="2208960"/>
            <a:ext cx="921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H="1" flipV="1">
            <a:off x="2152080" y="2216880"/>
            <a:ext cx="918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H="1" flipV="1">
            <a:off x="4329000" y="2216880"/>
            <a:ext cx="921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4419720" y="1494000"/>
            <a:ext cx="444240" cy="74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827520" y="1494000"/>
            <a:ext cx="542880" cy="71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3305160" y="1494000"/>
            <a:ext cx="474840" cy="74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92520" y="1494000"/>
            <a:ext cx="436320" cy="70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2230560" y="1494000"/>
            <a:ext cx="465120" cy="74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708200" y="1494000"/>
            <a:ext cx="446040" cy="70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256920" y="893880"/>
            <a:ext cx="576000" cy="54108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H="1" flipV="1">
            <a:off x="1653480" y="1393920"/>
            <a:ext cx="903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H="1" flipV="1">
            <a:off x="1653480" y="2948760"/>
            <a:ext cx="903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1730520" y="2316240"/>
            <a:ext cx="423720" cy="65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1308240" y="1201680"/>
            <a:ext cx="345960" cy="19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654200" y="1201680"/>
            <a:ext cx="0" cy="199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H="1" flipV="1">
            <a:off x="4867200" y="1393920"/>
            <a:ext cx="9072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1193760" y="3044520"/>
            <a:ext cx="460440" cy="538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001880" y="1432080"/>
            <a:ext cx="614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1692360" y="971280"/>
            <a:ext cx="0" cy="42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39640" y="3083040"/>
            <a:ext cx="768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7400" y="779400"/>
            <a:ext cx="690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808280" y="701640"/>
            <a:ext cx="72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031080" y="1393920"/>
            <a:ext cx="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838840" y="1393920"/>
            <a:ext cx="192240" cy="844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031080" y="1778040"/>
            <a:ext cx="1152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3621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akcije se određuju kao i kod punih nosač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574680" y="1198800"/>
            <a:ext cx="576000" cy="54108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0" y="4197240"/>
            <a:ext cx="91440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tatička određenost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osač je statički određen ako je broj uslova ravnoteže jednak broju reakcija v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s-2k=0 (za ravan) i rs+s-3k=0 (za pros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241560" y="260280"/>
            <a:ext cx="84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ko postoje prekobrojne veze, nosač je statičk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eodređen: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4433760" y="2259000"/>
            <a:ext cx="444240" cy="350640"/>
            <a:chOff x="4433760" y="2259000"/>
            <a:chExt cx="444240" cy="350640"/>
          </a:xfrm>
        </p:grpSpPr>
        <p:sp>
          <p:nvSpPr>
            <p:cNvPr id="968" name=""/>
            <p:cNvSpPr/>
            <p:nvPr/>
          </p:nvSpPr>
          <p:spPr>
            <a:xfrm>
              <a:off x="4582440" y="225900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433760" y="250632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433760" y="260964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4531320" y="2354040"/>
              <a:ext cx="997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>
              <a:off x="4631040" y="2354040"/>
              <a:ext cx="997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1230480" y="2251080"/>
            <a:ext cx="443880" cy="408960"/>
            <a:chOff x="1230480" y="2251080"/>
            <a:chExt cx="443880" cy="408960"/>
          </a:xfrm>
        </p:grpSpPr>
        <p:sp>
          <p:nvSpPr>
            <p:cNvPr id="974" name=""/>
            <p:cNvSpPr/>
            <p:nvPr/>
          </p:nvSpPr>
          <p:spPr>
            <a:xfrm>
              <a:off x="1378800" y="225108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230480" y="2497680"/>
              <a:ext cx="44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1327680" y="234612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 flipV="1">
              <a:off x="1427400" y="234576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230480" y="2506320"/>
              <a:ext cx="443880" cy="153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"/>
          <p:cNvSpPr/>
          <p:nvPr/>
        </p:nvSpPr>
        <p:spPr>
          <a:xfrm>
            <a:off x="2470320" y="2259000"/>
            <a:ext cx="903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476360" y="2303640"/>
            <a:ext cx="987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560680" y="2303640"/>
            <a:ext cx="987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595680" y="2303640"/>
            <a:ext cx="987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548160" y="2251080"/>
            <a:ext cx="903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019240" y="1482840"/>
            <a:ext cx="986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103560" y="148284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005280" y="1440000"/>
            <a:ext cx="918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4095720" y="1432080"/>
            <a:ext cx="921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919160" y="1432080"/>
            <a:ext cx="921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1476000" y="1482840"/>
            <a:ext cx="49356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flipH="1" flipV="1">
            <a:off x="1969560" y="1534680"/>
            <a:ext cx="543240" cy="71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2560320" y="1482840"/>
            <a:ext cx="49356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H="1" flipV="1">
            <a:off x="3054240" y="1482840"/>
            <a:ext cx="49392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3644640" y="1482840"/>
            <a:ext cx="49356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H="1" flipV="1">
            <a:off x="4138560" y="1482840"/>
            <a:ext cx="49392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2322360" y="2276640"/>
            <a:ext cx="444240" cy="350280"/>
            <a:chOff x="2322360" y="2276640"/>
            <a:chExt cx="444240" cy="350280"/>
          </a:xfrm>
        </p:grpSpPr>
        <p:sp>
          <p:nvSpPr>
            <p:cNvPr id="996" name=""/>
            <p:cNvSpPr/>
            <p:nvPr/>
          </p:nvSpPr>
          <p:spPr>
            <a:xfrm>
              <a:off x="2471040" y="227664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322360" y="252360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322360" y="262692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>
              <a:off x="2419920" y="237168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 flipV="1">
              <a:off x="2519640" y="237132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4802040" y="1316160"/>
            <a:ext cx="43419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2k-s-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2x7-11-4 =-1 (1x statički neod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0" y="3236760"/>
            <a:ext cx="75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Sila u štapu rešet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0" y="4197240"/>
            <a:ext cx="895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ehanički utiacaj štapa na čvor rešetke, predstavlja silu u štapu rešet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0" y="5464080"/>
            <a:ext cx="75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Izračunavanje sila u štapovima rešet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96120" y="115920"/>
            <a:ext cx="89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Dirketno postavljanje uslova ravnoteže čvorova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-analitički način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(isecanje čvorov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343320" y="2814480"/>
            <a:ext cx="3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690640" y="2814480"/>
            <a:ext cx="3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957480" y="281448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1730520" y="2673360"/>
            <a:ext cx="443880" cy="408960"/>
            <a:chOff x="1730520" y="2673360"/>
            <a:chExt cx="443880" cy="408960"/>
          </a:xfrm>
        </p:grpSpPr>
        <p:sp>
          <p:nvSpPr>
            <p:cNvPr id="1010" name=""/>
            <p:cNvSpPr/>
            <p:nvPr/>
          </p:nvSpPr>
          <p:spPr>
            <a:xfrm>
              <a:off x="1878840" y="267336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730520" y="2919960"/>
              <a:ext cx="44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1827720" y="276840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 flipV="1">
              <a:off x="1927440" y="276804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730520" y="2928600"/>
              <a:ext cx="443880" cy="153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4578480" y="2724120"/>
            <a:ext cx="607680" cy="434520"/>
            <a:chOff x="4578480" y="2724120"/>
            <a:chExt cx="607680" cy="434520"/>
          </a:xfrm>
        </p:grpSpPr>
        <p:sp>
          <p:nvSpPr>
            <p:cNvPr id="1016" name=""/>
            <p:cNvSpPr/>
            <p:nvPr/>
          </p:nvSpPr>
          <p:spPr>
            <a:xfrm>
              <a:off x="4781880" y="2724120"/>
              <a:ext cx="125640" cy="11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578480" y="3030480"/>
              <a:ext cx="60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578480" y="3158640"/>
              <a:ext cx="60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4712040" y="2842200"/>
              <a:ext cx="136440" cy="18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 flipV="1">
              <a:off x="4848480" y="2842200"/>
              <a:ext cx="136440" cy="18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3335400" y="2724120"/>
            <a:ext cx="123840" cy="119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976400" y="2779560"/>
            <a:ext cx="134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459240" y="2779560"/>
            <a:ext cx="134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719440" y="1763640"/>
            <a:ext cx="1347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4067280" y="1709640"/>
            <a:ext cx="125280" cy="119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581200" y="1700280"/>
            <a:ext cx="127080" cy="117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1976040" y="1793880"/>
            <a:ext cx="660600" cy="92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H="1" flipV="1">
            <a:off x="2688840" y="1778040"/>
            <a:ext cx="654120" cy="92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3424320" y="1843200"/>
            <a:ext cx="684000" cy="90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H="1" flipV="1">
            <a:off x="4159080" y="1842840"/>
            <a:ext cx="649440" cy="871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4158720" y="1793880"/>
            <a:ext cx="11034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610160" y="1123920"/>
            <a:ext cx="6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4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496960" y="1201680"/>
            <a:ext cx="46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803760" y="1201680"/>
            <a:ext cx="7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228760" y="262260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879800" y="2162160"/>
            <a:ext cx="5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1267920" y="2738520"/>
            <a:ext cx="614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1922400" y="2238120"/>
            <a:ext cx="0" cy="42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4840200" y="2852280"/>
            <a:ext cx="0" cy="42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994280" y="2660760"/>
            <a:ext cx="72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652760" y="1585800"/>
            <a:ext cx="72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885960" y="2084400"/>
            <a:ext cx="72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344680" y="2200320"/>
            <a:ext cx="42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151080" y="2008080"/>
            <a:ext cx="46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3841920" y="2162160"/>
            <a:ext cx="42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495680" y="1854360"/>
            <a:ext cx="5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073320" y="10857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92240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69064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38148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414972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87980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922400" y="3583080"/>
            <a:ext cx="72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652840" y="3583080"/>
            <a:ext cx="72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382920" y="3583080"/>
            <a:ext cx="72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151160" y="3583080"/>
            <a:ext cx="72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646600" y="1778040"/>
            <a:ext cx="76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686560" y="2776680"/>
            <a:ext cx="80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5992920" y="1778040"/>
            <a:ext cx="0" cy="998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075040" y="30830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805120" y="30798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497400" y="30416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302000" y="30416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530680" y="1969920"/>
            <a:ext cx="5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1614600" y="2430360"/>
            <a:ext cx="61416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073320" y="2430360"/>
            <a:ext cx="61452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4533840" y="2506680"/>
            <a:ext cx="61452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344680" y="1201680"/>
            <a:ext cx="61452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803760" y="1201680"/>
            <a:ext cx="61416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0" y="4846680"/>
            <a:ext cx="16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649680" y="4805280"/>
            <a:ext cx="549432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0.707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2" name=""/>
          <p:cNvGrpSpPr/>
          <p:nvPr/>
        </p:nvGrpSpPr>
        <p:grpSpPr>
          <a:xfrm>
            <a:off x="1384200" y="4419720"/>
            <a:ext cx="2305080" cy="1766160"/>
            <a:chOff x="1384200" y="4419720"/>
            <a:chExt cx="2305080" cy="1766160"/>
          </a:xfrm>
        </p:grpSpPr>
        <p:grpSp>
          <p:nvGrpSpPr>
            <p:cNvPr id="1073" name=""/>
            <p:cNvGrpSpPr/>
            <p:nvPr/>
          </p:nvGrpSpPr>
          <p:grpSpPr>
            <a:xfrm>
              <a:off x="2152440" y="5153040"/>
              <a:ext cx="444240" cy="408960"/>
              <a:chOff x="2152440" y="5153040"/>
              <a:chExt cx="444240" cy="408960"/>
            </a:xfrm>
          </p:grpSpPr>
          <p:sp>
            <p:nvSpPr>
              <p:cNvPr id="1074" name=""/>
              <p:cNvSpPr/>
              <p:nvPr/>
            </p:nvSpPr>
            <p:spPr>
              <a:xfrm>
                <a:off x="2301120" y="515304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152440" y="5399640"/>
                <a:ext cx="44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H="1">
                <a:off x="2250000" y="524808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H="1" flipV="1">
                <a:off x="2349720" y="524772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152440" y="5408280"/>
                <a:ext cx="444240" cy="1537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"/>
            <p:cNvSpPr/>
            <p:nvPr/>
          </p:nvSpPr>
          <p:spPr>
            <a:xfrm flipV="1">
              <a:off x="2344680" y="5266800"/>
              <a:ext cx="0" cy="654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1692360" y="5191200"/>
              <a:ext cx="614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384280" y="5537160"/>
              <a:ext cx="728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384200" y="4419720"/>
              <a:ext cx="728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82840" y="519120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2382840" y="4652640"/>
              <a:ext cx="57636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536920" y="4844880"/>
              <a:ext cx="38376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035160" y="4422600"/>
              <a:ext cx="615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074760" y="519120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076480" y="453852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"/>
          <p:cNvSpPr/>
          <p:nvPr/>
        </p:nvSpPr>
        <p:spPr>
          <a:xfrm>
            <a:off x="6605640" y="1469880"/>
            <a:ext cx="253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in45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=      =0.707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0" name=""/>
          <p:cNvGraphicFramePr/>
          <p:nvPr/>
        </p:nvGraphicFramePr>
        <p:xfrm>
          <a:off x="8039160" y="1355760"/>
          <a:ext cx="450720" cy="72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39160" y="1355760"/>
                    <a:ext cx="45072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"/>
          <p:cNvGrpSpPr/>
          <p:nvPr/>
        </p:nvGrpSpPr>
        <p:grpSpPr>
          <a:xfrm>
            <a:off x="1192320" y="0"/>
            <a:ext cx="2381040" cy="1762920"/>
            <a:chOff x="1192320" y="0"/>
            <a:chExt cx="2381040" cy="1762920"/>
          </a:xfrm>
        </p:grpSpPr>
        <p:sp>
          <p:nvSpPr>
            <p:cNvPr id="1093" name=""/>
            <p:cNvSpPr/>
            <p:nvPr/>
          </p:nvSpPr>
          <p:spPr>
            <a:xfrm>
              <a:off x="2306520" y="998640"/>
              <a:ext cx="123840" cy="11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421000" y="107460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2421000" y="536040"/>
              <a:ext cx="57636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 flipV="1">
              <a:off x="1806120" y="460440"/>
              <a:ext cx="500040" cy="5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1461960" y="107460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500120" y="111420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192320" y="0"/>
              <a:ext cx="614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651040" y="107460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959200" y="268200"/>
              <a:ext cx="614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228760" y="1074600"/>
              <a:ext cx="38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"/>
          <p:cNvSpPr/>
          <p:nvPr/>
        </p:nvSpPr>
        <p:spPr>
          <a:xfrm>
            <a:off x="0" y="549360"/>
            <a:ext cx="15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651760" y="739800"/>
            <a:ext cx="383040" cy="69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1884240" y="741240"/>
            <a:ext cx="383760" cy="69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227400" y="0"/>
            <a:ext cx="61070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0.707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0" y="227664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0" y="3621240"/>
            <a:ext cx="177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0" y="4927680"/>
            <a:ext cx="192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I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"/>
          <p:cNvGrpSpPr/>
          <p:nvPr/>
        </p:nvGrpSpPr>
        <p:grpSpPr>
          <a:xfrm>
            <a:off x="1460520" y="1542960"/>
            <a:ext cx="1843200" cy="1801080"/>
            <a:chOff x="1460520" y="1542960"/>
            <a:chExt cx="1843200" cy="1801080"/>
          </a:xfrm>
        </p:grpSpPr>
        <p:sp>
          <p:nvSpPr>
            <p:cNvPr id="1111" name=""/>
            <p:cNvSpPr/>
            <p:nvPr/>
          </p:nvSpPr>
          <p:spPr>
            <a:xfrm>
              <a:off x="2575080" y="2541240"/>
              <a:ext cx="123840" cy="1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 flipV="1">
              <a:off x="2074680" y="2002680"/>
              <a:ext cx="50004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1730520" y="261756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768320" y="265716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460520" y="154296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612880" y="1931760"/>
              <a:ext cx="49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2612880" y="2660040"/>
              <a:ext cx="0" cy="5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575080" y="2695320"/>
              <a:ext cx="728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2075040" y="2238120"/>
              <a:ext cx="38304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0" name=""/>
          <p:cNvSpPr/>
          <p:nvPr/>
        </p:nvSpPr>
        <p:spPr>
          <a:xfrm>
            <a:off x="3305160" y="1623960"/>
            <a:ext cx="495468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0.707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1652760" y="3313080"/>
            <a:ext cx="1844640" cy="1263240"/>
            <a:chOff x="1652760" y="3313080"/>
            <a:chExt cx="1844640" cy="1263240"/>
          </a:xfrm>
        </p:grpSpPr>
        <p:sp>
          <p:nvSpPr>
            <p:cNvPr id="1122" name=""/>
            <p:cNvSpPr/>
            <p:nvPr/>
          </p:nvSpPr>
          <p:spPr>
            <a:xfrm>
              <a:off x="2536920" y="3816360"/>
              <a:ext cx="123840" cy="1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651040" y="389268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1960200" y="3892680"/>
              <a:ext cx="576360" cy="46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652760" y="3546360"/>
              <a:ext cx="614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881440" y="3927600"/>
              <a:ext cx="614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344680" y="3892680"/>
              <a:ext cx="61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612880" y="3929760"/>
              <a:ext cx="50004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882880" y="331308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3265560" y="3044880"/>
            <a:ext cx="55706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+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4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344760" y="4503600"/>
            <a:ext cx="57992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4F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1654200" y="4503600"/>
            <a:ext cx="1727280" cy="1761480"/>
            <a:chOff x="1654200" y="4503600"/>
            <a:chExt cx="1727280" cy="1761480"/>
          </a:xfrm>
        </p:grpSpPr>
        <p:sp>
          <p:nvSpPr>
            <p:cNvPr id="1133" name=""/>
            <p:cNvSpPr/>
            <p:nvPr/>
          </p:nvSpPr>
          <p:spPr>
            <a:xfrm>
              <a:off x="2498760" y="5155920"/>
              <a:ext cx="123840" cy="1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612880" y="5232240"/>
              <a:ext cx="692280" cy="53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2612520" y="5194080"/>
              <a:ext cx="76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1654200" y="523224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960560" y="561636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806480" y="453852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651040" y="554004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306520" y="5232240"/>
              <a:ext cx="92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1922040" y="5271120"/>
              <a:ext cx="576360" cy="46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728800" y="4503600"/>
              <a:ext cx="6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4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3" name=""/>
          <p:cNvSpPr/>
          <p:nvPr/>
        </p:nvSpPr>
        <p:spPr>
          <a:xfrm>
            <a:off x="0" y="607860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10 jed; 10nepoznatih: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2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7,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95280" y="40464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Prostorni nosač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maju sve tri dimenzije. Primer: Temeljni nosa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465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427640" y="3717720"/>
            <a:ext cx="143964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427640" y="4149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4149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195640" y="4149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5867280" y="321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27640" y="3213000"/>
            <a:ext cx="143964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195640" y="3213000"/>
            <a:ext cx="143964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35280" y="321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92360" y="3789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24360" y="35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140360" y="3499920"/>
            <a:ext cx="431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572000" y="2492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140360" y="2781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492360" y="2781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924360" y="2492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492360" y="3499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92360" y="2781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140360" y="2491920"/>
            <a:ext cx="431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49236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24360" y="2492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95640" y="501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501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867280" y="4076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427640" y="4365360"/>
            <a:ext cx="1439640" cy="93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95640" y="530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59280" y="472428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003640" y="4221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3213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00720" y="3213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00720" y="3716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88000" y="321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56360" y="31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5280" y="404640"/>
            <a:ext cx="8497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Površinski nosač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maju jednu dimenziju mnogo manju u odnosu na ostale d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rimeri: ploča i lju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95280" y="2997000"/>
            <a:ext cx="3671640" cy="2303280"/>
            <a:chOff x="395280" y="2997000"/>
            <a:chExt cx="3671640" cy="2303280"/>
          </a:xfrm>
        </p:grpSpPr>
        <p:sp>
          <p:nvSpPr>
            <p:cNvPr id="252" name=""/>
            <p:cNvSpPr/>
            <p:nvPr/>
          </p:nvSpPr>
          <p:spPr>
            <a:xfrm flipV="1">
              <a:off x="2627280" y="393336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5280" y="393372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395280" y="393336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066920" y="299700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2627280" y="2997000"/>
              <a:ext cx="143964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95280" y="2997000"/>
              <a:ext cx="143964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95280" y="479736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27280" y="479736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66920" y="386064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2627280" y="4149720"/>
              <a:ext cx="1439640" cy="93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5280" y="508464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58920" y="4508280"/>
              <a:ext cx="71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03280" y="400500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34920" y="299736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292720" y="2852640"/>
            <a:ext cx="3166920" cy="2447640"/>
            <a:chOff x="5292720" y="2852640"/>
            <a:chExt cx="3166920" cy="2447640"/>
          </a:xfrm>
        </p:grpSpPr>
        <p:sp>
          <p:nvSpPr>
            <p:cNvPr id="267" name=""/>
            <p:cNvSpPr/>
            <p:nvPr/>
          </p:nvSpPr>
          <p:spPr>
            <a:xfrm>
              <a:off x="5292720" y="3717720"/>
              <a:ext cx="1295280" cy="1150920"/>
            </a:xfrm>
            <a:custGeom>
              <a:avLst/>
              <a:gdLst/>
              <a:ahLst/>
              <a:rect l="l" t="t" r="r" b="b"/>
              <a:pathLst>
                <a:path w="816" h="725">
                  <a:moveTo>
                    <a:pt x="0" y="0"/>
                  </a:moveTo>
                  <a:cubicBezTo>
                    <a:pt x="226" y="52"/>
                    <a:pt x="453" y="105"/>
                    <a:pt x="589" y="226"/>
                  </a:cubicBezTo>
                  <a:cubicBezTo>
                    <a:pt x="725" y="347"/>
                    <a:pt x="778" y="642"/>
                    <a:pt x="816" y="72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92720" y="2852640"/>
              <a:ext cx="1871640" cy="865080"/>
            </a:xfrm>
            <a:custGeom>
              <a:avLst/>
              <a:gdLst/>
              <a:ahLst/>
              <a:rect l="l" t="t" r="r" b="b"/>
              <a:pathLst>
                <a:path w="1179" h="545">
                  <a:moveTo>
                    <a:pt x="0" y="545"/>
                  </a:moveTo>
                  <a:cubicBezTo>
                    <a:pt x="173" y="386"/>
                    <a:pt x="347" y="227"/>
                    <a:pt x="544" y="136"/>
                  </a:cubicBezTo>
                  <a:cubicBezTo>
                    <a:pt x="741" y="45"/>
                    <a:pt x="960" y="22"/>
                    <a:pt x="1179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88000" y="4005000"/>
              <a:ext cx="1871640" cy="865080"/>
            </a:xfrm>
            <a:custGeom>
              <a:avLst/>
              <a:gdLst/>
              <a:ahLst/>
              <a:rect l="l" t="t" r="r" b="b"/>
              <a:pathLst>
                <a:path w="1179" h="545">
                  <a:moveTo>
                    <a:pt x="0" y="545"/>
                  </a:moveTo>
                  <a:cubicBezTo>
                    <a:pt x="173" y="386"/>
                    <a:pt x="347" y="227"/>
                    <a:pt x="544" y="136"/>
                  </a:cubicBezTo>
                  <a:cubicBezTo>
                    <a:pt x="741" y="45"/>
                    <a:pt x="960" y="22"/>
                    <a:pt x="1179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164360" y="2852640"/>
              <a:ext cx="1295280" cy="1150920"/>
            </a:xfrm>
            <a:custGeom>
              <a:avLst/>
              <a:gdLst/>
              <a:ahLst/>
              <a:rect l="l" t="t" r="r" b="b"/>
              <a:pathLst>
                <a:path w="816" h="725">
                  <a:moveTo>
                    <a:pt x="0" y="0"/>
                  </a:moveTo>
                  <a:cubicBezTo>
                    <a:pt x="226" y="52"/>
                    <a:pt x="453" y="105"/>
                    <a:pt x="589" y="226"/>
                  </a:cubicBezTo>
                  <a:cubicBezTo>
                    <a:pt x="725" y="347"/>
                    <a:pt x="778" y="642"/>
                    <a:pt x="816" y="72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92720" y="37177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88000" y="48686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459640" y="4005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611280" y="5516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lo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48360" y="5445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Lju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41590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 ravanske nosače spadaju i ramovski nosači koji spadaju u grupu linijskih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184480" y="550224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65560" y="5462640"/>
            <a:ext cx="71640" cy="7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57400" y="5502240"/>
            <a:ext cx="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24240" y="5502240"/>
            <a:ext cx="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803680" y="6384960"/>
            <a:ext cx="345960" cy="263520"/>
            <a:chOff x="2803680" y="6384960"/>
            <a:chExt cx="345960" cy="263520"/>
          </a:xfrm>
        </p:grpSpPr>
        <p:sp>
          <p:nvSpPr>
            <p:cNvPr id="282" name=""/>
            <p:cNvSpPr/>
            <p:nvPr/>
          </p:nvSpPr>
          <p:spPr>
            <a:xfrm>
              <a:off x="2919600" y="6384960"/>
              <a:ext cx="71280" cy="716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03680" y="657072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03680" y="664848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2880000" y="6456600"/>
              <a:ext cx="777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2957760" y="6456240"/>
              <a:ext cx="777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070520" y="6384960"/>
            <a:ext cx="345960" cy="263520"/>
            <a:chOff x="4070520" y="6384960"/>
            <a:chExt cx="345960" cy="263520"/>
          </a:xfrm>
        </p:grpSpPr>
        <p:sp>
          <p:nvSpPr>
            <p:cNvPr id="288" name=""/>
            <p:cNvSpPr/>
            <p:nvPr/>
          </p:nvSpPr>
          <p:spPr>
            <a:xfrm>
              <a:off x="4186440" y="6384960"/>
              <a:ext cx="71280" cy="716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070520" y="657072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070520" y="664848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146840" y="6456600"/>
              <a:ext cx="777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4224600" y="6456240"/>
              <a:ext cx="777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6107040" y="6384960"/>
            <a:ext cx="346320" cy="307440"/>
            <a:chOff x="6107040" y="6384960"/>
            <a:chExt cx="346320" cy="307440"/>
          </a:xfrm>
        </p:grpSpPr>
        <p:sp>
          <p:nvSpPr>
            <p:cNvPr id="294" name=""/>
            <p:cNvSpPr/>
            <p:nvPr/>
          </p:nvSpPr>
          <p:spPr>
            <a:xfrm>
              <a:off x="6222960" y="6384960"/>
              <a:ext cx="71640" cy="7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07040" y="6570360"/>
              <a:ext cx="34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6183360" y="6456240"/>
              <a:ext cx="7776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6261120" y="6456240"/>
              <a:ext cx="7776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07040" y="6576840"/>
              <a:ext cx="346320" cy="11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5146560" y="5502240"/>
            <a:ext cx="111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61120" y="5502240"/>
            <a:ext cx="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Linijski nosač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maju dve dimenzije mnogo manje u odnosu n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reću dimenzi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2608800">
            <a:off x="1082160" y="1009800"/>
            <a:ext cx="806760" cy="23526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463680" y="1123560"/>
            <a:ext cx="1995480" cy="2112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841920" y="1047600"/>
            <a:ext cx="3879720" cy="1960560"/>
            <a:chOff x="3841920" y="1047600"/>
            <a:chExt cx="3879720" cy="1960560"/>
          </a:xfrm>
        </p:grpSpPr>
        <p:sp>
          <p:nvSpPr>
            <p:cNvPr id="305" name=""/>
            <p:cNvSpPr/>
            <p:nvPr/>
          </p:nvSpPr>
          <p:spPr>
            <a:xfrm>
              <a:off x="4111560" y="2162160"/>
              <a:ext cx="96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11560" y="227808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111560" y="3006720"/>
              <a:ext cx="96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33840" y="2278080"/>
              <a:ext cx="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48320" y="2278080"/>
              <a:ext cx="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49760" y="227808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111560" y="289224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48320" y="289224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11560" y="216216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72040" y="216216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11560" y="289224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072040" y="289224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4111560" y="1047600"/>
              <a:ext cx="222732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5072040" y="1047600"/>
              <a:ext cx="222732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5072040" y="1163520"/>
              <a:ext cx="222732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4649760" y="1777680"/>
              <a:ext cx="2227320" cy="11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5072040" y="1777680"/>
              <a:ext cx="2227320" cy="11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5072040" y="1892160"/>
              <a:ext cx="222732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4111560" y="2700000"/>
              <a:ext cx="42228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77080" y="177804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99360" y="177804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99360" y="104760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38880" y="1047600"/>
              <a:ext cx="96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6877080" y="1393560"/>
              <a:ext cx="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3841920" y="1087200"/>
              <a:ext cx="3879720" cy="188136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0" y="316080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reseci normalni na osu štapa su poprečni preseci. Osa štapa spaja težišta poprečnih prese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.Nosači mogu biti: 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statički određeni i statički neodređe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123984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Statički određen noač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je nosač kod koga je r=3 u ravni i r=6 u prostoru. Nosač je u ravnoteži (miruje) jer je n=r-3=0 za ravan, odnosno n=r-6=0 za prostor, pod uticajem spoljašnjih sila i veza, ali je isto tako u ravnoteži i pod uticajem aktivnih sila i reakcija veza, posle primene aksioma o oslobađanj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-Nosač je statički određen, ako uslovi ravnoteže čine potpun sistem jednačina za određivanje reakcija veza nosač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561816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Statički neodređeni nosač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su nosači kod kojih je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broj veza u ravni r&gt;3 a u prostoru r&gt;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3.Nosači mogu biti: 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prosti i slože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932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I) Prost nosač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je nosač sastavljen samo od jednog štap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170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Najmanji broj veza u ravni je r=3 a u prostoru r=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61880" y="2354400"/>
            <a:ext cx="7692120" cy="4469400"/>
            <a:chOff x="461880" y="2354400"/>
            <a:chExt cx="7692120" cy="4469400"/>
          </a:xfrm>
        </p:grpSpPr>
        <p:sp>
          <p:nvSpPr>
            <p:cNvPr id="338" name=""/>
            <p:cNvSpPr/>
            <p:nvPr/>
          </p:nvSpPr>
          <p:spPr>
            <a:xfrm flipH="1">
              <a:off x="4609800" y="5925960"/>
              <a:ext cx="576360" cy="38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40240" y="5618160"/>
              <a:ext cx="460440" cy="115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461880" y="2391840"/>
              <a:ext cx="2391480" cy="2356560"/>
              <a:chOff x="461880" y="2391840"/>
              <a:chExt cx="2391480" cy="2356560"/>
            </a:xfrm>
          </p:grpSpPr>
          <p:sp>
            <p:nvSpPr>
              <p:cNvPr id="341" name=""/>
              <p:cNvSpPr/>
              <p:nvPr/>
            </p:nvSpPr>
            <p:spPr>
              <a:xfrm flipH="1" rot="868800">
                <a:off x="774360" y="2999520"/>
                <a:ext cx="1917000" cy="153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368" y="15"/>
                    </a:moveTo>
                    <a:arcTo wR="10800" hR="10800" stAng="-5219233" swAng="52192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368" y="15"/>
                    </a:moveTo>
                    <a:arcTo wR="10800" hR="10800" stAng="-5219233" swAng="521923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61880" y="3774960"/>
                <a:ext cx="199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461880" y="2391840"/>
                <a:ext cx="0" cy="138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5040" y="3352680"/>
                <a:ext cx="38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77800" y="2392200"/>
                <a:ext cx="308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038240" y="2430360"/>
                <a:ext cx="130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400" spc="-1" strike="noStrike">
                    <a:solidFill>
                      <a:srgbClr val="000000"/>
                    </a:solidFill>
                    <a:latin typeface="Times New Roman"/>
                  </a:rPr>
                  <a:t>n=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 flipH="1" rot="868800">
              <a:off x="3502080" y="2921400"/>
              <a:ext cx="1917000" cy="153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68" y="15"/>
                  </a:moveTo>
                  <a:arcTo wR="10800" hR="10800" stAng="-5219233" swAng="5219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68" y="15"/>
                  </a:moveTo>
                  <a:arcTo wR="10800" hR="10800" stAng="-5219233" swAng="52192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89240" y="3774960"/>
              <a:ext cx="199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3189240" y="2391840"/>
              <a:ext cx="0" cy="13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802040" y="3352680"/>
              <a:ext cx="38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05160" y="2392200"/>
              <a:ext cx="30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65600" y="2430360"/>
              <a:ext cx="13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n=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rot="868800">
              <a:off x="6075360" y="2883600"/>
              <a:ext cx="1917000" cy="153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68" y="15"/>
                  </a:moveTo>
                  <a:arcTo wR="10800" hR="10800" stAng="-5219233" swAng="5219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68" y="15"/>
                  </a:moveTo>
                  <a:arcTo wR="10800" hR="10800" stAng="-5219233" swAng="52192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62520" y="3736800"/>
              <a:ext cx="199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5762520" y="2354400"/>
              <a:ext cx="0" cy="13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75680" y="3314880"/>
              <a:ext cx="3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78440" y="2354400"/>
              <a:ext cx="30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38880" y="2392200"/>
              <a:ext cx="13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n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5954760" y="3390840"/>
              <a:ext cx="345960" cy="308160"/>
              <a:chOff x="5954760" y="3390840"/>
              <a:chExt cx="345960" cy="308160"/>
            </a:xfrm>
          </p:grpSpPr>
          <p:sp>
            <p:nvSpPr>
              <p:cNvPr id="360" name=""/>
              <p:cNvSpPr/>
              <p:nvPr/>
            </p:nvSpPr>
            <p:spPr>
              <a:xfrm>
                <a:off x="6070320" y="3390840"/>
                <a:ext cx="71280" cy="71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954760" y="3576600"/>
                <a:ext cx="34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6030360" y="3462480"/>
                <a:ext cx="7740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6108120" y="3462120"/>
                <a:ext cx="7740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954760" y="3583080"/>
                <a:ext cx="345960" cy="115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3381480" y="3429000"/>
              <a:ext cx="345960" cy="307440"/>
              <a:chOff x="3381480" y="3429000"/>
              <a:chExt cx="345960" cy="307440"/>
            </a:xfrm>
          </p:grpSpPr>
          <p:sp>
            <p:nvSpPr>
              <p:cNvPr id="366" name=""/>
              <p:cNvSpPr/>
              <p:nvPr/>
            </p:nvSpPr>
            <p:spPr>
              <a:xfrm>
                <a:off x="3497040" y="3429000"/>
                <a:ext cx="71280" cy="71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381480" y="3614400"/>
                <a:ext cx="34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3457080" y="3500280"/>
                <a:ext cx="7740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 flipV="1">
                <a:off x="3534840" y="3500280"/>
                <a:ext cx="7740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381480" y="3620880"/>
                <a:ext cx="345960" cy="115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067520" y="2852640"/>
              <a:ext cx="345960" cy="263520"/>
              <a:chOff x="7067520" y="2852640"/>
              <a:chExt cx="345960" cy="263520"/>
            </a:xfrm>
          </p:grpSpPr>
          <p:sp>
            <p:nvSpPr>
              <p:cNvPr id="372" name=""/>
              <p:cNvSpPr/>
              <p:nvPr/>
            </p:nvSpPr>
            <p:spPr>
              <a:xfrm>
                <a:off x="7183080" y="2852640"/>
                <a:ext cx="71280" cy="71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067520" y="3038400"/>
                <a:ext cx="34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067520" y="3116160"/>
                <a:ext cx="34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7143120" y="2924280"/>
                <a:ext cx="7740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 flipV="1">
                <a:off x="7220880" y="2923920"/>
                <a:ext cx="7740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961920" y="4503240"/>
              <a:ext cx="3044880" cy="2282040"/>
              <a:chOff x="961920" y="4503240"/>
              <a:chExt cx="3044880" cy="2282040"/>
            </a:xfrm>
          </p:grpSpPr>
          <p:sp>
            <p:nvSpPr>
              <p:cNvPr id="378" name=""/>
              <p:cNvSpPr/>
              <p:nvPr/>
            </p:nvSpPr>
            <p:spPr>
              <a:xfrm flipH="1" rot="868800">
                <a:off x="1927440" y="5034600"/>
                <a:ext cx="1917720" cy="1535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368" y="15"/>
                    </a:moveTo>
                    <a:arcTo wR="10800" hR="10800" stAng="-5219233" swAng="52192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368" y="15"/>
                    </a:moveTo>
                    <a:arcTo wR="10800" hR="10800" stAng="-5219233" swAng="521923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614600" y="5886360"/>
                <a:ext cx="19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1614600" y="4503240"/>
                <a:ext cx="0" cy="138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227400" y="5464080"/>
                <a:ext cx="38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730520" y="4503600"/>
                <a:ext cx="30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190600" y="4541760"/>
                <a:ext cx="130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400" spc="-1" strike="noStrike">
                    <a:solidFill>
                      <a:srgbClr val="000000"/>
                    </a:solidFill>
                    <a:latin typeface="Times New Roman"/>
                  </a:rPr>
                  <a:t>n=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1037880" y="5886360"/>
                <a:ext cx="57636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961920" y="5694480"/>
                <a:ext cx="26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6" name=""/>
              <p:cNvGrpSpPr/>
              <p:nvPr/>
            </p:nvGrpSpPr>
            <p:grpSpPr>
              <a:xfrm>
                <a:off x="1806480" y="5541840"/>
                <a:ext cx="346320" cy="308160"/>
                <a:chOff x="1806480" y="5541840"/>
                <a:chExt cx="346320" cy="30816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1922400" y="5541840"/>
                  <a:ext cx="71640" cy="71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806480" y="5727600"/>
                  <a:ext cx="346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>
                  <a:off x="1882800" y="5613480"/>
                  <a:ext cx="7776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 flipV="1">
                  <a:off x="1960560" y="5613120"/>
                  <a:ext cx="7776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806480" y="5734080"/>
                  <a:ext cx="346320" cy="11592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2" name=""/>
            <p:cNvSpPr/>
            <p:nvPr/>
          </p:nvSpPr>
          <p:spPr>
            <a:xfrm flipH="1" rot="868800">
              <a:off x="5499000" y="5074200"/>
              <a:ext cx="1917000" cy="153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68" y="15"/>
                  </a:moveTo>
                  <a:arcTo wR="10800" hR="10800" stAng="-5219233" swAng="5219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68" y="15"/>
                  </a:moveTo>
                  <a:arcTo wR="10800" hR="10800" stAng="-5219233" swAng="52192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86520" y="5925960"/>
              <a:ext cx="19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5186520" y="4543560"/>
              <a:ext cx="0" cy="13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799320" y="5504040"/>
              <a:ext cx="3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302080" y="4543560"/>
              <a:ext cx="30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762520" y="4581360"/>
              <a:ext cx="13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n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533840" y="5734080"/>
              <a:ext cx="26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40240" y="5618160"/>
              <a:ext cx="46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50920" y="26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Prosta greda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2584440"/>
            <a:ext cx="9986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346040" y="37749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1152000" y="2776680"/>
            <a:ext cx="39960" cy="14968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18921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47760" y="1009440"/>
            <a:ext cx="8594640" cy="3144600"/>
            <a:chOff x="347760" y="1009440"/>
            <a:chExt cx="8594640" cy="3144600"/>
          </a:xfrm>
        </p:grpSpPr>
        <p:sp>
          <p:nvSpPr>
            <p:cNvPr id="406" name=""/>
            <p:cNvSpPr/>
            <p:nvPr/>
          </p:nvSpPr>
          <p:spPr>
            <a:xfrm flipH="1" flipV="1">
              <a:off x="1139760" y="100944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557560" y="1873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09560" y="1081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09" name=""/>
            <p:cNvGraphicFramePr/>
            <p:nvPr/>
          </p:nvGraphicFramePr>
          <p:xfrm>
            <a:off x="1139760" y="2449440"/>
            <a:ext cx="6912000" cy="339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39760" y="2449440"/>
                      <a:ext cx="6912000" cy="33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11" name="" descr=""/>
            <p:cNvPicPr/>
            <p:nvPr/>
          </p:nvPicPr>
          <p:blipFill>
            <a:blip r:embed="rId3"/>
            <a:stretch/>
          </p:blipFill>
          <p:spPr>
            <a:xfrm>
              <a:off x="347760" y="2449440"/>
              <a:ext cx="1584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4"/>
            <a:stretch/>
          </p:blipFill>
          <p:spPr>
            <a:xfrm>
              <a:off x="7188120" y="2449440"/>
              <a:ext cx="1562040" cy="12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1270080" y="18162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693200" y="18730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4648680" y="1267560"/>
              <a:ext cx="1834920" cy="12859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5105520" y="1297080"/>
              <a:ext cx="511560" cy="648720"/>
              <a:chOff x="5105520" y="1297080"/>
              <a:chExt cx="511560" cy="648720"/>
            </a:xfrm>
          </p:grpSpPr>
          <p:sp>
            <p:nvSpPr>
              <p:cNvPr id="417" name=""/>
              <p:cNvSpPr/>
              <p:nvPr/>
            </p:nvSpPr>
            <p:spPr>
              <a:xfrm>
                <a:off x="5105520" y="1297080"/>
                <a:ext cx="511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317920" y="136980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8067600" y="2546280"/>
              <a:ext cx="8445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flipV="1">
              <a:off x="8028000" y="2776320"/>
              <a:ext cx="39600" cy="126684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68960" y="3505320"/>
              <a:ext cx="844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r>
                <a:rPr b="1" lang="sr-Latn-CS" sz="3200" spc="-1" strike="noStrike" baseline="-25000">
                  <a:solidFill>
                    <a:srgbClr val="cc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309600" y="5003640"/>
            <a:ext cx="8064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r=3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→ n=3-r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0" y="0"/>
            <a:ext cx="868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Greda sa prepustima (statički određen nosač):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062000" y="2220840"/>
            <a:ext cx="4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787920" y="2166840"/>
            <a:ext cx="76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3720" y="185436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960560" y="1892160"/>
            <a:ext cx="0" cy="80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261120" y="185436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913520" y="181620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1946160" y="756720"/>
            <a:ext cx="5040" cy="1049400"/>
          </a:xfrm>
          <a:prstGeom prst="line">
            <a:avLst/>
          </a:prstGeom>
          <a:ln w="57240">
            <a:solidFill>
              <a:srgbClr val="ff99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435520" y="12812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674720" y="80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38280" y="1668600"/>
          <a:ext cx="7451640" cy="1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1668600"/>
                    <a:ext cx="745164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1444680" y="1779480"/>
            <a:ext cx="1003320" cy="50652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4"/>
          <a:stretch/>
        </p:blipFill>
        <p:spPr>
          <a:xfrm>
            <a:off x="5784840" y="1779480"/>
            <a:ext cx="988920" cy="5065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2030400" y="12477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056280" y="114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4172040" y="915480"/>
            <a:ext cx="1158120" cy="77580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309200" y="741240"/>
            <a:ext cx="511560" cy="648720"/>
            <a:chOff x="4309200" y="741240"/>
            <a:chExt cx="511560" cy="648720"/>
          </a:xfrm>
        </p:grpSpPr>
        <p:sp>
          <p:nvSpPr>
            <p:cNvPr id="441" name=""/>
            <p:cNvSpPr/>
            <p:nvPr/>
          </p:nvSpPr>
          <p:spPr>
            <a:xfrm>
              <a:off x="4309200" y="74124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41680" y="785160"/>
              <a:ext cx="1364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7977240" y="1779480"/>
            <a:ext cx="5349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16040" y="2608200"/>
            <a:ext cx="1266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82880" y="2608200"/>
            <a:ext cx="430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246720" y="2608200"/>
            <a:ext cx="16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937200" y="21384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942600" y="838440"/>
            <a:ext cx="971640" cy="88056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7441200" y="757080"/>
            <a:ext cx="511560" cy="648720"/>
            <a:chOff x="7441200" y="757080"/>
            <a:chExt cx="511560" cy="648720"/>
          </a:xfrm>
        </p:grpSpPr>
        <p:sp>
          <p:nvSpPr>
            <p:cNvPr id="450" name=""/>
            <p:cNvSpPr/>
            <p:nvPr/>
          </p:nvSpPr>
          <p:spPr>
            <a:xfrm>
              <a:off x="7441200" y="75708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573680" y="801000"/>
              <a:ext cx="1364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52" name=""/>
          <p:cNvGraphicFramePr/>
          <p:nvPr/>
        </p:nvGraphicFramePr>
        <p:xfrm>
          <a:off x="996840" y="4849920"/>
          <a:ext cx="7452000" cy="26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6840" y="4849920"/>
                    <a:ext cx="745200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4" name="" descr=""/>
          <p:cNvPicPr/>
          <p:nvPr/>
        </p:nvPicPr>
        <p:blipFill>
          <a:blip r:embed="rId7"/>
          <a:stretch/>
        </p:blipFill>
        <p:spPr>
          <a:xfrm>
            <a:off x="574560" y="5003640"/>
            <a:ext cx="1003320" cy="70344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8"/>
          <a:stretch/>
        </p:blipFill>
        <p:spPr>
          <a:xfrm>
            <a:off x="6143760" y="5003640"/>
            <a:ext cx="988920" cy="70344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768240" y="4389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51000" y="4311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074600" y="6156360"/>
            <a:ext cx="1266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341440" y="6156360"/>
            <a:ext cx="430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05640" y="6156360"/>
            <a:ext cx="16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420920" y="5618160"/>
            <a:ext cx="49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146480" y="5541840"/>
            <a:ext cx="7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96120" y="55022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303640" y="558000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074600" y="554184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643800" y="554184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94760" y="554184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9"/>
          <a:stretch/>
        </p:blipFill>
        <p:spPr>
          <a:xfrm>
            <a:off x="1803240" y="5041800"/>
            <a:ext cx="989280" cy="70344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10"/>
          <a:stretch/>
        </p:blipFill>
        <p:spPr>
          <a:xfrm>
            <a:off x="7756560" y="5003640"/>
            <a:ext cx="988920" cy="70344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8065800" y="4427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413400" y="4351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1074240" y="5079960"/>
            <a:ext cx="1800" cy="998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303640" y="5041800"/>
            <a:ext cx="0" cy="8841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6643800" y="5157720"/>
            <a:ext cx="0" cy="8827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8294760" y="5157720"/>
            <a:ext cx="0" cy="9208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31840" y="4927680"/>
            <a:ext cx="844560" cy="0"/>
          </a:xfrm>
          <a:prstGeom prst="line">
            <a:avLst/>
          </a:prstGeom>
          <a:ln w="63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2852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Kontinualan nosač (statički neodređe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42735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31840" y="550224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728800" y="538812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532480" y="558000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299440" y="558000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3429000"/>
            <a:ext cx="879624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r=5 (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n=3-5=-2, Dakle 2 puta statički neodređen nosa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3-14T08:52:12Z</dcterms:modified>
  <cp:revision>520</cp:revision>
  <dc:subject/>
  <dc:title>Slide 1</dc:title>
</cp:coreProperties>
</file>