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6C7-F48F-4271-968B-15DDDA07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730-B9E6-49BE-A885-BD9D1DF5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D2AA-5588-4B44-9F0F-910C4001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0C4-612F-435C-8889-EF65CDB3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D11F-EA1E-455C-AB82-BA63D90E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38A3-0F36-4644-9C8F-FDB0165B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F20C-E182-45A2-847F-D5C7D3AF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AF51-9722-4D19-B9C6-182CBC85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FE40-6A31-4563-8F44-91697ABF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697E-2135-4A0F-B385-8AAA2063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8AA6-5662-467F-A864-6E3E4988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3844-30C5-4CFC-8421-E1484CAE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E823-2472-4E42-BA32-A065FFE7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8708-176E-4D14-BC52-4A7F192B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1AE1-2140-4CCB-BB0A-7C537EC5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24C1-1475-4490-B56D-8B55EEA4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357D-6911-4645-8301-8E87FF83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2BE-3543-467D-8C9B-139A77A0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AA8B-34A9-4D14-8FC6-3E7FA98B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6BB-7BCC-44CC-82F4-881E29E4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8C80-90FD-499D-B4A5-ACEE7C1A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70D-D749-4AB9-84CE-3143BEF1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E7D-30BC-4E75-B55E-8C16F53A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4BA-8F4D-44AD-91A7-A3F589AF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DD80-BE24-4B8C-8010-BE7A042DC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2E29-3D2E-405D-A956-FF611F4A7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V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2916360" y="189000"/>
                <a:ext cx="584964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324000" y="3429000"/>
                <a:ext cx="5919480" cy="30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632120" y="0"/>
            <a:ext cx="45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Treć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traedarske ko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50920" y="1052640"/>
            <a:ext cx="8893080" cy="5792400"/>
            <a:chOff x="250920" y="1052640"/>
            <a:chExt cx="8893080" cy="5792400"/>
          </a:xfrm>
        </p:grpSpPr>
        <p:sp>
          <p:nvSpPr>
            <p:cNvPr id="550" name=""/>
            <p:cNvSpPr/>
            <p:nvPr/>
          </p:nvSpPr>
          <p:spPr>
            <a:xfrm>
              <a:off x="250920" y="1052640"/>
              <a:ext cx="8893080" cy="57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Neka je sistem sila zamenjen krstom sila. Silu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l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 je moguće zameniti trima komponentama u ravni sile,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l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a koja ne sadrži  pravu određenu tačkama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  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Re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č je o tri komponente čije linije dejstva obrazuju trougao A-B-C. Silu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sa napadnom tačkom u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, onda je moguće razložiti u tri nekomplanarna pravca: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,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B,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C. Tako se krst sila sada svodi na šest sila čiji se pravci poklapaju sa ivicama tetraedra: ABC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 Algebarske vrednosti ovih sila u odnosu na orijentisane pravce ivica tetraedra nazivaju se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tetraedarske koordinate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8360" y="213372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24360" y="306864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72360" y="112572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4572000" y="1700280"/>
            <a:ext cx="71280" cy="3744720"/>
          </a:xfrm>
          <a:prstGeom prst="line">
            <a:avLst/>
          </a:prstGeom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325560" y="3220200"/>
            <a:ext cx="1268280" cy="396720"/>
          </a:xfrm>
          <a:prstGeom prst="line">
            <a:avLst/>
          </a:prstGeom>
          <a:ln w="57240">
            <a:solidFill>
              <a:srgbClr val="b1a887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4102560" y="2084760"/>
            <a:ext cx="3612600" cy="3913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648320" y="4079160"/>
            <a:ext cx="1223640" cy="1337760"/>
          </a:xfrm>
          <a:prstGeom prst="line">
            <a:avLst/>
          </a:prstGeom>
          <a:ln w="57240">
            <a:solidFill>
              <a:srgbClr val="b1a887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596840" y="1514160"/>
            <a:ext cx="2369520" cy="24163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4560120" y="58320"/>
            <a:ext cx="63360" cy="65174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913800" y="993600"/>
            <a:ext cx="360000" cy="581400"/>
            <a:chOff x="6913800" y="993600"/>
            <a:chExt cx="360000" cy="581400"/>
          </a:xfrm>
        </p:grpSpPr>
        <p:sp>
          <p:nvSpPr>
            <p:cNvPr id="561" name=""/>
            <p:cNvSpPr/>
            <p:nvPr/>
          </p:nvSpPr>
          <p:spPr>
            <a:xfrm>
              <a:off x="6913800" y="9936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58160" y="10648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2665440" y="2031120"/>
            <a:ext cx="1954080" cy="191808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802040" y="6080040"/>
            <a:ext cx="406440" cy="581400"/>
            <a:chOff x="4802040" y="6080040"/>
            <a:chExt cx="406440" cy="581400"/>
          </a:xfrm>
        </p:grpSpPr>
        <p:sp>
          <p:nvSpPr>
            <p:cNvPr id="565" name=""/>
            <p:cNvSpPr/>
            <p:nvPr/>
          </p:nvSpPr>
          <p:spPr>
            <a:xfrm>
              <a:off x="4802040" y="6080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46760" y="6226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739600" y="1589040"/>
            <a:ext cx="497880" cy="581400"/>
            <a:chOff x="2739600" y="1589040"/>
            <a:chExt cx="497880" cy="581400"/>
          </a:xfrm>
        </p:grpSpPr>
        <p:sp>
          <p:nvSpPr>
            <p:cNvPr id="568" name=""/>
            <p:cNvSpPr/>
            <p:nvPr/>
          </p:nvSpPr>
          <p:spPr>
            <a:xfrm>
              <a:off x="2739600" y="15890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84680" y="1735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75840" y="5046840"/>
            <a:ext cx="565200" cy="686160"/>
            <a:chOff x="4875840" y="5046840"/>
            <a:chExt cx="565200" cy="686160"/>
          </a:xfrm>
        </p:grpSpPr>
        <p:sp>
          <p:nvSpPr>
            <p:cNvPr id="571" name=""/>
            <p:cNvSpPr/>
            <p:nvPr/>
          </p:nvSpPr>
          <p:spPr>
            <a:xfrm rot="21340200">
              <a:off x="4899240" y="506556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017680" y="5119560"/>
              <a:ext cx="359280" cy="27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 rot="18865800">
            <a:off x="4036680" y="50065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3034800" y="254520"/>
            <a:ext cx="1527840" cy="1443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457360" y="230040"/>
            <a:ext cx="635040" cy="648720"/>
            <a:chOff x="2457360" y="230040"/>
            <a:chExt cx="635040" cy="648720"/>
          </a:xfrm>
        </p:grpSpPr>
        <p:sp>
          <p:nvSpPr>
            <p:cNvPr id="576" name=""/>
            <p:cNvSpPr/>
            <p:nvPr/>
          </p:nvSpPr>
          <p:spPr>
            <a:xfrm>
              <a:off x="2457360" y="2300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86240" y="3013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4649040" y="4101480"/>
            <a:ext cx="1223280" cy="1337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84360" y="4797360"/>
            <a:ext cx="4030920" cy="17272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2484360" y="1916280"/>
            <a:ext cx="3672000" cy="28810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156360" y="1916280"/>
            <a:ext cx="358920" cy="460836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1258920" y="2997360"/>
            <a:ext cx="7129440" cy="2160360"/>
          </a:xfrm>
          <a:prstGeom prst="line">
            <a:avLst/>
          </a:prstGeom>
          <a:ln w="38160">
            <a:solidFill>
              <a:srgbClr val="008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524720" y="2276640"/>
            <a:ext cx="71640" cy="100800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6227280" y="2276640"/>
            <a:ext cx="1297080" cy="43164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6305040" y="3220200"/>
            <a:ext cx="1268280" cy="396720"/>
          </a:xfrm>
          <a:prstGeom prst="line">
            <a:avLst/>
          </a:prstGeom>
          <a:ln w="57240">
            <a:solidFill>
              <a:srgbClr val="00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6222960" y="2700720"/>
            <a:ext cx="54000" cy="9532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489760" y="4165560"/>
            <a:ext cx="780120" cy="60192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4149720"/>
            <a:ext cx="503280" cy="21600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987280" y="4365720"/>
            <a:ext cx="792360" cy="64764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16400" y="4768560"/>
            <a:ext cx="518760" cy="23976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252840" y="2565360"/>
            <a:ext cx="543600" cy="648720"/>
            <a:chOff x="6252840" y="2565360"/>
            <a:chExt cx="543600" cy="648720"/>
          </a:xfrm>
        </p:grpSpPr>
        <p:sp>
          <p:nvSpPr>
            <p:cNvPr id="592" name=""/>
            <p:cNvSpPr/>
            <p:nvPr/>
          </p:nvSpPr>
          <p:spPr>
            <a:xfrm>
              <a:off x="6252840" y="2565360"/>
              <a:ext cx="54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88200" y="2636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353320" y="3716280"/>
            <a:ext cx="635040" cy="648720"/>
            <a:chOff x="2353320" y="3716280"/>
            <a:chExt cx="635040" cy="648720"/>
          </a:xfrm>
        </p:grpSpPr>
        <p:sp>
          <p:nvSpPr>
            <p:cNvPr id="595" name=""/>
            <p:cNvSpPr/>
            <p:nvPr/>
          </p:nvSpPr>
          <p:spPr>
            <a:xfrm>
              <a:off x="2353320" y="371628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82920" y="378756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646720" y="5013360"/>
            <a:ext cx="726480" cy="648720"/>
            <a:chOff x="2646720" y="5013360"/>
            <a:chExt cx="726480" cy="648720"/>
          </a:xfrm>
        </p:grpSpPr>
        <p:sp>
          <p:nvSpPr>
            <p:cNvPr id="598" name=""/>
            <p:cNvSpPr/>
            <p:nvPr/>
          </p:nvSpPr>
          <p:spPr>
            <a:xfrm>
              <a:off x="2646720" y="501336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70200" y="5084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9098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589800" y="609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086520" y="134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204680" y="3429000"/>
            <a:ext cx="1668600" cy="654480"/>
            <a:chOff x="7204680" y="3429000"/>
            <a:chExt cx="1668600" cy="654480"/>
          </a:xfrm>
        </p:grpSpPr>
        <p:grpSp>
          <p:nvGrpSpPr>
            <p:cNvPr id="604" name=""/>
            <p:cNvGrpSpPr/>
            <p:nvPr/>
          </p:nvGrpSpPr>
          <p:grpSpPr>
            <a:xfrm>
              <a:off x="7204680" y="3429000"/>
              <a:ext cx="635040" cy="648720"/>
              <a:chOff x="7204680" y="3429000"/>
              <a:chExt cx="635040" cy="648720"/>
            </a:xfrm>
          </p:grpSpPr>
          <p:sp>
            <p:nvSpPr>
              <p:cNvPr id="605" name=""/>
              <p:cNvSpPr/>
              <p:nvPr/>
            </p:nvSpPr>
            <p:spPr>
              <a:xfrm>
                <a:off x="7204680" y="342900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333920" y="3500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8146800" y="3429000"/>
              <a:ext cx="726480" cy="648720"/>
              <a:chOff x="8146800" y="3429000"/>
              <a:chExt cx="726480" cy="648720"/>
            </a:xfrm>
          </p:grpSpPr>
          <p:sp>
            <p:nvSpPr>
              <p:cNvPr id="608" name=""/>
              <p:cNvSpPr/>
              <p:nvPr/>
            </p:nvSpPr>
            <p:spPr>
              <a:xfrm>
                <a:off x="8146800" y="342900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270280" y="3500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7768800" y="3502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7530840" y="1844640"/>
            <a:ext cx="517680" cy="648720"/>
            <a:chOff x="7530840" y="1844640"/>
            <a:chExt cx="517680" cy="648720"/>
          </a:xfrm>
        </p:grpSpPr>
        <p:sp>
          <p:nvSpPr>
            <p:cNvPr id="612" name=""/>
            <p:cNvSpPr/>
            <p:nvPr/>
          </p:nvSpPr>
          <p:spPr>
            <a:xfrm>
              <a:off x="7530840" y="184464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67640" y="1915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 flipH="1">
            <a:off x="2484000" y="1773360"/>
            <a:ext cx="2087640" cy="302400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0" y="1700280"/>
            <a:ext cx="1944720" cy="482436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0" y="1773360"/>
            <a:ext cx="1584360" cy="14292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4651560" y="1050480"/>
            <a:ext cx="461880" cy="684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3044520" y="244440"/>
            <a:ext cx="195840" cy="555840"/>
          </a:xfrm>
          <a:prstGeom prst="line">
            <a:avLst/>
          </a:prstGeom>
          <a:ln w="1908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676600" y="1612800"/>
            <a:ext cx="1967400" cy="16992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243960" y="4437000"/>
            <a:ext cx="1668600" cy="654480"/>
            <a:chOff x="3243960" y="4437000"/>
            <a:chExt cx="1668600" cy="654480"/>
          </a:xfrm>
        </p:grpSpPr>
        <p:grpSp>
          <p:nvGrpSpPr>
            <p:cNvPr id="621" name=""/>
            <p:cNvGrpSpPr/>
            <p:nvPr/>
          </p:nvGrpSpPr>
          <p:grpSpPr>
            <a:xfrm>
              <a:off x="3243960" y="4437000"/>
              <a:ext cx="635040" cy="648720"/>
              <a:chOff x="3243960" y="4437000"/>
              <a:chExt cx="635040" cy="648720"/>
            </a:xfrm>
          </p:grpSpPr>
          <p:sp>
            <p:nvSpPr>
              <p:cNvPr id="622" name=""/>
              <p:cNvSpPr/>
              <p:nvPr/>
            </p:nvSpPr>
            <p:spPr>
              <a:xfrm>
                <a:off x="3243960" y="443700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373200" y="4508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186080" y="4437000"/>
              <a:ext cx="726480" cy="648720"/>
              <a:chOff x="4186080" y="4437000"/>
              <a:chExt cx="726480" cy="648720"/>
            </a:xfrm>
          </p:grpSpPr>
          <p:sp>
            <p:nvSpPr>
              <p:cNvPr id="625" name=""/>
              <p:cNvSpPr/>
              <p:nvPr/>
            </p:nvSpPr>
            <p:spPr>
              <a:xfrm>
                <a:off x="4186080" y="443700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309560" y="4508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3808080" y="4510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 flipH="1" flipV="1">
            <a:off x="3215160" y="772920"/>
            <a:ext cx="1877040" cy="275040"/>
          </a:xfrm>
          <a:prstGeom prst="line">
            <a:avLst/>
          </a:prstGeom>
          <a:ln cap="rnd" w="1908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flipV="1">
            <a:off x="4412880" y="1252080"/>
            <a:ext cx="195840" cy="556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691720" y="761040"/>
            <a:ext cx="547920" cy="850680"/>
          </a:xfrm>
          <a:prstGeom prst="line">
            <a:avLst/>
          </a:prstGeom>
          <a:ln cap="rnd" w="1908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3240000" y="794160"/>
            <a:ext cx="1334880" cy="96336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3068640" y="282960"/>
            <a:ext cx="1334880" cy="963360"/>
          </a:xfrm>
          <a:prstGeom prst="line">
            <a:avLst/>
          </a:prstGeom>
          <a:ln w="1908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18094200">
            <a:off x="3988080" y="7664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8094200">
            <a:off x="4056480" y="44226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158080" y="1268280"/>
            <a:ext cx="569520" cy="648720"/>
            <a:chOff x="5158080" y="1268280"/>
            <a:chExt cx="569520" cy="648720"/>
          </a:xfrm>
        </p:grpSpPr>
        <p:sp>
          <p:nvSpPr>
            <p:cNvPr id="636" name=""/>
            <p:cNvSpPr/>
            <p:nvPr/>
          </p:nvSpPr>
          <p:spPr>
            <a:xfrm>
              <a:off x="5158080" y="1268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291280" y="133956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216760" y="3068640"/>
            <a:ext cx="569520" cy="648720"/>
            <a:chOff x="5216760" y="3068640"/>
            <a:chExt cx="569520" cy="648720"/>
          </a:xfrm>
        </p:grpSpPr>
        <p:sp>
          <p:nvSpPr>
            <p:cNvPr id="639" name=""/>
            <p:cNvSpPr/>
            <p:nvPr/>
          </p:nvSpPr>
          <p:spPr>
            <a:xfrm>
              <a:off x="521676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49960" y="313992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213360" y="2349360"/>
            <a:ext cx="569520" cy="648720"/>
            <a:chOff x="3213360" y="2349360"/>
            <a:chExt cx="569520" cy="648720"/>
          </a:xfrm>
        </p:grpSpPr>
        <p:sp>
          <p:nvSpPr>
            <p:cNvPr id="642" name=""/>
            <p:cNvSpPr/>
            <p:nvPr/>
          </p:nvSpPr>
          <p:spPr>
            <a:xfrm>
              <a:off x="3213360" y="234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46560" y="242064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 rot="18865800">
            <a:off x="3962160" y="146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581440" y="5516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50920" y="2852640"/>
                <a:ext cx="30589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t xml:space="preserve">∈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76400" y="18900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9966ff"/>
                </a:solidFill>
                <a:latin typeface="Times New Roman"/>
              </a:rPr>
              <a:t>Kulma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95280" y="5805360"/>
                <a:ext cx="41054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ETRAE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OOR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54 0.09826 L 0.17673 -0.25827 E">
                                      <p:cBhvr>
                                        <p:cTn id="456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3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3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79 0.03307 L -0.41632 0.16948 E">
                                      <p:cBhvr>
                                        <p:cTn id="487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3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3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3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3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3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-0.04601 L 0.17726 -0.18242 E">
                                      <p:cBhvr>
                                        <p:cTn id="524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60116E-006 L 0.17327 -0.16786 E">
                                      <p:cBhvr>
                                        <p:cTn id="526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9 0.01826 L 0.24357 0.14404 E">
                                      <p:cBhvr>
                                        <p:cTn id="528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79 0.04185 L 0.15503 0.10474 E">
                                      <p:cBhvr>
                                        <p:cTn id="530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3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3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3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3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3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3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3" dur="3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6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46 0.01111 L 0.18628 0.02153 E">
                                      <p:cBhvr>
                                        <p:cTn id="607" dur="3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0.04583 L 0.06198 0.20324 E">
                                      <p:cBhvr>
                                        <p:cTn id="609" dur="3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22 0.04491 L -0.10486 0.1919 E">
                                      <p:cBhvr>
                                        <p:cTn id="611" dur="3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7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9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etvrt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i sile u tri nekolinear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0920" y="1557360"/>
            <a:ext cx="5040360" cy="5111640"/>
          </a:xfrm>
          <a:custGeom>
            <a:avLst/>
            <a:gdLst/>
            <a:ahLst/>
            <a:rect l="l" t="t" r="r" b="b"/>
            <a:pathLst>
              <a:path w="2321" h="2020">
                <a:moveTo>
                  <a:pt x="1874" y="311"/>
                </a:moveTo>
                <a:cubicBezTo>
                  <a:pt x="1854" y="250"/>
                  <a:pt x="1847" y="180"/>
                  <a:pt x="1792" y="137"/>
                </a:cubicBezTo>
                <a:cubicBezTo>
                  <a:pt x="1760" y="112"/>
                  <a:pt x="1713" y="123"/>
                  <a:pt x="1673" y="119"/>
                </a:cubicBezTo>
                <a:cubicBezTo>
                  <a:pt x="1542" y="105"/>
                  <a:pt x="1412" y="84"/>
                  <a:pt x="1280" y="73"/>
                </a:cubicBezTo>
                <a:cubicBezTo>
                  <a:pt x="1174" y="39"/>
                  <a:pt x="1062" y="12"/>
                  <a:pt x="951" y="0"/>
                </a:cubicBezTo>
                <a:cubicBezTo>
                  <a:pt x="871" y="6"/>
                  <a:pt x="791" y="8"/>
                  <a:pt x="713" y="27"/>
                </a:cubicBezTo>
                <a:cubicBezTo>
                  <a:pt x="674" y="56"/>
                  <a:pt x="635" y="67"/>
                  <a:pt x="594" y="91"/>
                </a:cubicBezTo>
                <a:cubicBezTo>
                  <a:pt x="543" y="120"/>
                  <a:pt x="505" y="160"/>
                  <a:pt x="457" y="192"/>
                </a:cubicBezTo>
                <a:cubicBezTo>
                  <a:pt x="412" y="259"/>
                  <a:pt x="340" y="302"/>
                  <a:pt x="292" y="366"/>
                </a:cubicBezTo>
                <a:cubicBezTo>
                  <a:pt x="269" y="397"/>
                  <a:pt x="255" y="431"/>
                  <a:pt x="228" y="457"/>
                </a:cubicBezTo>
                <a:cubicBezTo>
                  <a:pt x="202" y="510"/>
                  <a:pt x="158" y="551"/>
                  <a:pt x="128" y="603"/>
                </a:cubicBezTo>
                <a:cubicBezTo>
                  <a:pt x="71" y="703"/>
                  <a:pt x="28" y="802"/>
                  <a:pt x="0" y="914"/>
                </a:cubicBezTo>
                <a:cubicBezTo>
                  <a:pt x="4" y="977"/>
                  <a:pt x="5" y="1058"/>
                  <a:pt x="18" y="1124"/>
                </a:cubicBezTo>
                <a:cubicBezTo>
                  <a:pt x="28" y="1175"/>
                  <a:pt x="57" y="1218"/>
                  <a:pt x="64" y="1271"/>
                </a:cubicBezTo>
                <a:cubicBezTo>
                  <a:pt x="84" y="1424"/>
                  <a:pt x="69" y="1612"/>
                  <a:pt x="228" y="1691"/>
                </a:cubicBezTo>
                <a:cubicBezTo>
                  <a:pt x="284" y="1783"/>
                  <a:pt x="221" y="1701"/>
                  <a:pt x="302" y="1755"/>
                </a:cubicBezTo>
                <a:cubicBezTo>
                  <a:pt x="354" y="1790"/>
                  <a:pt x="322" y="1790"/>
                  <a:pt x="366" y="1828"/>
                </a:cubicBezTo>
                <a:cubicBezTo>
                  <a:pt x="509" y="1954"/>
                  <a:pt x="740" y="1916"/>
                  <a:pt x="905" y="1920"/>
                </a:cubicBezTo>
                <a:cubicBezTo>
                  <a:pt x="923" y="1926"/>
                  <a:pt x="942" y="1932"/>
                  <a:pt x="960" y="1938"/>
                </a:cubicBezTo>
                <a:cubicBezTo>
                  <a:pt x="969" y="1941"/>
                  <a:pt x="987" y="1947"/>
                  <a:pt x="987" y="1947"/>
                </a:cubicBezTo>
                <a:cubicBezTo>
                  <a:pt x="1047" y="2007"/>
                  <a:pt x="1201" y="2013"/>
                  <a:pt x="1280" y="2020"/>
                </a:cubicBezTo>
                <a:cubicBezTo>
                  <a:pt x="1365" y="2017"/>
                  <a:pt x="1451" y="2016"/>
                  <a:pt x="1536" y="2011"/>
                </a:cubicBezTo>
                <a:cubicBezTo>
                  <a:pt x="1587" y="2008"/>
                  <a:pt x="1627" y="1953"/>
                  <a:pt x="1673" y="1938"/>
                </a:cubicBezTo>
                <a:cubicBezTo>
                  <a:pt x="1760" y="1875"/>
                  <a:pt x="1878" y="1882"/>
                  <a:pt x="1966" y="1819"/>
                </a:cubicBezTo>
                <a:cubicBezTo>
                  <a:pt x="1976" y="1812"/>
                  <a:pt x="1983" y="1800"/>
                  <a:pt x="1993" y="1792"/>
                </a:cubicBezTo>
                <a:cubicBezTo>
                  <a:pt x="2022" y="1768"/>
                  <a:pt x="2017" y="1783"/>
                  <a:pt x="2039" y="1755"/>
                </a:cubicBezTo>
                <a:cubicBezTo>
                  <a:pt x="2079" y="1706"/>
                  <a:pt x="2087" y="1641"/>
                  <a:pt x="2103" y="1582"/>
                </a:cubicBezTo>
                <a:cubicBezTo>
                  <a:pt x="2118" y="1526"/>
                  <a:pt x="2142" y="1473"/>
                  <a:pt x="2158" y="1417"/>
                </a:cubicBezTo>
                <a:cubicBezTo>
                  <a:pt x="2176" y="1352"/>
                  <a:pt x="2193" y="1290"/>
                  <a:pt x="2231" y="1234"/>
                </a:cubicBezTo>
                <a:cubicBezTo>
                  <a:pt x="2252" y="1170"/>
                  <a:pt x="2292" y="1116"/>
                  <a:pt x="2313" y="1051"/>
                </a:cubicBezTo>
                <a:cubicBezTo>
                  <a:pt x="2308" y="948"/>
                  <a:pt x="2321" y="798"/>
                  <a:pt x="2258" y="704"/>
                </a:cubicBezTo>
                <a:cubicBezTo>
                  <a:pt x="2236" y="637"/>
                  <a:pt x="2254" y="662"/>
                  <a:pt x="2212" y="622"/>
                </a:cubicBezTo>
                <a:cubicBezTo>
                  <a:pt x="2200" y="572"/>
                  <a:pt x="2172" y="504"/>
                  <a:pt x="2130" y="475"/>
                </a:cubicBezTo>
                <a:cubicBezTo>
                  <a:pt x="2127" y="466"/>
                  <a:pt x="2128" y="455"/>
                  <a:pt x="2121" y="448"/>
                </a:cubicBezTo>
                <a:cubicBezTo>
                  <a:pt x="2092" y="419"/>
                  <a:pt x="1985" y="342"/>
                  <a:pt x="1947" y="320"/>
                </a:cubicBezTo>
                <a:cubicBezTo>
                  <a:pt x="1923" y="306"/>
                  <a:pt x="1900" y="311"/>
                  <a:pt x="1874" y="311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898560" y="2420640"/>
            <a:ext cx="3455640" cy="3886920"/>
            <a:chOff x="898560" y="2420640"/>
            <a:chExt cx="3455640" cy="3886920"/>
          </a:xfrm>
        </p:grpSpPr>
        <p:sp>
          <p:nvSpPr>
            <p:cNvPr id="652" name=""/>
            <p:cNvSpPr/>
            <p:nvPr/>
          </p:nvSpPr>
          <p:spPr>
            <a:xfrm flipV="1">
              <a:off x="898560" y="3457080"/>
              <a:ext cx="3455640" cy="18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3908880" y="3457080"/>
              <a:ext cx="444600" cy="28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98560" y="5269320"/>
              <a:ext cx="301068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 flipV="1">
              <a:off x="2124360" y="2420640"/>
              <a:ext cx="1784520" cy="38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898560" y="2421000"/>
              <a:ext cx="1226160" cy="28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24720" y="2421000"/>
              <a:ext cx="222948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8" name=""/>
            <p:cNvCxnSpPr>
              <a:stCxn id="657" idx="0"/>
              <a:endCxn id="655" idx="0"/>
            </p:cNvCxnSpPr>
            <p:nvPr/>
          </p:nvCxnSpPr>
          <p:spPr>
            <a:xfrm flipH="1">
              <a:off x="3908520" y="3456720"/>
              <a:ext cx="445320" cy="285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59" name=""/>
          <p:cNvSpPr/>
          <p:nvPr/>
        </p:nvSpPr>
        <p:spPr>
          <a:xfrm flipH="1" flipV="1">
            <a:off x="2122560" y="2420640"/>
            <a:ext cx="1079280" cy="2376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258920" y="2421000"/>
            <a:ext cx="863640" cy="201600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16000" y="3429000"/>
            <a:ext cx="360360" cy="581400"/>
            <a:chOff x="1116000" y="3429000"/>
            <a:chExt cx="360360" cy="581400"/>
          </a:xfrm>
        </p:grpSpPr>
        <p:sp>
          <p:nvSpPr>
            <p:cNvPr id="662" name=""/>
            <p:cNvSpPr/>
            <p:nvPr/>
          </p:nvSpPr>
          <p:spPr>
            <a:xfrm>
              <a:off x="1116000" y="3429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260360" y="3500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 flipH="1" flipV="1">
            <a:off x="2122200" y="2420640"/>
            <a:ext cx="1871640" cy="8636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492360" y="2563920"/>
            <a:ext cx="406440" cy="581400"/>
            <a:chOff x="3492360" y="2563920"/>
            <a:chExt cx="406440" cy="581400"/>
          </a:xfrm>
        </p:grpSpPr>
        <p:sp>
          <p:nvSpPr>
            <p:cNvPr id="666" name=""/>
            <p:cNvSpPr/>
            <p:nvPr/>
          </p:nvSpPr>
          <p:spPr>
            <a:xfrm>
              <a:off x="3492360" y="2563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637080" y="2709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555280" y="4579920"/>
            <a:ext cx="497880" cy="581400"/>
            <a:chOff x="2555280" y="4579920"/>
            <a:chExt cx="497880" cy="581400"/>
          </a:xfrm>
        </p:grpSpPr>
        <p:sp>
          <p:nvSpPr>
            <p:cNvPr id="669" name=""/>
            <p:cNvSpPr/>
            <p:nvPr/>
          </p:nvSpPr>
          <p:spPr>
            <a:xfrm>
              <a:off x="2555280" y="4579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00360" y="4726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1483920" y="19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103840" y="1743480"/>
            <a:ext cx="2640960" cy="70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934080" y="1197000"/>
            <a:ext cx="569520" cy="648720"/>
            <a:chOff x="3934080" y="1197000"/>
            <a:chExt cx="569520" cy="648720"/>
          </a:xfrm>
        </p:grpSpPr>
        <p:sp>
          <p:nvSpPr>
            <p:cNvPr id="674" name=""/>
            <p:cNvSpPr/>
            <p:nvPr/>
          </p:nvSpPr>
          <p:spPr>
            <a:xfrm>
              <a:off x="3934080" y="119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67280" y="126828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 rot="20828400">
            <a:off x="3997080" y="2304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20828400">
            <a:off x="541440" y="41050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20828400">
            <a:off x="3565440" y="51130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20828400">
            <a:off x="1779480" y="12679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08000" y="484200"/>
                <a:ext cx="712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397080" y="494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97440" y="573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357800" y="29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2628720" y="3524760"/>
            <a:ext cx="379080" cy="8881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474920" y="3051000"/>
            <a:ext cx="367920" cy="8481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395800" y="2561400"/>
            <a:ext cx="1174680" cy="5223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839160" y="5589720"/>
            <a:ext cx="609120" cy="648720"/>
            <a:chOff x="839160" y="5589720"/>
            <a:chExt cx="609120" cy="648720"/>
          </a:xfrm>
        </p:grpSpPr>
        <p:sp>
          <p:nvSpPr>
            <p:cNvPr id="688" name=""/>
            <p:cNvSpPr/>
            <p:nvPr/>
          </p:nvSpPr>
          <p:spPr>
            <a:xfrm>
              <a:off x="839160" y="5589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69840" y="5661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855160" y="5373720"/>
            <a:ext cx="609120" cy="648720"/>
            <a:chOff x="2855160" y="5373720"/>
            <a:chExt cx="609120" cy="648720"/>
          </a:xfrm>
        </p:grpSpPr>
        <p:sp>
          <p:nvSpPr>
            <p:cNvPr id="691" name=""/>
            <p:cNvSpPr/>
            <p:nvPr/>
          </p:nvSpPr>
          <p:spPr>
            <a:xfrm>
              <a:off x="2855160" y="5373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85840" y="5445000"/>
              <a:ext cx="360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368240" y="3860640"/>
            <a:ext cx="609120" cy="648720"/>
            <a:chOff x="4368240" y="3860640"/>
            <a:chExt cx="609120" cy="648720"/>
          </a:xfrm>
        </p:grpSpPr>
        <p:sp>
          <p:nvSpPr>
            <p:cNvPr id="694" name=""/>
            <p:cNvSpPr/>
            <p:nvPr/>
          </p:nvSpPr>
          <p:spPr>
            <a:xfrm>
              <a:off x="4368240" y="38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98920" y="393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148360" y="1557360"/>
            <a:ext cx="3995640" cy="5050440"/>
            <a:chOff x="5148360" y="1557360"/>
            <a:chExt cx="3995640" cy="5050440"/>
          </a:xfrm>
        </p:grpSpPr>
        <p:sp>
          <p:nvSpPr>
            <p:cNvPr id="697" name=""/>
            <p:cNvSpPr/>
            <p:nvPr/>
          </p:nvSpPr>
          <p:spPr>
            <a:xfrm>
              <a:off x="5148360" y="1557360"/>
              <a:ext cx="3995640" cy="50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Neka je dat sistem sil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sa napadnim tačkam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(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=1,...,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). Spajajući napadne tačke sila sa usvojenim nekolinearnim tačkam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A, B, C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dobija se 3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pravaca, na koje se razlaže svaka od sil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na komponente. Dakle u svakoj od tri tačke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A, B, C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seći će se po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komponenata datih sila koje se slažu 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, 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B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C.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459640" y="162864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88360" y="422100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6764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17236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74872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5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6682 L -0.10659 0.32901 E">
                                      <p:cBhvr>
                                        <p:cTn id="674" dur="2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6 0.07907 L 0.09219 0.26774 E">
                                      <p:cBhvr>
                                        <p:cTn id="677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4 0.03584 L 0.21319 0.13017 E">
                                      <p:cBhvr>
                                        <p:cTn id="680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755640" y="6137280"/>
            <a:ext cx="5040360" cy="720720"/>
          </a:xfrm>
          <a:prstGeom prst="wedgeRoundRectCallout">
            <a:avLst>
              <a:gd name="adj1" fmla="val 59449"/>
              <a:gd name="adj2" fmla="val -4407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55640" y="3789360"/>
            <a:ext cx="5040360" cy="720720"/>
          </a:xfrm>
          <a:prstGeom prst="wedgeRoundRectCallout">
            <a:avLst>
              <a:gd name="adj1" fmla="val 56615"/>
              <a:gd name="adj2" fmla="val -16300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4360" y="2924280"/>
            <a:ext cx="5040000" cy="720720"/>
          </a:xfrm>
          <a:prstGeom prst="wedgeRoundRectCallout">
            <a:avLst>
              <a:gd name="adj1" fmla="val 56143"/>
              <a:gd name="adj2" fmla="val -31055"/>
              <a:gd name="adj3" fmla="val 166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26920" y="1413000"/>
            <a:ext cx="4753080" cy="720720"/>
          </a:xfrm>
          <a:prstGeom prst="wedgeRoundRectCallout">
            <a:avLst>
              <a:gd name="adj1" fmla="val 63194"/>
              <a:gd name="adj2" fmla="val -50662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156360" y="5950080"/>
            <a:ext cx="2987640" cy="1079280"/>
          </a:xfrm>
          <a:prstGeom prst="wedgeRoundRectCallout">
            <a:avLst>
              <a:gd name="adj1" fmla="val -38893"/>
              <a:gd name="adj2" fmla="val 12060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Sistem sila je u </a:t>
            </a:r>
            <a:r>
              <a:rPr b="1" lang="sr-Latn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ravnote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0066"/>
                </a:solidFill>
                <a:uFillTx/>
                <a:latin typeface="Times New Roman"/>
              </a:rPr>
              <a:t>Rezime o redukciji proizvoljnog sistema sila u prostoru:</a:t>
            </a: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796000" y="2852640"/>
            <a:ext cx="3348000" cy="792360"/>
          </a:xfrm>
          <a:prstGeom prst="wedgeRoundRectCallout">
            <a:avLst>
              <a:gd name="adj1" fmla="val -40421"/>
              <a:gd name="adj2" fmla="val -1902"/>
              <a:gd name="adj3" fmla="val 166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 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zult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012000" y="3789360"/>
            <a:ext cx="3132000" cy="863640"/>
          </a:xfrm>
          <a:prstGeom prst="wedgeRoundRectCallout">
            <a:avLst>
              <a:gd name="adj1" fmla="val -51370"/>
              <a:gd name="adj2" fmla="val -20222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 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47640" y="5229360"/>
            <a:ext cx="7596360" cy="792000"/>
          </a:xfrm>
          <a:prstGeom prst="wedgeRoundRectCallout">
            <a:avLst>
              <a:gd name="adj1" fmla="val 342"/>
              <a:gd name="adj2" fmla="val -32967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Glavni vektor momenata je nezavistan od položaja redukcione tač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94216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1280" y="2349360"/>
            <a:ext cx="7489800" cy="503280"/>
          </a:xfrm>
          <a:prstGeom prst="wedgeRoundRectCallout">
            <a:avLst>
              <a:gd name="adj1" fmla="val 14412"/>
              <a:gd name="adj2" fmla="val -90379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ostoji neograničeno mnogo načina za slučaj 1.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724360" y="765000"/>
            <a:ext cx="3419640" cy="1584360"/>
          </a:xfrm>
          <a:prstGeom prst="wedgeRoundRectCallout">
            <a:avLst>
              <a:gd name="adj1" fmla="val -43129"/>
              <a:gd name="adj2" fmla="val -20439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sile (krst si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 s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6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26920" y="4581360"/>
            <a:ext cx="5040360" cy="720720"/>
          </a:xfrm>
          <a:prstGeom prst="wedgeRoundRectCallout">
            <a:avLst>
              <a:gd name="adj1" fmla="val 57495"/>
              <a:gd name="adj2" fmla="val 46476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79280" y="476280"/>
                <a:ext cx="5446800" cy="637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/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3708360" y="4797360"/>
            <a:ext cx="230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1403280" y="1052640"/>
            <a:ext cx="63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R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vnoteža sistema si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u prosto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95280" y="2954160"/>
                <a:ext cx="835344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3852720" y="40784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66"/>
                </a:solidFill>
                <a:latin typeface="Times New Roman"/>
              </a:rPr>
              <a:t>statički ekvival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187280" y="1773360"/>
            <a:ext cx="6121440" cy="5084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d7d1b9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797440" y="4410000"/>
            <a:ext cx="548640" cy="675720"/>
            <a:chOff x="5797440" y="4410000"/>
            <a:chExt cx="548640" cy="675720"/>
          </a:xfrm>
        </p:grpSpPr>
        <p:grpSp>
          <p:nvGrpSpPr>
            <p:cNvPr id="723" name=""/>
            <p:cNvGrpSpPr/>
            <p:nvPr/>
          </p:nvGrpSpPr>
          <p:grpSpPr>
            <a:xfrm>
              <a:off x="5797440" y="4410000"/>
              <a:ext cx="452160" cy="581400"/>
              <a:chOff x="5797440" y="4410000"/>
              <a:chExt cx="452160" cy="581400"/>
            </a:xfrm>
          </p:grpSpPr>
          <p:sp>
            <p:nvSpPr>
              <p:cNvPr id="724" name=""/>
              <p:cNvSpPr/>
              <p:nvPr/>
            </p:nvSpPr>
            <p:spPr>
              <a:xfrm>
                <a:off x="5797440" y="4410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011640" y="4480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6013080" y="462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997440" y="2249640"/>
            <a:ext cx="549000" cy="675360"/>
            <a:chOff x="3997440" y="2249640"/>
            <a:chExt cx="549000" cy="675360"/>
          </a:xfrm>
        </p:grpSpPr>
        <p:grpSp>
          <p:nvGrpSpPr>
            <p:cNvPr id="728" name=""/>
            <p:cNvGrpSpPr/>
            <p:nvPr/>
          </p:nvGrpSpPr>
          <p:grpSpPr>
            <a:xfrm>
              <a:off x="3997440" y="2249640"/>
              <a:ext cx="452160" cy="581400"/>
              <a:chOff x="3997440" y="2249640"/>
              <a:chExt cx="452160" cy="581400"/>
            </a:xfrm>
          </p:grpSpPr>
          <p:sp>
            <p:nvSpPr>
              <p:cNvPr id="729" name=""/>
              <p:cNvSpPr/>
              <p:nvPr/>
            </p:nvSpPr>
            <p:spPr>
              <a:xfrm>
                <a:off x="3997440" y="2249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211640" y="2320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4213440" y="246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089520" y="4697280"/>
            <a:ext cx="616680" cy="675720"/>
            <a:chOff x="3089520" y="4697280"/>
            <a:chExt cx="616680" cy="675720"/>
          </a:xfrm>
        </p:grpSpPr>
        <p:grpSp>
          <p:nvGrpSpPr>
            <p:cNvPr id="733" name=""/>
            <p:cNvGrpSpPr/>
            <p:nvPr/>
          </p:nvGrpSpPr>
          <p:grpSpPr>
            <a:xfrm>
              <a:off x="3089520" y="4697280"/>
              <a:ext cx="452160" cy="581400"/>
              <a:chOff x="3089520" y="4697280"/>
              <a:chExt cx="452160" cy="581400"/>
            </a:xfrm>
          </p:grpSpPr>
          <p:sp>
            <p:nvSpPr>
              <p:cNvPr id="734" name=""/>
              <p:cNvSpPr/>
              <p:nvPr/>
            </p:nvSpPr>
            <p:spPr>
              <a:xfrm>
                <a:off x="3089520" y="4697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303720" y="4768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3305880" y="4913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4455360" y="3610440"/>
            <a:ext cx="2053800" cy="783720"/>
            <a:chOff x="4455360" y="3610440"/>
            <a:chExt cx="2053800" cy="783720"/>
          </a:xfrm>
        </p:grpSpPr>
        <p:sp>
          <p:nvSpPr>
            <p:cNvPr id="738" name=""/>
            <p:cNvSpPr/>
            <p:nvPr/>
          </p:nvSpPr>
          <p:spPr>
            <a:xfrm flipH="1">
              <a:off x="4455360" y="3645000"/>
              <a:ext cx="2012040" cy="749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6120000" y="368964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6017040" y="3683160"/>
              <a:ext cx="250920" cy="1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6335280" y="361800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6234480" y="3610440"/>
              <a:ext cx="25236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611680" y="2997360"/>
            <a:ext cx="971640" cy="648720"/>
            <a:chOff x="5611680" y="2997360"/>
            <a:chExt cx="971640" cy="648720"/>
          </a:xfrm>
        </p:grpSpPr>
        <p:sp>
          <p:nvSpPr>
            <p:cNvPr id="744" name=""/>
            <p:cNvSpPr/>
            <p:nvPr/>
          </p:nvSpPr>
          <p:spPr>
            <a:xfrm>
              <a:off x="5611680" y="2997360"/>
              <a:ext cx="9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22920" y="306864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2862720" y="2882520"/>
            <a:ext cx="1590120" cy="1513800"/>
            <a:chOff x="2862720" y="2882520"/>
            <a:chExt cx="1590120" cy="1513800"/>
          </a:xfrm>
        </p:grpSpPr>
        <p:sp>
          <p:nvSpPr>
            <p:cNvPr id="747" name=""/>
            <p:cNvSpPr/>
            <p:nvPr/>
          </p:nvSpPr>
          <p:spPr>
            <a:xfrm>
              <a:off x="2905200" y="2908080"/>
              <a:ext cx="1547640" cy="1488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3020760" y="3045240"/>
              <a:ext cx="242280" cy="763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43080" y="3063240"/>
              <a:ext cx="91800" cy="234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2862720" y="2882520"/>
              <a:ext cx="241920" cy="763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82160" y="2898000"/>
              <a:ext cx="92880" cy="235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4408560" y="4314600"/>
            <a:ext cx="553680" cy="2135160"/>
            <a:chOff x="4408560" y="4314600"/>
            <a:chExt cx="553680" cy="2135160"/>
          </a:xfrm>
        </p:grpSpPr>
        <p:sp>
          <p:nvSpPr>
            <p:cNvPr id="753" name=""/>
            <p:cNvSpPr/>
            <p:nvPr/>
          </p:nvSpPr>
          <p:spPr>
            <a:xfrm flipH="1" flipV="1">
              <a:off x="4408560" y="4314600"/>
              <a:ext cx="489960" cy="2090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14200" y="6031800"/>
              <a:ext cx="162000" cy="19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4866840" y="5953680"/>
              <a:ext cx="50400" cy="246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58840" y="6253920"/>
              <a:ext cx="161280" cy="19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4912200" y="6178320"/>
              <a:ext cx="50040" cy="248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2442960" y="2249640"/>
            <a:ext cx="971640" cy="648720"/>
            <a:chOff x="2442960" y="2249640"/>
            <a:chExt cx="971640" cy="648720"/>
          </a:xfrm>
        </p:grpSpPr>
        <p:sp>
          <p:nvSpPr>
            <p:cNvPr id="759" name=""/>
            <p:cNvSpPr/>
            <p:nvPr/>
          </p:nvSpPr>
          <p:spPr>
            <a:xfrm>
              <a:off x="2442960" y="2249640"/>
              <a:ext cx="9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54200" y="23209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4967280" y="5705640"/>
            <a:ext cx="1023480" cy="648720"/>
            <a:chOff x="4967280" y="5705640"/>
            <a:chExt cx="1023480" cy="648720"/>
          </a:xfrm>
        </p:grpSpPr>
        <p:sp>
          <p:nvSpPr>
            <p:cNvPr id="762" name=""/>
            <p:cNvSpPr/>
            <p:nvPr/>
          </p:nvSpPr>
          <p:spPr>
            <a:xfrm>
              <a:off x="4967280" y="5705640"/>
              <a:ext cx="1023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75280" y="57769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268880" y="2929680"/>
            <a:ext cx="219240" cy="1521360"/>
            <a:chOff x="4268880" y="2929680"/>
            <a:chExt cx="219240" cy="1521360"/>
          </a:xfrm>
        </p:grpSpPr>
        <p:sp>
          <p:nvSpPr>
            <p:cNvPr id="765" name=""/>
            <p:cNvSpPr/>
            <p:nvPr/>
          </p:nvSpPr>
          <p:spPr>
            <a:xfrm flipH="1" flipV="1">
              <a:off x="4268880" y="2929680"/>
              <a:ext cx="168840" cy="14194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3336800">
              <a:off x="4403880" y="43664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3489840" y="4340160"/>
            <a:ext cx="1014120" cy="1147680"/>
            <a:chOff x="3489840" y="4340160"/>
            <a:chExt cx="1014120" cy="1147680"/>
          </a:xfrm>
        </p:grpSpPr>
        <p:sp>
          <p:nvSpPr>
            <p:cNvPr id="768" name=""/>
            <p:cNvSpPr/>
            <p:nvPr/>
          </p:nvSpPr>
          <p:spPr>
            <a:xfrm flipH="1">
              <a:off x="3489840" y="4411440"/>
              <a:ext cx="94068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5412000">
              <a:off x="4433760" y="43401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16120" y="435420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332000" y="44280"/>
                <a:ext cx="6875280" cy="17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572000" y="507960"/>
                <a:ext cx="4176720" cy="37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44640" y="3068640"/>
                <a:ext cx="4779720" cy="371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y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74" name=""/>
          <p:cNvGrpSpPr/>
          <p:nvPr/>
        </p:nvGrpSpPr>
        <p:grpSpPr>
          <a:xfrm>
            <a:off x="144360" y="0"/>
            <a:ext cx="4643640" cy="3506760"/>
            <a:chOff x="144360" y="0"/>
            <a:chExt cx="4643640" cy="3506760"/>
          </a:xfrm>
        </p:grpSpPr>
        <p:sp>
          <p:nvSpPr>
            <p:cNvPr id="775" name=""/>
            <p:cNvSpPr/>
            <p:nvPr/>
          </p:nvSpPr>
          <p:spPr>
            <a:xfrm>
              <a:off x="144360" y="0"/>
              <a:ext cx="464364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ff3300"/>
                  </a:solidFill>
                  <a:latin typeface="Times New Roman"/>
                </a:rPr>
                <a:t>Projektovanjem (skalarnim množenjem respektivno sa jediničnim vektorima </a:t>
              </a:r>
              <a:r>
                <a:rPr b="1" i="1" lang="sr-Latn-CS" sz="2800" spc="-1" strike="noStrike">
                  <a:solidFill>
                    <a:srgbClr val="ff3300"/>
                  </a:solidFill>
                  <a:latin typeface="Times New Roman"/>
                </a:rPr>
                <a:t>i, j, k</a:t>
              </a:r>
              <a:r>
                <a:rPr b="1" lang="sr-Latn-CS" sz="2800" spc="-1" strike="noStrike">
                  <a:solidFill>
                    <a:srgbClr val="ff3300"/>
                  </a:solidFill>
                  <a:latin typeface="Times New Roman"/>
                </a:rPr>
                <a:t>) vektorskih jednačina ravnoteže dobijaju se </a:t>
              </a:r>
              <a:r>
                <a:rPr b="1" lang="sr-Latn-CS" sz="2800" spc="-1" strike="noStrike">
                  <a:solidFill>
                    <a:srgbClr val="66ff33"/>
                  </a:solidFill>
                  <a:latin typeface="Times New Roman"/>
                </a:rPr>
                <a:t>skalarni (analitički) uslovi ravnoteže prostornog sistema sil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64000" y="90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51280" y="90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40360" y="907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081080" y="836640"/>
            <a:ext cx="327492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2000" y="3930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076720" y="227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92360" y="18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87240" y="2847960"/>
            <a:ext cx="151632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203560" y="2847960"/>
            <a:ext cx="316044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2195640" y="40428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657440" y="2486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429640" y="955800"/>
            <a:ext cx="799560" cy="835200"/>
            <a:chOff x="2429640" y="955800"/>
            <a:chExt cx="799560" cy="835200"/>
          </a:xfrm>
        </p:grpSpPr>
        <p:sp>
          <p:nvSpPr>
            <p:cNvPr id="788" name=""/>
            <p:cNvSpPr/>
            <p:nvPr/>
          </p:nvSpPr>
          <p:spPr>
            <a:xfrm rot="20005200">
              <a:off x="2544480" y="10486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2647800" y="1086120"/>
              <a:ext cx="193320" cy="9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512440" y="1739880"/>
            <a:ext cx="698400" cy="784440"/>
            <a:chOff x="2512440" y="1739880"/>
            <a:chExt cx="698400" cy="784440"/>
          </a:xfrm>
        </p:grpSpPr>
        <p:sp>
          <p:nvSpPr>
            <p:cNvPr id="791" name=""/>
            <p:cNvSpPr/>
            <p:nvPr/>
          </p:nvSpPr>
          <p:spPr>
            <a:xfrm rot="20005200">
              <a:off x="2633400" y="18075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737440" y="1920960"/>
              <a:ext cx="193320" cy="964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"/>
          <p:cNvSpPr/>
          <p:nvPr/>
        </p:nvSpPr>
        <p:spPr>
          <a:xfrm flipH="1" flipV="1">
            <a:off x="2346120" y="1460520"/>
            <a:ext cx="1076040" cy="682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412200">
            <a:off x="3532320" y="1988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rot="20828400">
            <a:off x="3127320" y="9853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185920" y="2152800"/>
            <a:ext cx="1216800" cy="702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3924360" y="244440"/>
                <a:ext cx="499428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j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k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08000" y="4797360"/>
                <a:ext cx="88930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k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11280" y="141300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pecijalni slučajevi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a) Ako su sve sile u ravni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xy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(ravan sistem sil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611280" y="763200"/>
            <a:ext cx="3313080" cy="3168720"/>
            <a:chOff x="611280" y="763200"/>
            <a:chExt cx="3313080" cy="3168720"/>
          </a:xfrm>
        </p:grpSpPr>
        <p:sp>
          <p:nvSpPr>
            <p:cNvPr id="802" name=""/>
            <p:cNvSpPr/>
            <p:nvPr/>
          </p:nvSpPr>
          <p:spPr>
            <a:xfrm flipV="1">
              <a:off x="611280" y="7632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1280" y="39319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356508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476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5732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523160" y="1693080"/>
            <a:ext cx="1403640" cy="13388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 flipV="1">
            <a:off x="1247040" y="301284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904680" y="2265840"/>
            <a:ext cx="217080" cy="12092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193560" y="1695960"/>
            <a:ext cx="158400" cy="1800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2557440" y="1484280"/>
            <a:ext cx="548640" cy="675720"/>
            <a:chOff x="2557440" y="1484280"/>
            <a:chExt cx="548640" cy="675720"/>
          </a:xfrm>
        </p:grpSpPr>
        <p:grpSp>
          <p:nvGrpSpPr>
            <p:cNvPr id="812" name=""/>
            <p:cNvGrpSpPr/>
            <p:nvPr/>
          </p:nvGrpSpPr>
          <p:grpSpPr>
            <a:xfrm>
              <a:off x="2557440" y="1484280"/>
              <a:ext cx="452160" cy="581400"/>
              <a:chOff x="2557440" y="1484280"/>
              <a:chExt cx="452160" cy="581400"/>
            </a:xfrm>
          </p:grpSpPr>
          <p:sp>
            <p:nvSpPr>
              <p:cNvPr id="813" name=""/>
              <p:cNvSpPr/>
              <p:nvPr/>
            </p:nvSpPr>
            <p:spPr>
              <a:xfrm>
                <a:off x="2557440" y="148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71640" y="1555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277308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901800" y="1339920"/>
            <a:ext cx="549000" cy="675720"/>
            <a:chOff x="901800" y="1339920"/>
            <a:chExt cx="549000" cy="675720"/>
          </a:xfrm>
        </p:grpSpPr>
        <p:grpSp>
          <p:nvGrpSpPr>
            <p:cNvPr id="817" name=""/>
            <p:cNvGrpSpPr/>
            <p:nvPr/>
          </p:nvGrpSpPr>
          <p:grpSpPr>
            <a:xfrm>
              <a:off x="901800" y="1339920"/>
              <a:ext cx="452160" cy="581400"/>
              <a:chOff x="901800" y="1339920"/>
              <a:chExt cx="452160" cy="581400"/>
            </a:xfrm>
          </p:grpSpPr>
          <p:sp>
            <p:nvSpPr>
              <p:cNvPr id="818" name=""/>
              <p:cNvSpPr/>
              <p:nvPr/>
            </p:nvSpPr>
            <p:spPr>
              <a:xfrm>
                <a:off x="901800" y="1339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116000" y="1410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1117800" y="1555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901800" y="3213000"/>
            <a:ext cx="616680" cy="675720"/>
            <a:chOff x="901800" y="3213000"/>
            <a:chExt cx="616680" cy="675720"/>
          </a:xfrm>
        </p:grpSpPr>
        <p:grpSp>
          <p:nvGrpSpPr>
            <p:cNvPr id="822" name=""/>
            <p:cNvGrpSpPr/>
            <p:nvPr/>
          </p:nvGrpSpPr>
          <p:grpSpPr>
            <a:xfrm>
              <a:off x="901800" y="3213000"/>
              <a:ext cx="452160" cy="581400"/>
              <a:chOff x="901800" y="3213000"/>
              <a:chExt cx="452160" cy="581400"/>
            </a:xfrm>
          </p:grpSpPr>
          <p:sp>
            <p:nvSpPr>
              <p:cNvPr id="823" name=""/>
              <p:cNvSpPr/>
              <p:nvPr/>
            </p:nvSpPr>
            <p:spPr>
              <a:xfrm>
                <a:off x="90180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116000" y="32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118160" y="34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1909800" y="2637000"/>
            <a:ext cx="565920" cy="675360"/>
            <a:chOff x="1909800" y="2637000"/>
            <a:chExt cx="565920" cy="675360"/>
          </a:xfrm>
        </p:grpSpPr>
        <p:grpSp>
          <p:nvGrpSpPr>
            <p:cNvPr id="827" name=""/>
            <p:cNvGrpSpPr/>
            <p:nvPr/>
          </p:nvGrpSpPr>
          <p:grpSpPr>
            <a:xfrm>
              <a:off x="1909800" y="2637000"/>
              <a:ext cx="452160" cy="581400"/>
              <a:chOff x="1909800" y="2637000"/>
              <a:chExt cx="452160" cy="581400"/>
            </a:xfrm>
          </p:grpSpPr>
          <p:sp>
            <p:nvSpPr>
              <p:cNvPr id="828" name=""/>
              <p:cNvSpPr/>
              <p:nvPr/>
            </p:nvSpPr>
            <p:spPr>
              <a:xfrm>
                <a:off x="190980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2400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2125800" y="285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1476360" y="620640"/>
                <a:ext cx="2530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2" name=""/>
          <p:cNvGrpSpPr/>
          <p:nvPr/>
        </p:nvGrpSpPr>
        <p:grpSpPr>
          <a:xfrm>
            <a:off x="4427640" y="836640"/>
            <a:ext cx="4538520" cy="3713040"/>
            <a:chOff x="4427640" y="836640"/>
            <a:chExt cx="4538520" cy="3713040"/>
          </a:xfrm>
        </p:grpSpPr>
        <mc:AlternateContent>
          <mc:Choice xmlns:a14="http://schemas.microsoft.com/office/drawing/2010/main" Requires="a14">
            <p:sp>
              <p:nvSpPr>
                <p:cNvPr id="833" name=""/>
                <p:cNvSpPr txBox="1"/>
                <p:nvPr/>
              </p:nvSpPr>
              <p:spPr>
                <a:xfrm>
                  <a:off x="4427640" y="836640"/>
                  <a:ext cx="2106360" cy="37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z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34" name=""/>
            <p:cNvSpPr/>
            <p:nvPr/>
          </p:nvSpPr>
          <p:spPr>
            <a:xfrm>
              <a:off x="6516720" y="1052640"/>
              <a:ext cx="24494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Analitičk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uslov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ravno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6600"/>
                  </a:solidFill>
                  <a:latin typeface="Times New Roman"/>
                </a:rPr>
                <a:t>(ostali uslov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6600"/>
                  </a:solidFill>
                  <a:latin typeface="Times New Roman"/>
                </a:rPr>
                <a:t>su identički zadovoljeni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79280" y="4248000"/>
            <a:ext cx="8964720" cy="2610720"/>
            <a:chOff x="179280" y="4248000"/>
            <a:chExt cx="8964720" cy="2610720"/>
          </a:xfrm>
        </p:grpSpPr>
        <p:sp>
          <p:nvSpPr>
            <p:cNvPr id="836" name=""/>
            <p:cNvSpPr/>
            <p:nvPr/>
          </p:nvSpPr>
          <p:spPr>
            <a:xfrm>
              <a:off x="179280" y="4292640"/>
              <a:ext cx="2232000" cy="2376360"/>
            </a:xfrm>
            <a:prstGeom prst="wedgeRectCallout">
              <a:avLst>
                <a:gd name="adj1" fmla="val 61097"/>
                <a:gd name="adj2" fmla="val 101"/>
              </a:avLst>
            </a:prstGeom>
            <a:solidFill>
              <a:srgbClr val="b39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27280" y="5484960"/>
              <a:ext cx="6516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b39257"/>
                  </a:solidFill>
                  <a:latin typeface="Times New Roman"/>
                </a:rPr>
                <a:t>Ovi su uslovi identički zadovoljeni jer su linije dejstva sila ili paralelne osama </a:t>
              </a:r>
              <a:r>
                <a:rPr b="1" i="1" lang="sr-Latn-CS" sz="2800" spc="-1" strike="noStrike">
                  <a:solidFill>
                    <a:srgbClr val="b39257"/>
                  </a:solidFill>
                  <a:latin typeface="Times New Roman"/>
                </a:rPr>
                <a:t>Ax</a:t>
              </a:r>
              <a:r>
                <a:rPr b="1" lang="en-US" sz="2800" spc="-1" strike="noStrike">
                  <a:solidFill>
                    <a:srgbClr val="b39257"/>
                  </a:solidFill>
                  <a:latin typeface="Times New Roman"/>
                </a:rPr>
                <a:t> i </a:t>
              </a:r>
              <a:r>
                <a:rPr b="1" i="1" lang="sr-Latn-CS" sz="2800" spc="-1" strike="noStrike">
                  <a:solidFill>
                    <a:srgbClr val="b39257"/>
                  </a:solidFill>
                  <a:latin typeface="Times New Roman"/>
                </a:rPr>
                <a:t>Ay</a:t>
              </a:r>
              <a:r>
                <a:rPr b="1" lang="sr-Latn-CS" sz="2800" spc="-1" strike="noStrike">
                  <a:solidFill>
                    <a:srgbClr val="b39257"/>
                  </a:solidFill>
                  <a:latin typeface="Times New Roman"/>
                </a:rPr>
                <a:t> ili ih sek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"/>
                <p:cNvSpPr txBox="1"/>
                <p:nvPr/>
              </p:nvSpPr>
              <p:spPr>
                <a:xfrm>
                  <a:off x="395280" y="4248000"/>
                  <a:ext cx="1736640" cy="234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9" name=""/>
          <p:cNvGrpSpPr/>
          <p:nvPr/>
        </p:nvGrpSpPr>
        <p:grpSpPr>
          <a:xfrm>
            <a:off x="3995640" y="3716280"/>
            <a:ext cx="5148360" cy="1728720"/>
            <a:chOff x="3995640" y="3716280"/>
            <a:chExt cx="5148360" cy="1728720"/>
          </a:xfrm>
        </p:grpSpPr>
        <p:sp>
          <p:nvSpPr>
            <p:cNvPr id="840" name=""/>
            <p:cNvSpPr/>
            <p:nvPr/>
          </p:nvSpPr>
          <p:spPr>
            <a:xfrm>
              <a:off x="4572000" y="4508640"/>
              <a:ext cx="4572000" cy="93636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1" name=""/>
                <p:cNvSpPr txBox="1"/>
                <p:nvPr/>
              </p:nvSpPr>
              <p:spPr>
                <a:xfrm>
                  <a:off x="4716360" y="4545000"/>
                  <a:ext cx="4248360" cy="90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842" name=""/>
            <p:cNvSpPr/>
            <p:nvPr/>
          </p:nvSpPr>
          <p:spPr>
            <a:xfrm>
              <a:off x="3995640" y="3716280"/>
              <a:ext cx="432000" cy="129708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204840 h 1297080"/>
                <a:gd name="textAreaBottom" fmla="*/ 105012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6830" stAng="-5400000" swAng="-5400000"/>
                  <a:lnTo>
                    <a:pt x="0" y="14072"/>
                  </a:lnTo>
                  <a:arcTo wR="21600" hR="6830" stAng="10800000" swAng="-1722415"/>
                  <a:lnTo>
                    <a:pt x="10800" y="20685"/>
                  </a:lnTo>
                  <a:lnTo>
                    <a:pt x="21600" y="17280"/>
                  </a:lnTo>
                  <a:lnTo>
                    <a:pt x="10800" y="12045"/>
                  </a:lnTo>
                  <a:lnTo>
                    <a:pt x="10800" y="12744"/>
                  </a:lnTo>
                  <a:arcTo wR="21600" hR="6830" stAng="9077585" swAng="1051368"/>
                  <a:lnTo>
                    <a:pt x="3286" y="10451"/>
                  </a:lnTo>
                  <a:arcTo wR="21600" hR="6830" stAng="-10128954" swAng="4728954"/>
                  <a:close/>
                </a:path>
                <a:path fill="darkenLess" w="21600" h="21600">
                  <a:moveTo>
                    <a:pt x="21600" y="0"/>
                  </a:moveTo>
                  <a:arcTo wR="21600" hR="6830" stAng="-5400000" swAng="-5400000"/>
                  <a:lnTo>
                    <a:pt x="0" y="6830"/>
                  </a:lnTo>
                  <a:arcTo wR="21600" hR="6830" stAng="10800000" swAng="-671046"/>
                  <a:lnTo>
                    <a:pt x="3286" y="10451"/>
                  </a:lnTo>
                  <a:arcTo wR="21600" hR="6830" stAng="-10128954" swAng="4728954"/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3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3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26920" y="189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VARINJONOVA TEOR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44480" y="1076400"/>
                <a:ext cx="8339040" cy="578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USLO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G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ZUL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NAP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INIJ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ZU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539640" y="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b) Ako su sve sile u prostoru paralelne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 o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6499080" y="2595600"/>
                <a:ext cx="2459160" cy="42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5" name=""/>
          <p:cNvSpPr/>
          <p:nvPr/>
        </p:nvSpPr>
        <p:spPr>
          <a:xfrm>
            <a:off x="5292720" y="620640"/>
            <a:ext cx="38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3300"/>
                </a:solidFill>
                <a:uFillTx/>
                <a:latin typeface="Times New Roman"/>
              </a:rPr>
              <a:t>Analitički uslovi ravnot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Times New Roman"/>
              </a:rPr>
              <a:t>(ostali uslovi su identički zadovoljeni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1116000" y="4292640"/>
                <a:ext cx="421308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7" name=""/>
          <p:cNvSpPr/>
          <p:nvPr/>
        </p:nvSpPr>
        <p:spPr>
          <a:xfrm>
            <a:off x="36000" y="450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860720" y="28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476720" y="7635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471240" y="342252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987560" y="3422520"/>
            <a:ext cx="316080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1979640" y="979560"/>
            <a:ext cx="7920" cy="2442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405080" y="29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051360" y="239796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1167120" y="210744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1383840" y="232344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1814760" y="2755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2030760" y="2971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71000" y="268668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1383840" y="232344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814760" y="2755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484720" y="380916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 flipV="1">
            <a:off x="1641960" y="4025880"/>
            <a:ext cx="1058760" cy="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171000" y="290268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888120" y="3593520"/>
            <a:ext cx="138060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2979360" y="318996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929160" y="1751400"/>
            <a:ext cx="805680" cy="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34280" y="2184480"/>
            <a:ext cx="965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220840" y="841320"/>
                <a:ext cx="2638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5580000" y="458136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580000" y="580536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3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611280" y="141300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50920" y="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c) Ako su sve sile u ravni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xy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i paralelne 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 o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611280" y="763200"/>
            <a:ext cx="3313080" cy="3168720"/>
            <a:chOff x="611280" y="763200"/>
            <a:chExt cx="3313080" cy="3168720"/>
          </a:xfrm>
        </p:grpSpPr>
        <p:sp>
          <p:nvSpPr>
            <p:cNvPr id="878" name=""/>
            <p:cNvSpPr/>
            <p:nvPr/>
          </p:nvSpPr>
          <p:spPr>
            <a:xfrm flipV="1">
              <a:off x="611280" y="7632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11280" y="39319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356508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476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5732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 flipV="1">
            <a:off x="1105560" y="1524960"/>
            <a:ext cx="12960" cy="18648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1708200" y="620640"/>
                <a:ext cx="2066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6156360" y="2997360"/>
                <a:ext cx="2749680" cy="37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4932360" y="836640"/>
            <a:ext cx="403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3300"/>
                </a:solidFill>
                <a:uFillTx/>
                <a:latin typeface="Times New Roman"/>
              </a:rPr>
              <a:t>Analitički uslo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3300"/>
                </a:solidFill>
                <a:uFillTx/>
                <a:latin typeface="Times New Roman"/>
              </a:rPr>
              <a:t>ravnot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6600"/>
                </a:solidFill>
                <a:latin typeface="Times New Roman"/>
              </a:rPr>
              <a:t>(ostali uslovi su identički zadovolje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79280" y="5013360"/>
            <a:ext cx="4861080" cy="1511280"/>
            <a:chOff x="179280" y="5013360"/>
            <a:chExt cx="4861080" cy="1511280"/>
          </a:xfrm>
        </p:grpSpPr>
        <p:sp>
          <p:nvSpPr>
            <p:cNvPr id="888" name=""/>
            <p:cNvSpPr/>
            <p:nvPr/>
          </p:nvSpPr>
          <p:spPr>
            <a:xfrm>
              <a:off x="179280" y="5013360"/>
              <a:ext cx="4861080" cy="151128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357120" y="5157720"/>
                  <a:ext cx="443088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0" name=""/>
          <p:cNvSpPr/>
          <p:nvPr/>
        </p:nvSpPr>
        <p:spPr>
          <a:xfrm flipH="1" flipV="1">
            <a:off x="1320840" y="1740600"/>
            <a:ext cx="12600" cy="1865160"/>
          </a:xfrm>
          <a:prstGeom prst="line">
            <a:avLst/>
          </a:prstGeom>
          <a:ln w="4428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3027960" y="2274480"/>
            <a:ext cx="3600" cy="129456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1808640" y="1646640"/>
            <a:ext cx="10080" cy="194544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2643840" y="2627280"/>
            <a:ext cx="14040" cy="902160"/>
          </a:xfrm>
          <a:prstGeom prst="line">
            <a:avLst/>
          </a:prstGeom>
          <a:ln w="4428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H="1" flipV="1">
            <a:off x="2184480" y="1524600"/>
            <a:ext cx="12600" cy="18651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292720" y="544500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867280" y="4365720"/>
            <a:ext cx="2881440" cy="2303280"/>
          </a:xfrm>
          <a:prstGeom prst="wedgeRoundRectCallout">
            <a:avLst>
              <a:gd name="adj1" fmla="val -13912"/>
              <a:gd name="adj2" fmla="val 26152"/>
              <a:gd name="adj3" fmla="val 1666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Ovo je šesti uslov ravnot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330200" y="11268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lternativni oblici uslova ravno</a:t>
            </a: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tež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826920" y="765000"/>
                <a:ext cx="4203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68360" y="1557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Ako je drugi vektorski uslov zadovoljen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403280" y="2205000"/>
                <a:ext cx="70534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611280" y="29973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Ako je važi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403280" y="522936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Iz (1) i (2) ima 6 uslova ravnoteže, ali 5 nezavisn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591000" y="2924280"/>
                <a:ext cx="2565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1501920" y="3716280"/>
                <a:ext cx="58784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∨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623880" y="4332240"/>
                <a:ext cx="81932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2411280" y="5805360"/>
            <a:ext cx="4032360" cy="863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588000" y="3284640"/>
            <a:ext cx="1871640" cy="576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732720" y="5300640"/>
            <a:ext cx="18716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4211640" y="333360"/>
                <a:ext cx="35654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10" name=""/>
          <p:cNvGrpSpPr/>
          <p:nvPr/>
        </p:nvGrpSpPr>
        <p:grpSpPr>
          <a:xfrm>
            <a:off x="-247680" y="-235080"/>
            <a:ext cx="4029840" cy="3872520"/>
            <a:chOff x="-247680" y="-235080"/>
            <a:chExt cx="4029840" cy="3872520"/>
          </a:xfrm>
        </p:grpSpPr>
        <p:grpSp>
          <p:nvGrpSpPr>
            <p:cNvPr id="911" name=""/>
            <p:cNvGrpSpPr/>
            <p:nvPr/>
          </p:nvGrpSpPr>
          <p:grpSpPr>
            <a:xfrm>
              <a:off x="3202560" y="-8640"/>
              <a:ext cx="480600" cy="665640"/>
              <a:chOff x="3202560" y="-8640"/>
              <a:chExt cx="480600" cy="665640"/>
            </a:xfrm>
          </p:grpSpPr>
          <p:sp>
            <p:nvSpPr>
              <p:cNvPr id="912" name=""/>
              <p:cNvSpPr/>
              <p:nvPr/>
            </p:nvSpPr>
            <p:spPr>
              <a:xfrm rot="21471000">
                <a:off x="3214440" y="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3347640" y="142920"/>
                <a:ext cx="216000" cy="8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-247680" y="-235080"/>
              <a:ext cx="4029840" cy="3872520"/>
              <a:chOff x="-247680" y="-235080"/>
              <a:chExt cx="4029840" cy="3872520"/>
            </a:xfrm>
          </p:grpSpPr>
          <p:sp>
            <p:nvSpPr>
              <p:cNvPr id="915" name=""/>
              <p:cNvSpPr/>
              <p:nvPr/>
            </p:nvSpPr>
            <p:spPr>
              <a:xfrm rot="2758800">
                <a:off x="773640" y="-116280"/>
                <a:ext cx="1872000" cy="3635280"/>
              </a:xfrm>
              <a:custGeom>
                <a:avLst/>
                <a:gdLst/>
                <a:ahLst/>
                <a:rect l="l" t="t" r="r" b="b"/>
                <a:pathLst>
                  <a:path w="1488" h="1188">
                    <a:moveTo>
                      <a:pt x="1225" y="137"/>
                    </a:moveTo>
                    <a:cubicBezTo>
                      <a:pt x="1170" y="80"/>
                      <a:pt x="1135" y="55"/>
                      <a:pt x="1061" y="18"/>
                    </a:cubicBezTo>
                    <a:cubicBezTo>
                      <a:pt x="1044" y="9"/>
                      <a:pt x="1006" y="0"/>
                      <a:pt x="1006" y="0"/>
                    </a:cubicBezTo>
                    <a:cubicBezTo>
                      <a:pt x="914" y="10"/>
                      <a:pt x="831" y="37"/>
                      <a:pt x="741" y="55"/>
                    </a:cubicBezTo>
                    <a:cubicBezTo>
                      <a:pt x="613" y="48"/>
                      <a:pt x="493" y="43"/>
                      <a:pt x="366" y="64"/>
                    </a:cubicBezTo>
                    <a:cubicBezTo>
                      <a:pt x="313" y="81"/>
                      <a:pt x="266" y="107"/>
                      <a:pt x="220" y="137"/>
                    </a:cubicBezTo>
                    <a:cubicBezTo>
                      <a:pt x="192" y="155"/>
                      <a:pt x="182" y="189"/>
                      <a:pt x="156" y="210"/>
                    </a:cubicBezTo>
                    <a:cubicBezTo>
                      <a:pt x="105" y="252"/>
                      <a:pt x="67" y="296"/>
                      <a:pt x="37" y="356"/>
                    </a:cubicBezTo>
                    <a:cubicBezTo>
                      <a:pt x="26" y="402"/>
                      <a:pt x="8" y="436"/>
                      <a:pt x="0" y="484"/>
                    </a:cubicBezTo>
                    <a:cubicBezTo>
                      <a:pt x="9" y="578"/>
                      <a:pt x="16" y="752"/>
                      <a:pt x="64" y="832"/>
                    </a:cubicBezTo>
                    <a:cubicBezTo>
                      <a:pt x="99" y="891"/>
                      <a:pt x="127" y="894"/>
                      <a:pt x="165" y="942"/>
                    </a:cubicBezTo>
                    <a:cubicBezTo>
                      <a:pt x="211" y="1001"/>
                      <a:pt x="184" y="1028"/>
                      <a:pt x="256" y="1070"/>
                    </a:cubicBezTo>
                    <a:cubicBezTo>
                      <a:pt x="295" y="1092"/>
                      <a:pt x="361" y="1091"/>
                      <a:pt x="403" y="1097"/>
                    </a:cubicBezTo>
                    <a:cubicBezTo>
                      <a:pt x="460" y="1116"/>
                      <a:pt x="520" y="1131"/>
                      <a:pt x="576" y="1152"/>
                    </a:cubicBezTo>
                    <a:cubicBezTo>
                      <a:pt x="589" y="1157"/>
                      <a:pt x="600" y="1166"/>
                      <a:pt x="613" y="1170"/>
                    </a:cubicBezTo>
                    <a:cubicBezTo>
                      <a:pt x="643" y="1179"/>
                      <a:pt x="674" y="1181"/>
                      <a:pt x="704" y="1188"/>
                    </a:cubicBezTo>
                    <a:cubicBezTo>
                      <a:pt x="816" y="1182"/>
                      <a:pt x="914" y="1164"/>
                      <a:pt x="1024" y="1152"/>
                    </a:cubicBezTo>
                    <a:cubicBezTo>
                      <a:pt x="1124" y="1128"/>
                      <a:pt x="1005" y="1161"/>
                      <a:pt x="1088" y="1124"/>
                    </a:cubicBezTo>
                    <a:cubicBezTo>
                      <a:pt x="1138" y="1102"/>
                      <a:pt x="1192" y="1087"/>
                      <a:pt x="1244" y="1070"/>
                    </a:cubicBezTo>
                    <a:cubicBezTo>
                      <a:pt x="1282" y="1030"/>
                      <a:pt x="1239" y="1070"/>
                      <a:pt x="1289" y="1042"/>
                    </a:cubicBezTo>
                    <a:cubicBezTo>
                      <a:pt x="1369" y="998"/>
                      <a:pt x="1443" y="948"/>
                      <a:pt x="1472" y="859"/>
                    </a:cubicBezTo>
                    <a:cubicBezTo>
                      <a:pt x="1488" y="697"/>
                      <a:pt x="1471" y="526"/>
                      <a:pt x="1436" y="366"/>
                    </a:cubicBezTo>
                    <a:cubicBezTo>
                      <a:pt x="1428" y="331"/>
                      <a:pt x="1414" y="249"/>
                      <a:pt x="1381" y="228"/>
                    </a:cubicBezTo>
                    <a:cubicBezTo>
                      <a:pt x="1365" y="218"/>
                      <a:pt x="1344" y="216"/>
                      <a:pt x="1326" y="210"/>
                    </a:cubicBezTo>
                    <a:cubicBezTo>
                      <a:pt x="1317" y="207"/>
                      <a:pt x="1299" y="201"/>
                      <a:pt x="1299" y="201"/>
                    </a:cubicBezTo>
                    <a:cubicBezTo>
                      <a:pt x="1275" y="178"/>
                      <a:pt x="1249" y="159"/>
                      <a:pt x="1225" y="137"/>
                    </a:cubicBezTo>
                    <a:close/>
                  </a:path>
                </a:pathLst>
              </a:custGeom>
              <a:solidFill>
                <a:srgbClr val="b1a887"/>
              </a:solidFill>
              <a:ln w="34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60680" y="2349360"/>
                <a:ext cx="43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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55196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9960" y="1700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3352320" y="1413000"/>
                <a:ext cx="360000" cy="581400"/>
                <a:chOff x="3352320" y="1413000"/>
                <a:chExt cx="360000" cy="58140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352320" y="1413000"/>
                  <a:ext cx="293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496680" y="1484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2" name=""/>
              <p:cNvSpPr/>
              <p:nvPr/>
            </p:nvSpPr>
            <p:spPr>
              <a:xfrm flipH="1">
                <a:off x="326520" y="333360"/>
                <a:ext cx="2807640" cy="28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23" name=""/>
              <p:cNvGraphicFramePr/>
              <p:nvPr/>
            </p:nvGraphicFramePr>
            <p:xfrm>
              <a:off x="1190160" y="2205000"/>
              <a:ext cx="133200" cy="130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2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90160" y="2205000"/>
                        <a:ext cx="133200" cy="1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5" name=""/>
              <p:cNvGraphicFramePr/>
              <p:nvPr/>
            </p:nvGraphicFramePr>
            <p:xfrm>
              <a:off x="1910880" y="1484280"/>
              <a:ext cx="133200" cy="130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10880" y="1484280"/>
                        <a:ext cx="133200" cy="1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7" name=""/>
              <p:cNvSpPr/>
              <p:nvPr/>
            </p:nvSpPr>
            <p:spPr>
              <a:xfrm flipV="1">
                <a:off x="2594520" y="243000"/>
                <a:ext cx="610920" cy="6393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326520" y="1916280"/>
                <a:ext cx="345564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29" name=""/>
              <p:cNvGraphicFramePr/>
              <p:nvPr/>
            </p:nvGraphicFramePr>
            <p:xfrm>
              <a:off x="1045800" y="2421000"/>
              <a:ext cx="288720" cy="407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045800" y="2421000"/>
                        <a:ext cx="288720" cy="407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931" name=""/>
          <p:cNvGrpSpPr/>
          <p:nvPr/>
        </p:nvGrpSpPr>
        <p:grpSpPr>
          <a:xfrm>
            <a:off x="252000" y="2752200"/>
            <a:ext cx="3751560" cy="4107600"/>
            <a:chOff x="252000" y="2752200"/>
            <a:chExt cx="3751560" cy="4107600"/>
          </a:xfrm>
        </p:grpSpPr>
        <p:sp>
          <p:nvSpPr>
            <p:cNvPr id="932" name=""/>
            <p:cNvSpPr/>
            <p:nvPr/>
          </p:nvSpPr>
          <p:spPr>
            <a:xfrm>
              <a:off x="252000" y="6278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641400" y="4626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232360" y="306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687240" y="5195880"/>
              <a:ext cx="151632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2195640" y="2752200"/>
              <a:ext cx="7920" cy="24433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621080" y="4770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7240" y="4214880"/>
              <a:ext cx="151632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203560" y="4214880"/>
              <a:ext cx="1797120" cy="6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629000" y="378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66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3641400" y="3645000"/>
              <a:ext cx="362160" cy="581400"/>
              <a:chOff x="3641400" y="3645000"/>
              <a:chExt cx="362160" cy="581400"/>
            </a:xfrm>
          </p:grpSpPr>
          <p:sp>
            <p:nvSpPr>
              <p:cNvPr id="942" name=""/>
              <p:cNvSpPr/>
              <p:nvPr/>
            </p:nvSpPr>
            <p:spPr>
              <a:xfrm>
                <a:off x="3641400" y="3645000"/>
                <a:ext cx="36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11600" y="3789360"/>
                <a:ext cx="21564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252000" y="5297400"/>
              <a:ext cx="384840" cy="581400"/>
              <a:chOff x="252000" y="5297400"/>
              <a:chExt cx="384840" cy="581400"/>
            </a:xfrm>
          </p:grpSpPr>
          <p:sp>
            <p:nvSpPr>
              <p:cNvPr id="945" name=""/>
              <p:cNvSpPr/>
              <p:nvPr/>
            </p:nvSpPr>
            <p:spPr>
              <a:xfrm>
                <a:off x="252000" y="52974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58560" y="5445000"/>
                <a:ext cx="2160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2200320" y="5222880"/>
              <a:ext cx="1797120" cy="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4427640" y="1989000"/>
                <a:ext cx="40654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x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y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z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z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2627280" y="5950080"/>
                <a:ext cx="3565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d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0" name=""/>
          <p:cNvSpPr/>
          <p:nvPr/>
        </p:nvSpPr>
        <p:spPr>
          <a:xfrm>
            <a:off x="6227640" y="115920"/>
            <a:ext cx="2592360" cy="719280"/>
          </a:xfrm>
          <a:prstGeom prst="wedgeRoundRectCallout">
            <a:avLst>
              <a:gd name="adj1" fmla="val -61694"/>
              <a:gd name="adj2" fmla="val 78037"/>
              <a:gd name="adj3" fmla="val 1666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ff"/>
                </a:solidFill>
                <a:latin typeface="Times New Roman"/>
              </a:rPr>
              <a:t>zavisnost v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5796000" y="2781360"/>
            <a:ext cx="3348000" cy="1942920"/>
          </a:xfrm>
          <a:prstGeom prst="wedgeRectCallout">
            <a:avLst>
              <a:gd name="adj1" fmla="val 4384"/>
              <a:gd name="adj2" fmla="val 87254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100080" y="189000"/>
                <a:ext cx="61275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5940360" y="-27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0066"/>
                </a:solidFill>
                <a:latin typeface="Times New Roman"/>
              </a:rPr>
              <a:t>A, B, C</a:t>
            </a: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 – nekolinea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redukcione tač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Riterove tač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005440" y="23479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zbog nekolinearnosti tača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0" y="692280"/>
            <a:ext cx="9144000" cy="1972440"/>
            <a:chOff x="0" y="692280"/>
            <a:chExt cx="9144000" cy="1972440"/>
          </a:xfrm>
        </p:grpSpPr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0" y="1052640"/>
                  <a:ext cx="9144000" cy="13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</m:e>
                        <m:e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C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57" name=""/>
            <p:cNvSpPr/>
            <p:nvPr/>
          </p:nvSpPr>
          <p:spPr>
            <a:xfrm flipV="1">
              <a:off x="0" y="981000"/>
              <a:ext cx="82692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116000" y="981000"/>
              <a:ext cx="71928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50920" y="1700280"/>
              <a:ext cx="4334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03280" y="1700280"/>
              <a:ext cx="43200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744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76544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580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3708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2276640"/>
                <a:ext cx="17460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66" name=""/>
          <p:cNvGrpSpPr/>
          <p:nvPr/>
        </p:nvGrpSpPr>
        <p:grpSpPr>
          <a:xfrm>
            <a:off x="-34920" y="3019680"/>
            <a:ext cx="6084000" cy="3729240"/>
            <a:chOff x="-34920" y="3019680"/>
            <a:chExt cx="6084000" cy="3729240"/>
          </a:xfrm>
        </p:grpSpPr>
        <p:sp>
          <p:nvSpPr>
            <p:cNvPr id="967" name=""/>
            <p:cNvSpPr/>
            <p:nvPr/>
          </p:nvSpPr>
          <p:spPr>
            <a:xfrm rot="582000">
              <a:off x="682560" y="3355920"/>
              <a:ext cx="4232520" cy="28353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044880" y="3326040"/>
              <a:ext cx="1219680" cy="298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1665720" y="3373560"/>
              <a:ext cx="1358280" cy="437760"/>
              <a:chOff x="1665720" y="3373560"/>
              <a:chExt cx="1358280" cy="437760"/>
            </a:xfrm>
          </p:grpSpPr>
          <p:sp>
            <p:nvSpPr>
              <p:cNvPr id="970" name=""/>
              <p:cNvSpPr/>
              <p:nvPr/>
            </p:nvSpPr>
            <p:spPr>
              <a:xfrm flipV="1">
                <a:off x="1665720" y="3373560"/>
                <a:ext cx="1358280" cy="4316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1842480" y="3669480"/>
                <a:ext cx="149040" cy="91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855440" y="3759480"/>
                <a:ext cx="1573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684080" y="3720240"/>
                <a:ext cx="149400" cy="91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695960" y="3809880"/>
                <a:ext cx="1573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3863160" y="3424320"/>
              <a:ext cx="609120" cy="648720"/>
              <a:chOff x="3863160" y="3424320"/>
              <a:chExt cx="609120" cy="648720"/>
            </a:xfrm>
          </p:grpSpPr>
          <p:sp>
            <p:nvSpPr>
              <p:cNvPr id="976" name=""/>
              <p:cNvSpPr/>
              <p:nvPr/>
            </p:nvSpPr>
            <p:spPr>
              <a:xfrm>
                <a:off x="3863160" y="342432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93840" y="3495600"/>
                <a:ext cx="360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4718160" y="5948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3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789840" y="3355920"/>
              <a:ext cx="1011240" cy="648720"/>
              <a:chOff x="789840" y="3355920"/>
              <a:chExt cx="1011240" cy="648720"/>
            </a:xfrm>
          </p:grpSpPr>
          <p:sp>
            <p:nvSpPr>
              <p:cNvPr id="981" name=""/>
              <p:cNvSpPr/>
              <p:nvPr/>
            </p:nvSpPr>
            <p:spPr>
              <a:xfrm>
                <a:off x="789840" y="3355920"/>
                <a:ext cx="1011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00cc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30000">
                    <a:solidFill>
                      <a:srgbClr val="0000cc"/>
                    </a:solidFill>
                    <a:latin typeface="Times New Roman"/>
                  </a:rPr>
                  <a:t>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98560" y="342720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1704240" y="5443560"/>
              <a:ext cx="609120" cy="648720"/>
              <a:chOff x="1704240" y="5443560"/>
              <a:chExt cx="609120" cy="648720"/>
            </a:xfrm>
          </p:grpSpPr>
          <p:sp>
            <p:nvSpPr>
              <p:cNvPr id="984" name=""/>
              <p:cNvSpPr/>
              <p:nvPr/>
            </p:nvSpPr>
            <p:spPr>
              <a:xfrm>
                <a:off x="1704240" y="544356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34920" y="5514840"/>
                <a:ext cx="360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2987640" y="3284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4572000" y="4868640"/>
              <a:ext cx="1477080" cy="1727280"/>
              <a:chOff x="4572000" y="4868640"/>
              <a:chExt cx="1477080" cy="172728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4630320" y="6496920"/>
                <a:ext cx="1220040" cy="2952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4626000" y="5178240"/>
                <a:ext cx="419760" cy="1361880"/>
                <a:chOff x="4626000" y="5178240"/>
                <a:chExt cx="419760" cy="1361880"/>
              </a:xfrm>
            </p:grpSpPr>
            <p:sp>
              <p:nvSpPr>
                <p:cNvPr id="990" name=""/>
                <p:cNvSpPr/>
                <p:nvPr/>
              </p:nvSpPr>
              <p:spPr>
                <a:xfrm flipH="1">
                  <a:off x="4626000" y="5178240"/>
                  <a:ext cx="419760" cy="1361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V="1">
                  <a:off x="4971240" y="5348880"/>
                  <a:ext cx="10440" cy="1746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>
                  <a:off x="4885560" y="5360400"/>
                  <a:ext cx="89640" cy="128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5019840" y="5189760"/>
                  <a:ext cx="10440" cy="1749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>
                  <a:off x="4934880" y="5200560"/>
                  <a:ext cx="89640" cy="128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5037840" y="4868640"/>
                <a:ext cx="1011240" cy="648720"/>
                <a:chOff x="5037840" y="4868640"/>
                <a:chExt cx="1011240" cy="6487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5037840" y="4868640"/>
                  <a:ext cx="10112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30000">
                      <a:solidFill>
                        <a:srgbClr val="0000cc"/>
                      </a:solidFill>
                      <a:latin typeface="Times New Roman"/>
                    </a:rPr>
                    <a:t>(B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146560" y="49399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5304600" y="5876640"/>
                <a:ext cx="609120" cy="648720"/>
                <a:chOff x="5304600" y="5876640"/>
                <a:chExt cx="609120" cy="6487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5304600" y="5876640"/>
                  <a:ext cx="6091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660066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660066"/>
                      </a:solidFill>
                      <a:latin typeface="Times New Roman"/>
                    </a:rPr>
                    <a:t>R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435280" y="5947920"/>
                  <a:ext cx="360000" cy="0"/>
                </a:xfrm>
                <a:prstGeom prst="line">
                  <a:avLst/>
                </a:prstGeom>
                <a:ln w="25560">
                  <a:solidFill>
                    <a:srgbClr val="66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1" name=""/>
              <p:cNvSpPr/>
              <p:nvPr/>
            </p:nvSpPr>
            <p:spPr>
              <a:xfrm>
                <a:off x="4572000" y="645300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-34920" y="4795920"/>
              <a:ext cx="2485080" cy="1303560"/>
              <a:chOff x="-34920" y="4795920"/>
              <a:chExt cx="2485080" cy="1303560"/>
            </a:xfrm>
          </p:grpSpPr>
          <p:grpSp>
            <p:nvGrpSpPr>
              <p:cNvPr id="1003" name=""/>
              <p:cNvGrpSpPr/>
              <p:nvPr/>
            </p:nvGrpSpPr>
            <p:grpSpPr>
              <a:xfrm>
                <a:off x="1438920" y="4795920"/>
                <a:ext cx="1011240" cy="648720"/>
                <a:chOff x="1438920" y="4795920"/>
                <a:chExt cx="1011240" cy="6487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1438920" y="4795920"/>
                  <a:ext cx="10112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30000">
                      <a:solidFill>
                        <a:srgbClr val="0000cc"/>
                      </a:solidFill>
                      <a:latin typeface="Times New Roman"/>
                    </a:rPr>
                    <a:t>(A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547640" y="48672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6" name=""/>
              <p:cNvSpPr/>
              <p:nvPr/>
            </p:nvSpPr>
            <p:spPr>
              <a:xfrm>
                <a:off x="-34920" y="551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454320" y="5778000"/>
                <a:ext cx="1220400" cy="2952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479880" y="5315760"/>
                <a:ext cx="1331640" cy="513000"/>
                <a:chOff x="479880" y="5315760"/>
                <a:chExt cx="1331640" cy="513000"/>
              </a:xfrm>
            </p:grpSpPr>
            <p:sp>
              <p:nvSpPr>
                <p:cNvPr id="1009" name=""/>
                <p:cNvSpPr/>
                <p:nvPr/>
              </p:nvSpPr>
              <p:spPr>
                <a:xfrm flipH="1">
                  <a:off x="479880" y="5320800"/>
                  <a:ext cx="1331640" cy="5079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1493640" y="5375520"/>
                  <a:ext cx="143640" cy="9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>
                  <a:off x="1467720" y="5377320"/>
                  <a:ext cx="156960" cy="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1648800" y="5315760"/>
                  <a:ext cx="144000" cy="993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>
                  <a:off x="1623960" y="5317560"/>
                  <a:ext cx="156960" cy="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"/>
              <p:cNvSpPr/>
              <p:nvPr/>
            </p:nvSpPr>
            <p:spPr>
              <a:xfrm>
                <a:off x="397080" y="57340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1016640" y="4137120"/>
              <a:ext cx="597600" cy="669960"/>
              <a:chOff x="1016640" y="4137120"/>
              <a:chExt cx="597600" cy="669960"/>
            </a:xfrm>
          </p:grpSpPr>
          <p:sp>
            <p:nvSpPr>
              <p:cNvPr id="1016" name=""/>
              <p:cNvSpPr/>
              <p:nvPr/>
            </p:nvSpPr>
            <p:spPr>
              <a:xfrm rot="21471000">
                <a:off x="1028520" y="414756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1155240" y="4291920"/>
                <a:ext cx="21600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 flipV="1">
              <a:off x="1368000" y="4132440"/>
              <a:ext cx="883080" cy="818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740600" y="6024600"/>
              <a:ext cx="1000080" cy="172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3630240" y="4555800"/>
              <a:ext cx="420840" cy="81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2024640" y="6078960"/>
              <a:ext cx="597600" cy="669960"/>
              <a:chOff x="2024640" y="6078960"/>
              <a:chExt cx="597600" cy="669960"/>
            </a:xfrm>
          </p:grpSpPr>
          <p:sp>
            <p:nvSpPr>
              <p:cNvPr id="1022" name=""/>
              <p:cNvSpPr/>
              <p:nvPr/>
            </p:nvSpPr>
            <p:spPr>
              <a:xfrm rot="21471000">
                <a:off x="2036520" y="608940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2165040" y="623520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3897720" y="4569480"/>
              <a:ext cx="597600" cy="669960"/>
              <a:chOff x="3897720" y="4569480"/>
              <a:chExt cx="597600" cy="669960"/>
            </a:xfrm>
          </p:grpSpPr>
          <p:sp>
            <p:nvSpPr>
              <p:cNvPr id="1025" name=""/>
              <p:cNvSpPr/>
              <p:nvPr/>
            </p:nvSpPr>
            <p:spPr>
              <a:xfrm rot="21471000">
                <a:off x="3909600" y="457992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4038120" y="472536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5796000" y="2754360"/>
                <a:ext cx="334800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8" name=""/>
          <p:cNvSpPr/>
          <p:nvPr/>
        </p:nvSpPr>
        <p:spPr>
          <a:xfrm>
            <a:off x="5904000" y="5300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3 linearne zavis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971640" y="263844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765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ile u ravni</a:t>
            </a: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 x-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349800" y="29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05416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044720" y="270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5292720" y="1773360"/>
                <a:ext cx="210672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5" name=""/>
          <p:cNvGrpSpPr/>
          <p:nvPr/>
        </p:nvGrpSpPr>
        <p:grpSpPr>
          <a:xfrm>
            <a:off x="971640" y="1988640"/>
            <a:ext cx="3313080" cy="3168720"/>
            <a:chOff x="971640" y="1988640"/>
            <a:chExt cx="3313080" cy="3168720"/>
          </a:xfrm>
        </p:grpSpPr>
        <p:sp>
          <p:nvSpPr>
            <p:cNvPr id="1036" name=""/>
            <p:cNvSpPr/>
            <p:nvPr/>
          </p:nvSpPr>
          <p:spPr>
            <a:xfrm flipV="1">
              <a:off x="971640" y="198864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71640" y="515736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3925440" y="50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08040" y="1917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0" name=""/>
          <p:cNvGraphicFramePr/>
          <p:nvPr/>
        </p:nvGraphicFramePr>
        <p:xfrm>
          <a:off x="1476360" y="321300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130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2" name=""/>
          <p:cNvGraphicFramePr/>
          <p:nvPr/>
        </p:nvGraphicFramePr>
        <p:xfrm>
          <a:off x="3203640" y="32860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2860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2556000" y="451008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45100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733320" y="4797360"/>
            <a:ext cx="4030920" cy="17272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733320" y="1916280"/>
            <a:ext cx="3672000" cy="28810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405320" y="1916280"/>
            <a:ext cx="358920" cy="460836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 flipV="1">
            <a:off x="4471920" y="2700720"/>
            <a:ext cx="54000" cy="9532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1527120" y="3368880"/>
            <a:ext cx="1000440" cy="8290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340720" y="5498280"/>
            <a:ext cx="1279800" cy="52452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4501800" y="2565360"/>
            <a:ext cx="543600" cy="648720"/>
            <a:chOff x="4501800" y="2565360"/>
            <a:chExt cx="543600" cy="648720"/>
          </a:xfrm>
        </p:grpSpPr>
        <p:sp>
          <p:nvSpPr>
            <p:cNvPr id="1053" name=""/>
            <p:cNvSpPr/>
            <p:nvPr/>
          </p:nvSpPr>
          <p:spPr>
            <a:xfrm>
              <a:off x="4501800" y="2565360"/>
              <a:ext cx="54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37160" y="2636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2113560" y="3645000"/>
            <a:ext cx="635040" cy="648720"/>
            <a:chOff x="2113560" y="3645000"/>
            <a:chExt cx="635040" cy="648720"/>
          </a:xfrm>
        </p:grpSpPr>
        <p:sp>
          <p:nvSpPr>
            <p:cNvPr id="1056" name=""/>
            <p:cNvSpPr/>
            <p:nvPr/>
          </p:nvSpPr>
          <p:spPr>
            <a:xfrm>
              <a:off x="2113560" y="36450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243160" y="371628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2192400" y="5734080"/>
            <a:ext cx="726480" cy="648720"/>
            <a:chOff x="2192400" y="5734080"/>
            <a:chExt cx="726480" cy="648720"/>
          </a:xfrm>
        </p:grpSpPr>
        <p:sp>
          <p:nvSpPr>
            <p:cNvPr id="1059" name=""/>
            <p:cNvSpPr/>
            <p:nvPr/>
          </p:nvSpPr>
          <p:spPr>
            <a:xfrm>
              <a:off x="2192400" y="573408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15880" y="5805360"/>
              <a:ext cx="36000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15876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838760" y="609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35480" y="134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32960" y="1773360"/>
            <a:ext cx="2087640" cy="302400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820960" y="1700280"/>
            <a:ext cx="1944720" cy="482436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820960" y="1773360"/>
            <a:ext cx="1584360" cy="14292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1749600" y="2634840"/>
            <a:ext cx="461880" cy="684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2838240" y="1755360"/>
            <a:ext cx="1165680" cy="10728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3320640" y="2959200"/>
            <a:ext cx="561960" cy="1366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18094200">
            <a:off x="2277000" y="7340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3335400" y="1197000"/>
            <a:ext cx="569520" cy="648720"/>
            <a:chOff x="3335400" y="1197000"/>
            <a:chExt cx="569520" cy="648720"/>
          </a:xfrm>
        </p:grpSpPr>
        <p:sp>
          <p:nvSpPr>
            <p:cNvPr id="1072" name=""/>
            <p:cNvSpPr/>
            <p:nvPr/>
          </p:nvSpPr>
          <p:spPr>
            <a:xfrm>
              <a:off x="3335400" y="119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468600" y="126828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3551400" y="3068640"/>
            <a:ext cx="569520" cy="648720"/>
            <a:chOff x="3551400" y="3068640"/>
            <a:chExt cx="569520" cy="648720"/>
          </a:xfrm>
        </p:grpSpPr>
        <p:sp>
          <p:nvSpPr>
            <p:cNvPr id="1075" name=""/>
            <p:cNvSpPr/>
            <p:nvPr/>
          </p:nvSpPr>
          <p:spPr>
            <a:xfrm>
              <a:off x="355140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84600" y="313992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1462320" y="2349360"/>
            <a:ext cx="569520" cy="648720"/>
            <a:chOff x="1462320" y="2349360"/>
            <a:chExt cx="569520" cy="648720"/>
          </a:xfrm>
        </p:grpSpPr>
        <p:sp>
          <p:nvSpPr>
            <p:cNvPr id="1078" name=""/>
            <p:cNvSpPr/>
            <p:nvPr/>
          </p:nvSpPr>
          <p:spPr>
            <a:xfrm>
              <a:off x="1462320" y="234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95520" y="242064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"/>
          <p:cNvSpPr/>
          <p:nvPr/>
        </p:nvSpPr>
        <p:spPr>
          <a:xfrm rot="21446400">
            <a:off x="2255400" y="1268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95280" y="44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3. Ako su TETRAEDARSKE koordinate datog sistema sila jednake nuli, sistem sila je u ravnote</a:t>
            </a:r>
            <a:r>
              <a:rPr b="1" lang="sr-Latn-CS" sz="3200" spc="-1" strike="noStrike">
                <a:solidFill>
                  <a:srgbClr val="9966ff"/>
                </a:solidFill>
                <a:latin typeface="Times New Roman"/>
              </a:rPr>
              <a:t>ž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6521400" y="1773360"/>
                <a:ext cx="2298600" cy="47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324000" y="1413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. 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istem sila je u ravnote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ži ako su momenti tog sistema sila jednaki nuli za ose u prostoru koje čine šest ivica jednog tetra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1260360" y="3645000"/>
                <a:ext cx="70884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324000" y="260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ISTEM SILA 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966960" y="1338120"/>
            <a:ext cx="3024000" cy="28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917360" y="2852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0320" y="400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966960" y="977400"/>
            <a:ext cx="3313080" cy="3168720"/>
            <a:chOff x="966960" y="977400"/>
            <a:chExt cx="3313080" cy="3168720"/>
          </a:xfrm>
        </p:grpSpPr>
        <p:sp>
          <p:nvSpPr>
            <p:cNvPr id="1090" name=""/>
            <p:cNvSpPr/>
            <p:nvPr/>
          </p:nvSpPr>
          <p:spPr>
            <a:xfrm flipV="1">
              <a:off x="966960" y="9774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966960" y="41461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3920760" y="4003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03000" y="9064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1863360" y="1806480"/>
            <a:ext cx="1662840" cy="112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2844720" y="1268280"/>
            <a:ext cx="548640" cy="675720"/>
            <a:chOff x="2844720" y="1268280"/>
            <a:chExt cx="548640" cy="675720"/>
          </a:xfrm>
        </p:grpSpPr>
        <p:grpSp>
          <p:nvGrpSpPr>
            <p:cNvPr id="1096" name=""/>
            <p:cNvGrpSpPr/>
            <p:nvPr/>
          </p:nvGrpSpPr>
          <p:grpSpPr>
            <a:xfrm>
              <a:off x="2844720" y="1268280"/>
              <a:ext cx="452160" cy="581400"/>
              <a:chOff x="2844720" y="1268280"/>
              <a:chExt cx="452160" cy="581400"/>
            </a:xfrm>
          </p:grpSpPr>
          <p:sp>
            <p:nvSpPr>
              <p:cNvPr id="1097" name=""/>
              <p:cNvSpPr/>
              <p:nvPr/>
            </p:nvSpPr>
            <p:spPr>
              <a:xfrm>
                <a:off x="284472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058920" y="1339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306036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 flipH="1">
            <a:off x="1830240" y="1841400"/>
            <a:ext cx="1657440" cy="0"/>
          </a:xfrm>
          <a:prstGeom prst="line">
            <a:avLst/>
          </a:prstGeom>
          <a:ln w="284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487680" y="1841400"/>
            <a:ext cx="0" cy="1081080"/>
          </a:xfrm>
          <a:prstGeom prst="line">
            <a:avLst/>
          </a:prstGeom>
          <a:ln w="284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1884600" y="2901960"/>
            <a:ext cx="1618920" cy="21600"/>
          </a:xfrm>
          <a:prstGeom prst="line">
            <a:avLst/>
          </a:prstGeom>
          <a:ln w="442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1857960" y="1849320"/>
            <a:ext cx="13320" cy="1053720"/>
          </a:xfrm>
          <a:prstGeom prst="line">
            <a:avLst/>
          </a:prstGeom>
          <a:ln w="442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859400" y="2841840"/>
            <a:ext cx="2520" cy="1310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966600" y="292248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6" name=""/>
          <p:cNvGraphicFramePr/>
          <p:nvPr/>
        </p:nvGraphicFramePr>
        <p:xfrm>
          <a:off x="1774800" y="286704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286704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8" name=""/>
          <p:cNvGrpSpPr/>
          <p:nvPr/>
        </p:nvGrpSpPr>
        <p:grpSpPr>
          <a:xfrm>
            <a:off x="3130560" y="2922480"/>
            <a:ext cx="784440" cy="648720"/>
            <a:chOff x="3130560" y="2922480"/>
            <a:chExt cx="784440" cy="648720"/>
          </a:xfrm>
        </p:grpSpPr>
        <p:sp>
          <p:nvSpPr>
            <p:cNvPr id="1109" name=""/>
            <p:cNvSpPr/>
            <p:nvPr/>
          </p:nvSpPr>
          <p:spPr>
            <a:xfrm>
              <a:off x="3130560" y="2922480"/>
              <a:ext cx="784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800080"/>
                  </a:solidFill>
                  <a:latin typeface="Times New Roman"/>
                </a:rPr>
                <a:t>k</a:t>
              </a: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7560" y="2994120"/>
              <a:ext cx="21564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1176120" y="44337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80008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rot="16200000">
            <a:off x="1219320" y="3965760"/>
            <a:ext cx="358560" cy="863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36400" y="2922480"/>
            <a:ext cx="358920" cy="1152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17360" y="320688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80008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047240" y="1913040"/>
            <a:ext cx="782640" cy="648720"/>
            <a:chOff x="1047240" y="1913040"/>
            <a:chExt cx="782640" cy="648720"/>
          </a:xfrm>
        </p:grpSpPr>
        <p:sp>
          <p:nvSpPr>
            <p:cNvPr id="1116" name=""/>
            <p:cNvSpPr/>
            <p:nvPr/>
          </p:nvSpPr>
          <p:spPr>
            <a:xfrm>
              <a:off x="1047240" y="1913040"/>
              <a:ext cx="761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800080"/>
                  </a:solidFill>
                  <a:latin typeface="Times New Roman"/>
                </a:rPr>
                <a:t>k</a:t>
              </a: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614240" y="1984320"/>
              <a:ext cx="21564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4567320" y="333360"/>
                <a:ext cx="454176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 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⊥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19" name=""/>
          <p:cNvGrpSpPr/>
          <p:nvPr/>
        </p:nvGrpSpPr>
        <p:grpSpPr>
          <a:xfrm>
            <a:off x="324000" y="5075280"/>
            <a:ext cx="8351640" cy="1604880"/>
            <a:chOff x="324000" y="5075280"/>
            <a:chExt cx="8351640" cy="1604880"/>
          </a:xfrm>
        </p:grpSpPr>
        <p:sp>
          <p:nvSpPr>
            <p:cNvPr id="1120" name=""/>
            <p:cNvSpPr/>
            <p:nvPr/>
          </p:nvSpPr>
          <p:spPr>
            <a:xfrm>
              <a:off x="324000" y="5084640"/>
              <a:ext cx="8351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S obzirom da je uvek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za sistem sila u ravni uvek se može naći rezultanta ukoliko je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1" name=""/>
                <p:cNvSpPr txBox="1"/>
                <p:nvPr/>
              </p:nvSpPr>
              <p:spPr>
                <a:xfrm>
                  <a:off x="4284720" y="5075280"/>
                  <a:ext cx="17114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⊥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O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4211640" y="6021360"/>
                  <a:ext cx="151272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3" name=""/>
          <p:cNvSpPr/>
          <p:nvPr/>
        </p:nvSpPr>
        <p:spPr>
          <a:xfrm flipV="1">
            <a:off x="1003320" y="2908080"/>
            <a:ext cx="869400" cy="121284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052640" y="2924280"/>
            <a:ext cx="456480" cy="648720"/>
            <a:chOff x="1052640" y="2924280"/>
            <a:chExt cx="456480" cy="648720"/>
          </a:xfrm>
        </p:grpSpPr>
        <p:sp>
          <p:nvSpPr>
            <p:cNvPr id="1125" name=""/>
            <p:cNvSpPr/>
            <p:nvPr/>
          </p:nvSpPr>
          <p:spPr>
            <a:xfrm>
              <a:off x="1052640" y="29242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185840" y="3068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3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3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0"/>
                            </p:stCondLst>
                            <p:childTnLst>
                              <p:par>
                                <p:cTn id="7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7000"/>
                            </p:stCondLst>
                            <p:childTnLst>
                              <p:par>
                                <p:cTn id="7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8000"/>
                            </p:stCondLst>
                            <p:childTnLst>
                              <p:par>
                                <p:cTn id="7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900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2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395280" y="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VARINJONOVA TEOREMA: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dređivanje napadne linije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24000" y="1700280"/>
                <a:ext cx="68119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4000" y="2890800"/>
                <a:ext cx="62863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30" name=""/>
          <p:cNvSpPr/>
          <p:nvPr/>
        </p:nvSpPr>
        <p:spPr>
          <a:xfrm>
            <a:off x="395280" y="1197000"/>
            <a:ext cx="65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x, y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) - napadna tačka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250920" y="4149720"/>
            <a:ext cx="7956360" cy="2519280"/>
            <a:chOff x="250920" y="4149720"/>
            <a:chExt cx="7956360" cy="2519280"/>
          </a:xfrm>
        </p:grpSpPr>
        <p:sp>
          <p:nvSpPr>
            <p:cNvPr id="1132" name=""/>
            <p:cNvSpPr/>
            <p:nvPr/>
          </p:nvSpPr>
          <p:spPr>
            <a:xfrm>
              <a:off x="250920" y="4149720"/>
              <a:ext cx="5545080" cy="2519280"/>
            </a:xfrm>
            <a:prstGeom prst="wedgeRoundRectCallout">
              <a:avLst>
                <a:gd name="adj1" fmla="val 58902"/>
                <a:gd name="adj2" fmla="val -25425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3" name=""/>
                <p:cNvSpPr txBox="1"/>
                <p:nvPr/>
              </p:nvSpPr>
              <p:spPr>
                <a:xfrm>
                  <a:off x="324000" y="4218120"/>
                  <a:ext cx="5430600" cy="23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34" name=""/>
            <p:cNvSpPr/>
            <p:nvPr/>
          </p:nvSpPr>
          <p:spPr>
            <a:xfrm>
              <a:off x="5940360" y="4508640"/>
              <a:ext cx="22669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Jednačin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napad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linij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VARINJONOVA TEOREMA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Ako sistem sila ima rezultantu, tada je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moment rezultante datog sistema sil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za neku redukcionu tačku </a:t>
            </a:r>
            <a:r>
              <a:rPr b="1" i="1" lang="sr-Latn-CS" sz="3200" spc="-1" strike="noStrike">
                <a:solidFill>
                  <a:srgbClr val="666633"/>
                </a:solidFill>
                <a:latin typeface="Arial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jednak vektorskom zbiru redukcionih momenat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svih sila (komponenata) za istu redukcionu tač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ZADATAK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: Razložiti silu  </a:t>
            </a:r>
            <a:r>
              <a:rPr b="1" i="1" lang="sr-Latn-CS" sz="2800" spc="-1" strike="noStrike">
                <a:solidFill>
                  <a:srgbClr val="800080"/>
                </a:solidFill>
                <a:latin typeface="Times New Roman"/>
              </a:rPr>
              <a:t>F</a:t>
            </a:r>
            <a:r>
              <a:rPr b="1" i="1" lang="sr-Latn-CS" sz="2800" spc="-1" strike="noStrike" baseline="-25000">
                <a:solidFill>
                  <a:srgbClr val="800080"/>
                </a:solidFill>
                <a:latin typeface="Times New Roman"/>
              </a:rPr>
              <a:t>l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na komponente I, II, i III u datoj ravni.</a:t>
            </a: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Rešenje:</a:t>
            </a: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 Primenjuje se VARINJONOVA 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572000" y="907920"/>
                <a:ext cx="4572000" cy="45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079640" y="2565360"/>
            <a:ext cx="3456000" cy="410544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8920" y="6063840"/>
            <a:ext cx="502920" cy="63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356000" y="5950080"/>
            <a:ext cx="288720" cy="502920"/>
            <a:chOff x="4356000" y="5950080"/>
            <a:chExt cx="288720" cy="502920"/>
          </a:xfrm>
        </p:grpSpPr>
        <p:sp>
          <p:nvSpPr>
            <p:cNvPr id="221" name=""/>
            <p:cNvSpPr/>
            <p:nvPr/>
          </p:nvSpPr>
          <p:spPr>
            <a:xfrm flipV="1">
              <a:off x="4356000" y="6237360"/>
              <a:ext cx="288720" cy="21564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29080" y="5950080"/>
              <a:ext cx="215640" cy="28764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87320" y="6179400"/>
            <a:ext cx="754920" cy="742680"/>
            <a:chOff x="4387320" y="6179400"/>
            <a:chExt cx="754920" cy="742680"/>
          </a:xfrm>
        </p:grpSpPr>
        <p:sp>
          <p:nvSpPr>
            <p:cNvPr id="224" name=""/>
            <p:cNvSpPr/>
            <p:nvPr/>
          </p:nvSpPr>
          <p:spPr>
            <a:xfrm rot="2824800">
              <a:off x="4559400" y="6226200"/>
              <a:ext cx="41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52800" y="6274800"/>
              <a:ext cx="197640" cy="21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-71280" y="1341360"/>
            <a:ext cx="5347800" cy="5185800"/>
            <a:chOff x="-71280" y="1341360"/>
            <a:chExt cx="5347800" cy="5185800"/>
          </a:xfrm>
        </p:grpSpPr>
        <p:sp>
          <p:nvSpPr>
            <p:cNvPr id="227" name=""/>
            <p:cNvSpPr/>
            <p:nvPr/>
          </p:nvSpPr>
          <p:spPr>
            <a:xfrm>
              <a:off x="2664000" y="1341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09320" y="5753160"/>
              <a:ext cx="4380480" cy="19368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10040" y="1757520"/>
              <a:ext cx="2057400" cy="418932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7080" y="1757160"/>
              <a:ext cx="2323800" cy="399600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28200" y="3269880"/>
              <a:ext cx="652320" cy="1069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952560" y="3601080"/>
              <a:ext cx="615600" cy="12463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161800" y="5797080"/>
              <a:ext cx="1380600" cy="835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10840" y="3862440"/>
              <a:ext cx="543600" cy="648720"/>
              <a:chOff x="510840" y="3862440"/>
              <a:chExt cx="543600" cy="648720"/>
            </a:xfrm>
          </p:grpSpPr>
          <p:sp>
            <p:nvSpPr>
              <p:cNvPr id="235" name=""/>
              <p:cNvSpPr/>
              <p:nvPr/>
            </p:nvSpPr>
            <p:spPr>
              <a:xfrm>
                <a:off x="510840" y="3862440"/>
                <a:ext cx="543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6200" y="3933720"/>
                <a:ext cx="36036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532600" y="5878440"/>
              <a:ext cx="635040" cy="648720"/>
              <a:chOff x="2532600" y="5878440"/>
              <a:chExt cx="635040" cy="648720"/>
            </a:xfrm>
          </p:grpSpPr>
          <p:sp>
            <p:nvSpPr>
              <p:cNvPr id="238" name=""/>
              <p:cNvSpPr/>
              <p:nvPr/>
            </p:nvSpPr>
            <p:spPr>
              <a:xfrm>
                <a:off x="2532600" y="587844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330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62200" y="5949720"/>
                <a:ext cx="36036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546720" y="2997360"/>
              <a:ext cx="726480" cy="648720"/>
              <a:chOff x="3546720" y="2997360"/>
              <a:chExt cx="726480" cy="648720"/>
            </a:xfrm>
          </p:grpSpPr>
          <p:sp>
            <p:nvSpPr>
              <p:cNvPr id="241" name=""/>
              <p:cNvSpPr/>
              <p:nvPr/>
            </p:nvSpPr>
            <p:spPr>
              <a:xfrm>
                <a:off x="3546720" y="299736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70200" y="3068640"/>
                <a:ext cx="3603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4824360" y="54468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71280" y="5659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31640" y="4222800"/>
              <a:ext cx="2016360" cy="17272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31640" y="3862080"/>
              <a:ext cx="3240360" cy="208764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2447640" y="1773000"/>
              <a:ext cx="142920" cy="410508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1224000" y="1773000"/>
              <a:ext cx="1224000" cy="93636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1366560" y="4006800"/>
              <a:ext cx="3384360" cy="172728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175280" y="5734080"/>
              <a:ext cx="576000" cy="50472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92400" y="3886920"/>
              <a:ext cx="1194840" cy="144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476360" y="2494080"/>
              <a:ext cx="288720" cy="502920"/>
              <a:chOff x="1476360" y="2494080"/>
              <a:chExt cx="288720" cy="50292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1476360" y="2781360"/>
                <a:ext cx="288720" cy="21564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49440" y="2494080"/>
                <a:ext cx="215640" cy="28764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560680" y="5491440"/>
              <a:ext cx="370080" cy="360360"/>
              <a:chOff x="2560680" y="5491440"/>
              <a:chExt cx="370080" cy="360360"/>
            </a:xfrm>
          </p:grpSpPr>
          <p:sp>
            <p:nvSpPr>
              <p:cNvPr id="256" name=""/>
              <p:cNvSpPr/>
              <p:nvPr/>
            </p:nvSpPr>
            <p:spPr>
              <a:xfrm flipH="1" flipV="1">
                <a:off x="2919600" y="5491440"/>
                <a:ext cx="11160" cy="36036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2560680" y="5491800"/>
                <a:ext cx="359280" cy="1152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223640" y="4198680"/>
              <a:ext cx="488160" cy="315000"/>
              <a:chOff x="1223640" y="4198680"/>
              <a:chExt cx="488160" cy="315000"/>
            </a:xfrm>
          </p:grpSpPr>
          <p:sp>
            <p:nvSpPr>
              <p:cNvPr id="259" name=""/>
              <p:cNvSpPr/>
              <p:nvPr/>
            </p:nvSpPr>
            <p:spPr>
              <a:xfrm>
                <a:off x="1223640" y="4339080"/>
                <a:ext cx="315360" cy="174240"/>
              </a:xfrm>
              <a:prstGeom prst="line">
                <a:avLst/>
              </a:prstGeom>
              <a:ln cap="rnd" w="19080">
                <a:solidFill>
                  <a:srgbClr val="00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1538640" y="4198680"/>
                <a:ext cx="173160" cy="315000"/>
              </a:xfrm>
              <a:prstGeom prst="line">
                <a:avLst/>
              </a:prstGeom>
              <a:ln cap="rnd" w="19080">
                <a:solidFill>
                  <a:srgbClr val="00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977840" y="3926160"/>
              <a:ext cx="275760" cy="506160"/>
              <a:chOff x="1977840" y="3926160"/>
              <a:chExt cx="275760" cy="506160"/>
            </a:xfrm>
          </p:grpSpPr>
          <p:sp>
            <p:nvSpPr>
              <p:cNvPr id="262" name=""/>
              <p:cNvSpPr/>
              <p:nvPr/>
            </p:nvSpPr>
            <p:spPr>
              <a:xfrm flipH="1">
                <a:off x="1977840" y="3926160"/>
                <a:ext cx="275760" cy="23220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1977840" y="4158000"/>
                <a:ext cx="231840" cy="27432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206160" y="3512160"/>
              <a:ext cx="302040" cy="497160"/>
              <a:chOff x="3206160" y="3512160"/>
              <a:chExt cx="302040" cy="4971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206160" y="3512160"/>
                <a:ext cx="302040" cy="19692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>
                <a:off x="3206160" y="3708720"/>
                <a:ext cx="196920" cy="30060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265400" y="414972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65400" y="2638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28960" y="4078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61040" y="551808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52960" y="3646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16680" y="6094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2846520" y="4221720"/>
              <a:ext cx="1386000" cy="1467720"/>
              <a:chOff x="2846520" y="4221720"/>
              <a:chExt cx="1386000" cy="1467720"/>
            </a:xfrm>
          </p:grpSpPr>
          <p:sp>
            <p:nvSpPr>
              <p:cNvPr id="274" name=""/>
              <p:cNvSpPr/>
              <p:nvPr/>
            </p:nvSpPr>
            <p:spPr>
              <a:xfrm rot="2974200">
                <a:off x="2851560" y="4631040"/>
                <a:ext cx="1375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=F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64200" y="4359600"/>
                <a:ext cx="233640" cy="274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925440" y="5018400"/>
                <a:ext cx="233640" cy="27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25800" y="49388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62160" y="58784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61080" y="220680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7560" y="4581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75560" y="558972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ff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85000" y="1773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7160" y="371628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ff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37920" y="2997360"/>
              <a:ext cx="46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82440" y="378936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50920" y="189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LUČAJ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979640" y="981000"/>
                <a:ext cx="4735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250920" y="1916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da se sistem sila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ne može zameniti jednom sil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vakav sistem sila se može svesti na četiri sluča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istem sila se svodi na dv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istem sila se svodi na krst (ukrst)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etraedarske koord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ri sile u tri nekolinear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012000" y="338472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768800">
            <a:off x="6678720" y="3468600"/>
            <a:ext cx="1725480" cy="2752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5435640" y="4895640"/>
            <a:ext cx="1512720" cy="144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189000"/>
            <a:ext cx="280836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768800">
            <a:off x="4302000" y="272520"/>
            <a:ext cx="1725840" cy="2752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3137040" y="1662120"/>
            <a:ext cx="1551240" cy="1951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791160" y="767880"/>
            <a:ext cx="900000" cy="1105560"/>
            <a:chOff x="3791160" y="767880"/>
            <a:chExt cx="900000" cy="1105560"/>
          </a:xfrm>
        </p:grpSpPr>
        <p:sp>
          <p:nvSpPr>
            <p:cNvPr id="296" name=""/>
            <p:cNvSpPr/>
            <p:nvPr/>
          </p:nvSpPr>
          <p:spPr>
            <a:xfrm>
              <a:off x="3791160" y="767880"/>
              <a:ext cx="900000" cy="1105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3897720" y="91620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3480" y="927720"/>
              <a:ext cx="5796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3792600" y="78732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98000" y="7981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256280" y="1204920"/>
            <a:ext cx="978840" cy="979920"/>
            <a:chOff x="4256280" y="1204920"/>
            <a:chExt cx="978840" cy="979920"/>
          </a:xfrm>
        </p:grpSpPr>
        <p:sp>
          <p:nvSpPr>
            <p:cNvPr id="302" name=""/>
            <p:cNvSpPr/>
            <p:nvPr/>
          </p:nvSpPr>
          <p:spPr>
            <a:xfrm rot="711000">
              <a:off x="4640040" y="14504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7972400">
              <a:off x="4385520" y="133632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826920" y="3429000"/>
            <a:ext cx="280836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768800">
            <a:off x="1494000" y="3513240"/>
            <a:ext cx="1725480" cy="2752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305000" y="4516200"/>
            <a:ext cx="978840" cy="979920"/>
            <a:chOff x="1305000" y="4516200"/>
            <a:chExt cx="978840" cy="979920"/>
          </a:xfrm>
        </p:grpSpPr>
        <p:sp>
          <p:nvSpPr>
            <p:cNvPr id="307" name=""/>
            <p:cNvSpPr/>
            <p:nvPr/>
          </p:nvSpPr>
          <p:spPr>
            <a:xfrm rot="711000">
              <a:off x="1688760" y="476172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7972400">
              <a:off x="1434240" y="464760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V="1">
            <a:off x="2603520" y="39243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164600" y="5148360"/>
            <a:ext cx="55368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692360" y="5013000"/>
            <a:ext cx="934920" cy="73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91200" y="4682880"/>
            <a:ext cx="896040" cy="894240"/>
            <a:chOff x="1591200" y="4682880"/>
            <a:chExt cx="896040" cy="894240"/>
          </a:xfrm>
        </p:grpSpPr>
        <p:sp>
          <p:nvSpPr>
            <p:cNvPr id="313" name=""/>
            <p:cNvSpPr/>
            <p:nvPr/>
          </p:nvSpPr>
          <p:spPr>
            <a:xfrm rot="3333000">
              <a:off x="2098800" y="48916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594400">
              <a:off x="1679040" y="477144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flipH="1" flipV="1">
            <a:off x="1044360" y="4365720"/>
            <a:ext cx="718920" cy="792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89720" y="4472280"/>
            <a:ext cx="978480" cy="979920"/>
            <a:chOff x="6489720" y="4472280"/>
            <a:chExt cx="978480" cy="979920"/>
          </a:xfrm>
        </p:grpSpPr>
        <p:sp>
          <p:nvSpPr>
            <p:cNvPr id="317" name=""/>
            <p:cNvSpPr/>
            <p:nvPr/>
          </p:nvSpPr>
          <p:spPr>
            <a:xfrm rot="711000">
              <a:off x="6873480" y="47170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7972400">
              <a:off x="6618960" y="460368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V="1">
            <a:off x="7786800" y="394488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788880" y="4663440"/>
            <a:ext cx="791640" cy="789120"/>
            <a:chOff x="6788880" y="4663440"/>
            <a:chExt cx="791640" cy="789120"/>
          </a:xfrm>
        </p:grpSpPr>
        <p:sp>
          <p:nvSpPr>
            <p:cNvPr id="321" name=""/>
            <p:cNvSpPr/>
            <p:nvPr/>
          </p:nvSpPr>
          <p:spPr>
            <a:xfrm rot="3975600">
              <a:off x="7280280" y="48394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1236400">
              <a:off x="6824520" y="469944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 flipH="1" flipV="1">
            <a:off x="6229080" y="4320720"/>
            <a:ext cx="718920" cy="79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372360" y="4535640"/>
            <a:ext cx="863640" cy="1584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32760" y="260280"/>
            <a:ext cx="1011240" cy="648720"/>
            <a:chOff x="2732760" y="260280"/>
            <a:chExt cx="1011240" cy="648720"/>
          </a:xfrm>
        </p:grpSpPr>
        <p:sp>
          <p:nvSpPr>
            <p:cNvPr id="326" name=""/>
            <p:cNvSpPr/>
            <p:nvPr/>
          </p:nvSpPr>
          <p:spPr>
            <a:xfrm>
              <a:off x="2732760" y="26028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1480" y="33156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142440" y="1773360"/>
            <a:ext cx="609120" cy="648720"/>
            <a:chOff x="3142440" y="1773360"/>
            <a:chExt cx="609120" cy="648720"/>
          </a:xfrm>
        </p:grpSpPr>
        <p:sp>
          <p:nvSpPr>
            <p:cNvPr id="329" name=""/>
            <p:cNvSpPr/>
            <p:nvPr/>
          </p:nvSpPr>
          <p:spPr>
            <a:xfrm>
              <a:off x="3142440" y="1773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73120" y="184464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094840" y="4992840"/>
            <a:ext cx="466200" cy="622440"/>
            <a:chOff x="2094840" y="4992840"/>
            <a:chExt cx="466200" cy="622440"/>
          </a:xfrm>
        </p:grpSpPr>
        <p:sp>
          <p:nvSpPr>
            <p:cNvPr id="332" name=""/>
            <p:cNvSpPr/>
            <p:nvPr/>
          </p:nvSpPr>
          <p:spPr>
            <a:xfrm rot="21220200">
              <a:off x="2125440" y="50133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260800" y="5156280"/>
              <a:ext cx="214920" cy="2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55744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892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54944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85800" y="5805360"/>
            <a:ext cx="501120" cy="581400"/>
            <a:chOff x="685800" y="5805360"/>
            <a:chExt cx="501120" cy="581400"/>
          </a:xfrm>
        </p:grpSpPr>
        <p:sp>
          <p:nvSpPr>
            <p:cNvPr id="338" name=""/>
            <p:cNvSpPr/>
            <p:nvPr/>
          </p:nvSpPr>
          <p:spPr>
            <a:xfrm>
              <a:off x="685800" y="580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6920" y="5876640"/>
              <a:ext cx="360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062160" y="3354480"/>
            <a:ext cx="646200" cy="581400"/>
            <a:chOff x="3062160" y="3354480"/>
            <a:chExt cx="646200" cy="581400"/>
          </a:xfrm>
        </p:grpSpPr>
        <p:sp>
          <p:nvSpPr>
            <p:cNvPr id="341" name=""/>
            <p:cNvSpPr/>
            <p:nvPr/>
          </p:nvSpPr>
          <p:spPr>
            <a:xfrm>
              <a:off x="3062160" y="33544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48000" y="342576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782040" y="4967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8544000">
            <a:off x="3131640" y="27079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354600">
            <a:off x="4140000" y="4652640"/>
            <a:ext cx="502920" cy="431640"/>
          </a:xfrm>
          <a:prstGeom prst="rightArrow">
            <a:avLst>
              <a:gd name="adj1" fmla="val 50000"/>
              <a:gd name="adj2" fmla="val 29128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934200" y="3862440"/>
            <a:ext cx="1011240" cy="648720"/>
            <a:chOff x="934200" y="3862440"/>
            <a:chExt cx="1011240" cy="648720"/>
          </a:xfrm>
        </p:grpSpPr>
        <p:sp>
          <p:nvSpPr>
            <p:cNvPr id="347" name=""/>
            <p:cNvSpPr/>
            <p:nvPr/>
          </p:nvSpPr>
          <p:spPr>
            <a:xfrm>
              <a:off x="934200" y="386244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2920" y="39337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 flipV="1">
            <a:off x="6346800" y="5058360"/>
            <a:ext cx="620640" cy="1120680"/>
          </a:xfrm>
          <a:prstGeom prst="line">
            <a:avLst/>
          </a:prstGeom>
          <a:ln w="57240">
            <a:solidFill>
              <a:srgbClr val="008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713120" y="549360"/>
            <a:ext cx="6494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86120" y="4925880"/>
            <a:ext cx="1550880" cy="1947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78640" y="5089680"/>
            <a:ext cx="609120" cy="648720"/>
            <a:chOff x="278640" y="5089680"/>
            <a:chExt cx="609120" cy="648720"/>
          </a:xfrm>
        </p:grpSpPr>
        <p:sp>
          <p:nvSpPr>
            <p:cNvPr id="353" name=""/>
            <p:cNvSpPr/>
            <p:nvPr/>
          </p:nvSpPr>
          <p:spPr>
            <a:xfrm>
              <a:off x="278640" y="50896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9320" y="516096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V="1">
            <a:off x="1709640" y="3865680"/>
            <a:ext cx="6494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5400000" y="4903560"/>
            <a:ext cx="1540440" cy="1515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447520" y="4319640"/>
            <a:ext cx="609120" cy="648720"/>
            <a:chOff x="5447520" y="4319640"/>
            <a:chExt cx="609120" cy="648720"/>
          </a:xfrm>
        </p:grpSpPr>
        <p:sp>
          <p:nvSpPr>
            <p:cNvPr id="358" name=""/>
            <p:cNvSpPr/>
            <p:nvPr/>
          </p:nvSpPr>
          <p:spPr>
            <a:xfrm>
              <a:off x="5447520" y="4319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78200" y="439092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230600" y="4875480"/>
            <a:ext cx="466200" cy="622440"/>
            <a:chOff x="7230600" y="4875480"/>
            <a:chExt cx="466200" cy="622440"/>
          </a:xfrm>
        </p:grpSpPr>
        <p:sp>
          <p:nvSpPr>
            <p:cNvPr id="361" name=""/>
            <p:cNvSpPr/>
            <p:nvPr/>
          </p:nvSpPr>
          <p:spPr>
            <a:xfrm rot="21220200">
              <a:off x="7261200" y="48960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396560" y="5038920"/>
              <a:ext cx="21492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740720" y="4751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374160" y="6162840"/>
            <a:ext cx="501480" cy="581400"/>
            <a:chOff x="6374160" y="6162840"/>
            <a:chExt cx="501480" cy="581400"/>
          </a:xfrm>
        </p:grpSpPr>
        <p:sp>
          <p:nvSpPr>
            <p:cNvPr id="365" name=""/>
            <p:cNvSpPr/>
            <p:nvPr/>
          </p:nvSpPr>
          <p:spPr>
            <a:xfrm>
              <a:off x="6374160" y="61628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15280" y="623412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670520" y="3672000"/>
            <a:ext cx="646200" cy="581400"/>
            <a:chOff x="7670520" y="3672000"/>
            <a:chExt cx="646200" cy="581400"/>
          </a:xfrm>
        </p:grpSpPr>
        <p:sp>
          <p:nvSpPr>
            <p:cNvPr id="368" name=""/>
            <p:cNvSpPr/>
            <p:nvPr/>
          </p:nvSpPr>
          <p:spPr>
            <a:xfrm>
              <a:off x="7670520" y="36720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56360" y="374328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H="1" flipV="1">
            <a:off x="4858920" y="5974920"/>
            <a:ext cx="1513080" cy="144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788000" y="4824000"/>
            <a:ext cx="647640" cy="115092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789080" y="5038200"/>
            <a:ext cx="2154960" cy="91260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29440" y="6093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78680" y="4070160"/>
            <a:ext cx="952920" cy="1059840"/>
            <a:chOff x="778680" y="4070160"/>
            <a:chExt cx="952920" cy="1059840"/>
          </a:xfrm>
        </p:grpSpPr>
        <p:sp>
          <p:nvSpPr>
            <p:cNvPr id="375" name=""/>
            <p:cNvSpPr/>
            <p:nvPr/>
          </p:nvSpPr>
          <p:spPr>
            <a:xfrm>
              <a:off x="778680" y="4070160"/>
              <a:ext cx="952920" cy="1059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892440" y="4212720"/>
              <a:ext cx="144000" cy="98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8560" y="422424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780840" y="4089240"/>
              <a:ext cx="144360" cy="99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6960" y="409968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V="1">
            <a:off x="6948360" y="5013360"/>
            <a:ext cx="862200" cy="46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76840" y="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Prvi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 si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vodi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v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81440" y="620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0" y="0"/>
                <a:ext cx="2584440" cy="30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r>
                          <m:t xml:space="preserve">π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B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7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9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8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3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46 0.03792 L -0.16041 0.25827 E">
                                      <p:cBhvr>
                                        <p:cTn id="17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4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387E-006 L -0.16546 -0.0104 E">
                                      <p:cBhvr>
                                        <p:cTn id="187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7500"/>
                            </p:stCondLst>
                            <p:childTnLst>
                              <p:par>
                                <p:cTn id="18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95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3276720" y="2060280"/>
            <a:ext cx="460836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73000" y="0"/>
            <a:ext cx="287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Drug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 si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vodi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rst (ukr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il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148360" y="2162160"/>
            <a:ext cx="3192480" cy="2641680"/>
            <a:chOff x="5148360" y="2162160"/>
            <a:chExt cx="3192480" cy="2641680"/>
          </a:xfrm>
        </p:grpSpPr>
        <p:sp>
          <p:nvSpPr>
            <p:cNvPr id="387" name=""/>
            <p:cNvSpPr/>
            <p:nvPr/>
          </p:nvSpPr>
          <p:spPr>
            <a:xfrm>
              <a:off x="5148360" y="2162160"/>
              <a:ext cx="3192480" cy="2641680"/>
            </a:xfrm>
            <a:custGeom>
              <a:avLst/>
              <a:gdLst/>
              <a:ahLst/>
              <a:rect l="l" t="t" r="r" b="b"/>
              <a:pathLst>
                <a:path w="2011" h="1664">
                  <a:moveTo>
                    <a:pt x="3" y="92"/>
                  </a:moveTo>
                  <a:cubicBezTo>
                    <a:pt x="88" y="75"/>
                    <a:pt x="176" y="55"/>
                    <a:pt x="259" y="28"/>
                  </a:cubicBezTo>
                  <a:cubicBezTo>
                    <a:pt x="274" y="23"/>
                    <a:pt x="289" y="23"/>
                    <a:pt x="304" y="19"/>
                  </a:cubicBezTo>
                  <a:cubicBezTo>
                    <a:pt x="323" y="14"/>
                    <a:pt x="359" y="0"/>
                    <a:pt x="359" y="0"/>
                  </a:cubicBezTo>
                  <a:cubicBezTo>
                    <a:pt x="396" y="3"/>
                    <a:pt x="432" y="9"/>
                    <a:pt x="469" y="9"/>
                  </a:cubicBezTo>
                  <a:cubicBezTo>
                    <a:pt x="482" y="9"/>
                    <a:pt x="493" y="0"/>
                    <a:pt x="506" y="0"/>
                  </a:cubicBezTo>
                  <a:cubicBezTo>
                    <a:pt x="581" y="0"/>
                    <a:pt x="660" y="18"/>
                    <a:pt x="734" y="28"/>
                  </a:cubicBezTo>
                  <a:cubicBezTo>
                    <a:pt x="761" y="37"/>
                    <a:pt x="789" y="46"/>
                    <a:pt x="816" y="55"/>
                  </a:cubicBezTo>
                  <a:cubicBezTo>
                    <a:pt x="825" y="58"/>
                    <a:pt x="835" y="61"/>
                    <a:pt x="844" y="64"/>
                  </a:cubicBezTo>
                  <a:cubicBezTo>
                    <a:pt x="853" y="67"/>
                    <a:pt x="871" y="73"/>
                    <a:pt x="871" y="73"/>
                  </a:cubicBezTo>
                  <a:cubicBezTo>
                    <a:pt x="925" y="60"/>
                    <a:pt x="956" y="74"/>
                    <a:pt x="1008" y="92"/>
                  </a:cubicBezTo>
                  <a:cubicBezTo>
                    <a:pt x="1026" y="98"/>
                    <a:pt x="1063" y="110"/>
                    <a:pt x="1063" y="110"/>
                  </a:cubicBezTo>
                  <a:cubicBezTo>
                    <a:pt x="1093" y="139"/>
                    <a:pt x="1133" y="136"/>
                    <a:pt x="1173" y="147"/>
                  </a:cubicBezTo>
                  <a:cubicBezTo>
                    <a:pt x="1228" y="184"/>
                    <a:pt x="1301" y="178"/>
                    <a:pt x="1365" y="183"/>
                  </a:cubicBezTo>
                  <a:cubicBezTo>
                    <a:pt x="1407" y="197"/>
                    <a:pt x="1443" y="187"/>
                    <a:pt x="1484" y="174"/>
                  </a:cubicBezTo>
                  <a:cubicBezTo>
                    <a:pt x="1496" y="177"/>
                    <a:pt x="1508" y="181"/>
                    <a:pt x="1520" y="183"/>
                  </a:cubicBezTo>
                  <a:cubicBezTo>
                    <a:pt x="1548" y="187"/>
                    <a:pt x="1576" y="186"/>
                    <a:pt x="1603" y="192"/>
                  </a:cubicBezTo>
                  <a:cubicBezTo>
                    <a:pt x="1622" y="196"/>
                    <a:pt x="1658" y="211"/>
                    <a:pt x="1658" y="211"/>
                  </a:cubicBezTo>
                  <a:cubicBezTo>
                    <a:pt x="1737" y="193"/>
                    <a:pt x="1759" y="223"/>
                    <a:pt x="1831" y="247"/>
                  </a:cubicBezTo>
                  <a:cubicBezTo>
                    <a:pt x="1858" y="256"/>
                    <a:pt x="1887" y="256"/>
                    <a:pt x="1914" y="265"/>
                  </a:cubicBezTo>
                  <a:cubicBezTo>
                    <a:pt x="1928" y="307"/>
                    <a:pt x="1934" y="347"/>
                    <a:pt x="1959" y="384"/>
                  </a:cubicBezTo>
                  <a:cubicBezTo>
                    <a:pt x="1956" y="433"/>
                    <a:pt x="1957" y="482"/>
                    <a:pt x="1950" y="531"/>
                  </a:cubicBezTo>
                  <a:cubicBezTo>
                    <a:pt x="1947" y="550"/>
                    <a:pt x="1932" y="585"/>
                    <a:pt x="1932" y="585"/>
                  </a:cubicBezTo>
                  <a:cubicBezTo>
                    <a:pt x="1943" y="620"/>
                    <a:pt x="1966" y="628"/>
                    <a:pt x="1987" y="659"/>
                  </a:cubicBezTo>
                  <a:cubicBezTo>
                    <a:pt x="2011" y="731"/>
                    <a:pt x="2008" y="694"/>
                    <a:pt x="1996" y="768"/>
                  </a:cubicBezTo>
                  <a:cubicBezTo>
                    <a:pt x="1993" y="850"/>
                    <a:pt x="1999" y="934"/>
                    <a:pt x="1987" y="1015"/>
                  </a:cubicBezTo>
                  <a:cubicBezTo>
                    <a:pt x="1984" y="1037"/>
                    <a:pt x="1950" y="1070"/>
                    <a:pt x="1950" y="1070"/>
                  </a:cubicBezTo>
                  <a:cubicBezTo>
                    <a:pt x="1957" y="1136"/>
                    <a:pt x="1975" y="1187"/>
                    <a:pt x="1959" y="1253"/>
                  </a:cubicBezTo>
                  <a:cubicBezTo>
                    <a:pt x="1950" y="1290"/>
                    <a:pt x="1916" y="1314"/>
                    <a:pt x="1895" y="1344"/>
                  </a:cubicBezTo>
                  <a:cubicBezTo>
                    <a:pt x="1883" y="1383"/>
                    <a:pt x="1891" y="1394"/>
                    <a:pt x="1914" y="1427"/>
                  </a:cubicBezTo>
                  <a:cubicBezTo>
                    <a:pt x="1908" y="1492"/>
                    <a:pt x="1913" y="1555"/>
                    <a:pt x="1877" y="1609"/>
                  </a:cubicBezTo>
                  <a:cubicBezTo>
                    <a:pt x="1866" y="1653"/>
                    <a:pt x="1862" y="1635"/>
                    <a:pt x="1877" y="1664"/>
                  </a:cubicBezTo>
                  <a:lnTo>
                    <a:pt x="0" y="1660"/>
                  </a:lnTo>
                  <a:lnTo>
                    <a:pt x="3" y="9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81800" y="2492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8606160" y="4437000"/>
            <a:ext cx="360000" cy="581400"/>
            <a:chOff x="8606160" y="4437000"/>
            <a:chExt cx="360000" cy="581400"/>
          </a:xfrm>
        </p:grpSpPr>
        <p:sp>
          <p:nvSpPr>
            <p:cNvPr id="390" name=""/>
            <p:cNvSpPr/>
            <p:nvPr/>
          </p:nvSpPr>
          <p:spPr>
            <a:xfrm>
              <a:off x="8606160" y="4437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750520" y="4508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50216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146200" y="2060640"/>
            <a:ext cx="1800" cy="27385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844720" y="6237360"/>
            <a:ext cx="406440" cy="581400"/>
            <a:chOff x="2844720" y="6237360"/>
            <a:chExt cx="406440" cy="581400"/>
          </a:xfrm>
        </p:grpSpPr>
        <p:sp>
          <p:nvSpPr>
            <p:cNvPr id="395" name=""/>
            <p:cNvSpPr/>
            <p:nvPr/>
          </p:nvSpPr>
          <p:spPr>
            <a:xfrm>
              <a:off x="2844720" y="6237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89440" y="63831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73080" y="1628640"/>
            <a:ext cx="497880" cy="581400"/>
            <a:chOff x="4573080" y="1628640"/>
            <a:chExt cx="497880" cy="581400"/>
          </a:xfrm>
        </p:grpSpPr>
        <p:sp>
          <p:nvSpPr>
            <p:cNvPr id="398" name=""/>
            <p:cNvSpPr/>
            <p:nvPr/>
          </p:nvSpPr>
          <p:spPr>
            <a:xfrm>
              <a:off x="4573080" y="16286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18160" y="17748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>
            <a:off x="5148000" y="4797360"/>
            <a:ext cx="33843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150160" y="2804400"/>
            <a:ext cx="880560" cy="19843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174640" y="4010400"/>
            <a:ext cx="2053800" cy="783360"/>
            <a:chOff x="5174640" y="4010400"/>
            <a:chExt cx="2053800" cy="783360"/>
          </a:xfrm>
        </p:grpSpPr>
        <p:sp>
          <p:nvSpPr>
            <p:cNvPr id="403" name=""/>
            <p:cNvSpPr/>
            <p:nvPr/>
          </p:nvSpPr>
          <p:spPr>
            <a:xfrm flipH="1">
              <a:off x="5174640" y="4044240"/>
              <a:ext cx="2012040" cy="749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839280" y="408924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6736320" y="4082760"/>
              <a:ext cx="250920" cy="187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054560" y="401796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6954480" y="4010400"/>
              <a:ext cx="25200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7269840" y="3429000"/>
            <a:ext cx="1011240" cy="648720"/>
            <a:chOff x="7269840" y="3429000"/>
            <a:chExt cx="1011240" cy="648720"/>
          </a:xfrm>
        </p:grpSpPr>
        <p:sp>
          <p:nvSpPr>
            <p:cNvPr id="409" name=""/>
            <p:cNvSpPr/>
            <p:nvPr/>
          </p:nvSpPr>
          <p:spPr>
            <a:xfrm>
              <a:off x="7269840" y="34290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78560" y="35002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736600" y="2205000"/>
            <a:ext cx="609120" cy="648720"/>
            <a:chOff x="5736600" y="2205000"/>
            <a:chExt cx="609120" cy="648720"/>
          </a:xfrm>
        </p:grpSpPr>
        <p:sp>
          <p:nvSpPr>
            <p:cNvPr id="412" name=""/>
            <p:cNvSpPr/>
            <p:nvPr/>
          </p:nvSpPr>
          <p:spPr>
            <a:xfrm>
              <a:off x="5736600" y="2205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67280" y="227628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0" y="0"/>
            <a:ext cx="4356000" cy="6430680"/>
            <a:chOff x="0" y="0"/>
            <a:chExt cx="4356000" cy="6430680"/>
          </a:xfrm>
        </p:grpSpPr>
        <p:sp>
          <p:nvSpPr>
            <p:cNvPr id="415" name=""/>
            <p:cNvSpPr/>
            <p:nvPr/>
          </p:nvSpPr>
          <p:spPr>
            <a:xfrm>
              <a:off x="0" y="0"/>
              <a:ext cx="4356000" cy="64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U ravni koju čine glavni vektor sila i glavni vektor momenata postoji neograničen broj međusobno ortogonalnih pravaca koji sa normalom na tu ravan čine ortogonalni trijedar pravaca. Na slici je prikazan jedan takav trijedar, određen jediničnim vektorima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n, l, 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9280" y="602136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9640" y="595008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00000" y="602136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13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 flipH="1">
            <a:off x="2304720" y="3835440"/>
            <a:ext cx="33843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307600" y="3705840"/>
            <a:ext cx="2089080" cy="212760"/>
            <a:chOff x="2307600" y="3705840"/>
            <a:chExt cx="2089080" cy="212760"/>
          </a:xfrm>
        </p:grpSpPr>
        <p:sp>
          <p:nvSpPr>
            <p:cNvPr id="421" name=""/>
            <p:cNvSpPr/>
            <p:nvPr/>
          </p:nvSpPr>
          <p:spPr>
            <a:xfrm flipH="1" flipV="1">
              <a:off x="2307600" y="3810960"/>
              <a:ext cx="2043360" cy="46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962520" y="3803400"/>
              <a:ext cx="217440" cy="10512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3936240" y="3705840"/>
              <a:ext cx="21672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179600" y="3813840"/>
              <a:ext cx="217080" cy="1047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4153680" y="3715200"/>
              <a:ext cx="21780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433440" y="1098360"/>
            <a:ext cx="460836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762880" y="3475080"/>
            <a:ext cx="360000" cy="581400"/>
            <a:chOff x="5762880" y="3475080"/>
            <a:chExt cx="360000" cy="581400"/>
          </a:xfrm>
        </p:grpSpPr>
        <p:sp>
          <p:nvSpPr>
            <p:cNvPr id="428" name=""/>
            <p:cNvSpPr/>
            <p:nvPr/>
          </p:nvSpPr>
          <p:spPr>
            <a:xfrm>
              <a:off x="5762880" y="3475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07240" y="3546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730520" y="3619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303640" y="1098720"/>
            <a:ext cx="1440" cy="2738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440" y="5275440"/>
            <a:ext cx="406440" cy="581400"/>
            <a:chOff x="1440" y="5275440"/>
            <a:chExt cx="406440" cy="581400"/>
          </a:xfrm>
        </p:grpSpPr>
        <p:sp>
          <p:nvSpPr>
            <p:cNvPr id="433" name=""/>
            <p:cNvSpPr/>
            <p:nvPr/>
          </p:nvSpPr>
          <p:spPr>
            <a:xfrm>
              <a:off x="1440" y="5275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6160" y="54212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729800" y="666720"/>
            <a:ext cx="497880" cy="581400"/>
            <a:chOff x="1729800" y="666720"/>
            <a:chExt cx="497880" cy="581400"/>
          </a:xfrm>
        </p:grpSpPr>
        <p:sp>
          <p:nvSpPr>
            <p:cNvPr id="436" name=""/>
            <p:cNvSpPr/>
            <p:nvPr/>
          </p:nvSpPr>
          <p:spPr>
            <a:xfrm>
              <a:off x="1729800" y="666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74880" y="8128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V="1">
            <a:off x="2306880" y="1842120"/>
            <a:ext cx="880560" cy="19839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331360" y="3048480"/>
            <a:ext cx="2053800" cy="783720"/>
            <a:chOff x="2331360" y="3048480"/>
            <a:chExt cx="2053800" cy="783720"/>
          </a:xfrm>
        </p:grpSpPr>
        <p:sp>
          <p:nvSpPr>
            <p:cNvPr id="440" name=""/>
            <p:cNvSpPr/>
            <p:nvPr/>
          </p:nvSpPr>
          <p:spPr>
            <a:xfrm flipH="1">
              <a:off x="2331360" y="3083040"/>
              <a:ext cx="2012040" cy="749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996000" y="312768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3893040" y="3121200"/>
              <a:ext cx="250920" cy="1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4211280" y="305604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4110480" y="3048480"/>
              <a:ext cx="25236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426560" y="2608200"/>
            <a:ext cx="1011240" cy="648720"/>
            <a:chOff x="4426560" y="2608200"/>
            <a:chExt cx="1011240" cy="648720"/>
          </a:xfrm>
        </p:grpSpPr>
        <p:sp>
          <p:nvSpPr>
            <p:cNvPr id="446" name=""/>
            <p:cNvSpPr/>
            <p:nvPr/>
          </p:nvSpPr>
          <p:spPr>
            <a:xfrm>
              <a:off x="4426560" y="26082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35280" y="26794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893320" y="1243080"/>
            <a:ext cx="609120" cy="648720"/>
            <a:chOff x="2893320" y="1243080"/>
            <a:chExt cx="609120" cy="648720"/>
          </a:xfrm>
        </p:grpSpPr>
        <p:sp>
          <p:nvSpPr>
            <p:cNvPr id="449" name=""/>
            <p:cNvSpPr/>
            <p:nvPr/>
          </p:nvSpPr>
          <p:spPr>
            <a:xfrm>
              <a:off x="2893320" y="12430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24000" y="131436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3170160" y="1819440"/>
            <a:ext cx="0" cy="201600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304720" y="1819440"/>
            <a:ext cx="865080" cy="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04720" y="3043080"/>
            <a:ext cx="2089080" cy="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394160" y="3043080"/>
            <a:ext cx="0" cy="7923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2281320" y="1798920"/>
            <a:ext cx="17280" cy="2020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262600" y="3827520"/>
            <a:ext cx="971280" cy="3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180160" y="3024000"/>
            <a:ext cx="209880" cy="820080"/>
            <a:chOff x="2180160" y="3024000"/>
            <a:chExt cx="209880" cy="820080"/>
          </a:xfrm>
        </p:grpSpPr>
        <p:sp>
          <p:nvSpPr>
            <p:cNvPr id="458" name=""/>
            <p:cNvSpPr/>
            <p:nvPr/>
          </p:nvSpPr>
          <p:spPr>
            <a:xfrm flipH="1">
              <a:off x="2274840" y="3097800"/>
              <a:ext cx="3600" cy="7462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2180160" y="3024000"/>
              <a:ext cx="209880" cy="462240"/>
              <a:chOff x="2180160" y="3024000"/>
              <a:chExt cx="209880" cy="462240"/>
            </a:xfrm>
          </p:grpSpPr>
          <p:sp>
            <p:nvSpPr>
              <p:cNvPr id="460" name=""/>
              <p:cNvSpPr/>
              <p:nvPr/>
            </p:nvSpPr>
            <p:spPr>
              <a:xfrm flipH="1" flipV="1">
                <a:off x="2273400" y="3243600"/>
                <a:ext cx="108360" cy="2152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2180160" y="3268440"/>
                <a:ext cx="98280" cy="21780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>
                <a:off x="2283480" y="3024000"/>
                <a:ext cx="106560" cy="2170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188080" y="3049560"/>
                <a:ext cx="96840" cy="21744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1671480" y="1747800"/>
            <a:ext cx="635040" cy="648720"/>
            <a:chOff x="1671480" y="1747800"/>
            <a:chExt cx="635040" cy="648720"/>
          </a:xfrm>
        </p:grpSpPr>
        <p:sp>
          <p:nvSpPr>
            <p:cNvPr id="465" name=""/>
            <p:cNvSpPr/>
            <p:nvPr/>
          </p:nvSpPr>
          <p:spPr>
            <a:xfrm>
              <a:off x="1671480" y="17478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00360" y="181908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671560" y="3908520"/>
            <a:ext cx="517680" cy="648720"/>
            <a:chOff x="2671560" y="3908520"/>
            <a:chExt cx="517680" cy="648720"/>
          </a:xfrm>
        </p:grpSpPr>
        <p:sp>
          <p:nvSpPr>
            <p:cNvPr id="468" name=""/>
            <p:cNvSpPr/>
            <p:nvPr/>
          </p:nvSpPr>
          <p:spPr>
            <a:xfrm>
              <a:off x="2671560" y="39085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08360" y="39798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679920" y="3908520"/>
            <a:ext cx="607320" cy="648720"/>
            <a:chOff x="3679920" y="3908520"/>
            <a:chExt cx="607320" cy="648720"/>
          </a:xfrm>
        </p:grpSpPr>
        <p:sp>
          <p:nvSpPr>
            <p:cNvPr id="471" name=""/>
            <p:cNvSpPr/>
            <p:nvPr/>
          </p:nvSpPr>
          <p:spPr>
            <a:xfrm>
              <a:off x="3679920" y="3908520"/>
              <a:ext cx="607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66ff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9966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16360" y="3979800"/>
              <a:ext cx="360360" cy="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986040" y="2827440"/>
            <a:ext cx="724680" cy="648720"/>
            <a:chOff x="986040" y="2827440"/>
            <a:chExt cx="724680" cy="648720"/>
          </a:xfrm>
        </p:grpSpPr>
        <p:sp>
          <p:nvSpPr>
            <p:cNvPr id="474" name=""/>
            <p:cNvSpPr/>
            <p:nvPr/>
          </p:nvSpPr>
          <p:spPr>
            <a:xfrm>
              <a:off x="986040" y="2827440"/>
              <a:ext cx="724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cc00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cc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14200" y="2898720"/>
              <a:ext cx="36000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6218280" y="46080"/>
                <a:ext cx="2925720" cy="676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1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 flipH="1">
            <a:off x="3201840" y="3835440"/>
            <a:ext cx="338472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204360" y="3705840"/>
            <a:ext cx="2089080" cy="212760"/>
            <a:chOff x="3204360" y="3705840"/>
            <a:chExt cx="2089080" cy="212760"/>
          </a:xfrm>
        </p:grpSpPr>
        <p:sp>
          <p:nvSpPr>
            <p:cNvPr id="479" name=""/>
            <p:cNvSpPr/>
            <p:nvPr/>
          </p:nvSpPr>
          <p:spPr>
            <a:xfrm flipH="1" flipV="1">
              <a:off x="3204360" y="3810960"/>
              <a:ext cx="2043360" cy="46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859280" y="3803400"/>
              <a:ext cx="217440" cy="10512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4833000" y="3705840"/>
              <a:ext cx="21672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076360" y="3813840"/>
              <a:ext cx="217080" cy="1047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5050440" y="3715200"/>
              <a:ext cx="21780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 flipV="1">
            <a:off x="1330200" y="1098360"/>
            <a:ext cx="460872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659640" y="3475080"/>
            <a:ext cx="360000" cy="581400"/>
            <a:chOff x="6659640" y="3475080"/>
            <a:chExt cx="360000" cy="581400"/>
          </a:xfrm>
        </p:grpSpPr>
        <p:sp>
          <p:nvSpPr>
            <p:cNvPr id="486" name=""/>
            <p:cNvSpPr/>
            <p:nvPr/>
          </p:nvSpPr>
          <p:spPr>
            <a:xfrm>
              <a:off x="6659640" y="3475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04000" y="3546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181320" y="3786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200400" y="1098720"/>
            <a:ext cx="1440" cy="2738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898200" y="5275440"/>
            <a:ext cx="406440" cy="581400"/>
            <a:chOff x="898200" y="5275440"/>
            <a:chExt cx="406440" cy="581400"/>
          </a:xfrm>
        </p:grpSpPr>
        <p:sp>
          <p:nvSpPr>
            <p:cNvPr id="491" name=""/>
            <p:cNvSpPr/>
            <p:nvPr/>
          </p:nvSpPr>
          <p:spPr>
            <a:xfrm>
              <a:off x="898200" y="5275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42920" y="54212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661840" y="907920"/>
            <a:ext cx="497880" cy="581400"/>
            <a:chOff x="2661840" y="907920"/>
            <a:chExt cx="497880" cy="581400"/>
          </a:xfrm>
        </p:grpSpPr>
        <p:sp>
          <p:nvSpPr>
            <p:cNvPr id="494" name=""/>
            <p:cNvSpPr/>
            <p:nvPr/>
          </p:nvSpPr>
          <p:spPr>
            <a:xfrm>
              <a:off x="266184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06920" y="1054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902120" y="19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3177360" y="1798920"/>
            <a:ext cx="17640" cy="2020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159360" y="3827520"/>
            <a:ext cx="971640" cy="3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076920" y="3024000"/>
            <a:ext cx="209880" cy="820080"/>
            <a:chOff x="3076920" y="3024000"/>
            <a:chExt cx="209880" cy="820080"/>
          </a:xfrm>
        </p:grpSpPr>
        <p:sp>
          <p:nvSpPr>
            <p:cNvPr id="500" name=""/>
            <p:cNvSpPr/>
            <p:nvPr/>
          </p:nvSpPr>
          <p:spPr>
            <a:xfrm flipH="1">
              <a:off x="3171600" y="3097800"/>
              <a:ext cx="3600" cy="7462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3076920" y="3024000"/>
              <a:ext cx="209880" cy="462240"/>
              <a:chOff x="3076920" y="3024000"/>
              <a:chExt cx="209880" cy="462240"/>
            </a:xfrm>
          </p:grpSpPr>
          <p:sp>
            <p:nvSpPr>
              <p:cNvPr id="502" name=""/>
              <p:cNvSpPr/>
              <p:nvPr/>
            </p:nvSpPr>
            <p:spPr>
              <a:xfrm flipH="1" flipV="1">
                <a:off x="3170160" y="3243600"/>
                <a:ext cx="108360" cy="2152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3076920" y="3268440"/>
                <a:ext cx="98280" cy="21780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3180240" y="3024000"/>
                <a:ext cx="106560" cy="2170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084840" y="3049560"/>
                <a:ext cx="96840" cy="21744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2498400" y="1844640"/>
            <a:ext cx="635040" cy="648720"/>
            <a:chOff x="2498400" y="1844640"/>
            <a:chExt cx="635040" cy="648720"/>
          </a:xfrm>
        </p:grpSpPr>
        <p:sp>
          <p:nvSpPr>
            <p:cNvPr id="507" name=""/>
            <p:cNvSpPr/>
            <p:nvPr/>
          </p:nvSpPr>
          <p:spPr>
            <a:xfrm>
              <a:off x="2498400" y="18446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26920" y="1916280"/>
              <a:ext cx="360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687480" y="3908520"/>
            <a:ext cx="517680" cy="648720"/>
            <a:chOff x="3687480" y="3908520"/>
            <a:chExt cx="517680" cy="648720"/>
          </a:xfrm>
        </p:grpSpPr>
        <p:sp>
          <p:nvSpPr>
            <p:cNvPr id="510" name=""/>
            <p:cNvSpPr/>
            <p:nvPr/>
          </p:nvSpPr>
          <p:spPr>
            <a:xfrm>
              <a:off x="3687480" y="39085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24280" y="39798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577040" y="3908520"/>
            <a:ext cx="607320" cy="648720"/>
            <a:chOff x="4577040" y="3908520"/>
            <a:chExt cx="607320" cy="648720"/>
          </a:xfrm>
        </p:grpSpPr>
        <p:sp>
          <p:nvSpPr>
            <p:cNvPr id="513" name=""/>
            <p:cNvSpPr/>
            <p:nvPr/>
          </p:nvSpPr>
          <p:spPr>
            <a:xfrm>
              <a:off x="4577040" y="3908520"/>
              <a:ext cx="607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66ff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9966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13480" y="3979800"/>
              <a:ext cx="360360" cy="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352960" y="2827440"/>
            <a:ext cx="724680" cy="648720"/>
            <a:chOff x="2352960" y="2827440"/>
            <a:chExt cx="724680" cy="648720"/>
          </a:xfrm>
        </p:grpSpPr>
        <p:sp>
          <p:nvSpPr>
            <p:cNvPr id="516" name=""/>
            <p:cNvSpPr/>
            <p:nvPr/>
          </p:nvSpPr>
          <p:spPr>
            <a:xfrm>
              <a:off x="2352960" y="2827440"/>
              <a:ext cx="724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cc00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cc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81120" y="2898720"/>
              <a:ext cx="36000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2141640" y="4908600"/>
            <a:ext cx="9716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17240" y="3822120"/>
            <a:ext cx="939960" cy="20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6640" bIns="-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234880" y="4941720"/>
            <a:ext cx="517680" cy="648720"/>
            <a:chOff x="2234880" y="4941720"/>
            <a:chExt cx="517680" cy="648720"/>
          </a:xfrm>
        </p:grpSpPr>
        <p:sp>
          <p:nvSpPr>
            <p:cNvPr id="521" name=""/>
            <p:cNvSpPr/>
            <p:nvPr/>
          </p:nvSpPr>
          <p:spPr>
            <a:xfrm>
              <a:off x="2234880" y="49417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71680" y="5013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513800" y="3500280"/>
            <a:ext cx="653400" cy="648720"/>
            <a:chOff x="1513800" y="3500280"/>
            <a:chExt cx="653400" cy="648720"/>
          </a:xfrm>
        </p:grpSpPr>
        <p:sp>
          <p:nvSpPr>
            <p:cNvPr id="524" name=""/>
            <p:cNvSpPr/>
            <p:nvPr/>
          </p:nvSpPr>
          <p:spPr>
            <a:xfrm>
              <a:off x="1513800" y="3500280"/>
              <a:ext cx="6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95320" y="357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093400" y="3933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7400" y="4508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0828400">
            <a:off x="1798560" y="37159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753800" y="233640"/>
            <a:ext cx="17640" cy="202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66560" y="3833640"/>
            <a:ext cx="14760" cy="1970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835160" y="620640"/>
            <a:ext cx="635040" cy="648720"/>
            <a:chOff x="4835160" y="620640"/>
            <a:chExt cx="635040" cy="648720"/>
          </a:xfrm>
        </p:grpSpPr>
        <p:sp>
          <p:nvSpPr>
            <p:cNvPr id="532" name=""/>
            <p:cNvSpPr/>
            <p:nvPr/>
          </p:nvSpPr>
          <p:spPr>
            <a:xfrm>
              <a:off x="4835160" y="6206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64040" y="69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290400" y="4941720"/>
            <a:ext cx="770760" cy="648720"/>
            <a:chOff x="3290400" y="4941720"/>
            <a:chExt cx="770760" cy="648720"/>
          </a:xfrm>
        </p:grpSpPr>
        <p:sp>
          <p:nvSpPr>
            <p:cNvPr id="535" name=""/>
            <p:cNvSpPr/>
            <p:nvPr/>
          </p:nvSpPr>
          <p:spPr>
            <a:xfrm>
              <a:off x="3290400" y="4941720"/>
              <a:ext cx="77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92360" y="501336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 rot="20828400">
            <a:off x="4405320" y="1125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17720" y="23446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227640" y="115920"/>
                <a:ext cx="25383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176880" y="836640"/>
                <a:ext cx="26431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651640" y="1628640"/>
                <a:ext cx="331308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2" name=""/>
          <p:cNvGrpSpPr/>
          <p:nvPr/>
        </p:nvGrpSpPr>
        <p:grpSpPr>
          <a:xfrm>
            <a:off x="5292720" y="4221000"/>
            <a:ext cx="3672000" cy="2665800"/>
            <a:chOff x="5292720" y="4221000"/>
            <a:chExt cx="3672000" cy="2665800"/>
          </a:xfrm>
        </p:grpSpPr>
        <p:sp>
          <p:nvSpPr>
            <p:cNvPr id="543" name=""/>
            <p:cNvSpPr/>
            <p:nvPr/>
          </p:nvSpPr>
          <p:spPr>
            <a:xfrm>
              <a:off x="5292720" y="4221000"/>
              <a:ext cx="3672000" cy="26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stem sila se svodi na </a:t>
              </a: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krst </a:t>
              </a:r>
              <a:r>
                <a:rPr b="1" lang="en-US" sz="3200" spc="-1" strike="noStrike">
                  <a:solidFill>
                    <a:srgbClr val="cc0066"/>
                  </a:solidFill>
                  <a:latin typeface="Times New Roman"/>
                </a:rPr>
                <a:t>sil</a:t>
              </a: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cc0066"/>
                  </a:solidFill>
                  <a:latin typeface="Times New Roman"/>
                </a:rPr>
                <a:t>l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cc0066"/>
                  </a:solidFill>
                  <a:latin typeface="Times New Roman"/>
                </a:rPr>
                <a:t>m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a napadnim t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čkama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40720" y="4797360"/>
              <a:ext cx="36036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459640" y="4797360"/>
              <a:ext cx="36036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1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29" dur="5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5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3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1" dur="5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4" dur="5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7" dur="5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0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3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9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8T20:48:27Z</dcterms:modified>
  <cp:revision>380</cp:revision>
  <dc:subject/>
  <dc:title>Slide 1</dc:title>
</cp:coreProperties>
</file>