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C87E-6D56-4B69-92AA-EC962B0F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77A6-FB42-4320-ABD4-D0702038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889F-AF4D-4311-B3A3-C668B4DF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1C67-DA4B-42E1-8C1F-2459BA18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B3C9-0384-4B34-9D1D-150EAF95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7CDF-787B-4ECC-BB33-27DF2856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BD8E-2A65-4943-90E3-FA4737C5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1E9C-FD46-424F-942E-A2DEE0C5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AF57-60BC-4D74-B22B-37075644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1C8F-13CB-475E-B956-3D547DB8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D3B4-5ADF-45F5-9B73-4F6B6BE6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285F-3DF9-409B-9383-DCC3F89A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A82A-EE7F-4B13-B705-01C2DBBA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5CAF-07BD-4887-9B92-EE52D274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812C-CABE-4C15-A7EF-5CFDF2DC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7714-6198-4AD3-BBFB-BF911285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3625-6AAC-45CC-BD0B-CE69A3D0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AF03-29DA-465A-B121-D258836B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4D13-8A06-4DA3-AEAB-F543D085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3ED9-EEA4-426F-A6A9-0CCD8289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6EBA-2CE6-4AD0-B0CB-CE7A7724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670B-89B8-4102-9C4A-33D7FDE2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8634-2707-4821-BDDB-D36E57A0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047-D808-4286-A2F2-13F37D20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7B7B-C97C-40B3-A1C3-213A952D3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A99D-817D-45E2-9558-45445ECF3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95280" y="47628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660066"/>
                </a:solidFill>
                <a:latin typeface="Times New Roman"/>
              </a:rPr>
              <a:t>Tačka </a:t>
            </a:r>
            <a:r>
              <a:rPr b="1" i="1" lang="sr-Latn-CS" sz="3600" spc="-1" strike="noStrike">
                <a:solidFill>
                  <a:srgbClr val="660066"/>
                </a:solidFill>
                <a:latin typeface="Times New Roman"/>
              </a:rPr>
              <a:t>S</a:t>
            </a:r>
            <a:r>
              <a:rPr b="1" lang="sr-Latn-CS" sz="3600" spc="-1" strike="noStrike">
                <a:solidFill>
                  <a:srgbClr val="660066"/>
                </a:solidFill>
                <a:latin typeface="Times New Roman"/>
              </a:rPr>
              <a:t> se naziva središte sistema paralelnih sila, i njene koordinate ne zavise od pravca napadnih linija sila, već samo od njihovih algebarskih vrednosti i koordinata njihovih napadnih tačak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66"/>
                </a:solidFill>
                <a:latin typeface="Times New Roman"/>
              </a:rPr>
              <a:t>Središte sistema sila sa paralelnim napadnim linijama je tačka oko koje se obrne rezultanta za ugao za koji se obrnu sve sile u istom smeru, oko njihovih napadnih tačak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753120" y="1954440"/>
            <a:ext cx="2270160" cy="3755520"/>
            <a:chOff x="753120" y="1954440"/>
            <a:chExt cx="2270160" cy="3755520"/>
          </a:xfrm>
        </p:grpSpPr>
        <p:grpSp>
          <p:nvGrpSpPr>
            <p:cNvPr id="294" name=""/>
            <p:cNvGrpSpPr/>
            <p:nvPr/>
          </p:nvGrpSpPr>
          <p:grpSpPr>
            <a:xfrm>
              <a:off x="753120" y="3991680"/>
              <a:ext cx="592560" cy="668880"/>
              <a:chOff x="753120" y="3991680"/>
              <a:chExt cx="592560" cy="668880"/>
            </a:xfrm>
          </p:grpSpPr>
          <p:sp>
            <p:nvSpPr>
              <p:cNvPr id="295" name=""/>
              <p:cNvSpPr/>
              <p:nvPr/>
            </p:nvSpPr>
            <p:spPr>
              <a:xfrm rot="21475200">
                <a:off x="764640" y="40014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963360" y="4069440"/>
                <a:ext cx="21600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1125360" y="24937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56120" y="3155400"/>
              <a:ext cx="23040" cy="255456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67280" y="3201840"/>
              <a:ext cx="1656000" cy="191304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0" name=""/>
            <p:cNvGraphicFramePr/>
            <p:nvPr/>
          </p:nvGraphicFramePr>
          <p:xfrm>
            <a:off x="1415880" y="3925440"/>
            <a:ext cx="584280" cy="36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15880" y="3925440"/>
                      <a:ext cx="58428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 rot="20828400">
              <a:off x="985680" y="1988640"/>
              <a:ext cx="485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600" spc="-1" strike="noStrike">
                  <a:solidFill>
                    <a:srgbClr val="ff0066"/>
                  </a:solidFill>
                  <a:latin typeface="Times New Roman"/>
                </a:rPr>
                <a:t>.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121440" y="370080"/>
            <a:ext cx="2265840" cy="3755880"/>
            <a:chOff x="6121440" y="370080"/>
            <a:chExt cx="2265840" cy="3755880"/>
          </a:xfrm>
        </p:grpSpPr>
        <p:sp>
          <p:nvSpPr>
            <p:cNvPr id="304" name=""/>
            <p:cNvSpPr/>
            <p:nvPr/>
          </p:nvSpPr>
          <p:spPr>
            <a:xfrm>
              <a:off x="6346440" y="9097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6121440" y="2062080"/>
              <a:ext cx="549000" cy="675720"/>
              <a:chOff x="6121440" y="2062080"/>
              <a:chExt cx="549000" cy="67572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6121440" y="2062080"/>
                <a:ext cx="452160" cy="581400"/>
                <a:chOff x="6121440" y="2062080"/>
                <a:chExt cx="452160" cy="5814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121440" y="2062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335640" y="2133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6337440" y="2278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6182640" y="370080"/>
              <a:ext cx="2204640" cy="3755880"/>
              <a:chOff x="6182640" y="370080"/>
              <a:chExt cx="2204640" cy="3755880"/>
            </a:xfrm>
          </p:grpSpPr>
          <p:sp>
            <p:nvSpPr>
              <p:cNvPr id="311" name=""/>
              <p:cNvSpPr/>
              <p:nvPr/>
            </p:nvSpPr>
            <p:spPr>
              <a:xfrm>
                <a:off x="6720120" y="1571400"/>
                <a:ext cx="23040" cy="2554560"/>
              </a:xfrm>
              <a:prstGeom prst="line">
                <a:avLst/>
              </a:prstGeom>
              <a:ln w="76320">
                <a:solidFill>
                  <a:srgbClr val="0000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731640" y="1617480"/>
                <a:ext cx="1655640" cy="1913400"/>
              </a:xfrm>
              <a:prstGeom prst="line">
                <a:avLst/>
              </a:prstGeom>
              <a:ln w="76320">
                <a:solidFill>
                  <a:srgbClr val="0000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13" name=""/>
              <p:cNvGraphicFramePr/>
              <p:nvPr/>
            </p:nvGraphicFramePr>
            <p:xfrm>
              <a:off x="6780240" y="2341440"/>
              <a:ext cx="583920" cy="366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1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780240" y="2341440"/>
                        <a:ext cx="583920" cy="36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5" name=""/>
              <p:cNvSpPr/>
              <p:nvPr/>
            </p:nvSpPr>
            <p:spPr>
              <a:xfrm rot="20828400">
                <a:off x="6349680" y="404280"/>
                <a:ext cx="485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9600" spc="-1" strike="noStrike">
                    <a:solidFill>
                      <a:srgbClr val="0000cc"/>
                    </a:solidFill>
                    <a:latin typeface="Times New Roman"/>
                  </a:rPr>
                  <a:t>.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"/>
          <p:cNvGrpSpPr/>
          <p:nvPr/>
        </p:nvGrpSpPr>
        <p:grpSpPr>
          <a:xfrm>
            <a:off x="3457800" y="946440"/>
            <a:ext cx="3292920" cy="4944240"/>
            <a:chOff x="3457800" y="946440"/>
            <a:chExt cx="3292920" cy="4944240"/>
          </a:xfrm>
        </p:grpSpPr>
        <p:sp>
          <p:nvSpPr>
            <p:cNvPr id="317" name=""/>
            <p:cNvSpPr/>
            <p:nvPr/>
          </p:nvSpPr>
          <p:spPr>
            <a:xfrm>
              <a:off x="4118400" y="1357560"/>
              <a:ext cx="18360" cy="4533120"/>
            </a:xfrm>
            <a:prstGeom prst="line">
              <a:avLst/>
            </a:prstGeom>
            <a:ln w="38160">
              <a:solidFill>
                <a:srgbClr val="0000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82640" y="1439640"/>
              <a:ext cx="3268080" cy="3752640"/>
            </a:xfrm>
            <a:prstGeom prst="line">
              <a:avLst/>
            </a:prstGeom>
            <a:ln w="38160">
              <a:solidFill>
                <a:srgbClr val="0000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579480" y="946440"/>
              <a:ext cx="2204640" cy="3755880"/>
              <a:chOff x="3579480" y="946440"/>
              <a:chExt cx="2204640" cy="3755880"/>
            </a:xfrm>
          </p:grpSpPr>
          <p:sp>
            <p:nvSpPr>
              <p:cNvPr id="320" name=""/>
              <p:cNvSpPr/>
              <p:nvPr/>
            </p:nvSpPr>
            <p:spPr>
              <a:xfrm>
                <a:off x="4116960" y="2147760"/>
                <a:ext cx="23040" cy="25545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128480" y="2193840"/>
                <a:ext cx="1655640" cy="19134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22" name=""/>
              <p:cNvGraphicFramePr/>
              <p:nvPr/>
            </p:nvGraphicFramePr>
            <p:xfrm>
              <a:off x="4177080" y="2917800"/>
              <a:ext cx="583920" cy="3664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2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177080" y="2917800"/>
                        <a:ext cx="583920" cy="36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24" name=""/>
              <p:cNvSpPr/>
              <p:nvPr/>
            </p:nvSpPr>
            <p:spPr>
              <a:xfrm rot="20828400">
                <a:off x="3746520" y="980640"/>
                <a:ext cx="485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9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3457800" y="2925720"/>
              <a:ext cx="599400" cy="675720"/>
              <a:chOff x="3457800" y="2925720"/>
              <a:chExt cx="599400" cy="6757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3457800" y="2925720"/>
                <a:ext cx="452160" cy="581400"/>
                <a:chOff x="3457800" y="2925720"/>
                <a:chExt cx="452160" cy="5814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457800" y="2925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672000" y="2996640"/>
                  <a:ext cx="215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3673800" y="3141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4106880" y="1628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95280" y="26028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nalitički uslovi ravnoteže za 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Osnovni uslovi ravnotež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95280" y="2492280"/>
                <a:ext cx="8489880" cy="332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636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z (1) sledi samo jedan algebarski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slov ravnotež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411280" y="981000"/>
                <a:ext cx="2030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514520" y="2806560"/>
                <a:ext cx="7521480" cy="393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250200" y="2205000"/>
            <a:ext cx="21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z (2) 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619640" y="1268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(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900000" y="1268280"/>
                <a:ext cx="7493040" cy="448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826920" y="1197000"/>
                <a:ext cx="7556760" cy="44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1080" y="260280"/>
            <a:ext cx="87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d gornja tri uslova samo su dva nezavisna i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908000" y="1125360"/>
                <a:ext cx="447516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971640" y="1844640"/>
            <a:ext cx="8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(*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0920" y="2924280"/>
            <a:ext cx="871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Dakle, tri uslova (*), (**) predstavljaju potrebne i dovoljne uslove ravnot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že za sistem sila sa paralelnim napadnim linijama. (Pri tome ovi uslovi su zavisni od pravc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Ako treba da uslovi ravnoteže budu zadovoljeni nezavisno od pravca koji imaju napadne linije sila, tada se moze pisa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11280" y="836640"/>
            <a:ext cx="8208720" cy="3384360"/>
          </a:xfrm>
          <a:prstGeom prst="wedgeRoundRectCallout">
            <a:avLst>
              <a:gd name="adj1" fmla="val -34916"/>
              <a:gd name="adj2" fmla="val 71296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977760" y="1103400"/>
                <a:ext cx="202896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71640" y="2398680"/>
                <a:ext cx="763272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1618920" y="4797360"/>
            <a:ext cx="525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SLOVI  (ČETIR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STATIČKE RAVNOTE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2494080"/>
            <a:ext cx="5292720" cy="2087280"/>
          </a:xfrm>
          <a:prstGeom prst="wedgeRectCallout">
            <a:avLst>
              <a:gd name="adj1" fmla="val 19555"/>
              <a:gd name="adj2" fmla="val 35856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Težina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093080" y="1052640"/>
            <a:ext cx="1871640" cy="2016000"/>
          </a:xfrm>
          <a:prstGeom prst="wedgeRectCallout">
            <a:avLst>
              <a:gd name="adj1" fmla="val -28203"/>
              <a:gd name="adj2" fmla="val 1180"/>
            </a:avLst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elementarna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79280" y="1343160"/>
                <a:ext cx="8607600" cy="25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ρ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lim>
                        </m:limLow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t xml:space="preserve">g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250920" y="112680"/>
            <a:ext cx="84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NA. TEŽIŠTE TELA. TEŽIŠTE POVR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776040" y="2630520"/>
            <a:ext cx="5186880" cy="4113720"/>
            <a:chOff x="3776040" y="2630520"/>
            <a:chExt cx="5186880" cy="4113720"/>
          </a:xfrm>
        </p:grpSpPr>
        <p:sp>
          <p:nvSpPr>
            <p:cNvPr id="353" name=""/>
            <p:cNvSpPr/>
            <p:nvPr/>
          </p:nvSpPr>
          <p:spPr>
            <a:xfrm>
              <a:off x="4427640" y="3206880"/>
              <a:ext cx="3744720" cy="321300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50000">
                  <a:srgbClr val="b1a887"/>
                </a:gs>
                <a:gs pos="100000">
                  <a:srgbClr val="d7d1b9"/>
                </a:gs>
              </a:gsLst>
              <a:lin ang="5400000"/>
            </a:gra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76040" y="6162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600760" y="451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4720" y="26305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211280" y="507996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27600" y="5079960"/>
              <a:ext cx="3160800" cy="6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719680" y="2637000"/>
              <a:ext cx="7920" cy="2442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16400" y="4581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5784480" y="4207680"/>
              <a:ext cx="369360" cy="596880"/>
              <a:chOff x="5784480" y="4207680"/>
              <a:chExt cx="369360" cy="596880"/>
            </a:xfrm>
          </p:grpSpPr>
          <p:sp>
            <p:nvSpPr>
              <p:cNvPr id="362" name=""/>
              <p:cNvSpPr/>
              <p:nvPr/>
            </p:nvSpPr>
            <p:spPr>
              <a:xfrm rot="21437400">
                <a:off x="5797800" y="421524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5938560" y="4357440"/>
                <a:ext cx="215280" cy="1008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6804000" y="3854520"/>
              <a:ext cx="287280" cy="287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6932520" y="4031640"/>
              <a:ext cx="9360" cy="806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5718600" y="3968640"/>
              <a:ext cx="1292040" cy="11304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7014240" y="4274280"/>
              <a:ext cx="689400" cy="593640"/>
              <a:chOff x="7014240" y="4274280"/>
              <a:chExt cx="689400" cy="593640"/>
            </a:xfrm>
          </p:grpSpPr>
          <p:sp>
            <p:nvSpPr>
              <p:cNvPr id="368" name=""/>
              <p:cNvSpPr/>
              <p:nvPr/>
            </p:nvSpPr>
            <p:spPr>
              <a:xfrm rot="62400">
                <a:off x="7019280" y="4280040"/>
                <a:ext cx="67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d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93680" y="4365720"/>
                <a:ext cx="215640" cy="39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6373440" y="35672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63000">
              <a:off x="6732000" y="313488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6633"/>
                  </a:solidFill>
                  <a:latin typeface="Times New Roman"/>
                </a:rPr>
                <a:t>d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250920" y="260280"/>
            <a:ext cx="8640720" cy="3018600"/>
            <a:chOff x="250920" y="260280"/>
            <a:chExt cx="8640720" cy="3018600"/>
          </a:xfrm>
        </p:grpSpPr>
        <p:sp>
          <p:nvSpPr>
            <p:cNvPr id="373" name=""/>
            <p:cNvSpPr/>
            <p:nvPr/>
          </p:nvSpPr>
          <p:spPr>
            <a:xfrm>
              <a:off x="250920" y="260280"/>
              <a:ext cx="86407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e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jedinični vektor u pravcu i smer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ubrzanja Zemljine 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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ecifična težina materijala u okolini tačke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dV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deo zapremine tela u okolini tačke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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gustina, (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g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=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g . e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) – ubrzanje Zemljine 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m – elementarna mas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5280" y="40320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27280" y="234792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78200" y="234792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39640" y="3284640"/>
                <a:ext cx="469260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2920320" y="4869000"/>
            <a:ext cx="56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Uzimajući u obzir elementarne si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kao sistem sila 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66"/>
                </a:solidFill>
                <a:latin typeface="Times New Roman"/>
              </a:rPr>
              <a:t>paralelnim napadnim lin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95280" y="836640"/>
            <a:ext cx="7705800" cy="60213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386000" y="1407960"/>
            <a:ext cx="7491600" cy="2640240"/>
          </a:xfrm>
          <a:prstGeom prst="line">
            <a:avLst/>
          </a:prstGeom>
          <a:ln w="38160">
            <a:solidFill>
              <a:srgbClr val="0000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20360" y="544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5080" y="3789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51440" y="1700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055600" y="435924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71920" y="4359240"/>
            <a:ext cx="316080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3564000" y="1916280"/>
            <a:ext cx="7920" cy="244296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6072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26920" y="205740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456920" y="1481040"/>
            <a:ext cx="1433160" cy="500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37640" y="292104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425640" y="1770120"/>
            <a:ext cx="1433520" cy="501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762000" y="76212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562000" y="464976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885560" y="5744520"/>
            <a:ext cx="1000080" cy="347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852120" y="4289040"/>
            <a:ext cx="1433160" cy="501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076560" y="5331960"/>
            <a:ext cx="1303920" cy="452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706360" y="83340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209320" y="2962800"/>
            <a:ext cx="760680" cy="265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136760" y="2913840"/>
            <a:ext cx="486720" cy="669600"/>
            <a:chOff x="4136760" y="2913840"/>
            <a:chExt cx="486720" cy="669600"/>
          </a:xfrm>
        </p:grpSpPr>
        <p:sp>
          <p:nvSpPr>
            <p:cNvPr id="233" name=""/>
            <p:cNvSpPr/>
            <p:nvPr/>
          </p:nvSpPr>
          <p:spPr>
            <a:xfrm rot="21437400">
              <a:off x="4151520" y="29242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282920" y="3066120"/>
              <a:ext cx="21528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944880" y="19861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622320" y="2249640"/>
            <a:ext cx="2858760" cy="207900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600720" y="2534040"/>
            <a:ext cx="871200" cy="1829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72000" y="213372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(x,y,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352480" y="2917080"/>
            <a:ext cx="370080" cy="596880"/>
            <a:chOff x="5352480" y="2917080"/>
            <a:chExt cx="370080" cy="596880"/>
          </a:xfrm>
        </p:grpSpPr>
        <p:sp>
          <p:nvSpPr>
            <p:cNvPr id="240" name=""/>
            <p:cNvSpPr/>
            <p:nvPr/>
          </p:nvSpPr>
          <p:spPr>
            <a:xfrm rot="21437400">
              <a:off x="5365800" y="292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506920" y="3066480"/>
              <a:ext cx="215640" cy="104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V="1">
            <a:off x="3564720" y="3988080"/>
            <a:ext cx="1029240" cy="356400"/>
          </a:xfrm>
          <a:prstGeom prst="line">
            <a:avLst/>
          </a:prstGeom>
          <a:ln w="5724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87040" y="3634920"/>
            <a:ext cx="389160" cy="597960"/>
            <a:chOff x="4487040" y="3634920"/>
            <a:chExt cx="389160" cy="597960"/>
          </a:xfrm>
        </p:grpSpPr>
        <p:sp>
          <p:nvSpPr>
            <p:cNvPr id="244" name=""/>
            <p:cNvSpPr/>
            <p:nvPr/>
          </p:nvSpPr>
          <p:spPr>
            <a:xfrm rot="21437400">
              <a:off x="4500360" y="36432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66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643280" y="3787200"/>
              <a:ext cx="215640" cy="104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789440" y="1603440"/>
            <a:ext cx="548640" cy="675720"/>
            <a:chOff x="4789440" y="1603440"/>
            <a:chExt cx="548640" cy="675720"/>
          </a:xfrm>
        </p:grpSpPr>
        <p:grpSp>
          <p:nvGrpSpPr>
            <p:cNvPr id="247" name=""/>
            <p:cNvGrpSpPr/>
            <p:nvPr/>
          </p:nvGrpSpPr>
          <p:grpSpPr>
            <a:xfrm>
              <a:off x="4789440" y="1603440"/>
              <a:ext cx="452160" cy="581400"/>
              <a:chOff x="4789440" y="1603440"/>
              <a:chExt cx="452160" cy="581400"/>
            </a:xfrm>
          </p:grpSpPr>
          <p:sp>
            <p:nvSpPr>
              <p:cNvPr id="248" name=""/>
              <p:cNvSpPr/>
              <p:nvPr/>
            </p:nvSpPr>
            <p:spPr>
              <a:xfrm>
                <a:off x="4789440" y="1603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003640" y="16743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5005080" y="181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589800" y="1387440"/>
            <a:ext cx="599400" cy="675720"/>
            <a:chOff x="6589800" y="1387440"/>
            <a:chExt cx="599400" cy="675720"/>
          </a:xfrm>
        </p:grpSpPr>
        <p:grpSp>
          <p:nvGrpSpPr>
            <p:cNvPr id="252" name=""/>
            <p:cNvGrpSpPr/>
            <p:nvPr/>
          </p:nvGrpSpPr>
          <p:grpSpPr>
            <a:xfrm>
              <a:off x="6589800" y="1387440"/>
              <a:ext cx="452160" cy="581400"/>
              <a:chOff x="6589800" y="1387440"/>
              <a:chExt cx="452160" cy="581400"/>
            </a:xfrm>
          </p:grpSpPr>
          <p:sp>
            <p:nvSpPr>
              <p:cNvPr id="253" name=""/>
              <p:cNvSpPr/>
              <p:nvPr/>
            </p:nvSpPr>
            <p:spPr>
              <a:xfrm>
                <a:off x="6589800" y="1387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804000" y="1458360"/>
                <a:ext cx="21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6805800" y="1603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79280" y="189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50920" y="44280"/>
                <a:ext cx="7697520" cy="244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ehomog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erija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411280" y="2722680"/>
                <a:ext cx="6553440" cy="38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omog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erija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47680" y="260280"/>
            <a:ext cx="83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EŽIŠTE TEL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je središte sistema paralel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ila koje potiču od težine svih elementar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elova te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012000" y="2060640"/>
                <a:ext cx="2824200" cy="31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511200" y="3213000"/>
            <a:ext cx="2044800" cy="180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81000" y="37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i="1" lang="sr-Latn-CS" sz="32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11200" y="1844280"/>
            <a:ext cx="5068440" cy="3168720"/>
            <a:chOff x="511200" y="1844280"/>
            <a:chExt cx="5068440" cy="3168720"/>
          </a:xfrm>
        </p:grpSpPr>
        <p:sp>
          <p:nvSpPr>
            <p:cNvPr id="386" name=""/>
            <p:cNvSpPr/>
            <p:nvPr/>
          </p:nvSpPr>
          <p:spPr>
            <a:xfrm flipV="1">
              <a:off x="511200" y="184428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1200" y="5013000"/>
              <a:ext cx="50684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5077800" y="49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7600" y="1773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56000" y="3789360"/>
            <a:ext cx="2044440" cy="122400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39640" y="3212640"/>
            <a:ext cx="2016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3213000"/>
            <a:ext cx="2016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56000" y="3789360"/>
            <a:ext cx="2016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556000" y="3789360"/>
            <a:ext cx="2016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008160" y="4076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i="1" lang="sr-Latn-CS" sz="32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75960" y="115920"/>
            <a:ext cx="895572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LIN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specifična težina po jedinici dužine,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kN/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434960" y="1790640"/>
                <a:ext cx="604836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828000" y="3568320"/>
            <a:ext cx="7120440" cy="3602160"/>
            <a:chOff x="828000" y="3568320"/>
            <a:chExt cx="7120440" cy="3602160"/>
          </a:xfrm>
        </p:grpSpPr>
        <p:sp>
          <p:nvSpPr>
            <p:cNvPr id="399" name=""/>
            <p:cNvSpPr/>
            <p:nvPr/>
          </p:nvSpPr>
          <p:spPr>
            <a:xfrm flipV="1">
              <a:off x="2124000" y="3568320"/>
              <a:ext cx="0" cy="1873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24000" y="544176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28000" y="6089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37080" y="52243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258560" y="5441760"/>
              <a:ext cx="865080" cy="86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621080" y="40003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 rot="10800000">
              <a:off x="2058480" y="4287600"/>
              <a:ext cx="5889960" cy="28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6729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672998"/>
                </a:path>
              </a:pathLst>
            </a:custGeom>
            <a:noFill/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939560" y="432396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723200" y="4323960"/>
              <a:ext cx="2160" cy="677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4507200" y="4323960"/>
              <a:ext cx="2160" cy="677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4291920" y="432396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4075560" y="436716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859560" y="443988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3643560" y="446868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3427920" y="454068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210480" y="458532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994840" y="468432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778480" y="480024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562480" y="494316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346840" y="508860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76320" y="115920"/>
            <a:ext cx="836928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POVRŠ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specifična težina po jedinici površi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kN/m</a:t>
            </a:r>
            <a:r>
              <a:rPr b="1" i="1" lang="sr-Latn-CS" sz="32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 dG=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dA, 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254640" y="1109520"/>
                <a:ext cx="2889360" cy="574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1" name=""/>
          <p:cNvGrpSpPr/>
          <p:nvPr/>
        </p:nvGrpSpPr>
        <p:grpSpPr>
          <a:xfrm>
            <a:off x="36000" y="1844640"/>
            <a:ext cx="6559920" cy="4176720"/>
            <a:chOff x="36000" y="1844640"/>
            <a:chExt cx="6559920" cy="4176720"/>
          </a:xfrm>
        </p:grpSpPr>
        <p:grpSp>
          <p:nvGrpSpPr>
            <p:cNvPr id="422" name=""/>
            <p:cNvGrpSpPr/>
            <p:nvPr/>
          </p:nvGrpSpPr>
          <p:grpSpPr>
            <a:xfrm>
              <a:off x="36000" y="1844640"/>
              <a:ext cx="5944320" cy="4176720"/>
              <a:chOff x="36000" y="1844640"/>
              <a:chExt cx="5944320" cy="417672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36000" y="1844640"/>
                <a:ext cx="5279040" cy="4176720"/>
                <a:chOff x="36000" y="1844640"/>
                <a:chExt cx="5279040" cy="41767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36000" y="522288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952880" y="4940280"/>
                  <a:ext cx="36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y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933920" y="1844640"/>
                  <a:ext cx="33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z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7" name=""/>
                <p:cNvGrpSpPr/>
                <p:nvPr/>
              </p:nvGrpSpPr>
              <p:grpSpPr>
                <a:xfrm>
                  <a:off x="196560" y="2060280"/>
                  <a:ext cx="4970880" cy="3961080"/>
                  <a:chOff x="196560" y="2060280"/>
                  <a:chExt cx="4970880" cy="3961080"/>
                </a:xfrm>
              </p:grpSpPr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196560" y="2060280"/>
                    <a:ext cx="4970880" cy="3961080"/>
                    <a:chOff x="196560" y="2060280"/>
                    <a:chExt cx="4970880" cy="396108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 flipH="1">
                      <a:off x="196560" y="4575240"/>
                      <a:ext cx="2079720" cy="144612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2276640" y="4575240"/>
                      <a:ext cx="2890800" cy="112536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 flipV="1">
                      <a:off x="2276640" y="2060280"/>
                      <a:ext cx="11160" cy="251460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2" name=""/>
                  <p:cNvSpPr/>
                  <p:nvPr/>
                </p:nvSpPr>
                <p:spPr>
                  <a:xfrm>
                    <a:off x="1765080" y="407808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O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aphicFrame>
            <p:nvGraphicFramePr>
              <p:cNvPr id="433" name=""/>
              <p:cNvGraphicFramePr/>
              <p:nvPr/>
            </p:nvGraphicFramePr>
            <p:xfrm>
              <a:off x="2003400" y="2492280"/>
              <a:ext cx="3976920" cy="1714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3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03400" y="2492280"/>
                        <a:ext cx="3976920" cy="171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35" name=""/>
            <p:cNvSpPr/>
            <p:nvPr/>
          </p:nvSpPr>
          <p:spPr>
            <a:xfrm>
              <a:off x="4043520" y="2494080"/>
              <a:ext cx="25524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T(x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 ,y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 ,z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07280" y="115920"/>
            <a:ext cx="73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POVRŠ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 RAVNI O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179280" y="1125360"/>
                <a:ext cx="889632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68360" y="3213000"/>
                <a:ext cx="4978440" cy="25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A</m:t>
                        </m:r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s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metrij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4788000" y="2997360"/>
            <a:ext cx="4321080" cy="1008000"/>
          </a:xfrm>
          <a:prstGeom prst="wedgeRoundRectCallout">
            <a:avLst>
              <a:gd name="adj1" fmla="val -59333"/>
              <a:gd name="adj2" fmla="val 228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omenti I reda površine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za ose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79640" y="5661000"/>
            <a:ext cx="6912000" cy="1008000"/>
          </a:xfrm>
          <a:prstGeom prst="wedgeRoundRectCallout">
            <a:avLst>
              <a:gd name="adj1" fmla="val -37277"/>
              <a:gd name="adj2" fmla="val -82125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ko telo ima osu simetrije, na njoj se nalazi težište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95280" y="387360"/>
                <a:ext cx="836784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6810120" y="43610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000680" y="2776320"/>
            <a:ext cx="5068440" cy="3168720"/>
            <a:chOff x="4000680" y="2776320"/>
            <a:chExt cx="5068440" cy="3168720"/>
          </a:xfrm>
        </p:grpSpPr>
        <p:sp>
          <p:nvSpPr>
            <p:cNvPr id="444" name=""/>
            <p:cNvSpPr/>
            <p:nvPr/>
          </p:nvSpPr>
          <p:spPr>
            <a:xfrm flipV="1">
              <a:off x="4000680" y="277632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00680" y="5945040"/>
              <a:ext cx="50684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8567280" y="5873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636720" y="27050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52680" y="580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 rot="10800000">
            <a:off x="3900240" y="3423960"/>
            <a:ext cx="8204760" cy="187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5" y="1"/>
                </a:moveTo>
                <a:arcTo wR="10800" hR="10800" stAng="-5350757" swAng="4586597"/>
                <a:lnTo>
                  <a:pt x="10800" y="10800"/>
                </a:lnTo>
                <a:close/>
              </a:path>
              <a:path fill="none" w="21600" h="21600">
                <a:moveTo>
                  <a:pt x="10955" y="1"/>
                </a:moveTo>
                <a:arcTo wR="10800" hR="10800" stAng="-5350757" swAng="4586597"/>
              </a:path>
            </a:pathLst>
          </a:cu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385596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584680" y="36399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959600" y="342432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4647960" y="3713040"/>
            <a:ext cx="431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4647960" y="3639960"/>
            <a:ext cx="93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647960" y="400068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647960" y="436104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4647960" y="472140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4647960" y="5079960"/>
            <a:ext cx="93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008680" y="5440320"/>
            <a:ext cx="576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5439960" y="5800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6374880" y="3495600"/>
            <a:ext cx="180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311960" y="342432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6375240" y="3495600"/>
            <a:ext cx="649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6375240" y="363996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6375240" y="400068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6375240" y="436104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6375240" y="472140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375240" y="507996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735240" y="544032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7167240" y="5800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6377040" y="3495600"/>
            <a:ext cx="2160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08680" y="464832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000680" y="59450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4000680" y="630396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3927240" y="6232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6735600" y="623268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745040" y="580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735600" y="457668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5600" y="45766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656320" y="4287960"/>
                <a:ext cx="709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331920" y="2009880"/>
                <a:ext cx="3232080" cy="48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6443280" y="2852640"/>
            <a:ext cx="14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y =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0" y="0"/>
                <a:ext cx="42022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3240" y="1090440"/>
                <a:ext cx="5289480" cy="576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</m:e>
                            </m:nary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</m:e>
                            </m:nary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5078160" y="2204640"/>
            <a:ext cx="3813480" cy="4394880"/>
            <a:chOff x="5078160" y="2204640"/>
            <a:chExt cx="3813480" cy="4394880"/>
          </a:xfrm>
        </p:grpSpPr>
        <p:sp>
          <p:nvSpPr>
            <p:cNvPr id="486" name=""/>
            <p:cNvSpPr/>
            <p:nvPr/>
          </p:nvSpPr>
          <p:spPr>
            <a:xfrm rot="16200000">
              <a:off x="4856760" y="3228840"/>
              <a:ext cx="3598920" cy="2260800"/>
            </a:xfrm>
            <a:prstGeom prst="rtTriangl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40240" y="49370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5533920" y="2204640"/>
              <a:ext cx="20880" cy="39560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506800" y="5655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5880" y="22762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714080" y="242064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66"/>
                  </a:solidFill>
                  <a:latin typeface="Times New Roman"/>
                </a:rPr>
                <a:t>2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787880" y="594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3" name=""/>
            <p:cNvGraphicFramePr/>
            <p:nvPr/>
          </p:nvGraphicFramePr>
          <p:xfrm>
            <a:off x="7067520" y="5153040"/>
            <a:ext cx="133560" cy="129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67520" y="5153040"/>
                      <a:ext cx="13356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 rot="18179400">
              <a:off x="5738400" y="3787560"/>
              <a:ext cx="130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y = </a:t>
              </a: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2 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78160" y="60181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59160" y="6016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634080" y="644832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54800" y="616248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5554440" y="6521400"/>
              <a:ext cx="19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5481360" y="6449760"/>
              <a:ext cx="144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849720" y="644832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6705720" y="428940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6921720" y="3999960"/>
              <a:ext cx="144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6705720" y="3928680"/>
              <a:ext cx="217440" cy="2232360"/>
              <a:chOff x="6705720" y="3928680"/>
              <a:chExt cx="217440" cy="2232360"/>
            </a:xfrm>
          </p:grpSpPr>
          <p:sp>
            <p:nvSpPr>
              <p:cNvPr id="506" name=""/>
              <p:cNvSpPr/>
              <p:nvPr/>
            </p:nvSpPr>
            <p:spPr>
              <a:xfrm>
                <a:off x="6705720" y="4289400"/>
                <a:ext cx="217440" cy="1871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16200000">
                <a:off x="6634080" y="3999960"/>
                <a:ext cx="360360" cy="217440"/>
              </a:xfrm>
              <a:prstGeom prst="rtTriangle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 flipV="1">
              <a:off x="5526000" y="2344320"/>
              <a:ext cx="2405160" cy="38163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33920" y="6161040"/>
              <a:ext cx="30895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50800" y="601632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66"/>
                  </a:solidFill>
                  <a:latin typeface="Times New Roman"/>
                </a:rPr>
                <a:t>d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8587400">
              <a:off x="6448680" y="468720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d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398840" y="368280"/>
                <a:ext cx="4745160" cy="17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687600" y="115920"/>
            <a:ext cx="74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Grafički postupci kod sistema sil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0920" y="907920"/>
            <a:ext cx="8353440" cy="576360"/>
          </a:xfrm>
          <a:prstGeom prst="wedgeRoundRectCallout">
            <a:avLst>
              <a:gd name="adj1" fmla="val -10074"/>
              <a:gd name="adj2" fmla="val 12190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1. Sistem sila sa zajedničkom napadnom tač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32828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71080" y="3704400"/>
            <a:ext cx="3057840" cy="812520"/>
            <a:chOff x="271080" y="3704400"/>
            <a:chExt cx="3057840" cy="812520"/>
          </a:xfrm>
        </p:grpSpPr>
        <p:sp>
          <p:nvSpPr>
            <p:cNvPr id="517" name=""/>
            <p:cNvSpPr/>
            <p:nvPr/>
          </p:nvSpPr>
          <p:spPr>
            <a:xfrm>
              <a:off x="271080" y="370440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1011960" y="3901320"/>
              <a:ext cx="1476360" cy="434880"/>
              <a:chOff x="1011960" y="3901320"/>
              <a:chExt cx="1476360" cy="434880"/>
            </a:xfrm>
          </p:grpSpPr>
          <p:sp>
            <p:nvSpPr>
              <p:cNvPr id="519" name=""/>
              <p:cNvSpPr/>
              <p:nvPr/>
            </p:nvSpPr>
            <p:spPr>
              <a:xfrm flipH="1" flipV="1">
                <a:off x="1011960" y="3901320"/>
                <a:ext cx="1380240" cy="3697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9244200">
                <a:off x="2406600" y="42548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"/>
          <p:cNvGrpSpPr/>
          <p:nvPr/>
        </p:nvGrpSpPr>
        <p:grpSpPr>
          <a:xfrm>
            <a:off x="1046160" y="3211560"/>
            <a:ext cx="548640" cy="675720"/>
            <a:chOff x="1046160" y="3211560"/>
            <a:chExt cx="548640" cy="675720"/>
          </a:xfrm>
        </p:grpSpPr>
        <p:grpSp>
          <p:nvGrpSpPr>
            <p:cNvPr id="522" name=""/>
            <p:cNvGrpSpPr/>
            <p:nvPr/>
          </p:nvGrpSpPr>
          <p:grpSpPr>
            <a:xfrm>
              <a:off x="1046160" y="3211560"/>
              <a:ext cx="452160" cy="581400"/>
              <a:chOff x="1046160" y="3211560"/>
              <a:chExt cx="452160" cy="581400"/>
            </a:xfrm>
          </p:grpSpPr>
          <p:sp>
            <p:nvSpPr>
              <p:cNvPr id="523" name=""/>
              <p:cNvSpPr/>
              <p:nvPr/>
            </p:nvSpPr>
            <p:spPr>
              <a:xfrm>
                <a:off x="1046160" y="321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260360" y="328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1261800" y="3427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2413080" y="2635200"/>
            <a:ext cx="549000" cy="675720"/>
            <a:chOff x="2413080" y="2635200"/>
            <a:chExt cx="549000" cy="675720"/>
          </a:xfrm>
        </p:grpSpPr>
        <p:grpSp>
          <p:nvGrpSpPr>
            <p:cNvPr id="527" name=""/>
            <p:cNvGrpSpPr/>
            <p:nvPr/>
          </p:nvGrpSpPr>
          <p:grpSpPr>
            <a:xfrm>
              <a:off x="2413080" y="2635200"/>
              <a:ext cx="452160" cy="581400"/>
              <a:chOff x="2413080" y="2635200"/>
              <a:chExt cx="452160" cy="581400"/>
            </a:xfrm>
          </p:grpSpPr>
          <p:sp>
            <p:nvSpPr>
              <p:cNvPr id="528" name=""/>
              <p:cNvSpPr/>
              <p:nvPr/>
            </p:nvSpPr>
            <p:spPr>
              <a:xfrm>
                <a:off x="2413080" y="2635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627280" y="2706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2629080" y="285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141800" y="2995560"/>
            <a:ext cx="548640" cy="675720"/>
            <a:chOff x="4141800" y="2995560"/>
            <a:chExt cx="548640" cy="675720"/>
          </a:xfrm>
        </p:grpSpPr>
        <p:grpSp>
          <p:nvGrpSpPr>
            <p:cNvPr id="532" name=""/>
            <p:cNvGrpSpPr/>
            <p:nvPr/>
          </p:nvGrpSpPr>
          <p:grpSpPr>
            <a:xfrm>
              <a:off x="4141800" y="2995560"/>
              <a:ext cx="452160" cy="581400"/>
              <a:chOff x="4141800" y="2995560"/>
              <a:chExt cx="452160" cy="581400"/>
            </a:xfrm>
          </p:grpSpPr>
          <p:sp>
            <p:nvSpPr>
              <p:cNvPr id="533" name=""/>
              <p:cNvSpPr/>
              <p:nvPr/>
            </p:nvSpPr>
            <p:spPr>
              <a:xfrm>
                <a:off x="4141800" y="2995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356000" y="3066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4357440" y="321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2160360" y="43639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3384720" y="5587920"/>
            <a:ext cx="549000" cy="675720"/>
            <a:chOff x="3384720" y="5587920"/>
            <a:chExt cx="549000" cy="675720"/>
          </a:xfrm>
        </p:grpSpPr>
        <p:grpSp>
          <p:nvGrpSpPr>
            <p:cNvPr id="538" name=""/>
            <p:cNvGrpSpPr/>
            <p:nvPr/>
          </p:nvGrpSpPr>
          <p:grpSpPr>
            <a:xfrm>
              <a:off x="3384720" y="5587920"/>
              <a:ext cx="452160" cy="581400"/>
              <a:chOff x="3384720" y="5587920"/>
              <a:chExt cx="452160" cy="581400"/>
            </a:xfrm>
          </p:grpSpPr>
          <p:sp>
            <p:nvSpPr>
              <p:cNvPr id="539" name=""/>
              <p:cNvSpPr/>
              <p:nvPr/>
            </p:nvSpPr>
            <p:spPr>
              <a:xfrm>
                <a:off x="3384720" y="558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598920" y="5658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3600720" y="580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017440" y="1892160"/>
            <a:ext cx="1006920" cy="2999520"/>
            <a:chOff x="2017440" y="1892160"/>
            <a:chExt cx="1006920" cy="2999520"/>
          </a:xfrm>
        </p:grpSpPr>
        <p:sp>
          <p:nvSpPr>
            <p:cNvPr id="543" name=""/>
            <p:cNvSpPr/>
            <p:nvPr/>
          </p:nvSpPr>
          <p:spPr>
            <a:xfrm>
              <a:off x="2017440" y="189216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2261160" y="2618640"/>
              <a:ext cx="511560" cy="1454760"/>
              <a:chOff x="2261160" y="2618640"/>
              <a:chExt cx="511560" cy="1454760"/>
            </a:xfrm>
          </p:grpSpPr>
          <p:sp>
            <p:nvSpPr>
              <p:cNvPr id="545" name=""/>
              <p:cNvSpPr/>
              <p:nvPr/>
            </p:nvSpPr>
            <p:spPr>
              <a:xfrm flipH="1" flipV="1">
                <a:off x="2261160" y="261864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2637800">
                <a:off x="2689920" y="39909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7" name=""/>
          <p:cNvGrpSpPr/>
          <p:nvPr/>
        </p:nvGrpSpPr>
        <p:grpSpPr>
          <a:xfrm>
            <a:off x="2490840" y="2480040"/>
            <a:ext cx="2217960" cy="2256840"/>
            <a:chOff x="2490840" y="2480040"/>
            <a:chExt cx="2217960" cy="2256840"/>
          </a:xfrm>
        </p:grpSpPr>
        <p:sp>
          <p:nvSpPr>
            <p:cNvPr id="548" name=""/>
            <p:cNvSpPr/>
            <p:nvPr/>
          </p:nvSpPr>
          <p:spPr>
            <a:xfrm flipH="1">
              <a:off x="2490840" y="248004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3090240" y="3026880"/>
              <a:ext cx="1081080" cy="1087920"/>
              <a:chOff x="3090240" y="3026880"/>
              <a:chExt cx="1081080" cy="108792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3167640" y="302688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6421400">
                <a:off x="3092040" y="40428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2" name=""/>
          <p:cNvGrpSpPr/>
          <p:nvPr/>
        </p:nvGrpSpPr>
        <p:grpSpPr>
          <a:xfrm>
            <a:off x="2663640" y="4147920"/>
            <a:ext cx="2089080" cy="2376360"/>
            <a:chOff x="2663640" y="4147920"/>
            <a:chExt cx="2089080" cy="2376360"/>
          </a:xfrm>
        </p:grpSpPr>
        <p:sp>
          <p:nvSpPr>
            <p:cNvPr id="553" name=""/>
            <p:cNvSpPr/>
            <p:nvPr/>
          </p:nvSpPr>
          <p:spPr>
            <a:xfrm flipH="1" flipV="1">
              <a:off x="2663640" y="414792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3235320" y="4791240"/>
              <a:ext cx="1011240" cy="1157400"/>
              <a:chOff x="3235320" y="4791240"/>
              <a:chExt cx="1011240" cy="1157400"/>
            </a:xfrm>
          </p:grpSpPr>
          <p:sp>
            <p:nvSpPr>
              <p:cNvPr id="555" name=""/>
              <p:cNvSpPr/>
              <p:nvPr/>
            </p:nvSpPr>
            <p:spPr>
              <a:xfrm>
                <a:off x="3305160" y="487332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472200">
                <a:off x="3239280" y="47955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7" name=""/>
          <p:cNvSpPr/>
          <p:nvPr/>
        </p:nvSpPr>
        <p:spPr>
          <a:xfrm>
            <a:off x="5937840" y="180972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899480" y="3763800"/>
            <a:ext cx="142920" cy="17272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6424920" y="5099400"/>
            <a:ext cx="1476360" cy="435600"/>
            <a:chOff x="6424920" y="5099400"/>
            <a:chExt cx="1476360" cy="435600"/>
          </a:xfrm>
        </p:grpSpPr>
        <p:sp>
          <p:nvSpPr>
            <p:cNvPr id="560" name=""/>
            <p:cNvSpPr/>
            <p:nvPr/>
          </p:nvSpPr>
          <p:spPr>
            <a:xfrm flipH="1" flipV="1">
              <a:off x="6424920" y="5099400"/>
              <a:ext cx="1380240" cy="3704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9244800">
              <a:off x="7819560" y="54532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388200" y="5203800"/>
            <a:ext cx="549000" cy="675720"/>
            <a:chOff x="6388200" y="5203800"/>
            <a:chExt cx="549000" cy="675720"/>
          </a:xfrm>
        </p:grpSpPr>
        <p:grpSp>
          <p:nvGrpSpPr>
            <p:cNvPr id="563" name=""/>
            <p:cNvGrpSpPr/>
            <p:nvPr/>
          </p:nvGrpSpPr>
          <p:grpSpPr>
            <a:xfrm>
              <a:off x="6388200" y="5203800"/>
              <a:ext cx="452160" cy="581400"/>
              <a:chOff x="6388200" y="5203800"/>
              <a:chExt cx="452160" cy="581400"/>
            </a:xfrm>
          </p:grpSpPr>
          <p:sp>
            <p:nvSpPr>
              <p:cNvPr id="564" name=""/>
              <p:cNvSpPr/>
              <p:nvPr/>
            </p:nvSpPr>
            <p:spPr>
              <a:xfrm>
                <a:off x="6388200" y="5203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602400" y="52747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6604200" y="5419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5667480" y="4195800"/>
            <a:ext cx="549000" cy="675720"/>
            <a:chOff x="5667480" y="4195800"/>
            <a:chExt cx="549000" cy="675720"/>
          </a:xfrm>
        </p:grpSpPr>
        <p:grpSp>
          <p:nvGrpSpPr>
            <p:cNvPr id="568" name=""/>
            <p:cNvGrpSpPr/>
            <p:nvPr/>
          </p:nvGrpSpPr>
          <p:grpSpPr>
            <a:xfrm>
              <a:off x="5667480" y="4195800"/>
              <a:ext cx="452160" cy="581400"/>
              <a:chOff x="5667480" y="4195800"/>
              <a:chExt cx="452160" cy="581400"/>
            </a:xfrm>
          </p:grpSpPr>
          <p:sp>
            <p:nvSpPr>
              <p:cNvPr id="569" name=""/>
              <p:cNvSpPr/>
              <p:nvPr/>
            </p:nvSpPr>
            <p:spPr>
              <a:xfrm>
                <a:off x="5667480" y="4195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881680" y="42667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5883480" y="441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956200" y="2540160"/>
            <a:ext cx="548640" cy="675360"/>
            <a:chOff x="5956200" y="2540160"/>
            <a:chExt cx="548640" cy="675360"/>
          </a:xfrm>
        </p:grpSpPr>
        <p:grpSp>
          <p:nvGrpSpPr>
            <p:cNvPr id="573" name=""/>
            <p:cNvGrpSpPr/>
            <p:nvPr/>
          </p:nvGrpSpPr>
          <p:grpSpPr>
            <a:xfrm>
              <a:off x="5956200" y="2540160"/>
              <a:ext cx="452160" cy="581400"/>
              <a:chOff x="5956200" y="2540160"/>
              <a:chExt cx="452160" cy="581400"/>
            </a:xfrm>
          </p:grpSpPr>
          <p:sp>
            <p:nvSpPr>
              <p:cNvPr id="574" name=""/>
              <p:cNvSpPr/>
              <p:nvPr/>
            </p:nvSpPr>
            <p:spPr>
              <a:xfrm>
                <a:off x="5956200" y="2540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170400" y="26110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6171840" y="275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7394760" y="2540160"/>
            <a:ext cx="549000" cy="675360"/>
            <a:chOff x="7394760" y="2540160"/>
            <a:chExt cx="549000" cy="675360"/>
          </a:xfrm>
        </p:grpSpPr>
        <p:grpSp>
          <p:nvGrpSpPr>
            <p:cNvPr id="578" name=""/>
            <p:cNvGrpSpPr/>
            <p:nvPr/>
          </p:nvGrpSpPr>
          <p:grpSpPr>
            <a:xfrm>
              <a:off x="7394760" y="2540160"/>
              <a:ext cx="452160" cy="581400"/>
              <a:chOff x="7394760" y="2540160"/>
              <a:chExt cx="452160" cy="581400"/>
            </a:xfrm>
          </p:grpSpPr>
          <p:sp>
            <p:nvSpPr>
              <p:cNvPr id="579" name=""/>
              <p:cNvSpPr/>
              <p:nvPr/>
            </p:nvSpPr>
            <p:spPr>
              <a:xfrm>
                <a:off x="7394760" y="2540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608960" y="2611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7610760" y="275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018840" y="3672360"/>
            <a:ext cx="511200" cy="1455480"/>
            <a:chOff x="6018840" y="3672360"/>
            <a:chExt cx="511200" cy="1455480"/>
          </a:xfrm>
        </p:grpSpPr>
        <p:sp>
          <p:nvSpPr>
            <p:cNvPr id="583" name=""/>
            <p:cNvSpPr/>
            <p:nvPr/>
          </p:nvSpPr>
          <p:spPr>
            <a:xfrm flipH="1" flipV="1">
              <a:off x="6018840" y="3672360"/>
              <a:ext cx="451440" cy="1356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2638400">
              <a:off x="6446880" y="50450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5986800" y="2641680"/>
            <a:ext cx="1081800" cy="1087920"/>
            <a:chOff x="5986800" y="2641680"/>
            <a:chExt cx="1081800" cy="1087920"/>
          </a:xfrm>
        </p:grpSpPr>
        <p:sp>
          <p:nvSpPr>
            <p:cNvPr id="586" name=""/>
            <p:cNvSpPr/>
            <p:nvPr/>
          </p:nvSpPr>
          <p:spPr>
            <a:xfrm flipV="1">
              <a:off x="6064200" y="2641680"/>
              <a:ext cx="100440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6422000">
              <a:off x="5988960" y="36572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7971120" y="4484520"/>
            <a:ext cx="616680" cy="675720"/>
            <a:chOff x="7971120" y="4484520"/>
            <a:chExt cx="616680" cy="675720"/>
          </a:xfrm>
        </p:grpSpPr>
        <p:grpSp>
          <p:nvGrpSpPr>
            <p:cNvPr id="589" name=""/>
            <p:cNvGrpSpPr/>
            <p:nvPr/>
          </p:nvGrpSpPr>
          <p:grpSpPr>
            <a:xfrm>
              <a:off x="7971120" y="4484520"/>
              <a:ext cx="452160" cy="581400"/>
              <a:chOff x="7971120" y="4484520"/>
              <a:chExt cx="452160" cy="581400"/>
            </a:xfrm>
          </p:grpSpPr>
          <p:sp>
            <p:nvSpPr>
              <p:cNvPr id="590" name=""/>
              <p:cNvSpPr/>
              <p:nvPr/>
            </p:nvSpPr>
            <p:spPr>
              <a:xfrm>
                <a:off x="7971120" y="4484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185320" y="4555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8187480" y="4700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026120" y="2608560"/>
            <a:ext cx="1011600" cy="1158120"/>
            <a:chOff x="7026120" y="2608560"/>
            <a:chExt cx="1011600" cy="1158120"/>
          </a:xfrm>
        </p:grpSpPr>
        <p:sp>
          <p:nvSpPr>
            <p:cNvPr id="594" name=""/>
            <p:cNvSpPr/>
            <p:nvPr/>
          </p:nvSpPr>
          <p:spPr>
            <a:xfrm>
              <a:off x="7096320" y="269100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472200">
              <a:off x="7030440" y="26128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7 L 0.0394 0.01042 E">
                                      <p:cBhvr>
                                        <p:cTn id="13" dur="1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 L 0.00798 0.0419 E">
                                      <p:cBhvr>
                                        <p:cTn id="16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03704E-006 L -0.03143 0.04189 E">
                                      <p:cBhvr>
                                        <p:cTn id="19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6.2963E-006 L -0.04723 -0.06297 E">
                                      <p:cBhvr>
                                        <p:cTn id="22" dur="1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50920" y="260280"/>
            <a:ext cx="8353440" cy="576360"/>
          </a:xfrm>
          <a:prstGeom prst="wedgeRoundRectCallout">
            <a:avLst>
              <a:gd name="adj1" fmla="val -27972"/>
              <a:gd name="adj2" fmla="val 10840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. Sistem sila sa paralelnim napadnim lin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89440" y="1843200"/>
            <a:ext cx="316836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982880" y="2635200"/>
            <a:ext cx="452160" cy="581400"/>
            <a:chOff x="1982880" y="2635200"/>
            <a:chExt cx="452160" cy="581400"/>
          </a:xfrm>
        </p:grpSpPr>
        <p:sp>
          <p:nvSpPr>
            <p:cNvPr id="599" name=""/>
            <p:cNvSpPr/>
            <p:nvPr/>
          </p:nvSpPr>
          <p:spPr>
            <a:xfrm>
              <a:off x="1982880" y="2635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97080" y="2706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01" name=""/>
          <p:cNvGraphicFramePr/>
          <p:nvPr/>
        </p:nvGraphicFramePr>
        <p:xfrm>
          <a:off x="3133800" y="321156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3800" y="32115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"/>
          <p:cNvSpPr/>
          <p:nvPr/>
        </p:nvSpPr>
        <p:spPr>
          <a:xfrm flipH="1">
            <a:off x="1981080" y="32828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654520" y="32828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217560" y="2563920"/>
            <a:ext cx="587880" cy="581400"/>
            <a:chOff x="6217560" y="2563920"/>
            <a:chExt cx="587880" cy="581400"/>
          </a:xfrm>
        </p:grpSpPr>
        <p:sp>
          <p:nvSpPr>
            <p:cNvPr id="606" name=""/>
            <p:cNvSpPr/>
            <p:nvPr/>
          </p:nvSpPr>
          <p:spPr>
            <a:xfrm>
              <a:off x="6217560" y="256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505200" y="263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1981080" y="328284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878520" y="3282840"/>
            <a:ext cx="0" cy="865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654520" y="4148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1981080" y="47242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989440" y="1773360"/>
            <a:ext cx="1441440" cy="172692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3492360" y="1628640"/>
            <a:ext cx="2232000" cy="1656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3133800" y="3211560"/>
          <a:ext cx="13320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3800" y="32115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5607000" y="3211560"/>
          <a:ext cx="13356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7000" y="32115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8" name=""/>
          <p:cNvGrpSpPr/>
          <p:nvPr/>
        </p:nvGrpSpPr>
        <p:grpSpPr>
          <a:xfrm>
            <a:off x="2656080" y="3976560"/>
            <a:ext cx="549000" cy="675720"/>
            <a:chOff x="2656080" y="3976560"/>
            <a:chExt cx="549000" cy="675720"/>
          </a:xfrm>
        </p:grpSpPr>
        <p:grpSp>
          <p:nvGrpSpPr>
            <p:cNvPr id="619" name=""/>
            <p:cNvGrpSpPr/>
            <p:nvPr/>
          </p:nvGrpSpPr>
          <p:grpSpPr>
            <a:xfrm>
              <a:off x="2656080" y="3976560"/>
              <a:ext cx="452160" cy="581400"/>
              <a:chOff x="2656080" y="3976560"/>
              <a:chExt cx="452160" cy="581400"/>
            </a:xfrm>
          </p:grpSpPr>
          <p:sp>
            <p:nvSpPr>
              <p:cNvPr id="620" name=""/>
              <p:cNvSpPr/>
              <p:nvPr/>
            </p:nvSpPr>
            <p:spPr>
              <a:xfrm>
                <a:off x="2656080" y="3976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870280" y="4047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2872080" y="4192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5151600" y="3570120"/>
            <a:ext cx="549000" cy="675720"/>
            <a:chOff x="5151600" y="3570120"/>
            <a:chExt cx="549000" cy="675720"/>
          </a:xfrm>
        </p:grpSpPr>
        <p:grpSp>
          <p:nvGrpSpPr>
            <p:cNvPr id="624" name=""/>
            <p:cNvGrpSpPr/>
            <p:nvPr/>
          </p:nvGrpSpPr>
          <p:grpSpPr>
            <a:xfrm>
              <a:off x="5151600" y="3570120"/>
              <a:ext cx="452160" cy="581400"/>
              <a:chOff x="5151600" y="3570120"/>
              <a:chExt cx="452160" cy="581400"/>
            </a:xfrm>
          </p:grpSpPr>
          <p:sp>
            <p:nvSpPr>
              <p:cNvPr id="625" name=""/>
              <p:cNvSpPr/>
              <p:nvPr/>
            </p:nvSpPr>
            <p:spPr>
              <a:xfrm>
                <a:off x="5151600" y="3570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365800" y="3641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367600" y="3786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205080" y="328464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678640" y="328464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84652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367240" y="2562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3205080" y="32824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2989080" y="3571560"/>
            <a:ext cx="115092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4068720" y="2997360"/>
            <a:ext cx="1152720" cy="14382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724360" y="3284640"/>
            <a:ext cx="115272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1995480" y="328464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141800" y="2708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286520" y="4700520"/>
            <a:ext cx="616680" cy="675720"/>
            <a:chOff x="4286520" y="4700520"/>
            <a:chExt cx="616680" cy="675720"/>
          </a:xfrm>
        </p:grpSpPr>
        <p:grpSp>
          <p:nvGrpSpPr>
            <p:cNvPr id="639" name=""/>
            <p:cNvGrpSpPr/>
            <p:nvPr/>
          </p:nvGrpSpPr>
          <p:grpSpPr>
            <a:xfrm>
              <a:off x="4286520" y="4700520"/>
              <a:ext cx="452160" cy="581400"/>
              <a:chOff x="4286520" y="4700520"/>
              <a:chExt cx="452160" cy="581400"/>
            </a:xfrm>
          </p:grpSpPr>
          <p:sp>
            <p:nvSpPr>
              <p:cNvPr id="640" name=""/>
              <p:cNvSpPr/>
              <p:nvPr/>
            </p:nvSpPr>
            <p:spPr>
              <a:xfrm>
                <a:off x="4286520" y="4700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500720" y="4771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4502880" y="4916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"/>
          <p:cNvSpPr/>
          <p:nvPr/>
        </p:nvSpPr>
        <p:spPr>
          <a:xfrm flipV="1">
            <a:off x="4140360" y="1412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140360" y="2131920"/>
            <a:ext cx="0" cy="2305080"/>
          </a:xfrm>
          <a:prstGeom prst="line">
            <a:avLst/>
          </a:prstGeom>
          <a:ln w="76320">
            <a:solidFill>
              <a:srgbClr val="3399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4068720" y="321300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8720" y="321300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7" name=""/>
          <p:cNvGrpSpPr/>
          <p:nvPr/>
        </p:nvGrpSpPr>
        <p:grpSpPr>
          <a:xfrm>
            <a:off x="6590880" y="4221000"/>
            <a:ext cx="587880" cy="675720"/>
            <a:chOff x="6590880" y="4221000"/>
            <a:chExt cx="587880" cy="675720"/>
          </a:xfrm>
        </p:grpSpPr>
        <p:grpSp>
          <p:nvGrpSpPr>
            <p:cNvPr id="648" name=""/>
            <p:cNvGrpSpPr/>
            <p:nvPr/>
          </p:nvGrpSpPr>
          <p:grpSpPr>
            <a:xfrm>
              <a:off x="6590880" y="4221000"/>
              <a:ext cx="587880" cy="581400"/>
              <a:chOff x="6590880" y="4221000"/>
              <a:chExt cx="587880" cy="581400"/>
            </a:xfrm>
          </p:grpSpPr>
          <p:sp>
            <p:nvSpPr>
              <p:cNvPr id="649" name=""/>
              <p:cNvSpPr/>
              <p:nvPr/>
            </p:nvSpPr>
            <p:spPr>
              <a:xfrm>
                <a:off x="6590880" y="4221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805440" y="4291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680760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1333080" y="4365720"/>
            <a:ext cx="587880" cy="675360"/>
            <a:chOff x="1333080" y="4365720"/>
            <a:chExt cx="587880" cy="675360"/>
          </a:xfrm>
        </p:grpSpPr>
        <p:grpSp>
          <p:nvGrpSpPr>
            <p:cNvPr id="653" name=""/>
            <p:cNvGrpSpPr/>
            <p:nvPr/>
          </p:nvGrpSpPr>
          <p:grpSpPr>
            <a:xfrm>
              <a:off x="1333080" y="4365720"/>
              <a:ext cx="587880" cy="581400"/>
              <a:chOff x="1333080" y="4365720"/>
              <a:chExt cx="587880" cy="581400"/>
            </a:xfrm>
          </p:grpSpPr>
          <p:sp>
            <p:nvSpPr>
              <p:cNvPr id="654" name=""/>
              <p:cNvSpPr/>
              <p:nvPr/>
            </p:nvSpPr>
            <p:spPr>
              <a:xfrm>
                <a:off x="1333080" y="4365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547640" y="4436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154980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09827E-006 L 0.10226 -0.16786 E">
                                      <p:cBhvr>
                                        <p:cTn id="68" dur="2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65896E-006 L 0.18107 -0.32531 E">
                                      <p:cBhvr>
                                        <p:cTn id="70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7341E-007 L -0.17326 -0.16786 E">
                                      <p:cBhvr>
                                        <p:cTn id="72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71676E-006 L -0.21267 -0.35653 E">
                                      <p:cBhvr>
                                        <p:cTn id="74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2.77457E-006 L 3.33333E-006 0.16786 E">
                                      <p:cBhvr>
                                        <p:cTn id="87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5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403280" y="260280"/>
            <a:ext cx="4537080" cy="576360"/>
          </a:xfrm>
          <a:prstGeom prst="wedgeRoundRectCallout">
            <a:avLst>
              <a:gd name="adj1" fmla="val -21763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3. Kulmanova met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6659280" y="184464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132000" y="1630080"/>
            <a:ext cx="0" cy="288108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3135240" y="2741400"/>
            <a:ext cx="10800" cy="16405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2123640" y="170172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467640" y="1630440"/>
            <a:ext cx="1368360" cy="403200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43640" y="537444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900360" y="22068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637440" y="22795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88000" y="541656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3133800" y="3430440"/>
            <a:ext cx="452160" cy="581400"/>
            <a:chOff x="3133800" y="3430440"/>
            <a:chExt cx="452160" cy="581400"/>
          </a:xfrm>
        </p:grpSpPr>
        <p:sp>
          <p:nvSpPr>
            <p:cNvPr id="668" name=""/>
            <p:cNvSpPr/>
            <p:nvPr/>
          </p:nvSpPr>
          <p:spPr>
            <a:xfrm>
              <a:off x="3133800" y="3430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48000" y="3501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7667640" y="1773000"/>
            <a:ext cx="13680" cy="3746520"/>
            <a:chOff x="7667640" y="1773000"/>
            <a:chExt cx="13680" cy="3746520"/>
          </a:xfrm>
        </p:grpSpPr>
        <p:sp>
          <p:nvSpPr>
            <p:cNvPr id="671" name=""/>
            <p:cNvSpPr/>
            <p:nvPr/>
          </p:nvSpPr>
          <p:spPr>
            <a:xfrm flipH="1" flipV="1">
              <a:off x="7667640" y="1773000"/>
              <a:ext cx="1440" cy="3746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670160" y="2884680"/>
              <a:ext cx="11160" cy="16408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"/>
          <p:cNvSpPr/>
          <p:nvPr/>
        </p:nvSpPr>
        <p:spPr>
          <a:xfrm flipV="1">
            <a:off x="5003640" y="1773360"/>
            <a:ext cx="1368720" cy="403200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79280" y="551916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4930920" y="1557360"/>
            <a:ext cx="3457440" cy="4176720"/>
          </a:xfrm>
          <a:prstGeom prst="line">
            <a:avLst/>
          </a:prstGeom>
          <a:ln w="38160">
            <a:solidFill>
              <a:srgbClr val="cc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293080" y="26384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8172720" y="24224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733080" y="52308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173440" y="15573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7669440" y="3573360"/>
            <a:ext cx="452160" cy="581400"/>
            <a:chOff x="7669440" y="3573360"/>
            <a:chExt cx="452160" cy="581400"/>
          </a:xfrm>
        </p:grpSpPr>
        <p:sp>
          <p:nvSpPr>
            <p:cNvPr id="681" name=""/>
            <p:cNvSpPr/>
            <p:nvPr/>
          </p:nvSpPr>
          <p:spPr>
            <a:xfrm>
              <a:off x="7669440" y="357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83640" y="3644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6732720" y="1846440"/>
            <a:ext cx="0" cy="16570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6661080" y="3501720"/>
            <a:ext cx="1008000" cy="6490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6699240" y="1846080"/>
            <a:ext cx="1000080" cy="646560"/>
          </a:xfrm>
          <a:prstGeom prst="line">
            <a:avLst/>
          </a:prstGeom>
          <a:ln w="442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6705000" y="2412720"/>
            <a:ext cx="979200" cy="1145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5054040" y="4357800"/>
            <a:ext cx="1042560" cy="1237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5508720" y="4295880"/>
            <a:ext cx="574560" cy="71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5653080" y="4367160"/>
            <a:ext cx="4316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5061960" y="4269600"/>
            <a:ext cx="480600" cy="12942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081040" y="5550120"/>
            <a:ext cx="569520" cy="7524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4581720" y="4654440"/>
            <a:ext cx="569520" cy="648720"/>
            <a:chOff x="4581720" y="4654440"/>
            <a:chExt cx="569520" cy="648720"/>
          </a:xfrm>
        </p:grpSpPr>
        <p:sp>
          <p:nvSpPr>
            <p:cNvPr id="693" name=""/>
            <p:cNvSpPr/>
            <p:nvPr/>
          </p:nvSpPr>
          <p:spPr>
            <a:xfrm>
              <a:off x="4581720" y="465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88000" y="47257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6886800" y="1558800"/>
            <a:ext cx="569520" cy="648720"/>
            <a:chOff x="6886800" y="1558800"/>
            <a:chExt cx="569520" cy="648720"/>
          </a:xfrm>
        </p:grpSpPr>
        <p:sp>
          <p:nvSpPr>
            <p:cNvPr id="696" name=""/>
            <p:cNvSpPr/>
            <p:nvPr/>
          </p:nvSpPr>
          <p:spPr>
            <a:xfrm>
              <a:off x="6886800" y="15588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093080" y="1630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5662800" y="5230800"/>
            <a:ext cx="569520" cy="648720"/>
            <a:chOff x="5662800" y="5230800"/>
            <a:chExt cx="569520" cy="648720"/>
          </a:xfrm>
        </p:grpSpPr>
        <p:sp>
          <p:nvSpPr>
            <p:cNvPr id="699" name=""/>
            <p:cNvSpPr/>
            <p:nvPr/>
          </p:nvSpPr>
          <p:spPr>
            <a:xfrm>
              <a:off x="5662800" y="52308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869080" y="5302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6733800" y="2495520"/>
            <a:ext cx="587880" cy="581400"/>
            <a:chOff x="6733800" y="2495520"/>
            <a:chExt cx="587880" cy="581400"/>
          </a:xfrm>
        </p:grpSpPr>
        <p:sp>
          <p:nvSpPr>
            <p:cNvPr id="702" name=""/>
            <p:cNvSpPr/>
            <p:nvPr/>
          </p:nvSpPr>
          <p:spPr>
            <a:xfrm>
              <a:off x="6733800" y="24955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948360" y="256680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6012720" y="4295880"/>
            <a:ext cx="825480" cy="581400"/>
            <a:chOff x="6012720" y="4295880"/>
            <a:chExt cx="825480" cy="581400"/>
          </a:xfrm>
        </p:grpSpPr>
        <p:sp>
          <p:nvSpPr>
            <p:cNvPr id="705" name=""/>
            <p:cNvSpPr/>
            <p:nvPr/>
          </p:nvSpPr>
          <p:spPr>
            <a:xfrm>
              <a:off x="6012720" y="4295880"/>
              <a:ext cx="82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443640" y="436716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325800" y="4651200"/>
            <a:ext cx="3670560" cy="648720"/>
            <a:chOff x="325800" y="4651200"/>
            <a:chExt cx="3670560" cy="648720"/>
          </a:xfrm>
        </p:grpSpPr>
        <p:grpSp>
          <p:nvGrpSpPr>
            <p:cNvPr id="708" name=""/>
            <p:cNvGrpSpPr/>
            <p:nvPr/>
          </p:nvGrpSpPr>
          <p:grpSpPr>
            <a:xfrm>
              <a:off x="1054440" y="4651200"/>
              <a:ext cx="2941920" cy="648720"/>
              <a:chOff x="1054440" y="4651200"/>
              <a:chExt cx="2941920" cy="64872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1054440" y="4651200"/>
                <a:ext cx="569520" cy="648720"/>
                <a:chOff x="1054440" y="4651200"/>
                <a:chExt cx="569520" cy="6487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105444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26072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1918080" y="4651200"/>
                <a:ext cx="569520" cy="648720"/>
                <a:chOff x="1918080" y="4651200"/>
                <a:chExt cx="569520" cy="6487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191808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12436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2783520" y="4651200"/>
                <a:ext cx="569520" cy="648720"/>
                <a:chOff x="2783520" y="4651200"/>
                <a:chExt cx="569520" cy="6487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278352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98980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8" name=""/>
              <p:cNvSpPr/>
              <p:nvPr/>
            </p:nvSpPr>
            <p:spPr>
              <a:xfrm>
                <a:off x="1551600" y="46512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415240" y="46512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277800" y="4651200"/>
                <a:ext cx="718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= 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325800" y="4651200"/>
              <a:ext cx="452160" cy="581400"/>
              <a:chOff x="325800" y="4651200"/>
              <a:chExt cx="452160" cy="581400"/>
            </a:xfrm>
          </p:grpSpPr>
          <p:sp>
            <p:nvSpPr>
              <p:cNvPr id="722" name=""/>
              <p:cNvSpPr/>
              <p:nvPr/>
            </p:nvSpPr>
            <p:spPr>
              <a:xfrm>
                <a:off x="32580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40000" y="4722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"/>
            <p:cNvSpPr/>
            <p:nvPr/>
          </p:nvSpPr>
          <p:spPr>
            <a:xfrm>
              <a:off x="686160" y="46512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-4.27746E-006 L 4.44444E-006 -0.05225 E">
                                      <p:cBhvr>
                                        <p:cTn id="191" dur="20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755640" y="3284640"/>
            <a:ext cx="2736720" cy="1081080"/>
          </a:xfrm>
          <a:prstGeom prst="wedgeRoundRectCallout">
            <a:avLst>
              <a:gd name="adj1" fmla="val 77203"/>
              <a:gd name="adj2" fmla="val 9620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9280" y="189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79280" y="1268280"/>
                <a:ext cx="87552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284720" y="3213000"/>
                <a:ext cx="42735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826920" y="270828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dukcijom sistema sila na tačku 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dobija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lavni vek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istema si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-36360" y="4581360"/>
            <a:ext cx="9300960" cy="2277720"/>
            <a:chOff x="-36360" y="4581360"/>
            <a:chExt cx="9300960" cy="2277720"/>
          </a:xfrm>
        </p:grpSpPr>
        <p:sp>
          <p:nvSpPr>
            <p:cNvPr id="263" name=""/>
            <p:cNvSpPr/>
            <p:nvPr/>
          </p:nvSpPr>
          <p:spPr>
            <a:xfrm>
              <a:off x="0" y="4797360"/>
              <a:ext cx="1042920" cy="1008000"/>
            </a:xfrm>
            <a:prstGeom prst="wedgeRoundRectCallout">
              <a:avLst>
                <a:gd name="adj1" fmla="val 9055"/>
                <a:gd name="adj2" fmla="val 70000"/>
                <a:gd name="adj3" fmla="val 16667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-36360" y="4581360"/>
              <a:ext cx="9300960" cy="2039760"/>
              <a:chOff x="-36360" y="4581360"/>
              <a:chExt cx="9300960" cy="2039760"/>
            </a:xfrm>
          </p:grpSpPr>
          <mc:AlternateContent>
            <mc:Choice xmlns:a14="http://schemas.microsoft.com/office/drawing/2010/main" Requires="a14">
              <p:sp>
                <p:nvSpPr>
                  <p:cNvPr id="265" name=""/>
                  <p:cNvSpPr txBox="1"/>
                  <p:nvPr/>
                </p:nvSpPr>
                <p:spPr>
                  <a:xfrm>
                    <a:off x="-36360" y="4581360"/>
                    <a:ext cx="9300960" cy="15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66" name=""/>
              <p:cNvGrpSpPr/>
              <p:nvPr/>
            </p:nvGrpSpPr>
            <p:grpSpPr>
              <a:xfrm>
                <a:off x="4464000" y="5949720"/>
                <a:ext cx="1726560" cy="671400"/>
                <a:chOff x="4464000" y="5949720"/>
                <a:chExt cx="1726560" cy="67140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464000" y="5949720"/>
                  <a:ext cx="1726560" cy="647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68" name=""/>
                    <p:cNvSpPr txBox="1"/>
                    <p:nvPr/>
                  </p:nvSpPr>
                  <p:spPr>
                    <a:xfrm>
                      <a:off x="4606200" y="5949720"/>
                      <a:ext cx="1423800" cy="671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69" name=""/>
              <p:cNvSpPr/>
              <p:nvPr/>
            </p:nvSpPr>
            <p:spPr>
              <a:xfrm rot="16200000">
                <a:off x="4714560" y="5265360"/>
                <a:ext cx="360360" cy="1007640"/>
              </a:xfrm>
              <a:custGeom>
                <a:avLst/>
                <a:gdLst>
                  <a:gd name="textAreaLeft" fmla="*/ 230400 w 360360"/>
                  <a:gd name="textAreaRight" fmla="*/ 360720 w 360360"/>
                  <a:gd name="textAreaTop" fmla="*/ 26280 h 1007640"/>
                  <a:gd name="textAreaBottom" fmla="*/ 981360 h 10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34920" y="5911920"/>
              <a:ext cx="3637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ff00"/>
                  </a:solidFill>
                  <a:latin typeface="Times New Roman"/>
                </a:rPr>
                <a:t>Glavni vektor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ff00"/>
                  </a:solidFill>
                  <a:latin typeface="Times New Roman"/>
                </a:rPr>
                <a:t>momenata sistema si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79280" y="1125360"/>
            <a:ext cx="88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Tri sile u ravni su u ravnot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ži ako se linije dejstva sila seku i istoj tački i ako je poligon (trougao) sila zatv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1068480" y="3284640"/>
            <a:ext cx="230328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2868480" y="3141360"/>
            <a:ext cx="7164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2363400" y="3141720"/>
            <a:ext cx="278460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677960" y="3846960"/>
            <a:ext cx="1081440" cy="1045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2858400" y="4127760"/>
            <a:ext cx="36000" cy="20764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858400" y="4154760"/>
            <a:ext cx="36000" cy="2076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3391920" y="4146120"/>
            <a:ext cx="996840" cy="9968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573200" y="3718080"/>
            <a:ext cx="548640" cy="675360"/>
            <a:chOff x="1573200" y="3718080"/>
            <a:chExt cx="548640" cy="675360"/>
          </a:xfrm>
        </p:grpSpPr>
        <p:grpSp>
          <p:nvGrpSpPr>
            <p:cNvPr id="734" name=""/>
            <p:cNvGrpSpPr/>
            <p:nvPr/>
          </p:nvGrpSpPr>
          <p:grpSpPr>
            <a:xfrm>
              <a:off x="1573200" y="3718080"/>
              <a:ext cx="452160" cy="581400"/>
              <a:chOff x="1573200" y="3718080"/>
              <a:chExt cx="452160" cy="581400"/>
            </a:xfrm>
          </p:grpSpPr>
          <p:sp>
            <p:nvSpPr>
              <p:cNvPr id="735" name=""/>
              <p:cNvSpPr/>
              <p:nvPr/>
            </p:nvSpPr>
            <p:spPr>
              <a:xfrm>
                <a:off x="1573200" y="371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787400" y="37890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1788840" y="393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2870280" y="5375160"/>
            <a:ext cx="549000" cy="675720"/>
            <a:chOff x="2870280" y="5375160"/>
            <a:chExt cx="549000" cy="675720"/>
          </a:xfrm>
        </p:grpSpPr>
        <p:grpSp>
          <p:nvGrpSpPr>
            <p:cNvPr id="739" name=""/>
            <p:cNvGrpSpPr/>
            <p:nvPr/>
          </p:nvGrpSpPr>
          <p:grpSpPr>
            <a:xfrm>
              <a:off x="2870280" y="5375160"/>
              <a:ext cx="452160" cy="581400"/>
              <a:chOff x="2870280" y="5375160"/>
              <a:chExt cx="452160" cy="581400"/>
            </a:xfrm>
          </p:grpSpPr>
          <p:sp>
            <p:nvSpPr>
              <p:cNvPr id="740" name=""/>
              <p:cNvSpPr/>
              <p:nvPr/>
            </p:nvSpPr>
            <p:spPr>
              <a:xfrm>
                <a:off x="2870280" y="5375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084480" y="5446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3086280" y="5591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3878280" y="4006800"/>
            <a:ext cx="548640" cy="675720"/>
            <a:chOff x="3878280" y="4006800"/>
            <a:chExt cx="548640" cy="675720"/>
          </a:xfrm>
        </p:grpSpPr>
        <p:grpSp>
          <p:nvGrpSpPr>
            <p:cNvPr id="744" name=""/>
            <p:cNvGrpSpPr/>
            <p:nvPr/>
          </p:nvGrpSpPr>
          <p:grpSpPr>
            <a:xfrm>
              <a:off x="3878280" y="4006800"/>
              <a:ext cx="452160" cy="581400"/>
              <a:chOff x="3878280" y="4006800"/>
              <a:chExt cx="452160" cy="581400"/>
            </a:xfrm>
          </p:grpSpPr>
          <p:sp>
            <p:nvSpPr>
              <p:cNvPr id="745" name=""/>
              <p:cNvSpPr/>
              <p:nvPr/>
            </p:nvSpPr>
            <p:spPr>
              <a:xfrm>
                <a:off x="3878280" y="4006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092480" y="4077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4093920" y="4222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6253200" y="3141720"/>
            <a:ext cx="549000" cy="675720"/>
            <a:chOff x="6253200" y="3141720"/>
            <a:chExt cx="549000" cy="675720"/>
          </a:xfrm>
        </p:grpSpPr>
        <p:grpSp>
          <p:nvGrpSpPr>
            <p:cNvPr id="749" name=""/>
            <p:cNvGrpSpPr/>
            <p:nvPr/>
          </p:nvGrpSpPr>
          <p:grpSpPr>
            <a:xfrm>
              <a:off x="6253200" y="3141720"/>
              <a:ext cx="452160" cy="581400"/>
              <a:chOff x="6253200" y="3141720"/>
              <a:chExt cx="452160" cy="581400"/>
            </a:xfrm>
          </p:grpSpPr>
          <p:sp>
            <p:nvSpPr>
              <p:cNvPr id="750" name=""/>
              <p:cNvSpPr/>
              <p:nvPr/>
            </p:nvSpPr>
            <p:spPr>
              <a:xfrm>
                <a:off x="6253200" y="31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467400" y="321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6469200" y="33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7261200" y="4078440"/>
            <a:ext cx="548640" cy="675360"/>
            <a:chOff x="7261200" y="4078440"/>
            <a:chExt cx="548640" cy="675360"/>
          </a:xfrm>
        </p:grpSpPr>
        <p:grpSp>
          <p:nvGrpSpPr>
            <p:cNvPr id="754" name=""/>
            <p:cNvGrpSpPr/>
            <p:nvPr/>
          </p:nvGrpSpPr>
          <p:grpSpPr>
            <a:xfrm>
              <a:off x="7261200" y="4078440"/>
              <a:ext cx="452160" cy="581400"/>
              <a:chOff x="7261200" y="4078440"/>
              <a:chExt cx="452160" cy="581400"/>
            </a:xfrm>
          </p:grpSpPr>
          <p:sp>
            <p:nvSpPr>
              <p:cNvPr id="755" name=""/>
              <p:cNvSpPr/>
              <p:nvPr/>
            </p:nvSpPr>
            <p:spPr>
              <a:xfrm>
                <a:off x="7261200" y="4078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475400" y="41493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>
              <a:off x="7476840" y="42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6253200" y="5159520"/>
            <a:ext cx="549000" cy="675360"/>
            <a:chOff x="6253200" y="5159520"/>
            <a:chExt cx="549000" cy="675360"/>
          </a:xfrm>
        </p:grpSpPr>
        <p:grpSp>
          <p:nvGrpSpPr>
            <p:cNvPr id="759" name=""/>
            <p:cNvGrpSpPr/>
            <p:nvPr/>
          </p:nvGrpSpPr>
          <p:grpSpPr>
            <a:xfrm>
              <a:off x="6253200" y="5159520"/>
              <a:ext cx="452160" cy="581400"/>
              <a:chOff x="6253200" y="5159520"/>
              <a:chExt cx="452160" cy="581400"/>
            </a:xfrm>
          </p:grpSpPr>
          <p:sp>
            <p:nvSpPr>
              <p:cNvPr id="760" name=""/>
              <p:cNvSpPr/>
              <p:nvPr/>
            </p:nvSpPr>
            <p:spPr>
              <a:xfrm>
                <a:off x="6253200" y="5159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467400" y="52304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6469200" y="5375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 flipV="1">
            <a:off x="1677960" y="3883320"/>
            <a:ext cx="1081440" cy="104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3391200" y="413784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94640" y="414972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941560" y="40784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613920" y="37180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686640" y="4581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5435640" y="5862600"/>
                <a:ext cx="3564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"/>
          <p:cNvSpPr/>
          <p:nvPr/>
        </p:nvSpPr>
        <p:spPr>
          <a:xfrm>
            <a:off x="684360" y="260280"/>
            <a:ext cx="7416720" cy="576360"/>
          </a:xfrm>
          <a:prstGeom prst="wedgeRoundRectCallout">
            <a:avLst>
              <a:gd name="adj1" fmla="val -23032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4. Uslovi ravnoteže tri sile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0601 L 0.48299 -0.06751 E">
                                      <p:cBhvr>
                                        <p:cTn id="267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9000"/>
                            </p:stCondLst>
                            <p:childTnLst>
                              <p:par>
                                <p:cTn id="2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50867E-006 L 0.4724 -0.11537 E">
                                      <p:cBhvr>
                                        <p:cTn id="277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00901 L 0.29757 0.04046 E">
                                      <p:cBhvr>
                                        <p:cTn id="287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3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755640" y="260280"/>
            <a:ext cx="7416720" cy="576360"/>
          </a:xfrm>
          <a:prstGeom prst="wedgeRoundRectCallout">
            <a:avLst>
              <a:gd name="adj1" fmla="val -23995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slovi ravnoteže tri sile u ravni - pr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34920" y="1052640"/>
            <a:ext cx="3621240" cy="460836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3419640" y="1306440"/>
            <a:ext cx="5435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 flipH="1" flipV="1">
            <a:off x="611280" y="3787920"/>
            <a:ext cx="273672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52360" y="33336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Ako je poligon sila zatvoren, a linije dejstva si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se ne seku i istoj tački u pitanju je spreg s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755640" y="2203200"/>
            <a:ext cx="1655640" cy="172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2268360" y="2058840"/>
            <a:ext cx="316728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406680" y="4232520"/>
            <a:ext cx="1081440" cy="10454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473000" y="2208600"/>
            <a:ext cx="36000" cy="2076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3393360" y="321660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3421080" y="2058840"/>
            <a:ext cx="548640" cy="675720"/>
            <a:chOff x="3421080" y="2058840"/>
            <a:chExt cx="548640" cy="675720"/>
          </a:xfrm>
        </p:grpSpPr>
        <p:grpSp>
          <p:nvGrpSpPr>
            <p:cNvPr id="782" name=""/>
            <p:cNvGrpSpPr/>
            <p:nvPr/>
          </p:nvGrpSpPr>
          <p:grpSpPr>
            <a:xfrm>
              <a:off x="3421080" y="2058840"/>
              <a:ext cx="452160" cy="581400"/>
              <a:chOff x="3421080" y="2058840"/>
              <a:chExt cx="452160" cy="581400"/>
            </a:xfrm>
          </p:grpSpPr>
          <p:sp>
            <p:nvSpPr>
              <p:cNvPr id="783" name=""/>
              <p:cNvSpPr/>
              <p:nvPr/>
            </p:nvSpPr>
            <p:spPr>
              <a:xfrm>
                <a:off x="3421080" y="2058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635280" y="21297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363672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2844720" y="3859200"/>
            <a:ext cx="548640" cy="675720"/>
            <a:chOff x="2844720" y="3859200"/>
            <a:chExt cx="548640" cy="675720"/>
          </a:xfrm>
        </p:grpSpPr>
        <p:grpSp>
          <p:nvGrpSpPr>
            <p:cNvPr id="787" name=""/>
            <p:cNvGrpSpPr/>
            <p:nvPr/>
          </p:nvGrpSpPr>
          <p:grpSpPr>
            <a:xfrm>
              <a:off x="2844720" y="3859200"/>
              <a:ext cx="452160" cy="581400"/>
              <a:chOff x="2844720" y="3859200"/>
              <a:chExt cx="452160" cy="581400"/>
            </a:xfrm>
          </p:grpSpPr>
          <p:sp>
            <p:nvSpPr>
              <p:cNvPr id="788" name=""/>
              <p:cNvSpPr/>
              <p:nvPr/>
            </p:nvSpPr>
            <p:spPr>
              <a:xfrm>
                <a:off x="2844720" y="3859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058920" y="3930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>
              <a:off x="3060360" y="4075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973080" y="4651200"/>
            <a:ext cx="548640" cy="675720"/>
            <a:chOff x="973080" y="4651200"/>
            <a:chExt cx="548640" cy="675720"/>
          </a:xfrm>
        </p:grpSpPr>
        <p:grpSp>
          <p:nvGrpSpPr>
            <p:cNvPr id="792" name=""/>
            <p:cNvGrpSpPr/>
            <p:nvPr/>
          </p:nvGrpSpPr>
          <p:grpSpPr>
            <a:xfrm>
              <a:off x="973080" y="4651200"/>
              <a:ext cx="452160" cy="581400"/>
              <a:chOff x="973080" y="4651200"/>
              <a:chExt cx="452160" cy="581400"/>
            </a:xfrm>
          </p:grpSpPr>
          <p:sp>
            <p:nvSpPr>
              <p:cNvPr id="793" name=""/>
              <p:cNvSpPr/>
              <p:nvPr/>
            </p:nvSpPr>
            <p:spPr>
              <a:xfrm>
                <a:off x="97308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187280" y="4722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>
              <a:off x="1188720" y="48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7813800" y="2997360"/>
            <a:ext cx="549000" cy="675360"/>
            <a:chOff x="7813800" y="2997360"/>
            <a:chExt cx="549000" cy="675360"/>
          </a:xfrm>
        </p:grpSpPr>
        <p:grpSp>
          <p:nvGrpSpPr>
            <p:cNvPr id="797" name=""/>
            <p:cNvGrpSpPr/>
            <p:nvPr/>
          </p:nvGrpSpPr>
          <p:grpSpPr>
            <a:xfrm>
              <a:off x="7813800" y="2997360"/>
              <a:ext cx="452160" cy="581400"/>
              <a:chOff x="7813800" y="2997360"/>
              <a:chExt cx="452160" cy="581400"/>
            </a:xfrm>
          </p:grpSpPr>
          <p:sp>
            <p:nvSpPr>
              <p:cNvPr id="798" name=""/>
              <p:cNvSpPr/>
              <p:nvPr/>
            </p:nvSpPr>
            <p:spPr>
              <a:xfrm>
                <a:off x="781380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02800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>
              <a:off x="8029800" y="321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4021200" y="3330720"/>
            <a:ext cx="1621080" cy="721440"/>
            <a:chOff x="4021200" y="3330720"/>
            <a:chExt cx="1621080" cy="721440"/>
          </a:xfrm>
        </p:grpSpPr>
        <p:grpSp>
          <p:nvGrpSpPr>
            <p:cNvPr id="802" name=""/>
            <p:cNvGrpSpPr/>
            <p:nvPr/>
          </p:nvGrpSpPr>
          <p:grpSpPr>
            <a:xfrm>
              <a:off x="4021200" y="3330720"/>
              <a:ext cx="701280" cy="675360"/>
              <a:chOff x="4021200" y="3330720"/>
              <a:chExt cx="701280" cy="675360"/>
            </a:xfrm>
          </p:grpSpPr>
          <p:grpSp>
            <p:nvGrpSpPr>
              <p:cNvPr id="803" name=""/>
              <p:cNvGrpSpPr/>
              <p:nvPr/>
            </p:nvGrpSpPr>
            <p:grpSpPr>
              <a:xfrm>
                <a:off x="4021200" y="3330720"/>
                <a:ext cx="452160" cy="581400"/>
                <a:chOff x="4021200" y="3330720"/>
                <a:chExt cx="452160" cy="58140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4021200" y="3330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4235400" y="3401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6" name=""/>
              <p:cNvSpPr/>
              <p:nvPr/>
            </p:nvSpPr>
            <p:spPr>
              <a:xfrm>
                <a:off x="4236840" y="35463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4603320" y="3403440"/>
              <a:ext cx="1038960" cy="648720"/>
              <a:chOff x="4603320" y="3403440"/>
              <a:chExt cx="1038960" cy="648720"/>
            </a:xfrm>
          </p:grpSpPr>
          <p:sp>
            <p:nvSpPr>
              <p:cNvPr id="808" name=""/>
              <p:cNvSpPr/>
              <p:nvPr/>
            </p:nvSpPr>
            <p:spPr>
              <a:xfrm>
                <a:off x="4603320" y="3403440"/>
                <a:ext cx="10389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 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243040" y="3474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0" name=""/>
          <p:cNvSpPr/>
          <p:nvPr/>
        </p:nvSpPr>
        <p:spPr>
          <a:xfrm flipV="1">
            <a:off x="3406680" y="2224440"/>
            <a:ext cx="1081440" cy="1045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036440" y="4207320"/>
            <a:ext cx="1061640" cy="1033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494520" y="29242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349440" y="34275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806160" y="306864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237440" y="3573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H="1" flipV="1">
            <a:off x="3413520" y="319968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7713000" y="235476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6646680" y="2360880"/>
            <a:ext cx="1081440" cy="1045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 flipV="1">
            <a:off x="6653520" y="341568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6661080" y="3860640"/>
            <a:ext cx="548640" cy="675720"/>
            <a:chOff x="6661080" y="3860640"/>
            <a:chExt cx="548640" cy="675720"/>
          </a:xfrm>
        </p:grpSpPr>
        <p:grpSp>
          <p:nvGrpSpPr>
            <p:cNvPr id="821" name=""/>
            <p:cNvGrpSpPr/>
            <p:nvPr/>
          </p:nvGrpSpPr>
          <p:grpSpPr>
            <a:xfrm>
              <a:off x="6661080" y="3860640"/>
              <a:ext cx="452160" cy="581400"/>
              <a:chOff x="6661080" y="3860640"/>
              <a:chExt cx="452160" cy="581400"/>
            </a:xfrm>
          </p:grpSpPr>
          <p:sp>
            <p:nvSpPr>
              <p:cNvPr id="822" name=""/>
              <p:cNvSpPr/>
              <p:nvPr/>
            </p:nvSpPr>
            <p:spPr>
              <a:xfrm>
                <a:off x="666108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875280" y="3931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687672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6661080" y="2205000"/>
            <a:ext cx="548640" cy="675720"/>
            <a:chOff x="6661080" y="2205000"/>
            <a:chExt cx="548640" cy="675720"/>
          </a:xfrm>
        </p:grpSpPr>
        <p:grpSp>
          <p:nvGrpSpPr>
            <p:cNvPr id="826" name=""/>
            <p:cNvGrpSpPr/>
            <p:nvPr/>
          </p:nvGrpSpPr>
          <p:grpSpPr>
            <a:xfrm>
              <a:off x="6661080" y="2205000"/>
              <a:ext cx="452160" cy="581400"/>
              <a:chOff x="6661080" y="2205000"/>
              <a:chExt cx="452160" cy="581400"/>
            </a:xfrm>
          </p:grpSpPr>
          <p:sp>
            <p:nvSpPr>
              <p:cNvPr id="827" name=""/>
              <p:cNvSpPr/>
              <p:nvPr/>
            </p:nvSpPr>
            <p:spPr>
              <a:xfrm>
                <a:off x="6661080" y="220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875280" y="2275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6876720" y="24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"/>
          <p:cNvSpPr/>
          <p:nvPr/>
        </p:nvSpPr>
        <p:spPr>
          <a:xfrm rot="18873000">
            <a:off x="1259640" y="2572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9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371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372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7200"/>
                            </p:stCondLst>
                            <p:childTnLst>
                              <p:par>
                                <p:cTn id="374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76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77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179280" y="620640"/>
            <a:ext cx="8713800" cy="5113440"/>
          </a:xfrm>
          <a:prstGeom prst="wedgeRoundRectCallout">
            <a:avLst>
              <a:gd name="adj1" fmla="val -20925"/>
              <a:gd name="adj2" fmla="val -26500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rafič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iz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istema sila u ravn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m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ću verižnog polig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5.1 Odre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đivanje položaja rezultante pomoću verižnog poligona (Kulman 1864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a) 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Sistem sila ima rezulta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(poligon sila je otvoren, veri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žni poligon je otvo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5364000" y="5589720"/>
            <a:ext cx="3637080" cy="1268280"/>
          </a:xfrm>
          <a:prstGeom prst="wedgeRoundRectCallout">
            <a:avLst>
              <a:gd name="adj1" fmla="val -22717"/>
              <a:gd name="adj2" fmla="val -39111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Razmera 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u</a:t>
            </a:r>
            <a:r>
              <a:rPr b="1" i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l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= 1: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u</a:t>
            </a:r>
            <a:r>
              <a:rPr b="1" i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= 1: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[k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0" y="328680"/>
            <a:ext cx="2879640" cy="252072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1077840" y="898200"/>
            <a:ext cx="1158120" cy="1011600"/>
            <a:chOff x="1077840" y="898200"/>
            <a:chExt cx="1158120" cy="1011600"/>
          </a:xfrm>
        </p:grpSpPr>
        <p:sp>
          <p:nvSpPr>
            <p:cNvPr id="835" name=""/>
            <p:cNvSpPr/>
            <p:nvPr/>
          </p:nvSpPr>
          <p:spPr>
            <a:xfrm flipH="1">
              <a:off x="1077840" y="968400"/>
              <a:ext cx="1075680" cy="941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5872200">
              <a:off x="2161440" y="90252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935280" y="1023840"/>
            <a:ext cx="549000" cy="675720"/>
            <a:chOff x="935280" y="1023840"/>
            <a:chExt cx="549000" cy="675720"/>
          </a:xfrm>
        </p:grpSpPr>
        <p:grpSp>
          <p:nvGrpSpPr>
            <p:cNvPr id="838" name=""/>
            <p:cNvGrpSpPr/>
            <p:nvPr/>
          </p:nvGrpSpPr>
          <p:grpSpPr>
            <a:xfrm>
              <a:off x="935280" y="1023840"/>
              <a:ext cx="452160" cy="581400"/>
              <a:chOff x="935280" y="1023840"/>
              <a:chExt cx="452160" cy="581400"/>
            </a:xfrm>
          </p:grpSpPr>
          <p:sp>
            <p:nvSpPr>
              <p:cNvPr id="839" name=""/>
              <p:cNvSpPr/>
              <p:nvPr/>
            </p:nvSpPr>
            <p:spPr>
              <a:xfrm>
                <a:off x="935280" y="1023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149480" y="10947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"/>
            <p:cNvSpPr/>
            <p:nvPr/>
          </p:nvSpPr>
          <p:spPr>
            <a:xfrm>
              <a:off x="1151280" y="1239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2592360" y="1336680"/>
            <a:ext cx="548640" cy="675720"/>
            <a:chOff x="2592360" y="1336680"/>
            <a:chExt cx="548640" cy="675720"/>
          </a:xfrm>
        </p:grpSpPr>
        <p:grpSp>
          <p:nvGrpSpPr>
            <p:cNvPr id="843" name=""/>
            <p:cNvGrpSpPr/>
            <p:nvPr/>
          </p:nvGrpSpPr>
          <p:grpSpPr>
            <a:xfrm>
              <a:off x="2592360" y="1336680"/>
              <a:ext cx="452160" cy="581400"/>
              <a:chOff x="2592360" y="1336680"/>
              <a:chExt cx="452160" cy="581400"/>
            </a:xfrm>
          </p:grpSpPr>
          <p:sp>
            <p:nvSpPr>
              <p:cNvPr id="844" name=""/>
              <p:cNvSpPr/>
              <p:nvPr/>
            </p:nvSpPr>
            <p:spPr>
              <a:xfrm>
                <a:off x="2592360" y="1336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806560" y="14076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2808000" y="15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602160" y="1120680"/>
            <a:ext cx="549000" cy="675720"/>
            <a:chOff x="3602160" y="1120680"/>
            <a:chExt cx="549000" cy="675720"/>
          </a:xfrm>
        </p:grpSpPr>
        <p:grpSp>
          <p:nvGrpSpPr>
            <p:cNvPr id="848" name=""/>
            <p:cNvGrpSpPr/>
            <p:nvPr/>
          </p:nvGrpSpPr>
          <p:grpSpPr>
            <a:xfrm>
              <a:off x="3602160" y="1120680"/>
              <a:ext cx="452160" cy="581400"/>
              <a:chOff x="3602160" y="1120680"/>
              <a:chExt cx="452160" cy="581400"/>
            </a:xfrm>
          </p:grpSpPr>
          <p:sp>
            <p:nvSpPr>
              <p:cNvPr id="849" name=""/>
              <p:cNvSpPr/>
              <p:nvPr/>
            </p:nvSpPr>
            <p:spPr>
              <a:xfrm>
                <a:off x="3602160" y="1120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816360" y="11916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3818160" y="133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6829560" y="79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2557080" y="-133200"/>
            <a:ext cx="212400" cy="3157200"/>
            <a:chOff x="2557080" y="-133200"/>
            <a:chExt cx="212400" cy="3157200"/>
          </a:xfrm>
        </p:grpSpPr>
        <p:sp>
          <p:nvSpPr>
            <p:cNvPr id="854" name=""/>
            <p:cNvSpPr/>
            <p:nvPr/>
          </p:nvSpPr>
          <p:spPr>
            <a:xfrm flipH="1" flipV="1">
              <a:off x="2557080" y="-133200"/>
              <a:ext cx="212400" cy="315720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2577600" y="731160"/>
              <a:ext cx="140400" cy="1527840"/>
              <a:chOff x="2577600" y="731160"/>
              <a:chExt cx="140400" cy="1527840"/>
            </a:xfrm>
          </p:grpSpPr>
          <p:sp>
            <p:nvSpPr>
              <p:cNvPr id="856" name=""/>
              <p:cNvSpPr/>
              <p:nvPr/>
            </p:nvSpPr>
            <p:spPr>
              <a:xfrm>
                <a:off x="2625120" y="833040"/>
                <a:ext cx="92880" cy="14259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2721000">
                <a:off x="2591640" y="7455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8" name=""/>
          <p:cNvGrpSpPr/>
          <p:nvPr/>
        </p:nvGrpSpPr>
        <p:grpSpPr>
          <a:xfrm>
            <a:off x="2363040" y="301680"/>
            <a:ext cx="2186280" cy="2287800"/>
            <a:chOff x="2363040" y="301680"/>
            <a:chExt cx="2186280" cy="2287800"/>
          </a:xfrm>
        </p:grpSpPr>
        <p:sp>
          <p:nvSpPr>
            <p:cNvPr id="859" name=""/>
            <p:cNvSpPr/>
            <p:nvPr/>
          </p:nvSpPr>
          <p:spPr>
            <a:xfrm flipH="1" flipV="1">
              <a:off x="2363040" y="301680"/>
              <a:ext cx="2186280" cy="228780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0" name=""/>
            <p:cNvGrpSpPr/>
            <p:nvPr/>
          </p:nvGrpSpPr>
          <p:grpSpPr>
            <a:xfrm>
              <a:off x="2963880" y="920520"/>
              <a:ext cx="1055520" cy="1114560"/>
              <a:chOff x="2963880" y="920520"/>
              <a:chExt cx="1055520" cy="1114560"/>
            </a:xfrm>
          </p:grpSpPr>
          <p:sp>
            <p:nvSpPr>
              <p:cNvPr id="861" name=""/>
              <p:cNvSpPr/>
              <p:nvPr/>
            </p:nvSpPr>
            <p:spPr>
              <a:xfrm>
                <a:off x="3034440" y="999720"/>
                <a:ext cx="984960" cy="10353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329400">
                <a:off x="2966760" y="9234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3" name=""/>
          <p:cNvSpPr/>
          <p:nvPr/>
        </p:nvSpPr>
        <p:spPr>
          <a:xfrm>
            <a:off x="6802920" y="18900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084720" y="547560"/>
            <a:ext cx="2232360" cy="1609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5007240" y="545400"/>
            <a:ext cx="1075680" cy="9414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5535000" y="1870200"/>
            <a:ext cx="609120" cy="648720"/>
            <a:chOff x="5535000" y="1870200"/>
            <a:chExt cx="609120" cy="648720"/>
          </a:xfrm>
        </p:grpSpPr>
        <p:sp>
          <p:nvSpPr>
            <p:cNvPr id="867" name=""/>
            <p:cNvSpPr/>
            <p:nvPr/>
          </p:nvSpPr>
          <p:spPr>
            <a:xfrm>
              <a:off x="5535000" y="18702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38760" y="1941120"/>
              <a:ext cx="216000" cy="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1738080" y="47304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067360" y="1455120"/>
            <a:ext cx="92520" cy="1426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145840" y="2854800"/>
            <a:ext cx="941400" cy="1075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076720" y="1484280"/>
            <a:ext cx="3240360" cy="673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149800" y="2157120"/>
            <a:ext cx="3167280" cy="695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6084720" y="2157480"/>
            <a:ext cx="2232360" cy="1774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091920" y="536400"/>
            <a:ext cx="9360" cy="3415320"/>
          </a:xfrm>
          <a:prstGeom prst="line">
            <a:avLst/>
          </a:prstGeom>
          <a:ln w="4428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5151600" y="260280"/>
            <a:ext cx="549000" cy="675720"/>
            <a:chOff x="5151600" y="260280"/>
            <a:chExt cx="549000" cy="675720"/>
          </a:xfrm>
        </p:grpSpPr>
        <p:grpSp>
          <p:nvGrpSpPr>
            <p:cNvPr id="877" name=""/>
            <p:cNvGrpSpPr/>
            <p:nvPr/>
          </p:nvGrpSpPr>
          <p:grpSpPr>
            <a:xfrm>
              <a:off x="5151600" y="260280"/>
              <a:ext cx="452160" cy="581400"/>
              <a:chOff x="5151600" y="260280"/>
              <a:chExt cx="452160" cy="581400"/>
            </a:xfrm>
          </p:grpSpPr>
          <p:sp>
            <p:nvSpPr>
              <p:cNvPr id="878" name=""/>
              <p:cNvSpPr/>
              <p:nvPr/>
            </p:nvSpPr>
            <p:spPr>
              <a:xfrm>
                <a:off x="5151600" y="260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365800" y="331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5367600" y="47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502160" y="1771560"/>
            <a:ext cx="548640" cy="675720"/>
            <a:chOff x="4502160" y="1771560"/>
            <a:chExt cx="548640" cy="675720"/>
          </a:xfrm>
        </p:grpSpPr>
        <p:grpSp>
          <p:nvGrpSpPr>
            <p:cNvPr id="882" name=""/>
            <p:cNvGrpSpPr/>
            <p:nvPr/>
          </p:nvGrpSpPr>
          <p:grpSpPr>
            <a:xfrm>
              <a:off x="4502160" y="1771560"/>
              <a:ext cx="452160" cy="581400"/>
              <a:chOff x="4502160" y="1771560"/>
              <a:chExt cx="452160" cy="581400"/>
            </a:xfrm>
          </p:grpSpPr>
          <p:sp>
            <p:nvSpPr>
              <p:cNvPr id="883" name=""/>
              <p:cNvSpPr/>
              <p:nvPr/>
            </p:nvSpPr>
            <p:spPr>
              <a:xfrm>
                <a:off x="4502160" y="177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716360" y="184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4717800" y="1987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078520" y="3284640"/>
            <a:ext cx="549000" cy="675360"/>
            <a:chOff x="5078520" y="3284640"/>
            <a:chExt cx="549000" cy="675360"/>
          </a:xfrm>
        </p:grpSpPr>
        <p:grpSp>
          <p:nvGrpSpPr>
            <p:cNvPr id="887" name=""/>
            <p:cNvGrpSpPr/>
            <p:nvPr/>
          </p:nvGrpSpPr>
          <p:grpSpPr>
            <a:xfrm>
              <a:off x="5078520" y="3284640"/>
              <a:ext cx="452160" cy="581400"/>
              <a:chOff x="5078520" y="3284640"/>
              <a:chExt cx="452160" cy="581400"/>
            </a:xfrm>
          </p:grpSpPr>
          <p:sp>
            <p:nvSpPr>
              <p:cNvPr id="888" name=""/>
              <p:cNvSpPr/>
              <p:nvPr/>
            </p:nvSpPr>
            <p:spPr>
              <a:xfrm>
                <a:off x="5078520" y="3284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292720" y="3355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5294520" y="35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 flipH="1">
            <a:off x="6091920" y="533160"/>
            <a:ext cx="9360" cy="3415320"/>
          </a:xfrm>
          <a:prstGeom prst="line">
            <a:avLst/>
          </a:prstGeom>
          <a:ln w="4428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17520" y="587700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lan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639520" y="4361040"/>
            <a:ext cx="609120" cy="648720"/>
            <a:chOff x="2639520" y="4361040"/>
            <a:chExt cx="609120" cy="648720"/>
          </a:xfrm>
        </p:grpSpPr>
        <p:sp>
          <p:nvSpPr>
            <p:cNvPr id="894" name=""/>
            <p:cNvSpPr/>
            <p:nvPr/>
          </p:nvSpPr>
          <p:spPr>
            <a:xfrm>
              <a:off x="2639520" y="43610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843280" y="4431960"/>
              <a:ext cx="216000" cy="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6231240" y="136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240360" y="176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133800" y="256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66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981440" y="2849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72000" y="1841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37380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742520" y="244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8240040" y="170028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188800" y="54468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033360" y="67320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310440" y="285840"/>
            <a:ext cx="456480" cy="648720"/>
            <a:chOff x="6310440" y="285840"/>
            <a:chExt cx="456480" cy="648720"/>
          </a:xfrm>
        </p:grpSpPr>
        <p:sp>
          <p:nvSpPr>
            <p:cNvPr id="907" name=""/>
            <p:cNvSpPr/>
            <p:nvPr/>
          </p:nvSpPr>
          <p:spPr>
            <a:xfrm>
              <a:off x="6310440" y="2858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443640" y="4302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3501720" y="3425760"/>
            <a:ext cx="592200" cy="648720"/>
            <a:chOff x="3501720" y="3425760"/>
            <a:chExt cx="592200" cy="648720"/>
          </a:xfrm>
        </p:grpSpPr>
        <p:sp>
          <p:nvSpPr>
            <p:cNvPr id="910" name=""/>
            <p:cNvSpPr/>
            <p:nvPr/>
          </p:nvSpPr>
          <p:spPr>
            <a:xfrm>
              <a:off x="3501720" y="34257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52640" y="357012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5446800" y="1006560"/>
            <a:ext cx="456480" cy="648720"/>
            <a:chOff x="5446800" y="1006560"/>
            <a:chExt cx="456480" cy="648720"/>
          </a:xfrm>
        </p:grpSpPr>
        <p:sp>
          <p:nvSpPr>
            <p:cNvPr id="913" name=""/>
            <p:cNvSpPr/>
            <p:nvPr/>
          </p:nvSpPr>
          <p:spPr>
            <a:xfrm>
              <a:off x="5446800" y="10065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580000" y="115092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5545440" y="2658960"/>
            <a:ext cx="456480" cy="648720"/>
            <a:chOff x="5545440" y="2658960"/>
            <a:chExt cx="456480" cy="648720"/>
          </a:xfrm>
        </p:grpSpPr>
        <p:sp>
          <p:nvSpPr>
            <p:cNvPr id="916" name=""/>
            <p:cNvSpPr/>
            <p:nvPr/>
          </p:nvSpPr>
          <p:spPr>
            <a:xfrm>
              <a:off x="5545440" y="26589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678640" y="280368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6770880" y="3235320"/>
            <a:ext cx="456480" cy="648720"/>
            <a:chOff x="6770880" y="3235320"/>
            <a:chExt cx="456480" cy="648720"/>
          </a:xfrm>
        </p:grpSpPr>
        <p:sp>
          <p:nvSpPr>
            <p:cNvPr id="919" name=""/>
            <p:cNvSpPr/>
            <p:nvPr/>
          </p:nvSpPr>
          <p:spPr>
            <a:xfrm>
              <a:off x="6770880" y="323532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904080" y="338004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1944720" y="3568680"/>
            <a:ext cx="456480" cy="648720"/>
            <a:chOff x="1944720" y="3568680"/>
            <a:chExt cx="456480" cy="648720"/>
          </a:xfrm>
        </p:grpSpPr>
        <p:sp>
          <p:nvSpPr>
            <p:cNvPr id="922" name=""/>
            <p:cNvSpPr/>
            <p:nvPr/>
          </p:nvSpPr>
          <p:spPr>
            <a:xfrm>
              <a:off x="1944720" y="35686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077920" y="37134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755640" y="1841400"/>
            <a:ext cx="1906560" cy="139392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39640" y="1913040"/>
            <a:ext cx="2519640" cy="504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411280" y="1984320"/>
            <a:ext cx="2016360" cy="433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195640" y="1767960"/>
            <a:ext cx="2195280" cy="1800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395280" y="3208320"/>
            <a:ext cx="2232000" cy="1774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627280" y="3208320"/>
            <a:ext cx="2232000" cy="1609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2627280" y="4792680"/>
            <a:ext cx="2232000" cy="1774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95280" y="4937040"/>
            <a:ext cx="2232000" cy="1656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-36360" y="2560680"/>
            <a:ext cx="1800000" cy="2089080"/>
          </a:xfrm>
          <a:prstGeom prst="wedgeRoundRectCallout">
            <a:avLst>
              <a:gd name="adj1" fmla="val 67990"/>
              <a:gd name="adj2" fmla="val -37157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Verižni poligon (u planu sila, zraci 0, 1, 2, 3 predstavljaju verižni polig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5076720" y="4221000"/>
            <a:ext cx="4032360" cy="1268640"/>
            <a:chOff x="5076720" y="4221000"/>
            <a:chExt cx="4032360" cy="1268640"/>
          </a:xfrm>
        </p:grpSpPr>
        <p:sp>
          <p:nvSpPr>
            <p:cNvPr id="934" name=""/>
            <p:cNvSpPr/>
            <p:nvPr/>
          </p:nvSpPr>
          <p:spPr>
            <a:xfrm>
              <a:off x="5076720" y="4221000"/>
              <a:ext cx="4032360" cy="1268640"/>
            </a:xfrm>
            <a:prstGeom prst="wedgeRoundRectCallout">
              <a:avLst>
                <a:gd name="adj1" fmla="val -70356"/>
                <a:gd name="adj2" fmla="val 3439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Dokaz (sledeća strana)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+ (-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425920" y="4724280"/>
              <a:ext cx="2271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84720" y="4797360"/>
              <a:ext cx="225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083360" y="4797360"/>
              <a:ext cx="225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80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  <p:set>
                                      <p:cBhvr>
                                        <p:cTn id="454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20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468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2000"/>
                            </p:stCondLst>
                            <p:childTnLst>
                              <p:par>
                                <p:cTn id="47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2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6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8000"/>
                            </p:stCondLst>
                            <p:childTnLst>
                              <p:par>
                                <p:cTn id="48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483" dur="2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0"/>
                            </p:stCondLst>
                            <p:childTnLst>
                              <p:par>
                                <p:cTn id="48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2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4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6000"/>
                            </p:stCondLst>
                            <p:childTnLst>
                              <p:par>
                                <p:cTn id="49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98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8000"/>
                            </p:stCondLst>
                            <p:childTnLst>
                              <p:par>
                                <p:cTn id="50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20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000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2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4000"/>
                            </p:stCondLst>
                            <p:childTnLst>
                              <p:par>
                                <p:cTn id="5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91908E-006 L -0.37812 0.38798 E">
                                      <p:cBhvr>
                                        <p:cTn id="515" dur="20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6000"/>
                            </p:stCondLst>
                            <p:childTnLst>
                              <p:par>
                                <p:cTn id="5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2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8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2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324000" y="320760"/>
                <a:ext cx="8496000" cy="621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KAZ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 flipH="1" flipV="1">
            <a:off x="2359080" y="1074600"/>
            <a:ext cx="3832920" cy="3753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79280" y="-27000"/>
            <a:ext cx="8713800" cy="1224000"/>
            <a:chOff x="179280" y="-27000"/>
            <a:chExt cx="8713800" cy="1224000"/>
          </a:xfrm>
        </p:grpSpPr>
        <p:sp>
          <p:nvSpPr>
            <p:cNvPr id="941" name=""/>
            <p:cNvSpPr/>
            <p:nvPr/>
          </p:nvSpPr>
          <p:spPr>
            <a:xfrm>
              <a:off x="179280" y="-27000"/>
              <a:ext cx="8713800" cy="1224000"/>
            </a:xfrm>
            <a:prstGeom prst="wedgeRoundRectCallout">
              <a:avLst>
                <a:gd name="adj1" fmla="val -20925"/>
                <a:gd name="adj2" fmla="val 48185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b)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Sistem sila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se svodi na spreg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(poligon sila je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zatvoren (</a:t>
              </a:r>
              <a:r>
                <a:rPr b="1" i="1" lang="sr-Latn-CS" sz="28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 = 0 )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, veri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žni poligon je otvore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95640" y="476280"/>
              <a:ext cx="21564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 flipV="1">
            <a:off x="6372360" y="5229000"/>
            <a:ext cx="936360" cy="14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083400" y="2006640"/>
            <a:ext cx="2242080" cy="22017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2343960" y="1344600"/>
            <a:ext cx="96480" cy="43236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385360" y="177840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1836720" y="2587680"/>
            <a:ext cx="548640" cy="675720"/>
            <a:chOff x="1836720" y="2587680"/>
            <a:chExt cx="548640" cy="675720"/>
          </a:xfrm>
        </p:grpSpPr>
        <p:grpSp>
          <p:nvGrpSpPr>
            <p:cNvPr id="948" name=""/>
            <p:cNvGrpSpPr/>
            <p:nvPr/>
          </p:nvGrpSpPr>
          <p:grpSpPr>
            <a:xfrm>
              <a:off x="1836720" y="2587680"/>
              <a:ext cx="452160" cy="581400"/>
              <a:chOff x="1836720" y="2587680"/>
              <a:chExt cx="452160" cy="581400"/>
            </a:xfrm>
          </p:grpSpPr>
          <p:sp>
            <p:nvSpPr>
              <p:cNvPr id="949" name=""/>
              <p:cNvSpPr/>
              <p:nvPr/>
            </p:nvSpPr>
            <p:spPr>
              <a:xfrm>
                <a:off x="1836720" y="2587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050920" y="2658600"/>
                <a:ext cx="21564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2052360" y="2803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4573800" y="2708280"/>
            <a:ext cx="549000" cy="675720"/>
            <a:chOff x="4573800" y="2708280"/>
            <a:chExt cx="549000" cy="675720"/>
          </a:xfrm>
        </p:grpSpPr>
        <p:grpSp>
          <p:nvGrpSpPr>
            <p:cNvPr id="953" name=""/>
            <p:cNvGrpSpPr/>
            <p:nvPr/>
          </p:nvGrpSpPr>
          <p:grpSpPr>
            <a:xfrm>
              <a:off x="4573800" y="2708280"/>
              <a:ext cx="452160" cy="581400"/>
              <a:chOff x="4573800" y="2708280"/>
              <a:chExt cx="452160" cy="581400"/>
            </a:xfrm>
          </p:grpSpPr>
          <p:sp>
            <p:nvSpPr>
              <p:cNvPr id="954" name=""/>
              <p:cNvSpPr/>
              <p:nvPr/>
            </p:nvSpPr>
            <p:spPr>
              <a:xfrm>
                <a:off x="457380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788000" y="2779200"/>
                <a:ext cx="216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478980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80008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349800" y="1557360"/>
            <a:ext cx="549000" cy="675720"/>
            <a:chOff x="3349800" y="1557360"/>
            <a:chExt cx="549000" cy="675720"/>
          </a:xfrm>
        </p:grpSpPr>
        <p:grpSp>
          <p:nvGrpSpPr>
            <p:cNvPr id="958" name=""/>
            <p:cNvGrpSpPr/>
            <p:nvPr/>
          </p:nvGrpSpPr>
          <p:grpSpPr>
            <a:xfrm>
              <a:off x="3349800" y="1557360"/>
              <a:ext cx="452160" cy="581400"/>
              <a:chOff x="3349800" y="1557360"/>
              <a:chExt cx="452160" cy="581400"/>
            </a:xfrm>
          </p:grpSpPr>
          <p:sp>
            <p:nvSpPr>
              <p:cNvPr id="959" name=""/>
              <p:cNvSpPr/>
              <p:nvPr/>
            </p:nvSpPr>
            <p:spPr>
              <a:xfrm>
                <a:off x="3349800" y="155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564000" y="162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3565800" y="177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 flipV="1">
            <a:off x="3621960" y="2599200"/>
            <a:ext cx="1081080" cy="1045440"/>
          </a:xfrm>
          <a:prstGeom prst="line">
            <a:avLst/>
          </a:prstGeom>
          <a:ln w="7632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H="1" flipV="1">
            <a:off x="2837160" y="154404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rot="18366000">
            <a:off x="6538320" y="5420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28652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7344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 flipV="1">
            <a:off x="6300360" y="1484280"/>
            <a:ext cx="2017800" cy="12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H="1" flipV="1">
            <a:off x="7308360" y="2492280"/>
            <a:ext cx="100980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446880" y="2421000"/>
            <a:ext cx="549000" cy="675720"/>
            <a:chOff x="6446880" y="2421000"/>
            <a:chExt cx="549000" cy="675720"/>
          </a:xfrm>
        </p:grpSpPr>
        <p:grpSp>
          <p:nvGrpSpPr>
            <p:cNvPr id="970" name=""/>
            <p:cNvGrpSpPr/>
            <p:nvPr/>
          </p:nvGrpSpPr>
          <p:grpSpPr>
            <a:xfrm>
              <a:off x="6446880" y="2421000"/>
              <a:ext cx="452160" cy="581400"/>
              <a:chOff x="6446880" y="2421000"/>
              <a:chExt cx="452160" cy="581400"/>
            </a:xfrm>
          </p:grpSpPr>
          <p:sp>
            <p:nvSpPr>
              <p:cNvPr id="971" name=""/>
              <p:cNvSpPr/>
              <p:nvPr/>
            </p:nvSpPr>
            <p:spPr>
              <a:xfrm>
                <a:off x="6446880" y="242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1080" y="2491920"/>
                <a:ext cx="216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666288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80008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 flipH="1">
            <a:off x="6274800" y="149112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6289560" y="2505600"/>
            <a:ext cx="1081440" cy="1045440"/>
          </a:xfrm>
          <a:prstGeom prst="line">
            <a:avLst/>
          </a:prstGeom>
          <a:ln w="7632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 flipV="1">
            <a:off x="6296400" y="147240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6662880" y="1413000"/>
            <a:ext cx="549000" cy="675360"/>
            <a:chOff x="6662880" y="1413000"/>
            <a:chExt cx="549000" cy="675360"/>
          </a:xfrm>
        </p:grpSpPr>
        <p:grpSp>
          <p:nvGrpSpPr>
            <p:cNvPr id="978" name=""/>
            <p:cNvGrpSpPr/>
            <p:nvPr/>
          </p:nvGrpSpPr>
          <p:grpSpPr>
            <a:xfrm>
              <a:off x="6662880" y="1413000"/>
              <a:ext cx="452160" cy="581400"/>
              <a:chOff x="6662880" y="1413000"/>
              <a:chExt cx="452160" cy="581400"/>
            </a:xfrm>
          </p:grpSpPr>
          <p:sp>
            <p:nvSpPr>
              <p:cNvPr id="979" name=""/>
              <p:cNvSpPr/>
              <p:nvPr/>
            </p:nvSpPr>
            <p:spPr>
              <a:xfrm>
                <a:off x="6662880" y="14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877080" y="14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6878880" y="162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5727600" y="2131920"/>
            <a:ext cx="548640" cy="675720"/>
            <a:chOff x="5727600" y="2131920"/>
            <a:chExt cx="548640" cy="675720"/>
          </a:xfrm>
        </p:grpSpPr>
        <p:grpSp>
          <p:nvGrpSpPr>
            <p:cNvPr id="983" name=""/>
            <p:cNvGrpSpPr/>
            <p:nvPr/>
          </p:nvGrpSpPr>
          <p:grpSpPr>
            <a:xfrm>
              <a:off x="5727600" y="2131920"/>
              <a:ext cx="452160" cy="581400"/>
              <a:chOff x="5727600" y="2131920"/>
              <a:chExt cx="452160" cy="581400"/>
            </a:xfrm>
          </p:grpSpPr>
          <p:sp>
            <p:nvSpPr>
              <p:cNvPr id="984" name=""/>
              <p:cNvSpPr/>
              <p:nvPr/>
            </p:nvSpPr>
            <p:spPr>
              <a:xfrm>
                <a:off x="5727600" y="213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941800" y="2202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>
              <a:off x="5943240" y="234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"/>
          <p:cNvSpPr/>
          <p:nvPr/>
        </p:nvSpPr>
        <p:spPr>
          <a:xfrm flipH="1">
            <a:off x="6300360" y="2708280"/>
            <a:ext cx="2017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527960" y="1916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167600" y="3043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312320" y="239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123640" y="3500280"/>
            <a:ext cx="2017800" cy="865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3419280" y="3716280"/>
            <a:ext cx="2376360" cy="5047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5508720" y="4149720"/>
            <a:ext cx="2017440" cy="122400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324000" y="2997000"/>
            <a:ext cx="2017440" cy="122364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2339640" y="4220640"/>
            <a:ext cx="4319640" cy="2637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626760" y="2744280"/>
            <a:ext cx="834840" cy="856080"/>
            <a:chOff x="626760" y="2744280"/>
            <a:chExt cx="834840" cy="856080"/>
          </a:xfrm>
        </p:grpSpPr>
        <p:sp>
          <p:nvSpPr>
            <p:cNvPr id="997" name=""/>
            <p:cNvSpPr/>
            <p:nvPr/>
          </p:nvSpPr>
          <p:spPr>
            <a:xfrm rot="1768800">
              <a:off x="748080" y="28479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93320" y="2993400"/>
              <a:ext cx="18792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6398640" y="4214160"/>
            <a:ext cx="1452960" cy="1221120"/>
            <a:chOff x="6398640" y="4214160"/>
            <a:chExt cx="1452960" cy="1221120"/>
          </a:xfrm>
        </p:grpSpPr>
        <p:sp>
          <p:nvSpPr>
            <p:cNvPr id="1000" name=""/>
            <p:cNvSpPr/>
            <p:nvPr/>
          </p:nvSpPr>
          <p:spPr>
            <a:xfrm rot="1832400">
              <a:off x="6472800" y="4500360"/>
              <a:ext cx="1303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 = 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763320" y="4402800"/>
              <a:ext cx="185760" cy="10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446240" y="4803840"/>
              <a:ext cx="186120" cy="10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8240040" y="238284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020000" y="5805360"/>
            <a:ext cx="2124000" cy="1052640"/>
          </a:xfrm>
          <a:prstGeom prst="wedgeRoundRectCallout">
            <a:avLst>
              <a:gd name="adj1" fmla="val -46787"/>
              <a:gd name="adj2" fmla="val -65685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krak spr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3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3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3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70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9000"/>
                            </p:stCondLst>
                            <p:childTnLst>
                              <p:par>
                                <p:cTn id="5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2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611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9000"/>
                            </p:stCondLst>
                            <p:childTnLst>
                              <p:par>
                                <p:cTn id="6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3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24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2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63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37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2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2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70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2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90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1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3000"/>
                            </p:stCondLst>
                            <p:childTnLst>
                              <p:par>
                                <p:cTn id="6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2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500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3700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 flipH="1">
            <a:off x="3413880" y="2391840"/>
            <a:ext cx="1960200" cy="37638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-396720" y="6138720"/>
            <a:ext cx="8964360" cy="719280"/>
            <a:chOff x="-396720" y="6138720"/>
            <a:chExt cx="8964360" cy="719280"/>
          </a:xfrm>
        </p:grpSpPr>
        <p:sp>
          <p:nvSpPr>
            <p:cNvPr id="1007" name=""/>
            <p:cNvSpPr/>
            <p:nvPr/>
          </p:nvSpPr>
          <p:spPr>
            <a:xfrm>
              <a:off x="-396720" y="6138720"/>
              <a:ext cx="8964360" cy="719280"/>
            </a:xfrm>
            <a:prstGeom prst="wedgeRoundRectCallout">
              <a:avLst>
                <a:gd name="adj1" fmla="val 842"/>
                <a:gd name="adj2" fmla="val -84879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zraci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su kolinearni: (-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) i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se poništavaj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410080" y="6308640"/>
              <a:ext cx="23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716360" y="6308640"/>
              <a:ext cx="23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250920" y="0"/>
            <a:ext cx="5113080" cy="1871640"/>
            <a:chOff x="250920" y="0"/>
            <a:chExt cx="5113080" cy="1871640"/>
          </a:xfrm>
        </p:grpSpPr>
        <p:sp>
          <p:nvSpPr>
            <p:cNvPr id="1011" name=""/>
            <p:cNvSpPr/>
            <p:nvPr/>
          </p:nvSpPr>
          <p:spPr>
            <a:xfrm>
              <a:off x="250920" y="0"/>
              <a:ext cx="5113080" cy="1871640"/>
            </a:xfrm>
            <a:prstGeom prst="wedgeRoundRectCallout">
              <a:avLst>
                <a:gd name="adj1" fmla="val -17430"/>
                <a:gd name="adj2" fmla="val 46777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c)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Sistem sila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je u ravnoteži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(poligon sila je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zatvore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(</a:t>
              </a:r>
              <a:r>
                <a:rPr b="1" i="1" lang="sr-Latn-CS" sz="28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 = 0 )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, veri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žni poligon je zatvore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8920" y="981000"/>
              <a:ext cx="28836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418040" y="1951920"/>
            <a:ext cx="835560" cy="856800"/>
            <a:chOff x="1418040" y="1951920"/>
            <a:chExt cx="835560" cy="856800"/>
          </a:xfrm>
        </p:grpSpPr>
        <p:sp>
          <p:nvSpPr>
            <p:cNvPr id="1014" name=""/>
            <p:cNvSpPr/>
            <p:nvPr/>
          </p:nvSpPr>
          <p:spPr>
            <a:xfrm rot="1777200">
              <a:off x="1539720" y="205560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85680" y="2201400"/>
              <a:ext cx="18792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7233840" y="5220720"/>
            <a:ext cx="1452240" cy="1224360"/>
            <a:chOff x="7233840" y="5220720"/>
            <a:chExt cx="1452240" cy="1224360"/>
          </a:xfrm>
        </p:grpSpPr>
        <p:sp>
          <p:nvSpPr>
            <p:cNvPr id="1017" name=""/>
            <p:cNvSpPr/>
            <p:nvPr/>
          </p:nvSpPr>
          <p:spPr>
            <a:xfrm rot="1845600">
              <a:off x="7308000" y="5508360"/>
              <a:ext cx="1303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 = 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599960" y="5409000"/>
              <a:ext cx="185400" cy="11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281440" y="5812920"/>
              <a:ext cx="185400" cy="11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 flipH="1" flipV="1">
            <a:off x="5545440" y="882000"/>
            <a:ext cx="2703240" cy="152172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6037560" y="414000"/>
            <a:ext cx="966600" cy="1837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5543640" y="409320"/>
            <a:ext cx="1436400" cy="446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H="1" flipV="1">
            <a:off x="5548320" y="865800"/>
            <a:ext cx="482400" cy="1400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6658920" y="835560"/>
            <a:ext cx="552960" cy="677160"/>
            <a:chOff x="6658920" y="835560"/>
            <a:chExt cx="552960" cy="677160"/>
          </a:xfrm>
        </p:grpSpPr>
        <p:grpSp>
          <p:nvGrpSpPr>
            <p:cNvPr id="1025" name=""/>
            <p:cNvGrpSpPr/>
            <p:nvPr/>
          </p:nvGrpSpPr>
          <p:grpSpPr>
            <a:xfrm>
              <a:off x="6658920" y="835560"/>
              <a:ext cx="456120" cy="584280"/>
              <a:chOff x="6658920" y="835560"/>
              <a:chExt cx="456120" cy="584280"/>
            </a:xfrm>
          </p:grpSpPr>
          <p:sp>
            <p:nvSpPr>
              <p:cNvPr id="1026" name=""/>
              <p:cNvSpPr/>
              <p:nvPr/>
            </p:nvSpPr>
            <p:spPr>
              <a:xfrm rot="21577200">
                <a:off x="6660720" y="83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73480" y="906480"/>
                <a:ext cx="215640" cy="14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"/>
            <p:cNvSpPr/>
            <p:nvPr/>
          </p:nvSpPr>
          <p:spPr>
            <a:xfrm rot="21577200">
              <a:off x="6877440" y="105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219280" y="1267200"/>
            <a:ext cx="553320" cy="677160"/>
            <a:chOff x="5219280" y="1267200"/>
            <a:chExt cx="553320" cy="677160"/>
          </a:xfrm>
        </p:grpSpPr>
        <p:grpSp>
          <p:nvGrpSpPr>
            <p:cNvPr id="1030" name=""/>
            <p:cNvGrpSpPr/>
            <p:nvPr/>
          </p:nvGrpSpPr>
          <p:grpSpPr>
            <a:xfrm>
              <a:off x="5219280" y="1267200"/>
              <a:ext cx="456120" cy="584280"/>
              <a:chOff x="5219280" y="1267200"/>
              <a:chExt cx="456120" cy="584280"/>
            </a:xfrm>
          </p:grpSpPr>
          <p:sp>
            <p:nvSpPr>
              <p:cNvPr id="1031" name=""/>
              <p:cNvSpPr/>
              <p:nvPr/>
            </p:nvSpPr>
            <p:spPr>
              <a:xfrm rot="21577200">
                <a:off x="522108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V="1">
                <a:off x="5433840" y="1338120"/>
                <a:ext cx="21600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 rot="21577200">
              <a:off x="5438160" y="148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5795280" y="43200"/>
            <a:ext cx="552960" cy="677160"/>
            <a:chOff x="5795280" y="43200"/>
            <a:chExt cx="552960" cy="677160"/>
          </a:xfrm>
        </p:grpSpPr>
        <p:grpSp>
          <p:nvGrpSpPr>
            <p:cNvPr id="1035" name=""/>
            <p:cNvGrpSpPr/>
            <p:nvPr/>
          </p:nvGrpSpPr>
          <p:grpSpPr>
            <a:xfrm>
              <a:off x="5795280" y="43200"/>
              <a:ext cx="456120" cy="584280"/>
              <a:chOff x="5795280" y="43200"/>
              <a:chExt cx="456120" cy="584280"/>
            </a:xfrm>
          </p:grpSpPr>
          <p:sp>
            <p:nvSpPr>
              <p:cNvPr id="1036" name=""/>
              <p:cNvSpPr/>
              <p:nvPr/>
            </p:nvSpPr>
            <p:spPr>
              <a:xfrm rot="21577200">
                <a:off x="5797080" y="4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V="1">
                <a:off x="6009840" y="114120"/>
                <a:ext cx="21564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 rot="21577200">
              <a:off x="6013800" y="259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"/>
          <p:cNvSpPr/>
          <p:nvPr/>
        </p:nvSpPr>
        <p:spPr>
          <a:xfrm rot="21577200">
            <a:off x="7094520" y="1484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rot="21577200">
            <a:off x="7382160" y="83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rot="21577200">
            <a:off x="6805800" y="191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rot="21577200">
            <a:off x="8171280" y="20235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244480" y="2194920"/>
            <a:ext cx="1130040" cy="32173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2253960" y="2470680"/>
            <a:ext cx="3101040" cy="9658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4109760" y="2982600"/>
            <a:ext cx="966960" cy="1837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3009960" y="2751120"/>
            <a:ext cx="1436400" cy="446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 flipV="1">
            <a:off x="5461200" y="2829600"/>
            <a:ext cx="482400" cy="1400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H="1" flipV="1">
            <a:off x="3715200" y="5029920"/>
            <a:ext cx="2898000" cy="1699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5721480" y="2994840"/>
            <a:ext cx="558360" cy="678600"/>
            <a:chOff x="5721480" y="2994840"/>
            <a:chExt cx="558360" cy="678600"/>
          </a:xfrm>
        </p:grpSpPr>
        <p:grpSp>
          <p:nvGrpSpPr>
            <p:cNvPr id="1050" name=""/>
            <p:cNvGrpSpPr/>
            <p:nvPr/>
          </p:nvGrpSpPr>
          <p:grpSpPr>
            <a:xfrm>
              <a:off x="5721480" y="2994840"/>
              <a:ext cx="460440" cy="587880"/>
              <a:chOff x="5721480" y="2994840"/>
              <a:chExt cx="460440" cy="587880"/>
            </a:xfrm>
          </p:grpSpPr>
          <p:sp>
            <p:nvSpPr>
              <p:cNvPr id="1051" name=""/>
              <p:cNvSpPr/>
              <p:nvPr/>
            </p:nvSpPr>
            <p:spPr>
              <a:xfrm rot="21550200">
                <a:off x="5725440" y="2997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V="1">
                <a:off x="5936400" y="3066120"/>
                <a:ext cx="216000" cy="2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 rot="21550200">
              <a:off x="5943600" y="321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"/>
          <p:cNvSpPr/>
          <p:nvPr/>
        </p:nvSpPr>
        <p:spPr>
          <a:xfrm rot="21550200">
            <a:off x="4718160" y="465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rot="21550200">
            <a:off x="334980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4064040" y="3282120"/>
            <a:ext cx="558000" cy="678600"/>
            <a:chOff x="4064040" y="3282120"/>
            <a:chExt cx="558000" cy="678600"/>
          </a:xfrm>
        </p:grpSpPr>
        <p:grpSp>
          <p:nvGrpSpPr>
            <p:cNvPr id="1057" name=""/>
            <p:cNvGrpSpPr/>
            <p:nvPr/>
          </p:nvGrpSpPr>
          <p:grpSpPr>
            <a:xfrm>
              <a:off x="4064040" y="3282120"/>
              <a:ext cx="460440" cy="587880"/>
              <a:chOff x="4064040" y="3282120"/>
              <a:chExt cx="460440" cy="587880"/>
            </a:xfrm>
          </p:grpSpPr>
          <p:sp>
            <p:nvSpPr>
              <p:cNvPr id="1058" name=""/>
              <p:cNvSpPr/>
              <p:nvPr/>
            </p:nvSpPr>
            <p:spPr>
              <a:xfrm rot="21550200">
                <a:off x="4068000" y="328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V="1">
                <a:off x="4278960" y="3353400"/>
                <a:ext cx="215640" cy="32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 rot="21550200">
              <a:off x="4285800" y="3498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3273480" y="2274120"/>
            <a:ext cx="558000" cy="678600"/>
            <a:chOff x="3273480" y="2274120"/>
            <a:chExt cx="558000" cy="678600"/>
          </a:xfrm>
        </p:grpSpPr>
        <p:grpSp>
          <p:nvGrpSpPr>
            <p:cNvPr id="1062" name=""/>
            <p:cNvGrpSpPr/>
            <p:nvPr/>
          </p:nvGrpSpPr>
          <p:grpSpPr>
            <a:xfrm>
              <a:off x="3273480" y="2274120"/>
              <a:ext cx="460440" cy="587880"/>
              <a:chOff x="3273480" y="2274120"/>
              <a:chExt cx="460440" cy="587880"/>
            </a:xfrm>
          </p:grpSpPr>
          <p:sp>
            <p:nvSpPr>
              <p:cNvPr id="1063" name=""/>
              <p:cNvSpPr/>
              <p:nvPr/>
            </p:nvSpPr>
            <p:spPr>
              <a:xfrm rot="21550200">
                <a:off x="3277440" y="227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3488400" y="2345400"/>
                <a:ext cx="21564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 rot="21550200">
              <a:off x="3495240" y="2490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H="1" flipV="1">
            <a:off x="2754720" y="3094560"/>
            <a:ext cx="1251000" cy="200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 flipV="1">
            <a:off x="6279480" y="5187240"/>
            <a:ext cx="2702880" cy="152172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108360" y="1728000"/>
            <a:ext cx="2703240" cy="152172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rot="21577200">
            <a:off x="613080" y="213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rot="21577200">
            <a:off x="6518520" y="53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6998040" y="403560"/>
            <a:ext cx="1251000" cy="20008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H="1" flipV="1">
            <a:off x="6058080" y="2268360"/>
            <a:ext cx="2191320" cy="135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2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60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8000"/>
                            </p:stCondLst>
                            <p:childTnLst>
                              <p:par>
                                <p:cTn id="6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9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20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2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3635280" y="4941720"/>
            <a:ext cx="2808360" cy="1727280"/>
          </a:xfrm>
          <a:prstGeom prst="rect">
            <a:avLst/>
          </a:prstGeom>
          <a:solidFill>
            <a:srgbClr val="9c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16720" y="4292640"/>
            <a:ext cx="2016000" cy="57636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635280" y="4292640"/>
            <a:ext cx="2665440" cy="576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50920" y="-27000"/>
            <a:ext cx="8713800" cy="1297080"/>
          </a:xfrm>
          <a:prstGeom prst="wedgeRoundRectCallout">
            <a:avLst>
              <a:gd name="adj1" fmla="val -21745"/>
              <a:gd name="adj2" fmla="val 7043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5.2 Primena veri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žnog poligona kod sistema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554400" y="1325880"/>
            <a:ext cx="43560" cy="42778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574560" y="1418040"/>
            <a:ext cx="23760" cy="2088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582120" y="3737880"/>
            <a:ext cx="255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588960" y="2276280"/>
            <a:ext cx="2111400" cy="143964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88960" y="3716280"/>
            <a:ext cx="2111400" cy="136836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2689920" y="1632600"/>
            <a:ext cx="2880" cy="389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7107120" y="1483200"/>
            <a:ext cx="23760" cy="2088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120080" y="1484280"/>
            <a:ext cx="1584360" cy="100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7120080" y="2492280"/>
            <a:ext cx="1584360" cy="100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7119720" y="2492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120080" y="3643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8704440" y="3643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120080" y="38592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989440" y="227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989440" y="5084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349800" y="2276640"/>
            <a:ext cx="0" cy="2808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41440" y="551664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685800" y="1413000"/>
            <a:ext cx="452160" cy="581400"/>
            <a:chOff x="685800" y="1413000"/>
            <a:chExt cx="452160" cy="581400"/>
          </a:xfrm>
        </p:grpSpPr>
        <p:sp>
          <p:nvSpPr>
            <p:cNvPr id="1095" name=""/>
            <p:cNvSpPr/>
            <p:nvPr/>
          </p:nvSpPr>
          <p:spPr>
            <a:xfrm>
              <a:off x="685800" y="1413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900000" y="1483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6616800" y="1771560"/>
            <a:ext cx="452160" cy="581400"/>
            <a:chOff x="6616800" y="1771560"/>
            <a:chExt cx="452160" cy="581400"/>
          </a:xfrm>
        </p:grpSpPr>
        <p:sp>
          <p:nvSpPr>
            <p:cNvPr id="1098" name=""/>
            <p:cNvSpPr/>
            <p:nvPr/>
          </p:nvSpPr>
          <p:spPr>
            <a:xfrm>
              <a:off x="6616800" y="1771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831000" y="18428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 rot="21550200">
            <a:off x="8056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66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rot="21577200">
            <a:off x="7769520" y="1555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776880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rot="21550200">
            <a:off x="155124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66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rot="21577200">
            <a:off x="1406520" y="42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40652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343240" y="184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82520" y="3500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631240" y="501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688440" y="328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8633520" y="227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761520" y="119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277440" y="27813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3" name=""/>
          <p:cNvGraphicFramePr/>
          <p:nvPr/>
        </p:nvGraphicFramePr>
        <p:xfrm>
          <a:off x="2639880" y="278136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27813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5" name=""/>
          <p:cNvSpPr/>
          <p:nvPr/>
        </p:nvSpPr>
        <p:spPr>
          <a:xfrm>
            <a:off x="2702160" y="256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3780000" y="3730680"/>
                <a:ext cx="4895640" cy="29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l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astojanje</m:t>
                        </m:r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OBC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PDE,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:a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: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underbracealignl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eqAr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dukcioni</m:t>
                                    </m:r>
                                    <m:r>
                                      <m:t xml:space="preserve"> </m:t>
                                    </m:r>
                                  </m:e>
                                </m:eqAr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momen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le</m:t>
                            </m:r>
                            <m:r>
                              <m:t xml:space="preserve"> 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cku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e>
                    </m:eqAr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 rot="16200000">
            <a:off x="251640" y="2635920"/>
            <a:ext cx="2808000" cy="2089080"/>
          </a:xfrm>
          <a:prstGeom prst="triangle">
            <a:avLst>
              <a:gd name="adj" fmla="val 48838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rot="21550200">
            <a:off x="2341800" y="2276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rot="21550200">
            <a:off x="2341080" y="44366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rot="5400000">
            <a:off x="6912360" y="1664280"/>
            <a:ext cx="2016000" cy="1655640"/>
          </a:xfrm>
          <a:prstGeom prst="triangle">
            <a:avLst>
              <a:gd name="adj" fmla="val 49366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rot="21550200">
            <a:off x="7094160" y="1557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rot="21550200">
            <a:off x="7094880" y="2924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6516720" y="1700280"/>
            <a:ext cx="503280" cy="718920"/>
            <a:chOff x="6516720" y="1700280"/>
            <a:chExt cx="503280" cy="718920"/>
          </a:xfrm>
        </p:grpSpPr>
        <p:grpSp>
          <p:nvGrpSpPr>
            <p:cNvPr id="1124" name=""/>
            <p:cNvGrpSpPr/>
            <p:nvPr/>
          </p:nvGrpSpPr>
          <p:grpSpPr>
            <a:xfrm>
              <a:off x="6518160" y="1771560"/>
              <a:ext cx="452160" cy="581400"/>
              <a:chOff x="6518160" y="1771560"/>
              <a:chExt cx="452160" cy="581400"/>
            </a:xfrm>
          </p:grpSpPr>
          <p:sp>
            <p:nvSpPr>
              <p:cNvPr id="1125" name=""/>
              <p:cNvSpPr/>
              <p:nvPr/>
            </p:nvSpPr>
            <p:spPr>
              <a:xfrm>
                <a:off x="6518160" y="177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732360" y="184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6516720" y="1700280"/>
              <a:ext cx="0" cy="718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020000" y="1700280"/>
              <a:ext cx="0" cy="718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8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1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000"/>
                            </p:stCondLst>
                            <p:childTnLst>
                              <p:par>
                                <p:cTn id="78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4" dur="2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6633"/>
                                      </p:to>
                                    </p:animClr>
                                    <p:set>
                                      <p:cBhvr>
                                        <p:cTn id="785" dur="2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2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8000"/>
                            </p:stCondLst>
                            <p:childTnLst>
                              <p:par>
                                <p:cTn id="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5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  <p:set>
                                      <p:cBhvr>
                                        <p:cTn id="796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2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8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0" dur="2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0" dur="2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0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4000"/>
                            </p:stCondLst>
                            <p:childTnLst>
                              <p:par>
                                <p:cTn id="8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8" dur="2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60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8000"/>
                            </p:stCondLst>
                            <p:childTnLst>
                              <p:par>
                                <p:cTn id="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0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32000"/>
                            </p:stCondLst>
                            <p:childTnLst>
                              <p:par>
                                <p:cTn id="8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2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2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2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2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2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2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4000"/>
                            </p:stCondLst>
                            <p:childTnLst>
                              <p:par>
                                <p:cTn id="89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2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6000"/>
                            </p:stCondLst>
                            <p:childTnLst>
                              <p:par>
                                <p:cTn id="8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7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8000"/>
                            </p:stCondLst>
                            <p:childTnLst>
                              <p:par>
                                <p:cTn id="8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1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40000"/>
                            </p:stCondLst>
                            <p:childTnLst>
                              <p:par>
                                <p:cTn id="9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5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0" y="5805360"/>
            <a:ext cx="3276720" cy="1052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608760" y="615240"/>
            <a:ext cx="1440" cy="236520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333720" y="115920"/>
            <a:ext cx="569520" cy="648720"/>
            <a:chOff x="333720" y="115920"/>
            <a:chExt cx="569520" cy="648720"/>
          </a:xfrm>
        </p:grpSpPr>
        <p:sp>
          <p:nvSpPr>
            <p:cNvPr id="1132" name=""/>
            <p:cNvSpPr/>
            <p:nvPr/>
          </p:nvSpPr>
          <p:spPr>
            <a:xfrm>
              <a:off x="333720" y="1159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40000" y="1868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7525800" y="6021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666633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2184480" y="980280"/>
            <a:ext cx="23400" cy="2088720"/>
          </a:xfrm>
          <a:prstGeom prst="line">
            <a:avLst/>
          </a:prstGeom>
          <a:ln w="7632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531800" y="1171800"/>
            <a:ext cx="0" cy="119232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3105000" y="1231560"/>
            <a:ext cx="9360" cy="1725480"/>
          </a:xfrm>
          <a:prstGeom prst="line">
            <a:avLst/>
          </a:prstGeom>
          <a:ln w="76320">
            <a:solidFill>
              <a:srgbClr val="6666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868560" y="1603800"/>
            <a:ext cx="360" cy="1191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556160" y="1675080"/>
            <a:ext cx="0" cy="1191960"/>
          </a:xfrm>
          <a:prstGeom prst="line">
            <a:avLst/>
          </a:prstGeom>
          <a:ln w="76320">
            <a:solidFill>
              <a:srgbClr val="99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275080" y="1530720"/>
            <a:ext cx="360" cy="1191960"/>
          </a:xfrm>
          <a:prstGeom prst="line">
            <a:avLst/>
          </a:prstGeom>
          <a:ln w="76320">
            <a:solidFill>
              <a:srgbClr val="b3925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0" y="386064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11280" y="2924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547640" y="227664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195640" y="285264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572000" y="285264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292720" y="2637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940360" y="335772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372360" y="981000"/>
            <a:ext cx="237636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rot="21550200">
            <a:off x="752652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443640" y="2205000"/>
            <a:ext cx="23050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rot="21550200">
            <a:off x="68788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6443640" y="3357360"/>
            <a:ext cx="23050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rot="21550200">
            <a:off x="6950160" y="3763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6372360" y="2565360"/>
            <a:ext cx="237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rot="21550200">
            <a:off x="673416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6443640" y="3357720"/>
            <a:ext cx="230508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rot="21550200">
            <a:off x="6661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6443280" y="3357720"/>
            <a:ext cx="230508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rot="21550200">
            <a:off x="7045560" y="414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6443280" y="3357720"/>
            <a:ext cx="230508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rot="21550200">
            <a:off x="6878880" y="50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9257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867780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197000" y="620640"/>
            <a:ext cx="569520" cy="648720"/>
            <a:chOff x="1197000" y="620640"/>
            <a:chExt cx="569520" cy="648720"/>
          </a:xfrm>
        </p:grpSpPr>
        <p:sp>
          <p:nvSpPr>
            <p:cNvPr id="1164" name=""/>
            <p:cNvSpPr/>
            <p:nvPr/>
          </p:nvSpPr>
          <p:spPr>
            <a:xfrm>
              <a:off x="1197000" y="620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403280" y="691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5805720" y="2565360"/>
            <a:ext cx="569520" cy="648720"/>
            <a:chOff x="5805720" y="2565360"/>
            <a:chExt cx="569520" cy="648720"/>
          </a:xfrm>
        </p:grpSpPr>
        <p:sp>
          <p:nvSpPr>
            <p:cNvPr id="1167" name=""/>
            <p:cNvSpPr/>
            <p:nvPr/>
          </p:nvSpPr>
          <p:spPr>
            <a:xfrm>
              <a:off x="5805720" y="256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012000" y="2636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2886120" y="692280"/>
            <a:ext cx="569520" cy="648720"/>
            <a:chOff x="2886120" y="692280"/>
            <a:chExt cx="569520" cy="648720"/>
          </a:xfrm>
        </p:grpSpPr>
        <p:sp>
          <p:nvSpPr>
            <p:cNvPr id="1170" name=""/>
            <p:cNvSpPr/>
            <p:nvPr/>
          </p:nvSpPr>
          <p:spPr>
            <a:xfrm>
              <a:off x="288612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092400" y="763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805720" y="3068640"/>
            <a:ext cx="569520" cy="648720"/>
            <a:chOff x="5805720" y="3068640"/>
            <a:chExt cx="569520" cy="648720"/>
          </a:xfrm>
        </p:grpSpPr>
        <p:sp>
          <p:nvSpPr>
            <p:cNvPr id="1173" name=""/>
            <p:cNvSpPr/>
            <p:nvPr/>
          </p:nvSpPr>
          <p:spPr>
            <a:xfrm>
              <a:off x="580572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012000" y="313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221360" y="1125360"/>
            <a:ext cx="569520" cy="648720"/>
            <a:chOff x="4221360" y="1125360"/>
            <a:chExt cx="569520" cy="648720"/>
          </a:xfrm>
        </p:grpSpPr>
        <p:sp>
          <p:nvSpPr>
            <p:cNvPr id="1176" name=""/>
            <p:cNvSpPr/>
            <p:nvPr/>
          </p:nvSpPr>
          <p:spPr>
            <a:xfrm>
              <a:off x="4221360" y="112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427640" y="1196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5013360" y="907920"/>
            <a:ext cx="569520" cy="648720"/>
            <a:chOff x="5013360" y="907920"/>
            <a:chExt cx="569520" cy="648720"/>
          </a:xfrm>
        </p:grpSpPr>
        <p:sp>
          <p:nvSpPr>
            <p:cNvPr id="1179" name=""/>
            <p:cNvSpPr/>
            <p:nvPr/>
          </p:nvSpPr>
          <p:spPr>
            <a:xfrm>
              <a:off x="5013360" y="9079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19640" y="979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1" name=""/>
          <p:cNvSpPr/>
          <p:nvPr/>
        </p:nvSpPr>
        <p:spPr>
          <a:xfrm flipH="1" flipV="1">
            <a:off x="6404760" y="1005480"/>
            <a:ext cx="1440" cy="236520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5877000" y="692280"/>
            <a:ext cx="569520" cy="648720"/>
            <a:chOff x="5877000" y="692280"/>
            <a:chExt cx="569520" cy="648720"/>
          </a:xfrm>
        </p:grpSpPr>
        <p:sp>
          <p:nvSpPr>
            <p:cNvPr id="1183" name=""/>
            <p:cNvSpPr/>
            <p:nvPr/>
          </p:nvSpPr>
          <p:spPr>
            <a:xfrm>
              <a:off x="587700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083280" y="763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6427800" y="1028160"/>
            <a:ext cx="0" cy="119160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6382080" y="1341360"/>
            <a:ext cx="569520" cy="648720"/>
            <a:chOff x="6382080" y="1341360"/>
            <a:chExt cx="569520" cy="648720"/>
          </a:xfrm>
        </p:grpSpPr>
        <p:sp>
          <p:nvSpPr>
            <p:cNvPr id="1187" name=""/>
            <p:cNvSpPr/>
            <p:nvPr/>
          </p:nvSpPr>
          <p:spPr>
            <a:xfrm>
              <a:off x="6382080" y="1341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588360" y="141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6406920" y="2192760"/>
            <a:ext cx="3240" cy="2149920"/>
          </a:xfrm>
          <a:prstGeom prst="line">
            <a:avLst/>
          </a:prstGeom>
          <a:ln w="7632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1989360" y="404640"/>
            <a:ext cx="569520" cy="648720"/>
            <a:chOff x="1989360" y="404640"/>
            <a:chExt cx="569520" cy="648720"/>
          </a:xfrm>
        </p:grpSpPr>
        <p:sp>
          <p:nvSpPr>
            <p:cNvPr id="1191" name=""/>
            <p:cNvSpPr/>
            <p:nvPr/>
          </p:nvSpPr>
          <p:spPr>
            <a:xfrm>
              <a:off x="1989360" y="40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195640" y="47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5940360" y="4292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940360" y="335772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3995640" y="5950080"/>
            <a:ext cx="914400" cy="609480"/>
            <a:chOff x="3995640" y="5950080"/>
            <a:chExt cx="914400" cy="609480"/>
          </a:xfrm>
        </p:grpSpPr>
        <p:sp>
          <p:nvSpPr>
            <p:cNvPr id="1196" name=""/>
            <p:cNvSpPr/>
            <p:nvPr/>
          </p:nvSpPr>
          <p:spPr>
            <a:xfrm>
              <a:off x="3995640" y="5950080"/>
              <a:ext cx="914400" cy="609480"/>
            </a:xfrm>
            <a:prstGeom prst="wedgeRoundRectCallout">
              <a:avLst>
                <a:gd name="adj1" fmla="val 160939"/>
                <a:gd name="adj2" fmla="val -401564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84720" y="6021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98" name=""/>
          <p:cNvGraphicFramePr/>
          <p:nvPr/>
        </p:nvGraphicFramePr>
        <p:xfrm>
          <a:off x="2639880" y="278136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27813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0" name=""/>
          <p:cNvSpPr/>
          <p:nvPr/>
        </p:nvSpPr>
        <p:spPr>
          <a:xfrm>
            <a:off x="2702160" y="256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700360" y="2852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 flipV="1">
            <a:off x="6413760" y="2571840"/>
            <a:ext cx="19080" cy="1753560"/>
          </a:xfrm>
          <a:prstGeom prst="line">
            <a:avLst/>
          </a:prstGeom>
          <a:ln w="76320">
            <a:solidFill>
              <a:srgbClr val="6666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6382080" y="2852640"/>
            <a:ext cx="569520" cy="648720"/>
            <a:chOff x="6382080" y="2852640"/>
            <a:chExt cx="569520" cy="648720"/>
          </a:xfrm>
        </p:grpSpPr>
        <p:sp>
          <p:nvSpPr>
            <p:cNvPr id="1204" name=""/>
            <p:cNvSpPr/>
            <p:nvPr/>
          </p:nvSpPr>
          <p:spPr>
            <a:xfrm>
              <a:off x="6382080" y="2852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588360" y="2923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6" name=""/>
          <p:cNvSpPr/>
          <p:nvPr/>
        </p:nvSpPr>
        <p:spPr>
          <a:xfrm>
            <a:off x="6427800" y="2612520"/>
            <a:ext cx="0" cy="119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427800" y="3764160"/>
            <a:ext cx="0" cy="1191960"/>
          </a:xfrm>
          <a:prstGeom prst="line">
            <a:avLst/>
          </a:prstGeom>
          <a:ln w="76320">
            <a:solidFill>
              <a:srgbClr val="99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5805720" y="4292640"/>
            <a:ext cx="569520" cy="648720"/>
            <a:chOff x="5805720" y="4292640"/>
            <a:chExt cx="569520" cy="648720"/>
          </a:xfrm>
        </p:grpSpPr>
        <p:sp>
          <p:nvSpPr>
            <p:cNvPr id="1209" name=""/>
            <p:cNvSpPr/>
            <p:nvPr/>
          </p:nvSpPr>
          <p:spPr>
            <a:xfrm>
              <a:off x="5805720" y="4292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12000" y="4363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6427800" y="4915080"/>
            <a:ext cx="0" cy="1191960"/>
          </a:xfrm>
          <a:prstGeom prst="line">
            <a:avLst/>
          </a:prstGeom>
          <a:ln w="76320">
            <a:solidFill>
              <a:srgbClr val="b3925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5805720" y="5084640"/>
            <a:ext cx="569520" cy="648720"/>
            <a:chOff x="5805720" y="5084640"/>
            <a:chExt cx="569520" cy="648720"/>
          </a:xfrm>
        </p:grpSpPr>
        <p:sp>
          <p:nvSpPr>
            <p:cNvPr id="1213" name=""/>
            <p:cNvSpPr/>
            <p:nvPr/>
          </p:nvSpPr>
          <p:spPr>
            <a:xfrm>
              <a:off x="5805720" y="508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012000" y="51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3573720" y="981000"/>
            <a:ext cx="569520" cy="648720"/>
            <a:chOff x="3573720" y="981000"/>
            <a:chExt cx="569520" cy="648720"/>
          </a:xfrm>
        </p:grpSpPr>
        <p:sp>
          <p:nvSpPr>
            <p:cNvPr id="1216" name=""/>
            <p:cNvSpPr/>
            <p:nvPr/>
          </p:nvSpPr>
          <p:spPr>
            <a:xfrm>
              <a:off x="3573720" y="981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780000" y="105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132000" y="285264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851280" y="2708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11280" y="3860640"/>
            <a:ext cx="93636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547640" y="4797360"/>
            <a:ext cx="648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2195640" y="4724280"/>
            <a:ext cx="93636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132000" y="4724280"/>
            <a:ext cx="71928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3851280" y="4869000"/>
            <a:ext cx="720720" cy="7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4572000" y="4365720"/>
            <a:ext cx="7207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5292720" y="3645000"/>
            <a:ext cx="5745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rot="21550200">
            <a:off x="757440" y="419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rot="21550200">
            <a:off x="1621080" y="491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rot="21550200">
            <a:off x="2486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rot="21550200">
            <a:off x="320544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rot="21550200">
            <a:off x="406908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rot="21550200">
            <a:off x="478980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rot="21550200">
            <a:off x="5389560" y="390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9257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700360" y="3860640"/>
            <a:ext cx="0" cy="1081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270160" y="41432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8748720" y="3716280"/>
            <a:ext cx="0" cy="2737080"/>
          </a:xfrm>
          <a:prstGeom prst="line">
            <a:avLst/>
          </a:prstGeom>
          <a:ln w="381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443640" y="6237360"/>
            <a:ext cx="0" cy="287280"/>
          </a:xfrm>
          <a:prstGeom prst="line">
            <a:avLst/>
          </a:prstGeom>
          <a:ln w="381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443640" y="6453360"/>
            <a:ext cx="2305080" cy="0"/>
          </a:xfrm>
          <a:prstGeom prst="line">
            <a:avLst/>
          </a:prstGeom>
          <a:ln w="38160">
            <a:solidFill>
              <a:srgbClr val="6666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179280" y="5837400"/>
                <a:ext cx="28083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evo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2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9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2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4000"/>
                            </p:stCondLst>
                            <p:childTnLst>
                              <p:par>
                                <p:cTn id="9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6000"/>
                            </p:stCondLst>
                            <p:childTnLst>
                              <p:par>
                                <p:cTn id="9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2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8000"/>
                            </p:stCondLst>
                            <p:childTnLst>
                              <p:par>
                                <p:cTn id="9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2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2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9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6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9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2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220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4000"/>
                            </p:stCondLst>
                            <p:childTnLst>
                              <p:par>
                                <p:cTn id="9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2" dur="2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6000"/>
                            </p:stCondLst>
                            <p:childTnLst>
                              <p:par>
                                <p:cTn id="9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2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80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30000"/>
                            </p:stCondLst>
                            <p:childTnLst>
                              <p:par>
                                <p:cTn id="9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7" dur="2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32000"/>
                            </p:stCondLst>
                            <p:childTnLst>
                              <p:par>
                                <p:cTn id="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34000"/>
                            </p:stCondLst>
                            <p:childTnLst>
                              <p:par>
                                <p:cTn id="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2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2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440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2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600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2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48000"/>
                            </p:stCondLst>
                            <p:childTnLst>
                              <p:par>
                                <p:cTn id="10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2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2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2000"/>
                            </p:stCondLst>
                            <p:childTnLst>
                              <p:par>
                                <p:cTn id="10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2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40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2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560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8000"/>
                            </p:stCondLst>
                            <p:childTnLst>
                              <p:par>
                                <p:cTn id="10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2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60000"/>
                            </p:stCondLst>
                            <p:childTnLst>
                              <p:par>
                                <p:cTn id="1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62000"/>
                            </p:stCondLst>
                            <p:childTnLst>
                              <p:par>
                                <p:cTn id="10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2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64000"/>
                            </p:stCondLst>
                            <p:childTnLst>
                              <p:par>
                                <p:cTn id="10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2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2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660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68000"/>
                            </p:stCondLst>
                            <p:childTnLst>
                              <p:par>
                                <p:cTn id="10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6" dur="2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70000"/>
                            </p:stCondLst>
                            <p:childTnLst>
                              <p:par>
                                <p:cTn id="11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3" dur="2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6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203640" y="4292640"/>
            <a:ext cx="5940360" cy="2305080"/>
          </a:xfrm>
          <a:prstGeom prst="wedgeRoundRectCallout">
            <a:avLst>
              <a:gd name="adj1" fmla="val -16620"/>
              <a:gd name="adj2" fmla="val 51101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vektor položa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bilo koje tačke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napadnoj liniji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5229360"/>
            <a:ext cx="4284720" cy="1628640"/>
          </a:xfrm>
          <a:prstGeom prst="wedgeRoundRectCallout">
            <a:avLst>
              <a:gd name="adj1" fmla="val -18060"/>
              <a:gd name="adj2" fmla="val 27680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Varinjon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Sistem sila sa paralelnim napadnim linijama uvek ima rezultantu, kad god je prva stati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čka invarijanta sistema različita od nule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Položaj napadne linije rezultan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(Varinjonova teore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203640" y="235080"/>
                <a:ext cx="316872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⊥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1187280" y="476280"/>
            <a:ext cx="201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ko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619280" y="2492280"/>
                <a:ext cx="14731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755640" y="4292640"/>
                <a:ext cx="66070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68360" y="5373720"/>
                <a:ext cx="33480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619280" y="2637000"/>
            <a:ext cx="6265800" cy="1584000"/>
          </a:xfrm>
          <a:prstGeom prst="wedgeRoundRectCallout">
            <a:avLst>
              <a:gd name="adj1" fmla="val -28972"/>
              <a:gd name="adj2" fmla="val 136875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835280" y="952560"/>
                <a:ext cx="5789520" cy="32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lim>
                        </m:limLow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1258920" y="5157720"/>
            <a:ext cx="2700360" cy="136836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Iz ove jednač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sl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dva zaključ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996840" y="-27000"/>
                <a:ext cx="7823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900000" y="1486080"/>
                <a:ext cx="6840720" cy="537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249228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50920" y="2602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 je sredi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šte sistema s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Iz izraza (1) dalje sledi (skalarnim množenjem jediničnim vektorima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i, j, k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, respektivn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4920" y="1773360"/>
                <a:ext cx="8893080" cy="49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39680" y="260280"/>
                <a:ext cx="8825040" cy="400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684360" y="2924280"/>
            <a:ext cx="55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Imajući u vidu da iz izraza 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 sled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900000" y="4437000"/>
                <a:ext cx="7004160" cy="19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24000" y="1052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Kombinujući predhodni izraz sa izrazom 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 dobija se 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jednačina napadne linije rezultante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900000" y="3182760"/>
                <a:ext cx="7632720" cy="197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07T06:12:53Z</dcterms:modified>
  <cp:revision>467</cp:revision>
  <dc:subject/>
  <dc:title>Slide 1</dc:title>
</cp:coreProperties>
</file>