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EA62-4A64-47DB-A5AE-F80161C8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9E12-5CDD-4E0C-AD8B-E5ED192E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3840-1D70-4269-B878-E010A366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418-D13C-4580-B532-2B89E518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4D6C-5B57-4E4D-8E50-0F918F35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18A5-CBDC-4E48-84C1-429743AD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D15A-0367-4E05-8398-BFF8510A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9BED-43F6-4965-A4D1-B27BF900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011D-BCBB-4854-A9AC-7063F3F8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78F2-53B8-40E7-B777-7A3065DA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BAE5-96AC-4BBC-86ED-BEE77ECE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082C-64AA-47E7-9C94-579710A2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023A-FAA9-4E6D-A94D-B50EC054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0EAF-7C35-48B0-91B4-132CBD9D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19E3-3AA9-4A8A-83EC-70711CD4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7357-8280-4264-9F5A-FFEACA73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6A88-1ED2-4E98-9785-7D571790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9218-E1BB-4D0E-8017-BC45BCA6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920-1C2F-4DFA-8B62-562FE13A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C8D4-B66A-4E6F-8D9E-D53E5092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048-BB57-442F-843B-C7388229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AC59-26DB-40A6-81C2-6352D311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AEA2-436F-4C5E-B598-03859139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B666-209A-4BD2-BCDC-A789669C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0F6C-ED3B-4877-8C4E-EE15F25B3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3064-94E9-4350-80D7-EA362278A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8.wmf"/><Relationship Id="rId2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86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avnoteže elementa nosača su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0" y="663480"/>
          <a:ext cx="9144000" cy="21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3480"/>
                    <a:ext cx="914400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0" y="2584440"/>
          <a:ext cx="4572000" cy="20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84440"/>
                    <a:ext cx="45720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0" y="4619520"/>
            <a:ext cx="78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 gornjim izrazima iskoristili smo slede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će ve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1440" y="5195880"/>
          <a:ext cx="4570560" cy="160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0" y="5195880"/>
                    <a:ext cx="457056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0" y="0"/>
          <a:ext cx="7029360" cy="31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293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0" y="3390840"/>
            <a:ext cx="78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SAČ KAO POLIGONALNA LINI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85960" y="4965480"/>
            <a:ext cx="728640" cy="107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614600" y="4965840"/>
            <a:ext cx="161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27400" y="4965840"/>
            <a:ext cx="922320" cy="76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49720" y="4773600"/>
            <a:ext cx="1266840" cy="96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838400">
            <a:off x="499680" y="6004080"/>
            <a:ext cx="654120" cy="19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7800" y="5848200"/>
            <a:ext cx="57636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1460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4464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7504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0652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3692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76696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99736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740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14600" y="4657680"/>
            <a:ext cx="161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409640" y="4731480"/>
            <a:ext cx="1400400" cy="1523520"/>
            <a:chOff x="4409640" y="4731480"/>
            <a:chExt cx="1400400" cy="1523520"/>
          </a:xfrm>
        </p:grpSpPr>
        <p:sp>
          <p:nvSpPr>
            <p:cNvPr id="508" name=""/>
            <p:cNvSpPr/>
            <p:nvPr/>
          </p:nvSpPr>
          <p:spPr>
            <a:xfrm flipV="1">
              <a:off x="4746600" y="4929840"/>
              <a:ext cx="613440" cy="46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478400" y="5392440"/>
              <a:ext cx="267840" cy="53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46600" y="5392440"/>
              <a:ext cx="32328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9378800">
              <a:off x="5204880" y="4829040"/>
              <a:ext cx="4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9378800">
              <a:off x="4531320" y="568224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9378800">
              <a:off x="4934160" y="529704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114640" y="5079960"/>
            <a:ext cx="768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576080" y="5079960"/>
            <a:ext cx="53820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14640" y="5079960"/>
            <a:ext cx="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28800" y="5022720"/>
            <a:ext cx="4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538280" y="5214960"/>
            <a:ext cx="3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90600" y="51958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7029360" y="4389480"/>
          <a:ext cx="1255680" cy="2468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9360" y="4389480"/>
                    <a:ext cx="125568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0" y="779400"/>
          <a:ext cx="656892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79400"/>
                    <a:ext cx="656892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0" y="203040"/>
            <a:ext cx="70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Jednačine (1) i (2) postaj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0" y="3371760"/>
          <a:ext cx="7183440" cy="280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371760"/>
                    <a:ext cx="718344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80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z jednačina (1), (2) i (3) sle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0" y="433440"/>
          <a:ext cx="914400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3440"/>
                    <a:ext cx="914400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0" y="2968560"/>
            <a:ext cx="883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z gornje dve jednačine, imamo šest skalarnih uslova ravnoteže elementa linijskog nosač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0" y="3951360"/>
          <a:ext cx="41497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51360"/>
                    <a:ext cx="41497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189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SILE U PRESEKU LINIJSKOG PROSTORNOG NOS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Č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6239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smatramo deo nosača koji je pod uticajem aktivnih i reaktivnih sila u ravnoteži. U tački P uočimo poprečni presek nos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23720" y="3274920"/>
            <a:ext cx="4521240" cy="3881160"/>
            <a:chOff x="423720" y="3274920"/>
            <a:chExt cx="4521240" cy="3881160"/>
          </a:xfrm>
        </p:grpSpPr>
        <p:sp>
          <p:nvSpPr>
            <p:cNvPr id="215" name=""/>
            <p:cNvSpPr/>
            <p:nvPr/>
          </p:nvSpPr>
          <p:spPr>
            <a:xfrm flipH="1">
              <a:off x="1306440" y="4083120"/>
              <a:ext cx="3458160" cy="3072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40" y="919"/>
                  </a:moveTo>
                  <a:arcTo wR="10800" hR="10800" stAng="-6828609" swAng="7334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6440" y="919"/>
                  </a:moveTo>
                  <a:arcTo wR="10800" hR="10800" stAng="-6828609" swAng="733479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84200" y="4465800"/>
              <a:ext cx="19224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384200" y="4235400"/>
              <a:ext cx="23040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384200" y="5309640"/>
              <a:ext cx="1922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693360" y="5617800"/>
              <a:ext cx="614520" cy="230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692360" y="4465440"/>
              <a:ext cx="42228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1538280" y="4119120"/>
              <a:ext cx="42228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38280" y="454356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38280" y="4849920"/>
              <a:ext cx="154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52760" y="442764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06480" y="4275000"/>
              <a:ext cx="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0560" y="41194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52760" y="4695840"/>
              <a:ext cx="1936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06480" y="4543560"/>
              <a:ext cx="1922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60560" y="4427640"/>
              <a:ext cx="154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90600" y="3505320"/>
              <a:ext cx="500040" cy="1382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539640" y="5848200"/>
              <a:ext cx="730080" cy="614160"/>
              <a:chOff x="539640" y="5848200"/>
              <a:chExt cx="730080" cy="614160"/>
            </a:xfrm>
          </p:grpSpPr>
          <p:sp>
            <p:nvSpPr>
              <p:cNvPr id="232" name=""/>
              <p:cNvSpPr/>
              <p:nvPr/>
            </p:nvSpPr>
            <p:spPr>
              <a:xfrm flipH="1">
                <a:off x="731520" y="5848200"/>
                <a:ext cx="538200" cy="4600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39640" y="6270480"/>
                <a:ext cx="230400" cy="1918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1346040" y="561816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689280" y="3929040"/>
              <a:ext cx="728640" cy="268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701880" y="4200840"/>
              <a:ext cx="817920" cy="491040"/>
              <a:chOff x="3701880" y="4200840"/>
              <a:chExt cx="817920" cy="491040"/>
            </a:xfrm>
          </p:grpSpPr>
          <p:sp>
            <p:nvSpPr>
              <p:cNvPr id="237" name=""/>
              <p:cNvSpPr/>
              <p:nvPr/>
            </p:nvSpPr>
            <p:spPr>
              <a:xfrm>
                <a:off x="3701880" y="4200840"/>
                <a:ext cx="609840" cy="3596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63480" y="4536360"/>
                <a:ext cx="256320" cy="1555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23720" y="4888080"/>
              <a:ext cx="806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0" name=""/>
            <p:cNvGraphicFramePr/>
            <p:nvPr/>
          </p:nvGraphicFramePr>
          <p:xfrm>
            <a:off x="480960" y="4888080"/>
            <a:ext cx="479520" cy="63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0960" y="4888080"/>
                      <a:ext cx="479520" cy="63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"/>
            <p:cNvGraphicFramePr/>
            <p:nvPr/>
          </p:nvGraphicFramePr>
          <p:xfrm>
            <a:off x="885960" y="6319800"/>
            <a:ext cx="538200" cy="53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85960" y="6319800"/>
                      <a:ext cx="53820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2882880" y="4465800"/>
            <a:ext cx="488880" cy="65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82880" y="4465800"/>
                      <a:ext cx="488880" cy="6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46" name=""/>
            <p:cNvGrpSpPr/>
            <p:nvPr/>
          </p:nvGrpSpPr>
          <p:grpSpPr>
            <a:xfrm>
              <a:off x="2370240" y="4162320"/>
              <a:ext cx="1164240" cy="118080"/>
              <a:chOff x="2370240" y="4162320"/>
              <a:chExt cx="1164240" cy="118080"/>
            </a:xfrm>
          </p:grpSpPr>
          <p:sp>
            <p:nvSpPr>
              <p:cNvPr id="247" name=""/>
              <p:cNvSpPr/>
              <p:nvPr/>
            </p:nvSpPr>
            <p:spPr>
              <a:xfrm>
                <a:off x="2370240" y="4162320"/>
                <a:ext cx="870840" cy="8280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170520" y="4242240"/>
                <a:ext cx="363960" cy="381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 flipV="1">
              <a:off x="1346040" y="3774600"/>
              <a:ext cx="1036800" cy="3841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82840" y="4159080"/>
              <a:ext cx="1036800" cy="3844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1224720" y="4021920"/>
              <a:ext cx="1164240" cy="118080"/>
              <a:chOff x="1224720" y="4021920"/>
              <a:chExt cx="1164240" cy="118080"/>
            </a:xfrm>
          </p:grpSpPr>
          <p:sp>
            <p:nvSpPr>
              <p:cNvPr id="252" name=""/>
              <p:cNvSpPr/>
              <p:nvPr/>
            </p:nvSpPr>
            <p:spPr>
              <a:xfrm flipH="1" flipV="1">
                <a:off x="1518120" y="4057200"/>
                <a:ext cx="870840" cy="828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1224720" y="4021920"/>
                <a:ext cx="363960" cy="381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54" name=""/>
            <p:cNvGraphicFramePr/>
            <p:nvPr/>
          </p:nvGraphicFramePr>
          <p:xfrm>
            <a:off x="1360440" y="3274920"/>
            <a:ext cx="403200" cy="576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60440" y="3274920"/>
                      <a:ext cx="4032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6" name=""/>
            <p:cNvGraphicFramePr/>
            <p:nvPr/>
          </p:nvGraphicFramePr>
          <p:xfrm>
            <a:off x="3376440" y="4311720"/>
            <a:ext cx="700200" cy="538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76440" y="4311720"/>
                      <a:ext cx="70020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8" name=""/>
            <p:cNvGraphicFramePr/>
            <p:nvPr/>
          </p:nvGraphicFramePr>
          <p:xfrm>
            <a:off x="442800" y="3813120"/>
            <a:ext cx="847800" cy="652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42800" y="3813120"/>
                      <a:ext cx="847800" cy="6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0" name=""/>
            <p:cNvSpPr/>
            <p:nvPr/>
          </p:nvSpPr>
          <p:spPr>
            <a:xfrm flipV="1">
              <a:off x="2459160" y="3928680"/>
              <a:ext cx="69192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1" name=""/>
            <p:cNvGraphicFramePr/>
            <p:nvPr/>
          </p:nvGraphicFramePr>
          <p:xfrm>
            <a:off x="2697120" y="3352680"/>
            <a:ext cx="392040" cy="551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697120" y="3352680"/>
                      <a:ext cx="392040" cy="5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3" name=""/>
            <p:cNvSpPr/>
            <p:nvPr/>
          </p:nvSpPr>
          <p:spPr>
            <a:xfrm>
              <a:off x="3765600" y="4235400"/>
              <a:ext cx="80640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4" name=""/>
            <p:cNvGraphicFramePr/>
            <p:nvPr/>
          </p:nvGraphicFramePr>
          <p:xfrm>
            <a:off x="4572000" y="4005360"/>
            <a:ext cx="37296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572000" y="4005360"/>
                      <a:ext cx="3729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" name=""/>
            <p:cNvSpPr/>
            <p:nvPr/>
          </p:nvSpPr>
          <p:spPr>
            <a:xfrm>
              <a:off x="2152800" y="415908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802040" y="4657680"/>
            <a:ext cx="4032360" cy="1228680"/>
            <a:chOff x="4802040" y="4657680"/>
            <a:chExt cx="4032360" cy="1228680"/>
          </a:xfrm>
        </p:grpSpPr>
        <p:sp>
          <p:nvSpPr>
            <p:cNvPr id="268" name=""/>
            <p:cNvSpPr/>
            <p:nvPr/>
          </p:nvSpPr>
          <p:spPr>
            <a:xfrm flipH="1" flipV="1">
              <a:off x="5148000" y="4888080"/>
              <a:ext cx="153720" cy="65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917600" y="5541840"/>
              <a:ext cx="38412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302080" y="5271840"/>
              <a:ext cx="72900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02080" y="5541840"/>
              <a:ext cx="80676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78440" y="534996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62520" y="538812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46600" y="5425920"/>
              <a:ext cx="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94320" y="546408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6" name=""/>
            <p:cNvGraphicFramePr/>
            <p:nvPr/>
          </p:nvGraphicFramePr>
          <p:xfrm>
            <a:off x="5838840" y="4811760"/>
            <a:ext cx="311040" cy="434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38840" y="4811760"/>
                      <a:ext cx="311040" cy="43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6108840" y="5425920"/>
            <a:ext cx="282600" cy="460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108840" y="5425920"/>
                      <a:ext cx="28260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"/>
            <p:cNvGraphicFramePr/>
            <p:nvPr/>
          </p:nvGraphicFramePr>
          <p:xfrm>
            <a:off x="5224320" y="4735440"/>
            <a:ext cx="270000" cy="4161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224320" y="4735440"/>
                      <a:ext cx="270000" cy="4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2" name=""/>
            <p:cNvGraphicFramePr/>
            <p:nvPr/>
          </p:nvGraphicFramePr>
          <p:xfrm>
            <a:off x="4802040" y="5272200"/>
            <a:ext cx="284400" cy="3967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802040" y="5272200"/>
                      <a:ext cx="28440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6607080" y="4657680"/>
              <a:ext cx="2227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sculatorna rav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916600" y="5157360"/>
              <a:ext cx="8064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832280" y="3236760"/>
            <a:ext cx="4311720" cy="584280"/>
            <a:chOff x="4832280" y="3236760"/>
            <a:chExt cx="4311720" cy="584280"/>
          </a:xfrm>
        </p:grpSpPr>
        <p:graphicFrame>
          <p:nvGraphicFramePr>
            <p:cNvPr id="287" name=""/>
            <p:cNvGraphicFramePr/>
            <p:nvPr/>
          </p:nvGraphicFramePr>
          <p:xfrm>
            <a:off x="4832280" y="3313080"/>
            <a:ext cx="1257480" cy="507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832280" y="3313080"/>
                      <a:ext cx="125748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9" name=""/>
            <p:cNvSpPr/>
            <p:nvPr/>
          </p:nvSpPr>
          <p:spPr>
            <a:xfrm>
              <a:off x="6031080" y="3236760"/>
              <a:ext cx="311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rirodni trijed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95280" y="40464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kcijom svih sila desno od P dobijamo      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a redukcijom levo od P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956720" y="357120"/>
          <a:ext cx="51732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6720" y="357120"/>
                    <a:ext cx="5173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61880" y="1201680"/>
          <a:ext cx="73044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201680"/>
                    <a:ext cx="7304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473800" y="1123920"/>
          <a:ext cx="40320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73800" y="1123920"/>
                    <a:ext cx="403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6222960" y="1149480"/>
          <a:ext cx="768240" cy="59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22960" y="1149480"/>
                    <a:ext cx="7682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39640" y="181620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no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že nosača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93720" y="2546280"/>
          <a:ext cx="4070520" cy="134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720" y="2546280"/>
                    <a:ext cx="40705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577800" y="3889440"/>
            <a:ext cx="83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no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že mogu se prikazati i u oblik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77800" y="4503600"/>
          <a:ext cx="5735520" cy="134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7800" y="4503600"/>
                    <a:ext cx="57355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395280" y="404640"/>
            <a:ext cx="8497800" cy="1216080"/>
            <a:chOff x="395280" y="404640"/>
            <a:chExt cx="8497800" cy="1216080"/>
          </a:xfrm>
        </p:grpSpPr>
        <p:sp>
          <p:nvSpPr>
            <p:cNvPr id="306" name=""/>
            <p:cNvSpPr/>
            <p:nvPr/>
          </p:nvSpPr>
          <p:spPr>
            <a:xfrm>
              <a:off x="395280" y="404640"/>
              <a:ext cx="849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Razložimo      i       na pravce prirodnog trijedr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7" name=""/>
            <p:cNvGraphicFramePr/>
            <p:nvPr/>
          </p:nvGraphicFramePr>
          <p:xfrm>
            <a:off x="2411280" y="433440"/>
            <a:ext cx="374760" cy="49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1280" y="433440"/>
                      <a:ext cx="37476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9" name=""/>
            <p:cNvGraphicFramePr/>
            <p:nvPr/>
          </p:nvGraphicFramePr>
          <p:xfrm>
            <a:off x="3130560" y="500040"/>
            <a:ext cx="558720" cy="43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0560" y="500040"/>
                      <a:ext cx="55872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"/>
            <p:cNvGraphicFramePr/>
            <p:nvPr/>
          </p:nvGraphicFramePr>
          <p:xfrm>
            <a:off x="539640" y="971640"/>
            <a:ext cx="1094040" cy="64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9640" y="971640"/>
                      <a:ext cx="109404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13" name=""/>
          <p:cNvGraphicFramePr/>
          <p:nvPr/>
        </p:nvGraphicFramePr>
        <p:xfrm>
          <a:off x="0" y="1673280"/>
          <a:ext cx="9144000" cy="12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673280"/>
                    <a:ext cx="914400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0" y="29289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nožeći       sa            dobija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06480" y="2928960"/>
            <a:ext cx="2016360" cy="649440"/>
            <a:chOff x="1806480" y="2928960"/>
            <a:chExt cx="2016360" cy="649440"/>
          </a:xfrm>
        </p:grpSpPr>
        <p:graphicFrame>
          <p:nvGraphicFramePr>
            <p:cNvPr id="317" name=""/>
            <p:cNvGraphicFramePr/>
            <p:nvPr/>
          </p:nvGraphicFramePr>
          <p:xfrm>
            <a:off x="1806480" y="3006720"/>
            <a:ext cx="374760" cy="498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06480" y="3006720"/>
                      <a:ext cx="37476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9" name=""/>
            <p:cNvGraphicFramePr/>
            <p:nvPr/>
          </p:nvGraphicFramePr>
          <p:xfrm>
            <a:off x="2728800" y="2928960"/>
            <a:ext cx="1094040" cy="649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728800" y="2928960"/>
                      <a:ext cx="109404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21" name=""/>
          <p:cNvGraphicFramePr/>
          <p:nvPr/>
        </p:nvGraphicFramePr>
        <p:xfrm>
          <a:off x="270000" y="3889440"/>
          <a:ext cx="4686120" cy="210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0000" y="3889440"/>
                    <a:ext cx="468612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10098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nožeći        sa            dobija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652760" y="1027080"/>
          <a:ext cx="72864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1027080"/>
                    <a:ext cx="7286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2787480" y="936720"/>
          <a:ext cx="109404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7480" y="936720"/>
                    <a:ext cx="109404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270000" y="1969920"/>
          <a:ext cx="5743440" cy="320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00" y="1969920"/>
                    <a:ext cx="57434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91440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N-normalna sila-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dstavlja zbir algebarskih vrednosti ortogonalnih projekcija svih sila desno od preseka na orijentisani pravac tangente u posmatranoj tački ose nosača, odnosno zbir algebarskih vrednosti ortogonalnih projekcija svih sila levo od preseka na suprotno orijentisani prav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Transverzalna sil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 pravcu glavne normale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(T</a:t>
            </a:r>
            <a:r>
              <a:rPr b="1" lang="sr-Latn-CS" sz="2800" spc="-1" strike="noStrike" baseline="-25000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odnosno binormale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(T</a:t>
            </a:r>
            <a:r>
              <a:rPr b="1" lang="sr-Latn-CS" sz="28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)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dstavlja zbir algebarskih vrednosti ortogonalnih projekcija svih sila desno od preseka na orijentisani pravac glavne normale odnosno binormale u posmatranoj tački ose nosača, ili zbir algebarskih vrednsoti ortogonalnih projekcija svih sila levo od preseka na suprotno orijentisani prav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66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</a:t>
            </a:r>
            <a:r>
              <a:rPr b="1" lang="sr-Latn-CS" sz="3200" spc="-1" strike="noStrike" u="sng" baseline="-25000">
                <a:solidFill>
                  <a:srgbClr val="cc0000"/>
                </a:solidFill>
                <a:uFillTx/>
                <a:latin typeface="Times New Roman"/>
              </a:rPr>
              <a:t>t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Torzioni moment-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edstavlja zbir momenata svih sila desno od preseka oko orijentisanog pravca tangente u posmatranoj tački ose nosača, odnosno zbir momenata svih sila levo od preseka oko suprotno orijentisanog prav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</a:t>
            </a:r>
            <a:r>
              <a:rPr b="1" lang="en-US" sz="3200" spc="-1" strike="noStrike" u="sng" baseline="-25000">
                <a:solidFill>
                  <a:srgbClr val="cc0000"/>
                </a:solidFill>
                <a:uFillTx/>
                <a:latin typeface="Times New Roman"/>
              </a:rPr>
              <a:t>n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menat savijanja oko glavne normale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dnosno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-momenat savijanja oko binormal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 posmatranoj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 ose nos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edstavlja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r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momenata svih sila desno od preseka oko orijentisanog pravca glavne normale odnosno binormale u toj tački ose nosača, ili zbir momenata svih sila levo od preseka oko suprotno orijentisanog prav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50920" y="260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mesto glavne normale i binormale mogu se koristiti bilo koja dva pravca u ravni poprečnog preseka. Jedino se tangenta nosača ne me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1840" y="1969920"/>
            <a:ext cx="60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vencija o pozitivnom smer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116000" y="3198960"/>
            <a:ext cx="2456640" cy="2264760"/>
            <a:chOff x="1116000" y="3198960"/>
            <a:chExt cx="2456640" cy="2264760"/>
          </a:xfrm>
        </p:grpSpPr>
        <p:sp>
          <p:nvSpPr>
            <p:cNvPr id="335" name=""/>
            <p:cNvSpPr/>
            <p:nvPr/>
          </p:nvSpPr>
          <p:spPr>
            <a:xfrm flipH="1">
              <a:off x="1116000" y="33912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68280" y="31989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803760" y="3160800"/>
            <a:ext cx="2456640" cy="2264760"/>
            <a:chOff x="3803760" y="3160800"/>
            <a:chExt cx="2456640" cy="2264760"/>
          </a:xfrm>
        </p:grpSpPr>
        <p:sp>
          <p:nvSpPr>
            <p:cNvPr id="338" name=""/>
            <p:cNvSpPr/>
            <p:nvPr/>
          </p:nvSpPr>
          <p:spPr>
            <a:xfrm flipH="1">
              <a:off x="3803760" y="335304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56040" y="316080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377040" y="3236760"/>
            <a:ext cx="2456640" cy="2264760"/>
            <a:chOff x="6377040" y="3236760"/>
            <a:chExt cx="2456640" cy="2264760"/>
          </a:xfrm>
        </p:grpSpPr>
        <p:sp>
          <p:nvSpPr>
            <p:cNvPr id="341" name=""/>
            <p:cNvSpPr/>
            <p:nvPr/>
          </p:nvSpPr>
          <p:spPr>
            <a:xfrm flipH="1">
              <a:off x="6377040" y="34290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29320" y="32367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116000" y="4927680"/>
            <a:ext cx="2456640" cy="2264760"/>
            <a:chOff x="1116000" y="4927680"/>
            <a:chExt cx="2456640" cy="2264760"/>
          </a:xfrm>
        </p:grpSpPr>
        <p:sp>
          <p:nvSpPr>
            <p:cNvPr id="344" name=""/>
            <p:cNvSpPr/>
            <p:nvPr/>
          </p:nvSpPr>
          <p:spPr>
            <a:xfrm flipH="1">
              <a:off x="1116000" y="511992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8280" y="492768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57480" y="4965840"/>
            <a:ext cx="2456640" cy="2264760"/>
            <a:chOff x="3957480" y="4965840"/>
            <a:chExt cx="2456640" cy="2264760"/>
          </a:xfrm>
        </p:grpSpPr>
        <p:sp>
          <p:nvSpPr>
            <p:cNvPr id="347" name=""/>
            <p:cNvSpPr/>
            <p:nvPr/>
          </p:nvSpPr>
          <p:spPr>
            <a:xfrm flipH="1">
              <a:off x="3957480" y="515808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09760" y="496584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338880" y="4965840"/>
            <a:ext cx="2456640" cy="2264760"/>
            <a:chOff x="6338880" y="4965840"/>
            <a:chExt cx="2456640" cy="2264760"/>
          </a:xfrm>
        </p:grpSpPr>
        <p:sp>
          <p:nvSpPr>
            <p:cNvPr id="350" name=""/>
            <p:cNvSpPr/>
            <p:nvPr/>
          </p:nvSpPr>
          <p:spPr>
            <a:xfrm flipH="1">
              <a:off x="6338880" y="515808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91160" y="496584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 flipH="1">
            <a:off x="885960" y="3620520"/>
            <a:ext cx="691920" cy="3459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614600" y="3236760"/>
            <a:ext cx="691920" cy="346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0000" y="323676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N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60520" y="285264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N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799320" y="1892160"/>
            <a:ext cx="2456640" cy="2264760"/>
            <a:chOff x="6799320" y="1892160"/>
            <a:chExt cx="2456640" cy="2264760"/>
          </a:xfrm>
        </p:grpSpPr>
        <p:sp>
          <p:nvSpPr>
            <p:cNvPr id="357" name=""/>
            <p:cNvSpPr/>
            <p:nvPr/>
          </p:nvSpPr>
          <p:spPr>
            <a:xfrm flipH="1">
              <a:off x="6799320" y="20844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51600" y="18921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 flipV="1">
            <a:off x="7259760" y="1854000"/>
            <a:ext cx="6919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259760" y="2238480"/>
            <a:ext cx="34596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6684480" y="2122560"/>
            <a:ext cx="61452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7989840" y="1739880"/>
          <a:ext cx="246240" cy="3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9840" y="1739880"/>
                    <a:ext cx="2462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7643880" y="2354400"/>
          <a:ext cx="2476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43880" y="2354400"/>
                    <a:ext cx="2476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6384960" y="1854360"/>
          <a:ext cx="26352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84960" y="1854360"/>
                    <a:ext cx="2635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4264200" y="3429000"/>
            <a:ext cx="461880" cy="61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4071600" y="3466800"/>
            <a:ext cx="461880" cy="57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33840" y="335268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97360" y="32749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6914880" y="3659040"/>
            <a:ext cx="880920" cy="462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16600" y="3083040"/>
            <a:ext cx="884160" cy="536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491240" y="346716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878440" y="266076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599120" y="4715640"/>
            <a:ext cx="761760" cy="574560"/>
            <a:chOff x="1599120" y="4715640"/>
            <a:chExt cx="761760" cy="574560"/>
          </a:xfrm>
        </p:grpSpPr>
        <p:sp>
          <p:nvSpPr>
            <p:cNvPr id="377" name=""/>
            <p:cNvSpPr/>
            <p:nvPr/>
          </p:nvSpPr>
          <p:spPr>
            <a:xfrm flipV="1">
              <a:off x="1599120" y="4859280"/>
              <a:ext cx="561600" cy="4309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120760" y="4715640"/>
              <a:ext cx="240120" cy="1792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846000" y="5310360"/>
            <a:ext cx="730080" cy="614160"/>
            <a:chOff x="846000" y="5310360"/>
            <a:chExt cx="730080" cy="614160"/>
          </a:xfrm>
        </p:grpSpPr>
        <p:sp>
          <p:nvSpPr>
            <p:cNvPr id="380" name=""/>
            <p:cNvSpPr/>
            <p:nvPr/>
          </p:nvSpPr>
          <p:spPr>
            <a:xfrm flipH="1">
              <a:off x="1037880" y="5310360"/>
              <a:ext cx="538200" cy="4600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846000" y="5732640"/>
              <a:ext cx="230400" cy="1918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1230480" y="43117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47760" y="504180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t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572000" y="5425920"/>
            <a:ext cx="614160" cy="730080"/>
            <a:chOff x="4572000" y="5425920"/>
            <a:chExt cx="614160" cy="730080"/>
          </a:xfrm>
        </p:grpSpPr>
        <p:sp>
          <p:nvSpPr>
            <p:cNvPr id="385" name=""/>
            <p:cNvSpPr/>
            <p:nvPr/>
          </p:nvSpPr>
          <p:spPr>
            <a:xfrm>
              <a:off x="4572000" y="5425920"/>
              <a:ext cx="460080" cy="538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94280" y="5925600"/>
              <a:ext cx="191880" cy="2304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803760" y="4695480"/>
            <a:ext cx="614160" cy="730080"/>
            <a:chOff x="3803760" y="4695480"/>
            <a:chExt cx="614160" cy="730080"/>
          </a:xfrm>
        </p:grpSpPr>
        <p:sp>
          <p:nvSpPr>
            <p:cNvPr id="388" name=""/>
            <p:cNvSpPr/>
            <p:nvPr/>
          </p:nvSpPr>
          <p:spPr>
            <a:xfrm flipH="1" flipV="1">
              <a:off x="3957840" y="4887720"/>
              <a:ext cx="460080" cy="5378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3803760" y="4695480"/>
              <a:ext cx="191880" cy="2300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7491240" y="523404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70680" y="450360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867720" y="5393160"/>
            <a:ext cx="860760" cy="411120"/>
            <a:chOff x="6867720" y="5393160"/>
            <a:chExt cx="860760" cy="411120"/>
          </a:xfrm>
        </p:grpSpPr>
        <p:sp>
          <p:nvSpPr>
            <p:cNvPr id="393" name=""/>
            <p:cNvSpPr/>
            <p:nvPr/>
          </p:nvSpPr>
          <p:spPr>
            <a:xfrm flipH="1" flipV="1">
              <a:off x="7087320" y="5504760"/>
              <a:ext cx="641160" cy="2995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6867720" y="5393160"/>
              <a:ext cx="269640" cy="1303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829840" y="4898520"/>
            <a:ext cx="864000" cy="403920"/>
            <a:chOff x="5829840" y="4898520"/>
            <a:chExt cx="864000" cy="403920"/>
          </a:xfrm>
        </p:grpSpPr>
        <p:sp>
          <p:nvSpPr>
            <p:cNvPr id="396" name=""/>
            <p:cNvSpPr/>
            <p:nvPr/>
          </p:nvSpPr>
          <p:spPr>
            <a:xfrm>
              <a:off x="5829840" y="4898520"/>
              <a:ext cx="643680" cy="2948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23120" y="5174280"/>
              <a:ext cx="270720" cy="12816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5148360" y="54259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1560" y="450360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116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Uslovi ravnoteže elementa prostornog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3720" y="4888080"/>
            <a:ext cx="806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535200" y="1857240"/>
            <a:ext cx="5144040" cy="4584600"/>
            <a:chOff x="3535200" y="1857240"/>
            <a:chExt cx="5144040" cy="4584600"/>
          </a:xfrm>
        </p:grpSpPr>
        <p:graphicFrame>
          <p:nvGraphicFramePr>
            <p:cNvPr id="403" name=""/>
            <p:cNvGraphicFramePr/>
            <p:nvPr/>
          </p:nvGraphicFramePr>
          <p:xfrm>
            <a:off x="5646600" y="1857240"/>
            <a:ext cx="2419560" cy="42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1857240"/>
                      <a:ext cx="2419560" cy="4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4263840" y="2928600"/>
            <a:ext cx="854280" cy="577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840" y="2928600"/>
                      <a:ext cx="85428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3535200" y="3720960"/>
            <a:ext cx="981000" cy="588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35200" y="3720960"/>
                      <a:ext cx="9810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 flipH="1" rot="1111200">
              <a:off x="4822920" y="2900880"/>
              <a:ext cx="3457800" cy="30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3"/>
                  </a:moveTo>
                  <a:arcTo wR="10800" hR="10800" stAng="-4624802" swAng="51309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3"/>
                  </a:moveTo>
                  <a:arcTo wR="10800" hR="10800" stAng="-4624802" swAng="5130983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4109760" y="4119480"/>
              <a:ext cx="730080" cy="614160"/>
              <a:chOff x="4109760" y="4119480"/>
              <a:chExt cx="730080" cy="614160"/>
            </a:xfrm>
          </p:grpSpPr>
          <p:sp>
            <p:nvSpPr>
              <p:cNvPr id="411" name=""/>
              <p:cNvSpPr/>
              <p:nvPr/>
            </p:nvSpPr>
            <p:spPr>
              <a:xfrm flipH="1">
                <a:off x="4302000" y="4119480"/>
                <a:ext cx="537840" cy="4600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4109760" y="4541760"/>
                <a:ext cx="230040" cy="1918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 flipH="1" flipV="1">
              <a:off x="4379400" y="3504600"/>
              <a:ext cx="461880" cy="576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6645600" y="2276280"/>
              <a:ext cx="730080" cy="614160"/>
              <a:chOff x="6645600" y="2276280"/>
              <a:chExt cx="730080" cy="614160"/>
            </a:xfrm>
          </p:grpSpPr>
          <p:sp>
            <p:nvSpPr>
              <p:cNvPr id="415" name=""/>
              <p:cNvSpPr/>
              <p:nvPr/>
            </p:nvSpPr>
            <p:spPr>
              <a:xfrm flipV="1">
                <a:off x="6645600" y="2430360"/>
                <a:ext cx="537840" cy="46008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7145640" y="2276280"/>
                <a:ext cx="230040" cy="19188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6644520" y="2889000"/>
              <a:ext cx="576360" cy="461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08400" y="2544480"/>
              <a:ext cx="538200" cy="5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5646600" y="3083040"/>
              <a:ext cx="614160" cy="730080"/>
              <a:chOff x="5646600" y="3083040"/>
              <a:chExt cx="614160" cy="730080"/>
            </a:xfrm>
          </p:grpSpPr>
          <p:sp>
            <p:nvSpPr>
              <p:cNvPr id="420" name=""/>
              <p:cNvSpPr/>
              <p:nvPr/>
            </p:nvSpPr>
            <p:spPr>
              <a:xfrm>
                <a:off x="5646600" y="3083040"/>
                <a:ext cx="460080" cy="537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8880" y="3583080"/>
                <a:ext cx="191880" cy="230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4956120" y="4197240"/>
              <a:ext cx="652320" cy="80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23000" y="3044520"/>
              <a:ext cx="806400" cy="8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532480" y="3504600"/>
              <a:ext cx="1573200" cy="13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5" name=""/>
            <p:cNvGraphicFramePr/>
            <p:nvPr/>
          </p:nvGraphicFramePr>
          <p:xfrm>
            <a:off x="6761160" y="2784240"/>
            <a:ext cx="1805040" cy="358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761160" y="2784240"/>
                      <a:ext cx="180504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7" name=""/>
            <p:cNvGraphicFramePr/>
            <p:nvPr/>
          </p:nvGraphicFramePr>
          <p:xfrm>
            <a:off x="5300640" y="2352600"/>
            <a:ext cx="823680" cy="422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00640" y="2352600"/>
                      <a:ext cx="82368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9" name=""/>
            <p:cNvGraphicFramePr/>
            <p:nvPr/>
          </p:nvGraphicFramePr>
          <p:xfrm>
            <a:off x="5916600" y="3020760"/>
            <a:ext cx="806400" cy="392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916600" y="3020760"/>
                      <a:ext cx="80640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5378400" y="315900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9092600">
              <a:off x="5762880" y="373464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17960" y="373500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61120" y="2392200"/>
              <a:ext cx="53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85920" y="2338560"/>
            <a:ext cx="3801600" cy="3590640"/>
            <a:chOff x="385920" y="2338560"/>
            <a:chExt cx="3801600" cy="3590640"/>
          </a:xfrm>
        </p:grpSpPr>
        <p:sp>
          <p:nvSpPr>
            <p:cNvPr id="436" name=""/>
            <p:cNvSpPr/>
            <p:nvPr/>
          </p:nvSpPr>
          <p:spPr>
            <a:xfrm flipH="1">
              <a:off x="729360" y="2858040"/>
              <a:ext cx="3457800" cy="30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3"/>
                  </a:moveTo>
                  <a:arcTo wR="10800" hR="10800" stAng="-4624802" swAng="51309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3"/>
                  </a:moveTo>
                  <a:arcTo wR="10800" hR="10800" stAng="-4624802" swAng="5130983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8200" y="3241440"/>
              <a:ext cx="191880" cy="84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08200" y="3011400"/>
              <a:ext cx="23004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807840" y="4085280"/>
              <a:ext cx="19188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154160" y="3260520"/>
              <a:ext cx="42228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961920" y="2895480"/>
              <a:ext cx="42228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61920" y="33192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6400" y="32032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30480" y="305100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84200" y="289548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1115280" y="3319200"/>
              <a:ext cx="1996920" cy="222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52" y="20"/>
                  </a:moveTo>
                  <a:arcTo wR="10800" hR="10800" stAng="-5192272" swAng="5192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52" y="20"/>
                  </a:moveTo>
                  <a:arcTo wR="10800" hR="10800" stAng="-5192272" swAng="519227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76400" y="3433680"/>
              <a:ext cx="53820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44600" y="3165480"/>
              <a:ext cx="53820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84200" y="351144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90560" y="32796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30480" y="3989160"/>
              <a:ext cx="46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76440" y="3471840"/>
              <a:ext cx="69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5920" y="2358720"/>
              <a:ext cx="49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77840" y="2338560"/>
              <a:ext cx="4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5" name=""/>
            <p:cNvCxnSpPr>
              <a:stCxn id="447" idx="0"/>
              <a:endCxn id="453" idx="2"/>
            </p:cNvCxnSpPr>
            <p:nvPr/>
          </p:nvCxnSpPr>
          <p:spPr>
            <a:xfrm flipH="1" flipV="1">
              <a:off x="634680" y="2877120"/>
              <a:ext cx="442080" cy="5562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456" name=""/>
            <p:cNvCxnSpPr>
              <a:stCxn id="448" idx="0"/>
              <a:endCxn id="454" idx="2"/>
            </p:cNvCxnSpPr>
            <p:nvPr/>
          </p:nvCxnSpPr>
          <p:spPr>
            <a:xfrm flipH="1" flipV="1">
              <a:off x="1326960" y="2856600"/>
              <a:ext cx="18000" cy="308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grpSp>
          <p:nvGrpSpPr>
            <p:cNvPr id="457" name=""/>
            <p:cNvGrpSpPr/>
            <p:nvPr/>
          </p:nvGrpSpPr>
          <p:grpSpPr>
            <a:xfrm>
              <a:off x="961920" y="3606480"/>
              <a:ext cx="191880" cy="75600"/>
              <a:chOff x="961920" y="3606480"/>
              <a:chExt cx="191880" cy="75600"/>
            </a:xfrm>
          </p:grpSpPr>
          <p:sp>
            <p:nvSpPr>
              <p:cNvPr id="458" name=""/>
              <p:cNvSpPr/>
              <p:nvPr/>
            </p:nvSpPr>
            <p:spPr>
              <a:xfrm>
                <a:off x="961920" y="362340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961920" y="360648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1116000" y="3452760"/>
              <a:ext cx="191880" cy="75240"/>
              <a:chOff x="1116000" y="3452760"/>
              <a:chExt cx="191880" cy="75240"/>
            </a:xfrm>
          </p:grpSpPr>
          <p:sp>
            <p:nvSpPr>
              <p:cNvPr id="461" name=""/>
              <p:cNvSpPr/>
              <p:nvPr/>
            </p:nvSpPr>
            <p:spPr>
              <a:xfrm>
                <a:off x="1116000" y="3469680"/>
                <a:ext cx="19188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116000" y="3452760"/>
                <a:ext cx="115560" cy="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1268280" y="3298680"/>
              <a:ext cx="191880" cy="75600"/>
              <a:chOff x="1268280" y="3298680"/>
              <a:chExt cx="191880" cy="75600"/>
            </a:xfrm>
          </p:grpSpPr>
          <p:sp>
            <p:nvSpPr>
              <p:cNvPr id="464" name=""/>
              <p:cNvSpPr/>
              <p:nvPr/>
            </p:nvSpPr>
            <p:spPr>
              <a:xfrm>
                <a:off x="1268280" y="331560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68280" y="329868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1384200" y="3182760"/>
              <a:ext cx="191880" cy="75600"/>
              <a:chOff x="1384200" y="3182760"/>
              <a:chExt cx="191880" cy="75600"/>
            </a:xfrm>
          </p:grpSpPr>
          <p:sp>
            <p:nvSpPr>
              <p:cNvPr id="467" name=""/>
              <p:cNvSpPr/>
              <p:nvPr/>
            </p:nvSpPr>
            <p:spPr>
              <a:xfrm>
                <a:off x="1384200" y="319968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84200" y="318276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469" name=""/>
            <p:cNvGraphicFramePr/>
            <p:nvPr/>
          </p:nvGraphicFramePr>
          <p:xfrm>
            <a:off x="1576440" y="2952720"/>
            <a:ext cx="357120" cy="3837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576440" y="2952720"/>
                      <a:ext cx="357120" cy="38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1" name=""/>
            <p:cNvGraphicFramePr/>
            <p:nvPr/>
          </p:nvGraphicFramePr>
          <p:xfrm>
            <a:off x="966960" y="2646360"/>
            <a:ext cx="287280" cy="459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66960" y="2646360"/>
                      <a:ext cx="287280" cy="45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3" name=""/>
          <p:cNvSpPr/>
          <p:nvPr/>
        </p:nvSpPr>
        <p:spPr>
          <a:xfrm>
            <a:off x="0" y="1795320"/>
            <a:ext cx="39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osač je u ravnotež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6222960" y="4608360"/>
          <a:ext cx="2921040" cy="70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22960" y="4608360"/>
                    <a:ext cx="2921040" cy="7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0" y="461952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slovi ravnoteže nosača 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0" y="5157720"/>
          <a:ext cx="2421000" cy="1489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0" y="5157720"/>
                    <a:ext cx="2421000" cy="14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0" y="0"/>
          <a:ext cx="7107120" cy="1155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0"/>
                    <a:ext cx="710712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24T23:25:26Z</dcterms:modified>
  <cp:revision>557</cp:revision>
  <dc:subject/>
  <dc:title>Slide 1</dc:title>
</cp:coreProperties>
</file>