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2.png" ContentType="image/png"/>
  <Override PartName="/ppt/media/image15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12.wmf" ContentType="image/x-wmf"/>
  <Override PartName="/ppt/media/image37.png" ContentType="image/png"/>
  <Override PartName="/ppt/media/image10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854-7283-4BA2-A8AD-60F430AE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69E5-C14B-4876-A75D-D15E50FF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289-3323-4A6B-91CA-28062144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32F-4101-473D-9DFA-91F0323D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606E-2E82-4DC1-B55C-5DA2A5D0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582D-A9EA-4B19-9F10-9B7DC9C5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40CB-017F-4E1A-B533-078EBE6F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3A48-675F-43DE-A5AA-FAFE7641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C09E-5E5C-47BA-842F-7A6D90F0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4232-E877-4D40-B995-22F8E9CE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1F45-BC5E-489D-8AC6-FA8EBAF9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D43-22C1-410A-AEF3-6BA6C155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D470-821C-408B-9620-8C55E37A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6DAA-86AB-4BF5-AEEB-7F539BA2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F5FD-3D4F-4A46-92E7-B96CFB7D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C1AB-E21E-41D7-BCB3-88FDFB7E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55CA-AD48-40B2-B35B-134B8839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A1D-B540-4C18-9D9E-C4B40DBA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2F0-F604-4EA5-B38B-671DCF97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AE6-D5D3-4CF2-AC04-3F01A0B0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4C0-3863-408D-979E-0DD8AF8C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612-00C7-45D7-876F-04A014B0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CC6-EE63-491D-AB17-0C1F8A86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670-02A3-4E21-A97C-83ADB26E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0BA7-1738-4717-8845-5B330BCFD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498F-DC4E-4C40-8462-37807FC39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191120" y="1589040"/>
            <a:ext cx="4800600" cy="4583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90440" y="3471840"/>
            <a:ext cx="4192560" cy="22813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933840"/>
            <a:ext cx="9144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VIRTUELNI  RAD  SILA  U  SISTEMU  MATEIJALNIH T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KA  I  NA  KRUTOM   TE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43080" y="99072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e na virtuelnom pomeranju  njene napadn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6"/>
          <p:cNvCxnSpPr/>
          <p:nvPr/>
        </p:nvCxnSpPr>
        <p:spPr>
          <a:xfrm flipV="1">
            <a:off x="952200" y="194292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7480" y="1600200"/>
            <a:ext cx="501480" cy="617400"/>
          </a:xfrm>
          <a:prstGeom prst="rect">
            <a:avLst/>
          </a:prstGeom>
          <a:ln w="0">
            <a:noFill/>
          </a:ln>
        </p:spPr>
      </p:pic>
      <p:cxnSp>
        <p:nvCxnSpPr>
          <p:cNvPr id="216" name="Straight Arrow Connector 9"/>
          <p:cNvCxnSpPr/>
          <p:nvPr/>
        </p:nvCxnSpPr>
        <p:spPr>
          <a:xfrm flipV="1">
            <a:off x="952200" y="2666160"/>
            <a:ext cx="12200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3880" y="2171880"/>
            <a:ext cx="648000" cy="61416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1"/>
          <p:cNvCxnSpPr/>
          <p:nvPr/>
        </p:nvCxnSpPr>
        <p:spPr>
          <a:xfrm flipV="1">
            <a:off x="2133360" y="163800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84440" y="1333440"/>
            <a:ext cx="501840" cy="617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772080" y="1828800"/>
            <a:ext cx="3309840" cy="5716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4"/>
          <p:cNvSpPr/>
          <p:nvPr/>
        </p:nvSpPr>
        <p:spPr>
          <a:xfrm>
            <a:off x="343080" y="312408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i rad sile jednak je proizvodu sile i virtuelnog pomeranja u pravcu s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43080" y="420048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a na sistemu materijalnih tačak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1371600" y="518148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2400480" y="598176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3505320" y="521964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87624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0"/>
          <p:cNvSpPr/>
          <p:nvPr/>
        </p:nvSpPr>
        <p:spPr>
          <a:xfrm>
            <a:off x="2247840" y="60580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21"/>
          <p:cNvSpPr/>
          <p:nvPr/>
        </p:nvSpPr>
        <p:spPr>
          <a:xfrm>
            <a:off x="369576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23"/>
          <p:cNvSpPr/>
          <p:nvPr/>
        </p:nvSpPr>
        <p:spPr>
          <a:xfrm>
            <a:off x="1467720" y="527832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1486080" y="523872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27"/>
          <p:cNvSpPr/>
          <p:nvPr/>
        </p:nvSpPr>
        <p:spPr>
          <a:xfrm flipV="1">
            <a:off x="2514600" y="52765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Straight Arrow Connector 29"/>
          <p:cNvCxnSpPr>
            <a:stCxn id="225" idx="7"/>
          </p:cNvCxnSpPr>
          <p:nvPr/>
        </p:nvCxnSpPr>
        <p:spPr>
          <a:xfrm flipV="1">
            <a:off x="3601080" y="46861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Straight Arrow Connector 31"/>
          <p:cNvCxnSpPr>
            <a:stCxn id="225" idx="4"/>
          </p:cNvCxnSpPr>
          <p:nvPr/>
        </p:nvCxnSpPr>
        <p:spPr>
          <a:xfrm>
            <a:off x="3562200" y="533376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3962520" y="453384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3301920" y="5415120"/>
            <a:ext cx="368280" cy="490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4448160" y="4724280"/>
            <a:ext cx="4695840" cy="914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4457880" y="5745240"/>
            <a:ext cx="303984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"/>
          <p:cNvSpPr/>
          <p:nvPr/>
        </p:nvSpPr>
        <p:spPr>
          <a:xfrm>
            <a:off x="304920" y="190440"/>
            <a:ext cx="84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c)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d sila na krutom tel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5"/>
          <p:cNvCxnSpPr/>
          <p:nvPr/>
        </p:nvCxnSpPr>
        <p:spPr>
          <a:xfrm flipH="1">
            <a:off x="608760" y="2590920"/>
            <a:ext cx="839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Straight Arrow Connector 7"/>
          <p:cNvCxnSpPr/>
          <p:nvPr/>
        </p:nvCxnSpPr>
        <p:spPr>
          <a:xfrm flipV="1">
            <a:off x="1447560" y="2552400"/>
            <a:ext cx="15627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Straight Arrow Connector 9"/>
          <p:cNvCxnSpPr/>
          <p:nvPr/>
        </p:nvCxnSpPr>
        <p:spPr>
          <a:xfrm flipH="1" flipV="1">
            <a:off x="1409400" y="913680"/>
            <a:ext cx="388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TextBox 10"/>
          <p:cNvSpPr/>
          <p:nvPr/>
        </p:nvSpPr>
        <p:spPr>
          <a:xfrm>
            <a:off x="419040" y="27813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2781360" y="1981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1028880" y="647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990720" y="800280"/>
            <a:ext cx="1752480" cy="236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1828800" y="2286000"/>
            <a:ext cx="1522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1562040" y="2819520"/>
            <a:ext cx="15264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16"/>
          <p:cNvSpPr/>
          <p:nvPr/>
        </p:nvSpPr>
        <p:spPr>
          <a:xfrm>
            <a:off x="2362320" y="167652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17"/>
          <p:cNvSpPr/>
          <p:nvPr/>
        </p:nvSpPr>
        <p:spPr>
          <a:xfrm>
            <a:off x="1714680" y="125748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Straight Arrow Connector 19"/>
          <p:cNvCxnSpPr>
            <a:endCxn id="246" idx="3"/>
          </p:cNvCxnSpPr>
          <p:nvPr/>
        </p:nvCxnSpPr>
        <p:spPr>
          <a:xfrm flipV="1">
            <a:off x="1447920" y="2382480"/>
            <a:ext cx="4039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419040" cy="62856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22"/>
          <p:cNvCxnSpPr>
            <a:stCxn id="246" idx="4"/>
            <a:endCxn id="247" idx="0"/>
          </p:cNvCxnSpPr>
          <p:nvPr/>
        </p:nvCxnSpPr>
        <p:spPr>
          <a:xfrm flipH="1">
            <a:off x="1638000" y="2400480"/>
            <a:ext cx="2671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817640" y="2343240"/>
            <a:ext cx="430200" cy="5522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4"/>
          <p:cNvCxnSpPr>
            <a:endCxn id="248" idx="3"/>
          </p:cNvCxnSpPr>
          <p:nvPr/>
        </p:nvCxnSpPr>
        <p:spPr>
          <a:xfrm flipV="1">
            <a:off x="1942200" y="1773000"/>
            <a:ext cx="4417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27"/>
          <p:cNvCxnSpPr/>
          <p:nvPr/>
        </p:nvCxnSpPr>
        <p:spPr>
          <a:xfrm>
            <a:off x="1600200" y="293328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29"/>
          <p:cNvSpPr/>
          <p:nvPr/>
        </p:nvSpPr>
        <p:spPr>
          <a:xfrm>
            <a:off x="1143000" y="259092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614600" y="2998800"/>
            <a:ext cx="399960" cy="614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1"/>
          <p:cNvSpPr/>
          <p:nvPr/>
        </p:nvSpPr>
        <p:spPr>
          <a:xfrm>
            <a:off x="2247840" y="110484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32"/>
          <p:cNvSpPr/>
          <p:nvPr/>
        </p:nvSpPr>
        <p:spPr>
          <a:xfrm>
            <a:off x="1676520" y="6094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738440" y="1676520"/>
            <a:ext cx="460080" cy="552240"/>
          </a:xfrm>
          <a:prstGeom prst="rect">
            <a:avLst/>
          </a:prstGeom>
          <a:ln w="0">
            <a:noFill/>
          </a:ln>
        </p:spPr>
      </p:pic>
      <p:cxnSp>
        <p:nvCxnSpPr>
          <p:cNvPr id="261" name="Straight Arrow Connector 34"/>
          <p:cNvCxnSpPr/>
          <p:nvPr/>
        </p:nvCxnSpPr>
        <p:spPr>
          <a:xfrm>
            <a:off x="2476440" y="175212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2728800" y="1366920"/>
            <a:ext cx="430200" cy="614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2163600" y="647640"/>
            <a:ext cx="492120" cy="61452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37"/>
          <p:cNvCxnSpPr/>
          <p:nvPr/>
        </p:nvCxnSpPr>
        <p:spPr>
          <a:xfrm flipV="1">
            <a:off x="1866600" y="1256760"/>
            <a:ext cx="7628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39"/>
          <p:cNvCxnSpPr>
            <a:endCxn id="249" idx="5"/>
          </p:cNvCxnSpPr>
          <p:nvPr/>
        </p:nvCxnSpPr>
        <p:spPr>
          <a:xfrm flipH="1" flipV="1">
            <a:off x="1844280" y="1353240"/>
            <a:ext cx="99360" cy="97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414440" y="1371600"/>
            <a:ext cx="522360" cy="5526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3"/>
          <p:cNvSpPr/>
          <p:nvPr/>
        </p:nvSpPr>
        <p:spPr>
          <a:xfrm>
            <a:off x="198108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3505320" y="838080"/>
            <a:ext cx="2582640" cy="457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3409920" y="1295280"/>
            <a:ext cx="2697120" cy="457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3322800" y="1866960"/>
            <a:ext cx="2833560" cy="457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3022560" y="2689200"/>
            <a:ext cx="3541680" cy="549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517680" y="3581280"/>
            <a:ext cx="5578200" cy="938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3"/>
          <a:stretch/>
        </p:blipFill>
        <p:spPr>
          <a:xfrm>
            <a:off x="495360" y="4572000"/>
            <a:ext cx="2881080" cy="4572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0"/>
          <p:cNvSpPr/>
          <p:nvPr/>
        </p:nvSpPr>
        <p:spPr>
          <a:xfrm>
            <a:off x="457200" y="5334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 RAVAN,  ako A→S im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4"/>
          <a:stretch/>
        </p:blipFill>
        <p:spPr>
          <a:xfrm>
            <a:off x="571680" y="5986440"/>
            <a:ext cx="4400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1028880" y="304920"/>
            <a:ext cx="68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NCIP VIRTUELNIH RADO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4"/>
          <p:cNvSpPr/>
          <p:nvPr/>
        </p:nvSpPr>
        <p:spPr>
          <a:xfrm>
            <a:off x="1371600" y="15620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"/>
          <p:cNvSpPr/>
          <p:nvPr/>
        </p:nvSpPr>
        <p:spPr>
          <a:xfrm>
            <a:off x="2400480" y="236232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350532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87624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2247840" y="24382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369576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10"/>
          <p:cNvSpPr/>
          <p:nvPr/>
        </p:nvSpPr>
        <p:spPr>
          <a:xfrm>
            <a:off x="1467720" y="165888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traight Connector 11"/>
          <p:cNvSpPr/>
          <p:nvPr/>
        </p:nvSpPr>
        <p:spPr>
          <a:xfrm>
            <a:off x="1486080" y="161928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traight Connector 12"/>
          <p:cNvSpPr/>
          <p:nvPr/>
        </p:nvSpPr>
        <p:spPr>
          <a:xfrm flipV="1">
            <a:off x="2514600" y="165744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Straight Arrow Connector 13"/>
          <p:cNvCxnSpPr>
            <a:stCxn id="279" idx="7"/>
          </p:cNvCxnSpPr>
          <p:nvPr/>
        </p:nvCxnSpPr>
        <p:spPr>
          <a:xfrm flipV="1">
            <a:off x="3601080" y="10663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Straight Arrow Connector 14"/>
          <p:cNvCxnSpPr>
            <a:stCxn id="279" idx="4"/>
          </p:cNvCxnSpPr>
          <p:nvPr/>
        </p:nvCxnSpPr>
        <p:spPr>
          <a:xfrm>
            <a:off x="3562200" y="171432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301920" y="1795320"/>
            <a:ext cx="368280" cy="490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7"/>
          <p:cNvSpPr/>
          <p:nvPr/>
        </p:nvSpPr>
        <p:spPr>
          <a:xfrm>
            <a:off x="4267080" y="95256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matramo sistem materijalnih tačaka koji je u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vnotež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t.j. sile koje deluju na svaku pojedinu tačku u sistemu zadovoljavaju uslove ravnotež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23960" y="3695760"/>
            <a:ext cx="3135240" cy="609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690480" y="4457880"/>
            <a:ext cx="3310200" cy="609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733320" y="5257800"/>
            <a:ext cx="357192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922320" y="5832360"/>
            <a:ext cx="3021120" cy="987480"/>
          </a:xfrm>
          <a:prstGeom prst="rect">
            <a:avLst/>
          </a:prstGeom>
          <a:ln w="0">
            <a:noFill/>
          </a:ln>
        </p:spPr>
      </p:pic>
      <p:cxnSp>
        <p:nvCxnSpPr>
          <p:cNvPr id="295" name="Straight Arrow Connector 20"/>
          <p:cNvCxnSpPr/>
          <p:nvPr/>
        </p:nvCxnSpPr>
        <p:spPr>
          <a:xfrm flipV="1">
            <a:off x="1409400" y="140904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1538280" y="1014480"/>
            <a:ext cx="4176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97" name="Straight Arrow Connector 23"/>
          <p:cNvCxnSpPr>
            <a:stCxn id="279" idx="5"/>
          </p:cNvCxnSpPr>
          <p:nvPr/>
        </p:nvCxnSpPr>
        <p:spPr>
          <a:xfrm>
            <a:off x="3602160" y="1697040"/>
            <a:ext cx="513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3608280" y="2492280"/>
            <a:ext cx="443160" cy="441360"/>
          </a:xfrm>
          <a:prstGeom prst="rect">
            <a:avLst/>
          </a:prstGeom>
          <a:ln w="0">
            <a:noFill/>
          </a:ln>
        </p:spPr>
      </p:pic>
      <p:sp>
        <p:nvSpPr>
          <p:cNvPr id="299" name="Arc 29"/>
          <p:cNvSpPr/>
          <p:nvPr/>
        </p:nvSpPr>
        <p:spPr>
          <a:xfrm flipH="1">
            <a:off x="1104120" y="1562040"/>
            <a:ext cx="118116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rc 30"/>
          <p:cNvSpPr/>
          <p:nvPr/>
        </p:nvSpPr>
        <p:spPr>
          <a:xfrm>
            <a:off x="2552760" y="1486080"/>
            <a:ext cx="110484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92680" cy="98748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4191120" y="22392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 VIRTUELNIH RA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228600" y="1066680"/>
            <a:ext cx="872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RINCIP VIRTUELNIH RADOVA (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ALAMBEROV PRINCIP)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se sitem materijalnih tačaka nalazi pod mehaničkim uticajem nekog ravnotežnog sistema aktivnih sila i reakcija veza, tada je zbir radova tih aktivnih sila i reakcija veza na virtuelnim pomeranjima njihovih napadnih tačaka jednak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228600" y="387504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ISTEM SA IDEALNIM VEZAMA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je sitem sa idealnim vezama, zbir radova reakcija veza na virtuelnim pomeranjima takvog sistema jednak je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57200" y="5489640"/>
            <a:ext cx="21207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4"/>
          <p:cNvSpPr/>
          <p:nvPr/>
        </p:nvSpPr>
        <p:spPr>
          <a:xfrm>
            <a:off x="228600" y="38160"/>
            <a:ext cx="872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dstavlja sitem materijalnih tačaka sa idealnim vezama, jer unutrašnje sile (reakcije unutrašnjih veza) između materijalnih tačaka u sastavu krutog tela ne vrše rad na virtuelnim pomeranjima krutog tela. Isto važi i za spšoljašnje reakcije v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228600" y="2173320"/>
            <a:ext cx="87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ŠTA JEDNAČINA STAT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19040" y="2781360"/>
            <a:ext cx="2092320" cy="987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380880" y="3887640"/>
            <a:ext cx="872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se sistem materijalnih tačaka, čije su veze idealne, nalazi pod uticajem nekog ravnotežnog sistema sila, tada je zbir radova aktivnih sila na virtuelnim pomeranjima tačaka tog sistema jednak nuli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38080" y="1871640"/>
            <a:ext cx="7543800" cy="48960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7"/>
          <p:cNvSpPr/>
          <p:nvPr/>
        </p:nvSpPr>
        <p:spPr>
          <a:xfrm>
            <a:off x="190440" y="39600"/>
            <a:ext cx="895356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ZADATAK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30 %, SEPTEMBAR 2006.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enom principa virtuelnih radova odrediti, za nosač i opterecenje prikazane na slici pod d), reakcije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moment 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190440" y="39600"/>
            <a:ext cx="8953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87200" y="2552760"/>
            <a:ext cx="4880160" cy="2324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991040" y="2400480"/>
            <a:ext cx="3152880" cy="3031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66560" y="2324160"/>
            <a:ext cx="4158000" cy="22096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381560" cy="29210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470160"/>
            <a:ext cx="91440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30:07Z</dcterms:modified>
  <cp:revision>773</cp:revision>
  <dc:subject/>
  <dc:title>Slide 1</dc:title>
</cp:coreProperties>
</file>