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8.wmf" ContentType="image/x-wmf"/>
  <Override PartName="/ppt/media/image13.png" ContentType="image/png"/>
  <Override PartName="/ppt/media/image33.wmf" ContentType="image/x-wmf"/>
  <Override PartName="/ppt/media/image14.png" ContentType="image/png"/>
  <Override PartName="/ppt/media/image9.wmf" ContentType="image/x-wmf"/>
  <Override PartName="/ppt/media/image7.wmf" ContentType="image/x-wmf"/>
  <Override PartName="/ppt/media/image32.wmf" ContentType="image/x-wmf"/>
  <Override PartName="/ppt/media/image12.png" ContentType="image/png"/>
  <Override PartName="/ppt/media/image25.png" ContentType="image/png"/>
  <Override PartName="/ppt/media/image2.png" ContentType="image/png"/>
  <Override PartName="/ppt/media/image10.wmf" ContentType="image/x-wmf"/>
  <Override PartName="/ppt/media/image31.wmf" ContentType="image/x-wmf"/>
  <Override PartName="/ppt/media/image6.wmf" ContentType="image/x-wmf"/>
  <Override PartName="/ppt/media/image29.wmf" ContentType="image/x-wmf"/>
  <Override PartName="/ppt/media/image35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5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7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EC4D-3D93-46EF-9F13-2246A321A06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1921-9B36-4DE7-A517-A2F569D1526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09DF-E6CF-461A-9BBD-5B9608B4B0C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8B7A-1C0F-48F9-95B2-2966E8895B9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6091-0C43-4C78-BEA4-C4E90217595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D597-2B9C-458E-AD72-31E1214EA1D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B697-28EA-4300-BDFA-DCB117683BE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0C40-6F40-4DE0-A2D3-76A17903645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744A-E8B5-4650-BC9B-FFA3723F854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A513-40ED-43B9-A790-A090774C54D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6363-6659-4514-BF6D-C6D4B41EC2B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C0B0-FEEC-486D-8AC6-759D2A69FDB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9010-AFFA-4166-9418-7A2B3B2FC93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4822-1723-4C9F-B0F6-EF709EFD4BC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B80B-49BB-41D1-9C55-48A32D4F06A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7CB7-B0E5-4E00-B0DD-11AA382FEED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4A21-2AE3-4611-8AC0-5E1E55156C6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A2B0-C163-4BFF-8E26-0E295575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C5E0-48B4-438F-829C-A2769E7C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E743-E820-43A2-84A9-6BF9071F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A827-31C0-44D8-B993-F5B998E29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0BC2-5A8C-4550-A108-3FB193FE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5D29-285A-4216-9B38-C13BA9AE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1C89-6761-4E9D-A2E7-8911C862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E76B-A6AB-44F4-9C00-1C3F4DCB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4937-D869-452E-8519-E36C511D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9DDE-FC53-49B7-83F7-1DEA9DE7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B5BE-D746-4147-B266-407D19FF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7146-52C1-4292-A101-6E3EEEBD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C1F2-5E09-4359-9B83-74BEB488F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image" Target="../media/image2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wmf"/><Relationship Id="rId9" Type="http://schemas.openxmlformats.org/officeDocument/2006/relationships/image" Target="../media/image3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2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3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4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35.wmf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12"/>
          <p:cNvGraphicFramePr/>
          <p:nvPr/>
        </p:nvGraphicFramePr>
        <p:xfrm>
          <a:off x="3995640" y="1700280"/>
          <a:ext cx="4248360" cy="38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700280"/>
                    <a:ext cx="4248360" cy="38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5"/>
          <p:cNvSpPr/>
          <p:nvPr/>
        </p:nvSpPr>
        <p:spPr>
          <a:xfrm>
            <a:off x="539640" y="14130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aj tela određen je sa tri nekolinearne tač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84360" y="2060640"/>
            <a:ext cx="280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x,y,z- nepokretan koordinatni sistem u odnosu na okolni prostor (prostorni koordinatni sist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84360" y="4076640"/>
            <a:ext cx="280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ζ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kretan koord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stem-nepokretan u odnosu na t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84360" y="5229360"/>
            <a:ext cx="28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- referentna tačka te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4"/>
          <p:cNvGraphicFramePr/>
          <p:nvPr/>
        </p:nvGraphicFramePr>
        <p:xfrm>
          <a:off x="2484360" y="4773600"/>
          <a:ext cx="2879640" cy="20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4773600"/>
                    <a:ext cx="28796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RTANJE TELA OKO NEPOKRETNE 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4" name="Object 7"/>
          <p:cNvGraphicFramePr/>
          <p:nvPr/>
        </p:nvGraphicFramePr>
        <p:xfrm>
          <a:off x="785880" y="5713560"/>
          <a:ext cx="1942920" cy="33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5713560"/>
                    <a:ext cx="194292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4"/>
          <p:cNvGraphicFramePr/>
          <p:nvPr/>
        </p:nvGraphicFramePr>
        <p:xfrm>
          <a:off x="755640" y="1670040"/>
          <a:ext cx="4753080" cy="30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670040"/>
                    <a:ext cx="4753080" cy="30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6"/>
          <p:cNvSpPr/>
          <p:nvPr/>
        </p:nvSpPr>
        <p:spPr>
          <a:xfrm>
            <a:off x="611280" y="515772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a jednačina kretanja tela u ovom slučaju glas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4500720" y="1197000"/>
          <a:ext cx="3744720" cy="303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1197000"/>
                    <a:ext cx="374472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RTANJE TELA OKO NEPOKRETNE 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8"/>
              <p:cNvSpPr txBox="1"/>
              <p:nvPr/>
            </p:nvSpPr>
            <p:spPr>
              <a:xfrm>
                <a:off x="826920" y="1773360"/>
                <a:ext cx="5832720" cy="17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ξ</m:t>
                              </m:r>
                            </m:e>
                          </m:mr>
                          <m:mr>
                            <m:e>
                              <m:r>
                                <m:t xml:space="preserve">η</m:t>
                              </m:r>
                            </m:e>
                          </m:mr>
                          <m:mr>
                            <m:e>
                              <m:r>
                                <m:t xml:space="preserve">ζ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4932360" y="1484280"/>
                <a:ext cx="863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27" name="Object 7"/>
          <p:cNvGraphicFramePr/>
          <p:nvPr/>
        </p:nvGraphicFramePr>
        <p:xfrm>
          <a:off x="1212840" y="1989000"/>
          <a:ext cx="254016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1989000"/>
                    <a:ext cx="254016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6"/>
          <p:cNvSpPr/>
          <p:nvPr/>
        </p:nvSpPr>
        <p:spPr>
          <a:xfrm>
            <a:off x="611280" y="1484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 daje vezu između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763640" y="3141720"/>
            <a:ext cx="36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raštaj vektora položaja proizvoljne tačke tela zarotiranog za uga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ko nepokretne 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0"/>
          <p:cNvGraphicFramePr/>
          <p:nvPr/>
        </p:nvGraphicFramePr>
        <p:xfrm>
          <a:off x="4859280" y="1844640"/>
          <a:ext cx="3917880" cy="43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1844640"/>
                    <a:ext cx="39178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35" name="Object 5"/>
          <p:cNvGraphicFramePr/>
          <p:nvPr/>
        </p:nvGraphicFramePr>
        <p:xfrm>
          <a:off x="743040" y="1484280"/>
          <a:ext cx="6648480" cy="46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484280"/>
                    <a:ext cx="664848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7"/>
          <p:cNvGraphicFramePr/>
          <p:nvPr/>
        </p:nvGraphicFramePr>
        <p:xfrm>
          <a:off x="5651640" y="1341360"/>
          <a:ext cx="2788920" cy="40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1341360"/>
                    <a:ext cx="278892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1" name="Object 4"/>
          <p:cNvGraphicFramePr/>
          <p:nvPr/>
        </p:nvGraphicFramePr>
        <p:xfrm>
          <a:off x="826920" y="4438800"/>
          <a:ext cx="1511640" cy="8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438800"/>
                    <a:ext cx="1511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5"/>
          <p:cNvSpPr/>
          <p:nvPr/>
        </p:nvSpPr>
        <p:spPr>
          <a:xfrm>
            <a:off x="399564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6"/>
          <p:cNvGraphicFramePr/>
          <p:nvPr/>
        </p:nvGraphicFramePr>
        <p:xfrm>
          <a:off x="789120" y="1628640"/>
          <a:ext cx="4830480" cy="28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9120" y="1628640"/>
                    <a:ext cx="483048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8"/>
          <p:cNvSpPr/>
          <p:nvPr/>
        </p:nvSpPr>
        <p:spPr>
          <a:xfrm>
            <a:off x="2340000" y="4653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rzor konačne rot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9" name="Object 4"/>
          <p:cNvGraphicFramePr/>
          <p:nvPr/>
        </p:nvGraphicFramePr>
        <p:xfrm>
          <a:off x="820800" y="1916280"/>
          <a:ext cx="6783480" cy="32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0800" y="1916280"/>
                    <a:ext cx="6783480" cy="32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5"/>
          <p:cNvSpPr/>
          <p:nvPr/>
        </p:nvSpPr>
        <p:spPr>
          <a:xfrm>
            <a:off x="468360" y="126828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 važi za konačne rotacije. U slučaju male rota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411280" y="4724280"/>
            <a:ext cx="41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 beskonačna male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826920" y="1700280"/>
                <a:ext cx="17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Text Box 5"/>
          <p:cNvSpPr/>
          <p:nvPr/>
        </p:nvSpPr>
        <p:spPr>
          <a:xfrm>
            <a:off x="468360" y="126828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OBRTANJE TELA OKO NEPOKRETNE TAČKE (sferno kretanj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11280" y="2492280"/>
            <a:ext cx="4105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 – se kreće po sfernoj površi čiji je poluprečnik AP,a centar u tačk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tela određuju tri tačke: A, P i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, Q – obrtanjem oko A prelaze u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i Q’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7"/>
          <p:cNvGraphicFramePr/>
          <p:nvPr/>
        </p:nvGraphicFramePr>
        <p:xfrm>
          <a:off x="4788000" y="1773360"/>
          <a:ext cx="3598920" cy="45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73360"/>
                    <a:ext cx="359892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Ispit iz 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TEHNIČKE MEHANIKE 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UN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0" y="1528200"/>
            <a:ext cx="157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ZADATAK: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(15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"/>
          <p:cNvGrpSpPr/>
          <p:nvPr/>
        </p:nvGrpSpPr>
        <p:grpSpPr>
          <a:xfrm>
            <a:off x="5643720" y="1357200"/>
            <a:ext cx="3120840" cy="1940040"/>
            <a:chOff x="5643720" y="1357200"/>
            <a:chExt cx="3120840" cy="1940040"/>
          </a:xfrm>
        </p:grpSpPr>
        <p:sp>
          <p:nvSpPr>
            <p:cNvPr id="163" name="AutoShape 11"/>
            <p:cNvSpPr/>
            <p:nvPr/>
          </p:nvSpPr>
          <p:spPr>
            <a:xfrm>
              <a:off x="5643720" y="1357200"/>
              <a:ext cx="3120840" cy="19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0"/>
            <p:cNvSpPr/>
            <p:nvPr/>
          </p:nvSpPr>
          <p:spPr>
            <a:xfrm>
              <a:off x="6131520" y="2407320"/>
              <a:ext cx="430560" cy="3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i="1" lang="en-US" sz="12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"/>
            <p:cNvSpPr/>
            <p:nvPr/>
          </p:nvSpPr>
          <p:spPr>
            <a:xfrm>
              <a:off x="7686000" y="2268000"/>
              <a:ext cx="43056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0</a:t>
              </a:r>
              <a:r>
                <a:rPr b="0" lang="sr-Latn-CS" sz="12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8"/>
            <p:cNvSpPr/>
            <p:nvPr/>
          </p:nvSpPr>
          <p:spPr>
            <a:xfrm>
              <a:off x="5761800" y="2923920"/>
              <a:ext cx="273600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6192360" y="2694960"/>
              <a:ext cx="17528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6554520" y="2477880"/>
              <a:ext cx="120024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5"/>
            <p:cNvSpPr/>
            <p:nvPr/>
          </p:nvSpPr>
          <p:spPr>
            <a:xfrm flipV="1">
              <a:off x="7133760" y="2180520"/>
              <a:ext cx="7923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0" name="Object 4"/>
            <p:cNvGraphicFramePr/>
            <p:nvPr/>
          </p:nvGraphicFramePr>
          <p:xfrm>
            <a:off x="7655760" y="1776600"/>
            <a:ext cx="298440" cy="366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1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55760" y="1776600"/>
                      <a:ext cx="298440" cy="3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Line 3"/>
            <p:cNvSpPr/>
            <p:nvPr/>
          </p:nvSpPr>
          <p:spPr>
            <a:xfrm>
              <a:off x="7156440" y="2580120"/>
              <a:ext cx="9068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"/>
            <p:cNvSpPr/>
            <p:nvPr/>
          </p:nvSpPr>
          <p:spPr>
            <a:xfrm>
              <a:off x="5761800" y="2624760"/>
              <a:ext cx="399960" cy="28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i="1" lang="en-US" sz="12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16"/>
          <p:cNvSpPr/>
          <p:nvPr/>
        </p:nvSpPr>
        <p:spPr>
          <a:xfrm>
            <a:off x="12240" y="486000"/>
            <a:ext cx="518400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la mase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2.5 kg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5 kg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nalaze se na horizontalnoj podloz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o što je prikazano na slici. Na gornje telo deluje si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 = 10N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pod uglom od 30</a:t>
            </a:r>
            <a:r>
              <a:rPr b="0" lang="sr-Latn-C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Odrediti ubrzanja tela, ako je koeficijent trenj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eđu tela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0.2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a između tela i podlege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0.05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a proračun koristiti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=10 m/sec</a:t>
            </a:r>
            <a:r>
              <a:rPr b="0" i="1" lang="sr-Latn-C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66"/>
          <p:cNvGrpSpPr/>
          <p:nvPr/>
        </p:nvGrpSpPr>
        <p:grpSpPr>
          <a:xfrm>
            <a:off x="285840" y="3214800"/>
            <a:ext cx="3120840" cy="1938240"/>
            <a:chOff x="285840" y="3214800"/>
            <a:chExt cx="3120840" cy="1938240"/>
          </a:xfrm>
        </p:grpSpPr>
        <p:sp>
          <p:nvSpPr>
            <p:cNvPr id="176" name="AutoShape 67"/>
            <p:cNvSpPr/>
            <p:nvPr/>
          </p:nvSpPr>
          <p:spPr>
            <a:xfrm>
              <a:off x="285840" y="3214800"/>
              <a:ext cx="312084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69"/>
            <p:cNvSpPr/>
            <p:nvPr/>
          </p:nvSpPr>
          <p:spPr>
            <a:xfrm>
              <a:off x="1673280" y="3922920"/>
              <a:ext cx="541080" cy="31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5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0"/>
            <p:cNvSpPr/>
            <p:nvPr/>
          </p:nvSpPr>
          <p:spPr>
            <a:xfrm>
              <a:off x="396000" y="4779720"/>
              <a:ext cx="2561400" cy="144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1"/>
            <p:cNvSpPr/>
            <p:nvPr/>
          </p:nvSpPr>
          <p:spPr>
            <a:xfrm>
              <a:off x="799560" y="4551480"/>
              <a:ext cx="1641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2"/>
            <p:cNvSpPr/>
            <p:nvPr/>
          </p:nvSpPr>
          <p:spPr>
            <a:xfrm>
              <a:off x="1137960" y="4334400"/>
              <a:ext cx="112428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73"/>
            <p:cNvSpPr/>
            <p:nvPr/>
          </p:nvSpPr>
          <p:spPr>
            <a:xfrm flipH="1" flipV="1">
              <a:off x="1672920" y="3999240"/>
              <a:ext cx="6840" cy="4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4"/>
            <p:cNvSpPr/>
            <p:nvPr/>
          </p:nvSpPr>
          <p:spPr>
            <a:xfrm>
              <a:off x="1691280" y="443664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5"/>
            <p:cNvSpPr/>
            <p:nvPr/>
          </p:nvSpPr>
          <p:spPr>
            <a:xfrm flipH="1">
              <a:off x="1284120" y="459288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76"/>
            <p:cNvSpPr/>
            <p:nvPr/>
          </p:nvSpPr>
          <p:spPr>
            <a:xfrm flipH="1">
              <a:off x="1227600" y="4604760"/>
              <a:ext cx="494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77"/>
            <p:cNvSpPr/>
            <p:nvPr/>
          </p:nvSpPr>
          <p:spPr>
            <a:xfrm>
              <a:off x="1676520" y="44334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78"/>
            <p:cNvSpPr/>
            <p:nvPr/>
          </p:nvSpPr>
          <p:spPr>
            <a:xfrm>
              <a:off x="628560" y="3950280"/>
              <a:ext cx="514440" cy="33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25 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79"/>
            <p:cNvSpPr/>
            <p:nvPr/>
          </p:nvSpPr>
          <p:spPr>
            <a:xfrm flipH="1" flipV="1">
              <a:off x="1036440" y="4166640"/>
              <a:ext cx="64008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8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80"/>
          <p:cNvGraphicFramePr/>
          <p:nvPr/>
        </p:nvGraphicFramePr>
        <p:xfrm>
          <a:off x="2500200" y="4286160"/>
          <a:ext cx="561960" cy="42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8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0200" y="4286160"/>
                    <a:ext cx="5619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8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82"/>
          <p:cNvGraphicFramePr/>
          <p:nvPr/>
        </p:nvGraphicFramePr>
        <p:xfrm>
          <a:off x="642960" y="5143680"/>
          <a:ext cx="1638360" cy="25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" name="Object 8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960" y="5143680"/>
                    <a:ext cx="16383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Group 84"/>
          <p:cNvGrpSpPr/>
          <p:nvPr/>
        </p:nvGrpSpPr>
        <p:grpSpPr>
          <a:xfrm>
            <a:off x="4500720" y="3143160"/>
            <a:ext cx="3120840" cy="1940040"/>
            <a:chOff x="4500720" y="3143160"/>
            <a:chExt cx="3120840" cy="1940040"/>
          </a:xfrm>
        </p:grpSpPr>
        <p:sp>
          <p:nvSpPr>
            <p:cNvPr id="195" name="AutoShape 85"/>
            <p:cNvSpPr/>
            <p:nvPr/>
          </p:nvSpPr>
          <p:spPr>
            <a:xfrm>
              <a:off x="4500720" y="3143160"/>
              <a:ext cx="3120840" cy="19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86"/>
            <p:cNvSpPr/>
            <p:nvPr/>
          </p:nvSpPr>
          <p:spPr>
            <a:xfrm>
              <a:off x="6775560" y="4420080"/>
              <a:ext cx="45720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4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87"/>
            <p:cNvSpPr/>
            <p:nvPr/>
          </p:nvSpPr>
          <p:spPr>
            <a:xfrm>
              <a:off x="6059160" y="3962520"/>
              <a:ext cx="46476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70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8"/>
            <p:cNvSpPr/>
            <p:nvPr/>
          </p:nvSpPr>
          <p:spPr>
            <a:xfrm>
              <a:off x="4618800" y="4709880"/>
              <a:ext cx="2736000" cy="1447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89"/>
            <p:cNvSpPr/>
            <p:nvPr/>
          </p:nvSpPr>
          <p:spPr>
            <a:xfrm>
              <a:off x="5049360" y="4480920"/>
              <a:ext cx="17528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90"/>
            <p:cNvSpPr/>
            <p:nvPr/>
          </p:nvSpPr>
          <p:spPr>
            <a:xfrm>
              <a:off x="5411520" y="4263840"/>
              <a:ext cx="120024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91"/>
            <p:cNvSpPr/>
            <p:nvPr/>
          </p:nvSpPr>
          <p:spPr>
            <a:xfrm flipH="1">
              <a:off x="5986800" y="4058640"/>
              <a:ext cx="720" cy="5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92"/>
            <p:cNvSpPr/>
            <p:nvPr/>
          </p:nvSpPr>
          <p:spPr>
            <a:xfrm flipV="1">
              <a:off x="5975280" y="4599720"/>
              <a:ext cx="7657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93"/>
            <p:cNvSpPr/>
            <p:nvPr/>
          </p:nvSpPr>
          <p:spPr>
            <a:xfrm flipH="1">
              <a:off x="5693400" y="466380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94"/>
            <p:cNvSpPr/>
            <p:nvPr/>
          </p:nvSpPr>
          <p:spPr>
            <a:xfrm flipH="1">
              <a:off x="4988520" y="4656240"/>
              <a:ext cx="1085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9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95"/>
          <p:cNvGraphicFramePr/>
          <p:nvPr/>
        </p:nvGraphicFramePr>
        <p:xfrm>
          <a:off x="4214880" y="5072040"/>
          <a:ext cx="1971720" cy="285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7" name="Object 9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14880" y="5072040"/>
                    <a:ext cx="197172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97"/>
          <p:cNvGraphicFramePr/>
          <p:nvPr/>
        </p:nvGraphicFramePr>
        <p:xfrm>
          <a:off x="500040" y="6000840"/>
          <a:ext cx="1219320" cy="428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0" name="Object 9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0040" y="6000840"/>
                    <a:ext cx="121932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0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99"/>
          <p:cNvGraphicFramePr/>
          <p:nvPr/>
        </p:nvGraphicFramePr>
        <p:xfrm>
          <a:off x="1785960" y="6039000"/>
          <a:ext cx="876240" cy="390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13" name="Object 9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785960" y="6039000"/>
                    <a:ext cx="8762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10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101"/>
          <p:cNvGraphicFramePr/>
          <p:nvPr/>
        </p:nvGraphicFramePr>
        <p:xfrm>
          <a:off x="4362480" y="6143760"/>
          <a:ext cx="1066680" cy="228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16" name="Object 10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362480" y="6143760"/>
                    <a:ext cx="1066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10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03"/>
          <p:cNvGraphicFramePr/>
          <p:nvPr/>
        </p:nvGraphicFramePr>
        <p:xfrm>
          <a:off x="5619600" y="6039000"/>
          <a:ext cx="809640" cy="3902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19" name="Object 10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619600" y="6039000"/>
                    <a:ext cx="8096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Box 102"/>
          <p:cNvSpPr/>
          <p:nvPr/>
        </p:nvSpPr>
        <p:spPr>
          <a:xfrm>
            <a:off x="571680" y="5572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O  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03"/>
          <p:cNvSpPr/>
          <p:nvPr/>
        </p:nvSpPr>
        <p:spPr>
          <a:xfrm>
            <a:off x="4214880" y="55720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O   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68360" y="1700280"/>
            <a:ext cx="68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aj proizvoljne tačke tela u odnosu na nepokretan (prostorni) koordinatni si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573120" y="2708280"/>
          <a:ext cx="4132080" cy="16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2708280"/>
                    <a:ext cx="413208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11"/>
          <p:cNvSpPr/>
          <p:nvPr/>
        </p:nvSpPr>
        <p:spPr>
          <a:xfrm>
            <a:off x="2050920" y="278136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ska konačna jednačina za proizvoljnu tačku t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1619280" y="3933720"/>
            <a:ext cx="75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inični vektori  Dekartovog materijalnog koordinatnog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68360" y="450864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e koordinate svake tačke krutog tela imaju nepromenljivu vred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826920" y="1557360"/>
                <a:ext cx="6435720" cy="29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⋅</m:t>
                    </m:r>
                    <m:r>
                      <m:t xml:space="preserve">⋅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6" name="Object 8"/>
          <p:cNvGraphicFramePr/>
          <p:nvPr/>
        </p:nvGraphicFramePr>
        <p:xfrm>
          <a:off x="4788000" y="2581200"/>
          <a:ext cx="4176720" cy="38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581200"/>
                    <a:ext cx="417672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0" name="Object 5"/>
          <p:cNvGraphicFramePr/>
          <p:nvPr/>
        </p:nvGraphicFramePr>
        <p:xfrm>
          <a:off x="942840" y="4149720"/>
          <a:ext cx="3881520" cy="20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2840" y="4149720"/>
                    <a:ext cx="388152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4"/>
          <p:cNvSpPr/>
          <p:nvPr/>
        </p:nvSpPr>
        <p:spPr>
          <a:xfrm>
            <a:off x="4932360" y="4941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- Matrica ro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7"/>
          <p:cNvGraphicFramePr/>
          <p:nvPr/>
        </p:nvGraphicFramePr>
        <p:xfrm>
          <a:off x="1454040" y="1413000"/>
          <a:ext cx="5729400" cy="24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4040" y="1413000"/>
                    <a:ext cx="572940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7" name="Object 6"/>
          <p:cNvGraphicFramePr/>
          <p:nvPr/>
        </p:nvGraphicFramePr>
        <p:xfrm>
          <a:off x="909720" y="1484280"/>
          <a:ext cx="4298760" cy="16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484280"/>
                    <a:ext cx="429876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 Box 5"/>
          <p:cNvSpPr/>
          <p:nvPr/>
        </p:nvSpPr>
        <p:spPr>
          <a:xfrm>
            <a:off x="5148360" y="1700280"/>
            <a:ext cx="345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a kret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izvoljne tačke tela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ordinatnom obli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755640" y="321300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u poznate funkcije vrem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3"/>
          <p:cNvGraphicFramePr/>
          <p:nvPr/>
        </p:nvGraphicFramePr>
        <p:xfrm>
          <a:off x="919080" y="3933720"/>
          <a:ext cx="4064040" cy="171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9080" y="3933720"/>
                    <a:ext cx="406404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15"/>
          <p:cNvSpPr/>
          <p:nvPr/>
        </p:nvSpPr>
        <p:spPr>
          <a:xfrm>
            <a:off x="5076720" y="429264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da je poznat položaj materijalne tačke u svakom trenut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6" name="Object 4"/>
          <p:cNvGraphicFramePr/>
          <p:nvPr/>
        </p:nvGraphicFramePr>
        <p:xfrm>
          <a:off x="995400" y="1844640"/>
          <a:ext cx="5568840" cy="18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1844640"/>
                    <a:ext cx="556884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5"/>
          <p:cNvSpPr/>
          <p:nvPr/>
        </p:nvSpPr>
        <p:spPr>
          <a:xfrm>
            <a:off x="179280" y="126828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a kretanja određene tačke te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7"/>
          <p:cNvGraphicFramePr/>
          <p:nvPr/>
        </p:nvGraphicFramePr>
        <p:xfrm>
          <a:off x="1187280" y="3789360"/>
          <a:ext cx="5616720" cy="20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789360"/>
                    <a:ext cx="561672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9"/>
          <p:cNvSpPr/>
          <p:nvPr/>
        </p:nvSpPr>
        <p:spPr>
          <a:xfrm>
            <a:off x="826920" y="5805360"/>
            <a:ext cx="7777440" cy="7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kle izmež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elemenata matrice rotacij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i="1" lang="sr-Latn-C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ɑ</a:t>
            </a:r>
            <a:r>
              <a:rPr b="0" lang="sr-Latn-CS" sz="2000" spc="-1" strike="noStrike" baseline="-18000">
                <a:solidFill>
                  <a:srgbClr val="ff0000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stoj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veza, pa su samo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datka (elemen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nezavis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JLER-ovi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(Euler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UGLO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539640" y="1916280"/>
                <a:ext cx="4321440" cy="26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 je presek ravni 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 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</m:e>
                      <m:e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- ugao precesije</m:t>
                        </m:r>
                      </m:e>
                      <m:e>
                        <m:r>
                          <m:t xml:space="preserve">υ</m:t>
                        </m:r>
                        <m:r>
                          <m:rPr>
                            <m:lit/>
                            <m:nor/>
                          </m:rPr>
                          <m:t xml:space="preserve">- ugao nutacije</m:t>
                        </m:r>
                      </m:e>
                      <m:e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- ugao sopstvene rotacije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- linija čvoro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5" name="Object 10"/>
          <p:cNvGraphicFramePr/>
          <p:nvPr/>
        </p:nvGraphicFramePr>
        <p:xfrm>
          <a:off x="4716360" y="1989000"/>
          <a:ext cx="397044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989000"/>
                    <a:ext cx="39704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9"/>
              <p:cNvSpPr txBox="1"/>
              <p:nvPr/>
            </p:nvSpPr>
            <p:spPr>
              <a:xfrm>
                <a:off x="925560" y="5016600"/>
                <a:ext cx="41958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ψ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  <m:r>
                          <m:t xml:space="preserve">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826920" y="1773360"/>
                <a:ext cx="3313440" cy="24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Text Box 5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TRANSLA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11280" y="44370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e kretanja date su 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5"/>
          <p:cNvGraphicFramePr/>
          <p:nvPr/>
        </p:nvGraphicFramePr>
        <p:xfrm>
          <a:off x="4211640" y="1413000"/>
          <a:ext cx="45370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13000"/>
                    <a:ext cx="4537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826920" y="1700280"/>
                <a:ext cx="3672000" cy="30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- nepokretne tacke;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  <m:e/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Text Box 5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 OBRTANJE TELA OKO NEPOKRETNE 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11280" y="4724280"/>
            <a:ext cx="7777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tačke na pravoj kroz tačke A i B takođe miruju, tako da je prava kroz A i B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sa obrtanj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u obrtanja karakteriše da je to prava u telu koja spaja nepokretne tačke tela. Sve ostale tačke tela opisuju kružnice u ravnima normalnim na osu sa centrima na osi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2"/>
          <p:cNvGraphicFramePr/>
          <p:nvPr/>
        </p:nvGraphicFramePr>
        <p:xfrm>
          <a:off x="5219640" y="1197000"/>
          <a:ext cx="339084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197000"/>
                    <a:ext cx="33908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05T08:02:52Z</dcterms:modified>
  <cp:revision>287</cp:revision>
  <dc:subject/>
  <dc:title>ТЕХНИЧКА МЕХАНИКА 2</dc:title>
</cp:coreProperties>
</file>