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5EF3-B7DC-430A-B528-970DEE64A40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9428-BA85-494A-9880-7C3BC3BDB3A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1A73-C9DD-425B-A931-D6549651CB8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8F15-C8D8-40C9-80EB-726743EBD38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58B2-736D-4953-8F5D-A004381028B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A802-E4C4-46F1-8E9B-B71A02BEF48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873C-AADA-43AF-969A-B39FDA4FE91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2E76-6325-41B6-B613-F8555F07820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D234-AF43-46F1-AC89-D66E02F29EC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B36D-FA5F-4CBA-9D16-77671417EEE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5C08-A688-41B0-A57E-1E3F93B7EDF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BB4F-51C2-4B7D-A029-D4F4F599009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3AC4-5AD2-45B6-A5C2-0EADC053D40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BA31-7C20-48B9-90F5-4D80AA3D455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B7AA-C989-4592-ADBE-F9C35B7BA19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BC11-24F6-4D5D-AA50-4B93AFC340A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0505-743D-4113-A5D0-04B1EB496E9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E6D7-6D68-4ED8-962A-95F883CBA52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E5A5-911E-4380-A5DE-0A74ABFD081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7A1D-6AA1-4A16-A7FE-66D031722E9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811E-8AEA-4FB1-95C8-16F1B73C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13C8-FEE5-4FDD-A2C2-A0E80DEC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5055-EFF6-46E8-BD2E-21EADBA59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2F44-DCE7-4F19-8DE3-221E49CBC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ECAE-2DDD-49B0-A3D8-4E68B150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9B0D-74FB-442C-932F-7FDDDA70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8000-1532-4C06-8EF6-ED0B60CB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E2D3-3099-4956-878A-AFFA5711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815D-819C-4BD8-9D77-D3D43B53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2B10-F300-45B1-AB48-08013D09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E7D8-DCC4-4B65-81D7-877D50B2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2C7F-0DCC-47BE-A35F-A9B75D23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1B81-2AF0-4921-942C-93F570633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DINAMIKA ME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JUTNOVI AKSIOMI MEHANIK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SIOM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KON INERCIJ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o telo ostaje u stanju mirovanja ili jednolikog pravolinijskog kretanj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e dok delovanjem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le ne bude prinuđeno da to stanje promen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II NJUTNOV ZAK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mena količine ktretanja tela (materijalne tačke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porcionalna je sili koja deluje na telo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terijalnu tačku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 vrši se u pravc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smeru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elovanja sil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l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izvod mase materijalne tačke i njenog ubrzanj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nak j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 intenzitetu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avcu i smeru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li koja deluje na materijalnu tačku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1187280" y="4941720"/>
          <a:ext cx="3745080" cy="16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4941720"/>
                    <a:ext cx="37450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MOMENTA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3"/>
              <p:cNvSpPr txBox="1"/>
              <p:nvPr/>
            </p:nvSpPr>
            <p:spPr>
              <a:xfrm>
                <a:off x="930240" y="2133720"/>
                <a:ext cx="2448000" cy="31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</m:e>
                        </m:nary>
                      </m:e>
                      <m:e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3" name="Text Box 4"/>
          <p:cNvSpPr/>
          <p:nvPr/>
        </p:nvSpPr>
        <p:spPr>
          <a:xfrm>
            <a:off x="3059280" y="24922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Impulsni momen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PRIMER-Kružno kretanje pod uticajem sile F=F</a:t>
            </a:r>
            <a:r>
              <a:rPr b="0" lang="sr-Latn-C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=con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3"/>
              <p:cNvSpPr txBox="1"/>
              <p:nvPr/>
            </p:nvSpPr>
            <p:spPr>
              <a:xfrm>
                <a:off x="539640" y="1844640"/>
                <a:ext cx="518328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t xml:space="preserve">⋅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 ; 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5"/>
              <p:cNvSpPr txBox="1"/>
              <p:nvPr/>
            </p:nvSpPr>
            <p:spPr>
              <a:xfrm>
                <a:off x="539640" y="2639880"/>
                <a:ext cx="5183280" cy="421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g</m:t>
                                </m:r>
                              </m:e>
                            </m:acc>
                          </m:e>
                          <m:sub>
                            <m:r>
                              <m:t xml:space="preserve">ρ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mR {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ρ</m:t>
                        </m:r>
                      </m:sub>
                    </m:sSub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ρ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za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⇒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ϕ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-  </m:t>
                    </m:r>
                    <m:sSup>
                      <m:e>
                        <m:r>
                          <m:t xml:space="preserve">m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acc>
                      <m:accPr>
                        <m:chr m:val="˙"/>
                      </m:accPr>
                      <m:e>
                        <m:r>
                          <m:t xml:space="preserve">ϕ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   ;    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ϕ</m:t>
                        </m:r>
                      </m:e>
                    </m:acc>
                    <m:r>
                      <m:t xml:space="preserve">=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Text Box 16"/>
          <p:cNvSpPr/>
          <p:nvPr/>
        </p:nvSpPr>
        <p:spPr>
          <a:xfrm>
            <a:off x="2987640" y="544500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četni usl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4500720" y="59500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gaona brz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22"/>
          <p:cNvGraphicFramePr/>
          <p:nvPr/>
        </p:nvGraphicFramePr>
        <p:xfrm>
          <a:off x="5148360" y="2205000"/>
          <a:ext cx="3609720" cy="37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2205000"/>
                    <a:ext cx="360972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INETIČKE ENERGIJE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7"/>
              <p:cNvSpPr txBox="1"/>
              <p:nvPr/>
            </p:nvSpPr>
            <p:spPr>
              <a:xfrm>
                <a:off x="684360" y="1601640"/>
                <a:ext cx="277812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⋅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⋅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/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e>
                        </m:nary>
                      </m:e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r>
                              <m:t xml:space="preserve">P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03" name="Object 16"/>
          <p:cNvGraphicFramePr/>
          <p:nvPr/>
        </p:nvGraphicFramePr>
        <p:xfrm>
          <a:off x="5435640" y="1628640"/>
          <a:ext cx="3025800" cy="28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1628640"/>
                    <a:ext cx="3025800" cy="28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22"/>
          <p:cNvGraphicFramePr/>
          <p:nvPr/>
        </p:nvGraphicFramePr>
        <p:xfrm>
          <a:off x="6372360" y="4437000"/>
          <a:ext cx="1871640" cy="172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4437000"/>
                    <a:ext cx="187164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Text Box 8"/>
          <p:cNvSpPr/>
          <p:nvPr/>
        </p:nvSpPr>
        <p:spPr>
          <a:xfrm>
            <a:off x="2411280" y="6237360"/>
            <a:ext cx="44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Zakon o promeni kinetičke energ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2700360" y="321300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Elementarni rad s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26"/>
              <p:cNvSpPr txBox="1"/>
              <p:nvPr/>
            </p:nvSpPr>
            <p:spPr>
              <a:xfrm>
                <a:off x="4067280" y="4941720"/>
                <a:ext cx="2303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INETIČKE ENERGIJE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3"/>
          <p:cNvGraphicFramePr/>
          <p:nvPr/>
        </p:nvGraphicFramePr>
        <p:xfrm>
          <a:off x="826920" y="1701720"/>
          <a:ext cx="7704360" cy="331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701720"/>
                    <a:ext cx="7704360" cy="33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Text Box 5"/>
          <p:cNvSpPr/>
          <p:nvPr/>
        </p:nvSpPr>
        <p:spPr>
          <a:xfrm>
            <a:off x="2124000" y="198900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Kinetička energija materijalne tač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6"/>
          <p:cNvGraphicFramePr/>
          <p:nvPr/>
        </p:nvGraphicFramePr>
        <p:xfrm>
          <a:off x="3059280" y="1488960"/>
          <a:ext cx="2449440" cy="21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488960"/>
                    <a:ext cx="2449440" cy="21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7" name="Object 13"/>
              <p:cNvSpPr txBox="1"/>
              <p:nvPr/>
            </p:nvSpPr>
            <p:spPr>
              <a:xfrm>
                <a:off x="1187280" y="3860640"/>
                <a:ext cx="3168720" cy="25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oule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1 J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18" name="Object 15"/>
          <p:cNvGraphicFramePr/>
          <p:nvPr/>
        </p:nvGraphicFramePr>
        <p:xfrm>
          <a:off x="4572000" y="2205000"/>
          <a:ext cx="4292640" cy="434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205000"/>
                    <a:ext cx="4292640" cy="43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0" name="Object 18"/>
              <p:cNvSpPr txBox="1"/>
              <p:nvPr/>
            </p:nvSpPr>
            <p:spPr>
              <a:xfrm>
                <a:off x="1187280" y="1773360"/>
                <a:ext cx="151308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-m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826920" y="2565360"/>
                <a:ext cx="7704360" cy="307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;</m:t>
                            </m:r>
                            <m:r>
                              <m:t xml:space="preserve">Y</m:t>
                            </m:r>
                            <m:r>
                              <m:t xml:space="preserve">;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;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;</m:t>
                            </m:r>
                            <m:r>
                              <m:t xml:space="preserve">y</m:t>
                            </m:r>
                            <m:r>
                              <m:t xml:space="preserve">;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;   d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Z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x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e/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y {</m:t>
                        </m:r>
                        <m:r>
                          <m:t xml:space="preserve">j</m:t>
                        </m:r>
                      </m:e>
                      <m:e/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z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/>
                    </m:d>
                    <m:r>
                      <m:rPr>
                        <m:lit/>
                        <m:nor/>
                      </m:rPr>
                      <m:t xml:space="preserve">   ako je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 d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Xd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Yd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Zdz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d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y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Zdz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3" name="Text Box 4"/>
          <p:cNvSpPr/>
          <p:nvPr/>
        </p:nvSpPr>
        <p:spPr>
          <a:xfrm>
            <a:off x="755640" y="17002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Dekartovim koordinat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3"/>
              <p:cNvSpPr txBox="1"/>
              <p:nvPr/>
            </p:nvSpPr>
            <p:spPr>
              <a:xfrm>
                <a:off x="755640" y="3573360"/>
                <a:ext cx="7201080" cy="31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Ydy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Zd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Text Box 4"/>
          <p:cNvSpPr/>
          <p:nvPr/>
        </p:nvSpPr>
        <p:spPr>
          <a:xfrm>
            <a:off x="755640" y="1700280"/>
            <a:ext cx="8137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Dekartovim koordinat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rad sile ne zavisi od oblika putanje po kojoj se vrši kretanje već samo zavisi od početnog i krajnjeg položaja, tada se takva sila naziva konzervativnom silom. Rad sile u tom slučaju predstavlja 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totalni diferencijal skalarne funk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oložaj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3"/>
              <p:cNvSpPr txBox="1"/>
              <p:nvPr/>
            </p:nvSpPr>
            <p:spPr>
              <a:xfrm>
                <a:off x="755640" y="2637000"/>
                <a:ext cx="4897440" cy="18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  <m:e/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Text Box 4"/>
          <p:cNvSpPr/>
          <p:nvPr/>
        </p:nvSpPr>
        <p:spPr>
          <a:xfrm>
            <a:off x="755640" y="1700280"/>
            <a:ext cx="81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 bi sila bila konzervativna koordinate vektora sile moraju biti izražene preko odgovarajućih izvoda jedne iste funkcije položa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627280" y="407664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Potencijal polja sile (potencijalja energija m. tačk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755640" y="350028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de 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3"/>
          <p:cNvGraphicFramePr/>
          <p:nvPr/>
        </p:nvGraphicFramePr>
        <p:xfrm>
          <a:off x="826920" y="2311560"/>
          <a:ext cx="5616720" cy="9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311560"/>
                    <a:ext cx="561672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4"/>
          <p:cNvSpPr/>
          <p:nvPr/>
        </p:nvSpPr>
        <p:spPr>
          <a:xfrm>
            <a:off x="755640" y="170028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d poljem sile podrazumevamo prostor u kome deluje si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755640" y="350028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 matematike, ako je f=f(x,y,z) – skalarna funkcija, tada je gradijent funkcije 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7"/>
              <p:cNvSpPr txBox="1"/>
              <p:nvPr/>
            </p:nvSpPr>
            <p:spPr>
              <a:xfrm>
                <a:off x="826920" y="4365720"/>
                <a:ext cx="395928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rad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684360" y="5445000"/>
            <a:ext cx="68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da se t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ka kreće u polju konzervativne sile, onda se ulaže sila na račun potencija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6"/>
              <p:cNvSpPr txBox="1"/>
              <p:nvPr/>
            </p:nvSpPr>
            <p:spPr>
              <a:xfrm>
                <a:off x="755640" y="1700280"/>
                <a:ext cx="6624720" cy="34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DINAMIKA ME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771516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      III NJUTNOV ZAKON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KON AKCIJE I REAKCIJ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zajamni mehanički uticaji dvaju tela ispoljavaju se silama koje imaju isti intenzitet i pravac, a deluju u suprotnim smerov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IV NJUTNOV ZAKON (ZAKON O SLAGANJ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na telo (materijalnu tačku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eluju istovrameno dve sile, tada se telo (tačka) kreće opisujući dijagonalu paralelograma konstruisanog nad tim silama kao vektor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dT=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-T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→2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=U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-U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Zakon o održanju energi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=T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=T+U=con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pitni prvi zadtatak ISPUS21okt04.do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DINAMIKA ME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16"/>
              <p:cNvSpPr txBox="1"/>
              <p:nvPr/>
            </p:nvSpPr>
            <p:spPr>
              <a:xfrm>
                <a:off x="826920" y="4437000"/>
                <a:ext cx="446436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/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  ;  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  ;  ma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  ;  </m:t>
                    </m:r>
                    <m:r>
                      <m:t xml:space="preserve">m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X  ;  m {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Y  ;  m {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  -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Text Box 7"/>
          <p:cNvSpPr/>
          <p:nvPr/>
        </p:nvSpPr>
        <p:spPr>
          <a:xfrm>
            <a:off x="611280" y="299736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I Njutnov zakon važi u odnosu na inercijalni koordinatni si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1403280" y="2492280"/>
            <a:ext cx="80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zultanta svih sila koje deluju na materijalnu tač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539640" y="3573360"/>
            <a:ext cx="80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DEKARTOV KOORDINATNI SI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4788000" y="551664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D.J. Kretanja materijalne tač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9"/>
              <p:cNvSpPr txBox="1"/>
              <p:nvPr/>
            </p:nvSpPr>
            <p:spPr>
              <a:xfrm>
                <a:off x="971640" y="1413000"/>
                <a:ext cx="141264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DINAMIKA ME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3"/>
          <p:cNvGraphicFramePr/>
          <p:nvPr/>
        </p:nvGraphicFramePr>
        <p:xfrm>
          <a:off x="500040" y="2143080"/>
          <a:ext cx="302256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2143080"/>
                    <a:ext cx="302256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Text Box 4"/>
          <p:cNvSpPr/>
          <p:nvPr/>
        </p:nvSpPr>
        <p:spPr>
          <a:xfrm>
            <a:off x="3635280" y="5516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Početni uslo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39640" y="1268280"/>
            <a:ext cx="80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PRIRODNE KOORDIN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6"/>
          <p:cNvGraphicFramePr/>
          <p:nvPr/>
        </p:nvGraphicFramePr>
        <p:xfrm>
          <a:off x="4284720" y="2060640"/>
          <a:ext cx="4103640" cy="350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2060640"/>
                    <a:ext cx="4103640" cy="35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 Box 8"/>
          <p:cNvSpPr/>
          <p:nvPr/>
        </p:nvSpPr>
        <p:spPr>
          <a:xfrm>
            <a:off x="468360" y="177336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PRIMER: Matematičko klat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5"/>
              <p:cNvSpPr txBox="1"/>
              <p:nvPr/>
            </p:nvSpPr>
            <p:spPr>
              <a:xfrm>
                <a:off x="684360" y="1700280"/>
                <a:ext cx="5327640" cy="30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num>
                          <m:den/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nst</m:t>
                            </m:r>
                          </m:e>
                        </m:d>
                        <m:r>
                          <m:t xml:space="preserve">⇒</m:t>
                        </m:r>
                        <m:r>
                          <m:t xml:space="preserve">m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v</m:t>
                            </m:r>
                          </m:sup>
                          <m:e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v</m:t>
                            </m:r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Text Box 7"/>
          <p:cNvSpPr/>
          <p:nvPr/>
        </p:nvSpPr>
        <p:spPr>
          <a:xfrm>
            <a:off x="684360" y="472428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je F=const ili F=F(t), tada se gornji integral može izračuna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3"/>
          <p:cNvGraphicFramePr/>
          <p:nvPr/>
        </p:nvGraphicFramePr>
        <p:xfrm>
          <a:off x="900000" y="1754280"/>
          <a:ext cx="6624720" cy="16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754280"/>
                    <a:ext cx="6624720" cy="16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5"/>
          <p:cNvGraphicFramePr/>
          <p:nvPr/>
        </p:nvGraphicFramePr>
        <p:xfrm>
          <a:off x="900000" y="3571920"/>
          <a:ext cx="6939000" cy="193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3571920"/>
                    <a:ext cx="6939000" cy="19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2" descr="2"/>
          <p:cNvPicPr/>
          <p:nvPr/>
        </p:nvPicPr>
        <p:blipFill>
          <a:blip r:embed="rId1"/>
          <a:srcRect l="18565" t="24289" r="3795" b="19184"/>
          <a:stretch/>
        </p:blipFill>
        <p:spPr>
          <a:xfrm>
            <a:off x="3492360" y="4076640"/>
            <a:ext cx="5435640" cy="24796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3"/>
              <p:cNvSpPr txBox="1"/>
              <p:nvPr/>
            </p:nvSpPr>
            <p:spPr>
              <a:xfrm>
                <a:off x="826920" y="1557360"/>
                <a:ext cx="13687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8"/>
              <p:cNvSpPr txBox="1"/>
              <p:nvPr/>
            </p:nvSpPr>
            <p:spPr>
              <a:xfrm>
                <a:off x="826920" y="2133720"/>
                <a:ext cx="3657600" cy="457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m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;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⇒</m:t>
                        </m:r>
                      </m:e>
                      <m:e>
                        <m:r>
                          <m:t xml:space="preserve">Δt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Δt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L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L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MOMENTA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7"/>
              <p:cNvSpPr txBox="1"/>
              <p:nvPr/>
            </p:nvSpPr>
            <p:spPr>
              <a:xfrm>
                <a:off x="820800" y="1989000"/>
                <a:ext cx="3849480" cy="410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num>
                          <m:den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den>
                        </m:f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r>
                              <m:t xml:space="preserve">m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r>
                              <m:t xml:space="preserve">m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" name="Text Box 8"/>
          <p:cNvSpPr/>
          <p:nvPr/>
        </p:nvSpPr>
        <p:spPr>
          <a:xfrm>
            <a:off x="3492360" y="4653000"/>
            <a:ext cx="482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kon o promeni momenta količine kretanja u diferencijalnom obl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3851280" y="5445000"/>
            <a:ext cx="482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oment količine kretanja (inercijalni mo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10"/>
          <p:cNvGraphicFramePr/>
          <p:nvPr/>
        </p:nvGraphicFramePr>
        <p:xfrm>
          <a:off x="4788000" y="1413000"/>
          <a:ext cx="3527280" cy="35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413000"/>
                    <a:ext cx="3527280" cy="35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MOMENTA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3"/>
              <p:cNvSpPr txBox="1"/>
              <p:nvPr/>
            </p:nvSpPr>
            <p:spPr>
              <a:xfrm>
                <a:off x="468360" y="2060640"/>
                <a:ext cx="3773520" cy="428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r>
                              <m:t xml:space="preserve">m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bSup>
                          </m:sub>
                          <m:sup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</m:sup>
                          <m:e>
                            <m:r>
                              <m:t xml:space="preserve">d</m:t>
                            </m:r>
                          </m:e>
                        </m:nary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</m:e>
                        </m:acc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-</m:t>
                        </m:r>
                      </m:e>
                    </m:eqAr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-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Text Box 4"/>
          <p:cNvSpPr/>
          <p:nvPr/>
        </p:nvSpPr>
        <p:spPr>
          <a:xfrm>
            <a:off x="4284720" y="4292640"/>
            <a:ext cx="44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kon o promeni momenta količine kretanja u konačnom obl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1547640" y="5805360"/>
            <a:ext cx="44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oment je funkcija vrem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0-02T07:51:02Z</dcterms:modified>
  <cp:revision>145</cp:revision>
  <dc:subject/>
  <dc:title>ТЕХНИЧКА МЕХАНИКА 2</dc:title>
</cp:coreProperties>
</file>