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2B1A-4EFA-4B1E-83C2-78082E01DCC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2428-FD1D-4FD6-9A27-ED3DBBD6C57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D352-6999-4728-BA2A-DC63EACEBAE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94BA-9A41-4416-B43C-0429803973B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08D6-CDF1-4BA2-A786-89A16B35ADF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2F32-1A1D-41AC-9DBA-4157AA69EF2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9078-9339-4AD4-A51E-B867FFE5494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1F71-8902-4C36-9A44-0C376094B97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4867-F19C-4635-81FB-503F0296C6B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CAF7-C3CB-4A71-ADF6-ECD73521661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383A-D8A4-45B0-9452-366371A5C50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4687-0FFC-4D46-90BE-CE5048E290C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7DBE-3CF4-40CF-B262-850BCB05C6E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32E0-0E8D-4A72-9A5F-DE8A3404FBE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6B13-3862-435A-83F8-FBC428A5483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F71B-996B-44FD-84CF-4675B46073D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3804-5194-42B1-9B63-7D06B4058F0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DF32-F641-4450-AB2D-6A001DD5C58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D9B2-36C7-4082-91EA-20598D78B48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A124-C559-4856-860D-08F4D87F660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4BA2-9B52-4705-9E89-99A82914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C478-342E-4554-BF67-518AA84F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AAF7-55EF-4797-9F0C-1B3BCA0B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FBBA-9660-4D42-83E7-74F98B00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0C98-133E-4502-90FB-F0ACE1A3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88B-A54A-48BD-B7B0-AF839093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AC1-D4F6-46C4-8CA9-C5F3406C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4D25-973D-4406-8EF9-BFB2287A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4115-ED58-4E86-93F3-77BA4C6A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941D-C1C2-4D04-A862-7D5778BE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81BD-F68C-4CD0-872B-91881FE3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AB45-9924-454B-A3B5-4CE775CA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D4ED-C3D2-4012-AE70-83EE99120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JUTNOVI AKSIOMI MEHANI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SIO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INERCI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telo ostaje u stanju mirovanja ili jednolikog pravolinijskog kretan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dok delovanje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le ne bude prinuđeno da to stanje promen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II NJUTNOV ZA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mena količine ktretanja tela (materijalne tačke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porcionalna je sili koja deluje na telo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u tačk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 vrši se u pravc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smeru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ovanja sil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izvod mase materijalne tačke i njenog ubrzan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k 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 intenzitet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vcu i smer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li koja deluje na materijalnu tačk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1187280" y="4941720"/>
          <a:ext cx="374508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941720"/>
                    <a:ext cx="3745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930240" y="2133720"/>
                <a:ext cx="2448000" cy="31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e>
                        </m:nary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Text Box 4"/>
          <p:cNvSpPr/>
          <p:nvPr/>
        </p:nvSpPr>
        <p:spPr>
          <a:xfrm>
            <a:off x="3059280" y="2492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Impulsni mome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IMER-Kružno kretanje pod uticajem sile F=F</a:t>
            </a:r>
            <a:r>
              <a:rPr b="0" lang="sr-Latn-C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=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539640" y="1844640"/>
                <a:ext cx="51832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;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5"/>
              <p:cNvSpPr txBox="1"/>
              <p:nvPr/>
            </p:nvSpPr>
            <p:spPr>
              <a:xfrm>
                <a:off x="539640" y="2639880"/>
                <a:ext cx="5183280" cy="42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t xml:space="preserve">ρ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mR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za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-  </m:t>
                    </m:r>
                    <m:sSup>
                      <m:e>
                        <m: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;  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Text Box 16"/>
          <p:cNvSpPr/>
          <p:nvPr/>
        </p:nvSpPr>
        <p:spPr>
          <a:xfrm>
            <a:off x="2987640" y="5445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četni usl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4500720" y="59500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aona brz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22"/>
          <p:cNvGraphicFramePr/>
          <p:nvPr/>
        </p:nvGraphicFramePr>
        <p:xfrm>
          <a:off x="5148360" y="2205000"/>
          <a:ext cx="360972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205000"/>
                    <a:ext cx="360972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INETIČKE ENERGIJE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7"/>
              <p:cNvSpPr txBox="1"/>
              <p:nvPr/>
            </p:nvSpPr>
            <p:spPr>
              <a:xfrm>
                <a:off x="684360" y="1601640"/>
                <a:ext cx="277812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/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3" name="Object 16"/>
          <p:cNvGraphicFramePr/>
          <p:nvPr/>
        </p:nvGraphicFramePr>
        <p:xfrm>
          <a:off x="5435640" y="1628640"/>
          <a:ext cx="3025800" cy="28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628640"/>
                    <a:ext cx="302580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22"/>
          <p:cNvGraphicFramePr/>
          <p:nvPr/>
        </p:nvGraphicFramePr>
        <p:xfrm>
          <a:off x="6372360" y="4437000"/>
          <a:ext cx="1871640" cy="172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437000"/>
                    <a:ext cx="187164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8"/>
          <p:cNvSpPr/>
          <p:nvPr/>
        </p:nvSpPr>
        <p:spPr>
          <a:xfrm>
            <a:off x="2411280" y="62373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Zakon o promeni kinetičke ener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700360" y="3213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Elementarni rad s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6"/>
              <p:cNvSpPr txBox="1"/>
              <p:nvPr/>
            </p:nvSpPr>
            <p:spPr>
              <a:xfrm>
                <a:off x="4067280" y="4941720"/>
                <a:ext cx="2303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INETIČKE ENERGIJE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826920" y="1701720"/>
          <a:ext cx="7704360" cy="33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1720"/>
                    <a:ext cx="770436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5"/>
          <p:cNvSpPr/>
          <p:nvPr/>
        </p:nvSpPr>
        <p:spPr>
          <a:xfrm>
            <a:off x="2124000" y="1989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Kinetička energija materijalne ta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6"/>
          <p:cNvGraphicFramePr/>
          <p:nvPr/>
        </p:nvGraphicFramePr>
        <p:xfrm>
          <a:off x="3059280" y="1488960"/>
          <a:ext cx="2449440" cy="21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88960"/>
                    <a:ext cx="244944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7" name="Object 13"/>
              <p:cNvSpPr txBox="1"/>
              <p:nvPr/>
            </p:nvSpPr>
            <p:spPr>
              <a:xfrm>
                <a:off x="1187280" y="3860640"/>
                <a:ext cx="316872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oule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1 J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8" name="Object 15"/>
          <p:cNvGraphicFramePr/>
          <p:nvPr/>
        </p:nvGraphicFramePr>
        <p:xfrm>
          <a:off x="4572000" y="2205000"/>
          <a:ext cx="4292640" cy="434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5000"/>
                    <a:ext cx="4292640" cy="43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Object 18"/>
              <p:cNvSpPr txBox="1"/>
              <p:nvPr/>
            </p:nvSpPr>
            <p:spPr>
              <a:xfrm>
                <a:off x="1187280" y="1773360"/>
                <a:ext cx="151308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-m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826920" y="2565360"/>
                <a:ext cx="7704360" cy="30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d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e/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y {</m:t>
                        </m:r>
                        <m:r>
                          <m:t xml:space="preserve">j</m:t>
                        </m:r>
                      </m:e>
                      <m:e/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z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/>
                    </m:d>
                    <m:r>
                      <m:rPr>
                        <m:lit/>
                        <m:nor/>
                      </m:rPr>
                      <m:t xml:space="preserve">   ako je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d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Yd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Zdz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dz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Text Box 4"/>
          <p:cNvSpPr/>
          <p:nvPr/>
        </p:nvSpPr>
        <p:spPr>
          <a:xfrm>
            <a:off x="755640" y="1700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ekartovim koordina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755640" y="3573360"/>
                <a:ext cx="7201080" cy="31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d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Z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4"/>
          <p:cNvSpPr/>
          <p:nvPr/>
        </p:nvSpPr>
        <p:spPr>
          <a:xfrm>
            <a:off x="755640" y="1700280"/>
            <a:ext cx="8137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ekartovim koordina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rad sile ne zavisi od oblika putanje po kojoj se vrši kretanje već samo zavisi od početnog i krajnjeg položaja, tada se takva sila naziva konzervativnom silom. Rad sile u tom slučaju predstavlja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totalni diferencijal skalarne funk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loža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"/>
              <p:cNvSpPr txBox="1"/>
              <p:nvPr/>
            </p:nvSpPr>
            <p:spPr>
              <a:xfrm>
                <a:off x="755640" y="2637000"/>
                <a:ext cx="4897440" cy="18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  <m:e/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4"/>
          <p:cNvSpPr/>
          <p:nvPr/>
        </p:nvSpPr>
        <p:spPr>
          <a:xfrm>
            <a:off x="755640" y="170028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bi sila bila konzervativna koordinate vektora sile moraju biti izražene preko odgovarajućih izvoda jedne iste funkcije položa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627280" y="407664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otencijal polja sile (potencijalja energija m. tač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55640" y="350028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de 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826920" y="2311560"/>
          <a:ext cx="561672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11560"/>
                    <a:ext cx="56167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4"/>
          <p:cNvSpPr/>
          <p:nvPr/>
        </p:nvSpPr>
        <p:spPr>
          <a:xfrm>
            <a:off x="755640" y="170028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d poljem sile podrazumevamo prostor u kome deluje si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755640" y="350028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 matematike, ako je f=f(x,y,z) – skalarna funkcija, tada je gradijent funkcije 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826920" y="4365720"/>
                <a:ext cx="39592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rad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84360" y="544500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se 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ka kreće u polju konzervativne sile, onda se ulaže sila na račun potencij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6"/>
              <p:cNvSpPr txBox="1"/>
              <p:nvPr/>
            </p:nvSpPr>
            <p:spPr>
              <a:xfrm>
                <a:off x="755640" y="1700280"/>
                <a:ext cx="6624720" cy="34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     III NJUTNOV ZAKON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AKCIJE I REAKCI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zajamni mehanički uticaji dvaju tela ispoljavaju se silama koje imaju isti intenzitet i pravac, a deluju u suprotnim smerov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IV NJUTNOV ZAKON (ZAKON O SLAGANJ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na telo (materijalnu tačku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uju istovrameno dve sile, tada se telo (tačka) kreće opisujući dijagonalu paralelograma konstruisanog nad tim silama kao vektor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dT=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→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-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Zakon o održanju energ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T+U=co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pitni prvi zadtatak ISPUS21okt04.d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6"/>
              <p:cNvSpPr txBox="1"/>
              <p:nvPr/>
            </p:nvSpPr>
            <p:spPr>
              <a:xfrm>
                <a:off x="826920" y="4437000"/>
                <a:ext cx="44643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  ;  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  ;  m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  ;  </m:t>
                    </m:r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  ;  m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Y  ;  m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  -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7"/>
          <p:cNvSpPr/>
          <p:nvPr/>
        </p:nvSpPr>
        <p:spPr>
          <a:xfrm>
            <a:off x="611280" y="2997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 Njutnov zakon važi u odnosu na inercijalni koordinatni si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403280" y="249228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zultanta svih sila koje deluju na materijalnu tač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39640" y="357336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DEKARTOV KOORDINATNI SI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4788000" y="551664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D.J. Kretanja materijalne ta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9"/>
              <p:cNvSpPr txBox="1"/>
              <p:nvPr/>
            </p:nvSpPr>
            <p:spPr>
              <a:xfrm>
                <a:off x="971640" y="1413000"/>
                <a:ext cx="141264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500040" y="2143080"/>
          <a:ext cx="302256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143080"/>
                    <a:ext cx="302256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4"/>
          <p:cNvSpPr/>
          <p:nvPr/>
        </p:nvSpPr>
        <p:spPr>
          <a:xfrm>
            <a:off x="3635280" y="551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očetni usl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39640" y="1268280"/>
            <a:ext cx="80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RODNE KOORDIN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6"/>
          <p:cNvGraphicFramePr/>
          <p:nvPr/>
        </p:nvGraphicFramePr>
        <p:xfrm>
          <a:off x="4284720" y="2060640"/>
          <a:ext cx="4103640" cy="35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2060640"/>
                    <a:ext cx="410364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8"/>
          <p:cNvSpPr/>
          <p:nvPr/>
        </p:nvSpPr>
        <p:spPr>
          <a:xfrm>
            <a:off x="468360" y="177336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MER: Matematičko klat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684360" y="1700280"/>
                <a:ext cx="5327640" cy="30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/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</m:e>
                        </m:d>
                        <m:r>
                          <m:t xml:space="preserve">⇒</m:t>
                        </m:r>
                        <m:r>
                          <m:t xml:space="preserve">m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Text Box 7"/>
          <p:cNvSpPr/>
          <p:nvPr/>
        </p:nvSpPr>
        <p:spPr>
          <a:xfrm>
            <a:off x="684360" y="472428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F=const ili F=F(t), tada se gornji integral može izračun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900000" y="1754280"/>
          <a:ext cx="6624720" cy="16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54280"/>
                    <a:ext cx="6624720" cy="16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5"/>
          <p:cNvGraphicFramePr/>
          <p:nvPr/>
        </p:nvGraphicFramePr>
        <p:xfrm>
          <a:off x="900000" y="3571920"/>
          <a:ext cx="6939000" cy="19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571920"/>
                    <a:ext cx="6939000" cy="19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2" descr="2"/>
          <p:cNvPicPr/>
          <p:nvPr/>
        </p:nvPicPr>
        <p:blipFill>
          <a:blip r:embed="rId1"/>
          <a:srcRect l="18565" t="24289" r="3795" b="19184"/>
          <a:stretch/>
        </p:blipFill>
        <p:spPr>
          <a:xfrm>
            <a:off x="3492360" y="4076640"/>
            <a:ext cx="5435640" cy="2479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826920" y="1557360"/>
                <a:ext cx="1368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826920" y="2133720"/>
                <a:ext cx="3657600" cy="457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</m:e>
                      <m:e>
                        <m:r>
                          <m:t xml:space="preserve">Δt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Δ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7"/>
              <p:cNvSpPr txBox="1"/>
              <p:nvPr/>
            </p:nvSpPr>
            <p:spPr>
              <a:xfrm>
                <a:off x="820800" y="1989000"/>
                <a:ext cx="3849480" cy="410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den>
                        </m:f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Text Box 8"/>
          <p:cNvSpPr/>
          <p:nvPr/>
        </p:nvSpPr>
        <p:spPr>
          <a:xfrm>
            <a:off x="3492360" y="4653000"/>
            <a:ext cx="48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o promeni momenta količine kretanja u diferencijalnom ob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851280" y="5445000"/>
            <a:ext cx="48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ment količine kretanja (inercijalni mo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0"/>
          <p:cNvGraphicFramePr/>
          <p:nvPr/>
        </p:nvGraphicFramePr>
        <p:xfrm>
          <a:off x="4788000" y="1413000"/>
          <a:ext cx="3527280" cy="35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413000"/>
                    <a:ext cx="3527280" cy="35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3"/>
              <p:cNvSpPr txBox="1"/>
              <p:nvPr/>
            </p:nvSpPr>
            <p:spPr>
              <a:xfrm>
                <a:off x="468360" y="2060640"/>
                <a:ext cx="3773520" cy="428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bSup>
                          </m:sub>
                          <m:sup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sup>
                          <m:e>
                            <m:r>
                              <m:t xml:space="preserve">d</m:t>
                            </m:r>
                          </m:e>
                        </m:nary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-</m:t>
                        </m:r>
                      </m:e>
                    </m:eqAr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Text Box 4"/>
          <p:cNvSpPr/>
          <p:nvPr/>
        </p:nvSpPr>
        <p:spPr>
          <a:xfrm>
            <a:off x="4284720" y="429264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o promeni momenta količine kretanja u konačnom ob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547640" y="58053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ment je funkcija vre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02T07:51:02Z</dcterms:modified>
  <cp:revision>145</cp:revision>
  <dc:subject/>
  <dc:title>ТЕХНИЧКА МЕХАНИКА 2</dc:title>
</cp:coreProperties>
</file>