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311-0FA3-482B-B962-0656DC33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873-FB22-4C9B-992F-1C114204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E65-26C1-47CA-8C7C-CCD9A7DF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07D-FF2E-4FA9-A5E2-D819E1AD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F82-5A8A-48A6-B7B3-41338F5F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B81-A54A-4512-A80B-DA2D9D04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A82-A5F5-4EDF-BD66-849E4268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50A-1E42-49D9-A91C-7DB5BD2A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AB7E-5D77-455A-8205-C04E04A6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192-BA78-40B3-9647-DCAD2E48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664-DE04-4CD8-BC15-F1D1725B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76E-EC46-4EB5-910C-C55C86BD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383A-9550-4DE4-A860-28E9EA49E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e dve faze ud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ela se deformišu (sažimaju) do te mere dok relativna brzina približavanja ne postane jednaka nuli. U ovoj fazi kinetička energija prelazi u potencijalnu energiju, toplotnu, energiju akustičnih talasa i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 drugoj fazi oblik tela se ponovo uspostavlja. Potencijalna energija deformacije pretvara se u kinetičku energiju i na kraju druge faze tela se odvaja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Kod idealno plastičnog udara, udar se završava kod prve fa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56000" y="1665360"/>
            <a:ext cx="3600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19280" y="1376280"/>
            <a:ext cx="43084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11280" y="1376280"/>
          <a:ext cx="5689800" cy="532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1280" y="1376280"/>
                    <a:ext cx="5689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26920" y="2313000"/>
                <a:ext cx="3959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5904000" y="1844280"/>
            <a:ext cx="2771640" cy="2059200"/>
            <a:chOff x="5904000" y="1844280"/>
            <a:chExt cx="2771640" cy="2059200"/>
          </a:xfrm>
        </p:grpSpPr>
        <p:grpSp>
          <p:nvGrpSpPr>
            <p:cNvPr id="46" name=""/>
            <p:cNvGrpSpPr/>
            <p:nvPr/>
          </p:nvGrpSpPr>
          <p:grpSpPr>
            <a:xfrm>
              <a:off x="5904000" y="1844280"/>
              <a:ext cx="2771640" cy="2059200"/>
              <a:chOff x="5904000" y="1844280"/>
              <a:chExt cx="2771640" cy="2059200"/>
            </a:xfrm>
          </p:grpSpPr>
          <p:sp>
            <p:nvSpPr>
              <p:cNvPr id="47" name=""/>
              <p:cNvSpPr/>
              <p:nvPr/>
            </p:nvSpPr>
            <p:spPr>
              <a:xfrm>
                <a:off x="5904000" y="3211200"/>
                <a:ext cx="2628720" cy="144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696000" y="2203200"/>
                <a:ext cx="179280" cy="181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804000" y="231120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6767280" y="2060280"/>
                <a:ext cx="36360" cy="16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75280" y="23842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28000" y="2923920"/>
                <a:ext cx="252360" cy="252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136000" y="3176280"/>
                <a:ext cx="0" cy="6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8136000" y="1844280"/>
                <a:ext cx="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8136000" y="23108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00" y="353520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00" y="245556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8244000" y="1879560"/>
                    <a:ext cx="317160" cy="44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9" name=""/>
            <p:cNvSpPr/>
            <p:nvPr/>
          </p:nvSpPr>
          <p:spPr>
            <a:xfrm>
              <a:off x="6443640" y="21319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3280" y="3427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92000" y="141300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: CENTRALNI UDAR TELA O NEPOKRETNU POVR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916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eficijent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3640" y="3645000"/>
            <a:ext cx="6912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zavisi od vrste materija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plutu................................k=0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drvo.................................. =0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lik o čelik................................  =0.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aklo o staklo............................  =0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gornji pri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=0→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-plastičan udar; udar se završava u prvoj fa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k=1→Brzina na kraju udara jednaka je brzini na početku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kav udar je potpuno elastičan, kod njega se oblik tela (lopte) posle udara potuno uspostav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→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rzina na kraju sudara manja je od brzine pre sud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o je karakteristika nepotpunog elastičnog udara. Kod ovog udara, oblik tela (lopte) se delimično me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KSPERIMENTALNO ODREĐIVANJE KOEFICIJENTA UD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34920" y="4653000"/>
                <a:ext cx="16812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5724360" y="4400280"/>
            <a:ext cx="2772000" cy="2059200"/>
            <a:chOff x="5724360" y="4400280"/>
            <a:chExt cx="2772000" cy="2059200"/>
          </a:xfrm>
        </p:grpSpPr>
        <p:sp>
          <p:nvSpPr>
            <p:cNvPr id="68" name=""/>
            <p:cNvSpPr/>
            <p:nvPr/>
          </p:nvSpPr>
          <p:spPr>
            <a:xfrm>
              <a:off x="5724360" y="5767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16720" y="4545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24720" y="4867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000" y="4616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96000" y="494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48720" y="4797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88000" y="5732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956720" y="4400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956720" y="5192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6000" y="6091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64360" y="5011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59280" y="4616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904000" y="4581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77080" y="4941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80360" y="490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524720" y="4905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59640" y="51213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pta mase m=0.4kg pada na horizontalnu podlogu sa visine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2m i odskačući penje se na visinu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1.28m. Odrediti koeficijent udara i udarni impu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24360" y="3068280"/>
            <a:ext cx="2880000" cy="2059200"/>
            <a:chOff x="5724360" y="3068280"/>
            <a:chExt cx="2880000" cy="2059200"/>
          </a:xfrm>
        </p:grpSpPr>
        <p:sp>
          <p:nvSpPr>
            <p:cNvPr id="88" name=""/>
            <p:cNvSpPr/>
            <p:nvPr/>
          </p:nvSpPr>
          <p:spPr>
            <a:xfrm>
              <a:off x="5724360" y="4435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16720" y="3213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4720" y="3535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588000" y="3284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6000" y="36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48720" y="3465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88000" y="4400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956720" y="3068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956720" y="3860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96000" y="4759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4360" y="3679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59280" y="3284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904000" y="3249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323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2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80360" y="3573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52472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08720" y="396864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.28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9640" y="2781360"/>
                <a:ext cx="4896000" cy="27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/>
                      <m:e>
                        <m:r>
                          <m:t xml:space="preserve">m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e kugle A i B masa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ranslatorno duž istog pravca konstantnim brzinama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pri čemu je kugla B ispred kugle A. Ako je brzina kugle A veća od brzine kugle B, tako da dolazi do sudara, odrediti brzine oba tela posle sudara ako je koeficijent sudar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k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ebno diskutovati sluča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) idealno elastičnog sud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) idealno plastičnog suda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265720"/>
            <a:ext cx="44290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79736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4797360"/>
            <a:ext cx="46800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221000"/>
            <a:ext cx="7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92720" y="422100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5128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581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6360" y="4545000"/>
            <a:ext cx="6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11640" y="404172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ržanju količine kre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9640" y="1989000"/>
                <a:ext cx="431964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76360" y="3753000"/>
            <a:ext cx="52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m gornjih jednačina dobij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9640" y="4221000"/>
                <a:ext cx="42116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76360" y="4976640"/>
            <a:ext cx="442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k=1, e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5373720"/>
                <a:ext cx="70610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KUGL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ZMENJU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RZI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LASTICNO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DAR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k=0, p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26920" y="2241720"/>
                <a:ext cx="15480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47640" y="3033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 NAČIN: IDEALNO ELASTIČAN SU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(1) je ista a jednačina (2)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19280" y="3824280"/>
                <a:ext cx="5040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719280" y="4761000"/>
            <a:ext cx="69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 jednačina (1) i (2) dobijamo za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63640" y="5265720"/>
                <a:ext cx="705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STIH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AS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R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LS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UDAR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AZMENJUJ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RZIN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koren kvdratne jednač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26920" y="2241720"/>
                <a:ext cx="13687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700360" y="26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nema smisla, nije došlo do sud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640" y="3681360"/>
            <a:ext cx="67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ecijalni slučaj: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55640" y="4116240"/>
                <a:ext cx="839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800360" y="4292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ugle razmenjuju br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9280" y="501336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NAČIN ZA PLASTIČAN SUDAR SE DOBIJA IZ k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5553000"/>
                <a:ext cx="1295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ZADAT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SPITNI ZADATAK, JANUAR 2005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25%=5+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Definisati koeficijent suda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) Brod dužin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mas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može se predstaviti ka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ap), kreće se u pavcu svoje ose brzinom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v'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obrć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ko središta ugaonom brzinom . U jednom trenut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d udari pod uglom </a:t>
            </a:r>
            <a:r>
              <a:rPr b="0" i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 nepokretnu podlogu. Odre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darni impuls ako je koeficijent udara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Pri udaru štap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loga se ponašaju kao idealno glatke podlo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i</cp:lastModifiedBy>
  <dcterms:modified xsi:type="dcterms:W3CDTF">2006-12-11T16:39:13Z</dcterms:modified>
  <cp:revision>583</cp:revision>
  <dc:subject/>
  <dc:title>ТЕХНИЧКА МЕХАНИКА 2</dc:title>
</cp:coreProperties>
</file>