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20.wmf" ContentType="image/x-wmf"/>
  <Override PartName="/ppt/media/image3.wmf" ContentType="image/x-wmf"/>
  <Override PartName="/ppt/media/image4.png" ContentType="image/png"/>
  <Override PartName="/ppt/media/image19.wmf" ContentType="image/x-wmf"/>
  <Override PartName="/ppt/media/image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0.png" ContentType="image/png"/>
  <Override PartName="/ppt/media/image15.wmf" ContentType="image/x-wmf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BA053-554D-4EA2-956A-41309C384301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476FF-A123-4868-B357-02120AF8BF4C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763D0-CEA3-4AC7-AB88-A026261BA1CF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AE296-83C6-4619-A419-BC91403BDD79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7E473-7F5B-4AA3-BEB5-430974B8FFFA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5C8FF-2554-44B0-98B5-1376DE2DF8E2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74C2D-6F70-440D-A9C2-69C4750C8C2C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2BF05-A391-41F9-9655-8EAE0B0C8883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3EA68-B8BF-4540-BD8B-BE8ABF9102AF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22899-AA2E-45B5-AF87-8145C843A327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0873D-1971-4F3E-B40A-2CE9DB0AC632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E7333-E649-4EEE-A605-5DF2CC6E5548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B5CD2-DBFE-4A01-8077-F2A832834FAA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598CB-D8E5-4C41-BA83-D2FF8C812F60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19BA5-F23B-4AFC-BC6C-98FC9BCF2C92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27A6E-C547-4160-812C-B9C5E58FC4D8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6543D-7458-467E-BB19-33F460899A8C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BA2F6-E848-4858-8C4B-2F1C4E551EBE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C5597-F7B9-4BC2-9A41-898F39870486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B0FE-C155-4652-B322-F82BCB86E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CC0D-A9B3-4A66-B7F1-58EB00FBC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0364-42E5-4AD7-B1C6-0E8CA59F3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72D6-D3DD-4723-A9B6-68133C295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DA94-5A98-4C19-9CD4-5D3DBDF25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8A16-D6BF-4432-A414-A2A8F981A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5382-5D3C-4600-9744-4C837A5BC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408F-55ED-4008-A254-346B136C2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2CAD-FC5F-4E0F-958F-910F4EB0B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A4EF-6E00-4F04-9F89-C22D81282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347F-9D1C-49E2-A736-88E345172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CD5F-292C-4AF2-816B-5B1846F95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9B5C1-CA29-47BE-9E7A-E089DCBA56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6"/>
          <p:cNvSpPr/>
          <p:nvPr/>
        </p:nvSpPr>
        <p:spPr>
          <a:xfrm>
            <a:off x="719280" y="1341360"/>
            <a:ext cx="84247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avan kretanja je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xy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ravan.Brzina    pripada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xy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ravni i stalna je za sve tačke na istom pravc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aralelnom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os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RAVNO (RAVANSKO) KRET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10"/>
          <p:cNvGraphicFramePr/>
          <p:nvPr/>
        </p:nvGraphicFramePr>
        <p:xfrm>
          <a:off x="179280" y="3500280"/>
          <a:ext cx="867564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3500280"/>
                    <a:ext cx="867564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9"/>
          <p:cNvGraphicFramePr/>
          <p:nvPr/>
        </p:nvGraphicFramePr>
        <p:xfrm>
          <a:off x="4788000" y="1284120"/>
          <a:ext cx="325440" cy="47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8000" y="1284120"/>
                    <a:ext cx="32544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Object 12"/>
          <p:cNvGraphicFramePr/>
          <p:nvPr/>
        </p:nvGraphicFramePr>
        <p:xfrm>
          <a:off x="4356000" y="1628640"/>
          <a:ext cx="3456000" cy="3456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56000" y="1628640"/>
                    <a:ext cx="3456000" cy="34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DNOSI IZMEĐU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E I RU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Object 4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Object 2"/>
              <p:cNvSpPr txBox="1"/>
              <p:nvPr/>
            </p:nvSpPr>
            <p:spPr>
              <a:xfrm>
                <a:off x="539640" y="2708280"/>
                <a:ext cx="8280360" cy="400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  <m:r>
                              <m:t xml:space="preserve">/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/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num>
                          <m:den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;</m:t>
                        </m:r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ω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num>
                          <m:den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;</m:t>
                        </m:r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ω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num>
                          <m:den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dη</m:t>
                            </m:r>
                          </m:num>
                          <m:den>
                            <m:r>
                              <m:t xml:space="preserve">dξ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η</m:t>
                                </m:r>
                              </m:e>
                            </m:acc>
                          </m:num>
                          <m:den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ξ</m:t>
                                </m:r>
                              </m:e>
                            </m:acc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ω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¨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θ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ω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θ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acc>
                                      <m:accPr>
                                        <m:chr m:val="¨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θ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ω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θ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θ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θ</m:t>
                                </m:r>
                              </m:e>
                            </m:d>
                          </m:num>
                          <m:den>
                            <m:r>
                              <m:t xml:space="preserve">ω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¨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θ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ω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θ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acc>
                                      <m:accPr>
                                        <m:chr m:val="¨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θ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ω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θ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θ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θ</m:t>
                                </m:r>
                              </m:e>
                            </m:d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θ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tg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g</m:t>
                            </m:r>
                            <m:r>
                              <m:t xml:space="preserve">θ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g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tg</m:t>
                            </m:r>
                            <m:r>
                              <m:t xml:space="preserve">θ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tg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Q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θ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θ</m:t>
                            </m:r>
                            <m:r>
                              <m:t xml:space="preserve">+</m:t>
                            </m:r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</m:num>
                          <m:den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θ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ω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ω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7" name="Text Box 5"/>
          <p:cNvSpPr/>
          <p:nvPr/>
        </p:nvSpPr>
        <p:spPr>
          <a:xfrm>
            <a:off x="457200" y="1219320"/>
            <a:ext cx="84582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 zajedničkoj tački baza i ruleta imaju zajedničku tangentu, tj. Nalaze se u dodir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2) Brzine kojom se trenutni centar pomera po jednoj i drugoj krivoj su jednak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OKAZ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Object 7"/>
          <p:cNvGraphicFramePr/>
          <p:nvPr/>
        </p:nvGraphicFramePr>
        <p:xfrm>
          <a:off x="2700360" y="2205000"/>
          <a:ext cx="6192720" cy="262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2205000"/>
                    <a:ext cx="6192720" cy="26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ERI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U I RULE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4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122" name="Object 2"/>
          <p:cNvGraphicFramePr/>
          <p:nvPr/>
        </p:nvGraphicFramePr>
        <p:xfrm>
          <a:off x="826920" y="2249640"/>
          <a:ext cx="2448000" cy="358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249640"/>
                    <a:ext cx="2448000" cy="35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Text Box 5"/>
          <p:cNvSpPr/>
          <p:nvPr/>
        </p:nvSpPr>
        <p:spPr>
          <a:xfrm>
            <a:off x="468360" y="9079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Štap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dužine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 2R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kreće se u ravni tako da mu kraj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klizi po krugu poluprečnika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i oslanja se u tački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. Odrediti bazu i ruletu štapa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2700360" y="3141720"/>
            <a:ext cx="144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ednačina baze j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u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oluprečnika 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2627280" y="5373720"/>
            <a:ext cx="237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uleta je k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oluprečnika 2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539640" y="6093000"/>
            <a:ext cx="83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akle, kretanje štapa se može zameniti kotrljanjem velikog kruga po malo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971640" y="162864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I nači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Object 12"/>
          <p:cNvGraphicFramePr/>
          <p:nvPr/>
        </p:nvGraphicFramePr>
        <p:xfrm>
          <a:off x="4284720" y="1665360"/>
          <a:ext cx="4680000" cy="421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1665360"/>
                    <a:ext cx="4680000" cy="42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ERI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U I RULE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ct 12"/>
              <p:cNvSpPr txBox="1"/>
              <p:nvPr/>
            </p:nvSpPr>
            <p:spPr>
              <a:xfrm>
                <a:off x="826920" y="1341360"/>
                <a:ext cx="7488360" cy="534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x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num>
                              <m:den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</m:den>
                            </m:f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;  x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R</m:t>
                            </m:r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2</m:t>
                            </m:r>
                            <m:r>
                              <m:t xml:space="preserve">θ</m:t>
                            </m:r>
                            <m:r>
                              <m:t xml:space="preserve">=</m:t>
                            </m:r>
                            <m:r>
                              <m:t xml:space="preserve">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θ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  ;   {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R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2</m:t>
                        </m:r>
                        <m:r>
                          <m:t xml:space="preserve">θ</m:t>
                        </m:r>
                        <m:r>
                          <m:rPr>
                            <m:lit/>
                            <m:nor/>
                          </m:rPr>
                          <m:t xml:space="preserve">  ;  </m:t>
                        </m:r>
                      </m:e>
                    </m:eqAr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acc>
                          <m:accPr>
                            <m:chr m:val="˙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den>
                    </m:f>
                    <m:r>
                      <m:rPr>
                        <m:lit/>
                        <m:nor/>
                      </m:rPr>
                      <m:t xml:space="preserve">  ; 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2</m:t>
                    </m:r>
                    <m:r>
                      <m:t xml:space="preserve">θ</m:t>
                    </m:r>
                    <m:r>
                      <m:rPr>
                        <m:lit/>
                        <m:nor/>
                      </m:rPr>
                      <m:t xml:space="preserve">                              ;  {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y</m:t>
                        </m:r>
                      </m:e>
                    </m:acc>
                    <m:sSub>
                      <m:e/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R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θ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2</m:t>
                    </m:r>
                    <m:r>
                      <m:t xml:space="preserve">θ</m:t>
                    </m:r>
                    <m:r>
                      <m:rPr>
                        <m:lit/>
                        <m:nor/>
                      </m:rPr>
                      <m:t xml:space="preserve">  ;</m:t>
                    </m:r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R</m:t>
                            </m:r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2</m:t>
                            </m:r>
                            <m:r>
                              <m:t xml:space="preserve">θ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2</m:t>
                            </m:r>
                            <m:r>
                              <m:t xml:space="preserve">θ</m:t>
                            </m:r>
                            <m:r>
                              <m:t xml:space="preserve">=</m:t>
                            </m:r>
                            <m:r>
                              <m:t xml:space="preserve">R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2</m:t>
                            </m:r>
                            <m:r>
                              <m:t xml:space="preserve">θ</m:t>
                            </m:r>
                          </m:e>
                          <m:e/>
                        </m:d>
                      </m:e>
                    </m:eqArr>
                    <m:r>
                      <m:t xml:space="preserve">⇒</m:t>
                    </m:r>
                    <m:r>
                      <m:t xml:space="preserve">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sSub>
                          <m:e>
                            <m:r>
                              <m:t xml:space="preserve">2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f>
                                <m:num>
                                  <m:sSub>
                                    <m:e>
                                      <m:acc>
                                        <m:accPr>
                                          <m:chr m:val="¨"/>
                                        </m:accPr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ω</m:t>
                                  </m:r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</m:acc>
                                </m:num>
                                <m:den>
                                  <m:s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den>
                              </m:f>
                            </m:e>
                          </m:mr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f>
                                <m:num>
                                  <m:sSub>
                                    <m:e>
                                      <m:acc>
                                        <m:accPr>
                                          <m:chr m:val="¨"/>
                                        </m:accPr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ω</m:t>
                                  </m:r>
                                </m:den>
                              </m:f>
                              <m:r>
                                <m:t xml:space="preserve">−</m:t>
                              </m:r>
                              <m:f>
                                <m:num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</m:acc>
                                </m:num>
                                <m:den>
                                  <m:s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den>
                              </m:f>
                            </m:e>
                          </m:mr>
                        </m:m>
                      </m:e>
                    </m:d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R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Ry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  <m:r>
                                <m:t xml:space="preserve">⋅</m:t>
                              </m:r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ξ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-sin</m:t>
                              </m:r>
                              <m:r>
                                <m:t xml:space="preserve">θ</m:t>
                              </m:r>
                              <m:r>
                                <m:t xml:space="preserve">⋅</m:t>
                              </m:r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θ</m:t>
                              </m:r>
                              <m:r>
                                <m:t xml:space="preserve">⋅</m:t>
                              </m:r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ξ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  <m:r>
                                <m:t xml:space="preserve">⋅</m:t>
                              </m:r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3" name="Text Box 6"/>
          <p:cNvSpPr/>
          <p:nvPr/>
        </p:nvSpPr>
        <p:spPr>
          <a:xfrm>
            <a:off x="3203640" y="3645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 Isto kao pre za baz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900000" y="105264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II način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(pomoću formula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Object 17"/>
              <p:cNvSpPr txBox="1"/>
              <p:nvPr/>
            </p:nvSpPr>
            <p:spPr>
              <a:xfrm>
                <a:off x="4643280" y="5877000"/>
                <a:ext cx="435636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z uslova   {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⇒</m:t>
                        </m:r>
                      </m:e>
                    </m:eqAr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Ruleta se kotrlja bez klizanja po bazi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4"/>
          <p:cNvSpPr/>
          <p:nvPr/>
        </p:nvSpPr>
        <p:spPr>
          <a:xfrm>
            <a:off x="611280" y="126828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 tački C koja je u tom tremutku </a:t>
            </a: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trenutni centar ubrzanj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TENUTNI CENTAR UBRZ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Object 3"/>
          <p:cNvGraphicFramePr/>
          <p:nvPr/>
        </p:nvGraphicFramePr>
        <p:xfrm>
          <a:off x="1119240" y="1873080"/>
          <a:ext cx="5032440" cy="469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9240" y="1873080"/>
                    <a:ext cx="5032440" cy="469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40" name="Object 9"/>
              <p:cNvSpPr txBox="1"/>
              <p:nvPr/>
            </p:nvSpPr>
            <p:spPr>
              <a:xfrm>
                <a:off x="971640" y="1146240"/>
                <a:ext cx="10792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41" name="Object 11"/>
          <p:cNvGraphicFramePr/>
          <p:nvPr/>
        </p:nvGraphicFramePr>
        <p:xfrm>
          <a:off x="6372360" y="2924280"/>
          <a:ext cx="2401920" cy="3593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2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72360" y="2924280"/>
                    <a:ext cx="2401920" cy="35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LOŽENO KRETANJE KRUTOG TELA PO KRUTOM TE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3"/>
              <p:cNvSpPr txBox="1"/>
              <p:nvPr/>
            </p:nvSpPr>
            <p:spPr>
              <a:xfrm>
                <a:off x="900000" y="1700280"/>
                <a:ext cx="3178440" cy="46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ξ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η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ζ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e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l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e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l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ξ</m:t>
                            </m:r>
                          </m:e>
                        </m:acc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ζ</m:t>
                            </m:r>
                          </m:e>
                        </m:acc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  <m:e/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e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r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l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l</m:t>
                            </m:r>
                          </m:sub>
                        </m:sSub>
                        <m:r>
                          <m:t xml:space="preserve">=</m:t>
                        </m:r>
                        <m:limUp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limUp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**</m:t>
                            </m:r>
                          </m:lim>
                        </m:limUpp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45" name="Object 8"/>
          <p:cNvGraphicFramePr/>
          <p:nvPr/>
        </p:nvGraphicFramePr>
        <p:xfrm>
          <a:off x="3924360" y="1700280"/>
          <a:ext cx="4824360" cy="46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1700280"/>
                    <a:ext cx="482436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LOŽENO KRETANJE KRUTOG TELA PO KRUTOM TE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3"/>
              <p:cNvSpPr txBox="1"/>
              <p:nvPr/>
            </p:nvSpPr>
            <p:spPr>
              <a:xfrm>
                <a:off x="762120" y="1676520"/>
                <a:ext cx="3105000" cy="464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ξ</m:t>
                        </m:r>
                        <m:r>
                          <m:t xml:space="preserve">,</m:t>
                        </m:r>
                        <m:r>
                          <m:t xml:space="preserve">η</m:t>
                        </m:r>
                        <m:r>
                          <m:t xml:space="preserve">,</m:t>
                        </m:r>
                        <m:r>
                          <m:t xml:space="preserve">ζ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aterijalne ose tela I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aterijalne ose tela II</m:t>
                        </m:r>
                      </m:e>
                      <m:e>
                        <m:r>
                          <m:t xml:space="preserve">O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O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A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</m:eqArr>
                    <m:r>
                      <m:t xml:space="preserve">P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p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ren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l</m:t>
                        </m:r>
                      </m:sub>
                    </m:sSub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re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</m:d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" name="Text Box 5"/>
          <p:cNvSpPr/>
          <p:nvPr/>
        </p:nvSpPr>
        <p:spPr>
          <a:xfrm>
            <a:off x="1143000" y="563868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vna ugaona brzin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kojm se telo II obrće oko tačke 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1143000" y="601992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enos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gaona brzin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kojm se telo I obrće oko tačke 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1219320" y="487692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elativna komponenta brzina koja potiče od translatornog kretanja referentne tačke 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Object 8"/>
          <p:cNvGraphicFramePr/>
          <p:nvPr/>
        </p:nvGraphicFramePr>
        <p:xfrm>
          <a:off x="4427640" y="981000"/>
          <a:ext cx="4029120" cy="403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981000"/>
                    <a:ext cx="4029120" cy="40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LOŽENO KRETANJE KRUTOG TELA PO KRUTOM TE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3"/>
              <p:cNvSpPr txBox="1"/>
              <p:nvPr/>
            </p:nvSpPr>
            <p:spPr>
              <a:xfrm>
                <a:off x="838080" y="1371600"/>
                <a:ext cx="7543800" cy="529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  <m:r>
                                  <m:t xml:space="preserve">×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ren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</m:sSubSup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el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</m:sSubSup>
                          </m:lim>
                        </m:limLow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r>
                                  <m:t xml:space="preserve">+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  <m:r>
                                      <m:t xml:space="preserve">+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</m:groupChr>
                          </m:e>
                          <m:lim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s</m:t>
                                </m:r>
                              </m:sub>
                            </m:sSub>
                          </m:lim>
                        </m:limLow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s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s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en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l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s</m:t>
                            </m:r>
                          </m:sub>
                          <m:sup>
                            <m:r>
                              <m:t xml:space="preserve">P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s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s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e/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e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r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e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+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ε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</m:d>
                            <m:r>
                              <m:t xml:space="preserve">+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  <m:r>
                                  <m:t xml:space="preserve">×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   ;   {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ε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s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e>
                    </m:eqAr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ε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</m:d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o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</m:d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INEMATIKA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457200" y="144792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istem materijalnih tačaka predstavlja skup tačaka čiji položaj ili brzine stoje u međusobnim zavisnostima. Te zavisnosti se ostvaruju pomoću vez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04920" y="2209680"/>
          <a:ext cx="8534160" cy="4246560"/>
        </p:xfrm>
        <a:graphic>
          <a:graphicData uri="http://schemas.openxmlformats.org/drawingml/2006/table">
            <a:tbl>
              <a:tblPr/>
              <a:tblGrid>
                <a:gridCol w="1981080"/>
                <a:gridCol w="2057400"/>
                <a:gridCol w="2286000"/>
                <a:gridCol w="2209680"/>
              </a:tblGrid>
              <a:tr h="9601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E IZMEĐU TAČAK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800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ze između koordinata tača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ZICI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HOLONOMN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ze između brzina tačaka koje se ne mogu integraliti po vremenu i svesti na veze između koordin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NEMATIČKE (NEHOLONOMN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0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.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CIONAR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KLERONOMN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 zavise eksplicitno od vreme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STACIONAR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REONOMN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ze zavise eksplicitno od vreme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CIONAR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KLERONOMN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STACIONAR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REONOMN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INEMATIKA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457200" y="144792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smatramo N- materijalnih tačak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Object 22"/>
          <p:cNvGraphicFramePr/>
          <p:nvPr/>
        </p:nvGraphicFramePr>
        <p:xfrm>
          <a:off x="1309680" y="1905120"/>
          <a:ext cx="6676920" cy="95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9680" y="1905120"/>
                    <a:ext cx="6676920" cy="9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Object 23"/>
          <p:cNvGraphicFramePr/>
          <p:nvPr/>
        </p:nvGraphicFramePr>
        <p:xfrm>
          <a:off x="762120" y="2895480"/>
          <a:ext cx="7804080" cy="88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" name="Object 2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2895480"/>
                    <a:ext cx="780408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Text Box 24"/>
          <p:cNvSpPr/>
          <p:nvPr/>
        </p:nvSpPr>
        <p:spPr>
          <a:xfrm>
            <a:off x="304920" y="388620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 tome koeficijenti mogu biti funkcij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25"/>
              <p:cNvSpPr txBox="1"/>
              <p:nvPr/>
            </p:nvSpPr>
            <p:spPr>
              <a:xfrm>
                <a:off x="762120" y="4267080"/>
                <a:ext cx="394308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RAVNO (RAVANSKO) KRETAN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Object 4"/>
              <p:cNvSpPr txBox="1"/>
              <p:nvPr/>
            </p:nvSpPr>
            <p:spPr>
              <a:xfrm>
                <a:off x="539640" y="1557360"/>
                <a:ext cx="4975200" cy="504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: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eqArr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ν</m:t>
                        </m:r>
                      </m:e>
                    </m:acc>
                    <m:r>
                      <m:t xml:space="preserve">⇒</m:t>
                    </m:r>
                    <m:r>
                      <m:t xml:space="preserve">ϑ</m:t>
                    </m:r>
                    <m:r>
                      <m:t xml:space="preserve">≡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ϑ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ψ</m:t>
                        </m:r>
                        <m:r>
                          <m:t xml:space="preserve">+</m:t>
                        </m:r>
                        <m:r>
                          <m:t xml:space="preserve">ϕ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 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θ</m:t>
                    </m:r>
                    <m:r>
                      <m:t xml:space="preserve">=</m:t>
                    </m:r>
                    <m:r>
                      <m:t xml:space="preserve">ψ</m:t>
                    </m:r>
                    <m:r>
                      <m:t xml:space="preserve">+</m:t>
                    </m:r>
                    <m:r>
                      <m:t xml:space="preserve">ϕ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59" name="Object 10"/>
          <p:cNvGraphicFramePr/>
          <p:nvPr/>
        </p:nvGraphicFramePr>
        <p:xfrm>
          <a:off x="4932360" y="1268280"/>
          <a:ext cx="3887640" cy="357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1268280"/>
                    <a:ext cx="3887640" cy="35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RAVNO (RAVANSKO) KRETAN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Object 5"/>
              <p:cNvSpPr txBox="1"/>
              <p:nvPr/>
            </p:nvSpPr>
            <p:spPr>
              <a:xfrm>
                <a:off x="755640" y="1557360"/>
                <a:ext cx="6337440" cy="488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;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e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dθ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dθ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;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ξ</m:t>
                            </m:r>
                            <m:r>
                              <m:t xml:space="preserve">;</m:t>
                            </m:r>
                            <m:r>
                              <m:t xml:space="preserve">μ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  /  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</m:e>
                    </m:eqArr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ν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ξ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         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ξ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−</m:t>
                    </m:r>
                    <m:r>
                      <m:t xml:space="preserve">η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η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        </m:t>
                    </m:r>
                    <m:r>
                      <m:t xml:space="preserve">y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ξ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+</m:t>
                    </m:r>
                    <m:r>
                      <m:t xml:space="preserve">η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ξ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  <m:r>
                                <m:t xml:space="preserve">−</m:t>
                              </m:r>
                              <m:r>
                                <m:t xml:space="preserve">η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θ</m:t>
                              </m:r>
                            </m:e>
                          </m:mr>
                          <m:mr>
                            <m:e>
                              <m:r>
                                <m:t xml:space="preserve">ξ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θ</m:t>
                              </m:r>
                              <m:r>
                                <m:t xml:space="preserve">+</m:t>
                              </m:r>
                              <m:r>
                                <m:t xml:space="preserve">η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</m:mr>
                        </m:m>
                      </m:e>
                    </m:d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;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 ;   {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θ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ξ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ω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ξ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</m:t>
                                  </m:r>
                                  <m:r>
                                    <m:t xml:space="preserve">θ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η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θ</m:t>
                                  </m:r>
                                </m:e>
                              </m:d>
                              <m:r>
                                <m:t xml:space="preserve">⋅</m:t>
                              </m:r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θ</m:t>
                                  </m:r>
                                </m:e>
                              </m:acc>
                            </m:e>
                          </m:mr>
                          <m:m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ξ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θ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η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</m:t>
                                  </m:r>
                                  <m:r>
                                    <m:t xml:space="preserve">θ</m:t>
                                  </m:r>
                                </m:e>
                              </m:d>
                              <m:r>
                                <m:t xml:space="preserve">⋅</m:t>
                              </m:r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θ</m:t>
                                  </m:r>
                                </m:e>
                              </m:acc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RAVNO (RAVANSKO) KRETAN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ct 9"/>
              <p:cNvSpPr txBox="1"/>
              <p:nvPr/>
            </p:nvSpPr>
            <p:spPr>
              <a:xfrm>
                <a:off x="755640" y="2060640"/>
                <a:ext cx="4103640" cy="88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ξ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η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7" name="Text Box 8"/>
          <p:cNvSpPr/>
          <p:nvPr/>
        </p:nvSpPr>
        <p:spPr>
          <a:xfrm>
            <a:off x="539640" y="155736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PROSTORNA DESKRIPCI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0"/>
          <p:cNvSpPr/>
          <p:nvPr/>
        </p:nvSpPr>
        <p:spPr>
          <a:xfrm>
            <a:off x="611280" y="3141720"/>
            <a:ext cx="51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MATERIJALNA DESKRIPCI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11"/>
              <p:cNvSpPr txBox="1"/>
              <p:nvPr/>
            </p:nvSpPr>
            <p:spPr>
              <a:xfrm>
                <a:off x="755640" y="3716280"/>
                <a:ext cx="7704000" cy="215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ξ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rPr>
                            <m:lit/>
                            <m:nor/>
                          </m:rPr>
                          <m:t xml:space="preserve">       ; 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η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rPr>
                            <m:lit/>
                            <m:nor/>
                          </m:rPr>
                          <m:t xml:space="preserve">     ; 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RAVNO (RAVANSKO) KRETAN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72" name="Object 4"/>
          <p:cNvGraphicFramePr/>
          <p:nvPr/>
        </p:nvGraphicFramePr>
        <p:xfrm>
          <a:off x="826920" y="1405080"/>
          <a:ext cx="6481800" cy="51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405080"/>
                    <a:ext cx="6481800" cy="51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Text Box 5"/>
          <p:cNvSpPr/>
          <p:nvPr/>
        </p:nvSpPr>
        <p:spPr>
          <a:xfrm>
            <a:off x="1332000" y="414972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je u ravni x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1332000" y="4581360"/>
            <a:ext cx="51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je normalan vektor na xy-rav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Object 7"/>
          <p:cNvGraphicFramePr/>
          <p:nvPr/>
        </p:nvGraphicFramePr>
        <p:xfrm>
          <a:off x="395280" y="5826240"/>
          <a:ext cx="3672000" cy="103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5280" y="5826240"/>
                    <a:ext cx="367200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ALOVA TEOR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80" name="Object 7"/>
          <p:cNvGraphicFramePr/>
          <p:nvPr/>
        </p:nvGraphicFramePr>
        <p:xfrm>
          <a:off x="1187280" y="3716280"/>
          <a:ext cx="3168720" cy="103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3716280"/>
                    <a:ext cx="316872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2" name="Object 4"/>
              <p:cNvSpPr txBox="1"/>
              <p:nvPr/>
            </p:nvSpPr>
            <p:spPr>
              <a:xfrm>
                <a:off x="611280" y="1341360"/>
                <a:ext cx="4895640" cy="307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r>
                                  <m:t xml:space="preserve">A</m:t>
                                </m:r>
                                <m:r>
                                  <m:t xml:space="preserve">'</m:t>
                                </m:r>
                                <m:r>
                                  <m:t xml:space="preserve">B</m:t>
                                </m:r>
                                <m:r>
                                  <m:t xml:space="preserve">'</m:t>
                                </m:r>
                                <m:r>
                                  <m:t xml:space="preserve">=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AB</m:t>
                                </m:r>
                              </m:e>
                              <m:e/>
                            </m:d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A</m:t>
                                </m:r>
                                <m:r>
                                  <m:t xml:space="preserve">'</m:t>
                                </m:r>
                                <m:r>
                                  <m:t xml:space="preserve">=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A</m:t>
                                </m:r>
                              </m:e>
                              <m:e/>
                            </m:d>
                          </m:e>
                        </m:eqArr>
                        <m:r>
                          <m:t xml:space="preserve">⇒</m:t>
                        </m:r>
                        <m:r>
                          <m:t xml:space="preserve">ΔA</m:t>
                        </m:r>
                        <m:r>
                          <m:t xml:space="preserve">'</m:t>
                        </m:r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S</m:t>
                        </m:r>
                        <m:r>
                          <m:t xml:space="preserve">≃</m:t>
                        </m:r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ABS</m:t>
                        </m:r>
                      </m:e>
                    </m:eqAr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SB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A</m:t>
                    </m:r>
                    <m:r>
                      <m:t xml:space="preserve">'</m:t>
                    </m:r>
                    <m:r>
                      <m:rPr>
                        <m:lit/>
                        <m:nor/>
                      </m:rPr>
                      <m:t xml:space="preserve">SB</m:t>
                    </m:r>
                    <m:r>
                      <m:t xml:space="preserve">'</m:t>
                    </m:r>
                    <m:r>
                      <m:rPr>
                        <m:lit/>
                        <m:nor/>
                      </m:rPr>
                      <m:t xml:space="preserve">  /  </m:t>
                    </m:r>
                    <m:r>
                      <m:t xml:space="preserve">+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BSA'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SB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rPr>
                        <m:lit/>
                        <m:nor/>
                      </m:rPr>
                      <m:t xml:space="preserve">BSA'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rPr>
                        <m:lit/>
                        <m:nor/>
                      </m:rPr>
                      <m:t xml:space="preserve">A'SB'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rPr>
                        <m:lit/>
                        <m:nor/>
                      </m:rPr>
                      <m:t xml:space="preserve">BSA'</m:t>
                    </m:r>
                    <m:r>
                      <m:rPr>
                        <m:lit/>
                        <m:nor/>
                      </m:rPr>
                      <m:t xml:space="preserve">           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SA'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rPr>
                        <m:lit/>
                        <m:nor/>
                      </m:rPr>
                      <m:t xml:space="preserve">BSB'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" name="Text Box 5"/>
          <p:cNvSpPr/>
          <p:nvPr/>
        </p:nvSpPr>
        <p:spPr>
          <a:xfrm>
            <a:off x="611280" y="4797360"/>
            <a:ext cx="828036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vako konačno pomeranje u ravni može da se predstavi kao obrtanje u ravno oko nepokretne tačke koja pripada toj ravni i zove se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centar konačne rotacij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teorema važi i za beskonačno malo pomeranje – obrtanje oko trenutnog centra rotaci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Object 8"/>
          <p:cNvGraphicFramePr/>
          <p:nvPr/>
        </p:nvGraphicFramePr>
        <p:xfrm>
          <a:off x="5111640" y="2492280"/>
          <a:ext cx="4032360" cy="2454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11640" y="2492280"/>
                    <a:ext cx="4032360" cy="245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ALOVA TEOR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88" name="Object 6"/>
          <p:cNvGraphicFramePr/>
          <p:nvPr/>
        </p:nvGraphicFramePr>
        <p:xfrm>
          <a:off x="179280" y="5229360"/>
          <a:ext cx="2952720" cy="162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5229360"/>
                    <a:ext cx="2952720" cy="16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0" name="Object 8"/>
              <p:cNvSpPr txBox="1"/>
              <p:nvPr/>
            </p:nvSpPr>
            <p:spPr>
              <a:xfrm>
                <a:off x="611280" y="2205000"/>
                <a:ext cx="5040360" cy="429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 /   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  <m:r>
                                      <m:t xml:space="preserve">⋅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⇒</m:t>
                        </m:r>
                      </m:e>
                      <m:e>
                        <m:r>
                          <m:t xml:space="preserve">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  <m:r>
                                  <m:t xml:space="preserve">+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j</m:t>
                                    </m:r>
                                  </m:e>
                                </m:acc>
                                <m:r>
                                  <m:t xml:space="preserve">+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</m:e>
                            </m:d>
                          </m:num>
                          <m:den>
                            <m:r>
                              <m:t xml:space="preserve">ω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Za</m:t>
                        </m:r>
                        <m:r>
                          <m:rPr>
                            <m:lit/>
                            <m:nor/>
                          </m:rPr>
                          <m:t xml:space="preserve"> ravansko kretanje:  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e>
                    </m:eqAr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</m:d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num>
                      <m:den>
                        <m:r>
                          <m:t xml:space="preserve">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1" name="Text Box 5"/>
          <p:cNvSpPr/>
          <p:nvPr/>
        </p:nvSpPr>
        <p:spPr>
          <a:xfrm>
            <a:off x="468360" y="141300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Trenutni centar S ima osobinu da je              u trenutku kada je ta tačka cent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2916360" y="5877000"/>
            <a:ext cx="84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ložaj centra rotaci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10"/>
              <p:cNvSpPr txBox="1"/>
              <p:nvPr/>
            </p:nvSpPr>
            <p:spPr>
              <a:xfrm>
                <a:off x="4716360" y="1341360"/>
                <a:ext cx="10080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ALOVA TEOR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Object 4"/>
              <p:cNvSpPr txBox="1"/>
              <p:nvPr/>
            </p:nvSpPr>
            <p:spPr>
              <a:xfrm>
                <a:off x="755640" y="1484280"/>
                <a:ext cx="2158920" cy="16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ω</m:t>
                                </m:r>
                              </m:den>
                            </m:f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9"/>
              <p:cNvSpPr txBox="1"/>
              <p:nvPr/>
            </p:nvSpPr>
            <p:spPr>
              <a:xfrm>
                <a:off x="3059280" y="1557360"/>
                <a:ext cx="2158920" cy="15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limLow>
                              <m:e>
                                <m:groupChr>
                                  <m:groupChrPr>
                                    <m:chr m:val="⏟"/>
                                    <m:pos m:val="bot"/>
                                    <m:vertJc m:val="top"/>
                                  </m:groupChr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P</m:t>
                                        </m:r>
                                      </m:sub>
                                    </m:sSub>
                                  </m:e>
                                </m:groupChr>
                              </m:e>
                              <m:lim>
                                <m:r>
                                  <m:t xml:space="preserve">0</m:t>
                                </m:r>
                              </m:lim>
                            </m:limLow>
                            <m:r>
                              <m:t xml:space="preserve">+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r>
                              <m:t xml:space="preserve">S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8" name="Text Box 6"/>
          <p:cNvSpPr/>
          <p:nvPr/>
        </p:nvSpPr>
        <p:spPr>
          <a:xfrm>
            <a:off x="539640" y="4941720"/>
            <a:ext cx="80647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Geometrijsko mesto tačaka u ravni xy koje su predstavljale trenutne centre rotacije predstavljaju krivu koja se naziva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nepokretna centroid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ili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baz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Geometrijsko mesto tačaka na telu koje su bile trenutni centri brzina ja kriva na telu koja se naziva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pokretna centroid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ili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rulet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539640" y="3357720"/>
            <a:ext cx="83534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ko znam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1) položaj 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12"/>
              <p:cNvSpPr txBox="1"/>
              <p:nvPr/>
            </p:nvSpPr>
            <p:spPr>
              <a:xfrm>
                <a:off x="2124000" y="3789360"/>
                <a:ext cx="59868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14"/>
              <p:cNvSpPr txBox="1"/>
              <p:nvPr/>
            </p:nvSpPr>
            <p:spPr>
              <a:xfrm>
                <a:off x="1403280" y="4221000"/>
                <a:ext cx="339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02" name="Text Box 15"/>
          <p:cNvSpPr/>
          <p:nvPr/>
        </p:nvSpPr>
        <p:spPr>
          <a:xfrm>
            <a:off x="2627280" y="414972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znamo brzine svih tačaka te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Object 17"/>
          <p:cNvGraphicFramePr/>
          <p:nvPr/>
        </p:nvGraphicFramePr>
        <p:xfrm>
          <a:off x="5580000" y="907920"/>
          <a:ext cx="3024360" cy="25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0000" y="907920"/>
                    <a:ext cx="3024360" cy="25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Object 18"/>
          <p:cNvGraphicFramePr/>
          <p:nvPr/>
        </p:nvGraphicFramePr>
        <p:xfrm>
          <a:off x="5940360" y="3357720"/>
          <a:ext cx="2305080" cy="1689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40360" y="3357720"/>
                    <a:ext cx="2305080" cy="16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A I RULE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Object 13"/>
              <p:cNvSpPr txBox="1"/>
              <p:nvPr/>
            </p:nvSpPr>
            <p:spPr>
              <a:xfrm>
                <a:off x="250920" y="1341360"/>
                <a:ext cx="6912000" cy="467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ω</m:t>
                            </m:r>
                            <m:r>
                              <m:t xml:space="preserve">⋅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  <m:r>
                                  <m:t xml:space="preserve">+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j</m:t>
                                    </m:r>
                                  </m:e>
                                </m:acc>
                                <m:r>
                                  <m:t xml:space="preserve">+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</m:e>
                            </m:d>
                          </m:num>
                          <m:den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j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</m:num>
                          <m:den>
                            <m:r>
                              <m:t xml:space="preserve">ω</m:t>
                            </m:r>
                          </m:den>
                        </m:f>
                      </m:e>
                      <m:e>
                        <m:r>
                          <m:t xml:space="preserve">S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x</m:t>
                                  </m:r>
                                  <m:r>
                                    <m:t xml:space="preserve">=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f>
                                    <m:num>
                                      <m:sSub>
                                        <m:e>
                                          <m:acc>
                                            <m:accPr>
                                              <m:chr m:val="˙"/>
                                            </m:accPr>
                                            <m:e>
                                              <m:r>
                                                <m:t xml:space="preserve">y</m:t>
                                              </m:r>
                                            </m:e>
                                          </m:acc>
                                        </m:e>
                                        <m:sub>
                                          <m:r>
                                            <m:t xml:space="preserve">A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ω</m:t>
                                      </m:r>
                                    </m:den>
                                  </m:f>
                                </m:e>
                              </m:mr>
                              <m:mr>
                                <m:e>
                                  <m:r>
                                    <m:t xml:space="preserve">y</m:t>
                                  </m:r>
                                  <m:r>
                                    <m:t xml:space="preserve">=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f>
                                    <m:num>
                                      <m:sSub>
                                        <m:e>
                                          <m:acc>
                                            <m:accPr>
                                              <m:chr m:val="˙"/>
                                            </m:accPr>
                                            <m:e>
                                              <m:r>
                                                <m:t xml:space="preserve">x</m:t>
                                              </m:r>
                                            </m:e>
                                          </m:acc>
                                        </m:e>
                                        <m:sub>
                                          <m:r>
                                            <m:t xml:space="preserve">A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ω</m:t>
                                      </m:r>
                                    </m:den>
                                  </m:f>
                                </m:e>
                              </m:mr>
                            </m:m>
                          </m:e>
                        </m:d>
                        <m:r>
                          <m:t xml:space="preserve">−</m:t>
                        </m:r>
                      </m:e>
                      <m:e/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ξ</m:t>
                            </m:r>
                            <m:r>
                              <m:t xml:space="preserve">;</m:t>
                            </m:r>
                            <m:r>
                              <m:t xml:space="preserve">η</m:t>
                            </m:r>
                          </m:e>
                        </m:d>
                      </m:e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r>
                                  <m:t xml:space="preserve">ξ</m:t>
                                </m:r>
                                <m:r>
                                  <m:t xml:space="preserve">=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λ</m:t>
                                    </m:r>
                                  </m:e>
                                </m:acc>
                                <m:r>
                                  <m:t xml:space="preserve">=</m:t>
                                </m:r>
                                <m:f>
                                  <m:num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  <m:r>
                                      <m:t xml:space="preserve">⋅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</m:acc>
                                    <m:r>
                                      <m:t xml:space="preserve">⋅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λ</m:t>
                                        </m:r>
                                      </m:e>
                                    </m:acc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  <m:r>
                                      <m:t xml:space="preserve">⋅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</m:acc>
                                    <m:r>
                                      <m:t xml:space="preserve">⋅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λ</m:t>
                                        </m:r>
                                      </m:e>
                                    </m:acc>
                                  </m:num>
                                  <m:den>
                                    <m:r>
                                      <m:t xml:space="preserve">ω</m:t>
                                    </m:r>
                                  </m:den>
                                </m:f>
                                <m:r>
                                  <m:t xml:space="preserve">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 </m:t>
                                </m:r>
                                <m:r>
                                  <m:t xml:space="preserve">ξ</m:t>
                                </m:r>
                                <m:r>
                                  <m:t xml:space="preserve">=</m:t>
                                </m:r>
                                <m:f>
                                  <m:num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  <m:r>
                                      <m:t xml:space="preserve">⋅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in</m:t>
                                    </m:r>
                                    <m:r>
                                      <m:t xml:space="preserve">θ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  <m:r>
                                      <m:t xml:space="preserve">⋅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os</m:t>
                                    </m:r>
                                    <m:r>
                                      <m:t xml:space="preserve">θ</m:t>
                                    </m:r>
                                  </m:num>
                                  <m:den>
                                    <m:r>
                                      <m:t xml:space="preserve">ω</m:t>
                                    </m:r>
                                  </m:den>
                                </m:f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Text Box 10"/>
          <p:cNvSpPr/>
          <p:nvPr/>
        </p:nvSpPr>
        <p:spPr>
          <a:xfrm>
            <a:off x="2743200" y="2209680"/>
            <a:ext cx="2981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Eliminacijom parametra vremena iz izraza za x i y dobijamo jednu jednačinu za x i y koja predstavlja jednačinu baz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7238880" y="4221000"/>
            <a:ext cx="1905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Eliminacijom vremena dobijamo jednu zavis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zmeđu  ξ i η  i to je jednačina rule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Object 18"/>
          <p:cNvGraphicFramePr/>
          <p:nvPr/>
        </p:nvGraphicFramePr>
        <p:xfrm>
          <a:off x="5651640" y="1700280"/>
          <a:ext cx="3240000" cy="268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1640" y="1700280"/>
                    <a:ext cx="3240000" cy="26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7-10-31T20:34:34Z</dcterms:modified>
  <cp:revision>378</cp:revision>
  <dc:subject/>
  <dc:title>ТЕХНИЧКА МЕХАНИКА 2</dc:title>
</cp:coreProperties>
</file>