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D22F-BE57-4D68-8C1F-306A3806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56CA-E59E-4C1B-A94D-CE78C155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A866-1F1E-45AE-8CB6-80E37335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B605-693E-49E7-9CA0-643575AF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7E33-78C6-4431-B73D-51CFA15F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6652-FAE2-4A43-8407-83F9970A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7F47-712B-4D48-BCDA-5AC7583B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88CC-E3C9-4676-B090-761303D0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23B1-B783-4C5A-9544-2FA131F8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33E0-C779-4C9F-A2D0-8ECBCE86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B5FA-6D1F-41C2-A06B-365975F3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99A2-22FC-4092-9996-B273FBB9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25E6-A1A7-43AB-B553-B0759DF0E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292720" y="1413000"/>
            <a:ext cx="3211560" cy="1836720"/>
            <a:chOff x="5292720" y="1413000"/>
            <a:chExt cx="3211560" cy="1836720"/>
          </a:xfrm>
        </p:grpSpPr>
        <mc:AlternateContent>
          <mc:Choice xmlns:a14="http://schemas.microsoft.com/office/drawing/2010/main" Requires="a14">
            <p:sp>
              <p:nvSpPr>
                <p:cNvPr id="44" name=""/>
                <p:cNvSpPr txBox="1"/>
                <p:nvPr/>
              </p:nvSpPr>
              <p:spPr>
                <a:xfrm>
                  <a:off x="5292720" y="2355840"/>
                  <a:ext cx="1084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K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5" name=""/>
            <p:cNvSpPr/>
            <p:nvPr/>
          </p:nvSpPr>
          <p:spPr>
            <a:xfrm flipH="1">
              <a:off x="6524640" y="2889360"/>
              <a:ext cx="6127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37360" y="288936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7137360" y="1881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9000" y="2060640"/>
              <a:ext cx="1295280" cy="612720"/>
            </a:xfrm>
            <a:custGeom>
              <a:avLst/>
              <a:gdLst/>
              <a:ahLst/>
              <a:rect l="l" t="t" r="r" b="b"/>
              <a:pathLst>
                <a:path w="816" h="386">
                  <a:moveTo>
                    <a:pt x="0" y="386"/>
                  </a:moveTo>
                  <a:cubicBezTo>
                    <a:pt x="70" y="321"/>
                    <a:pt x="140" y="257"/>
                    <a:pt x="227" y="204"/>
                  </a:cubicBezTo>
                  <a:cubicBezTo>
                    <a:pt x="314" y="151"/>
                    <a:pt x="424" y="102"/>
                    <a:pt x="522" y="68"/>
                  </a:cubicBezTo>
                  <a:cubicBezTo>
                    <a:pt x="620" y="34"/>
                    <a:pt x="767" y="11"/>
                    <a:pt x="8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7569360" y="1916280"/>
              <a:ext cx="792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711920" y="2421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69360" y="2313000"/>
              <a:ext cx="10764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8072280" y="159228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7596360" y="166536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7380360" y="1413000"/>
                  <a:ext cx="40644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47640" y="2384280"/>
                <a:ext cx="2952720" cy="17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⇒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55480" y="4168800"/>
            <a:ext cx="74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156360" y="3608280"/>
            <a:ext cx="2663640" cy="3103560"/>
            <a:chOff x="6156360" y="3608280"/>
            <a:chExt cx="2663640" cy="3103560"/>
          </a:xfrm>
        </p:grpSpPr>
        <p:sp>
          <p:nvSpPr>
            <p:cNvPr id="58" name=""/>
            <p:cNvSpPr/>
            <p:nvPr/>
          </p:nvSpPr>
          <p:spPr>
            <a:xfrm>
              <a:off x="7956720" y="4579920"/>
              <a:ext cx="86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7956720" y="5443560"/>
                  <a:ext cx="296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0" name=""/>
            <p:cNvSpPr/>
            <p:nvPr/>
          </p:nvSpPr>
          <p:spPr>
            <a:xfrm flipH="1">
              <a:off x="6156360" y="584028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0360" y="584028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840360" y="443556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56720" y="58752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36000" y="494028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56720" y="407520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88360" y="508464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85080" y="5372280"/>
              <a:ext cx="10800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885080" y="5227560"/>
              <a:ext cx="503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7380360" y="5084280"/>
              <a:ext cx="5047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67640" y="36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48360" y="450864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77080" y="49039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559640" y="490392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6840360" y="5840280"/>
              <a:ext cx="1116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77080" y="5372280"/>
              <a:ext cx="1008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7451640" y="591192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7164360" y="530064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" name=""/>
            <p:cNvSpPr/>
            <p:nvPr/>
          </p:nvSpPr>
          <p:spPr>
            <a:xfrm>
              <a:off x="7308720" y="504828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96400" y="5214960"/>
              <a:ext cx="355320" cy="736560"/>
            </a:xfrm>
            <a:custGeom>
              <a:avLst/>
              <a:gdLst/>
              <a:ahLst/>
              <a:rect l="l" t="t" r="r" b="b"/>
              <a:pathLst>
                <a:path w="224" h="464">
                  <a:moveTo>
                    <a:pt x="0" y="464"/>
                  </a:moveTo>
                  <a:cubicBezTo>
                    <a:pt x="15" y="420"/>
                    <a:pt x="46" y="383"/>
                    <a:pt x="72" y="344"/>
                  </a:cubicBezTo>
                  <a:cubicBezTo>
                    <a:pt x="97" y="306"/>
                    <a:pt x="95" y="335"/>
                    <a:pt x="112" y="296"/>
                  </a:cubicBezTo>
                  <a:cubicBezTo>
                    <a:pt x="143" y="225"/>
                    <a:pt x="147" y="117"/>
                    <a:pt x="200" y="64"/>
                  </a:cubicBezTo>
                  <a:cubicBezTo>
                    <a:pt x="208" y="41"/>
                    <a:pt x="224" y="24"/>
                    <a:pt x="2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7308720" y="414828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28000" y="414828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35640" y="63435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59640" y="63086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48360" y="4111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8018640" y="4940280"/>
                  <a:ext cx="3171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 flipV="1">
              <a:off x="6840360" y="51195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6886440" y="507528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8" name=""/>
            <p:cNvSpPr/>
            <p:nvPr/>
          </p:nvSpPr>
          <p:spPr>
            <a:xfrm>
              <a:off x="6443640" y="4797360"/>
              <a:ext cx="79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6227640" y="4905360"/>
                  <a:ext cx="50796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11280" y="4797360"/>
                <a:ext cx="4608360" cy="18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s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u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,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</m:e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sv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v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 flipV="1">
            <a:off x="3780000" y="5481360"/>
            <a:ext cx="90000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042920" y="1268280"/>
                <a:ext cx="2421000" cy="25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</m:d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ℓ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22" name=""/>
          <p:cNvGrpSpPr/>
          <p:nvPr/>
        </p:nvGrpSpPr>
        <p:grpSpPr>
          <a:xfrm>
            <a:off x="6048360" y="1736640"/>
            <a:ext cx="2232000" cy="2989440"/>
            <a:chOff x="6048360" y="1736640"/>
            <a:chExt cx="2232000" cy="2989440"/>
          </a:xfrm>
        </p:grpSpPr>
        <p:sp>
          <p:nvSpPr>
            <p:cNvPr id="223" name=""/>
            <p:cNvSpPr/>
            <p:nvPr/>
          </p:nvSpPr>
          <p:spPr>
            <a:xfrm>
              <a:off x="7056360" y="40053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38800" y="2309760"/>
              <a:ext cx="1433520" cy="163692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337440" y="4041720"/>
              <a:ext cx="6458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6360" y="400536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021440" y="1881000"/>
              <a:ext cx="34920" cy="20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7020000" y="2852640"/>
              <a:ext cx="179280" cy="10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993080" y="4329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45080" y="43290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48720" y="37530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93080" y="173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7124760" y="308628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4" name=""/>
            <p:cNvSpPr/>
            <p:nvPr/>
          </p:nvSpPr>
          <p:spPr>
            <a:xfrm>
              <a:off x="7237440" y="26020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91280" y="2060640"/>
              <a:ext cx="73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12000" y="2060640"/>
              <a:ext cx="73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85080" y="3933720"/>
              <a:ext cx="7128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912000" y="4041720"/>
              <a:ext cx="108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20000" y="4041720"/>
              <a:ext cx="730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40360" y="4149720"/>
              <a:ext cx="360720" cy="1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084360" y="400536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48360" y="3610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72360" y="4005360"/>
              <a:ext cx="144360" cy="288720"/>
            </a:xfrm>
            <a:custGeom>
              <a:avLst/>
              <a:gdLst/>
              <a:ahLst/>
              <a:rect l="l" t="t" r="r" b="b"/>
              <a:pathLst>
                <a:path w="79" h="205">
                  <a:moveTo>
                    <a:pt x="11" y="0"/>
                  </a:moveTo>
                  <a:cubicBezTo>
                    <a:pt x="5" y="40"/>
                    <a:pt x="0" y="80"/>
                    <a:pt x="11" y="114"/>
                  </a:cubicBezTo>
                  <a:cubicBezTo>
                    <a:pt x="22" y="148"/>
                    <a:pt x="50" y="176"/>
                    <a:pt x="79" y="2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84720" y="4005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408360" y="21686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29440" y="2168640"/>
              <a:ext cx="647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84720" y="202572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32720" y="2060640"/>
              <a:ext cx="56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37440" y="3753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96000" y="173664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079640" y="4041720"/>
                <a:ext cx="2122200" cy="23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</m:e>
                      <m:e/>
                      <m:e>
                        <m:r>
                          <m:t xml:space="preserve">A</m:t>
                        </m:r>
                        <m:r>
                          <m:t xml:space="preserve">→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REDIST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EP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ACKA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476080" y="3862080"/>
            <a:ext cx="360" cy="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47640" y="1233360"/>
                <a:ext cx="7920000" cy="24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bar>
                        <m:r>
                          <m:t xml:space="preserve">−</m:t>
                        </m:r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sSub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ba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ac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ℓ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zadat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poljni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menat</m:t>
                            </m:r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r>
                              <m:t xml:space="preserve">ℓ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647640" y="3608280"/>
                <a:ext cx="26272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j</m:t>
                              </m:r>
                            </m:e>
                          </m:acc>
                        </m:e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λ</m:t>
                              </m:r>
                            </m:e>
                          </m:acc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μ</m:t>
                              </m:r>
                            </m:e>
                          </m:acc>
                        </m:e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ν</m:t>
                              </m:r>
                            </m:e>
                          </m:acc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11280" y="1952640"/>
                <a:ext cx="554508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ac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ℓ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ℓ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ac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ℓ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ℓ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ac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503280" y="14842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ine kretanja ispisane u xyz sistemu s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76360" y="4059360"/>
                <a:ext cx="628488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0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92000" y="3933720"/>
                <a:ext cx="237492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ac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647640" y="1376280"/>
                <a:ext cx="3311640" cy="19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719280" y="328464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 jednačine (4), (5) i (6) postaj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3640" y="566100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ferencijalna jednačina obrta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četni uslovi za diferencijalnu jednačinu obrtanja s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47640" y="2168640"/>
                <a:ext cx="26640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19280" y="3068640"/>
            <a:ext cx="77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e (4) i (5) postaju statički uslovi ravnotež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19280" y="3608280"/>
                <a:ext cx="298908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ac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ac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755640" y="4834080"/>
                <a:ext cx="11876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2124000" y="486900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u kinetički pritisci koji deluju u tačkama B i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19280" y="5445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stem od (1) do (5) svodi se na uslove ravnoteže samo ako je središte na osi obrt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a homogen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a CD I 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stih dužin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težina G, zavarena su međusobno pod pravim uglom kao i za nepokretnu osu AB prema slici. U tački E na štap DE deluje horizontalna sil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Intenzitet sile se menja po zakonu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=F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dok je pravac sile stalno upravan na ravan koju obrazuju štapovi. Odrediti zakon obrtanja tela i kinetičke pritiske na ležišta osov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203640" y="3753000"/>
            <a:ext cx="2413080" cy="2741040"/>
            <a:chOff x="3203640" y="3753000"/>
            <a:chExt cx="2413080" cy="2741040"/>
          </a:xfrm>
        </p:grpSpPr>
        <p:sp>
          <p:nvSpPr>
            <p:cNvPr id="276" name=""/>
            <p:cNvSpPr/>
            <p:nvPr/>
          </p:nvSpPr>
          <p:spPr>
            <a:xfrm>
              <a:off x="3995640" y="3903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16360" y="6170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6360" y="6351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32360" y="6170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5128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3236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95640" y="5270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219640" y="3974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788000" y="3975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76720" y="3903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48000" y="5991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32360" y="4875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92720" y="5091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92720" y="3903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00720" y="3753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03640" y="404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40000" y="6351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40000" y="5270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19640" y="4046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19640" y="5270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9640" y="5378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95640" y="5738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56000" y="4443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19640" y="5522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92720" y="5343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92000" y="1413000"/>
                <a:ext cx="5688000" cy="26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LEMENTAR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MPULS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M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LICI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792000" y="436572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256360" y="3500280"/>
            <a:ext cx="3276000" cy="2959200"/>
            <a:chOff x="5256360" y="3500280"/>
            <a:chExt cx="3276000" cy="295920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6192720" y="4689360"/>
                  <a:ext cx="33840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8101080" y="4761000"/>
                  <a:ext cx="27144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 flipH="1">
              <a:off x="5256360" y="5659560"/>
              <a:ext cx="90000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56360" y="5659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156360" y="4255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91160" y="4000680"/>
              <a:ext cx="1433520" cy="163656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7020000" y="5335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37440" y="5335560"/>
              <a:ext cx="10429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6516720" y="4040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156360" y="5335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7236000" y="454356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56360" y="5803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4360" y="60912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61080" y="414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69080" y="5659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01080" y="5227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51640" y="37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6343560" y="5219640"/>
                  <a:ext cx="2034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7377120" y="477684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>
              <a:off x="6985080" y="41832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12000" y="50482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416720" y="4005360"/>
              <a:ext cx="75744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7667280" y="522936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00720" y="4616280"/>
              <a:ext cx="53964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7704000" y="3500280"/>
                  <a:ext cx="40644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19280" y="5013360"/>
                <a:ext cx="56530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REDIST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ATERIJALNA T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47640" y="2349360"/>
                <a:ext cx="4319640" cy="18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5400720" y="1484280"/>
            <a:ext cx="2706480" cy="1917720"/>
            <a:chOff x="5400720" y="1484280"/>
            <a:chExt cx="2706480" cy="1917720"/>
          </a:xfrm>
        </p:grpSpPr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5400720" y="2303640"/>
                  <a:ext cx="10843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D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×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7" name=""/>
            <p:cNvSpPr/>
            <p:nvPr/>
          </p:nvSpPr>
          <p:spPr>
            <a:xfrm flipH="1">
              <a:off x="6127920" y="296064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40640" y="296064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740640" y="195264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11920" y="2131920"/>
              <a:ext cx="1295280" cy="612720"/>
            </a:xfrm>
            <a:custGeom>
              <a:avLst/>
              <a:gdLst/>
              <a:ahLst/>
              <a:rect l="l" t="t" r="r" b="b"/>
              <a:pathLst>
                <a:path w="816" h="386">
                  <a:moveTo>
                    <a:pt x="0" y="386"/>
                  </a:moveTo>
                  <a:cubicBezTo>
                    <a:pt x="70" y="321"/>
                    <a:pt x="140" y="257"/>
                    <a:pt x="227" y="204"/>
                  </a:cubicBezTo>
                  <a:cubicBezTo>
                    <a:pt x="314" y="151"/>
                    <a:pt x="424" y="102"/>
                    <a:pt x="522" y="68"/>
                  </a:cubicBezTo>
                  <a:cubicBezTo>
                    <a:pt x="620" y="34"/>
                    <a:pt x="767" y="11"/>
                    <a:pt x="8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7172280" y="1987200"/>
              <a:ext cx="79236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15200" y="2492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72280" y="23842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7675560" y="16635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5" name=""/>
            <p:cNvSpPr/>
            <p:nvPr/>
          </p:nvSpPr>
          <p:spPr>
            <a:xfrm>
              <a:off x="7199280" y="173664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6983280" y="1484280"/>
                  <a:ext cx="406440" cy="2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7" name=""/>
            <p:cNvSpPr/>
            <p:nvPr/>
          </p:nvSpPr>
          <p:spPr>
            <a:xfrm flipV="1">
              <a:off x="6732720" y="2491920"/>
              <a:ext cx="43164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6985080" y="2673360"/>
                  <a:ext cx="2221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9" name=""/>
            <p:cNvSpPr/>
            <p:nvPr/>
          </p:nvSpPr>
          <p:spPr>
            <a:xfrm>
              <a:off x="6624720" y="303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832360" y="3755880"/>
            <a:ext cx="2663640" cy="3103560"/>
            <a:chOff x="5832360" y="3755880"/>
            <a:chExt cx="2663640" cy="3103560"/>
          </a:xfrm>
        </p:grpSpPr>
        <p:sp>
          <p:nvSpPr>
            <p:cNvPr id="141" name=""/>
            <p:cNvSpPr/>
            <p:nvPr/>
          </p:nvSpPr>
          <p:spPr>
            <a:xfrm>
              <a:off x="7632720" y="4727520"/>
              <a:ext cx="86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7632720" y="5591160"/>
                  <a:ext cx="296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3" name=""/>
            <p:cNvSpPr/>
            <p:nvPr/>
          </p:nvSpPr>
          <p:spPr>
            <a:xfrm flipH="1">
              <a:off x="5832360" y="598788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16360" y="598788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516360" y="458316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32720" y="60228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12000" y="508788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32720" y="422280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64360" y="523224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61080" y="5519880"/>
              <a:ext cx="10800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561080" y="5375160"/>
              <a:ext cx="503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056360" y="5231880"/>
              <a:ext cx="5047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43640" y="37558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24360" y="465624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53080" y="50515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7235640" y="505152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"/>
            <p:cNvSpPr/>
            <p:nvPr/>
          </p:nvSpPr>
          <p:spPr>
            <a:xfrm>
              <a:off x="6516360" y="5987880"/>
              <a:ext cx="1116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553080" y="5519880"/>
              <a:ext cx="1008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7127640" y="605952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6840360" y="544824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1" name=""/>
            <p:cNvSpPr/>
            <p:nvPr/>
          </p:nvSpPr>
          <p:spPr>
            <a:xfrm>
              <a:off x="6984720" y="519588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72400" y="5362560"/>
              <a:ext cx="355320" cy="736560"/>
            </a:xfrm>
            <a:custGeom>
              <a:avLst/>
              <a:gdLst/>
              <a:ahLst/>
              <a:rect l="l" t="t" r="r" b="b"/>
              <a:pathLst>
                <a:path w="224" h="464">
                  <a:moveTo>
                    <a:pt x="0" y="464"/>
                  </a:moveTo>
                  <a:cubicBezTo>
                    <a:pt x="15" y="420"/>
                    <a:pt x="46" y="383"/>
                    <a:pt x="72" y="344"/>
                  </a:cubicBezTo>
                  <a:cubicBezTo>
                    <a:pt x="97" y="306"/>
                    <a:pt x="95" y="335"/>
                    <a:pt x="112" y="296"/>
                  </a:cubicBezTo>
                  <a:cubicBezTo>
                    <a:pt x="143" y="225"/>
                    <a:pt x="147" y="117"/>
                    <a:pt x="200" y="64"/>
                  </a:cubicBezTo>
                  <a:cubicBezTo>
                    <a:pt x="208" y="41"/>
                    <a:pt x="224" y="24"/>
                    <a:pt x="2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984720" y="429588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04000" y="429588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11640" y="64911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35640" y="64562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24360" y="4259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7694640" y="5087880"/>
                  <a:ext cx="3171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 flipV="1">
              <a:off x="6516360" y="52671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6562440" y="522288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6119640" y="4944960"/>
              <a:ext cx="79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5903640" y="5052960"/>
                  <a:ext cx="50796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3" name=""/>
          <p:cNvSpPr/>
          <p:nvPr/>
        </p:nvSpPr>
        <p:spPr>
          <a:xfrm>
            <a:off x="324000" y="422100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9640" y="4761000"/>
                <a:ext cx="525636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SV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groupChr>
                              </m:e>
                              <m:lim>
                                <m:r>
                                  <m:t xml:space="preserve">0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9640" y="1557360"/>
                <a:ext cx="7272360" cy="419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SV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BIRAM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SV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UV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SV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SV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03280" y="1484280"/>
                <a:ext cx="7129440" cy="20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r>
                                  <m:t xml:space="preserve">m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087960" y="1600200"/>
                <a:ext cx="1157400" cy="21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39640" y="3564000"/>
                <a:ext cx="5256360" cy="32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r>
                                      <m:t xml:space="preserve">m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2808360" y="6165720"/>
            <a:ext cx="52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F. OBLIK ZAKONA O PROMENI MOMENTA KOLIČIN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76360" y="1628640"/>
                <a:ext cx="10225080" cy="29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←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NOS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EPOKRETN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ACK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M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MENT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LICI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A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NACNOM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BLIKU</m:t>
                        </m:r>
                        <m:r>
                          <m:t xml:space="preserve">: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751280" y="1557360"/>
            <a:ext cx="3276000" cy="2958840"/>
            <a:chOff x="4751280" y="1557360"/>
            <a:chExt cx="3276000" cy="2958840"/>
          </a:xfrm>
        </p:grpSpPr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5687640" y="2746080"/>
                  <a:ext cx="33840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7596000" y="2817720"/>
                  <a:ext cx="271440" cy="39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"/>
            <p:cNvSpPr/>
            <p:nvPr/>
          </p:nvSpPr>
          <p:spPr>
            <a:xfrm flipH="1">
              <a:off x="4751280" y="3716280"/>
              <a:ext cx="900000" cy="64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51280" y="3716280"/>
              <a:ext cx="971640" cy="72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651280" y="231264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86080" y="2057400"/>
              <a:ext cx="1433520" cy="163620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514920" y="3392280"/>
              <a:ext cx="21600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32360" y="339228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011640" y="2096640"/>
              <a:ext cx="719280" cy="129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651280" y="3391920"/>
              <a:ext cx="10796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730920" y="2599920"/>
              <a:ext cx="215640" cy="82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51280" y="3860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59280" y="4147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56000" y="2205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64000" y="37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96000" y="3284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46560" y="1773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5838480" y="3276360"/>
                  <a:ext cx="203400" cy="30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6872040" y="2833560"/>
                  <a:ext cx="317520" cy="35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6" name=""/>
            <p:cNvSpPr/>
            <p:nvPr/>
          </p:nvSpPr>
          <p:spPr>
            <a:xfrm>
              <a:off x="6480000" y="22399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06920" y="3105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6911640" y="2062080"/>
              <a:ext cx="757440" cy="53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162200" y="328608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95640" y="2673000"/>
              <a:ext cx="53964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7198920" y="1557360"/>
                  <a:ext cx="40644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24000" y="2313000"/>
                <a:ext cx="514800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limUp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lim/>
                            </m:limUpp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58920" y="4221000"/>
                <a:ext cx="6192720" cy="236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t xml:space="preserve">)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ULEROV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5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dnačine (I) i (II) predstavljaju potpun sistem diferencijalnih jednačina kret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TELO IMA NEPOKRETNU TAČKU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ADA SE DIF. J. KRETANJA SVODE 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792000" y="3720960"/>
                <a:ext cx="5040360" cy="171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755640" y="569736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=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y=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z=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  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);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←KONA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ČNE JED.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KON O PROMENI KINETIČKE ENER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92000" y="1268280"/>
                <a:ext cx="835200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p>
                        </m:sSup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RZANJ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NERGIJ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1-26T11:43:56Z</dcterms:modified>
  <cp:revision>535</cp:revision>
  <dc:subject/>
  <dc:title>ТЕХНИЧКА МЕХАНИКА 2</dc:title>
</cp:coreProperties>
</file>