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wmf" ContentType="image/x-wmf"/>
  <Override PartName="/ppt/media/image3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BBEC-3168-4FF7-9FA6-D6766E06228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C18B-803A-4CE0-A31C-39CD01BD8B0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EDAA-5E33-46A9-885A-D635057A421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7469-CADD-4A21-A715-9AE1AAFC53F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BEF5-6942-47FC-9BCC-C124C8F3A2A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3F7F-97A1-404E-993C-0A0413D2979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5C28-0811-4C9B-BB32-310AA99446D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4051-A407-403A-A637-0C6536D8C1E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9B5E-66E1-4FED-B3BB-90DC07D6250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2253-9ABE-4045-A36A-015D92503B6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C365-164E-4A60-8A22-3EBD32DDB9F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3590-44F6-42C5-9FE5-537DAF97962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BF9D-88BF-47AC-A6C2-42F8E24F695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D104-6813-415E-980E-5366E14B481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483E-A729-44B1-84A7-1B7EA02C99A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2D70-9061-4C98-AA83-D1855A0613E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616D-5BDA-41E9-A4BD-DD89FAFD641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7681-E5A6-4364-94E7-18E35BB432A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5DCC-EE59-4835-81E4-2AE90924DF8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9AB8-762C-49F9-B669-AD3FBD07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0B4-F52B-4584-A6FA-43535F09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A69-B73B-43B6-8025-7786823B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9C1-D81C-434B-AF7C-E59AA6F3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372-2C5A-4A4B-A57A-EF5E9497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C3F-29C8-4538-BA08-3368F91B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632-7438-47D9-A373-C754F21F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C0A-4FC5-4B49-AF75-2BD987B2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895-E827-4B03-B4BC-BE912297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1BE-AE84-4AFA-A7F1-D0AF8081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325-5BF3-45B8-96AC-BF8D62A2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A99-8DE6-422F-8F96-9E790DF0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44AB-93E1-45C4-9FC0-9F75E7C2F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719280" y="1341360"/>
            <a:ext cx="84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4788000" y="128412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28412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I IZMEĐ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E I RU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539640" y="2708280"/>
                <a:ext cx="8280360" cy="40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η</m:t>
                            </m:r>
                          </m:num>
                          <m:den>
                            <m:r>
                              <m:t xml:space="preserve">dξ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 Box 5"/>
          <p:cNvSpPr/>
          <p:nvPr/>
        </p:nvSpPr>
        <p:spPr>
          <a:xfrm>
            <a:off x="457200" y="121932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zajedničkoj tački baza i ruleta imaju zajedničku tangentu, tj. Nalaze se u dodi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Brzine kojom se trenutni centar pomera po jednoj i drugoj krivoj su jed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700360" y="2205000"/>
          <a:ext cx="61927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05000"/>
                    <a:ext cx="61927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2" name="Object 2"/>
          <p:cNvGraphicFramePr/>
          <p:nvPr/>
        </p:nvGraphicFramePr>
        <p:xfrm>
          <a:off x="826920" y="2249640"/>
          <a:ext cx="2448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49640"/>
                    <a:ext cx="2448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468360" y="907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tap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užin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2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reće se u ravni tako da mu kraj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lizi po krugu poluprečnik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slanja se u tačk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Odrediti bazu i ruletu štap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700360" y="3141720"/>
            <a:ext cx="14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baze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627280" y="5373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leta je k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9640" y="609300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, kretanje štapa se može zameniti kotrljanjem velikog kruga po mal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971640" y="162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 nač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12"/>
          <p:cNvGraphicFramePr/>
          <p:nvPr/>
        </p:nvGraphicFramePr>
        <p:xfrm>
          <a:off x="4284720" y="1665360"/>
          <a:ext cx="4680000" cy="42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665360"/>
                    <a:ext cx="468000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826920" y="1341360"/>
                <a:ext cx="7488360" cy="534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; 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;   {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</m:e>
                    </m:eqAr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  ;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                        ;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;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-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320364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Isto kao pre za b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90000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I nači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pomoću formul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4643280" y="5877000"/>
                <a:ext cx="4356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 uslova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Ruleta se kotrlja bez klizanja po baz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11280" y="1268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tački C koja je u tom trem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renutni centar ubrzan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NUTNI CENTAR UBRZ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119240" y="1873080"/>
          <a:ext cx="5032440" cy="46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873080"/>
                    <a:ext cx="503244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971640" y="1146240"/>
                <a:ext cx="1079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11"/>
          <p:cNvGraphicFramePr/>
          <p:nvPr/>
        </p:nvGraphicFramePr>
        <p:xfrm>
          <a:off x="6372360" y="2924280"/>
          <a:ext cx="2401920" cy="35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2924280"/>
                    <a:ext cx="24019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900000" y="1700280"/>
                <a:ext cx="3178440" cy="46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ζ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8"/>
          <p:cNvGraphicFramePr/>
          <p:nvPr/>
        </p:nvGraphicFramePr>
        <p:xfrm>
          <a:off x="3924360" y="1700280"/>
          <a:ext cx="482436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700280"/>
                    <a:ext cx="482436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762120" y="1676520"/>
                <a:ext cx="310500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I</m:t>
                        </m:r>
                      </m:e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5"/>
          <p:cNvSpPr/>
          <p:nvPr/>
        </p:nvSpPr>
        <p:spPr>
          <a:xfrm>
            <a:off x="1143000" y="5638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na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I obrće oko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143000" y="6019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nos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 obrće oko tačke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193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lativna komponenta brzina koja potiče od translatornog kretanja referentne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4427640" y="981000"/>
          <a:ext cx="40291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981000"/>
                    <a:ext cx="40291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838080" y="1371600"/>
                <a:ext cx="7543800" cy="529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n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l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s</m:t>
                                </m:r>
                              </m:sub>
                            </m:sSub>
                          </m:lim>
                        </m:limLow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44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materijalnih tačaka predstavlja skup tačaka čiji položaj ili brzine stoje u međusobnim zavisnostima. Te zavisnosti se ostvaruju pomoću v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209680"/>
          <a:ext cx="8534160" cy="4246560"/>
        </p:xfrm>
        <a:graphic>
          <a:graphicData uri="http://schemas.openxmlformats.org/drawingml/2006/table">
            <a:tbl>
              <a:tblPr/>
              <a:tblGrid>
                <a:gridCol w="1981080"/>
                <a:gridCol w="2057400"/>
                <a:gridCol w="2286000"/>
                <a:gridCol w="2209680"/>
              </a:tblGrid>
              <a:tr h="960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 IZMEĐU TAČA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koordinata tač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C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brzina tačaka koje se ne mogu integraliti po vremenu i svesti na veze između koordi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MATIČKE (NE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23"/>
          <p:cNvGraphicFramePr/>
          <p:nvPr/>
        </p:nvGraphicFramePr>
        <p:xfrm>
          <a:off x="762120" y="2895480"/>
          <a:ext cx="780408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95480"/>
                    <a:ext cx="7804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39640" y="1557360"/>
                <a:ext cx="497520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ϑ</m:t>
                    </m:r>
                    <m:r>
                      <m:t xml:space="preserve">≡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ϑ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" name="Object 10"/>
          <p:cNvGraphicFramePr/>
          <p:nvPr/>
        </p:nvGraphicFramePr>
        <p:xfrm>
          <a:off x="4932360" y="1268280"/>
          <a:ext cx="3887640" cy="35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268280"/>
                    <a:ext cx="388764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755640" y="1557360"/>
                <a:ext cx="6337440" cy="48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μ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eqAr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755640" y="2060640"/>
                <a:ext cx="4103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539640" y="155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OSTOR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11280" y="314172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MATERIJAL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755640" y="3716280"/>
                <a:ext cx="7704000" cy="21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η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2" name="Object 4"/>
          <p:cNvGraphicFramePr/>
          <p:nvPr/>
        </p:nvGraphicFramePr>
        <p:xfrm>
          <a:off x="826920" y="1405080"/>
          <a:ext cx="64818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05080"/>
                    <a:ext cx="64818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5"/>
          <p:cNvSpPr/>
          <p:nvPr/>
        </p:nvSpPr>
        <p:spPr>
          <a:xfrm>
            <a:off x="1332000" y="4149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u ravni x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32000" y="4581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normalan vektor na xy-ra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7"/>
          <p:cNvGraphicFramePr/>
          <p:nvPr/>
        </p:nvGraphicFramePr>
        <p:xfrm>
          <a:off x="395280" y="5826240"/>
          <a:ext cx="36720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826240"/>
                    <a:ext cx="36720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7"/>
          <p:cNvGraphicFramePr/>
          <p:nvPr/>
        </p:nvGraphicFramePr>
        <p:xfrm>
          <a:off x="1187280" y="3716280"/>
          <a:ext cx="316872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716280"/>
                    <a:ext cx="3168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611280" y="1341360"/>
                <a:ext cx="489564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  /  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'SB'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SB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611280" y="4797360"/>
            <a:ext cx="828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u ravni može da se predstavi kao obrtanje u ravno oko nepokretne tačke koja pripada toj ravni i zove s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centar 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orema važi i za beskonačno malo pomeranje – obrtanje oko trenutnog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5111640" y="2492280"/>
          <a:ext cx="4032360" cy="245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1640" y="2492280"/>
                    <a:ext cx="403236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6"/>
          <p:cNvGraphicFramePr/>
          <p:nvPr/>
        </p:nvGraphicFramePr>
        <p:xfrm>
          <a:off x="179280" y="5229360"/>
          <a:ext cx="29527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229360"/>
                    <a:ext cx="29527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611280" y="2205000"/>
                <a:ext cx="5040360" cy="42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/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rPr>
                            <m:lit/>
                            <m:nor/>
                          </m:rPr>
                          <m:t xml:space="preserve"> ravansko kretanje: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468360" y="1413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utni centar S ima osobinu da je              u trenutku kada je ta tačka c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916360" y="5877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"/>
              <p:cNvSpPr txBox="1"/>
              <p:nvPr/>
            </p:nvSpPr>
            <p:spPr>
              <a:xfrm>
                <a:off x="4716360" y="1341360"/>
                <a:ext cx="100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55640" y="1484280"/>
                <a:ext cx="215892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059280" y="1557360"/>
                <a:ext cx="21589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S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Text Box 6"/>
          <p:cNvSpPr/>
          <p:nvPr/>
        </p:nvSpPr>
        <p:spPr>
          <a:xfrm>
            <a:off x="539640" y="4941720"/>
            <a:ext cx="806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u ravni xy koje su predstavljale trenutne centre rotacije predstavljaju kriv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e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baz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na telu koje su bile trenutni centri brzina ja kriva na tel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ule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3357720"/>
            <a:ext cx="835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zn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položaj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2"/>
              <p:cNvSpPr txBox="1"/>
              <p:nvPr/>
            </p:nvSpPr>
            <p:spPr>
              <a:xfrm>
                <a:off x="2124000" y="3789360"/>
                <a:ext cx="598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1403280" y="4221000"/>
                <a:ext cx="339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Text Box 15"/>
          <p:cNvSpPr/>
          <p:nvPr/>
        </p:nvSpPr>
        <p:spPr>
          <a:xfrm>
            <a:off x="2627280" y="4149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mo brzine svih tačak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7"/>
          <p:cNvGraphicFramePr/>
          <p:nvPr/>
        </p:nvGraphicFramePr>
        <p:xfrm>
          <a:off x="5580000" y="907920"/>
          <a:ext cx="3024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907920"/>
                    <a:ext cx="3024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8"/>
          <p:cNvGraphicFramePr/>
          <p:nvPr/>
        </p:nvGraphicFramePr>
        <p:xfrm>
          <a:off x="5940360" y="3357720"/>
          <a:ext cx="230508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357720"/>
                    <a:ext cx="2305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I RU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250920" y="1341360"/>
                <a:ext cx="6912000" cy="467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</m:e>
                        </m:d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θ</m:t>
                                    </m:r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10"/>
          <p:cNvSpPr/>
          <p:nvPr/>
        </p:nvSpPr>
        <p:spPr>
          <a:xfrm>
            <a:off x="2743200" y="2209680"/>
            <a:ext cx="298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parametra vremena iz izraza za x i y dobijamo jednu jednačinu za x i y koja predstavlja jednačinu ba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238880" y="422100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vremena dobijamo jednu zavi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među  ξ i η  i to je jednačina ru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8"/>
          <p:cNvGraphicFramePr/>
          <p:nvPr/>
        </p:nvGraphicFramePr>
        <p:xfrm>
          <a:off x="5651640" y="1700280"/>
          <a:ext cx="32400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32400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31T20:34:34Z</dcterms:modified>
  <cp:revision>378</cp:revision>
  <dc:subject/>
  <dc:title>ТЕХНИЧКА МЕХАНИКА 2</dc:title>
</cp:coreProperties>
</file>