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2085-0907-437E-9288-7B903745D0F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90B8-2B8A-4D87-AB8D-90C6567D4A7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0E15-5FC4-47B0-8312-5F05AEDECC3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A0C6-E9F9-4603-8F3C-E6E5640D852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49A8-DF98-40B4-8ED4-AC5063856B9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9008-E98E-4364-A0D3-8FB56256BDD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8C94-72C0-4236-8CBB-01311D12EEE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63E8-DBDA-4757-A83B-B735B2F13E8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052A-A913-4D04-A758-A1DDF2A9FE8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3A81-5F8C-4C1E-BB6E-68772D6328B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9DB8-3D0B-4D24-8118-90B0460A767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F2ED-E03A-4D15-9483-18243930779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C204-0950-4572-807F-FB21F86D6B0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1E72-309F-42A6-A25E-C44E34B8F7C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218F-8484-4312-ADB5-BFBA0243CC0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6E39-96BC-43DA-AE57-7E7248452BE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AA17-0BB7-45C1-93A9-96A29AD2DE0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A16-8FE4-4EEB-82A1-9D91652B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687-6509-45B1-A827-DE8FBDE3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AD0-CE32-4F9E-80A0-C346154D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AEB-E643-4DB1-AF71-08720172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A6C-60CB-48C6-8B38-D7EECF9F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B7E-1865-4AB8-A5F6-38B66DE8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4F5-46EC-4E6C-AF4D-CE7100A7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689-BAFC-45AF-BBCE-ABFABAD7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CFA-333E-4C48-80CE-AA353CE9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180-9253-4159-972A-DAAA50C0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A4A-1790-42A8-80C0-FCE8424C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6AD-0856-4DF0-BE5B-869E54AE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1F4A-71C9-4665-9A5F-FCC8F0D18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"/>
          <p:cNvGraphicFramePr/>
          <p:nvPr/>
        </p:nvGraphicFramePr>
        <p:xfrm>
          <a:off x="3995640" y="1700280"/>
          <a:ext cx="424836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00280"/>
                    <a:ext cx="4248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539640" y="141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tela određen je sa tri nekolinearne tač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06064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,y,z- nepokretan koordinatni sistem u odnosu na okolni prostor (prostorni koordinatni s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4360" y="4076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kretan koord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-nepokretan u odnosu na t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5229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- referentna tačka t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484360" y="4773600"/>
          <a:ext cx="287964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73600"/>
                    <a:ext cx="28796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7"/>
          <p:cNvGraphicFramePr/>
          <p:nvPr/>
        </p:nvGraphicFramePr>
        <p:xfrm>
          <a:off x="785880" y="5713560"/>
          <a:ext cx="194292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3560"/>
                    <a:ext cx="19429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755640" y="1670040"/>
          <a:ext cx="4753080" cy="30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670040"/>
                    <a:ext cx="475308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11280" y="5157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a jednačina kretanja tela u ovom slučaju gl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4500720" y="1197000"/>
          <a:ext cx="374472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197000"/>
                    <a:ext cx="3744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826920" y="1773360"/>
                <a:ext cx="58327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  <m:mr>
                            <m:e>
                              <m:r>
                                <m:t xml:space="preserve">η</m:t>
                              </m:r>
                            </m:e>
                          </m:mr>
                          <m:mr>
                            <m:e>
                              <m:r>
                                <m:t xml:space="preserve">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932360" y="1484280"/>
                <a:ext cx="8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7" name="Object 7"/>
          <p:cNvGraphicFramePr/>
          <p:nvPr/>
        </p:nvGraphicFramePr>
        <p:xfrm>
          <a:off x="1212840" y="1989000"/>
          <a:ext cx="254016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254016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61128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daje vezu između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63640" y="31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aštaj vektora položaja proizvoljne tačke tela zarotiranog za uga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859280" y="1844640"/>
          <a:ext cx="39178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3917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35" name="Object 5"/>
          <p:cNvGraphicFramePr/>
          <p:nvPr/>
        </p:nvGraphicFramePr>
        <p:xfrm>
          <a:off x="743040" y="1484280"/>
          <a:ext cx="66484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84280"/>
                    <a:ext cx="66484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5651640" y="1341360"/>
          <a:ext cx="278892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341360"/>
                    <a:ext cx="27889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4"/>
          <p:cNvGraphicFramePr/>
          <p:nvPr/>
        </p:nvGraphicFramePr>
        <p:xfrm>
          <a:off x="826920" y="4438800"/>
          <a:ext cx="1511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38800"/>
                    <a:ext cx="1511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99564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789120" y="1628640"/>
          <a:ext cx="48304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1628640"/>
                    <a:ext cx="48304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34000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rzor konačne ro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9" name="Object 4"/>
          <p:cNvGraphicFramePr/>
          <p:nvPr/>
        </p:nvGraphicFramePr>
        <p:xfrm>
          <a:off x="820800" y="1916280"/>
          <a:ext cx="6783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16280"/>
                    <a:ext cx="6783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5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važi za konačne rotacije. U slučaju male rot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11280" y="472428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beskonačna male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5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pit iz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1528200"/>
            <a:ext cx="157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ZADATAK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1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5643720" y="1357200"/>
            <a:ext cx="3120840" cy="1940040"/>
            <a:chOff x="5643720" y="1357200"/>
            <a:chExt cx="3120840" cy="1940040"/>
          </a:xfrm>
        </p:grpSpPr>
        <p:sp>
          <p:nvSpPr>
            <p:cNvPr id="163" name="AutoShape 11"/>
            <p:cNvSpPr/>
            <p:nvPr/>
          </p:nvSpPr>
          <p:spPr>
            <a:xfrm>
              <a:off x="5643720" y="135720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6131520" y="2407320"/>
              <a:ext cx="4305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7686000" y="2268000"/>
              <a:ext cx="430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r>
                <a:rPr b="0" lang="sr-Latn-CS" sz="1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761800" y="2923920"/>
              <a:ext cx="273600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6192360" y="269496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554520" y="247788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133760" y="2180520"/>
              <a:ext cx="792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Object 4"/>
            <p:cNvGraphicFramePr/>
            <p:nvPr/>
          </p:nvGraphicFramePr>
          <p:xfrm>
            <a:off x="7655760" y="1776600"/>
            <a:ext cx="298440" cy="36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5760" y="1776600"/>
                      <a:ext cx="29844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"/>
            <p:cNvSpPr/>
            <p:nvPr/>
          </p:nvSpPr>
          <p:spPr>
            <a:xfrm>
              <a:off x="7156440" y="2580120"/>
              <a:ext cx="906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"/>
            <p:cNvSpPr/>
            <p:nvPr/>
          </p:nvSpPr>
          <p:spPr>
            <a:xfrm>
              <a:off x="5761800" y="2624760"/>
              <a:ext cx="39996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12240" y="486000"/>
            <a:ext cx="5184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a mas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2.5 k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5 kg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laze se na horizontalnoj podloz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o što je prikazano na slici. Na gornje telo deluje s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 = 10N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 uglom od 30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Odrediti ubrzanja tela, ako je koeficijent tren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eđu tela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između tela i podleg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0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račun koristit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=10 m/sec</a:t>
            </a:r>
            <a:r>
              <a:rPr b="0" i="1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6"/>
          <p:cNvGrpSpPr/>
          <p:nvPr/>
        </p:nvGrpSpPr>
        <p:grpSpPr>
          <a:xfrm>
            <a:off x="285840" y="3214800"/>
            <a:ext cx="3120840" cy="1938240"/>
            <a:chOff x="285840" y="3214800"/>
            <a:chExt cx="3120840" cy="1938240"/>
          </a:xfrm>
        </p:grpSpPr>
        <p:sp>
          <p:nvSpPr>
            <p:cNvPr id="176" name="AutoShape 67"/>
            <p:cNvSpPr/>
            <p:nvPr/>
          </p:nvSpPr>
          <p:spPr>
            <a:xfrm>
              <a:off x="285840" y="3214800"/>
              <a:ext cx="312084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1673280" y="3922920"/>
              <a:ext cx="54108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396000" y="4779720"/>
              <a:ext cx="2561400" cy="14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799560" y="4551480"/>
              <a:ext cx="1641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137960" y="4334400"/>
              <a:ext cx="112428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3"/>
            <p:cNvSpPr/>
            <p:nvPr/>
          </p:nvSpPr>
          <p:spPr>
            <a:xfrm flipH="1" flipV="1">
              <a:off x="1672920" y="3999240"/>
              <a:ext cx="68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1691280" y="443664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1284120" y="459288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 flipH="1">
              <a:off x="1227600" y="4604760"/>
              <a:ext cx="494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1676520" y="443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8"/>
            <p:cNvSpPr/>
            <p:nvPr/>
          </p:nvSpPr>
          <p:spPr>
            <a:xfrm>
              <a:off x="628560" y="3950280"/>
              <a:ext cx="514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5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 flipV="1">
              <a:off x="1036440" y="4166640"/>
              <a:ext cx="640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80"/>
          <p:cNvGraphicFramePr/>
          <p:nvPr/>
        </p:nvGraphicFramePr>
        <p:xfrm>
          <a:off x="2500200" y="4286160"/>
          <a:ext cx="56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56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2"/>
          <p:cNvGraphicFramePr/>
          <p:nvPr/>
        </p:nvGraphicFramePr>
        <p:xfrm>
          <a:off x="642960" y="5143680"/>
          <a:ext cx="16383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5143680"/>
                    <a:ext cx="16383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84"/>
          <p:cNvGrpSpPr/>
          <p:nvPr/>
        </p:nvGrpSpPr>
        <p:grpSpPr>
          <a:xfrm>
            <a:off x="4500720" y="3143160"/>
            <a:ext cx="3120840" cy="1940040"/>
            <a:chOff x="4500720" y="3143160"/>
            <a:chExt cx="3120840" cy="1940040"/>
          </a:xfrm>
        </p:grpSpPr>
        <p:sp>
          <p:nvSpPr>
            <p:cNvPr id="195" name="AutoShape 85"/>
            <p:cNvSpPr/>
            <p:nvPr/>
          </p:nvSpPr>
          <p:spPr>
            <a:xfrm>
              <a:off x="4500720" y="314316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6"/>
            <p:cNvSpPr/>
            <p:nvPr/>
          </p:nvSpPr>
          <p:spPr>
            <a:xfrm>
              <a:off x="6775560" y="4420080"/>
              <a:ext cx="457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7"/>
            <p:cNvSpPr/>
            <p:nvPr/>
          </p:nvSpPr>
          <p:spPr>
            <a:xfrm>
              <a:off x="6059160" y="3962520"/>
              <a:ext cx="464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0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4618800" y="4709880"/>
              <a:ext cx="2736000" cy="144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049360" y="448092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411520" y="426384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1"/>
            <p:cNvSpPr/>
            <p:nvPr/>
          </p:nvSpPr>
          <p:spPr>
            <a:xfrm flipH="1">
              <a:off x="5986800" y="4058640"/>
              <a:ext cx="7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2"/>
            <p:cNvSpPr/>
            <p:nvPr/>
          </p:nvSpPr>
          <p:spPr>
            <a:xfrm flipV="1">
              <a:off x="5975280" y="4599720"/>
              <a:ext cx="7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3"/>
            <p:cNvSpPr/>
            <p:nvPr/>
          </p:nvSpPr>
          <p:spPr>
            <a:xfrm flipH="1">
              <a:off x="5693400" y="466380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4"/>
            <p:cNvSpPr/>
            <p:nvPr/>
          </p:nvSpPr>
          <p:spPr>
            <a:xfrm flipH="1">
              <a:off x="4988520" y="4656240"/>
              <a:ext cx="1085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5"/>
          <p:cNvGraphicFramePr/>
          <p:nvPr/>
        </p:nvGraphicFramePr>
        <p:xfrm>
          <a:off x="4214880" y="5072040"/>
          <a:ext cx="197172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Object 9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4880" y="5072040"/>
                    <a:ext cx="197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97"/>
          <p:cNvGraphicFramePr/>
          <p:nvPr/>
        </p:nvGraphicFramePr>
        <p:xfrm>
          <a:off x="500040" y="6000840"/>
          <a:ext cx="121932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9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040" y="6000840"/>
                    <a:ext cx="1219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0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99"/>
          <p:cNvGraphicFramePr/>
          <p:nvPr/>
        </p:nvGraphicFramePr>
        <p:xfrm>
          <a:off x="1785960" y="6039000"/>
          <a:ext cx="876240" cy="39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9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85960" y="603900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01"/>
          <p:cNvGraphicFramePr/>
          <p:nvPr/>
        </p:nvGraphicFramePr>
        <p:xfrm>
          <a:off x="4362480" y="6143760"/>
          <a:ext cx="1066680" cy="228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Object 1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62480" y="614376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3"/>
          <p:cNvGraphicFramePr/>
          <p:nvPr/>
        </p:nvGraphicFramePr>
        <p:xfrm>
          <a:off x="5619600" y="6039000"/>
          <a:ext cx="809640" cy="390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9" name="Object 10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9600" y="6039000"/>
                    <a:ext cx="809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02"/>
          <p:cNvSpPr/>
          <p:nvPr/>
        </p:nvSpPr>
        <p:spPr>
          <a:xfrm>
            <a:off x="571680" y="5572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3"/>
          <p:cNvSpPr/>
          <p:nvPr/>
        </p:nvSpPr>
        <p:spPr>
          <a:xfrm>
            <a:off x="421488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70028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proizvoljne tačke tela u odnosu na nepokretan (prostorni) koordinatni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573120" y="2708280"/>
          <a:ext cx="41320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708280"/>
                    <a:ext cx="4132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1"/>
          <p:cNvSpPr/>
          <p:nvPr/>
        </p:nvSpPr>
        <p:spPr>
          <a:xfrm>
            <a:off x="2050920" y="2781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konačna jednačina za proizvoljnu tačku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39337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inični vektori  Dekartovog materijalnog koordinat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508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e koordinate svake tačke krutog tela imaju nepromenljivu vr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26920" y="1557360"/>
                <a:ext cx="64357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Object 8"/>
          <p:cNvGraphicFramePr/>
          <p:nvPr/>
        </p:nvGraphicFramePr>
        <p:xfrm>
          <a:off x="4788000" y="2581200"/>
          <a:ext cx="4176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81200"/>
                    <a:ext cx="4176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0" name="Object 5"/>
          <p:cNvGraphicFramePr/>
          <p:nvPr/>
        </p:nvGraphicFramePr>
        <p:xfrm>
          <a:off x="942840" y="4149720"/>
          <a:ext cx="388152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149720"/>
                    <a:ext cx="3881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4932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 Matrica ro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1454040" y="1413000"/>
          <a:ext cx="572940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413000"/>
                    <a:ext cx="57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7" name="Object 6"/>
          <p:cNvGraphicFramePr/>
          <p:nvPr/>
        </p:nvGraphicFramePr>
        <p:xfrm>
          <a:off x="909720" y="1484280"/>
          <a:ext cx="42987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84280"/>
                    <a:ext cx="4298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5148360" y="170028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ljne tačke tel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ordinatnom obl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5640" y="32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poznate funkcije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919080" y="3933720"/>
          <a:ext cx="4064040" cy="17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933720"/>
                    <a:ext cx="40640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5"/>
          <p:cNvSpPr/>
          <p:nvPr/>
        </p:nvSpPr>
        <p:spPr>
          <a:xfrm>
            <a:off x="5076720" y="429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da je poznat položaj materijalne tačke u svakom trenu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4"/>
          <p:cNvGraphicFramePr/>
          <p:nvPr/>
        </p:nvGraphicFramePr>
        <p:xfrm>
          <a:off x="995400" y="1844640"/>
          <a:ext cx="556884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44640"/>
                    <a:ext cx="5568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179280" y="1268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 određene tačke t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187280" y="3789360"/>
          <a:ext cx="56167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5616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9"/>
          <p:cNvSpPr/>
          <p:nvPr/>
        </p:nvSpPr>
        <p:spPr>
          <a:xfrm>
            <a:off x="826920" y="5805360"/>
            <a:ext cx="7777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 izmež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menata matrice rotaci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i="1" lang="sr-Latn-C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ɑ</a:t>
            </a:r>
            <a:r>
              <a:rPr b="0" lang="sr-Latn-CS" sz="2000" spc="-1" strike="noStrike" baseline="-18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toj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, pa su samo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datka (eleme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ezavi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LER-ov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Euler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GL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39640" y="1916280"/>
                <a:ext cx="4321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je presek ravn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</m:e>
                      <m:e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- ugao precesije</m:t>
                        </m:r>
                      </m:e>
                      <m:e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- ugao nutacije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- ugao sopstvene rotacije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 linija čvoro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" name="Object 10"/>
          <p:cNvGraphicFramePr/>
          <p:nvPr/>
        </p:nvGraphicFramePr>
        <p:xfrm>
          <a:off x="4716360" y="1989000"/>
          <a:ext cx="3970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970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925560" y="5016600"/>
                <a:ext cx="419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826920" y="1773360"/>
                <a:ext cx="3313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443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e kretanja date su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211640" y="1413000"/>
          <a:ext cx="4537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53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826920" y="1700280"/>
                <a:ext cx="367200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- nepokretne tacke;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OBRTANJE TEL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4724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na pravoj kroz tačke A i B takođe miruju, tako da je prava kroz A i B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a obrta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u obrtanja karakteriše da je to prava u telu koja spaja nepokretne tačke tela. Sve ostale tačke tela opisuju kružnice u ravnima normalnim na osu sa centrima na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5219640" y="1197000"/>
          <a:ext cx="3390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390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5T08:02:52Z</dcterms:modified>
  <cp:revision>287</cp:revision>
  <dc:subject/>
  <dc:title>ТЕХНИЧКА МЕХАНИКА 2</dc:title>
</cp:coreProperties>
</file>