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29B0-7F71-4549-BB08-57F2D98D3F2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7356-2D0F-4121-813E-885BB3CC23D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C6A3-D806-440B-961E-5F55ABE932C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6D29-38B8-47B4-B60A-75604BA20DC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14DA-9FE9-4360-B874-78B12777714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36E8-31D1-42F3-A7D1-B0A9D193B9D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C610-E9A2-4A48-9D85-254D1B461EA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F28B-A009-498D-8EBF-F8464825189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4F47-3F0B-41B2-B255-A4C0A5F1C59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D95F-EA51-478B-8CD1-7D03BC07301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0CF0-10C6-4D66-828E-8C043A82ED4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1C6A-2102-4F6B-93ED-9C069121337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3C07-A3D7-4153-9D27-94CA2C75703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F9EB-D52F-4277-9264-179D0F78B64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481F-9F51-47CE-BD22-916B1DBF183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FD8-F5E4-4E37-BA82-22EE8193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240-F355-4EB8-AF9D-F1729D33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579-D83A-4385-843F-B02FC177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03D-C8E4-4DBF-B4E2-6D06C24B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0DCC-78B4-4894-B704-BC91BB5F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0F5-635C-4C23-BDEB-2E8FADE9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1B0-F5DD-44B9-9102-D44E3EBC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085-0D5F-4047-A537-E353DE89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7C8-2760-4B4F-8CB0-A75E067C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7A8-C6E0-4872-9D0B-12C5C657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D67-345A-4795-A962-A68DC6EE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714-E1AC-4CE3-A269-2A015A35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CD12-3276-4A75-A14C-1EF61C615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468360" y="3429000"/>
                <a:ext cx="676908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ξ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η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ζ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ν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okalni izvod vektora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lim>
                        </m:limLow>
                      </m:e>
                    </m:eqAr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ζ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- sferno kretanje tacke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oko 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" name="Object 10"/>
          <p:cNvGraphicFramePr/>
          <p:nvPr/>
        </p:nvGraphicFramePr>
        <p:xfrm>
          <a:off x="5219640" y="1773360"/>
          <a:ext cx="374328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374328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3" name="Object 4"/>
          <p:cNvGraphicFramePr/>
          <p:nvPr/>
        </p:nvGraphicFramePr>
        <p:xfrm>
          <a:off x="773280" y="1197000"/>
          <a:ext cx="7237080" cy="53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1197000"/>
                    <a:ext cx="723708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611280" y="1989000"/>
                <a:ext cx="8208720" cy="473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  <m:r>
                              <m:t xml:space="preserve">'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đ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</m:eqArr>
                    <m:r>
                      <m:t xml:space="preserve">P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5"/>
          <p:cNvGraphicFramePr/>
          <p:nvPr/>
        </p:nvGraphicFramePr>
        <p:xfrm>
          <a:off x="3851280" y="1052640"/>
          <a:ext cx="34354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052640"/>
                    <a:ext cx="34354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6"/>
          <p:cNvSpPr/>
          <p:nvPr/>
        </p:nvSpPr>
        <p:spPr>
          <a:xfrm>
            <a:off x="6877080" y="342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3" name="Object 4"/>
          <p:cNvGraphicFramePr/>
          <p:nvPr/>
        </p:nvGraphicFramePr>
        <p:xfrm>
          <a:off x="1476360" y="3284640"/>
          <a:ext cx="6767640" cy="32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84640"/>
                    <a:ext cx="6767640" cy="32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539640" y="1557360"/>
                <a:ext cx="48974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lim>
                        </m:limLow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6"/>
          <p:cNvSpPr/>
          <p:nvPr/>
        </p:nvSpPr>
        <p:spPr>
          <a:xfrm>
            <a:off x="3132000" y="2492280"/>
            <a:ext cx="60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Elementar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u međusobno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39640" y="3068640"/>
            <a:ext cx="601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eđusobno nisu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68360" y="623736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, konačni položaj tela zavisi od redosleda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826920" y="4238640"/>
                <a:ext cx="158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4284720" y="4221000"/>
                <a:ext cx="15634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ZA IZMEĐU VEKTORA ELEM. ROTACIJE I ELEM. PRIRAŠTAJA OJLEROVIH UG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468360" y="1628640"/>
                <a:ext cx="7848720" cy="509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24000" y="386064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.                                                                                               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19280" y="1341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4716360" y="126828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826920" y="2205000"/>
                <a:ext cx="4016520" cy="28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ν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900000" y="2637000"/>
                <a:ext cx="4000680" cy="34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−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2050920" y="3716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ugaonog ubrz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97164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BRZ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684360" y="2852640"/>
                <a:ext cx="5329080" cy="32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od translatornog kretanja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otaciono ubrzanje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R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aksipetalno ubrzan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sSub>
                      <m:e/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je u ravn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trenutnu osu i usmereno od P ka os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4" name="Object 6"/>
          <p:cNvGraphicFramePr/>
          <p:nvPr/>
        </p:nvGraphicFramePr>
        <p:xfrm>
          <a:off x="5635800" y="1557360"/>
          <a:ext cx="31525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5800" y="1557360"/>
                    <a:ext cx="31525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2987640" y="1628640"/>
                <a:ext cx="25210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826920" y="2852640"/>
                <a:ext cx="4032360" cy="36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</m:e>
                          <m:e/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x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y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ξ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η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ζ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Text Box 5"/>
          <p:cNvSpPr/>
          <p:nvPr/>
        </p:nvSpPr>
        <p:spPr>
          <a:xfrm>
            <a:off x="755640" y="170028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5564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SFERNO KRET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1"/>
          <p:cNvGraphicFramePr/>
          <p:nvPr/>
        </p:nvGraphicFramePr>
        <p:xfrm>
          <a:off x="5087880" y="2421000"/>
          <a:ext cx="38149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87880" y="2421000"/>
                    <a:ext cx="38149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13"/>
          <p:cNvSpPr/>
          <p:nvPr/>
        </p:nvSpPr>
        <p:spPr>
          <a:xfrm>
            <a:off x="1835280" y="422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tač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oja u trenut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ipada trenutnoj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84360" y="1916280"/>
                <a:ext cx="561636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eqArr>
                                  <m:e>
                                    <m:d>
                                      <m:dPr>
                                        <m:begChr m:val=""/>
                                        <m:endChr m:val="}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=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y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z</m:t>
                                            </m:r>
                                          </m:sub>
                                        </m:sSub>
                                        <m:r>
                                          <m:t xml:space="preserve">y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   </m:t>
                                        </m:r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y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r>
                                          <m:t xml:space="preserve">=</m:t>
                                        </m:r>
                                        <m:f>
                                          <m:num>
                                            <m:r>
                                              <m:t xml:space="preserve">z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z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  <m:e/>
                                    </m:d>
                                  </m:e>
                                </m:eqArr>
                              </m:e>
                              <m:e/>
                              <m:e/>
                              <m:e/>
                            </m:d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Text Box 9"/>
          <p:cNvSpPr/>
          <p:nvPr/>
        </p:nvSpPr>
        <p:spPr>
          <a:xfrm>
            <a:off x="6516720" y="2421000"/>
            <a:ext cx="262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čina trenut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e u sistemu x, y,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prostorna deskri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0"/>
          <p:cNvGraphicFramePr/>
          <p:nvPr/>
        </p:nvGraphicFramePr>
        <p:xfrm>
          <a:off x="4572000" y="2492280"/>
          <a:ext cx="187308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92280"/>
                    <a:ext cx="187308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3" name="Object 9"/>
          <p:cNvGraphicFramePr/>
          <p:nvPr/>
        </p:nvGraphicFramePr>
        <p:xfrm>
          <a:off x="324000" y="2112840"/>
          <a:ext cx="20160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12840"/>
                    <a:ext cx="20160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684360" y="1989000"/>
                <a:ext cx="3754440" cy="453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Text Box 5"/>
          <p:cNvSpPr/>
          <p:nvPr/>
        </p:nvSpPr>
        <p:spPr>
          <a:xfrm>
            <a:off x="900000" y="1557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sti nač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268360" y="2565360"/>
            <a:ext cx="28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Jednačina trenutne ose u materijalnoj deskrip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276720" y="494172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ne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03640" y="5877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1"/>
          <p:cNvGraphicFramePr/>
          <p:nvPr/>
        </p:nvGraphicFramePr>
        <p:xfrm>
          <a:off x="4716360" y="1052640"/>
          <a:ext cx="3816360" cy="31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052640"/>
                    <a:ext cx="381636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3"/>
          <p:cNvSpPr/>
          <p:nvPr/>
        </p:nvSpPr>
        <p:spPr>
          <a:xfrm>
            <a:off x="7451640" y="2637000"/>
            <a:ext cx="230508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snop trenutnih 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rotacije (nepokretni aksoid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4"/>
          <p:cNvGraphicFramePr/>
          <p:nvPr/>
        </p:nvGraphicFramePr>
        <p:xfrm>
          <a:off x="5651640" y="3716280"/>
          <a:ext cx="3024000" cy="295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3716280"/>
                    <a:ext cx="302400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15"/>
          <p:cNvSpPr/>
          <p:nvPr/>
        </p:nvSpPr>
        <p:spPr>
          <a:xfrm>
            <a:off x="7451640" y="5373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pokretni aks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900000" y="5373720"/>
                <a:ext cx="273708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1042920" y="2492280"/>
                <a:ext cx="3529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Text Box 5"/>
          <p:cNvSpPr/>
          <p:nvPr/>
        </p:nvSpPr>
        <p:spPr>
          <a:xfrm>
            <a:off x="826920" y="1484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ROTACIJ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826920" y="1916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pecijalni slučaj sfernog kretanja je obrtanje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26920" y="4005360"/>
            <a:ext cx="367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 odnosn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edsatvljaju pravu u koju degenerišu oba aksoida za ovaj slučaj kre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427640" y="2205000"/>
          <a:ext cx="355572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205000"/>
                    <a:ext cx="355572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900000" y="2637000"/>
                <a:ext cx="4608720" cy="37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ξ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ζ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Ovde vektor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je funkcija vremena!!!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groupChr>
                      </m:e>
                      <m:lim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/>
                        </m:limUpp>
                      </m:lim>
                    </m:limLow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826920" y="1484280"/>
            <a:ext cx="813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a tačka se kreće po telu čije je kretanje zadato. Kretanje tačke po telu nazivamo relativnim, a kretanje tela nazivamo prenosnim kretanj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6"/>
          <p:cNvGraphicFramePr/>
          <p:nvPr/>
        </p:nvGraphicFramePr>
        <p:xfrm>
          <a:off x="4284720" y="2448000"/>
          <a:ext cx="460836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48000"/>
                    <a:ext cx="460836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23T07:25:22Z</dcterms:modified>
  <cp:revision>296</cp:revision>
  <dc:subject/>
  <dc:title>ТЕХНИЧКА МЕХАНИКА 2</dc:title>
</cp:coreProperties>
</file>