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331E-EE17-48E9-BE29-E729562EB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A0FC-0882-4692-97A9-8068E8592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0504-7BCD-4FFB-878E-D33BA7354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ED90-ED03-401B-860A-3C1B6829F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9FE1-95EB-41DC-8B7A-2C6C4764A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FEFE-D733-488F-87F7-7FFE3F759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CBAD-AE10-4D70-B05A-8253B6636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CE6D-2A4E-41FC-B0DD-C4F213823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E8FC-047B-4500-A607-C955BCC01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6016-46C7-4519-87C3-4246D897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F19A-E2A3-4128-A63B-8A5C52C5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EFAA-C6B2-47D1-8F5C-6FAE65F8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7621C-3E23-418C-A069-B74F16CC9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ON O PROMENI KO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1. MATERIJALNA TAČ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292720" y="1413000"/>
            <a:ext cx="3211560" cy="1836720"/>
            <a:chOff x="5292720" y="1413000"/>
            <a:chExt cx="3211560" cy="1836720"/>
          </a:xfrm>
        </p:grpSpPr>
        <mc:AlternateContent>
          <mc:Choice xmlns:a14="http://schemas.microsoft.com/office/drawing/2010/main" Requires="a14">
            <p:sp>
              <p:nvSpPr>
                <p:cNvPr id="44" name=""/>
                <p:cNvSpPr txBox="1"/>
                <p:nvPr/>
              </p:nvSpPr>
              <p:spPr>
                <a:xfrm>
                  <a:off x="5292720" y="2355840"/>
                  <a:ext cx="1084320" cy="4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K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m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45" name=""/>
            <p:cNvSpPr/>
            <p:nvPr/>
          </p:nvSpPr>
          <p:spPr>
            <a:xfrm flipH="1">
              <a:off x="6524640" y="2889360"/>
              <a:ext cx="61272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137360" y="2889360"/>
              <a:ext cx="82872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>
              <a:off x="7137360" y="188136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9000" y="2060640"/>
              <a:ext cx="1295280" cy="612720"/>
            </a:xfrm>
            <a:custGeom>
              <a:avLst/>
              <a:gdLst/>
              <a:ahLst/>
              <a:rect l="l" t="t" r="r" b="b"/>
              <a:pathLst>
                <a:path w="816" h="386">
                  <a:moveTo>
                    <a:pt x="0" y="386"/>
                  </a:moveTo>
                  <a:cubicBezTo>
                    <a:pt x="70" y="321"/>
                    <a:pt x="140" y="257"/>
                    <a:pt x="227" y="204"/>
                  </a:cubicBezTo>
                  <a:cubicBezTo>
                    <a:pt x="314" y="151"/>
                    <a:pt x="424" y="102"/>
                    <a:pt x="522" y="68"/>
                  </a:cubicBezTo>
                  <a:cubicBezTo>
                    <a:pt x="620" y="34"/>
                    <a:pt x="767" y="11"/>
                    <a:pt x="81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7569360" y="1916280"/>
              <a:ext cx="792000" cy="4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711920" y="2421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,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569360" y="2313000"/>
              <a:ext cx="107640" cy="1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" name=""/>
                <p:cNvSpPr txBox="1"/>
                <p:nvPr/>
              </p:nvSpPr>
              <p:spPr>
                <a:xfrm>
                  <a:off x="8072280" y="1592280"/>
                  <a:ext cx="26352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53" name=""/>
            <p:cNvSpPr/>
            <p:nvPr/>
          </p:nvSpPr>
          <p:spPr>
            <a:xfrm>
              <a:off x="7596360" y="1665360"/>
              <a:ext cx="0" cy="6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" name=""/>
                <p:cNvSpPr txBox="1"/>
                <p:nvPr/>
              </p:nvSpPr>
              <p:spPr>
                <a:xfrm>
                  <a:off x="7380360" y="1413000"/>
                  <a:ext cx="406440" cy="20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+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647640" y="2384280"/>
                <a:ext cx="2952720" cy="170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⇒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555480" y="4168800"/>
            <a:ext cx="740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2. SISTEM MATERIJALNIH TAČAK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156360" y="3608280"/>
            <a:ext cx="2663640" cy="3103560"/>
            <a:chOff x="6156360" y="3608280"/>
            <a:chExt cx="2663640" cy="3103560"/>
          </a:xfrm>
        </p:grpSpPr>
        <p:sp>
          <p:nvSpPr>
            <p:cNvPr id="58" name=""/>
            <p:cNvSpPr/>
            <p:nvPr/>
          </p:nvSpPr>
          <p:spPr>
            <a:xfrm>
              <a:off x="7956720" y="4579920"/>
              <a:ext cx="86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" name=""/>
                <p:cNvSpPr txBox="1"/>
                <p:nvPr/>
              </p:nvSpPr>
              <p:spPr>
                <a:xfrm>
                  <a:off x="7956720" y="5443560"/>
                  <a:ext cx="29664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0" name=""/>
            <p:cNvSpPr/>
            <p:nvPr/>
          </p:nvSpPr>
          <p:spPr>
            <a:xfrm flipH="1">
              <a:off x="6156360" y="5840280"/>
              <a:ext cx="684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0360" y="5840280"/>
              <a:ext cx="68292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6840360" y="4435560"/>
              <a:ext cx="0" cy="14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956720" y="587520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236000" y="494028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956720" y="4075200"/>
              <a:ext cx="17928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388360" y="508464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85080" y="5372280"/>
              <a:ext cx="10800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7885080" y="5227560"/>
              <a:ext cx="5032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flipV="1">
              <a:off x="7380360" y="5084280"/>
              <a:ext cx="50472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667640" y="360828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948360" y="450864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777080" y="49039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" name=""/>
                <p:cNvSpPr txBox="1"/>
                <p:nvPr/>
              </p:nvSpPr>
              <p:spPr>
                <a:xfrm>
                  <a:off x="7559640" y="4903920"/>
                  <a:ext cx="271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4" name=""/>
            <p:cNvSpPr/>
            <p:nvPr/>
          </p:nvSpPr>
          <p:spPr>
            <a:xfrm>
              <a:off x="6840360" y="5840280"/>
              <a:ext cx="111636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877080" y="5372280"/>
              <a:ext cx="1008000" cy="4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" name=""/>
                <p:cNvSpPr txBox="1"/>
                <p:nvPr/>
              </p:nvSpPr>
              <p:spPr>
                <a:xfrm>
                  <a:off x="7451640" y="5911920"/>
                  <a:ext cx="190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7" name=""/>
                <p:cNvSpPr txBox="1"/>
                <p:nvPr/>
              </p:nvSpPr>
              <p:spPr>
                <a:xfrm>
                  <a:off x="7164360" y="5300640"/>
                  <a:ext cx="22068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8" name=""/>
            <p:cNvSpPr/>
            <p:nvPr/>
          </p:nvSpPr>
          <p:spPr>
            <a:xfrm>
              <a:off x="7308720" y="5048280"/>
              <a:ext cx="75564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96400" y="5214960"/>
              <a:ext cx="355320" cy="736560"/>
            </a:xfrm>
            <a:custGeom>
              <a:avLst/>
              <a:gdLst/>
              <a:ahLst/>
              <a:rect l="l" t="t" r="r" b="b"/>
              <a:pathLst>
                <a:path w="224" h="464">
                  <a:moveTo>
                    <a:pt x="0" y="464"/>
                  </a:moveTo>
                  <a:cubicBezTo>
                    <a:pt x="15" y="420"/>
                    <a:pt x="46" y="383"/>
                    <a:pt x="72" y="344"/>
                  </a:cubicBezTo>
                  <a:cubicBezTo>
                    <a:pt x="97" y="306"/>
                    <a:pt x="95" y="335"/>
                    <a:pt x="112" y="296"/>
                  </a:cubicBezTo>
                  <a:cubicBezTo>
                    <a:pt x="143" y="225"/>
                    <a:pt x="147" y="117"/>
                    <a:pt x="200" y="64"/>
                  </a:cubicBezTo>
                  <a:cubicBezTo>
                    <a:pt x="208" y="41"/>
                    <a:pt x="224" y="24"/>
                    <a:pt x="22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7308720" y="4148280"/>
              <a:ext cx="68436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028000" y="4148280"/>
              <a:ext cx="4316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35640" y="634356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559640" y="630864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948360" y="41115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" name=""/>
                <p:cNvSpPr txBox="1"/>
                <p:nvPr/>
              </p:nvSpPr>
              <p:spPr>
                <a:xfrm>
                  <a:off x="8018640" y="4940280"/>
                  <a:ext cx="31716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86" name=""/>
            <p:cNvSpPr/>
            <p:nvPr/>
          </p:nvSpPr>
          <p:spPr>
            <a:xfrm flipV="1">
              <a:off x="6840360" y="5119560"/>
              <a:ext cx="432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7" name=""/>
                <p:cNvSpPr txBox="1"/>
                <p:nvPr/>
              </p:nvSpPr>
              <p:spPr>
                <a:xfrm>
                  <a:off x="6886440" y="5075280"/>
                  <a:ext cx="22860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88" name=""/>
            <p:cNvSpPr/>
            <p:nvPr/>
          </p:nvSpPr>
          <p:spPr>
            <a:xfrm>
              <a:off x="6443640" y="4797360"/>
              <a:ext cx="792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" name=""/>
                <p:cNvSpPr txBox="1"/>
                <p:nvPr/>
              </p:nvSpPr>
              <p:spPr>
                <a:xfrm>
                  <a:off x="6227640" y="4905360"/>
                  <a:ext cx="507960" cy="24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611280" y="4797360"/>
                <a:ext cx="4608360" cy="18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f>
                          <m:num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sv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uv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,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e>
                        </m:d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f>
                              <m:num>
                                <m:r>
                                  <m:t xml:space="preserve">d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=</m:t>
                            </m:r>
                          </m:e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sv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v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lim>
                        </m:limLow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uv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 flipV="1">
            <a:off x="3780000" y="5481360"/>
            <a:ext cx="900000" cy="9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042920" y="1268280"/>
                <a:ext cx="2421000" cy="255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ζ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</m:d>
                      </m:e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e>
                        </m:bar>
                        <m:r>
                          <m:t xml:space="preserve">=</m:t>
                        </m:r>
                        <m:r>
                          <m:t xml:space="preserve">ℓ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22" name=""/>
          <p:cNvGrpSpPr/>
          <p:nvPr/>
        </p:nvGrpSpPr>
        <p:grpSpPr>
          <a:xfrm>
            <a:off x="6048360" y="1736640"/>
            <a:ext cx="2232000" cy="2989440"/>
            <a:chOff x="6048360" y="1736640"/>
            <a:chExt cx="2232000" cy="2989440"/>
          </a:xfrm>
        </p:grpSpPr>
        <p:sp>
          <p:nvSpPr>
            <p:cNvPr id="223" name=""/>
            <p:cNvSpPr/>
            <p:nvPr/>
          </p:nvSpPr>
          <p:spPr>
            <a:xfrm>
              <a:off x="7056360" y="4005360"/>
              <a:ext cx="97164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238800" y="2309760"/>
              <a:ext cx="1433520" cy="1636920"/>
            </a:xfrm>
            <a:custGeom>
              <a:avLst/>
              <a:gdLst/>
              <a:ahLst/>
              <a:rect l="l" t="t" r="r" b="b"/>
              <a:pathLst>
                <a:path w="903" h="1031">
                  <a:moveTo>
                    <a:pt x="399" y="38"/>
                  </a:moveTo>
                  <a:cubicBezTo>
                    <a:pt x="358" y="28"/>
                    <a:pt x="347" y="21"/>
                    <a:pt x="303" y="30"/>
                  </a:cubicBezTo>
                  <a:cubicBezTo>
                    <a:pt x="268" y="47"/>
                    <a:pt x="231" y="64"/>
                    <a:pt x="199" y="86"/>
                  </a:cubicBezTo>
                  <a:cubicBezTo>
                    <a:pt x="188" y="118"/>
                    <a:pt x="171" y="139"/>
                    <a:pt x="151" y="166"/>
                  </a:cubicBezTo>
                  <a:cubicBezTo>
                    <a:pt x="136" y="211"/>
                    <a:pt x="108" y="252"/>
                    <a:pt x="87" y="294"/>
                  </a:cubicBezTo>
                  <a:cubicBezTo>
                    <a:pt x="70" y="327"/>
                    <a:pt x="70" y="370"/>
                    <a:pt x="63" y="406"/>
                  </a:cubicBezTo>
                  <a:cubicBezTo>
                    <a:pt x="67" y="593"/>
                    <a:pt x="0" y="753"/>
                    <a:pt x="151" y="854"/>
                  </a:cubicBezTo>
                  <a:cubicBezTo>
                    <a:pt x="197" y="923"/>
                    <a:pt x="136" y="842"/>
                    <a:pt x="191" y="886"/>
                  </a:cubicBezTo>
                  <a:cubicBezTo>
                    <a:pt x="199" y="892"/>
                    <a:pt x="201" y="903"/>
                    <a:pt x="207" y="910"/>
                  </a:cubicBezTo>
                  <a:cubicBezTo>
                    <a:pt x="214" y="919"/>
                    <a:pt x="222" y="927"/>
                    <a:pt x="231" y="934"/>
                  </a:cubicBezTo>
                  <a:cubicBezTo>
                    <a:pt x="261" y="957"/>
                    <a:pt x="295" y="977"/>
                    <a:pt x="327" y="998"/>
                  </a:cubicBezTo>
                  <a:cubicBezTo>
                    <a:pt x="353" y="1016"/>
                    <a:pt x="393" y="1012"/>
                    <a:pt x="423" y="1022"/>
                  </a:cubicBezTo>
                  <a:cubicBezTo>
                    <a:pt x="600" y="1013"/>
                    <a:pt x="532" y="1031"/>
                    <a:pt x="631" y="998"/>
                  </a:cubicBezTo>
                  <a:cubicBezTo>
                    <a:pt x="657" y="989"/>
                    <a:pt x="711" y="982"/>
                    <a:pt x="711" y="982"/>
                  </a:cubicBezTo>
                  <a:cubicBezTo>
                    <a:pt x="737" y="969"/>
                    <a:pt x="766" y="956"/>
                    <a:pt x="791" y="942"/>
                  </a:cubicBezTo>
                  <a:cubicBezTo>
                    <a:pt x="808" y="933"/>
                    <a:pt x="823" y="921"/>
                    <a:pt x="839" y="910"/>
                  </a:cubicBezTo>
                  <a:cubicBezTo>
                    <a:pt x="847" y="905"/>
                    <a:pt x="863" y="894"/>
                    <a:pt x="863" y="894"/>
                  </a:cubicBezTo>
                  <a:cubicBezTo>
                    <a:pt x="889" y="854"/>
                    <a:pt x="888" y="811"/>
                    <a:pt x="903" y="766"/>
                  </a:cubicBezTo>
                  <a:cubicBezTo>
                    <a:pt x="891" y="446"/>
                    <a:pt x="899" y="622"/>
                    <a:pt x="879" y="238"/>
                  </a:cubicBezTo>
                  <a:cubicBezTo>
                    <a:pt x="878" y="222"/>
                    <a:pt x="880" y="203"/>
                    <a:pt x="871" y="190"/>
                  </a:cubicBezTo>
                  <a:cubicBezTo>
                    <a:pt x="854" y="166"/>
                    <a:pt x="823" y="158"/>
                    <a:pt x="799" y="142"/>
                  </a:cubicBezTo>
                  <a:cubicBezTo>
                    <a:pt x="780" y="129"/>
                    <a:pt x="767" y="110"/>
                    <a:pt x="751" y="94"/>
                  </a:cubicBezTo>
                  <a:cubicBezTo>
                    <a:pt x="726" y="69"/>
                    <a:pt x="687" y="65"/>
                    <a:pt x="655" y="54"/>
                  </a:cubicBezTo>
                  <a:cubicBezTo>
                    <a:pt x="631" y="46"/>
                    <a:pt x="607" y="38"/>
                    <a:pt x="583" y="30"/>
                  </a:cubicBezTo>
                  <a:cubicBezTo>
                    <a:pt x="567" y="25"/>
                    <a:pt x="535" y="14"/>
                    <a:pt x="535" y="14"/>
                  </a:cubicBezTo>
                  <a:cubicBezTo>
                    <a:pt x="403" y="30"/>
                    <a:pt x="437" y="0"/>
                    <a:pt x="399" y="38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337440" y="4041720"/>
              <a:ext cx="6458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6360" y="4005360"/>
              <a:ext cx="104292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7021440" y="1881000"/>
              <a:ext cx="34920" cy="20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7020000" y="2852640"/>
              <a:ext cx="179280" cy="10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993080" y="432900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445080" y="432900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848720" y="375300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093080" y="1736640"/>
              <a:ext cx="61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,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3" name=""/>
                <p:cNvSpPr txBox="1"/>
                <p:nvPr/>
              </p:nvSpPr>
              <p:spPr>
                <a:xfrm>
                  <a:off x="7124760" y="3086280"/>
                  <a:ext cx="317520" cy="35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34" name=""/>
            <p:cNvSpPr/>
            <p:nvPr/>
          </p:nvSpPr>
          <p:spPr>
            <a:xfrm>
              <a:off x="7237440" y="260208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091280" y="2060640"/>
              <a:ext cx="7308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912000" y="2060640"/>
              <a:ext cx="7308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985080" y="3933720"/>
              <a:ext cx="71280" cy="1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6912000" y="4041720"/>
              <a:ext cx="10800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020000" y="4041720"/>
              <a:ext cx="730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840360" y="4149720"/>
              <a:ext cx="360720" cy="1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6084360" y="4005360"/>
              <a:ext cx="90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048360" y="36100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372360" y="4005360"/>
              <a:ext cx="144360" cy="288720"/>
            </a:xfrm>
            <a:custGeom>
              <a:avLst/>
              <a:gdLst/>
              <a:ahLst/>
              <a:rect l="l" t="t" r="r" b="b"/>
              <a:pathLst>
                <a:path w="79" h="205">
                  <a:moveTo>
                    <a:pt x="11" y="0"/>
                  </a:moveTo>
                  <a:cubicBezTo>
                    <a:pt x="5" y="40"/>
                    <a:pt x="0" y="80"/>
                    <a:pt x="11" y="114"/>
                  </a:cubicBezTo>
                  <a:cubicBezTo>
                    <a:pt x="22" y="148"/>
                    <a:pt x="50" y="176"/>
                    <a:pt x="79" y="20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084720" y="40053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6408360" y="216864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129440" y="2168640"/>
              <a:ext cx="6476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084720" y="2025720"/>
              <a:ext cx="540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632720" y="2060640"/>
              <a:ext cx="560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237440" y="3753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696000" y="173664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1079640" y="4041720"/>
                <a:ext cx="2122200" cy="23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sup>
                        </m:sSubSup>
                      </m:e>
                      <m:e/>
                      <m:e>
                        <m:r>
                          <m:t xml:space="preserve">A</m:t>
                        </m:r>
                        <m:r>
                          <m:t xml:space="preserve">→</m:t>
                        </m:r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REDISTE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EP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⋅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TACKA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2476080" y="3862080"/>
            <a:ext cx="360" cy="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647640" y="1233360"/>
                <a:ext cx="7920000" cy="24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¨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ζ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bar>
                          <m:barPr>
                            <m:pos m:val="bot"/>
                          </m:bar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  <m:sSub>
                                  <m:e>
                                    <m:r>
                                      <m:t xml:space="preserve">ζ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</m:e>
                        </m:bar>
                        <m:r>
                          <m:t xml:space="preserve">−</m:t>
                        </m:r>
                        <m:sSup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sSub>
                                  <m:e>
                                    <m:r>
                                      <m:t xml:space="preserve">ζ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</m:e>
                            </m:bar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p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;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p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ac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ℓ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j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act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act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j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zact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zadat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poljni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menat</m:t>
                            </m:r>
                          </m:lim>
                        </m:limLow>
                        <m:r>
                          <m:t xml:space="preserve">+</m:t>
                        </m:r>
                        <m:sSub>
                          <m:e>
                            <m:r>
                              <m:t xml:space="preserve">ℓ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ℓY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647640" y="3608280"/>
                <a:ext cx="2627280" cy="18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i</m:t>
                              </m:r>
                            </m:e>
                          </m:acc>
                        </m:e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j</m:t>
                              </m:r>
                            </m:e>
                          </m:acc>
                        </m:e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k</m:t>
                              </m:r>
                            </m:e>
                          </m:acc>
                        </m:e>
                      </m:mr>
                      <m:mr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λ</m:t>
                              </m:r>
                            </m:e>
                          </m:acc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θ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θ</m:t>
                          </m:r>
                        </m:e>
                        <m:e>
                          <m:r>
                            <m:t xml:space="preserve">0</m:t>
                          </m:r>
                        </m:e>
                      </m:mr>
                      <m:mr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μ</m:t>
                              </m:r>
                            </m:e>
                          </m:acc>
                        </m:e>
                        <m:e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θ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θ</m:t>
                          </m:r>
                        </m:e>
                        <m:e>
                          <m:r>
                            <m:t xml:space="preserve">0</m:t>
                          </m:r>
                        </m:e>
                      </m:mr>
                      <m:mr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ν</m:t>
                              </m:r>
                            </m:e>
                          </m:acc>
                        </m:e>
                        <m:e>
                          <m:r>
                            <m:t xml:space="preserve">0</m:t>
                          </m:r>
                        </m:e>
                        <m:e>
                          <m:r>
                            <m:t xml:space="preserve">0</m:t>
                          </m:r>
                        </m:e>
                        <m:e>
                          <m:r>
                            <m:t xml:space="preserve">1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611280" y="1952640"/>
                <a:ext cx="5545080" cy="13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ac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ℓY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yac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ℓ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ac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ℓY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yac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ℓ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act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503280" y="148428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d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ine kretanja ispisane u xyz sistemu s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576360" y="4059360"/>
                <a:ext cx="6284880" cy="14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m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p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p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c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nary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m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p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p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c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nary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0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c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</m:nary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792000" y="3933720"/>
                <a:ext cx="2374920" cy="233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acc>
                          <m:accPr>
                            <m:chr m:val="¨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act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647640" y="1376280"/>
                <a:ext cx="3311640" cy="19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</m:e>
                        </m:d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</m:e>
                        </m:d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6</m:t>
                            </m:r>
                          </m:e>
                        </m:d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719280" y="3284640"/>
            <a:ext cx="63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akle jednačine (4), (5) i (6) postaj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03640" y="566100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iferencijalna jednačina obrtanj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4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četni uslovi za diferencijalnu jednačinu obrtanja s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647640" y="2168640"/>
                <a:ext cx="26640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;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719280" y="3068640"/>
            <a:ext cx="77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dnačine (4) i (5) postaju statički uslovi ravnotež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719280" y="3608280"/>
                <a:ext cx="2989080" cy="11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d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ac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ℓY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5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d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yac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ℓ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755640" y="4834080"/>
                <a:ext cx="118764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2124000" y="4869000"/>
            <a:ext cx="60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u kinetički pritisci koji deluju u tačkama B i 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19280" y="544500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istem od (1) do (5) svodi se na uslove ravnoteže samo ako je središte na osi obrtanj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er: Dva homogena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pa CD I D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stih dužina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 težina G, zavarena su međusobno pod pravim uglom kao i za nepokretnu osu AB prema slici. U tački E na štap DE deluje horizontalna sila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F(t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 Intenzitet sile se menja po zakonu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F(t)=F</a:t>
            </a:r>
            <a:r>
              <a:rPr b="0" i="1" lang="sr-Latn-C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dok je pravac sile stalno upravan na ravan koju obrazuju štapovi. Odrediti zakon obrtanja tela i kinetičke pritiske na ležišta osovi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3203640" y="3753000"/>
            <a:ext cx="2413080" cy="2741040"/>
            <a:chOff x="3203640" y="3753000"/>
            <a:chExt cx="2413080" cy="2741040"/>
          </a:xfrm>
        </p:grpSpPr>
        <p:sp>
          <p:nvSpPr>
            <p:cNvPr id="276" name=""/>
            <p:cNvSpPr/>
            <p:nvPr/>
          </p:nvSpPr>
          <p:spPr>
            <a:xfrm>
              <a:off x="3995640" y="3903480"/>
              <a:ext cx="0" cy="24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816360" y="6170400"/>
              <a:ext cx="108000" cy="18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16360" y="6351480"/>
              <a:ext cx="324000" cy="142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032360" y="6170400"/>
              <a:ext cx="109440" cy="18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851280" y="3938400"/>
              <a:ext cx="10800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032360" y="3938400"/>
              <a:ext cx="10800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995640" y="5270400"/>
              <a:ext cx="1224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5219640" y="3974760"/>
              <a:ext cx="0" cy="1294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4788000" y="3975120"/>
              <a:ext cx="43164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176720" y="39034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248000" y="59911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032360" y="48751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292720" y="50911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92720" y="390348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00720" y="3753000"/>
              <a:ext cx="6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F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203640" y="404640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240000" y="6351480"/>
              <a:ext cx="4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40000" y="527040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419640" y="4046400"/>
              <a:ext cx="0" cy="12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419640" y="5270400"/>
              <a:ext cx="0" cy="10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219640" y="5378400"/>
              <a:ext cx="0" cy="32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995640" y="5738760"/>
              <a:ext cx="12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456000" y="44431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419640" y="55227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392720" y="534348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ON O PROMENI KO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792000" y="1413000"/>
                <a:ext cx="5688000" cy="26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m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ELEMENTARN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IMPULS</m:t>
                        </m:r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  <m:sup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</m:nary>
                          </m:e>
                        </m:nary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J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→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ZAKON</m:t>
                        </m:r>
                        <m:r>
                          <m:t xml:space="preserve">⋅</m:t>
                        </m:r>
                        <m:r>
                          <m:t xml:space="preserve">O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ROMEN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OLICIN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RETANJ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792000" y="436572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KRUTO T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256360" y="3500280"/>
            <a:ext cx="3276000" cy="2959200"/>
            <a:chOff x="5256360" y="3500280"/>
            <a:chExt cx="3276000" cy="2959200"/>
          </a:xfrm>
        </p:grpSpPr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6192720" y="4689360"/>
                  <a:ext cx="338400" cy="39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" name=""/>
                <p:cNvSpPr txBox="1"/>
                <p:nvPr/>
              </p:nvSpPr>
              <p:spPr>
                <a:xfrm>
                  <a:off x="8101080" y="4761000"/>
                  <a:ext cx="271440" cy="3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8" name=""/>
            <p:cNvSpPr/>
            <p:nvPr/>
          </p:nvSpPr>
          <p:spPr>
            <a:xfrm flipH="1">
              <a:off x="5256360" y="5659560"/>
              <a:ext cx="90000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156360" y="5659560"/>
              <a:ext cx="97164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6156360" y="4255560"/>
              <a:ext cx="0" cy="140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91160" y="4000680"/>
              <a:ext cx="1433520" cy="1636560"/>
            </a:xfrm>
            <a:custGeom>
              <a:avLst/>
              <a:gdLst/>
              <a:ahLst/>
              <a:rect l="l" t="t" r="r" b="b"/>
              <a:pathLst>
                <a:path w="903" h="1031">
                  <a:moveTo>
                    <a:pt x="399" y="38"/>
                  </a:moveTo>
                  <a:cubicBezTo>
                    <a:pt x="358" y="28"/>
                    <a:pt x="347" y="21"/>
                    <a:pt x="303" y="30"/>
                  </a:cubicBezTo>
                  <a:cubicBezTo>
                    <a:pt x="268" y="47"/>
                    <a:pt x="231" y="64"/>
                    <a:pt x="199" y="86"/>
                  </a:cubicBezTo>
                  <a:cubicBezTo>
                    <a:pt x="188" y="118"/>
                    <a:pt x="171" y="139"/>
                    <a:pt x="151" y="166"/>
                  </a:cubicBezTo>
                  <a:cubicBezTo>
                    <a:pt x="136" y="211"/>
                    <a:pt x="108" y="252"/>
                    <a:pt x="87" y="294"/>
                  </a:cubicBezTo>
                  <a:cubicBezTo>
                    <a:pt x="70" y="327"/>
                    <a:pt x="70" y="370"/>
                    <a:pt x="63" y="406"/>
                  </a:cubicBezTo>
                  <a:cubicBezTo>
                    <a:pt x="67" y="593"/>
                    <a:pt x="0" y="753"/>
                    <a:pt x="151" y="854"/>
                  </a:cubicBezTo>
                  <a:cubicBezTo>
                    <a:pt x="197" y="923"/>
                    <a:pt x="136" y="842"/>
                    <a:pt x="191" y="886"/>
                  </a:cubicBezTo>
                  <a:cubicBezTo>
                    <a:pt x="199" y="892"/>
                    <a:pt x="201" y="903"/>
                    <a:pt x="207" y="910"/>
                  </a:cubicBezTo>
                  <a:cubicBezTo>
                    <a:pt x="214" y="919"/>
                    <a:pt x="222" y="927"/>
                    <a:pt x="231" y="934"/>
                  </a:cubicBezTo>
                  <a:cubicBezTo>
                    <a:pt x="261" y="957"/>
                    <a:pt x="295" y="977"/>
                    <a:pt x="327" y="998"/>
                  </a:cubicBezTo>
                  <a:cubicBezTo>
                    <a:pt x="353" y="1016"/>
                    <a:pt x="393" y="1012"/>
                    <a:pt x="423" y="1022"/>
                  </a:cubicBezTo>
                  <a:cubicBezTo>
                    <a:pt x="600" y="1013"/>
                    <a:pt x="532" y="1031"/>
                    <a:pt x="631" y="998"/>
                  </a:cubicBezTo>
                  <a:cubicBezTo>
                    <a:pt x="657" y="989"/>
                    <a:pt x="711" y="982"/>
                    <a:pt x="711" y="982"/>
                  </a:cubicBezTo>
                  <a:cubicBezTo>
                    <a:pt x="737" y="969"/>
                    <a:pt x="766" y="956"/>
                    <a:pt x="791" y="942"/>
                  </a:cubicBezTo>
                  <a:cubicBezTo>
                    <a:pt x="808" y="933"/>
                    <a:pt x="823" y="921"/>
                    <a:pt x="839" y="910"/>
                  </a:cubicBezTo>
                  <a:cubicBezTo>
                    <a:pt x="847" y="905"/>
                    <a:pt x="863" y="894"/>
                    <a:pt x="863" y="894"/>
                  </a:cubicBezTo>
                  <a:cubicBezTo>
                    <a:pt x="889" y="854"/>
                    <a:pt x="888" y="811"/>
                    <a:pt x="903" y="766"/>
                  </a:cubicBezTo>
                  <a:cubicBezTo>
                    <a:pt x="891" y="446"/>
                    <a:pt x="899" y="622"/>
                    <a:pt x="879" y="238"/>
                  </a:cubicBezTo>
                  <a:cubicBezTo>
                    <a:pt x="878" y="222"/>
                    <a:pt x="880" y="203"/>
                    <a:pt x="871" y="190"/>
                  </a:cubicBezTo>
                  <a:cubicBezTo>
                    <a:pt x="854" y="166"/>
                    <a:pt x="823" y="158"/>
                    <a:pt x="799" y="142"/>
                  </a:cubicBezTo>
                  <a:cubicBezTo>
                    <a:pt x="780" y="129"/>
                    <a:pt x="767" y="110"/>
                    <a:pt x="751" y="94"/>
                  </a:cubicBezTo>
                  <a:cubicBezTo>
                    <a:pt x="726" y="69"/>
                    <a:pt x="687" y="65"/>
                    <a:pt x="655" y="54"/>
                  </a:cubicBezTo>
                  <a:cubicBezTo>
                    <a:pt x="631" y="46"/>
                    <a:pt x="607" y="38"/>
                    <a:pt x="583" y="30"/>
                  </a:cubicBezTo>
                  <a:cubicBezTo>
                    <a:pt x="567" y="25"/>
                    <a:pt x="535" y="14"/>
                    <a:pt x="535" y="14"/>
                  </a:cubicBezTo>
                  <a:cubicBezTo>
                    <a:pt x="403" y="30"/>
                    <a:pt x="437" y="0"/>
                    <a:pt x="399" y="38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7020000" y="5335560"/>
              <a:ext cx="216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237440" y="5335560"/>
              <a:ext cx="104292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flipV="1">
              <a:off x="6516720" y="4040280"/>
              <a:ext cx="7192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6156360" y="5335560"/>
              <a:ext cx="107964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7236000" y="4543560"/>
              <a:ext cx="21564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256360" y="58039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4360" y="609120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761080" y="4148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69080" y="56595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101080" y="52275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551640" y="3716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3" name=""/>
                <p:cNvSpPr txBox="1"/>
                <p:nvPr/>
              </p:nvSpPr>
              <p:spPr>
                <a:xfrm>
                  <a:off x="6343560" y="5219640"/>
                  <a:ext cx="20340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4" name=""/>
                <p:cNvSpPr txBox="1"/>
                <p:nvPr/>
              </p:nvSpPr>
              <p:spPr>
                <a:xfrm>
                  <a:off x="7377120" y="4776840"/>
                  <a:ext cx="317520" cy="35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15" name=""/>
            <p:cNvSpPr/>
            <p:nvPr/>
          </p:nvSpPr>
          <p:spPr>
            <a:xfrm>
              <a:off x="6985080" y="418320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912000" y="504828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7416720" y="4005360"/>
              <a:ext cx="757440" cy="5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7667280" y="5229360"/>
              <a:ext cx="86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300720" y="4616280"/>
              <a:ext cx="539640" cy="3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>
                  <a:off x="7704000" y="3500280"/>
                  <a:ext cx="40644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719280" y="5013360"/>
                <a:ext cx="5653080" cy="15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m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¨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S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m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¨"/>
                                        </m:accPr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S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m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¨"/>
                                        </m:accPr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S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ZAKON</m:t>
                        </m:r>
                        <m:r>
                          <m:t xml:space="preserve">⋅</m:t>
                        </m:r>
                        <m:r>
                          <m:t xml:space="preserve">O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RETANJ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REDIST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ON O PROMENI MOMENTA KO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MATERIJALNA TA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Č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47640" y="2349360"/>
                <a:ext cx="4319640" cy="18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</m:d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H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25" name=""/>
          <p:cNvGrpSpPr/>
          <p:nvPr/>
        </p:nvGrpSpPr>
        <p:grpSpPr>
          <a:xfrm>
            <a:off x="5400720" y="1484280"/>
            <a:ext cx="2706480" cy="1917720"/>
            <a:chOff x="5400720" y="1484280"/>
            <a:chExt cx="2706480" cy="1917720"/>
          </a:xfrm>
        </p:grpSpPr>
        <mc:AlternateContent>
          <mc:Choice xmlns:a14="http://schemas.microsoft.com/office/drawing/2010/main" Requires="a14">
            <p:sp>
              <p:nvSpPr>
                <p:cNvPr id="126" name=""/>
                <p:cNvSpPr txBox="1"/>
                <p:nvPr/>
              </p:nvSpPr>
              <p:spPr>
                <a:xfrm>
                  <a:off x="5400720" y="2303640"/>
                  <a:ext cx="108432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D</m:t>
                          </m:r>
                        </m:e>
                      </m:acc>
                      <m:r>
                        <m:t xml:space="preserve">=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  <m:r>
                        <m:t xml:space="preserve">×</m:t>
                      </m:r>
                      <m:r>
                        <m:t xml:space="preserve">m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27" name=""/>
            <p:cNvSpPr/>
            <p:nvPr/>
          </p:nvSpPr>
          <p:spPr>
            <a:xfrm flipH="1">
              <a:off x="6127920" y="2960640"/>
              <a:ext cx="61272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740640" y="2960640"/>
              <a:ext cx="82872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6740640" y="195264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811920" y="2131920"/>
              <a:ext cx="1295280" cy="612720"/>
            </a:xfrm>
            <a:custGeom>
              <a:avLst/>
              <a:gdLst/>
              <a:ahLst/>
              <a:rect l="l" t="t" r="r" b="b"/>
              <a:pathLst>
                <a:path w="816" h="386">
                  <a:moveTo>
                    <a:pt x="0" y="386"/>
                  </a:moveTo>
                  <a:cubicBezTo>
                    <a:pt x="70" y="321"/>
                    <a:pt x="140" y="257"/>
                    <a:pt x="227" y="204"/>
                  </a:cubicBezTo>
                  <a:cubicBezTo>
                    <a:pt x="314" y="151"/>
                    <a:pt x="424" y="102"/>
                    <a:pt x="522" y="68"/>
                  </a:cubicBezTo>
                  <a:cubicBezTo>
                    <a:pt x="620" y="34"/>
                    <a:pt x="767" y="11"/>
                    <a:pt x="81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7172280" y="1987200"/>
              <a:ext cx="79236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15200" y="249228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,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172280" y="2384280"/>
              <a:ext cx="108000" cy="1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4" name=""/>
                <p:cNvSpPr txBox="1"/>
                <p:nvPr/>
              </p:nvSpPr>
              <p:spPr>
                <a:xfrm>
                  <a:off x="7675560" y="1663560"/>
                  <a:ext cx="26352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35" name=""/>
            <p:cNvSpPr/>
            <p:nvPr/>
          </p:nvSpPr>
          <p:spPr>
            <a:xfrm>
              <a:off x="7199280" y="1736640"/>
              <a:ext cx="0" cy="6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6" name=""/>
                <p:cNvSpPr txBox="1"/>
                <p:nvPr/>
              </p:nvSpPr>
              <p:spPr>
                <a:xfrm>
                  <a:off x="6983280" y="1484280"/>
                  <a:ext cx="406440" cy="20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+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37" name=""/>
            <p:cNvSpPr/>
            <p:nvPr/>
          </p:nvSpPr>
          <p:spPr>
            <a:xfrm flipV="1">
              <a:off x="6732720" y="2491920"/>
              <a:ext cx="43164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8" name=""/>
                <p:cNvSpPr txBox="1"/>
                <p:nvPr/>
              </p:nvSpPr>
              <p:spPr>
                <a:xfrm>
                  <a:off x="6985080" y="2673360"/>
                  <a:ext cx="222120" cy="28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39" name=""/>
            <p:cNvSpPr/>
            <p:nvPr/>
          </p:nvSpPr>
          <p:spPr>
            <a:xfrm>
              <a:off x="6624720" y="30337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832360" y="3755880"/>
            <a:ext cx="2663640" cy="3103560"/>
            <a:chOff x="5832360" y="3755880"/>
            <a:chExt cx="2663640" cy="3103560"/>
          </a:xfrm>
        </p:grpSpPr>
        <p:sp>
          <p:nvSpPr>
            <p:cNvPr id="141" name=""/>
            <p:cNvSpPr/>
            <p:nvPr/>
          </p:nvSpPr>
          <p:spPr>
            <a:xfrm>
              <a:off x="7632720" y="4727520"/>
              <a:ext cx="86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2" name=""/>
                <p:cNvSpPr txBox="1"/>
                <p:nvPr/>
              </p:nvSpPr>
              <p:spPr>
                <a:xfrm>
                  <a:off x="7632720" y="5591160"/>
                  <a:ext cx="29664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43" name=""/>
            <p:cNvSpPr/>
            <p:nvPr/>
          </p:nvSpPr>
          <p:spPr>
            <a:xfrm flipH="1">
              <a:off x="5832360" y="5987880"/>
              <a:ext cx="684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516360" y="5987880"/>
              <a:ext cx="68292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6516360" y="4583160"/>
              <a:ext cx="0" cy="14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632720" y="602280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12000" y="508788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632720" y="4222800"/>
              <a:ext cx="17928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064360" y="523224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61080" y="5519880"/>
              <a:ext cx="10800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7561080" y="5375160"/>
              <a:ext cx="5032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7056360" y="5231880"/>
              <a:ext cx="50472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343640" y="375588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24360" y="465624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53080" y="50515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6" name=""/>
                <p:cNvSpPr txBox="1"/>
                <p:nvPr/>
              </p:nvSpPr>
              <p:spPr>
                <a:xfrm>
                  <a:off x="7235640" y="5051520"/>
                  <a:ext cx="271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57" name=""/>
            <p:cNvSpPr/>
            <p:nvPr/>
          </p:nvSpPr>
          <p:spPr>
            <a:xfrm>
              <a:off x="6516360" y="5987880"/>
              <a:ext cx="111636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6553080" y="5519880"/>
              <a:ext cx="1008000" cy="4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9" name=""/>
                <p:cNvSpPr txBox="1"/>
                <p:nvPr/>
              </p:nvSpPr>
              <p:spPr>
                <a:xfrm>
                  <a:off x="7127640" y="6059520"/>
                  <a:ext cx="190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0" name=""/>
                <p:cNvSpPr txBox="1"/>
                <p:nvPr/>
              </p:nvSpPr>
              <p:spPr>
                <a:xfrm>
                  <a:off x="6840360" y="5448240"/>
                  <a:ext cx="22068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61" name=""/>
            <p:cNvSpPr/>
            <p:nvPr/>
          </p:nvSpPr>
          <p:spPr>
            <a:xfrm>
              <a:off x="6984720" y="5195880"/>
              <a:ext cx="75564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772400" y="5362560"/>
              <a:ext cx="355320" cy="736560"/>
            </a:xfrm>
            <a:custGeom>
              <a:avLst/>
              <a:gdLst/>
              <a:ahLst/>
              <a:rect l="l" t="t" r="r" b="b"/>
              <a:pathLst>
                <a:path w="224" h="464">
                  <a:moveTo>
                    <a:pt x="0" y="464"/>
                  </a:moveTo>
                  <a:cubicBezTo>
                    <a:pt x="15" y="420"/>
                    <a:pt x="46" y="383"/>
                    <a:pt x="72" y="344"/>
                  </a:cubicBezTo>
                  <a:cubicBezTo>
                    <a:pt x="97" y="306"/>
                    <a:pt x="95" y="335"/>
                    <a:pt x="112" y="296"/>
                  </a:cubicBezTo>
                  <a:cubicBezTo>
                    <a:pt x="143" y="225"/>
                    <a:pt x="147" y="117"/>
                    <a:pt x="200" y="64"/>
                  </a:cubicBezTo>
                  <a:cubicBezTo>
                    <a:pt x="208" y="41"/>
                    <a:pt x="224" y="24"/>
                    <a:pt x="22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6984720" y="4295880"/>
              <a:ext cx="68436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704000" y="4295880"/>
              <a:ext cx="4316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011640" y="649116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235640" y="645624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624360" y="42591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8" name=""/>
                <p:cNvSpPr txBox="1"/>
                <p:nvPr/>
              </p:nvSpPr>
              <p:spPr>
                <a:xfrm>
                  <a:off x="7694640" y="5087880"/>
                  <a:ext cx="31716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69" name=""/>
            <p:cNvSpPr/>
            <p:nvPr/>
          </p:nvSpPr>
          <p:spPr>
            <a:xfrm flipV="1">
              <a:off x="6516360" y="5267160"/>
              <a:ext cx="432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0" name=""/>
                <p:cNvSpPr txBox="1"/>
                <p:nvPr/>
              </p:nvSpPr>
              <p:spPr>
                <a:xfrm>
                  <a:off x="6562440" y="5222880"/>
                  <a:ext cx="22860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71" name=""/>
            <p:cNvSpPr/>
            <p:nvPr/>
          </p:nvSpPr>
          <p:spPr>
            <a:xfrm>
              <a:off x="6119640" y="4944960"/>
              <a:ext cx="792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2" name=""/>
                <p:cNvSpPr txBox="1"/>
                <p:nvPr/>
              </p:nvSpPr>
              <p:spPr>
                <a:xfrm>
                  <a:off x="5903640" y="5052960"/>
                  <a:ext cx="507960" cy="24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3" name=""/>
          <p:cNvSpPr/>
          <p:nvPr/>
        </p:nvSpPr>
        <p:spPr>
          <a:xfrm>
            <a:off x="324000" y="4221000"/>
            <a:ext cx="63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2. SISTEM MATERIJALNIH TAČ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539640" y="4761000"/>
                <a:ext cx="5256360" cy="19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f>
                          <m:num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SV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UV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×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limLow>
                              <m:e>
                                <m:groupChr>
                                  <m:groupChrPr>
                                    <m:chr m:val="⏟"/>
                                    <m:pos m:val="bot"/>
                                    <m:vertJc m:val="top"/>
                                  </m:groupChr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groupChr>
                              </m:e>
                              <m:lim>
                                <m:r>
                                  <m:t xml:space="preserve">0</m:t>
                                </m:r>
                              </m:lim>
                            </m:limLow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ON O PROMENI MOMENTA KO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39640" y="1557360"/>
                <a:ext cx="7272360" cy="419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SV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UV</m:t>
                                </m:r>
                              </m:sub>
                            </m:sSub>
                          </m:e>
                        </m:d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ABIRAMO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O</m:t>
                        </m:r>
                        <m:r>
                          <m:t xml:space="preserve">⋅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SV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UV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SV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SV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ON O PROMENI MOMENTA KO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503280" y="1484280"/>
                <a:ext cx="7129440" cy="20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</m:d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r>
                                  <m:t xml:space="preserve">m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6087960" y="1600200"/>
                <a:ext cx="1157400" cy="21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39640" y="3564000"/>
                <a:ext cx="5256360" cy="32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m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</m:e>
                      <m:e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d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t</m:t>
                                        </m:r>
                                      </m:den>
                                    </m:f>
                                    <m:r>
                                      <m:t xml:space="preserve">m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D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2808360" y="6165720"/>
            <a:ext cx="52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IF. OBLIK ZAKONA O PROMENI MOMENTA KOLIČINE KRET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ON O PROMENI MOMENTA KO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576360" y="1628640"/>
                <a:ext cx="10225080" cy="296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←</m:t>
                        </m:r>
                        <m:r>
                          <m:t xml:space="preserve">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ODNOS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EPOKRETN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ACKU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ZAKON</m:t>
                        </m:r>
                        <m:r>
                          <m:t xml:space="preserve">⋅</m:t>
                        </m:r>
                        <m:r>
                          <m:t xml:space="preserve">O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ROMEN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MOMENT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OLICIN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RETANJA</m:t>
                        </m:r>
                        <m:r>
                          <m:t xml:space="preserve">⋅</m:t>
                        </m:r>
                        <m:r>
                          <m:t xml:space="preserve">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ONACNOM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OBLIKU</m:t>
                        </m:r>
                        <m:r>
                          <m:t xml:space="preserve">:</m:t>
                        </m:r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H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bSup>
                          </m:e>
                        </m:nary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H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bSup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ON O PROMENI MOMENTA KO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3. KRUTO T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4751280" y="1557360"/>
            <a:ext cx="3276000" cy="2958840"/>
            <a:chOff x="4751280" y="1557360"/>
            <a:chExt cx="3276000" cy="2958840"/>
          </a:xfrm>
        </p:grpSpPr>
        <mc:AlternateContent>
          <mc:Choice xmlns:a14="http://schemas.microsoft.com/office/drawing/2010/main" Requires="a14">
            <p:sp>
              <p:nvSpPr>
                <p:cNvPr id="187" name=""/>
                <p:cNvSpPr txBox="1"/>
                <p:nvPr/>
              </p:nvSpPr>
              <p:spPr>
                <a:xfrm>
                  <a:off x="5687640" y="2746080"/>
                  <a:ext cx="338400" cy="39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8" name=""/>
                <p:cNvSpPr txBox="1"/>
                <p:nvPr/>
              </p:nvSpPr>
              <p:spPr>
                <a:xfrm>
                  <a:off x="7596000" y="2817720"/>
                  <a:ext cx="271440" cy="39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89" name=""/>
            <p:cNvSpPr/>
            <p:nvPr/>
          </p:nvSpPr>
          <p:spPr>
            <a:xfrm flipH="1">
              <a:off x="4751280" y="3716280"/>
              <a:ext cx="900000" cy="64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651280" y="3716280"/>
              <a:ext cx="971640" cy="72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5651280" y="2312640"/>
              <a:ext cx="0" cy="14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986080" y="2057400"/>
              <a:ext cx="1433520" cy="1636200"/>
            </a:xfrm>
            <a:custGeom>
              <a:avLst/>
              <a:gdLst/>
              <a:ahLst/>
              <a:rect l="l" t="t" r="r" b="b"/>
              <a:pathLst>
                <a:path w="903" h="1031">
                  <a:moveTo>
                    <a:pt x="399" y="38"/>
                  </a:moveTo>
                  <a:cubicBezTo>
                    <a:pt x="358" y="28"/>
                    <a:pt x="347" y="21"/>
                    <a:pt x="303" y="30"/>
                  </a:cubicBezTo>
                  <a:cubicBezTo>
                    <a:pt x="268" y="47"/>
                    <a:pt x="231" y="64"/>
                    <a:pt x="199" y="86"/>
                  </a:cubicBezTo>
                  <a:cubicBezTo>
                    <a:pt x="188" y="118"/>
                    <a:pt x="171" y="139"/>
                    <a:pt x="151" y="166"/>
                  </a:cubicBezTo>
                  <a:cubicBezTo>
                    <a:pt x="136" y="211"/>
                    <a:pt x="108" y="252"/>
                    <a:pt x="87" y="294"/>
                  </a:cubicBezTo>
                  <a:cubicBezTo>
                    <a:pt x="70" y="327"/>
                    <a:pt x="70" y="370"/>
                    <a:pt x="63" y="406"/>
                  </a:cubicBezTo>
                  <a:cubicBezTo>
                    <a:pt x="67" y="593"/>
                    <a:pt x="0" y="753"/>
                    <a:pt x="151" y="854"/>
                  </a:cubicBezTo>
                  <a:cubicBezTo>
                    <a:pt x="197" y="923"/>
                    <a:pt x="136" y="842"/>
                    <a:pt x="191" y="886"/>
                  </a:cubicBezTo>
                  <a:cubicBezTo>
                    <a:pt x="199" y="892"/>
                    <a:pt x="201" y="903"/>
                    <a:pt x="207" y="910"/>
                  </a:cubicBezTo>
                  <a:cubicBezTo>
                    <a:pt x="214" y="919"/>
                    <a:pt x="222" y="927"/>
                    <a:pt x="231" y="934"/>
                  </a:cubicBezTo>
                  <a:cubicBezTo>
                    <a:pt x="261" y="957"/>
                    <a:pt x="295" y="977"/>
                    <a:pt x="327" y="998"/>
                  </a:cubicBezTo>
                  <a:cubicBezTo>
                    <a:pt x="353" y="1016"/>
                    <a:pt x="393" y="1012"/>
                    <a:pt x="423" y="1022"/>
                  </a:cubicBezTo>
                  <a:cubicBezTo>
                    <a:pt x="600" y="1013"/>
                    <a:pt x="532" y="1031"/>
                    <a:pt x="631" y="998"/>
                  </a:cubicBezTo>
                  <a:cubicBezTo>
                    <a:pt x="657" y="989"/>
                    <a:pt x="711" y="982"/>
                    <a:pt x="711" y="982"/>
                  </a:cubicBezTo>
                  <a:cubicBezTo>
                    <a:pt x="737" y="969"/>
                    <a:pt x="766" y="956"/>
                    <a:pt x="791" y="942"/>
                  </a:cubicBezTo>
                  <a:cubicBezTo>
                    <a:pt x="808" y="933"/>
                    <a:pt x="823" y="921"/>
                    <a:pt x="839" y="910"/>
                  </a:cubicBezTo>
                  <a:cubicBezTo>
                    <a:pt x="847" y="905"/>
                    <a:pt x="863" y="894"/>
                    <a:pt x="863" y="894"/>
                  </a:cubicBezTo>
                  <a:cubicBezTo>
                    <a:pt x="889" y="854"/>
                    <a:pt x="888" y="811"/>
                    <a:pt x="903" y="766"/>
                  </a:cubicBezTo>
                  <a:cubicBezTo>
                    <a:pt x="891" y="446"/>
                    <a:pt x="899" y="622"/>
                    <a:pt x="879" y="238"/>
                  </a:cubicBezTo>
                  <a:cubicBezTo>
                    <a:pt x="878" y="222"/>
                    <a:pt x="880" y="203"/>
                    <a:pt x="871" y="190"/>
                  </a:cubicBezTo>
                  <a:cubicBezTo>
                    <a:pt x="854" y="166"/>
                    <a:pt x="823" y="158"/>
                    <a:pt x="799" y="142"/>
                  </a:cubicBezTo>
                  <a:cubicBezTo>
                    <a:pt x="780" y="129"/>
                    <a:pt x="767" y="110"/>
                    <a:pt x="751" y="94"/>
                  </a:cubicBezTo>
                  <a:cubicBezTo>
                    <a:pt x="726" y="69"/>
                    <a:pt x="687" y="65"/>
                    <a:pt x="655" y="54"/>
                  </a:cubicBezTo>
                  <a:cubicBezTo>
                    <a:pt x="631" y="46"/>
                    <a:pt x="607" y="38"/>
                    <a:pt x="583" y="30"/>
                  </a:cubicBezTo>
                  <a:cubicBezTo>
                    <a:pt x="567" y="25"/>
                    <a:pt x="535" y="14"/>
                    <a:pt x="535" y="14"/>
                  </a:cubicBezTo>
                  <a:cubicBezTo>
                    <a:pt x="403" y="30"/>
                    <a:pt x="437" y="0"/>
                    <a:pt x="399" y="38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6514920" y="3392280"/>
              <a:ext cx="21600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732360" y="3392280"/>
              <a:ext cx="104292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 flipV="1">
              <a:off x="6011640" y="2096640"/>
              <a:ext cx="719280" cy="129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5651280" y="3391920"/>
              <a:ext cx="107964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6730920" y="2599920"/>
              <a:ext cx="215640" cy="82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751280" y="386064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659280" y="41479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256000" y="220500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264000" y="3716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596000" y="328428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046560" y="1773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4" name=""/>
                <p:cNvSpPr txBox="1"/>
                <p:nvPr/>
              </p:nvSpPr>
              <p:spPr>
                <a:xfrm>
                  <a:off x="5838480" y="3276360"/>
                  <a:ext cx="203400" cy="30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5" name=""/>
                <p:cNvSpPr txBox="1"/>
                <p:nvPr/>
              </p:nvSpPr>
              <p:spPr>
                <a:xfrm>
                  <a:off x="6872040" y="2833560"/>
                  <a:ext cx="317520" cy="35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06" name=""/>
            <p:cNvSpPr/>
            <p:nvPr/>
          </p:nvSpPr>
          <p:spPr>
            <a:xfrm>
              <a:off x="6480000" y="223992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406920" y="310500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6911640" y="2062080"/>
              <a:ext cx="757440" cy="53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7162200" y="3286080"/>
              <a:ext cx="86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795640" y="2673000"/>
              <a:ext cx="53964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1" name=""/>
                <p:cNvSpPr txBox="1"/>
                <p:nvPr/>
              </p:nvSpPr>
              <p:spPr>
                <a:xfrm>
                  <a:off x="7198920" y="1557360"/>
                  <a:ext cx="40644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24000" y="2313000"/>
                <a:ext cx="5148000" cy="15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</m:e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limUp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lim/>
                            </m:limUpp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58920" y="4221000"/>
                <a:ext cx="6192720" cy="236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/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Sup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bSup>
                            <m:r>
                              <m:t xml:space="preserve">,</m:t>
                            </m:r>
                            <m:sSubSup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bSup>
                            <m:r>
                              <m:t xml:space="preserve">,</m:t>
                            </m:r>
                            <m:sSubSup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bSup>
                          </m:e>
                        </m:d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</m:d>
                                    </m:sup>
                                  </m:sSubSup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ω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Sup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  <m:sup>
                                          <m:d>
                                            <m:dPr>
                                              <m:begChr m:val="("/>
                                              <m:endChr m:val=")"/>
                                            </m:dPr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</m:d>
                                        </m:sup>
                                      </m:sSubSup>
                                      <m:r>
                                        <m:t xml:space="preserve">−</m:t>
                                      </m:r>
                                      <m:sSubSup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3</m:t>
                                          </m:r>
                                        </m:sub>
                                        <m:sup>
                                          <m:d>
                                            <m:dPr>
                                              <m:begChr m:val="("/>
                                              <m:endChr m:val=")"/>
                                            </m:dPr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</m:d>
                                        </m:sup>
                                      </m:sSubSup>
                                    </m:e>
                                  </m:d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bSup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</m:d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</m:d>
                                    </m:sup>
                                  </m:sSubSup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ω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Sup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3</m:t>
                                          </m:r>
                                        </m:sub>
                                        <m:sup>
                                          <m:d>
                                            <m:dPr>
                                              <m:begChr m:val="("/>
                                              <m:endChr m:val=")"/>
                                            </m:dPr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</m:d>
                                        </m:sup>
                                      </m:sSubSup>
                                      <m:r>
                                        <m:t xml:space="preserve">−</m:t>
                                      </m:r>
                                      <m:sSubSup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  <m:sup>
                                          <m:d>
                                            <m:dPr>
                                              <m:begChr m:val="("/>
                                              <m:endChr m:val=")"/>
                                            </m:dPr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</m:d>
                                        </m:sup>
                                      </m:sSubSup>
                                    </m:e>
                                  </m:d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bSup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</m:d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</m:d>
                                    </m:sup>
                                  </m:sSubSup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ω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Sup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  <m:sup>
                                          <m:d>
                                            <m:dPr>
                                              <m:begChr m:val="("/>
                                              <m:endChr m:val=")"/>
                                            </m:dPr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</m:d>
                                        </m:sup>
                                      </m:sSubSup>
                                      <m:r>
                                        <m:t xml:space="preserve">−</m:t>
                                      </m:r>
                                      <m:sSubSup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  <m:sup>
                                          <m:d>
                                            <m:dPr>
                                              <m:begChr m:val="("/>
                                              <m:endChr m:val=")"/>
                                            </m:dPr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</m:d>
                                        </m:sup>
                                      </m:sSubSup>
                                    </m:e>
                                  </m:d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bSup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</m:d>
                                    </m:sup>
                                  </m:sSubSup>
                                </m:e>
                              </m:mr>
                            </m:m>
                          </m:e>
                        </m:d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  <m:r>
                          <m:t xml:space="preserve">)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EULEROV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JEDNACIN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DN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 KRUTOG T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5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Jednačine (I) i (II) predstavljaju potpun sistem diferencijalnih jednačina kretan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KO TELO IMA NEPOKRETNU TAČKU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TADA SE DIF. J. KRETANJA SVODE N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792000" y="3720960"/>
                <a:ext cx="5040360" cy="171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</m:d>
                                    </m:sup>
                                  </m:sSubSup>
                                  <m:r>
                                    <m:t xml:space="preserve">−</m:t>
                                  </m:r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</m:d>
                                    </m:sup>
                                  </m:sSubSup>
                                </m:e>
                              </m:d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Sup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</m:d>
                                    </m:sup>
                                  </m:sSubSup>
                                  <m:r>
                                    <m:t xml:space="preserve">−</m:t>
                                  </m:r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</m:d>
                                    </m:sup>
                                  </m:sSubSup>
                                </m:e>
                              </m:d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Sup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</m:d>
                                    </m:sup>
                                  </m:sSubSup>
                                  <m:r>
                                    <m:t xml:space="preserve">−</m:t>
                                  </m:r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</m:d>
                                    </m:sup>
                                  </m:sSubSup>
                                </m:e>
                              </m:d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Sup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755640" y="5697360"/>
            <a:ext cx="756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=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t); y=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t); z=z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t);   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t);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t);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t)←KONA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ČNE JED.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ZAKON O PROMENI KINETIČKE ENERG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792000" y="1268280"/>
                <a:ext cx="8352000" cy="111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p>
                        </m:sSup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ZAKON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ODRZANJ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NERGIJ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6-11-26T11:43:56Z</dcterms:modified>
  <cp:revision>535</cp:revision>
  <dc:subject/>
  <dc:title>ТЕХНИЧКА МЕХАНИКА 2</dc:title>
</cp:coreProperties>
</file>