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FF27-EF3E-4B1C-B795-ED919621F17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E438-B64F-404B-8656-8D751D90C2F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59A-A1BE-406E-8C1A-5A783487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BA1-DF68-4D9B-BE65-CA4CF9B9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92F-3F49-4361-81D0-9FD01434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B1F-7731-4C34-81A1-1F987715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66E-05D1-4EAC-919B-B43D55C8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6CC-73EC-42AA-BF2A-D6F86A0F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38E-85F5-407C-BE5E-43038E6A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A98-22B3-45C0-B432-DA6DF0D4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E5F-B795-4664-8F87-DA4BD8AC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26E-349F-4E3B-B412-527B65B6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851-FF58-488C-A3FB-CF849048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300-69D0-42A1-945C-5FF257CB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1D70-5329-4EB3-A589-C1A078821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I MASE DRUGOG RE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MENTI INERCIJE M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efiniciji ima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7"/>
          <p:cNvGraphicFramePr/>
          <p:nvPr/>
        </p:nvGraphicFramePr>
        <p:xfrm>
          <a:off x="826920" y="2282760"/>
          <a:ext cx="576108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2760"/>
                    <a:ext cx="57610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7"/>
          <p:cNvSpPr/>
          <p:nvPr/>
        </p:nvSpPr>
        <p:spPr>
          <a:xfrm>
            <a:off x="755640" y="19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1042920" y="2421000"/>
            <a:ext cx="23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8"/>
          <p:cNvGrpSpPr/>
          <p:nvPr/>
        </p:nvGrpSpPr>
        <p:grpSpPr>
          <a:xfrm>
            <a:off x="6048360" y="1413000"/>
            <a:ext cx="1978200" cy="3025800"/>
            <a:chOff x="6048360" y="1413000"/>
            <a:chExt cx="1978200" cy="3025800"/>
          </a:xfrm>
        </p:grpSpPr>
        <p:sp>
          <p:nvSpPr>
            <p:cNvPr id="55" name="Freeform 49"/>
            <p:cNvSpPr/>
            <p:nvPr/>
          </p:nvSpPr>
          <p:spPr>
            <a:xfrm>
              <a:off x="6192720" y="1989000"/>
              <a:ext cx="1470240" cy="2129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0"/>
            <p:cNvSpPr/>
            <p:nvPr/>
          </p:nvSpPr>
          <p:spPr>
            <a:xfrm flipH="1">
              <a:off x="6156000" y="3753000"/>
              <a:ext cx="755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1"/>
            <p:cNvSpPr/>
            <p:nvPr/>
          </p:nvSpPr>
          <p:spPr>
            <a:xfrm>
              <a:off x="6912000" y="3753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2"/>
            <p:cNvSpPr/>
            <p:nvPr/>
          </p:nvSpPr>
          <p:spPr>
            <a:xfrm>
              <a:off x="6912000" y="3753000"/>
              <a:ext cx="431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3"/>
            <p:cNvSpPr/>
            <p:nvPr/>
          </p:nvSpPr>
          <p:spPr>
            <a:xfrm flipV="1">
              <a:off x="6912000" y="1521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4"/>
            <p:cNvSpPr/>
            <p:nvPr/>
          </p:nvSpPr>
          <p:spPr>
            <a:xfrm flipH="1" flipV="1">
              <a:off x="6084720" y="1736280"/>
              <a:ext cx="82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5"/>
            <p:cNvSpPr/>
            <p:nvPr/>
          </p:nvSpPr>
          <p:spPr>
            <a:xfrm>
              <a:off x="7308720" y="2421000"/>
              <a:ext cx="28908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6"/>
            <p:cNvSpPr/>
            <p:nvPr/>
          </p:nvSpPr>
          <p:spPr>
            <a:xfrm>
              <a:off x="6912000" y="2565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6912000" y="2565360"/>
              <a:ext cx="21600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8"/>
            <p:cNvSpPr/>
            <p:nvPr/>
          </p:nvSpPr>
          <p:spPr>
            <a:xfrm>
              <a:off x="6985080" y="2637000"/>
              <a:ext cx="349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9"/>
            <p:cNvSpPr/>
            <p:nvPr/>
          </p:nvSpPr>
          <p:spPr>
            <a:xfrm>
              <a:off x="6948360" y="2133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0"/>
            <p:cNvSpPr/>
            <p:nvPr/>
          </p:nvSpPr>
          <p:spPr>
            <a:xfrm>
              <a:off x="7667640" y="22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1"/>
            <p:cNvSpPr/>
            <p:nvPr/>
          </p:nvSpPr>
          <p:spPr>
            <a:xfrm>
              <a:off x="6048360" y="386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2"/>
            <p:cNvSpPr/>
            <p:nvPr/>
          </p:nvSpPr>
          <p:spPr>
            <a:xfrm>
              <a:off x="7667640" y="33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64"/>
            <p:cNvSpPr/>
            <p:nvPr/>
          </p:nvSpPr>
          <p:spPr>
            <a:xfrm>
              <a:off x="6227640" y="152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65"/>
                <p:cNvSpPr txBox="1"/>
                <p:nvPr/>
              </p:nvSpPr>
              <p:spPr>
                <a:xfrm>
                  <a:off x="6985080" y="1413000"/>
                  <a:ext cx="279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67"/>
                <p:cNvSpPr txBox="1"/>
                <p:nvPr/>
              </p:nvSpPr>
              <p:spPr>
                <a:xfrm>
                  <a:off x="7380360" y="4149720"/>
                  <a:ext cx="2682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m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smo odredili glavne pravce, polazimo od jed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755640" y="2565360"/>
                <a:ext cx="550872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7" name="Group 19"/>
          <p:cNvGrpSpPr/>
          <p:nvPr/>
        </p:nvGrpSpPr>
        <p:grpSpPr>
          <a:xfrm>
            <a:off x="6588000" y="3789360"/>
            <a:ext cx="2044800" cy="2303640"/>
            <a:chOff x="6588000" y="3789360"/>
            <a:chExt cx="2044800" cy="2303640"/>
          </a:xfrm>
        </p:grpSpPr>
        <p:sp>
          <p:nvSpPr>
            <p:cNvPr id="138" name="Line 6"/>
            <p:cNvSpPr/>
            <p:nvPr/>
          </p:nvSpPr>
          <p:spPr>
            <a:xfrm flipH="1">
              <a:off x="6695640" y="5229360"/>
              <a:ext cx="86364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559640" y="5229360"/>
              <a:ext cx="86508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7559640" y="38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559640" y="522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7559640" y="4868640"/>
              <a:ext cx="865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6877080" y="4436640"/>
              <a:ext cx="6825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6588000" y="5337000"/>
                  <a:ext cx="2444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4"/>
                <p:cNvSpPr txBox="1"/>
                <p:nvPr/>
              </p:nvSpPr>
              <p:spPr>
                <a:xfrm>
                  <a:off x="7596360" y="5734080"/>
                  <a:ext cx="446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5"/>
                <p:cNvSpPr txBox="1"/>
                <p:nvPr/>
              </p:nvSpPr>
              <p:spPr>
                <a:xfrm>
                  <a:off x="8045280" y="4483080"/>
                  <a:ext cx="484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6"/>
                <p:cNvSpPr txBox="1"/>
                <p:nvPr/>
              </p:nvSpPr>
              <p:spPr>
                <a:xfrm>
                  <a:off x="6892920" y="4149720"/>
                  <a:ext cx="4842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7"/>
                <p:cNvSpPr txBox="1"/>
                <p:nvPr/>
              </p:nvSpPr>
              <p:spPr>
                <a:xfrm>
                  <a:off x="8388360" y="5302080"/>
                  <a:ext cx="244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8"/>
                <p:cNvSpPr txBox="1"/>
                <p:nvPr/>
              </p:nvSpPr>
              <p:spPr>
                <a:xfrm>
                  <a:off x="7572240" y="3789360"/>
                  <a:ext cx="293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AJGENS-ŠTAJNEROVA TEO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re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m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826920" y="2313000"/>
                <a:ext cx="1892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η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ζ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900000" y="2637000"/>
                <a:ext cx="586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η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Line 15"/>
          <p:cNvSpPr/>
          <p:nvPr/>
        </p:nvSpPr>
        <p:spPr>
          <a:xfrm flipV="1">
            <a:off x="4284720" y="2421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076720" y="2420640"/>
            <a:ext cx="4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826920" y="3213000"/>
                <a:ext cx="2052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ξ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ζ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240000" y="3213000"/>
                <a:ext cx="1548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ξη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ηζ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ζξ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58" name="Group 35"/>
          <p:cNvGrpSpPr/>
          <p:nvPr/>
        </p:nvGrpSpPr>
        <p:grpSpPr>
          <a:xfrm>
            <a:off x="6695640" y="1324080"/>
            <a:ext cx="2234160" cy="3365280"/>
            <a:chOff x="6695640" y="1324080"/>
            <a:chExt cx="2234160" cy="3365280"/>
          </a:xfrm>
        </p:grpSpPr>
        <p:sp>
          <p:nvSpPr>
            <p:cNvPr id="159" name="Freeform 19"/>
            <p:cNvSpPr/>
            <p:nvPr/>
          </p:nvSpPr>
          <p:spPr>
            <a:xfrm>
              <a:off x="7281720" y="2449440"/>
              <a:ext cx="1481400" cy="1728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 flipH="1">
              <a:off x="6695640" y="378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7775640" y="382428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7380360" y="184464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101080" y="328464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6985080" y="3284640"/>
              <a:ext cx="107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H="1" flipV="1">
              <a:off x="7705800" y="134136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27"/>
                <p:cNvSpPr txBox="1"/>
                <p:nvPr/>
              </p:nvSpPr>
              <p:spPr>
                <a:xfrm>
                  <a:off x="6732720" y="3824280"/>
                  <a:ext cx="180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28"/>
                <p:cNvSpPr txBox="1"/>
                <p:nvPr/>
              </p:nvSpPr>
              <p:spPr>
                <a:xfrm>
                  <a:off x="7434360" y="1736640"/>
                  <a:ext cx="217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9"/>
                <p:cNvSpPr txBox="1"/>
                <p:nvPr/>
              </p:nvSpPr>
              <p:spPr>
                <a:xfrm>
                  <a:off x="8496360" y="4356000"/>
                  <a:ext cx="18108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30"/>
                <p:cNvSpPr txBox="1"/>
                <p:nvPr/>
              </p:nvSpPr>
              <p:spPr>
                <a:xfrm>
                  <a:off x="7765920" y="1324080"/>
                  <a:ext cx="236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8712360" y="3726000"/>
                  <a:ext cx="217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32"/>
                <p:cNvSpPr txBox="1"/>
                <p:nvPr/>
              </p:nvSpPr>
              <p:spPr>
                <a:xfrm>
                  <a:off x="6985080" y="3303720"/>
                  <a:ext cx="217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33"/>
            <p:cNvSpPr/>
            <p:nvPr/>
          </p:nvSpPr>
          <p:spPr>
            <a:xfrm>
              <a:off x="7920000" y="36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8244000" y="299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863640" y="5049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JUS INER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7"/>
              <p:cNvSpPr txBox="1"/>
              <p:nvPr/>
            </p:nvSpPr>
            <p:spPr>
              <a:xfrm>
                <a:off x="1008000" y="5697360"/>
                <a:ext cx="2700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6" name="Group 45"/>
          <p:cNvGrpSpPr/>
          <p:nvPr/>
        </p:nvGrpSpPr>
        <p:grpSpPr>
          <a:xfrm>
            <a:off x="4464000" y="5165640"/>
            <a:ext cx="2412720" cy="1692360"/>
            <a:chOff x="4464000" y="5165640"/>
            <a:chExt cx="2412720" cy="1692360"/>
          </a:xfrm>
        </p:grpSpPr>
        <p:sp>
          <p:nvSpPr>
            <p:cNvPr id="177" name="Rectangle 38"/>
            <p:cNvSpPr/>
            <p:nvPr/>
          </p:nvSpPr>
          <p:spPr>
            <a:xfrm>
              <a:off x="5003640" y="5489280"/>
              <a:ext cx="252360" cy="126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5003640" y="6497640"/>
              <a:ext cx="1225440" cy="2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0"/>
            <p:cNvSpPr/>
            <p:nvPr/>
          </p:nvSpPr>
          <p:spPr>
            <a:xfrm flipV="1">
              <a:off x="4860720" y="5597280"/>
              <a:ext cx="12952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2"/>
            <p:cNvSpPr/>
            <p:nvPr/>
          </p:nvSpPr>
          <p:spPr>
            <a:xfrm flipH="1" flipV="1">
              <a:off x="4679280" y="5526000"/>
              <a:ext cx="1297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6229080" y="5454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464000" y="5165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6"/>
          <p:cNvSpPr/>
          <p:nvPr/>
        </p:nvSpPr>
        <p:spPr>
          <a:xfrm>
            <a:off x="826920" y="454500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STVENI     POL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1403280" y="42926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2411280" y="4292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)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5256360" y="1341360"/>
            <a:ext cx="3311280" cy="1657080"/>
            <a:chOff x="5256360" y="1341360"/>
            <a:chExt cx="3311280" cy="165708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5256360" y="1954080"/>
                  <a:ext cx="1284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647640" y="3753000"/>
                <a:ext cx="3384720" cy="23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/>
                        </m:limLow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Text Box 17"/>
          <p:cNvSpPr/>
          <p:nvPr/>
        </p:nvSpPr>
        <p:spPr>
          <a:xfrm>
            <a:off x="934920" y="6237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lan (*) je jednak nuli pod sledećim uslov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0"/>
          <p:cNvGrpSpPr/>
          <p:nvPr/>
        </p:nvGrpSpPr>
        <p:grpSpPr>
          <a:xfrm>
            <a:off x="5471640" y="3429000"/>
            <a:ext cx="3170880" cy="2743200"/>
            <a:chOff x="5471640" y="3429000"/>
            <a:chExt cx="3170880" cy="2743200"/>
          </a:xfrm>
        </p:grpSpPr>
        <p:sp>
          <p:nvSpPr>
            <p:cNvPr id="201" name="Line 18"/>
            <p:cNvSpPr/>
            <p:nvPr/>
          </p:nvSpPr>
          <p:spPr>
            <a:xfrm flipH="1">
              <a:off x="5471640" y="5371920"/>
              <a:ext cx="900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6372360" y="5371920"/>
              <a:ext cx="97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6372360" y="3968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7160" y="371304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7235640" y="5048280"/>
              <a:ext cx="215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7453440" y="5048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 flipH="1" flipV="1">
              <a:off x="6732360" y="3752280"/>
              <a:ext cx="7189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 flipV="1">
              <a:off x="6372360" y="5047920"/>
              <a:ext cx="10792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6"/>
            <p:cNvSpPr/>
            <p:nvPr/>
          </p:nvSpPr>
          <p:spPr>
            <a:xfrm>
              <a:off x="7596360" y="403992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 flipV="1">
              <a:off x="7451640" y="425592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5472000" y="55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7380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59770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98508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317080" y="494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676764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34"/>
                <p:cNvSpPr txBox="1"/>
                <p:nvPr/>
              </p:nvSpPr>
              <p:spPr>
                <a:xfrm>
                  <a:off x="6551640" y="4940280"/>
                  <a:ext cx="2188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5"/>
                <p:cNvSpPr txBox="1"/>
                <p:nvPr/>
              </p:nvSpPr>
              <p:spPr>
                <a:xfrm>
                  <a:off x="7632720" y="450828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6"/>
            <p:cNvSpPr/>
            <p:nvPr/>
          </p:nvSpPr>
          <p:spPr>
            <a:xfrm>
              <a:off x="7201080" y="38955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7993080" y="35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AutoShape 38"/>
            <p:cNvCxnSpPr>
              <a:stCxn id="220" idx="1"/>
              <a:endCxn id="209" idx="0"/>
            </p:cNvCxnSpPr>
            <p:nvPr/>
          </p:nvCxnSpPr>
          <p:spPr>
            <a:xfrm flipV="1" rot="10800000">
              <a:off x="7747920" y="372060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Text Box 39"/>
            <p:cNvSpPr/>
            <p:nvPr/>
          </p:nvSpPr>
          <p:spPr>
            <a:xfrm>
              <a:off x="7128000" y="47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A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 je nepokretna tačka – sferno kretanje oko tač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Zavojno kretanje, sa stalnom osom zavojnog kretanja koja prolazi kroz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232000" y="1700280"/>
                <a:ext cx="104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6"/>
          <p:cNvSpPr/>
          <p:nvPr/>
        </p:nvSpPr>
        <p:spPr>
          <a:xfrm>
            <a:off x="1908000" y="4400640"/>
            <a:ext cx="64800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2232000" y="4076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232000" y="490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016000" y="51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268360" y="49053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2340000" y="4113360"/>
                <a:ext cx="216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3203640" y="4724280"/>
                <a:ext cx="2197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Text Box 14"/>
          <p:cNvSpPr/>
          <p:nvPr/>
        </p:nvSpPr>
        <p:spPr>
          <a:xfrm>
            <a:off x="3166920" y="44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6"/>
          <p:cNvCxnSpPr>
            <a:stCxn id="233" idx="1"/>
          </p:cNvCxnSpPr>
          <p:nvPr/>
        </p:nvCxnSpPr>
        <p:spPr>
          <a:xfrm flipH="1">
            <a:off x="2564640" y="4584600"/>
            <a:ext cx="6022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17"/>
          <p:cNvSpPr/>
          <p:nvPr/>
        </p:nvSpPr>
        <p:spPr>
          <a:xfrm>
            <a:off x="900000" y="602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AN OD PRETHODNA TRI SLUČAJA UVEK JE MOGUĆE POSTIĆ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655640" y="1881360"/>
                <a:ext cx="3708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6"/>
          <p:cNvSpPr/>
          <p:nvPr/>
        </p:nvSpPr>
        <p:spPr>
          <a:xfrm>
            <a:off x="6372360" y="1952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≡S i 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372360" y="28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 je nepokret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925640" y="3392640"/>
                <a:ext cx="64087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ν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ζ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η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ξ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ζ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ξ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rPr>
                            <m:lit/>
                            <m:nor/>
                          </m:rPr>
                          <m:t xml:space="preserve">ζη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ξζ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rPr>
                            <m:lit/>
                            <m:nor/>
                          </m:rPr>
                          <m:t xml:space="preserve">ηξ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ξ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η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</m:e>
                                    </m:nary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p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ξζ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q</m:t>
                                        </m:r>
                                        <m:nary>
                                          <m:naryPr>
                                            <m:chr m:val="∫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ξη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m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1511280" y="522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koordinatne ose glavne centralne ose inercije,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98720" y="1736640"/>
                <a:ext cx="605628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LACIJE</m:t>
                            </m:r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OTACIJE</m:t>
                            </m:r>
                          </m:lim>
                        </m:limLow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1042920" y="4653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) SIATEM MATERIJALNIH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tačaka,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roj stepeni slobod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5435640" y="3573360"/>
            <a:ext cx="2663640" cy="3103560"/>
            <a:chOff x="5435640" y="3573360"/>
            <a:chExt cx="2663640" cy="3103560"/>
          </a:xfrm>
        </p:grpSpPr>
        <p:sp>
          <p:nvSpPr>
            <p:cNvPr id="246" name="Text Box 8"/>
            <p:cNvSpPr/>
            <p:nvPr/>
          </p:nvSpPr>
          <p:spPr>
            <a:xfrm>
              <a:off x="723564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9"/>
                <p:cNvSpPr txBox="1"/>
                <p:nvPr/>
              </p:nvSpPr>
              <p:spPr>
                <a:xfrm>
                  <a:off x="723564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0"/>
            <p:cNvSpPr/>
            <p:nvPr/>
          </p:nvSpPr>
          <p:spPr>
            <a:xfrm flipH="1">
              <a:off x="543564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611964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611964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723564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51492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723564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766764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716436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716436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H="1" flipV="1">
              <a:off x="665964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694692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622764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705636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3"/>
                <p:cNvSpPr txBox="1"/>
                <p:nvPr/>
              </p:nvSpPr>
              <p:spPr>
                <a:xfrm>
                  <a:off x="683892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24"/>
            <p:cNvSpPr/>
            <p:nvPr/>
          </p:nvSpPr>
          <p:spPr>
            <a:xfrm>
              <a:off x="611964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 flipV="1">
              <a:off x="615636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673092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7"/>
                <p:cNvSpPr txBox="1"/>
                <p:nvPr/>
              </p:nvSpPr>
              <p:spPr>
                <a:xfrm>
                  <a:off x="644364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Line 28"/>
            <p:cNvSpPr/>
            <p:nvPr/>
          </p:nvSpPr>
          <p:spPr>
            <a:xfrm>
              <a:off x="658800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737532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V="1">
              <a:off x="658800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1"/>
            <p:cNvSpPr/>
            <p:nvPr/>
          </p:nvSpPr>
          <p:spPr>
            <a:xfrm>
              <a:off x="730728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561492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3"/>
            <p:cNvSpPr/>
            <p:nvPr/>
          </p:nvSpPr>
          <p:spPr>
            <a:xfrm>
              <a:off x="683892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4"/>
            <p:cNvSpPr/>
            <p:nvPr/>
          </p:nvSpPr>
          <p:spPr>
            <a:xfrm>
              <a:off x="622764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29756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Line 36"/>
            <p:cNvSpPr/>
            <p:nvPr/>
          </p:nvSpPr>
          <p:spPr>
            <a:xfrm flipV="1">
              <a:off x="611964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37"/>
                <p:cNvSpPr txBox="1"/>
                <p:nvPr/>
              </p:nvSpPr>
              <p:spPr>
                <a:xfrm>
                  <a:off x="616572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38"/>
              <p:cNvSpPr txBox="1"/>
              <p:nvPr/>
            </p:nvSpPr>
            <p:spPr>
              <a:xfrm>
                <a:off x="1295280" y="5589720"/>
                <a:ext cx="1152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1741320" y="1557360"/>
                <a:ext cx="6164280" cy="52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/>
                                </m:nary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nary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⃗"/>
                                                      </m:accPr>
                                                      <m:e>
                                                        <m:r>
                                                          <m:t xml:space="preserve">r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r>
                                                  <m:t xml:space="preserve">t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E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C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920" y="3537000"/>
            <a:ext cx="49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)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 N sila koje deluju na 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9"/>
          <p:cNvGrpSpPr/>
          <p:nvPr/>
        </p:nvGrpSpPr>
        <p:grpSpPr>
          <a:xfrm>
            <a:off x="5040360" y="3672000"/>
            <a:ext cx="3316320" cy="2895480"/>
            <a:chOff x="5040360" y="3672000"/>
            <a:chExt cx="3316320" cy="2895480"/>
          </a:xfrm>
        </p:grpSpPr>
        <p:sp>
          <p:nvSpPr>
            <p:cNvPr id="283" name="Line 19"/>
            <p:cNvSpPr/>
            <p:nvPr/>
          </p:nvSpPr>
          <p:spPr>
            <a:xfrm flipH="1">
              <a:off x="5040360" y="5767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940360" y="5767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 flipV="1">
              <a:off x="5940360" y="4363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6275520" y="4108320"/>
              <a:ext cx="1433520" cy="163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>
              <a:off x="6804000" y="5443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7021440" y="5443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6300720" y="4148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V="1">
              <a:off x="5940360" y="5443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V="1">
              <a:off x="7020000" y="465120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040360" y="591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48360" y="61992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5545080" y="425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6553080" y="5767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885080" y="5335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6335640" y="38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35"/>
                <p:cNvSpPr txBox="1"/>
                <p:nvPr/>
              </p:nvSpPr>
              <p:spPr>
                <a:xfrm>
                  <a:off x="6119640" y="5335560"/>
                  <a:ext cx="2192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36"/>
                <p:cNvSpPr txBox="1"/>
                <p:nvPr/>
              </p:nvSpPr>
              <p:spPr>
                <a:xfrm>
                  <a:off x="7161120" y="4884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37"/>
            <p:cNvSpPr/>
            <p:nvPr/>
          </p:nvSpPr>
          <p:spPr>
            <a:xfrm>
              <a:off x="6769080" y="42908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6696000" y="515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 flipV="1">
              <a:off x="7236000" y="4005360"/>
              <a:ext cx="539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 flipH="1">
              <a:off x="7416360" y="5229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>
              <a:off x="7559640" y="458136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>
              <a:off x="6048360" y="476100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45"/>
                <p:cNvSpPr txBox="1"/>
                <p:nvPr/>
              </p:nvSpPr>
              <p:spPr>
                <a:xfrm>
                  <a:off x="8101080" y="4869000"/>
                  <a:ext cx="2556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6"/>
                <p:cNvSpPr txBox="1"/>
                <p:nvPr/>
              </p:nvSpPr>
              <p:spPr>
                <a:xfrm>
                  <a:off x="7974000" y="4221000"/>
                  <a:ext cx="2937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47"/>
                <p:cNvSpPr txBox="1"/>
                <p:nvPr/>
              </p:nvSpPr>
              <p:spPr>
                <a:xfrm>
                  <a:off x="7432560" y="3672000"/>
                  <a:ext cx="2955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48"/>
                <p:cNvSpPr txBox="1"/>
                <p:nvPr/>
              </p:nvSpPr>
              <p:spPr>
                <a:xfrm>
                  <a:off x="6045120" y="4390920"/>
                  <a:ext cx="3351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63"/>
          <p:cNvGrpSpPr/>
          <p:nvPr/>
        </p:nvGrpSpPr>
        <p:grpSpPr>
          <a:xfrm>
            <a:off x="4273560" y="1773360"/>
            <a:ext cx="3322800" cy="1697040"/>
            <a:chOff x="4273560" y="1773360"/>
            <a:chExt cx="3322800" cy="1697040"/>
          </a:xfrm>
        </p:grpSpPr>
        <mc:AlternateContent>
          <mc:Choice xmlns:a14="http://schemas.microsoft.com/office/drawing/2010/main" Requires="a14">
            <p:sp>
              <p:nvSpPr>
                <p:cNvPr id="311" name="Object 5"/>
                <p:cNvSpPr txBox="1"/>
                <p:nvPr/>
              </p:nvSpPr>
              <p:spPr>
                <a:xfrm>
                  <a:off x="4297320" y="2506680"/>
                  <a:ext cx="1258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Line 6"/>
            <p:cNvSpPr/>
            <p:nvPr/>
          </p:nvSpPr>
          <p:spPr>
            <a:xfrm flipH="1">
              <a:off x="5616720" y="303372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6229440" y="303372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229440" y="2025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6300720" y="2205000"/>
              <a:ext cx="129564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 flipV="1">
              <a:off x="6661080" y="206028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680400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6661080" y="245736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3"/>
                <p:cNvSpPr txBox="1"/>
                <p:nvPr/>
              </p:nvSpPr>
              <p:spPr>
                <a:xfrm>
                  <a:off x="7164360" y="1805040"/>
                  <a:ext cx="26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Line 14"/>
            <p:cNvSpPr/>
            <p:nvPr/>
          </p:nvSpPr>
          <p:spPr>
            <a:xfrm flipV="1">
              <a:off x="6696000" y="1808280"/>
              <a:ext cx="34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5"/>
                <p:cNvSpPr txBox="1"/>
                <p:nvPr/>
              </p:nvSpPr>
              <p:spPr>
                <a:xfrm>
                  <a:off x="6804000" y="1773360"/>
                  <a:ext cx="263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2"/>
                <p:cNvSpPr txBox="1"/>
                <p:nvPr/>
              </p:nvSpPr>
              <p:spPr>
                <a:xfrm>
                  <a:off x="4273560" y="3033720"/>
                  <a:ext cx="1233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Object 64"/>
              <p:cNvSpPr txBox="1"/>
              <p:nvPr/>
            </p:nvSpPr>
            <p:spPr>
              <a:xfrm>
                <a:off x="927000" y="4257720"/>
                <a:ext cx="325764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bSup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I) SITEM MATERIJALNIH TA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343640" y="277956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1"/>
          <p:cNvGrpSpPr/>
          <p:nvPr/>
        </p:nvGrpSpPr>
        <p:grpSpPr>
          <a:xfrm>
            <a:off x="5543640" y="1808280"/>
            <a:ext cx="2557440" cy="3103560"/>
            <a:chOff x="5543640" y="1808280"/>
            <a:chExt cx="2557440" cy="3103560"/>
          </a:xfrm>
        </p:grpSpPr>
        <mc:AlternateContent>
          <mc:Choice xmlns:a14="http://schemas.microsoft.com/office/drawing/2010/main" Requires="a14">
            <p:sp>
              <p:nvSpPr>
                <p:cNvPr id="328" name="Object 7"/>
                <p:cNvSpPr txBox="1"/>
                <p:nvPr/>
              </p:nvSpPr>
              <p:spPr>
                <a:xfrm>
                  <a:off x="7343640" y="364320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8"/>
            <p:cNvSpPr/>
            <p:nvPr/>
          </p:nvSpPr>
          <p:spPr>
            <a:xfrm flipH="1">
              <a:off x="5543640" y="4040280"/>
              <a:ext cx="6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6227640" y="4040280"/>
              <a:ext cx="682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V="1">
              <a:off x="6227640" y="26348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7343640" y="407520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6622920" y="313992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343640" y="227484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775640" y="328464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5"/>
            <p:cNvSpPr/>
            <p:nvPr/>
          </p:nvSpPr>
          <p:spPr>
            <a:xfrm>
              <a:off x="7272360" y="357192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 flipV="1">
              <a:off x="7272360" y="342720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7"/>
            <p:cNvSpPr/>
            <p:nvPr/>
          </p:nvSpPr>
          <p:spPr>
            <a:xfrm flipH="1" flipV="1">
              <a:off x="6767640" y="328464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8"/>
            <p:cNvSpPr/>
            <p:nvPr/>
          </p:nvSpPr>
          <p:spPr>
            <a:xfrm>
              <a:off x="7054920" y="18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9"/>
            <p:cNvSpPr/>
            <p:nvPr/>
          </p:nvSpPr>
          <p:spPr>
            <a:xfrm>
              <a:off x="6335640" y="27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7164360" y="31035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1"/>
                <p:cNvSpPr txBox="1"/>
                <p:nvPr/>
              </p:nvSpPr>
              <p:spPr>
                <a:xfrm>
                  <a:off x="6946920" y="3103560"/>
                  <a:ext cx="271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Line 22"/>
            <p:cNvSpPr/>
            <p:nvPr/>
          </p:nvSpPr>
          <p:spPr>
            <a:xfrm>
              <a:off x="6227640" y="404028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V="1">
              <a:off x="6264360" y="357156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4"/>
                <p:cNvSpPr txBox="1"/>
                <p:nvPr/>
              </p:nvSpPr>
              <p:spPr>
                <a:xfrm>
                  <a:off x="6838920" y="4111560"/>
                  <a:ext cx="190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25"/>
                <p:cNvSpPr txBox="1"/>
                <p:nvPr/>
              </p:nvSpPr>
              <p:spPr>
                <a:xfrm>
                  <a:off x="6551640" y="3500280"/>
                  <a:ext cx="2206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Line 26"/>
            <p:cNvSpPr/>
            <p:nvPr/>
          </p:nvSpPr>
          <p:spPr>
            <a:xfrm>
              <a:off x="6696000" y="324792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7483320" y="341460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6696000" y="234792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"/>
            <p:cNvSpPr/>
            <p:nvPr/>
          </p:nvSpPr>
          <p:spPr>
            <a:xfrm>
              <a:off x="7415280" y="23479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0"/>
            <p:cNvSpPr/>
            <p:nvPr/>
          </p:nvSpPr>
          <p:spPr>
            <a:xfrm>
              <a:off x="5722920" y="4543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1"/>
            <p:cNvSpPr/>
            <p:nvPr/>
          </p:nvSpPr>
          <p:spPr>
            <a:xfrm>
              <a:off x="6946920" y="45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6335640" y="23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3"/>
                <p:cNvSpPr txBox="1"/>
                <p:nvPr/>
              </p:nvSpPr>
              <p:spPr>
                <a:xfrm>
                  <a:off x="7405560" y="313992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34"/>
            <p:cNvSpPr/>
            <p:nvPr/>
          </p:nvSpPr>
          <p:spPr>
            <a:xfrm flipV="1">
              <a:off x="6227640" y="33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35"/>
                <p:cNvSpPr txBox="1"/>
                <p:nvPr/>
              </p:nvSpPr>
              <p:spPr>
                <a:xfrm>
                  <a:off x="6273720" y="32749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36"/>
            <p:cNvSpPr/>
            <p:nvPr/>
          </p:nvSpPr>
          <p:spPr>
            <a:xfrm>
              <a:off x="7451640" y="4184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 flipV="1">
              <a:off x="6696000" y="2529000"/>
              <a:ext cx="108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39"/>
                <p:cNvSpPr txBox="1"/>
                <p:nvPr/>
              </p:nvSpPr>
              <p:spPr>
                <a:xfrm>
                  <a:off x="7775640" y="3824280"/>
                  <a:ext cx="2300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0"/>
                <p:cNvSpPr txBox="1"/>
                <p:nvPr/>
              </p:nvSpPr>
              <p:spPr>
                <a:xfrm>
                  <a:off x="6823080" y="2266920"/>
                  <a:ext cx="2649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Object 42"/>
              <p:cNvSpPr txBox="1"/>
              <p:nvPr/>
            </p:nvSpPr>
            <p:spPr>
              <a:xfrm>
                <a:off x="1298520" y="2108160"/>
                <a:ext cx="4638600" cy="48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TIVNE SILE KOD SIST. M.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matramo stacionarni si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684360" y="3537000"/>
                <a:ext cx="4038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groupChr>
                              </m:e>
                              <m:li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lim>
                            </m:limLow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755640" y="4292640"/>
            <a:ext cx="7704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 potencijal polja sile I on ne zavisi od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atramo sistem s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za, dak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broj stepeni slobode kretanja, odnosno uvodi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anih koordin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[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…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]=U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01680" y="1600200"/>
                <a:ext cx="5891400" cy="44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⇒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υ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β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γ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4"/>
          <p:cNvSpPr/>
          <p:nvPr/>
        </p:nvSpPr>
        <p:spPr>
          <a:xfrm>
            <a:off x="896760" y="2176560"/>
            <a:ext cx="320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5977080" y="1915920"/>
            <a:ext cx="1836720" cy="1656000"/>
            <a:chOff x="5977080" y="1915920"/>
            <a:chExt cx="1836720" cy="1656000"/>
          </a:xfrm>
        </p:grpSpPr>
        <mc:AlternateContent>
          <mc:Choice xmlns:a14="http://schemas.microsoft.com/office/drawing/2010/main" Requires="a14">
            <p:sp>
              <p:nvSpPr>
                <p:cNvPr id="76" name="Object 18"/>
                <p:cNvSpPr txBox="1"/>
                <p:nvPr/>
              </p:nvSpPr>
              <p:spPr>
                <a:xfrm>
                  <a:off x="6985080" y="3248280"/>
                  <a:ext cx="2430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7382160" y="1916280"/>
                  <a:ext cx="204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7"/>
            <p:cNvSpPr/>
            <p:nvPr/>
          </p:nvSpPr>
          <p:spPr>
            <a:xfrm flipV="1">
              <a:off x="6624720" y="1915920"/>
              <a:ext cx="7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6913800" y="2529000"/>
              <a:ext cx="82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7453440" y="2528640"/>
              <a:ext cx="28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6624720" y="3105360"/>
              <a:ext cx="828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 flipV="1">
              <a:off x="6877080" y="2779920"/>
              <a:ext cx="5400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6769080" y="2887920"/>
              <a:ext cx="25272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6877080" y="2887920"/>
              <a:ext cx="367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29440" y="2637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7489800" y="31053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6624720" y="3068640"/>
              <a:ext cx="1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8"/>
                <p:cNvSpPr txBox="1"/>
                <p:nvPr/>
              </p:nvSpPr>
              <p:spPr>
                <a:xfrm>
                  <a:off x="5977080" y="2853000"/>
                  <a:ext cx="6620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n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131840" y="1808280"/>
                <a:ext cx="6556320" cy="39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403280" y="1521000"/>
                <a:ext cx="655344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RI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A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87280" y="1665360"/>
          <a:ext cx="6693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65360"/>
                    <a:ext cx="6693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a pozitivno definitna matrica ima glavne vrednosti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napisati k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3573360"/>
                <a:ext cx="165600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 Box 6"/>
          <p:cNvSpPr/>
          <p:nvPr/>
        </p:nvSpPr>
        <p:spPr>
          <a:xfrm>
            <a:off x="2987640" y="3500280"/>
            <a:ext cx="36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glavni momenti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24360" y="407664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34920" y="512136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PSOID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išimo vektore položaja tačaka M u pa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ijenih k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6048360" y="5553000"/>
                <a:ext cx="23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217520" y="1521000"/>
                <a:ext cx="512460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vrstavanjem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zra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obijamo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IPSOI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R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Ž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ANSFORMISATI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Group 21"/>
          <p:cNvGrpSpPr/>
          <p:nvPr/>
        </p:nvGrpSpPr>
        <p:grpSpPr>
          <a:xfrm>
            <a:off x="6119640" y="1233360"/>
            <a:ext cx="2411640" cy="2232000"/>
            <a:chOff x="6119640" y="1233360"/>
            <a:chExt cx="2411640" cy="2232000"/>
          </a:xfrm>
        </p:grpSpPr>
        <p:sp>
          <p:nvSpPr>
            <p:cNvPr id="104" name="Line 22"/>
            <p:cNvSpPr/>
            <p:nvPr/>
          </p:nvSpPr>
          <p:spPr>
            <a:xfrm flipH="1">
              <a:off x="6264000" y="2673360"/>
              <a:ext cx="53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6804000" y="2673360"/>
              <a:ext cx="8636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V="1">
              <a:off x="6804000" y="1412640"/>
              <a:ext cx="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6804000" y="1844640"/>
              <a:ext cx="82872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7343640" y="148428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27"/>
                <p:cNvSpPr txBox="1"/>
                <p:nvPr/>
              </p:nvSpPr>
              <p:spPr>
                <a:xfrm>
                  <a:off x="7343640" y="2133720"/>
                  <a:ext cx="249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28"/>
            <p:cNvSpPr/>
            <p:nvPr/>
          </p:nvSpPr>
          <p:spPr>
            <a:xfrm>
              <a:off x="6119640" y="2960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632720" y="2889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6912000" y="123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5904000" y="3897360"/>
            <a:ext cx="2543040" cy="1800000"/>
            <a:chOff x="5904000" y="3897360"/>
            <a:chExt cx="2543040" cy="1800000"/>
          </a:xfrm>
        </p:grpSpPr>
        <p:sp>
          <p:nvSpPr>
            <p:cNvPr id="114" name="Oval 31"/>
            <p:cNvSpPr/>
            <p:nvPr/>
          </p:nvSpPr>
          <p:spPr>
            <a:xfrm>
              <a:off x="6480000" y="4724280"/>
              <a:ext cx="1621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V="1">
              <a:off x="7272360" y="38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 flipH="1">
              <a:off x="6048000" y="522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7416720" y="5229360"/>
              <a:ext cx="75564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5"/>
                <p:cNvSpPr txBox="1"/>
                <p:nvPr/>
              </p:nvSpPr>
              <p:spPr>
                <a:xfrm>
                  <a:off x="5904000" y="519264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9"/>
                <p:cNvSpPr txBox="1"/>
                <p:nvPr/>
              </p:nvSpPr>
              <p:spPr>
                <a:xfrm>
                  <a:off x="8028000" y="5300640"/>
                  <a:ext cx="4190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41"/>
                <p:cNvSpPr txBox="1"/>
                <p:nvPr/>
              </p:nvSpPr>
              <p:spPr>
                <a:xfrm>
                  <a:off x="7343640" y="3897360"/>
                  <a:ext cx="3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svaku tačku A postoje tri međusobno ortogonalna pravca (glavne ose inercije u tački A) za koje su proizvodi inercije nula, a ekvatorijalni momenti inercije su glavni momenti inercije i imaju stacionarnu v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 potrebno je 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i tzv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zani ekstre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9"/>
          <p:cNvGraphicFramePr/>
          <p:nvPr/>
        </p:nvGraphicFramePr>
        <p:xfrm>
          <a:off x="1008000" y="1922400"/>
          <a:ext cx="77043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8000" y="1922400"/>
                    <a:ext cx="7704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1"/>
          <p:cNvSpPr/>
          <p:nvPr/>
        </p:nvSpPr>
        <p:spPr>
          <a:xfrm>
            <a:off x="1079640" y="3033720"/>
            <a:ext cx="71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LAGRANŽEV multiplikator uslova 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ovi ekstremuma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187280" y="3897360"/>
                <a:ext cx="51134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η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14"/>
          <p:cNvSpPr/>
          <p:nvPr/>
        </p:nvSpPr>
        <p:spPr>
          <a:xfrm>
            <a:off x="122400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gornjeg sistema jednačina po nepoznatim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netrivijalno ako i samo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230480" y="1736640"/>
          <a:ext cx="538452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736640"/>
                    <a:ext cx="538452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08000" y="5013360"/>
            <a:ext cx="72723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invarijante matrice inercije. One imaju iste vrednosti za bilo koji ortogonalni trijedar u posmatranoj tački. To su invarijante u odnosu na rotaciju koordinatnog trijedra u tačk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eni sekularne jednačine su ekstremne vrednost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ne zavise od rasporeda mase a ne zavise od koordinatnog trije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12T22:35:30Z</dcterms:modified>
  <cp:revision>447</cp:revision>
  <dc:subject/>
  <dc:title>ТЕХНИЧКА МЕХАНИКА 2</dc:title>
</cp:coreProperties>
</file>