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265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20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8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266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29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2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2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62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63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320.xml.rels" ContentType="application/vnd.openxmlformats-package.relationships+xml"/>
  <Override PartName="/ppt/notesSlides/_rels/notesSlide26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32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07.xml.rels" ContentType="application/vnd.openxmlformats-package.relationships+xml"/>
  <Override PartName="/ppt/notesSlides/_rels/notesSlide29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271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32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7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291.xml.rels" ContentType="application/vnd.openxmlformats-package.relationships+xml"/>
  <Override PartName="/ppt/notesSlides/_rels/notesSlide31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278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2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269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267.xml.rels" ContentType="application/vnd.openxmlformats-package.relationships+xml"/>
  <Override PartName="/ppt/notesSlides/_rels/notesSlide280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30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264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295.xml.rels" ContentType="application/vnd.openxmlformats-package.relationships+xml"/>
  <Override PartName="/ppt/notesSlides/_rels/notesSlide30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83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298.xml.rels" ContentType="application/vnd.openxmlformats-package.relationships+xml"/>
  <Override PartName="/ppt/notesSlides/_rels/notesSlide306.xml.rels" ContentType="application/vnd.openxmlformats-package.relationships+xml"/>
  <Override PartName="/ppt/notesSlides/_rels/notesSlide313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292.xml.rels" ContentType="application/vnd.openxmlformats-package.relationships+xml"/>
  <Override PartName="/ppt/notesSlides/_rels/notesSlide300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317.xml.rels" ContentType="application/vnd.openxmlformats-package.relationships+xml"/>
  <Override PartName="/ppt/notesSlides/_rels/notesSlide297.xml.rels" ContentType="application/vnd.openxmlformats-package.relationships+xml"/>
  <Override PartName="/ppt/notesSlides/_rels/notesSlide305.xml.rels" ContentType="application/vnd.openxmlformats-package.relationships+xml"/>
  <Override PartName="/ppt/notesSlides/_rels/notesSlide2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287.xml.rels" ContentType="application/vnd.openxmlformats-package.relationships+xml"/>
  <Override PartName="/ppt/notesSlides/_rels/notesSlide316.xml.rels" ContentType="application/vnd.openxmlformats-package.relationships+xml"/>
  <Override PartName="/ppt/notesSlides/_rels/notesSlide27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28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296.xml.rels" ContentType="application/vnd.openxmlformats-package.relationships+xml"/>
  <Override PartName="/ppt/notesSlides/_rels/notesSlide304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286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318.xml.rels" ContentType="application/vnd.openxmlformats-package.relationships+xml"/>
  <Override PartName="/ppt/notesSlides/_rels/notesSlide2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319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20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94.xml.rels" ContentType="application/vnd.openxmlformats-package.relationships+xml"/>
  <Override PartName="/ppt/notesSlides/_rels/notesSlide20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9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27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4.xml.rels" ContentType="application/vnd.openxmlformats-package.relationships+xml"/>
  <Override PartName="/ppt/notesSlides/_rels/notesSlide196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98.xml.rels" ContentType="application/vnd.openxmlformats-package.relationships+xml"/>
  <Override PartName="/ppt/notesSlides/_rels/notesSlide288.xml.rels" ContentType="application/vnd.openxmlformats-package.relationships+xml"/>
  <Override PartName="/ppt/notesSlides/_rels/notesSlide30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8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31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3.xml.rels" ContentType="application/vnd.openxmlformats-package.relationships+xml"/>
  <Override PartName="/ppt/notesSlides/_rels/notesSlide195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312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310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74.xml.rels" ContentType="application/vnd.openxmlformats-package.relationships+xml"/>
  <Override PartName="/ppt/notesSlides/_rels/notesSlide20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9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6.xml.rels" ContentType="application/vnd.openxmlformats-package.relationships+xml"/>
  <Override PartName="/ppt/notesSlides/_rels/notesSlide289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02.xml.rels" ContentType="application/vnd.openxmlformats-package.relationships+xml"/>
  <Override PartName="/ppt/notesSlides/_rels/notesSlide294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284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27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314.xml.rels" ContentType="application/vnd.openxmlformats-package.relationships+xml"/>
  <Override PartName="/ppt/notesSlides/_rels/notesSlide50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203.xml" ContentType="application/vnd.openxmlformats-officedocument.presentationml.notesSlide+xml"/>
  <Override PartName="/ppt/notesSlides/notesSlide27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202.xml" ContentType="application/vnd.openxmlformats-officedocument.presentationml.notesSlide+xml"/>
  <Override PartName="/ppt/notesSlides/notesSlide27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99.xml" ContentType="application/vnd.openxmlformats-officedocument.presentationml.notesSlide+xml"/>
  <Override PartName="/ppt/notesSlides/notesSlide201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98.xml" ContentType="application/vnd.openxmlformats-officedocument.presentationml.notesSlide+xml"/>
  <Override PartName="/ppt/notesSlides/notesSlide200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97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96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19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194.xml" ContentType="application/vnd.openxmlformats-officedocument.presentationml.notesSlide+xml"/>
  <Override PartName="/ppt/notesSlides/notesSlide31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318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1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60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308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204.xml" ContentType="application/vnd.openxmlformats-officedocument.presentationml.notesSlide+xml"/>
  <Override PartName="/ppt/notesSlides/notesSlide27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0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2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234.xml" ContentType="application/vnd.openxmlformats-officedocument.presentationml.notesSlide+xml"/>
  <Override PartName="/ppt/notesSlides/notesSlide235.xml" ContentType="application/vnd.openxmlformats-officedocument.presentationml.notesSlide+xml"/>
  <Override PartName="/ppt/notesSlides/notesSlide23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6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6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6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26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2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269.xml" ContentType="application/vnd.openxmlformats-officedocument.presentationml.notesSlide+xml"/>
  <Override PartName="/ppt/notesSlides/notesSlide290.xml" ContentType="application/vnd.openxmlformats-officedocument.presentationml.notesSlide+xml"/>
  <Override PartName="/ppt/notesSlides/notesSlide288.xml" ContentType="application/vnd.openxmlformats-officedocument.presentationml.notesSlide+xml"/>
  <Override PartName="/ppt/notesSlides/notesSlide291.xml" ContentType="application/vnd.openxmlformats-officedocument.presentationml.notesSlide+xml"/>
  <Override PartName="/ppt/notesSlides/notesSlide289.xml" ContentType="application/vnd.openxmlformats-officedocument.presentationml.notesSlide+xml"/>
  <Override PartName="/ppt/notesSlides/notesSlide292.xml" ContentType="application/vnd.openxmlformats-officedocument.presentationml.notesSlide+xml"/>
  <Override PartName="/ppt/notesSlides/notesSlide293.xml" ContentType="application/vnd.openxmlformats-officedocument.presentationml.notesSlide+xml"/>
  <Override PartName="/ppt/notesSlides/notesSlide297.xml" ContentType="application/vnd.openxmlformats-officedocument.presentationml.notesSlide+xml"/>
  <Override PartName="/ppt/notesSlides/notesSlide298.xml" ContentType="application/vnd.openxmlformats-officedocument.presentationml.notesSlide+xml"/>
  <Override PartName="/ppt/notesSlides/notesSlide299.xml" ContentType="application/vnd.openxmlformats-officedocument.presentationml.notesSlide+xml"/>
  <Override PartName="/ppt/notesSlides/notesSlide294.xml" ContentType="application/vnd.openxmlformats-officedocument.presentationml.notesSlide+xml"/>
  <Override PartName="/ppt/notesSlides/notesSlide320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274.xml" ContentType="application/vnd.openxmlformats-officedocument.presentationml.notesSlide+xml"/>
  <Override PartName="/ppt/notesSlides/notesSlide295.xml" ContentType="application/vnd.openxmlformats-officedocument.presentationml.notesSlide+xml"/>
  <Override PartName="/ppt/notesSlides/notesSlide321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275.xml" ContentType="application/vnd.openxmlformats-officedocument.presentationml.notesSlide+xml"/>
  <Override PartName="/ppt/notesSlides/notesSlide296.xml" ContentType="application/vnd.openxmlformats-officedocument.presentationml.notesSlide+xml"/>
  <Override PartName="/ppt/notesSlides/notesSlide322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276.xml" ContentType="application/vnd.openxmlformats-officedocument.presentationml.notesSlide+xml"/>
  <Override PartName="/ppt/notesSlides/notesSlide287.xml" ContentType="application/vnd.openxmlformats-officedocument.presentationml.notesSlide+xml"/>
  <Override PartName="/ppt/notesSlides/notesSlide286.xml" ContentType="application/vnd.openxmlformats-officedocument.presentationml.notesSlide+xml"/>
  <Override PartName="/ppt/notesSlides/notesSlide285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273.xml" ContentType="application/vnd.openxmlformats-officedocument.presentationml.notesSlide+xml"/>
  <Override PartName="/ppt/notesSlides/notesSlide205.xml" ContentType="application/vnd.openxmlformats-officedocument.presentationml.notesSlide+xml"/>
  <Override PartName="/ppt/notesSlides/notesSlide284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283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282.xml" ContentType="application/vnd.openxmlformats-officedocument.presentationml.notesSlide+xml"/>
  <Override PartName="/ppt/notesSlides/notesSlide281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279.xml" ContentType="application/vnd.openxmlformats-officedocument.presentationml.notesSlide+xml"/>
  <Override PartName="/ppt/notesSlides/notesSlide280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27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277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307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306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05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31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0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1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04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315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03.xml" ContentType="application/vnd.openxmlformats-officedocument.presentationml.notesSlide+xml"/>
  <Override PartName="/ppt/notesSlides/notesSlide30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3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30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7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316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2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6.wmf" ContentType="image/x-wmf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7.wmf" ContentType="image/x-wmf"/>
  <Override PartName="/ppt/media/image21.wmf" ContentType="image/x-wmf"/>
  <Override PartName="/ppt/media/image19.wmf" ContentType="image/x-wmf"/>
  <Override PartName="/ppt/media/image10.gif" ContentType="image/gif"/>
  <Override PartName="/ppt/media/image13.wmf" ContentType="image/x-wmf"/>
  <Override PartName="/ppt/media/image30.png" ContentType="image/png"/>
  <Override PartName="/ppt/media/image9.gif" ContentType="image/gif"/>
  <Override PartName="/ppt/media/image5.wmf" ContentType="image/x-wmf"/>
  <Override PartName="/ppt/media/image8.gif" ContentType="image/gif"/>
  <Override PartName="/ppt/media/image4.wmf" ContentType="image/x-wmf"/>
  <Override PartName="/ppt/media/image3.wmf" ContentType="image/x-wmf"/>
  <Override PartName="/ppt/media/image25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43.xml.rels" ContentType="application/vnd.openxmlformats-package.relationships+xml"/>
  <Override PartName="/ppt/slides/_rels/slide334.xml.rels" ContentType="application/vnd.openxmlformats-package.relationships+xml"/>
  <Override PartName="/ppt/slides/_rels/slide38.xml.rels" ContentType="application/vnd.openxmlformats-package.relationships+xml"/>
  <Override PartName="/ppt/slides/_rels/slide329.xml.rels" ContentType="application/vnd.openxmlformats-package.relationships+xml"/>
  <Override PartName="/ppt/slides/_rels/slide328.xml.rels" ContentType="application/vnd.openxmlformats-package.relationships+xml"/>
  <Override PartName="/ppt/slides/_rels/slide159.xml.rels" ContentType="application/vnd.openxmlformats-package.relationships+xml"/>
  <Override PartName="/ppt/slides/_rels/slide8.xml.rels" ContentType="application/vnd.openxmlformats-package.relationships+xml"/>
  <Override PartName="/ppt/slides/_rels/slide164.xml.rels" ContentType="application/vnd.openxmlformats-package.relationships+xml"/>
  <Override PartName="/ppt/slides/_rels/slide31.xml.rels" ContentType="application/vnd.openxmlformats-package.relationships+xml"/>
  <Override PartName="/ppt/slides/_rels/slide322.xml.rels" ContentType="application/vnd.openxmlformats-package.relationships+xml"/>
  <Override PartName="/ppt/slides/_rels/slide26.xml.rels" ContentType="application/vnd.openxmlformats-package.relationships+xml"/>
  <Override PartName="/ppt/slides/_rels/slide218.xml.rels" ContentType="application/vnd.openxmlformats-package.relationships+xml"/>
  <Override PartName="/ppt/slides/_rels/slide158.xml.rels" ContentType="application/vnd.openxmlformats-package.relationships+xml"/>
  <Override PartName="/ppt/slides/_rels/slide7.xml.rels" ContentType="application/vnd.openxmlformats-package.relationships+xml"/>
  <Override PartName="/ppt/slides/_rels/slide163.xml.rels" ContentType="application/vnd.openxmlformats-package.relationships+xml"/>
  <Override PartName="/ppt/slides/_rels/slide30.xml.rels" ContentType="application/vnd.openxmlformats-package.relationships+xml"/>
  <Override PartName="/ppt/slides/_rels/slide25.xml.rels" ContentType="application/vnd.openxmlformats-package.relationships+xml"/>
  <Override PartName="/ppt/slides/_rels/slide321.xml.rels" ContentType="application/vnd.openxmlformats-package.relationships+xml"/>
  <Override PartName="/ppt/slides/_rels/slide201.xml.rels" ContentType="application/vnd.openxmlformats-package.relationships+xml"/>
  <Override PartName="/ppt/slides/_rels/slide180.xml.rels" ContentType="application/vnd.openxmlformats-package.relationships+xml"/>
  <Override PartName="/ppt/slides/_rels/slide21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53.xml.rels" ContentType="application/vnd.openxmlformats-package.relationships+xml"/>
  <Override PartName="/ppt/slides/_rels/slide20.xml.rels" ContentType="application/vnd.openxmlformats-package.relationships+xml"/>
  <Override PartName="/ppt/slides/_rels/slide318.xml.rels" ContentType="application/vnd.openxmlformats-package.relationships+xml"/>
  <Override PartName="/ppt/slides/_rels/slide297.xml.rels" ContentType="application/vnd.openxmlformats-package.relationships+xml"/>
  <Override PartName="/ppt/slides/_rels/slide56.xml.rels" ContentType="application/vnd.openxmlformats-package.relationships+xml"/>
  <Override PartName="/ppt/slides/_rels/slide317.xml.rels" ContentType="application/vnd.openxmlformats-package.relationships+xml"/>
  <Override PartName="/ppt/slides/_rels/slide296.xml.rels" ContentType="application/vnd.openxmlformats-package.relationships+xml"/>
  <Override PartName="/ppt/slides/_rels/slide55.xml.rels" ContentType="application/vnd.openxmlformats-package.relationships+xml"/>
  <Override PartName="/ppt/slides/_rels/slide316.xml.rels" ContentType="application/vnd.openxmlformats-package.relationships+xml"/>
  <Override PartName="/ppt/slides/_rels/slide295.xml.rels" ContentType="application/vnd.openxmlformats-package.relationships+xml"/>
  <Override PartName="/ppt/slides/_rels/slide142.xml.rels" ContentType="application/vnd.openxmlformats-package.relationships+xml"/>
  <Override PartName="/ppt/slides/_rels/slide308.xml.rels" ContentType="application/vnd.openxmlformats-package.relationships+xml"/>
  <Override PartName="/ppt/slides/_rels/slide313.xml.rels" ContentType="application/vnd.openxmlformats-package.relationships+xml"/>
  <Override PartName="/ppt/slides/_rels/slide17.xml.rels" ContentType="application/vnd.openxmlformats-package.relationships+xml"/>
  <Override PartName="/ppt/slides/_rels/slide45.xml.rels" ContentType="application/vnd.openxmlformats-package.relationships+xml"/>
  <Override PartName="/ppt/slides/_rels/slide341.xml.rels" ContentType="application/vnd.openxmlformats-package.relationships+xml"/>
  <Override PartName="/ppt/slides/_rels/slide336.xml.rels" ContentType="application/vnd.openxmlformats-package.relationships+xml"/>
  <Override PartName="/ppt/slides/_rels/slide132.xml.rels" ContentType="application/vnd.openxmlformats-package.relationships+xml"/>
  <Override PartName="/ppt/slides/_rels/slide131.xml.rels" ContentType="application/vnd.openxmlformats-package.relationships+xml"/>
  <Override PartName="/ppt/slides/_rels/slide130.xml.rels" ContentType="application/vnd.openxmlformats-package.relationships+xml"/>
  <Override PartName="/ppt/slides/_rels/slide32.xml.rels" ContentType="application/vnd.openxmlformats-package.relationships+xml"/>
  <Override PartName="/ppt/slides/_rels/slide323.xml.rels" ContentType="application/vnd.openxmlformats-package.relationships+xml"/>
  <Override PartName="/ppt/slides/_rels/slide219.xml.rels" ContentType="application/vnd.openxmlformats-package.relationships+xml"/>
  <Override PartName="/ppt/slides/_rels/slide242.xml.rels" ContentType="application/vnd.openxmlformats-package.relationships+xml"/>
  <Override PartName="/ppt/slides/_rels/slide138.xml.rels" ContentType="application/vnd.openxmlformats-package.relationships+xml"/>
  <Override PartName="/ppt/slides/_rels/slide241.xml.rels" ContentType="application/vnd.openxmlformats-package.relationships+xml"/>
  <Override PartName="/ppt/slides/_rels/slide137.xml.rels" ContentType="application/vnd.openxmlformats-package.relationships+xml"/>
  <Override PartName="/ppt/slides/_rels/slide135.xml.rels" ContentType="application/vnd.openxmlformats-package.relationships+xml"/>
  <Override PartName="/ppt/slides/_rels/slide140.xml.rels" ContentType="application/vnd.openxmlformats-package.relationships+xml"/>
  <Override PartName="/ppt/slides/_rels/slide5.xml.rels" ContentType="application/vnd.openxmlformats-package.relationships+xml"/>
  <Override PartName="/ppt/slides/_rels/slide156.xml.rels" ContentType="application/vnd.openxmlformats-package.relationships+xml"/>
  <Override PartName="/ppt/slides/_rels/slide161.xml.rels" ContentType="application/vnd.openxmlformats-package.relationships+xml"/>
  <Override PartName="/ppt/slides/_rels/slide44.xml.rels" ContentType="application/vnd.openxmlformats-package.relationships+xml"/>
  <Override PartName="/ppt/slides/_rels/slide335.xml.rels" ContentType="application/vnd.openxmlformats-package.relationships+xml"/>
  <Override PartName="/ppt/slides/_rels/slide39.xml.rels" ContentType="application/vnd.openxmlformats-package.relationships+xml"/>
  <Override PartName="/ppt/slides/_rels/slide34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65.xml.rels" ContentType="application/vnd.openxmlformats-package.relationships+xml"/>
  <Override PartName="/ppt/slides/_rels/slide13.xml.rels" ContentType="application/vnd.openxmlformats-package.relationships+xml"/>
  <Override PartName="/ppt/slides/_rels/slide240.xml.rels" ContentType="application/vnd.openxmlformats-package.relationships+xml"/>
  <Override PartName="/ppt/slides/_rels/slide136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55.xml.rels" ContentType="application/vnd.openxmlformats-package.relationships+xml"/>
  <Override PartName="/ppt/slides/_rels/slide244.xml.rels" ContentType="application/vnd.openxmlformats-package.relationships+xml"/>
  <Override PartName="/ppt/slides/_rels/slide239.xml.rels" ContentType="application/vnd.openxmlformats-package.relationships+xml"/>
  <Override PartName="/ppt/slides/_rels/slide10.xml.rels" ContentType="application/vnd.openxmlformats-package.relationships+xml"/>
  <Override PartName="/ppt/slides/_rels/slide12.xml.rels" ContentType="application/vnd.openxmlformats-package.relationships+xml"/>
  <Override PartName="/ppt/slides/_rels/slide206.xml.rels" ContentType="application/vnd.openxmlformats-package.relationships+xml"/>
  <Override PartName="/ppt/slides/_rels/slide310.xml.rels" ContentType="application/vnd.openxmlformats-package.relationships+xml"/>
  <Override PartName="/ppt/slides/_rels/slide309.xml.rels" ContentType="application/vnd.openxmlformats-package.relationships+xml"/>
  <Override PartName="/ppt/slides/_rels/slide314.xml.rels" ContentType="application/vnd.openxmlformats-package.relationships+xml"/>
  <Override PartName="/ppt/slides/_rels/slide288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_rels/slide319.xml.rels" ContentType="application/vnd.openxmlformats-package.relationships+xml"/>
  <Override PartName="/ppt/slides/_rels/slide29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05.xml.rels" ContentType="application/vnd.openxmlformats-package.relationships+xml"/>
  <Override PartName="/ppt/slides/_rels/slide154.xml.rels" ContentType="application/vnd.openxmlformats-package.relationships+xml"/>
  <Override PartName="/ppt/slides/_rels/slide93.xml.rels" ContentType="application/vnd.openxmlformats-package.relationships+xml"/>
  <Override PartName="/ppt/slides/_rels/slide88.xml.rels" ContentType="application/vnd.openxmlformats-package.relationships+xml"/>
  <Override PartName="/ppt/slides/_rels/slide273.xml.rels" ContentType="application/vnd.openxmlformats-package.relationships+xml"/>
  <Override PartName="/ppt/slides/_rels/slide268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15.xml.rels" ContentType="application/vnd.openxmlformats-package.relationships+xml"/>
  <Override PartName="/ppt/slides/_rels/slide262.xml.rels" ContentType="application/vnd.openxmlformats-package.relationships+xml"/>
  <Override PartName="/ppt/slides/_rels/slide126.xml.rels" ContentType="application/vnd.openxmlformats-package.relationships+xml"/>
  <Override PartName="/ppt/slides/_rels/slide230.xml.rels" ContentType="application/vnd.openxmlformats-package.relationships+xml"/>
  <Override PartName="/ppt/slides/_rels/slide261.xml.rels" ContentType="application/vnd.openxmlformats-package.relationships+xml"/>
  <Override PartName="/ppt/slides/_rels/slide114.xml.rels" ContentType="application/vnd.openxmlformats-package.relationships+xml"/>
  <Override PartName="/ppt/slides/_rels/slide109.xml.rels" ContentType="application/vnd.openxmlformats-package.relationships+xml"/>
  <Override PartName="/ppt/slides/_rels/slide81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08.xml.rels" ContentType="application/vnd.openxmlformats-package.relationships+xml"/>
  <Override PartName="/ppt/slides/_rels/slide260.xml.rels" ContentType="application/vnd.openxmlformats-package.relationships+xml"/>
  <Override PartName="/ppt/slides/_rels/slide255.xml.rels" ContentType="application/vnd.openxmlformats-package.relationships+xml"/>
  <Override PartName="/ppt/slides/_rels/slide80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53.xml.rels" ContentType="application/vnd.openxmlformats-package.relationships+xml"/>
  <Override PartName="/ppt/slides/_rels/slide228.xml.rels" ContentType="application/vnd.openxmlformats-package.relationships+xml"/>
  <Override PartName="/ppt/slides/_rels/slide233.xml.rels" ContentType="application/vnd.openxmlformats-package.relationships+xml"/>
  <Override PartName="/ppt/slides/_rels/slide272.xml.rels" ContentType="application/vnd.openxmlformats-package.relationships+xml"/>
  <Override PartName="/ppt/slides/_rels/slide267.xml.rels" ContentType="application/vnd.openxmlformats-package.relationships+xml"/>
  <Override PartName="/ppt/slides/_rels/slide92.xml.rels" ContentType="application/vnd.openxmlformats-package.relationships+xml"/>
  <Override PartName="/ppt/slides/_rels/slide8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8.xml.rels" ContentType="application/vnd.openxmlformats-package.relationships+xml"/>
  <Override PartName="/ppt/slides/_rels/slide27.xml.rels" ContentType="application/vnd.openxmlformats-package.relationships+xml"/>
  <Override PartName="/ppt/slides/_rels/slide146.xml.rels" ContentType="application/vnd.openxmlformats-package.relationships+xml"/>
  <Override PartName="/ppt/slides/_rels/slide151.xml.rels" ContentType="application/vnd.openxmlformats-package.relationships+xml"/>
  <Override PartName="/ppt/slides/_rels/slide254.xml.rels" ContentType="application/vnd.openxmlformats-package.relationships+xml"/>
  <Override PartName="/ppt/slides/_rels/slide74.xml.rels" ContentType="application/vnd.openxmlformats-package.relationships+xml"/>
  <Override PartName="/ppt/slides/_rels/slide275.xml.rels" ContentType="application/vnd.openxmlformats-package.relationships+xml"/>
  <Override PartName="/ppt/slides/_rels/slide301.xml.rels" ContentType="application/vnd.openxmlformats-package.relationships+xml"/>
  <Override PartName="/ppt/slides/_rels/slide69.xml.rels" ContentType="application/vnd.openxmlformats-package.relationships+xml"/>
  <Override PartName="/ppt/slides/_rels/slide249.xml.rels" ContentType="application/vnd.openxmlformats-package.relationships+xml"/>
  <Override PartName="/ppt/slides/_rels/slide2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46.xml.rels" ContentType="application/vnd.openxmlformats-package.relationships+xml"/>
  <Override PartName="/ppt/slides/_rels/slide61.xml.rels" ContentType="application/vnd.openxmlformats-package.relationships+xml"/>
  <Override PartName="/ppt/slides/_rels/slide90.xml.rels" ContentType="application/vnd.openxmlformats-package.relationships+xml"/>
  <Override PartName="/ppt/slides/_rels/slide85.xml.rels" ContentType="application/vnd.openxmlformats-package.relationships+xml"/>
  <Override PartName="/ppt/slides/_rels/slide123.xml.rels" ContentType="application/vnd.openxmlformats-package.relationships+xml"/>
  <Override PartName="/ppt/slides/_rels/slide118.xml.rels" ContentType="application/vnd.openxmlformats-package.relationships+xml"/>
  <Override PartName="/ppt/slides/_rels/slide270.xml.rels" ContentType="application/vnd.openxmlformats-package.relationships+xml"/>
  <Override PartName="/ppt/slides/_rels/slide265.xml.rels" ContentType="application/vnd.openxmlformats-package.relationships+xml"/>
  <Override PartName="/ppt/slides/_rels/slide212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124.xml.rels" ContentType="application/vnd.openxmlformats-package.relationships+xml"/>
  <Override PartName="/ppt/slides/_rels/slide119.xml.rels" ContentType="application/vnd.openxmlformats-package.relationships+xml"/>
  <Override PartName="/ppt/slides/_rels/slide271.xml.rels" ContentType="application/vnd.openxmlformats-package.relationships+xml"/>
  <Override PartName="/ppt/slides/_rels/slide266.xml.rels" ContentType="application/vnd.openxmlformats-package.relationships+xml"/>
  <Override PartName="/ppt/slides/_rels/slide63.xml.rels" ContentType="application/vnd.openxmlformats-package.relationships+xml"/>
  <Override PartName="/ppt/slides/_rels/slide198.xml.rels" ContentType="application/vnd.openxmlformats-package.relationships+xml"/>
  <Override PartName="/ppt/slides/_rels/slide250.xml.rels" ContentType="application/vnd.openxmlformats-package.relationships+xml"/>
  <Override PartName="/ppt/slides/_rels/slide103.xml.rels" ContentType="application/vnd.openxmlformats-package.relationships+xml"/>
  <Override PartName="/ppt/slides/_rels/slide236.xml.rels" ContentType="application/vnd.openxmlformats-package.relationships+xml"/>
  <Override PartName="/ppt/slides/_rels/slide195.xml.rels" ContentType="application/vnd.openxmlformats-package.relationships+xml"/>
  <Override PartName="/ppt/slides/_rels/slide216.xml.rels" ContentType="application/vnd.openxmlformats-package.relationships+xml"/>
  <Override PartName="/ppt/slides/_rels/slide221.xml.rels" ContentType="application/vnd.openxmlformats-package.relationships+xml"/>
  <Override PartName="/ppt/slides/_rels/slide199.xml.rels" ContentType="application/vnd.openxmlformats-package.relationships+xml"/>
  <Override PartName="/ppt/slides/_rels/slide324.xml.rels" ContentType="application/vnd.openxmlformats-package.relationships+xml"/>
  <Override PartName="/ppt/slides/_rels/slide174.xml.rels" ContentType="application/vnd.openxmlformats-package.relationships+xml"/>
  <Override PartName="/ppt/slides/_rels/slide169.xml.rels" ContentType="application/vnd.openxmlformats-package.relationships+xml"/>
  <Override PartName="/ppt/slides/_rels/slide171.xml.rels" ContentType="application/vnd.openxmlformats-package.relationships+xml"/>
  <Override PartName="/ppt/slides/_rels/slide70.xml.rels" ContentType="application/vnd.openxmlformats-package.relationships+xml"/>
  <Override PartName="/ppt/slides/_rels/slide257.xml.rels" ContentType="application/vnd.openxmlformats-package.relationships+xml"/>
  <Override PartName="/ppt/slides/_rels/slide77.xml.rels" ContentType="application/vnd.openxmlformats-package.relationships+xml"/>
  <Override PartName="/ppt/slides/_rels/slide248.xml.rels" ContentType="application/vnd.openxmlformats-package.relationships+xml"/>
  <Override PartName="/ppt/slides/_rels/slide68.xml.rels" ContentType="application/vnd.openxmlformats-package.relationships+xml"/>
  <Override PartName="/ppt/slides/_rels/slide300.xml.rels" ContentType="application/vnd.openxmlformats-package.relationships+xml"/>
  <Override PartName="/ppt/slides/_rels/slide252.xml.rels" ContentType="application/vnd.openxmlformats-package.relationships+xml"/>
  <Override PartName="/ppt/slides/_rels/slide72.xml.rels" ContentType="application/vnd.openxmlformats-package.relationships+xml"/>
  <Override PartName="/ppt/slides/_rels/slide60.xml.rels" ContentType="application/vnd.openxmlformats-package.relationships+xml"/>
  <Override PartName="/ppt/slides/_rels/slide235.xml.rels" ContentType="application/vnd.openxmlformats-package.relationships+xml"/>
  <Override PartName="/ppt/slides/_rels/slide25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247.xml.rels" ContentType="application/vnd.openxmlformats-package.relationships+xml"/>
  <Override PartName="/ppt/slides/_rels/slide67.xml.rels" ContentType="application/vnd.openxmlformats-package.relationships+xml"/>
  <Override PartName="/ppt/slides/_rels/slide79.xml.rels" ContentType="application/vnd.openxmlformats-package.relationships+xml"/>
  <Override PartName="/ppt/slides/_rels/slide25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263.xml.rels" ContentType="application/vnd.openxmlformats-package.relationships+xml"/>
  <Override PartName="/ppt/slides/_rels/slide225.xml.rels" ContentType="application/vnd.openxmlformats-package.relationships+xml"/>
  <Override PartName="/ppt/slides/_rels/slide330.xml.rels" ContentType="application/vnd.openxmlformats-package.relationships+xml"/>
  <Override PartName="/ppt/slides/_rels/slide325.xml.rels" ContentType="application/vnd.openxmlformats-package.relationships+xml"/>
  <Override PartName="/ppt/slides/_rels/slide192.xml.rels" ContentType="application/vnd.openxmlformats-package.relationships+xml"/>
  <Override PartName="/ppt/slides/_rels/slide213.xml.rels" ContentType="application/vnd.openxmlformats-package.relationships+xml"/>
  <Override PartName="/ppt/slides/_rels/slide246.xml.rels" ContentType="application/vnd.openxmlformats-package.relationships+xml"/>
  <Override PartName="/ppt/slides/_rels/slide66.xml.rels" ContentType="application/vnd.openxmlformats-package.relationships+xml"/>
  <Override PartName="/ppt/slides/_rels/slide78.xml.rels" ContentType="application/vnd.openxmlformats-package.relationships+xml"/>
  <Override PartName="/ppt/slides/_rels/slide258.xml.rels" ContentType="application/vnd.openxmlformats-package.relationships+xml"/>
  <Override PartName="/ppt/slides/_rels/slide224.xml.rels" ContentType="application/vnd.openxmlformats-package.relationships+xml"/>
  <Override PartName="/ppt/slides/_rels/slide34.xml.rels" ContentType="application/vnd.openxmlformats-package.relationships+xml"/>
  <Override PartName="/ppt/slides/_rels/slide229.xml.rels" ContentType="application/vnd.openxmlformats-package.relationships+xml"/>
  <Override PartName="/ppt/slides/_rels/slide234.xml.rels" ContentType="application/vnd.openxmlformats-package.relationships+xml"/>
  <Override PartName="/ppt/slides/_rels/slide49.xml.rels" ContentType="application/vnd.openxmlformats-package.relationships+xml"/>
  <Override PartName="/ppt/slides/_rels/slide54.xml.rels" ContentType="application/vnd.openxmlformats-package.relationships+xml"/>
  <Override PartName="/ppt/slides/_rels/slide102.xml.rels" ContentType="application/vnd.openxmlformats-package.relationships+xml"/>
  <Override PartName="/ppt/slides/_rels/slide197.xml.rels" ContentType="application/vnd.openxmlformats-package.relationships+xml"/>
  <Override PartName="/ppt/slides/_rels/slide223.xml.rels" ContentType="application/vnd.openxmlformats-package.relationships+xml"/>
  <Override PartName="/ppt/slides/_rels/slide226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22.xml.rels" ContentType="application/vnd.openxmlformats-package.relationships+xml"/>
  <Override PartName="/ppt/slides/_rels/slide217.xml.rels" ContentType="application/vnd.openxmlformats-package.relationships+xml"/>
  <Override PartName="/ppt/slides/_rels/slide222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320.xml.rels" ContentType="application/vnd.openxmlformats-package.relationships+xml"/>
  <Override PartName="/ppt/slides/_rels/slide24.xml.rels" ContentType="application/vnd.openxmlformats-package.relationships+xml"/>
  <Override PartName="/ppt/slides/_rels/slide190.xml.rels" ContentType="application/vnd.openxmlformats-package.relationships+xml"/>
  <Override PartName="/ppt/slides/_rels/slide211.xml.rels" ContentType="application/vnd.openxmlformats-package.relationships+xml"/>
  <Override PartName="/ppt/slides/_rels/slide185.xml.rels" ContentType="application/vnd.openxmlformats-package.relationships+xml"/>
  <Override PartName="/ppt/slides/_rels/slide73.xml.rels" ContentType="application/vnd.openxmlformats-package.relationships+xml"/>
  <Override PartName="/ppt/slides/_rels/slide111.xml.rels" ContentType="application/vnd.openxmlformats-package.relationships+xml"/>
  <Override PartName="/ppt/slides/_rels/slide106.xml.rels" ContentType="application/vnd.openxmlformats-package.relationships+xml"/>
  <Override PartName="/ppt/slides/_rels/slide107.xml.rels" ContentType="application/vnd.openxmlformats-package.relationships+xml"/>
  <Override PartName="/ppt/slides/_rels/slide112.xml.rels" ContentType="application/vnd.openxmlformats-package.relationships+xml"/>
  <Override PartName="/ppt/slides/_rels/slide293.xml.rels" ContentType="application/vnd.openxmlformats-package.relationships+xml"/>
  <Override PartName="/ppt/slides/_rels/slide189.xml.rels" ContentType="application/vnd.openxmlformats-package.relationships+xml"/>
  <Override PartName="/ppt/slides/_rels/slide344.xml.rels" ContentType="application/vnd.openxmlformats-package.relationships+xml"/>
  <Override PartName="/ppt/slides/_rels/slide214.xml.rels" ContentType="application/vnd.openxmlformats-package.relationships+xml"/>
  <Override PartName="/ppt/slides/_rels/slide193.xml.rels" ContentType="application/vnd.openxmlformats-package.relationships+xml"/>
  <Override PartName="/ppt/slides/_rels/slide227.xml.rels" ContentType="application/vnd.openxmlformats-package.relationships+xml"/>
  <Override PartName="/ppt/slides/_rels/slide232.xml.rels" ContentType="application/vnd.openxmlformats-package.relationships+xml"/>
  <Override PartName="/ppt/slides/_rels/slide47.xml.rels" ContentType="application/vnd.openxmlformats-package.relationships+xml"/>
  <Override PartName="/ppt/slides/_rels/slide52.xml.rels" ContentType="application/vnd.openxmlformats-package.relationships+xml"/>
  <Override PartName="/ppt/slides/_rels/slide82.xml.rels" ContentType="application/vnd.openxmlformats-package.relationships+xml"/>
  <Override PartName="/ppt/slides/_rels/slide269.xml.rels" ContentType="application/vnd.openxmlformats-package.relationships+xml"/>
  <Override PartName="/ppt/slides/_rels/slide194.xml.rels" ContentType="application/vnd.openxmlformats-package.relationships+xml"/>
  <Override PartName="/ppt/slides/_rels/slide215.xml.rels" ContentType="application/vnd.openxmlformats-package.relationships+xml"/>
  <Override PartName="/ppt/slides/_rels/slide220.xml.rels" ContentType="application/vnd.openxmlformats-package.relationships+xml"/>
  <Override PartName="/ppt/slides/_rels/slide173.xml.rels" ContentType="application/vnd.openxmlformats-package.relationships+xml"/>
  <Override PartName="/ppt/slides/_rels/slide168.xml.rels" ContentType="application/vnd.openxmlformats-package.relationships+xml"/>
  <Override PartName="/ppt/slides/_rels/slide35.xml.rels" ContentType="application/vnd.openxmlformats-package.relationships+xml"/>
  <Override PartName="/ppt/slides/_rels/slide40.xml.rels" ContentType="application/vnd.openxmlformats-package.relationships+xml"/>
  <Override PartName="/ppt/slides/_rels/slide203.xml.rels" ContentType="application/vnd.openxmlformats-package.relationships+xml"/>
  <Override PartName="/ppt/slides/_rels/slide182.xml.rels" ContentType="application/vnd.openxmlformats-package.relationships+xml"/>
  <Override PartName="/ppt/slides/_rels/slide331.xml.rels" ContentType="application/vnd.openxmlformats-package.relationships+xml"/>
  <Override PartName="/ppt/slides/_rels/slide99.xml.rels" ContentType="application/vnd.openxmlformats-package.relationships+xml"/>
  <Override PartName="/ppt/slides/_rels/slide178.xml.rels" ContentType="application/vnd.openxmlformats-package.relationships+xml"/>
  <Override PartName="/ppt/slides/_rels/slide37.xml.rels" ContentType="application/vnd.openxmlformats-package.relationships+xml"/>
  <Override PartName="/ppt/slides/_rels/slide42.xml.rels" ContentType="application/vnd.openxmlformats-package.relationships+xml"/>
  <Override PartName="/ppt/slides/_rels/slide333.xml.rels" ContentType="application/vnd.openxmlformats-package.relationships+xml"/>
  <Override PartName="/ppt/slides/_rels/slide172.xml.rels" ContentType="application/vnd.openxmlformats-package.relationships+xml"/>
  <Override PartName="/ppt/slides/_rels/slide50.xml.rels" ContentType="application/vnd.openxmlformats-package.relationships+xml"/>
  <Override PartName="/ppt/slides/_rels/slide237.xml.rels" ContentType="application/vnd.openxmlformats-package.relationships+xml"/>
  <Override PartName="/ppt/slides/_rels/slide57.xml.rels" ContentType="application/vnd.openxmlformats-package.relationships+xml"/>
  <Override PartName="/ppt/slides/_rels/slide177.xml.rels" ContentType="application/vnd.openxmlformats-package.relationships+xml"/>
  <Override PartName="/ppt/slides/_rels/slide36.xml.rels" ContentType="application/vnd.openxmlformats-package.relationships+xml"/>
  <Override PartName="/ppt/slides/_rels/slide41.xml.rels" ContentType="application/vnd.openxmlformats-package.relationships+xml"/>
  <Override PartName="/ppt/slides/_rels/slide332.xml.rels" ContentType="application/vnd.openxmlformats-package.relationships+xml"/>
  <Override PartName="/ppt/slides/_rels/slide339.xml.rels" ContentType="application/vnd.openxmlformats-package.relationships+xml"/>
  <Override PartName="/ppt/slides/_rels/slide166.xml.rels" ContentType="application/vnd.openxmlformats-package.relationships+xml"/>
  <Override PartName="/ppt/slides/_rels/slide170.xml.rels" ContentType="application/vnd.openxmlformats-package.relationships+xml"/>
  <Override PartName="/ppt/slides/_rels/slide204.xml.rels" ContentType="application/vnd.openxmlformats-package.relationships+xml"/>
  <Override PartName="/ppt/slides/_rels/slide183.xml.rels" ContentType="application/vnd.openxmlformats-package.relationships+xml"/>
  <Override PartName="/ppt/slides/_rels/slide253.xml.rels" ContentType="application/vnd.openxmlformats-package.relationships+xml"/>
  <Override PartName="/ppt/slides/_rels/slide149.xml.rels" ContentType="application/vnd.openxmlformats-package.relationships+xml"/>
  <Override PartName="/ppt/slides/_rels/slide89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74.xml.rels" ContentType="application/vnd.openxmlformats-package.relationships+xml"/>
  <Override PartName="/ppt/slides/_rels/slide14.xml.rels" ContentType="application/vnd.openxmlformats-package.relationships+xml"/>
  <Override PartName="/ppt/slides/_rels/slide58.xml.rels" ContentType="application/vnd.openxmlformats-package.relationships+xml"/>
  <Override PartName="/ppt/slides/_rels/slide238.xml.rels" ContentType="application/vnd.openxmlformats-package.relationships+xml"/>
  <Override PartName="/ppt/slides/_rels/slide51.xml.rels" ContentType="application/vnd.openxmlformats-package.relationships+xml"/>
  <Override PartName="/ppt/slides/_rels/slide243.xml.rels" ContentType="application/vnd.openxmlformats-package.relationships+xml"/>
  <Override PartName="/ppt/slides/_rels/slide191.xml.rels" ContentType="application/vnd.openxmlformats-package.relationships+xml"/>
  <Override PartName="/ppt/slides/_rels/slide152.xml.rels" ContentType="application/vnd.openxmlformats-package.relationships+xml"/>
  <Override PartName="/ppt/slides/_rels/slide147.xml.rels" ContentType="application/vnd.openxmlformats-package.relationships+xml"/>
  <Override PartName="/ppt/slides/_rels/slide276.xml.rels" ContentType="application/vnd.openxmlformats-package.relationships+xml"/>
  <Override PartName="/ppt/slides/_rels/slide281.xml.rels" ContentType="application/vnd.openxmlformats-package.relationships+xml"/>
  <Override PartName="/ppt/slides/_rels/slide302.xml.rels" ContentType="application/vnd.openxmlformats-package.relationships+xml"/>
  <Override PartName="/ppt/slides/_rels/slide205.xml.rels" ContentType="application/vnd.openxmlformats-package.relationships+xml"/>
  <Override PartName="/ppt/slides/_rels/slide184.xml.rels" ContentType="application/vnd.openxmlformats-package.relationships+xml"/>
  <Override PartName="/ppt/slides/_rels/slide210.xml.rels" ContentType="application/vnd.openxmlformats-package.relationships+xml"/>
  <Override PartName="/ppt/slides/_rels/slide277.xml.rels" ContentType="application/vnd.openxmlformats-package.relationships+xml"/>
  <Override PartName="/ppt/slides/_rels/slide282.xml.rels" ContentType="application/vnd.openxmlformats-package.relationships+xml"/>
  <Override PartName="/ppt/slides/_rels/slide303.xml.rels" ContentType="application/vnd.openxmlformats-package.relationships+xml"/>
  <Override PartName="/ppt/slides/_rels/slide338.xml.rels" ContentType="application/vnd.openxmlformats-package.relationships+xml"/>
  <Override PartName="/ppt/slides/_rels/slide343.xml.rels" ContentType="application/vnd.openxmlformats-package.relationships+xml"/>
  <Override PartName="/ppt/slides/_rels/slide209.xml.rels" ContentType="application/vnd.openxmlformats-package.relationships+xml"/>
  <Override PartName="/ppt/slides/_rels/slide188.xml.rels" ContentType="application/vnd.openxmlformats-package.relationships+xml"/>
  <Override PartName="/ppt/slides/_rels/slide292.xml.rels" ContentType="application/vnd.openxmlformats-package.relationships+xml"/>
  <Override PartName="/ppt/slides/_rels/slide150.xml.rels" ContentType="application/vnd.openxmlformats-package.relationships+xml"/>
  <Override PartName="/ppt/slides/_rels/slide145.xml.rels" ContentType="application/vnd.openxmlformats-package.relationships+xml"/>
  <Override PartName="/ppt/slides/_rels/slide278.xml.rels" ContentType="application/vnd.openxmlformats-package.relationships+xml"/>
  <Override PartName="/ppt/slides/_rels/slide304.xml.rels" ContentType="application/vnd.openxmlformats-package.relationships+xml"/>
  <Override PartName="/ppt/slides/_rels/slide283.xml.rels" ContentType="application/vnd.openxmlformats-package.relationships+xml"/>
  <Override PartName="/ppt/slides/_rels/slide59.xml.rels" ContentType="application/vnd.openxmlformats-package.relationships+xml"/>
  <Override PartName="/ppt/slides/_rels/slide120.xml.rels" ContentType="application/vnd.openxmlformats-package.relationships+xml"/>
  <Override PartName="/ppt/slides/_rels/slide167.xml.rels" ContentType="application/vnd.openxmlformats-package.relationships+xml"/>
  <Override PartName="/ppt/slides/_rels/slide121.xml.rels" ContentType="application/vnd.openxmlformats-package.relationships+xml"/>
  <Override PartName="/ppt/slides/_rels/slide122.xml.rels" ContentType="application/vnd.openxmlformats-package.relationships+xml"/>
  <Override PartName="/ppt/slides/_rels/slide337.xml.rels" ContentType="application/vnd.openxmlformats-package.relationships+xml"/>
  <Override PartName="/ppt/slides/_rels/slide342.xml.rels" ContentType="application/vnd.openxmlformats-package.relationships+xml"/>
  <Override PartName="/ppt/slides/_rels/slide15.xml.rels" ContentType="application/vnd.openxmlformats-package.relationships+xml"/>
  <Override PartName="/ppt/slides/_rels/slide299.xml.rels" ContentType="application/vnd.openxmlformats-package.relationships+xml"/>
  <Override PartName="/ppt/slides/_rels/slide16.xml.rels" ContentType="application/vnd.openxmlformats-package.relationships+xml"/>
  <Override PartName="/ppt/slides/_rels/slide307.xml.rels" ContentType="application/vnd.openxmlformats-package.relationships+xml"/>
  <Override PartName="/ppt/slides/_rels/slide279.xml.rels" ContentType="application/vnd.openxmlformats-package.relationships+xml"/>
  <Override PartName="/ppt/slides/_rels/slide305.xml.rels" ContentType="application/vnd.openxmlformats-package.relationships+xml"/>
  <Override PartName="/ppt/slides/_rels/slide284.xml.rels" ContentType="application/vnd.openxmlformats-package.relationships+xml"/>
  <Override PartName="/ppt/slides/_rels/slide208.xml.rels" ContentType="application/vnd.openxmlformats-package.relationships+xml"/>
  <Override PartName="/ppt/slides/_rels/slide187.xml.rels" ContentType="application/vnd.openxmlformats-package.relationships+xml"/>
  <Override PartName="/ppt/slides/_rels/slide312.xml.rels" ContentType="application/vnd.openxmlformats-package.relationships+xml"/>
  <Override PartName="/ppt/slides/_rels/slide291.xml.rels" ContentType="application/vnd.openxmlformats-package.relationships+xml"/>
  <Override PartName="/ppt/slides/_rels/slide144.xml.rels" ContentType="application/vnd.openxmlformats-package.relationships+xml"/>
  <Override PartName="/ppt/slides/_rels/slide287.xml.rels" ContentType="application/vnd.openxmlformats-package.relationships+xml"/>
  <Override PartName="/ppt/slides/_rels/slide207.xml.rels" ContentType="application/vnd.openxmlformats-package.relationships+xml"/>
  <Override PartName="/ppt/slides/_rels/slide186.xml.rels" ContentType="application/vnd.openxmlformats-package.relationships+xml"/>
  <Override PartName="/ppt/slides/_rels/slide311.xml.rels" ContentType="application/vnd.openxmlformats-package.relationships+xml"/>
  <Override PartName="/ppt/slides/_rels/slide290.xml.rels" ContentType="application/vnd.openxmlformats-package.relationships+xml"/>
  <Override PartName="/ppt/slides/_rels/slide143.xml.rels" ContentType="application/vnd.openxmlformats-package.relationships+xml"/>
  <Override PartName="/ppt/slides/_rels/slide286.xml.rels" ContentType="application/vnd.openxmlformats-package.relationships+xml"/>
  <Override PartName="/ppt/slides/_rels/slide139.xml.rels" ContentType="application/vnd.openxmlformats-package.relationships+xml"/>
  <Override PartName="/ppt/slides/_rels/slide176.xml.rels" ContentType="application/vnd.openxmlformats-package.relationships+xml"/>
  <Override PartName="/ppt/slides/_rels/slide280.xml.rels" ContentType="application/vnd.openxmlformats-package.relationships+xml"/>
  <Override PartName="/ppt/slides/_rels/slide133.xml.rels" ContentType="application/vnd.openxmlformats-package.relationships+xml"/>
  <Override PartName="/ppt/slides/_rels/slide306.xml.rels" ContentType="application/vnd.openxmlformats-package.relationships+xml"/>
  <Override PartName="/ppt/slides/_rels/slide285.xml.rels" ContentType="application/vnd.openxmlformats-package.relationships+xml"/>
  <Override PartName="/ppt/slides/_rels/slide289.xml.rels" ContentType="application/vnd.openxmlformats-package.relationships+xml"/>
  <Override PartName="/ppt/slides/_rels/slide19.xml.rels" ContentType="application/vnd.openxmlformats-package.relationships+xml"/>
  <Override PartName="/ppt/slides/_rels/slide294.xml.rels" ContentType="application/vnd.openxmlformats-package.relationships+xml"/>
  <Override PartName="/ppt/slides/_rels/slide315.xml.rels" ContentType="application/vnd.openxmlformats-package.relationships+xml"/>
  <Override PartName="/ppt/slides/_rels/slide65.xml.rels" ContentType="application/vnd.openxmlformats-package.relationships+xml"/>
  <Override PartName="/ppt/slides/_rels/slide245.xml.rels" ContentType="application/vnd.openxmlformats-package.relationships+xml"/>
  <Override PartName="/ppt/slides/_rels/slide327.xml.rels" ContentType="application/vnd.openxmlformats-package.relationships+xml"/>
  <Override PartName="/ppt/slides/_rels/slide256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326.xml.rels" ContentType="application/vnd.openxmlformats-package.relationships+xml"/>
  <Override PartName="/ppt/slides/_rels/slide160.xml.rels" ContentType="application/vnd.openxmlformats-package.relationships+xml"/>
  <Override PartName="/ppt/slides/_rels/slide202.xml.rels" ContentType="application/vnd.openxmlformats-package.relationships+xml"/>
  <Override PartName="/ppt/slides/_rels/slide181.xml.rels" ContentType="application/vnd.openxmlformats-package.relationships+xml"/>
  <Override PartName="/ppt/slides/_rels/slide162.xml.rels" ContentType="application/vnd.openxmlformats-package.relationships+xml"/>
  <Override PartName="/ppt/slides/_rels/slide157.xml.rels" ContentType="application/vnd.openxmlformats-package.relationships+xml"/>
  <Override PartName="/ppt/slides/_rels/slide6.xml.rels" ContentType="application/vnd.openxmlformats-package.relationships+xml"/>
  <Override PartName="/ppt/slides/slide257.xml" ContentType="application/vnd.openxmlformats-officedocument.presentationml.slide+xml"/>
  <Override PartName="/ppt/slides/slide91.xml" ContentType="application/vnd.openxmlformats-officedocument.presentationml.slide+xml"/>
  <Override PartName="/ppt/slides/slide256.xml" ContentType="application/vnd.openxmlformats-officedocument.presentationml.slide+xml"/>
  <Override PartName="/ppt/slides/slide90.xml" ContentType="application/vnd.openxmlformats-officedocument.presentationml.slide+xml"/>
  <Override PartName="/ppt/slides/slide255.xml" ContentType="application/vnd.openxmlformats-officedocument.presentationml.slide+xml"/>
  <Override PartName="/ppt/slides/slide254.xml" ContentType="application/vnd.openxmlformats-officedocument.presentationml.slide+xml"/>
  <Override PartName="/ppt/slides/slide253.xml" ContentType="application/vnd.openxmlformats-officedocument.presentationml.slide+xml"/>
  <Override PartName="/ppt/slides/slide252.xml" ContentType="application/vnd.openxmlformats-officedocument.presentationml.slide+xml"/>
  <Override PartName="/ppt/slides/slide251.xml" ContentType="application/vnd.openxmlformats-officedocument.presentationml.slide+xml"/>
  <Override PartName="/ppt/slides/slide250.xml" ContentType="application/vnd.openxmlformats-officedocument.presentationml.slide+xml"/>
  <Override PartName="/ppt/slides/slide249.xml" ContentType="application/vnd.openxmlformats-officedocument.presentationml.slide+xml"/>
  <Override PartName="/ppt/slides/slide83.xml" ContentType="application/vnd.openxmlformats-officedocument.presentationml.slide+xml"/>
  <Override PartName="/ppt/slides/slide248.xml" ContentType="application/vnd.openxmlformats-officedocument.presentationml.slide+xml"/>
  <Override PartName="/ppt/slides/slide82.xml" ContentType="application/vnd.openxmlformats-officedocument.presentationml.slide+xml"/>
  <Override PartName="/ppt/slides/slide247.xml" ContentType="application/vnd.openxmlformats-officedocument.presentationml.slide+xml"/>
  <Override PartName="/ppt/slides/slide81.xml" ContentType="application/vnd.openxmlformats-officedocument.presentationml.slide+xml"/>
  <Override PartName="/ppt/slides/slide246.xml" ContentType="application/vnd.openxmlformats-officedocument.presentationml.slide+xml"/>
  <Override PartName="/ppt/slides/slide80.xml" ContentType="application/vnd.openxmlformats-officedocument.presentationml.slide+xml"/>
  <Override PartName="/ppt/slides/slide239.xml" ContentType="application/vnd.openxmlformats-officedocument.presentationml.slide+xml"/>
  <Override PartName="/ppt/slides/slide73.xml" ContentType="application/vnd.openxmlformats-officedocument.presentationml.slide+xml"/>
  <Override PartName="/ppt/slides/slide238.xml" ContentType="application/vnd.openxmlformats-officedocument.presentationml.slide+xml"/>
  <Override PartName="/ppt/slides/slide72.xml" ContentType="application/vnd.openxmlformats-officedocument.presentationml.slide+xml"/>
  <Override PartName="/ppt/slides/slide237.xml" ContentType="application/vnd.openxmlformats-officedocument.presentationml.slide+xml"/>
  <Override PartName="/ppt/slides/slide199.xml" ContentType="application/vnd.openxmlformats-officedocument.presentationml.slide+xml"/>
  <Override PartName="/ppt/slides/slide71.xml" ContentType="application/vnd.openxmlformats-officedocument.presentationml.slide+xml"/>
  <Override PartName="/ppt/slides/slide236.xml" ContentType="application/vnd.openxmlformats-officedocument.presentationml.slide+xml"/>
  <Override PartName="/ppt/slides/slide198.xml" ContentType="application/vnd.openxmlformats-officedocument.presentationml.slide+xml"/>
  <Override PartName="/ppt/slides/slide70.xml" ContentType="application/vnd.openxmlformats-officedocument.presentationml.slide+xml"/>
  <Override PartName="/ppt/slides/slide235.xml" ContentType="application/vnd.openxmlformats-officedocument.presentationml.slide+xml"/>
  <Override PartName="/ppt/slides/slide197.xml" ContentType="application/vnd.openxmlformats-officedocument.presentationml.slide+xml"/>
  <Override PartName="/ppt/slides/slide234.xml" ContentType="application/vnd.openxmlformats-officedocument.presentationml.slide+xml"/>
  <Override PartName="/ppt/slides/slide196.xml" ContentType="application/vnd.openxmlformats-officedocument.presentationml.slide+xml"/>
  <Override PartName="/ppt/slides/slide233.xml" ContentType="application/vnd.openxmlformats-officedocument.presentationml.slide+xml"/>
  <Override PartName="/ppt/slides/slide195.xml" ContentType="application/vnd.openxmlformats-officedocument.presentationml.slide+xml"/>
  <Override PartName="/ppt/slides/slide232.xml" ContentType="application/vnd.openxmlformats-officedocument.presentationml.slide+xml"/>
  <Override PartName="/ppt/slides/slide194.xml" ContentType="application/vnd.openxmlformats-officedocument.presentationml.slide+xml"/>
  <Override PartName="/ppt/slides/slide231.xml" ContentType="application/vnd.openxmlformats-officedocument.presentationml.slide+xml"/>
  <Override PartName="/ppt/slides/slide193.xml" ContentType="application/vnd.openxmlformats-officedocument.presentationml.slide+xml"/>
  <Override PartName="/ppt/slides/slide230.xml" ContentType="application/vnd.openxmlformats-officedocument.presentationml.slide+xml"/>
  <Override PartName="/ppt/slides/slide192.xml" ContentType="application/vnd.openxmlformats-officedocument.presentationml.slide+xml"/>
  <Override PartName="/ppt/slides/slide229.xml" ContentType="application/vnd.openxmlformats-officedocument.presentationml.slide+xml"/>
  <Override PartName="/ppt/slides/slide63.xml" ContentType="application/vnd.openxmlformats-officedocument.presentationml.slide+xml"/>
  <Override PartName="/ppt/slides/slide228.xml" ContentType="application/vnd.openxmlformats-officedocument.presentationml.slide+xml"/>
  <Override PartName="/ppt/slides/slide62.xml" ContentType="application/vnd.openxmlformats-officedocument.presentationml.slide+xml"/>
  <Override PartName="/ppt/slides/slide227.xml" ContentType="application/vnd.openxmlformats-officedocument.presentationml.slide+xml"/>
  <Override PartName="/ppt/slides/slide189.xml" ContentType="application/vnd.openxmlformats-officedocument.presentationml.slide+xml"/>
  <Override PartName="/ppt/slides/slide61.xml" ContentType="application/vnd.openxmlformats-officedocument.presentationml.slide+xml"/>
  <Override PartName="/ppt/slides/slide226.xml" ContentType="application/vnd.openxmlformats-officedocument.presentationml.slide+xml"/>
  <Override PartName="/ppt/slides/slide188.xml" ContentType="application/vnd.openxmlformats-officedocument.presentationml.slide+xml"/>
  <Override PartName="/ppt/slides/slide60.xml" ContentType="application/vnd.openxmlformats-officedocument.presentationml.slide+xml"/>
  <Override PartName="/ppt/slides/slide225.xml" ContentType="application/vnd.openxmlformats-officedocument.presentationml.slide+xml"/>
  <Override PartName="/ppt/slides/slide187.xml" ContentType="application/vnd.openxmlformats-officedocument.presentationml.slide+xml"/>
  <Override PartName="/ppt/slides/slide224.xml" ContentType="application/vnd.openxmlformats-officedocument.presentationml.slide+xml"/>
  <Override PartName="/ppt/slides/slide186.xml" ContentType="application/vnd.openxmlformats-officedocument.presentationml.slide+xml"/>
  <Override PartName="/ppt/slides/slide223.xml" ContentType="application/vnd.openxmlformats-officedocument.presentationml.slide+xml"/>
  <Override PartName="/ppt/slides/slide185.xml" ContentType="application/vnd.openxmlformats-officedocument.presentationml.slide+xml"/>
  <Override PartName="/ppt/slides/slide222.xml" ContentType="application/vnd.openxmlformats-officedocument.presentationml.slide+xml"/>
  <Override PartName="/ppt/slides/slide184.xml" ContentType="application/vnd.openxmlformats-officedocument.presentationml.slide+xml"/>
  <Override PartName="/ppt/slides/slide221.xml" ContentType="application/vnd.openxmlformats-officedocument.presentationml.slide+xml"/>
  <Override PartName="/ppt/slides/slide183.xml" ContentType="application/vnd.openxmlformats-officedocument.presentationml.slide+xml"/>
  <Override PartName="/ppt/slides/slide220.xml" ContentType="application/vnd.openxmlformats-officedocument.presentationml.slide+xml"/>
  <Override PartName="/ppt/slides/slide182.xml" ContentType="application/vnd.openxmlformats-officedocument.presentationml.slide+xml"/>
  <Override PartName="/ppt/slides/slide219.xml" ContentType="application/vnd.openxmlformats-officedocument.presentationml.slide+xml"/>
  <Override PartName="/ppt/slides/slide53.xml" ContentType="application/vnd.openxmlformats-officedocument.presentationml.slide+xml"/>
  <Override PartName="/ppt/slides/slide218.xml" ContentType="application/vnd.openxmlformats-officedocument.presentationml.slide+xml"/>
  <Override PartName="/ppt/slides/slide52.xml" ContentType="application/vnd.openxmlformats-officedocument.presentationml.slide+xml"/>
  <Override PartName="/ppt/slides/slide217.xml" ContentType="application/vnd.openxmlformats-officedocument.presentationml.slide+xml"/>
  <Override PartName="/ppt/slides/slide179.xml" ContentType="application/vnd.openxmlformats-officedocument.presentationml.slide+xml"/>
  <Override PartName="/ppt/slides/slide51.xml" ContentType="application/vnd.openxmlformats-officedocument.presentationml.slide+xml"/>
  <Override PartName="/ppt/slides/slide216.xml" ContentType="application/vnd.openxmlformats-officedocument.presentationml.slide+xml"/>
  <Override PartName="/ppt/slides/slide178.xml" ContentType="application/vnd.openxmlformats-officedocument.presentationml.slide+xml"/>
  <Override PartName="/ppt/slides/slide50.xml" ContentType="application/vnd.openxmlformats-officedocument.presentationml.slide+xml"/>
  <Override PartName="/ppt/slides/slide215.xml" ContentType="application/vnd.openxmlformats-officedocument.presentationml.slide+xml"/>
  <Override PartName="/ppt/slides/slide177.xml" ContentType="application/vnd.openxmlformats-officedocument.presentationml.slide+xml"/>
  <Override PartName="/ppt/slides/slide214.xml" ContentType="application/vnd.openxmlformats-officedocument.presentationml.slide+xml"/>
  <Override PartName="/ppt/slides/slide176.xml" ContentType="application/vnd.openxmlformats-officedocument.presentationml.slide+xml"/>
  <Override PartName="/ppt/slides/slide213.xml" ContentType="application/vnd.openxmlformats-officedocument.presentationml.slide+xml"/>
  <Override PartName="/ppt/slides/slide175.xml" ContentType="application/vnd.openxmlformats-officedocument.presentationml.slide+xml"/>
  <Override PartName="/ppt/slides/slide212.xml" ContentType="application/vnd.openxmlformats-officedocument.presentationml.slide+xml"/>
  <Override PartName="/ppt/slides/slide174.xml" ContentType="application/vnd.openxmlformats-officedocument.presentationml.slide+xml"/>
  <Override PartName="/ppt/slides/slide211.xml" ContentType="application/vnd.openxmlformats-officedocument.presentationml.slide+xml"/>
  <Override PartName="/ppt/slides/slide173.xml" ContentType="application/vnd.openxmlformats-officedocument.presentationml.slide+xml"/>
  <Override PartName="/ppt/slides/slide339.xml" ContentType="application/vnd.openxmlformats-officedocument.presentationml.slide+xml"/>
  <Override PartName="/ppt/slides/slide210.xml" ContentType="application/vnd.openxmlformats-officedocument.presentationml.slide+xml"/>
  <Override PartName="/ppt/slides/slide172.xml" ContentType="application/vnd.openxmlformats-officedocument.presentationml.slide+xml"/>
  <Override PartName="/ppt/slides/slide338.xml" ContentType="application/vnd.openxmlformats-officedocument.presentationml.slide+xml"/>
  <Override PartName="/ppt/slides/slide120.xml" ContentType="application/vnd.openxmlformats-officedocument.presentationml.slide+xml"/>
  <Override PartName="/ppt/slides/slide313.xml" ContentType="application/vnd.openxmlformats-officedocument.presentationml.slide+xml"/>
  <Override PartName="/ppt/slides/slide24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48.xml" ContentType="application/vnd.openxmlformats-officedocument.presentationml.slide+xml"/>
  <Override PartName="/ppt/slides/slide14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19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8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60.xml" ContentType="application/vnd.openxmlformats-officedocument.presentationml.slide+xml"/>
  <Override PartName="/ppt/slides/slide261.xml" ContentType="application/vnd.openxmlformats-officedocument.presentationml.slide+xml"/>
  <Override PartName="/ppt/slides/slide262.xml" ContentType="application/vnd.openxmlformats-officedocument.presentationml.slide+xml"/>
  <Override PartName="/ppt/slides/slide263.xml" ContentType="application/vnd.openxmlformats-officedocument.presentationml.slide+xml"/>
  <Override PartName="/ppt/slides/slide264.xml" ContentType="application/vnd.openxmlformats-officedocument.presentationml.slide+xml"/>
  <Override PartName="/ppt/slides/slide265.xml" ContentType="application/vnd.openxmlformats-officedocument.presentationml.slide+xml"/>
  <Override PartName="/ppt/slides/slide266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336.xml" ContentType="application/vnd.openxmlformats-officedocument.presentationml.slide+xml"/>
  <Override PartName="/ppt/slides/slide170.xml" ContentType="application/vnd.openxmlformats-officedocument.presentationml.slide+xml"/>
  <Override PartName="/ppt/slides/slide267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337.xml" ContentType="application/vnd.openxmlformats-officedocument.presentationml.slide+xml"/>
  <Override PartName="/ppt/slides/slide171.xml" ContentType="application/vnd.openxmlformats-officedocument.presentationml.slide+xml"/>
  <Override PartName="/ppt/slides/slide268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269.xml" ContentType="application/vnd.openxmlformats-officedocument.presentationml.slide+xml"/>
  <Override PartName="/ppt/slides/slide301.xml" ContentType="application/vnd.openxmlformats-officedocument.presentationml.slide+xml"/>
  <Override PartName="/ppt/slides/slide12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91.xml" ContentType="application/vnd.openxmlformats-officedocument.presentationml.slide+xml"/>
  <Override PartName="/ppt/slides/slide285.xml" ContentType="application/vnd.openxmlformats-officedocument.presentationml.slide+xml"/>
  <Override PartName="/ppt/slides/slide302.xml" ContentType="application/vnd.openxmlformats-officedocument.presentationml.slide+xml"/>
  <Override PartName="/ppt/slides/slide13.xml" ContentType="application/vnd.openxmlformats-officedocument.presentationml.slide+xml"/>
  <Override PartName="/ppt/slides/slide259.xml" ContentType="application/vnd.openxmlformats-officedocument.presentationml.slide+xml"/>
  <Override PartName="/ppt/slides/slide93.xml" ContentType="application/vnd.openxmlformats-officedocument.presentationml.slide+xml"/>
  <Override PartName="/ppt/slides/slide314.xml" ContentType="application/vnd.openxmlformats-officedocument.presentationml.slide+xml"/>
  <Override PartName="/ppt/slides/slide121.xml" ContentType="application/vnd.openxmlformats-officedocument.presentationml.slide+xml"/>
  <Override PartName="/ppt/slides/slide25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6.xml" ContentType="application/vnd.openxmlformats-officedocument.presentationml.slide+xml"/>
  <Override PartName="/ppt/slides/slide310.xml" ContentType="application/vnd.openxmlformats-officedocument.presentationml.slide+xml"/>
  <Override PartName="/ppt/slides/slide294.xml" ContentType="application/vnd.openxmlformats-officedocument.presentationml.slide+xml"/>
  <Override PartName="/ppt/slides/slide311.xml" ContentType="application/vnd.openxmlformats-officedocument.presentationml.slide+xml"/>
  <Override PartName="/ppt/slides/slide22.xml" ContentType="application/vnd.openxmlformats-officedocument.presentationml.slide+xml"/>
  <Override PartName="/ppt/slides/slide295.xml" ContentType="application/vnd.openxmlformats-officedocument.presentationml.slide+xml"/>
  <Override PartName="/ppt/slides/slide113.xml" ContentType="application/vnd.openxmlformats-officedocument.presentationml.slide+xml"/>
  <Override PartName="/ppt/slides/slide181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312.xml" ContentType="application/vnd.openxmlformats-officedocument.presentationml.slide+xml"/>
  <Override PartName="/ppt/slides/slide23.xml" ContentType="application/vnd.openxmlformats-officedocument.presentationml.slide+xml"/>
  <Override PartName="/ppt/slides/slide296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297.xml" ContentType="application/vnd.openxmlformats-officedocument.presentationml.slide+xml"/>
  <Override PartName="/ppt/slides/slide298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43.xml" ContentType="application/vnd.openxmlformats-officedocument.presentationml.slide+xml"/>
  <Override PartName="/ppt/slides/slide309.xml" ContentType="application/vnd.openxmlformats-officedocument.presentationml.slide+xml"/>
  <Override PartName="/ppt/slides/slide315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299.xml" ContentType="application/vnd.openxmlformats-officedocument.presentationml.slide+xml"/>
  <Override PartName="/ppt/slides/slide68.xml" ContentType="application/vnd.openxmlformats-officedocument.presentationml.slide+xml"/>
  <Override PartName="/ppt/slides/slide320.xml" ContentType="application/vnd.openxmlformats-officedocument.presentationml.slide+xml"/>
  <Override PartName="/ppt/slides/slide69.xml" ContentType="application/vnd.openxmlformats-officedocument.presentationml.slide+xml"/>
  <Override PartName="/ppt/slides/slide321.xml" ContentType="application/vnd.openxmlformats-officedocument.presentationml.slide+xml"/>
  <Override PartName="/ppt/slides/slide32.xml" ContentType="application/vnd.openxmlformats-officedocument.presentationml.slide+xml"/>
  <Override PartName="/ppt/slides/slide322.xml" ContentType="application/vnd.openxmlformats-officedocument.presentationml.slide+xml"/>
  <Override PartName="/ppt/slides/slide33.xml" ContentType="application/vnd.openxmlformats-officedocument.presentationml.slide+xml"/>
  <Override PartName="/ppt/slides/slide32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270.xml" ContentType="application/vnd.openxmlformats-officedocument.presentationml.slide+xml"/>
  <Override PartName="/ppt/slides/slide164.xml" ContentType="application/vnd.openxmlformats-officedocument.presentationml.slide+xml"/>
  <Override PartName="/ppt/slides/slide202.xml" ContentType="application/vnd.openxmlformats-officedocument.presentationml.slide+xml"/>
  <Override PartName="/ppt/slides/slide344.xml" ContentType="application/vnd.openxmlformats-officedocument.presentationml.slide+xml"/>
  <Override PartName="/ppt/slides/slide55.xml" ContentType="application/vnd.openxmlformats-officedocument.presentationml.slide+xml"/>
  <Override PartName="/ppt/slides/slide317.xml" ContentType="application/vnd.openxmlformats-officedocument.presentationml.slide+xml"/>
  <Override PartName="/ppt/slides/slide151.xml" ContentType="application/vnd.openxmlformats-officedocument.presentationml.slide+xml"/>
  <Override PartName="/ppt/slides/slide291.xml" ContentType="application/vnd.openxmlformats-officedocument.presentationml.slide+xml"/>
  <Override PartName="/ppt/slides/slide332.xml" ContentType="application/vnd.openxmlformats-officedocument.presentationml.slide+xml"/>
  <Override PartName="/ppt/slides/slide209.xml" ContentType="application/vnd.openxmlformats-officedocument.presentationml.slide+xml"/>
  <Override PartName="/ppt/slides/slide43.xml" ContentType="application/vnd.openxmlformats-officedocument.presentationml.slide+xml"/>
  <Override PartName="/ppt/slides/slide343.xml" ContentType="application/vnd.openxmlformats-officedocument.presentationml.slide+xml"/>
  <Override PartName="/ppt/slides/slide54.xml" ContentType="application/vnd.openxmlformats-officedocument.presentationml.slide+xml"/>
  <Override PartName="/ppt/slides/slide316.xml" ContentType="application/vnd.openxmlformats-officedocument.presentationml.slide+xml"/>
  <Override PartName="/ppt/slides/slide150.xml" ContentType="application/vnd.openxmlformats-officedocument.presentationml.slide+xml"/>
  <Override PartName="/ppt/slides/slide290.xml" ContentType="application/vnd.openxmlformats-officedocument.presentationml.slide+xml"/>
  <Override PartName="/ppt/slides/slide3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305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289.xml" ContentType="application/vnd.openxmlformats-officedocument.presentationml.slide+xml"/>
  <Override PartName="/ppt/slides/slide342.xml" ContentType="application/vnd.openxmlformats-officedocument.presentationml.slide+xml"/>
  <Override PartName="/ppt/slides/slide330.xml" ContentType="application/vnd.openxmlformats-officedocument.presentationml.slide+xml"/>
  <Override PartName="/ppt/slides/slide304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288.xml" ContentType="application/vnd.openxmlformats-officedocument.presentationml.slide+xml"/>
  <Override PartName="/ppt/slides/slide341.xml" ContentType="application/vnd.openxmlformats-officedocument.presentationml.slide+xml"/>
  <Override PartName="/ppt/slides/slide303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287.xml" ContentType="application/vnd.openxmlformats-officedocument.presentationml.slide+xml"/>
  <Override PartName="/ppt/slides/slide340.xml" ContentType="application/vnd.openxmlformats-officedocument.presentationml.slide+xml"/>
  <Override PartName="/ppt/slides/slide101.xml" ContentType="application/vnd.openxmlformats-officedocument.presentationml.slide+xml"/>
  <Override PartName="/ppt/slides/slide300.xml" ContentType="application/vnd.openxmlformats-officedocument.presentationml.slide+xml"/>
  <Override PartName="/ppt/slides/slide284.xml" ContentType="application/vnd.openxmlformats-officedocument.presentationml.slide+xml"/>
  <Override PartName="/ppt/slides/slide335.xml" ContentType="application/vnd.openxmlformats-officedocument.presentationml.slide+xml"/>
  <Override PartName="/ppt/slides/slide46.xml" ContentType="application/vnd.openxmlformats-officedocument.presentationml.slide+xml"/>
  <Override PartName="/ppt/slides/slide308.xml" ContentType="application/vnd.openxmlformats-officedocument.presentationml.slide+xml"/>
  <Override PartName="/ppt/slides/slide142.xml" ContentType="application/vnd.openxmlformats-officedocument.presentationml.slide+xml"/>
  <Override PartName="/ppt/slides/slide282.xml" ContentType="application/vnd.openxmlformats-officedocument.presentationml.slide+xml"/>
  <Override PartName="/ppt/slides/slide334.xml" ContentType="application/vnd.openxmlformats-officedocument.presentationml.slide+xml"/>
  <Override PartName="/ppt/slides/slide45.xml" ContentType="application/vnd.openxmlformats-officedocument.presentationml.slide+xml"/>
  <Override PartName="/ppt/slides/slide307.xml" ContentType="application/vnd.openxmlformats-officedocument.presentationml.slide+xml"/>
  <Override PartName="/ppt/slides/slide141.xml" ContentType="application/vnd.openxmlformats-officedocument.presentationml.slide+xml"/>
  <Override PartName="/ppt/slides/slide281.xml" ContentType="application/vnd.openxmlformats-officedocument.presentationml.slide+xml"/>
  <Override PartName="/ppt/slides/slide333.xml" ContentType="application/vnd.openxmlformats-officedocument.presentationml.slide+xml"/>
  <Override PartName="/ppt/slides/slide44.xml" ContentType="application/vnd.openxmlformats-officedocument.presentationml.slide+xml"/>
  <Override PartName="/ppt/slides/slide306.xml" ContentType="application/vnd.openxmlformats-officedocument.presentationml.slide+xml"/>
  <Override PartName="/ppt/slides/slide140.xml" ContentType="application/vnd.openxmlformats-officedocument.presentationml.slide+xml"/>
  <Override PartName="/ppt/slides/slide280.xml" ContentType="application/vnd.openxmlformats-officedocument.presentationml.slide+xml"/>
  <Override PartName="/ppt/slides/slide32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272.xml" ContentType="application/vnd.openxmlformats-officedocument.presentationml.slide+xml"/>
  <Override PartName="/ppt/slides/slide324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271.xml" ContentType="application/vnd.openxmlformats-officedocument.presentationml.slide+xml"/>
  <Override PartName="/ppt/slides/slide165.xml" ContentType="application/vnd.openxmlformats-officedocument.presentationml.slide+xml"/>
  <Override PartName="/ppt/slides/slide203.xml" ContentType="application/vnd.openxmlformats-officedocument.presentationml.slide+xml"/>
  <Override PartName="/ppt/slides/slide293.xml" ContentType="application/vnd.openxmlformats-officedocument.presentationml.slide+xml"/>
  <Override PartName="/ppt/slides/slide292.xml" ContentType="application/vnd.openxmlformats-officedocument.presentationml.slide+xml"/>
  <Override PartName="/ppt/slides/slide283.xml" ContentType="application/vnd.openxmlformats-officedocument.presentationml.slide+xml"/>
  <Override PartName="/ppt/slides/slide279.xml" ContentType="application/vnd.openxmlformats-officedocument.presentationml.slide+xml"/>
  <Override PartName="/ppt/slides/slide278.xml" ContentType="application/vnd.openxmlformats-officedocument.presentationml.slide+xml"/>
  <Override PartName="/ppt/slides/slide277.xml" ContentType="application/vnd.openxmlformats-officedocument.presentationml.slide+xml"/>
  <Override PartName="/ppt/slides/slide276.xml" ContentType="application/vnd.openxmlformats-officedocument.presentationml.slide+xml"/>
  <Override PartName="/ppt/slides/slide42.xml" ContentType="application/vnd.openxmlformats-officedocument.presentationml.slide+xml"/>
  <Override PartName="/ppt/slides/slide208.xml" ContentType="application/vnd.openxmlformats-officedocument.presentationml.slide+xml"/>
  <Override PartName="/ppt/slides/slide275.xml" ContentType="application/vnd.openxmlformats-officedocument.presentationml.slide+xml"/>
  <Override PartName="/ppt/slides/slide274.xml" ContentType="application/vnd.openxmlformats-officedocument.presentationml.slide+xml"/>
  <Override PartName="/ppt/slides/slide273.xml" ContentType="application/vnd.openxmlformats-officedocument.presentationml.slide+xml"/>
  <Override PartName="/ppt/slides/slide92.xml" ContentType="application/vnd.openxmlformats-officedocument.presentationml.slide+xml"/>
  <Override PartName="/ppt/slides/slide25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32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32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57.xml" ContentType="application/vnd.openxmlformats-officedocument.presentationml.slide+xml"/>
  <Override PartName="/ppt/slides/slide319.xml" ContentType="application/vnd.openxmlformats-officedocument.presentationml.slide+xml"/>
  <Override PartName="/ppt/slides/slide153.xml" ContentType="application/vnd.openxmlformats-officedocument.presentationml.slide+xml"/>
  <Override PartName="/ppt/slides/slide1.xml" ContentType="application/vnd.openxmlformats-officedocument.presentationml.slide+xml"/>
  <Override PartName="/ppt/slides/slide205.xml" ContentType="application/vnd.openxmlformats-officedocument.presentationml.slide+xml"/>
  <Override PartName="/ppt/slides/slide167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243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207.xml" ContentType="application/vnd.openxmlformats-officedocument.presentationml.slide+xml"/>
  <Override PartName="/ppt/slides/slide169.xml" ContentType="application/vnd.openxmlformats-officedocument.presentationml.slide+xml"/>
  <Override PartName="/ppt/slides/slide8.xml" ContentType="application/vnd.openxmlformats-officedocument.presentationml.slide+xml"/>
  <Override PartName="/ppt/slides/slide244.xml" ContentType="application/vnd.openxmlformats-officedocument.presentationml.slide+xml"/>
  <Override PartName="/ppt/slides/slide4.xml" ContentType="application/vnd.openxmlformats-officedocument.presentationml.slide+xml"/>
  <Override PartName="/ppt/slides/slide240.xml" ContentType="application/vnd.openxmlformats-officedocument.presentationml.slide+xml"/>
  <Override PartName="/ppt/slides/slide9.xml" ContentType="application/vnd.openxmlformats-officedocument.presentationml.slide+xml"/>
  <Override PartName="/ppt/slides/slide245.xml" ContentType="application/vnd.openxmlformats-officedocument.presentationml.slide+xml"/>
  <Override PartName="/ppt/slides/slide5.xml" ContentType="application/vnd.openxmlformats-officedocument.presentationml.slide+xml"/>
  <Override PartName="/ppt/slides/slide241.xml" ContentType="application/vnd.openxmlformats-officedocument.presentationml.slide+xml"/>
  <Override PartName="/ppt/slides/slide49.xml" ContentType="application/vnd.openxmlformats-officedocument.presentationml.slide+xml"/>
  <Override PartName="/ppt/slides/slide145.xml" ContentType="application/vnd.openxmlformats-officedocument.presentationml.slide+xml"/>
  <Override PartName="/ppt/slides/slide6.xml" ContentType="application/vnd.openxmlformats-officedocument.presentationml.slide+xml"/>
  <Override PartName="/ppt/slides/slide242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56.xml" ContentType="application/vnd.openxmlformats-officedocument.presentationml.slide+xml"/>
  <Override PartName="/ppt/slides/slide318.xml" ContentType="application/vnd.openxmlformats-officedocument.presentationml.slide+xml"/>
  <Override PartName="/ppt/slides/slide152.xml" ContentType="application/vnd.openxmlformats-officedocument.presentationml.slide+xml"/>
  <Override PartName="/ppt/slides/slide128.xml" ContentType="application/vnd.openxmlformats-officedocument.presentationml.slide+xml"/>
  <Override PartName="/ppt/slides/slide12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0.xml" ContentType="application/vnd.openxmlformats-officedocument.presentationml.slide+xml"/>
  <Override PartName="/ppt/slides/slide138.xml" ContentType="application/vnd.openxmlformats-officedocument.presentationml.slide+xml"/>
  <Override PartName="/ppt/slides/slide11.xml" ContentType="application/vnd.openxmlformats-officedocument.presentationml.slide+xml"/>
  <Override PartName="/ppt/slides/slide13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0.xml" ContentType="application/vnd.openxmlformats-officedocument.presentationml.slide+xml"/>
  <Override PartName="/ppt/slides/slide148.xml" ContentType="application/vnd.openxmlformats-officedocument.presentationml.slide+xml"/>
  <Override PartName="/ppt/slides/slide21.xml" ContentType="application/vnd.openxmlformats-officedocument.presentationml.slide+xml"/>
  <Override PartName="/ppt/slides/slide149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30.xml" ContentType="application/vnd.openxmlformats-officedocument.presentationml.slide+xml"/>
  <Override PartName="/ppt/slides/slide158.xml" ContentType="application/vnd.openxmlformats-officedocument.presentationml.slide+xml"/>
  <Override PartName="/ppt/slides/slide31.xml" ContentType="application/vnd.openxmlformats-officedocument.presentationml.slide+xml"/>
  <Override PartName="/ppt/slides/slide159.xml" ContentType="application/vnd.openxmlformats-officedocument.presentationml.slide+xml"/>
  <Override PartName="/ppt/slides/slide162.xml" ContentType="application/vnd.openxmlformats-officedocument.presentationml.slide+xml"/>
  <Override PartName="/ppt/slides/slide328.xml" ContentType="application/vnd.openxmlformats-officedocument.presentationml.slide+xml"/>
  <Override PartName="/ppt/slides/slide200.xml" ContentType="application/vnd.openxmlformats-officedocument.presentationml.slide+xml"/>
  <Override PartName="/ppt/slides/slide163.xml" ContentType="application/vnd.openxmlformats-officedocument.presentationml.slide+xml"/>
  <Override PartName="/ppt/slides/slide329.xml" ContentType="application/vnd.openxmlformats-officedocument.presentationml.slide+xml"/>
  <Override PartName="/ppt/slides/slide201.xml" ContentType="application/vnd.openxmlformats-officedocument.presentationml.slide+xml"/>
  <Override PartName="/ppt/slides/slide204.xml" ContentType="application/vnd.openxmlformats-officedocument.presentationml.slide+xml"/>
  <Override PartName="/ppt/slides/slide166.xml" ContentType="application/vnd.openxmlformats-officedocument.presentationml.slide+xml"/>
  <Override PartName="/ppt/slides/slide206.xml" ContentType="application/vnd.openxmlformats-officedocument.presentationml.slide+xml"/>
  <Override PartName="/ppt/slides/slide168.xml" ContentType="application/vnd.openxmlformats-officedocument.presentationml.slide+xml"/>
  <Override PartName="/ppt/slides/slide4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  <p:sldId id="449" r:id="rId197"/>
    <p:sldId id="450" r:id="rId198"/>
    <p:sldId id="451" r:id="rId199"/>
    <p:sldId id="452" r:id="rId200"/>
    <p:sldId id="453" r:id="rId201"/>
    <p:sldId id="454" r:id="rId202"/>
    <p:sldId id="455" r:id="rId203"/>
    <p:sldId id="456" r:id="rId204"/>
    <p:sldId id="457" r:id="rId205"/>
    <p:sldId id="458" r:id="rId206"/>
    <p:sldId id="459" r:id="rId207"/>
    <p:sldId id="460" r:id="rId208"/>
    <p:sldId id="461" r:id="rId209"/>
    <p:sldId id="462" r:id="rId210"/>
    <p:sldId id="463" r:id="rId211"/>
    <p:sldId id="464" r:id="rId212"/>
    <p:sldId id="465" r:id="rId213"/>
    <p:sldId id="466" r:id="rId214"/>
    <p:sldId id="467" r:id="rId215"/>
    <p:sldId id="468" r:id="rId216"/>
    <p:sldId id="469" r:id="rId217"/>
    <p:sldId id="470" r:id="rId218"/>
    <p:sldId id="471" r:id="rId219"/>
    <p:sldId id="472" r:id="rId220"/>
    <p:sldId id="473" r:id="rId221"/>
    <p:sldId id="474" r:id="rId222"/>
    <p:sldId id="475" r:id="rId223"/>
    <p:sldId id="476" r:id="rId224"/>
    <p:sldId id="477" r:id="rId225"/>
    <p:sldId id="478" r:id="rId226"/>
    <p:sldId id="479" r:id="rId227"/>
    <p:sldId id="480" r:id="rId228"/>
    <p:sldId id="481" r:id="rId229"/>
    <p:sldId id="482" r:id="rId230"/>
    <p:sldId id="483" r:id="rId231"/>
    <p:sldId id="484" r:id="rId232"/>
    <p:sldId id="485" r:id="rId233"/>
    <p:sldId id="486" r:id="rId234"/>
    <p:sldId id="487" r:id="rId235"/>
    <p:sldId id="488" r:id="rId236"/>
    <p:sldId id="489" r:id="rId237"/>
    <p:sldId id="490" r:id="rId238"/>
    <p:sldId id="491" r:id="rId239"/>
    <p:sldId id="492" r:id="rId240"/>
    <p:sldId id="493" r:id="rId241"/>
    <p:sldId id="494" r:id="rId242"/>
    <p:sldId id="495" r:id="rId243"/>
    <p:sldId id="496" r:id="rId244"/>
    <p:sldId id="497" r:id="rId245"/>
    <p:sldId id="498" r:id="rId246"/>
    <p:sldId id="499" r:id="rId247"/>
    <p:sldId id="500" r:id="rId248"/>
    <p:sldId id="501" r:id="rId249"/>
    <p:sldId id="502" r:id="rId250"/>
    <p:sldId id="503" r:id="rId251"/>
    <p:sldId id="504" r:id="rId252"/>
    <p:sldId id="505" r:id="rId253"/>
    <p:sldId id="506" r:id="rId254"/>
    <p:sldId id="507" r:id="rId255"/>
    <p:sldId id="508" r:id="rId256"/>
    <p:sldId id="509" r:id="rId257"/>
    <p:sldId id="510" r:id="rId258"/>
    <p:sldId id="511" r:id="rId259"/>
    <p:sldId id="512" r:id="rId260"/>
    <p:sldId id="513" r:id="rId261"/>
    <p:sldId id="514" r:id="rId262"/>
    <p:sldId id="515" r:id="rId263"/>
    <p:sldId id="516" r:id="rId264"/>
    <p:sldId id="517" r:id="rId265"/>
    <p:sldId id="518" r:id="rId266"/>
    <p:sldId id="519" r:id="rId267"/>
    <p:sldId id="520" r:id="rId268"/>
    <p:sldId id="521" r:id="rId269"/>
    <p:sldId id="522" r:id="rId270"/>
    <p:sldId id="523" r:id="rId271"/>
    <p:sldId id="524" r:id="rId272"/>
    <p:sldId id="525" r:id="rId273"/>
    <p:sldId id="526" r:id="rId274"/>
    <p:sldId id="527" r:id="rId275"/>
    <p:sldId id="528" r:id="rId276"/>
    <p:sldId id="529" r:id="rId277"/>
    <p:sldId id="530" r:id="rId278"/>
    <p:sldId id="531" r:id="rId279"/>
    <p:sldId id="532" r:id="rId280"/>
    <p:sldId id="533" r:id="rId281"/>
    <p:sldId id="534" r:id="rId282"/>
    <p:sldId id="535" r:id="rId283"/>
    <p:sldId id="536" r:id="rId284"/>
    <p:sldId id="537" r:id="rId285"/>
    <p:sldId id="538" r:id="rId286"/>
    <p:sldId id="539" r:id="rId287"/>
    <p:sldId id="540" r:id="rId288"/>
    <p:sldId id="541" r:id="rId289"/>
    <p:sldId id="542" r:id="rId290"/>
    <p:sldId id="543" r:id="rId291"/>
    <p:sldId id="544" r:id="rId292"/>
    <p:sldId id="545" r:id="rId293"/>
    <p:sldId id="546" r:id="rId294"/>
    <p:sldId id="547" r:id="rId295"/>
    <p:sldId id="548" r:id="rId296"/>
    <p:sldId id="549" r:id="rId297"/>
    <p:sldId id="550" r:id="rId298"/>
    <p:sldId id="551" r:id="rId299"/>
    <p:sldId id="552" r:id="rId300"/>
    <p:sldId id="553" r:id="rId301"/>
    <p:sldId id="554" r:id="rId302"/>
    <p:sldId id="555" r:id="rId303"/>
    <p:sldId id="556" r:id="rId304"/>
    <p:sldId id="557" r:id="rId305"/>
    <p:sldId id="558" r:id="rId306"/>
    <p:sldId id="559" r:id="rId307"/>
    <p:sldId id="560" r:id="rId308"/>
    <p:sldId id="561" r:id="rId309"/>
    <p:sldId id="562" r:id="rId310"/>
    <p:sldId id="563" r:id="rId311"/>
    <p:sldId id="564" r:id="rId312"/>
    <p:sldId id="565" r:id="rId313"/>
    <p:sldId id="566" r:id="rId314"/>
    <p:sldId id="567" r:id="rId315"/>
    <p:sldId id="568" r:id="rId316"/>
    <p:sldId id="569" r:id="rId317"/>
    <p:sldId id="570" r:id="rId318"/>
    <p:sldId id="571" r:id="rId319"/>
    <p:sldId id="572" r:id="rId320"/>
    <p:sldId id="573" r:id="rId321"/>
    <p:sldId id="574" r:id="rId322"/>
    <p:sldId id="575" r:id="rId323"/>
    <p:sldId id="576" r:id="rId324"/>
    <p:sldId id="577" r:id="rId325"/>
    <p:sldId id="578" r:id="rId326"/>
    <p:sldId id="579" r:id="rId327"/>
    <p:sldId id="580" r:id="rId328"/>
    <p:sldId id="581" r:id="rId329"/>
    <p:sldId id="582" r:id="rId330"/>
    <p:sldId id="583" r:id="rId331"/>
    <p:sldId id="584" r:id="rId332"/>
    <p:sldId id="585" r:id="rId333"/>
    <p:sldId id="586" r:id="rId334"/>
    <p:sldId id="587" r:id="rId335"/>
    <p:sldId id="588" r:id="rId336"/>
    <p:sldId id="589" r:id="rId337"/>
    <p:sldId id="590" r:id="rId338"/>
    <p:sldId id="591" r:id="rId339"/>
    <p:sldId id="592" r:id="rId340"/>
    <p:sldId id="593" r:id="rId341"/>
    <p:sldId id="594" r:id="rId342"/>
    <p:sldId id="595" r:id="rId343"/>
    <p:sldId id="596" r:id="rId344"/>
    <p:sldId id="597" r:id="rId345"/>
    <p:sldId id="598" r:id="rId346"/>
    <p:sldId id="599" r:id="rId347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slide" Target="slides/slide194.xml"/><Relationship Id="rId198" Type="http://schemas.openxmlformats.org/officeDocument/2006/relationships/slide" Target="slides/slide195.xml"/><Relationship Id="rId199" Type="http://schemas.openxmlformats.org/officeDocument/2006/relationships/slide" Target="slides/slide196.xml"/><Relationship Id="rId200" Type="http://schemas.openxmlformats.org/officeDocument/2006/relationships/slide" Target="slides/slide197.xml"/><Relationship Id="rId201" Type="http://schemas.openxmlformats.org/officeDocument/2006/relationships/slide" Target="slides/slide198.xml"/><Relationship Id="rId202" Type="http://schemas.openxmlformats.org/officeDocument/2006/relationships/slide" Target="slides/slide199.xml"/><Relationship Id="rId203" Type="http://schemas.openxmlformats.org/officeDocument/2006/relationships/slide" Target="slides/slide200.xml"/><Relationship Id="rId204" Type="http://schemas.openxmlformats.org/officeDocument/2006/relationships/slide" Target="slides/slide201.xml"/><Relationship Id="rId205" Type="http://schemas.openxmlformats.org/officeDocument/2006/relationships/slide" Target="slides/slide202.xml"/><Relationship Id="rId206" Type="http://schemas.openxmlformats.org/officeDocument/2006/relationships/slide" Target="slides/slide203.xml"/><Relationship Id="rId207" Type="http://schemas.openxmlformats.org/officeDocument/2006/relationships/slide" Target="slides/slide204.xml"/><Relationship Id="rId208" Type="http://schemas.openxmlformats.org/officeDocument/2006/relationships/slide" Target="slides/slide205.xml"/><Relationship Id="rId209" Type="http://schemas.openxmlformats.org/officeDocument/2006/relationships/slide" Target="slides/slide206.xml"/><Relationship Id="rId210" Type="http://schemas.openxmlformats.org/officeDocument/2006/relationships/slide" Target="slides/slide207.xml"/><Relationship Id="rId211" Type="http://schemas.openxmlformats.org/officeDocument/2006/relationships/slide" Target="slides/slide208.xml"/><Relationship Id="rId212" Type="http://schemas.openxmlformats.org/officeDocument/2006/relationships/slide" Target="slides/slide209.xml"/><Relationship Id="rId213" Type="http://schemas.openxmlformats.org/officeDocument/2006/relationships/slide" Target="slides/slide210.xml"/><Relationship Id="rId214" Type="http://schemas.openxmlformats.org/officeDocument/2006/relationships/slide" Target="slides/slide211.xml"/><Relationship Id="rId215" Type="http://schemas.openxmlformats.org/officeDocument/2006/relationships/slide" Target="slides/slide212.xml"/><Relationship Id="rId216" Type="http://schemas.openxmlformats.org/officeDocument/2006/relationships/slide" Target="slides/slide213.xml"/><Relationship Id="rId217" Type="http://schemas.openxmlformats.org/officeDocument/2006/relationships/slide" Target="slides/slide214.xml"/><Relationship Id="rId218" Type="http://schemas.openxmlformats.org/officeDocument/2006/relationships/slide" Target="slides/slide215.xml"/><Relationship Id="rId219" Type="http://schemas.openxmlformats.org/officeDocument/2006/relationships/slide" Target="slides/slide216.xml"/><Relationship Id="rId220" Type="http://schemas.openxmlformats.org/officeDocument/2006/relationships/slide" Target="slides/slide217.xml"/><Relationship Id="rId221" Type="http://schemas.openxmlformats.org/officeDocument/2006/relationships/slide" Target="slides/slide218.xml"/><Relationship Id="rId222" Type="http://schemas.openxmlformats.org/officeDocument/2006/relationships/slide" Target="slides/slide219.xml"/><Relationship Id="rId223" Type="http://schemas.openxmlformats.org/officeDocument/2006/relationships/slide" Target="slides/slide220.xml"/><Relationship Id="rId224" Type="http://schemas.openxmlformats.org/officeDocument/2006/relationships/slide" Target="slides/slide221.xml"/><Relationship Id="rId225" Type="http://schemas.openxmlformats.org/officeDocument/2006/relationships/slide" Target="slides/slide222.xml"/><Relationship Id="rId226" Type="http://schemas.openxmlformats.org/officeDocument/2006/relationships/slide" Target="slides/slide223.xml"/><Relationship Id="rId227" Type="http://schemas.openxmlformats.org/officeDocument/2006/relationships/slide" Target="slides/slide224.xml"/><Relationship Id="rId228" Type="http://schemas.openxmlformats.org/officeDocument/2006/relationships/slide" Target="slides/slide225.xml"/><Relationship Id="rId229" Type="http://schemas.openxmlformats.org/officeDocument/2006/relationships/slide" Target="slides/slide226.xml"/><Relationship Id="rId230" Type="http://schemas.openxmlformats.org/officeDocument/2006/relationships/slide" Target="slides/slide227.xml"/><Relationship Id="rId231" Type="http://schemas.openxmlformats.org/officeDocument/2006/relationships/slide" Target="slides/slide228.xml"/><Relationship Id="rId232" Type="http://schemas.openxmlformats.org/officeDocument/2006/relationships/slide" Target="slides/slide229.xml"/><Relationship Id="rId233" Type="http://schemas.openxmlformats.org/officeDocument/2006/relationships/slide" Target="slides/slide230.xml"/><Relationship Id="rId234" Type="http://schemas.openxmlformats.org/officeDocument/2006/relationships/slide" Target="slides/slide231.xml"/><Relationship Id="rId235" Type="http://schemas.openxmlformats.org/officeDocument/2006/relationships/slide" Target="slides/slide232.xml"/><Relationship Id="rId236" Type="http://schemas.openxmlformats.org/officeDocument/2006/relationships/slide" Target="slides/slide233.xml"/><Relationship Id="rId237" Type="http://schemas.openxmlformats.org/officeDocument/2006/relationships/slide" Target="slides/slide234.xml"/><Relationship Id="rId238" Type="http://schemas.openxmlformats.org/officeDocument/2006/relationships/slide" Target="slides/slide235.xml"/><Relationship Id="rId239" Type="http://schemas.openxmlformats.org/officeDocument/2006/relationships/slide" Target="slides/slide236.xml"/><Relationship Id="rId240" Type="http://schemas.openxmlformats.org/officeDocument/2006/relationships/slide" Target="slides/slide237.xml"/><Relationship Id="rId241" Type="http://schemas.openxmlformats.org/officeDocument/2006/relationships/slide" Target="slides/slide238.xml"/><Relationship Id="rId242" Type="http://schemas.openxmlformats.org/officeDocument/2006/relationships/slide" Target="slides/slide239.xml"/><Relationship Id="rId243" Type="http://schemas.openxmlformats.org/officeDocument/2006/relationships/slide" Target="slides/slide240.xml"/><Relationship Id="rId244" Type="http://schemas.openxmlformats.org/officeDocument/2006/relationships/slide" Target="slides/slide241.xml"/><Relationship Id="rId245" Type="http://schemas.openxmlformats.org/officeDocument/2006/relationships/slide" Target="slides/slide242.xml"/><Relationship Id="rId246" Type="http://schemas.openxmlformats.org/officeDocument/2006/relationships/slide" Target="slides/slide243.xml"/><Relationship Id="rId247" Type="http://schemas.openxmlformats.org/officeDocument/2006/relationships/slide" Target="slides/slide244.xml"/><Relationship Id="rId248" Type="http://schemas.openxmlformats.org/officeDocument/2006/relationships/slide" Target="slides/slide245.xml"/><Relationship Id="rId249" Type="http://schemas.openxmlformats.org/officeDocument/2006/relationships/slide" Target="slides/slide246.xml"/><Relationship Id="rId250" Type="http://schemas.openxmlformats.org/officeDocument/2006/relationships/slide" Target="slides/slide247.xml"/><Relationship Id="rId251" Type="http://schemas.openxmlformats.org/officeDocument/2006/relationships/slide" Target="slides/slide248.xml"/><Relationship Id="rId252" Type="http://schemas.openxmlformats.org/officeDocument/2006/relationships/slide" Target="slides/slide249.xml"/><Relationship Id="rId253" Type="http://schemas.openxmlformats.org/officeDocument/2006/relationships/slide" Target="slides/slide250.xml"/><Relationship Id="rId254" Type="http://schemas.openxmlformats.org/officeDocument/2006/relationships/slide" Target="slides/slide251.xml"/><Relationship Id="rId255" Type="http://schemas.openxmlformats.org/officeDocument/2006/relationships/slide" Target="slides/slide252.xml"/><Relationship Id="rId256" Type="http://schemas.openxmlformats.org/officeDocument/2006/relationships/slide" Target="slides/slide253.xml"/><Relationship Id="rId257" Type="http://schemas.openxmlformats.org/officeDocument/2006/relationships/slide" Target="slides/slide254.xml"/><Relationship Id="rId258" Type="http://schemas.openxmlformats.org/officeDocument/2006/relationships/slide" Target="slides/slide255.xml"/><Relationship Id="rId259" Type="http://schemas.openxmlformats.org/officeDocument/2006/relationships/slide" Target="slides/slide256.xml"/><Relationship Id="rId260" Type="http://schemas.openxmlformats.org/officeDocument/2006/relationships/slide" Target="slides/slide257.xml"/><Relationship Id="rId261" Type="http://schemas.openxmlformats.org/officeDocument/2006/relationships/slide" Target="slides/slide258.xml"/><Relationship Id="rId262" Type="http://schemas.openxmlformats.org/officeDocument/2006/relationships/slide" Target="slides/slide259.xml"/><Relationship Id="rId263" Type="http://schemas.openxmlformats.org/officeDocument/2006/relationships/slide" Target="slides/slide260.xml"/><Relationship Id="rId264" Type="http://schemas.openxmlformats.org/officeDocument/2006/relationships/slide" Target="slides/slide261.xml"/><Relationship Id="rId265" Type="http://schemas.openxmlformats.org/officeDocument/2006/relationships/slide" Target="slides/slide262.xml"/><Relationship Id="rId266" Type="http://schemas.openxmlformats.org/officeDocument/2006/relationships/slide" Target="slides/slide263.xml"/><Relationship Id="rId267" Type="http://schemas.openxmlformats.org/officeDocument/2006/relationships/slide" Target="slides/slide264.xml"/><Relationship Id="rId268" Type="http://schemas.openxmlformats.org/officeDocument/2006/relationships/slide" Target="slides/slide265.xml"/><Relationship Id="rId269" Type="http://schemas.openxmlformats.org/officeDocument/2006/relationships/slide" Target="slides/slide266.xml"/><Relationship Id="rId270" Type="http://schemas.openxmlformats.org/officeDocument/2006/relationships/slide" Target="slides/slide267.xml"/><Relationship Id="rId271" Type="http://schemas.openxmlformats.org/officeDocument/2006/relationships/slide" Target="slides/slide268.xml"/><Relationship Id="rId272" Type="http://schemas.openxmlformats.org/officeDocument/2006/relationships/slide" Target="slides/slide269.xml"/><Relationship Id="rId273" Type="http://schemas.openxmlformats.org/officeDocument/2006/relationships/slide" Target="slides/slide270.xml"/><Relationship Id="rId274" Type="http://schemas.openxmlformats.org/officeDocument/2006/relationships/slide" Target="slides/slide271.xml"/><Relationship Id="rId275" Type="http://schemas.openxmlformats.org/officeDocument/2006/relationships/slide" Target="slides/slide272.xml"/><Relationship Id="rId276" Type="http://schemas.openxmlformats.org/officeDocument/2006/relationships/slide" Target="slides/slide273.xml"/><Relationship Id="rId277" Type="http://schemas.openxmlformats.org/officeDocument/2006/relationships/slide" Target="slides/slide274.xml"/><Relationship Id="rId278" Type="http://schemas.openxmlformats.org/officeDocument/2006/relationships/slide" Target="slides/slide275.xml"/><Relationship Id="rId279" Type="http://schemas.openxmlformats.org/officeDocument/2006/relationships/slide" Target="slides/slide276.xml"/><Relationship Id="rId280" Type="http://schemas.openxmlformats.org/officeDocument/2006/relationships/slide" Target="slides/slide277.xml"/><Relationship Id="rId281" Type="http://schemas.openxmlformats.org/officeDocument/2006/relationships/slide" Target="slides/slide278.xml"/><Relationship Id="rId282" Type="http://schemas.openxmlformats.org/officeDocument/2006/relationships/slide" Target="slides/slide279.xml"/><Relationship Id="rId283" Type="http://schemas.openxmlformats.org/officeDocument/2006/relationships/slide" Target="slides/slide280.xml"/><Relationship Id="rId284" Type="http://schemas.openxmlformats.org/officeDocument/2006/relationships/slide" Target="slides/slide281.xml"/><Relationship Id="rId285" Type="http://schemas.openxmlformats.org/officeDocument/2006/relationships/slide" Target="slides/slide282.xml"/><Relationship Id="rId286" Type="http://schemas.openxmlformats.org/officeDocument/2006/relationships/slide" Target="slides/slide283.xml"/><Relationship Id="rId287" Type="http://schemas.openxmlformats.org/officeDocument/2006/relationships/slide" Target="slides/slide284.xml"/><Relationship Id="rId288" Type="http://schemas.openxmlformats.org/officeDocument/2006/relationships/slide" Target="slides/slide285.xml"/><Relationship Id="rId289" Type="http://schemas.openxmlformats.org/officeDocument/2006/relationships/slide" Target="slides/slide286.xml"/><Relationship Id="rId290" Type="http://schemas.openxmlformats.org/officeDocument/2006/relationships/slide" Target="slides/slide287.xml"/><Relationship Id="rId291" Type="http://schemas.openxmlformats.org/officeDocument/2006/relationships/slide" Target="slides/slide288.xml"/><Relationship Id="rId292" Type="http://schemas.openxmlformats.org/officeDocument/2006/relationships/slide" Target="slides/slide289.xml"/><Relationship Id="rId293" Type="http://schemas.openxmlformats.org/officeDocument/2006/relationships/slide" Target="slides/slide290.xml"/><Relationship Id="rId294" Type="http://schemas.openxmlformats.org/officeDocument/2006/relationships/slide" Target="slides/slide291.xml"/><Relationship Id="rId295" Type="http://schemas.openxmlformats.org/officeDocument/2006/relationships/slide" Target="slides/slide292.xml"/><Relationship Id="rId296" Type="http://schemas.openxmlformats.org/officeDocument/2006/relationships/slide" Target="slides/slide293.xml"/><Relationship Id="rId297" Type="http://schemas.openxmlformats.org/officeDocument/2006/relationships/slide" Target="slides/slide294.xml"/><Relationship Id="rId298" Type="http://schemas.openxmlformats.org/officeDocument/2006/relationships/slide" Target="slides/slide295.xml"/><Relationship Id="rId299" Type="http://schemas.openxmlformats.org/officeDocument/2006/relationships/slide" Target="slides/slide296.xml"/><Relationship Id="rId300" Type="http://schemas.openxmlformats.org/officeDocument/2006/relationships/slide" Target="slides/slide297.xml"/><Relationship Id="rId301" Type="http://schemas.openxmlformats.org/officeDocument/2006/relationships/slide" Target="slides/slide298.xml"/><Relationship Id="rId302" Type="http://schemas.openxmlformats.org/officeDocument/2006/relationships/slide" Target="slides/slide299.xml"/><Relationship Id="rId303" Type="http://schemas.openxmlformats.org/officeDocument/2006/relationships/slide" Target="slides/slide300.xml"/><Relationship Id="rId304" Type="http://schemas.openxmlformats.org/officeDocument/2006/relationships/slide" Target="slides/slide301.xml"/><Relationship Id="rId305" Type="http://schemas.openxmlformats.org/officeDocument/2006/relationships/slide" Target="slides/slide302.xml"/><Relationship Id="rId306" Type="http://schemas.openxmlformats.org/officeDocument/2006/relationships/slide" Target="slides/slide303.xml"/><Relationship Id="rId307" Type="http://schemas.openxmlformats.org/officeDocument/2006/relationships/slide" Target="slides/slide304.xml"/><Relationship Id="rId308" Type="http://schemas.openxmlformats.org/officeDocument/2006/relationships/slide" Target="slides/slide305.xml"/><Relationship Id="rId309" Type="http://schemas.openxmlformats.org/officeDocument/2006/relationships/slide" Target="slides/slide306.xml"/><Relationship Id="rId310" Type="http://schemas.openxmlformats.org/officeDocument/2006/relationships/slide" Target="slides/slide307.xml"/><Relationship Id="rId311" Type="http://schemas.openxmlformats.org/officeDocument/2006/relationships/slide" Target="slides/slide308.xml"/><Relationship Id="rId312" Type="http://schemas.openxmlformats.org/officeDocument/2006/relationships/slide" Target="slides/slide309.xml"/><Relationship Id="rId313" Type="http://schemas.openxmlformats.org/officeDocument/2006/relationships/slide" Target="slides/slide310.xml"/><Relationship Id="rId314" Type="http://schemas.openxmlformats.org/officeDocument/2006/relationships/slide" Target="slides/slide311.xml"/><Relationship Id="rId315" Type="http://schemas.openxmlformats.org/officeDocument/2006/relationships/slide" Target="slides/slide312.xml"/><Relationship Id="rId316" Type="http://schemas.openxmlformats.org/officeDocument/2006/relationships/slide" Target="slides/slide313.xml"/><Relationship Id="rId317" Type="http://schemas.openxmlformats.org/officeDocument/2006/relationships/slide" Target="slides/slide314.xml"/><Relationship Id="rId318" Type="http://schemas.openxmlformats.org/officeDocument/2006/relationships/slide" Target="slides/slide315.xml"/><Relationship Id="rId319" Type="http://schemas.openxmlformats.org/officeDocument/2006/relationships/slide" Target="slides/slide316.xml"/><Relationship Id="rId320" Type="http://schemas.openxmlformats.org/officeDocument/2006/relationships/slide" Target="slides/slide317.xml"/><Relationship Id="rId321" Type="http://schemas.openxmlformats.org/officeDocument/2006/relationships/slide" Target="slides/slide318.xml"/><Relationship Id="rId322" Type="http://schemas.openxmlformats.org/officeDocument/2006/relationships/slide" Target="slides/slide319.xml"/><Relationship Id="rId323" Type="http://schemas.openxmlformats.org/officeDocument/2006/relationships/slide" Target="slides/slide320.xml"/><Relationship Id="rId324" Type="http://schemas.openxmlformats.org/officeDocument/2006/relationships/slide" Target="slides/slide321.xml"/><Relationship Id="rId325" Type="http://schemas.openxmlformats.org/officeDocument/2006/relationships/slide" Target="slides/slide322.xml"/><Relationship Id="rId326" Type="http://schemas.openxmlformats.org/officeDocument/2006/relationships/slide" Target="slides/slide323.xml"/><Relationship Id="rId327" Type="http://schemas.openxmlformats.org/officeDocument/2006/relationships/slide" Target="slides/slide324.xml"/><Relationship Id="rId328" Type="http://schemas.openxmlformats.org/officeDocument/2006/relationships/slide" Target="slides/slide325.xml"/><Relationship Id="rId329" Type="http://schemas.openxmlformats.org/officeDocument/2006/relationships/slide" Target="slides/slide326.xml"/><Relationship Id="rId330" Type="http://schemas.openxmlformats.org/officeDocument/2006/relationships/slide" Target="slides/slide327.xml"/><Relationship Id="rId331" Type="http://schemas.openxmlformats.org/officeDocument/2006/relationships/slide" Target="slides/slide328.xml"/><Relationship Id="rId332" Type="http://schemas.openxmlformats.org/officeDocument/2006/relationships/slide" Target="slides/slide329.xml"/><Relationship Id="rId333" Type="http://schemas.openxmlformats.org/officeDocument/2006/relationships/slide" Target="slides/slide330.xml"/><Relationship Id="rId334" Type="http://schemas.openxmlformats.org/officeDocument/2006/relationships/slide" Target="slides/slide331.xml"/><Relationship Id="rId335" Type="http://schemas.openxmlformats.org/officeDocument/2006/relationships/slide" Target="slides/slide332.xml"/><Relationship Id="rId336" Type="http://schemas.openxmlformats.org/officeDocument/2006/relationships/slide" Target="slides/slide333.xml"/><Relationship Id="rId337" Type="http://schemas.openxmlformats.org/officeDocument/2006/relationships/slide" Target="slides/slide334.xml"/><Relationship Id="rId338" Type="http://schemas.openxmlformats.org/officeDocument/2006/relationships/slide" Target="slides/slide335.xml"/><Relationship Id="rId339" Type="http://schemas.openxmlformats.org/officeDocument/2006/relationships/slide" Target="slides/slide336.xml"/><Relationship Id="rId340" Type="http://schemas.openxmlformats.org/officeDocument/2006/relationships/slide" Target="slides/slide337.xml"/><Relationship Id="rId341" Type="http://schemas.openxmlformats.org/officeDocument/2006/relationships/slide" Target="slides/slide338.xml"/><Relationship Id="rId342" Type="http://schemas.openxmlformats.org/officeDocument/2006/relationships/slide" Target="slides/slide339.xml"/><Relationship Id="rId343" Type="http://schemas.openxmlformats.org/officeDocument/2006/relationships/slide" Target="slides/slide340.xml"/><Relationship Id="rId344" Type="http://schemas.openxmlformats.org/officeDocument/2006/relationships/slide" Target="slides/slide341.xml"/><Relationship Id="rId345" Type="http://schemas.openxmlformats.org/officeDocument/2006/relationships/slide" Target="slides/slide342.xml"/><Relationship Id="rId346" Type="http://schemas.openxmlformats.org/officeDocument/2006/relationships/slide" Target="slides/slide343.xml"/><Relationship Id="rId347" Type="http://schemas.openxmlformats.org/officeDocument/2006/relationships/slide" Target="slides/slide344.xml"/><Relationship Id="rId3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3A8E-308A-4168-ABD0-F42F5F0534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194.xml.rels><?xml version="1.0" encoding="UTF-8"?>
<Relationships xmlns="http://schemas.openxmlformats.org/package/2006/relationships"><Relationship Id="rId1" Type="http://schemas.openxmlformats.org/officeDocument/2006/relationships/slide" Target="../slides/slide194.xml"/><Relationship Id="rId2" Type="http://schemas.openxmlformats.org/officeDocument/2006/relationships/notesMaster" Target="../notesMasters/notesMaster1.xml"/>
</Relationships>
</file>

<file path=ppt/notesSlides/_rels/notesSlide195.xml.rels><?xml version="1.0" encoding="UTF-8"?>
<Relationships xmlns="http://schemas.openxmlformats.org/package/2006/relationships"><Relationship Id="rId1" Type="http://schemas.openxmlformats.org/officeDocument/2006/relationships/slide" Target="../slides/slide195.xml"/><Relationship Id="rId2" Type="http://schemas.openxmlformats.org/officeDocument/2006/relationships/notesMaster" Target="../notesMasters/notesMaster1.xml"/>
</Relationships>
</file>

<file path=ppt/notesSlides/_rels/notesSlide196.xml.rels><?xml version="1.0" encoding="UTF-8"?>
<Relationships xmlns="http://schemas.openxmlformats.org/package/2006/relationships"><Relationship Id="rId1" Type="http://schemas.openxmlformats.org/officeDocument/2006/relationships/slide" Target="../slides/slide196.xml"/><Relationship Id="rId2" Type="http://schemas.openxmlformats.org/officeDocument/2006/relationships/notesMaster" Target="../notesMasters/notesMaster1.xml"/>
</Relationships>
</file>

<file path=ppt/notesSlides/_rels/notesSlide197.xml.rels><?xml version="1.0" encoding="UTF-8"?>
<Relationships xmlns="http://schemas.openxmlformats.org/package/2006/relationships"><Relationship Id="rId1" Type="http://schemas.openxmlformats.org/officeDocument/2006/relationships/slide" Target="../slides/slide197.xml"/><Relationship Id="rId2" Type="http://schemas.openxmlformats.org/officeDocument/2006/relationships/notesMaster" Target="../notesMasters/notesMaster1.xml"/>
</Relationships>
</file>

<file path=ppt/notesSlides/_rels/notesSlide198.xml.rels><?xml version="1.0" encoding="UTF-8"?>
<Relationships xmlns="http://schemas.openxmlformats.org/package/2006/relationships"><Relationship Id="rId1" Type="http://schemas.openxmlformats.org/officeDocument/2006/relationships/slide" Target="../slides/slide198.xml"/><Relationship Id="rId2" Type="http://schemas.openxmlformats.org/officeDocument/2006/relationships/notesMaster" Target="../notesMasters/notesMaster1.xml"/>
</Relationships>
</file>

<file path=ppt/notesSlides/_rels/notesSlide199.xml.rels><?xml version="1.0" encoding="UTF-8"?>
<Relationships xmlns="http://schemas.openxmlformats.org/package/2006/relationships"><Relationship Id="rId1" Type="http://schemas.openxmlformats.org/officeDocument/2006/relationships/slide" Target="../slides/slide19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00.xml.rels><?xml version="1.0" encoding="UTF-8"?>
<Relationships xmlns="http://schemas.openxmlformats.org/package/2006/relationships"><Relationship Id="rId1" Type="http://schemas.openxmlformats.org/officeDocument/2006/relationships/slide" Target="../slides/slide200.xml"/><Relationship Id="rId2" Type="http://schemas.openxmlformats.org/officeDocument/2006/relationships/notesMaster" Target="../notesMasters/notesMaster1.xml"/>
</Relationships>
</file>

<file path=ppt/notesSlides/_rels/notesSlide201.xml.rels><?xml version="1.0" encoding="UTF-8"?>
<Relationships xmlns="http://schemas.openxmlformats.org/package/2006/relationships"><Relationship Id="rId1" Type="http://schemas.openxmlformats.org/officeDocument/2006/relationships/slide" Target="../slides/slide201.xml"/><Relationship Id="rId2" Type="http://schemas.openxmlformats.org/officeDocument/2006/relationships/notesMaster" Target="../notesMasters/notesMaster1.xml"/>
</Relationships>
</file>

<file path=ppt/notesSlides/_rels/notesSlide202.xml.rels><?xml version="1.0" encoding="UTF-8"?>
<Relationships xmlns="http://schemas.openxmlformats.org/package/2006/relationships"><Relationship Id="rId1" Type="http://schemas.openxmlformats.org/officeDocument/2006/relationships/slide" Target="../slides/slide202.xml"/><Relationship Id="rId2" Type="http://schemas.openxmlformats.org/officeDocument/2006/relationships/notesMaster" Target="../notesMasters/notesMaster1.xml"/>
</Relationships>
</file>

<file path=ppt/notesSlides/_rels/notesSlide203.xml.rels><?xml version="1.0" encoding="UTF-8"?>
<Relationships xmlns="http://schemas.openxmlformats.org/package/2006/relationships"><Relationship Id="rId1" Type="http://schemas.openxmlformats.org/officeDocument/2006/relationships/slide" Target="../slides/slide203.xml"/><Relationship Id="rId2" Type="http://schemas.openxmlformats.org/officeDocument/2006/relationships/notesMaster" Target="../notesMasters/notesMaster1.xml"/>
</Relationships>
</file>

<file path=ppt/notesSlides/_rels/notesSlide204.xml.rels><?xml version="1.0" encoding="UTF-8"?>
<Relationships xmlns="http://schemas.openxmlformats.org/package/2006/relationships"><Relationship Id="rId1" Type="http://schemas.openxmlformats.org/officeDocument/2006/relationships/slide" Target="../slides/slide204.xml"/><Relationship Id="rId2" Type="http://schemas.openxmlformats.org/officeDocument/2006/relationships/notesMaster" Target="../notesMasters/notesMaster1.xml"/>
</Relationships>
</file>

<file path=ppt/notesSlides/_rels/notesSlide205.xml.rels><?xml version="1.0" encoding="UTF-8"?>
<Relationships xmlns="http://schemas.openxmlformats.org/package/2006/relationships"><Relationship Id="rId1" Type="http://schemas.openxmlformats.org/officeDocument/2006/relationships/slide" Target="../slides/slide20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34.xml.rels><?xml version="1.0" encoding="UTF-8"?>
<Relationships xmlns="http://schemas.openxmlformats.org/package/2006/relationships"><Relationship Id="rId1" Type="http://schemas.openxmlformats.org/officeDocument/2006/relationships/slide" Target="../slides/slide234.xml"/><Relationship Id="rId2" Type="http://schemas.openxmlformats.org/officeDocument/2006/relationships/notesMaster" Target="../notesMasters/notesMaster1.xml"/>
</Relationships>
</file>

<file path=ppt/notesSlides/_rels/notesSlide235.xml.rels><?xml version="1.0" encoding="UTF-8"?>
<Relationships xmlns="http://schemas.openxmlformats.org/package/2006/relationships"><Relationship Id="rId1" Type="http://schemas.openxmlformats.org/officeDocument/2006/relationships/slide" Target="../slides/slide235.xml"/><Relationship Id="rId2" Type="http://schemas.openxmlformats.org/officeDocument/2006/relationships/notesMaster" Target="../notesMasters/notesMaster1.xml"/>
</Relationships>
</file>

<file path=ppt/notesSlides/_rels/notesSlide236.xml.rels><?xml version="1.0" encoding="UTF-8"?>
<Relationships xmlns="http://schemas.openxmlformats.org/package/2006/relationships"><Relationship Id="rId1" Type="http://schemas.openxmlformats.org/officeDocument/2006/relationships/slide" Target="../slides/slide236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60.xml.rels><?xml version="1.0" encoding="UTF-8"?>
<Relationships xmlns="http://schemas.openxmlformats.org/package/2006/relationships"><Relationship Id="rId1" Type="http://schemas.openxmlformats.org/officeDocument/2006/relationships/slide" Target="../slides/slide260.xml"/><Relationship Id="rId2" Type="http://schemas.openxmlformats.org/officeDocument/2006/relationships/notesMaster" Target="../notesMasters/notesMaster1.xml"/>
</Relationships>
</file>

<file path=ppt/notesSlides/_rels/notesSlide261.xml.rels><?xml version="1.0" encoding="UTF-8"?>
<Relationships xmlns="http://schemas.openxmlformats.org/package/2006/relationships"><Relationship Id="rId1" Type="http://schemas.openxmlformats.org/officeDocument/2006/relationships/slide" Target="../slides/slide261.xml"/><Relationship Id="rId2" Type="http://schemas.openxmlformats.org/officeDocument/2006/relationships/notesMaster" Target="../notesMasters/notesMaster1.xml"/>
</Relationships>
</file>

<file path=ppt/notesSlides/_rels/notesSlide262.xml.rels><?xml version="1.0" encoding="UTF-8"?>
<Relationships xmlns="http://schemas.openxmlformats.org/package/2006/relationships"><Relationship Id="rId1" Type="http://schemas.openxmlformats.org/officeDocument/2006/relationships/slide" Target="../slides/slide262.xml"/><Relationship Id="rId2" Type="http://schemas.openxmlformats.org/officeDocument/2006/relationships/notesMaster" Target="../notesMasters/notesMaster1.xml"/>
</Relationships>
</file>

<file path=ppt/notesSlides/_rels/notesSlide263.xml.rels><?xml version="1.0" encoding="UTF-8"?>
<Relationships xmlns="http://schemas.openxmlformats.org/package/2006/relationships"><Relationship Id="rId1" Type="http://schemas.openxmlformats.org/officeDocument/2006/relationships/slide" Target="../slides/slide263.xml"/><Relationship Id="rId2" Type="http://schemas.openxmlformats.org/officeDocument/2006/relationships/notesMaster" Target="../notesMasters/notesMaster1.xml"/>
</Relationships>
</file>

<file path=ppt/notesSlides/_rels/notesSlide264.xml.rels><?xml version="1.0" encoding="UTF-8"?>
<Relationships xmlns="http://schemas.openxmlformats.org/package/2006/relationships"><Relationship Id="rId1" Type="http://schemas.openxmlformats.org/officeDocument/2006/relationships/slide" Target="../slides/slide264.xml"/><Relationship Id="rId2" Type="http://schemas.openxmlformats.org/officeDocument/2006/relationships/notesMaster" Target="../notesMasters/notesMaster1.xml"/>
</Relationships>
</file>

<file path=ppt/notesSlides/_rels/notesSlide265.xml.rels><?xml version="1.0" encoding="UTF-8"?>
<Relationships xmlns="http://schemas.openxmlformats.org/package/2006/relationships"><Relationship Id="rId1" Type="http://schemas.openxmlformats.org/officeDocument/2006/relationships/slide" Target="../slides/slide265.xml"/><Relationship Id="rId2" Type="http://schemas.openxmlformats.org/officeDocument/2006/relationships/notesMaster" Target="../notesMasters/notesMaster1.xml"/>
</Relationships>
</file>

<file path=ppt/notesSlides/_rels/notesSlide266.xml.rels><?xml version="1.0" encoding="UTF-8"?>
<Relationships xmlns="http://schemas.openxmlformats.org/package/2006/relationships"><Relationship Id="rId1" Type="http://schemas.openxmlformats.org/officeDocument/2006/relationships/slide" Target="../slides/slide266.xml"/><Relationship Id="rId2" Type="http://schemas.openxmlformats.org/officeDocument/2006/relationships/notesMaster" Target="../notesMasters/notesMaster1.xml"/>
</Relationships>
</file>

<file path=ppt/notesSlides/_rels/notesSlide267.xml.rels><?xml version="1.0" encoding="UTF-8"?>
<Relationships xmlns="http://schemas.openxmlformats.org/package/2006/relationships"><Relationship Id="rId1" Type="http://schemas.openxmlformats.org/officeDocument/2006/relationships/slide" Target="../slides/slide267.xml"/><Relationship Id="rId2" Type="http://schemas.openxmlformats.org/officeDocument/2006/relationships/notesMaster" Target="../notesMasters/notesMaster1.xml"/>
</Relationships>
</file>

<file path=ppt/notesSlides/_rels/notesSlide268.xml.rels><?xml version="1.0" encoding="UTF-8"?>
<Relationships xmlns="http://schemas.openxmlformats.org/package/2006/relationships"><Relationship Id="rId1" Type="http://schemas.openxmlformats.org/officeDocument/2006/relationships/slide" Target="../slides/slide268.xml"/><Relationship Id="rId2" Type="http://schemas.openxmlformats.org/officeDocument/2006/relationships/notesMaster" Target="../notesMasters/notesMaster1.xml"/>
</Relationships>
</file>

<file path=ppt/notesSlides/_rels/notesSlide269.xml.rels><?xml version="1.0" encoding="UTF-8"?>
<Relationships xmlns="http://schemas.openxmlformats.org/package/2006/relationships"><Relationship Id="rId1" Type="http://schemas.openxmlformats.org/officeDocument/2006/relationships/slide" Target="../slides/slide26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70.xml.rels><?xml version="1.0" encoding="UTF-8"?>
<Relationships xmlns="http://schemas.openxmlformats.org/package/2006/relationships"><Relationship Id="rId1" Type="http://schemas.openxmlformats.org/officeDocument/2006/relationships/slide" Target="../slides/slide270.xml"/><Relationship Id="rId2" Type="http://schemas.openxmlformats.org/officeDocument/2006/relationships/notesMaster" Target="../notesMasters/notesMaster1.xml"/>
</Relationships>
</file>

<file path=ppt/notesSlides/_rels/notesSlide271.xml.rels><?xml version="1.0" encoding="UTF-8"?>
<Relationships xmlns="http://schemas.openxmlformats.org/package/2006/relationships"><Relationship Id="rId1" Type="http://schemas.openxmlformats.org/officeDocument/2006/relationships/slide" Target="../slides/slide271.xml"/><Relationship Id="rId2" Type="http://schemas.openxmlformats.org/officeDocument/2006/relationships/notesMaster" Target="../notesMasters/notesMaster1.xml"/>
</Relationships>
</file>

<file path=ppt/notesSlides/_rels/notesSlide272.xml.rels><?xml version="1.0" encoding="UTF-8"?>
<Relationships xmlns="http://schemas.openxmlformats.org/package/2006/relationships"><Relationship Id="rId1" Type="http://schemas.openxmlformats.org/officeDocument/2006/relationships/slide" Target="../slides/slide272.xml"/><Relationship Id="rId2" Type="http://schemas.openxmlformats.org/officeDocument/2006/relationships/notesMaster" Target="../notesMasters/notesMaster1.xml"/>
</Relationships>
</file>

<file path=ppt/notesSlides/_rels/notesSlide273.xml.rels><?xml version="1.0" encoding="UTF-8"?>
<Relationships xmlns="http://schemas.openxmlformats.org/package/2006/relationships"><Relationship Id="rId1" Type="http://schemas.openxmlformats.org/officeDocument/2006/relationships/slide" Target="../slides/slide273.xml"/><Relationship Id="rId2" Type="http://schemas.openxmlformats.org/officeDocument/2006/relationships/notesMaster" Target="../notesMasters/notesMaster1.xml"/>
</Relationships>
</file>

<file path=ppt/notesSlides/_rels/notesSlide274.xml.rels><?xml version="1.0" encoding="UTF-8"?>
<Relationships xmlns="http://schemas.openxmlformats.org/package/2006/relationships"><Relationship Id="rId1" Type="http://schemas.openxmlformats.org/officeDocument/2006/relationships/slide" Target="../slides/slide274.xml"/><Relationship Id="rId2" Type="http://schemas.openxmlformats.org/officeDocument/2006/relationships/notesMaster" Target="../notesMasters/notesMaster1.xml"/>
</Relationships>
</file>

<file path=ppt/notesSlides/_rels/notesSlide275.xml.rels><?xml version="1.0" encoding="UTF-8"?>
<Relationships xmlns="http://schemas.openxmlformats.org/package/2006/relationships"><Relationship Id="rId1" Type="http://schemas.openxmlformats.org/officeDocument/2006/relationships/slide" Target="../slides/slide275.xml"/><Relationship Id="rId2" Type="http://schemas.openxmlformats.org/officeDocument/2006/relationships/notesMaster" Target="../notesMasters/notesMaster1.xml"/>
</Relationships>
</file>

<file path=ppt/notesSlides/_rels/notesSlide276.xml.rels><?xml version="1.0" encoding="UTF-8"?>
<Relationships xmlns="http://schemas.openxmlformats.org/package/2006/relationships"><Relationship Id="rId1" Type="http://schemas.openxmlformats.org/officeDocument/2006/relationships/slide" Target="../slides/slide276.xml"/><Relationship Id="rId2" Type="http://schemas.openxmlformats.org/officeDocument/2006/relationships/notesMaster" Target="../notesMasters/notesMaster1.xml"/>
</Relationships>
</file>

<file path=ppt/notesSlides/_rels/notesSlide277.xml.rels><?xml version="1.0" encoding="UTF-8"?>
<Relationships xmlns="http://schemas.openxmlformats.org/package/2006/relationships"><Relationship Id="rId1" Type="http://schemas.openxmlformats.org/officeDocument/2006/relationships/slide" Target="../slides/slide277.xml"/><Relationship Id="rId2" Type="http://schemas.openxmlformats.org/officeDocument/2006/relationships/notesMaster" Target="../notesMasters/notesMaster1.xml"/>
</Relationships>
</file>

<file path=ppt/notesSlides/_rels/notesSlide278.xml.rels><?xml version="1.0" encoding="UTF-8"?>
<Relationships xmlns="http://schemas.openxmlformats.org/package/2006/relationships"><Relationship Id="rId1" Type="http://schemas.openxmlformats.org/officeDocument/2006/relationships/slide" Target="../slides/slide278.xml"/><Relationship Id="rId2" Type="http://schemas.openxmlformats.org/officeDocument/2006/relationships/notesMaster" Target="../notesMasters/notesMaster1.xml"/>
</Relationships>
</file>

<file path=ppt/notesSlides/_rels/notesSlide279.xml.rels><?xml version="1.0" encoding="UTF-8"?>
<Relationships xmlns="http://schemas.openxmlformats.org/package/2006/relationships"><Relationship Id="rId1" Type="http://schemas.openxmlformats.org/officeDocument/2006/relationships/slide" Target="../slides/slide279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80.xml.rels><?xml version="1.0" encoding="UTF-8"?>
<Relationships xmlns="http://schemas.openxmlformats.org/package/2006/relationships"><Relationship Id="rId1" Type="http://schemas.openxmlformats.org/officeDocument/2006/relationships/slide" Target="../slides/slide280.xml"/><Relationship Id="rId2" Type="http://schemas.openxmlformats.org/officeDocument/2006/relationships/notesMaster" Target="../notesMasters/notesMaster1.xml"/>
</Relationships>
</file>

<file path=ppt/notesSlides/_rels/notesSlide281.xml.rels><?xml version="1.0" encoding="UTF-8"?>
<Relationships xmlns="http://schemas.openxmlformats.org/package/2006/relationships"><Relationship Id="rId1" Type="http://schemas.openxmlformats.org/officeDocument/2006/relationships/slide" Target="../slides/slide281.xml"/><Relationship Id="rId2" Type="http://schemas.openxmlformats.org/officeDocument/2006/relationships/notesMaster" Target="../notesMasters/notesMaster1.xml"/>
</Relationships>
</file>

<file path=ppt/notesSlides/_rels/notesSlide282.xml.rels><?xml version="1.0" encoding="UTF-8"?>
<Relationships xmlns="http://schemas.openxmlformats.org/package/2006/relationships"><Relationship Id="rId1" Type="http://schemas.openxmlformats.org/officeDocument/2006/relationships/slide" Target="../slides/slide282.xml"/><Relationship Id="rId2" Type="http://schemas.openxmlformats.org/officeDocument/2006/relationships/notesMaster" Target="../notesMasters/notesMaster1.xml"/>
</Relationships>
</file>

<file path=ppt/notesSlides/_rels/notesSlide283.xml.rels><?xml version="1.0" encoding="UTF-8"?>
<Relationships xmlns="http://schemas.openxmlformats.org/package/2006/relationships"><Relationship Id="rId1" Type="http://schemas.openxmlformats.org/officeDocument/2006/relationships/slide" Target="../slides/slide283.xml"/><Relationship Id="rId2" Type="http://schemas.openxmlformats.org/officeDocument/2006/relationships/notesMaster" Target="../notesMasters/notesMaster1.xml"/>
</Relationships>
</file>

<file path=ppt/notesSlides/_rels/notesSlide284.xml.rels><?xml version="1.0" encoding="UTF-8"?>
<Relationships xmlns="http://schemas.openxmlformats.org/package/2006/relationships"><Relationship Id="rId1" Type="http://schemas.openxmlformats.org/officeDocument/2006/relationships/slide" Target="../slides/slide284.xml"/><Relationship Id="rId2" Type="http://schemas.openxmlformats.org/officeDocument/2006/relationships/notesMaster" Target="../notesMasters/notesMaster1.xml"/>
</Relationships>
</file>

<file path=ppt/notesSlides/_rels/notesSlide285.xml.rels><?xml version="1.0" encoding="UTF-8"?>
<Relationships xmlns="http://schemas.openxmlformats.org/package/2006/relationships"><Relationship Id="rId1" Type="http://schemas.openxmlformats.org/officeDocument/2006/relationships/slide" Target="../slides/slide285.xml"/><Relationship Id="rId2" Type="http://schemas.openxmlformats.org/officeDocument/2006/relationships/notesMaster" Target="../notesMasters/notesMaster1.xml"/>
</Relationships>
</file>

<file path=ppt/notesSlides/_rels/notesSlide286.xml.rels><?xml version="1.0" encoding="UTF-8"?>
<Relationships xmlns="http://schemas.openxmlformats.org/package/2006/relationships"><Relationship Id="rId1" Type="http://schemas.openxmlformats.org/officeDocument/2006/relationships/slide" Target="../slides/slide286.xml"/><Relationship Id="rId2" Type="http://schemas.openxmlformats.org/officeDocument/2006/relationships/notesMaster" Target="../notesMasters/notesMaster1.xml"/>
</Relationships>
</file>

<file path=ppt/notesSlides/_rels/notesSlide287.xml.rels><?xml version="1.0" encoding="UTF-8"?>
<Relationships xmlns="http://schemas.openxmlformats.org/package/2006/relationships"><Relationship Id="rId1" Type="http://schemas.openxmlformats.org/officeDocument/2006/relationships/slide" Target="../slides/slide287.xml"/><Relationship Id="rId2" Type="http://schemas.openxmlformats.org/officeDocument/2006/relationships/notesMaster" Target="../notesMasters/notesMaster1.xml"/>
</Relationships>
</file>

<file path=ppt/notesSlides/_rels/notesSlide288.xml.rels><?xml version="1.0" encoding="UTF-8"?>
<Relationships xmlns="http://schemas.openxmlformats.org/package/2006/relationships"><Relationship Id="rId1" Type="http://schemas.openxmlformats.org/officeDocument/2006/relationships/slide" Target="../slides/slide288.xml"/><Relationship Id="rId2" Type="http://schemas.openxmlformats.org/officeDocument/2006/relationships/notesMaster" Target="../notesMasters/notesMaster1.xml"/>
</Relationships>
</file>

<file path=ppt/notesSlides/_rels/notesSlide289.xml.rels><?xml version="1.0" encoding="UTF-8"?>
<Relationships xmlns="http://schemas.openxmlformats.org/package/2006/relationships"><Relationship Id="rId1" Type="http://schemas.openxmlformats.org/officeDocument/2006/relationships/slide" Target="../slides/slide28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290.xml.rels><?xml version="1.0" encoding="UTF-8"?>
<Relationships xmlns="http://schemas.openxmlformats.org/package/2006/relationships"><Relationship Id="rId1" Type="http://schemas.openxmlformats.org/officeDocument/2006/relationships/slide" Target="../slides/slide290.xml"/><Relationship Id="rId2" Type="http://schemas.openxmlformats.org/officeDocument/2006/relationships/notesMaster" Target="../notesMasters/notesMaster1.xml"/>
</Relationships>
</file>

<file path=ppt/notesSlides/_rels/notesSlide291.xml.rels><?xml version="1.0" encoding="UTF-8"?>
<Relationships xmlns="http://schemas.openxmlformats.org/package/2006/relationships"><Relationship Id="rId1" Type="http://schemas.openxmlformats.org/officeDocument/2006/relationships/slide" Target="../slides/slide291.xml"/><Relationship Id="rId2" Type="http://schemas.openxmlformats.org/officeDocument/2006/relationships/notesMaster" Target="../notesMasters/notesMaster1.xml"/>
</Relationships>
</file>

<file path=ppt/notesSlides/_rels/notesSlide292.xml.rels><?xml version="1.0" encoding="UTF-8"?>
<Relationships xmlns="http://schemas.openxmlformats.org/package/2006/relationships"><Relationship Id="rId1" Type="http://schemas.openxmlformats.org/officeDocument/2006/relationships/slide" Target="../slides/slide292.xml"/><Relationship Id="rId2" Type="http://schemas.openxmlformats.org/officeDocument/2006/relationships/notesMaster" Target="../notesMasters/notesMaster1.xml"/>
</Relationships>
</file>

<file path=ppt/notesSlides/_rels/notesSlide293.xml.rels><?xml version="1.0" encoding="UTF-8"?>
<Relationships xmlns="http://schemas.openxmlformats.org/package/2006/relationships"><Relationship Id="rId1" Type="http://schemas.openxmlformats.org/officeDocument/2006/relationships/slide" Target="../slides/slide293.xml"/><Relationship Id="rId2" Type="http://schemas.openxmlformats.org/officeDocument/2006/relationships/notesMaster" Target="../notesMasters/notesMaster1.xml"/>
</Relationships>
</file>

<file path=ppt/notesSlides/_rels/notesSlide294.xml.rels><?xml version="1.0" encoding="UTF-8"?>
<Relationships xmlns="http://schemas.openxmlformats.org/package/2006/relationships"><Relationship Id="rId1" Type="http://schemas.openxmlformats.org/officeDocument/2006/relationships/slide" Target="../slides/slide294.xml"/><Relationship Id="rId2" Type="http://schemas.openxmlformats.org/officeDocument/2006/relationships/notesMaster" Target="../notesMasters/notesMaster1.xml"/>
</Relationships>
</file>

<file path=ppt/notesSlides/_rels/notesSlide295.xml.rels><?xml version="1.0" encoding="UTF-8"?>
<Relationships xmlns="http://schemas.openxmlformats.org/package/2006/relationships"><Relationship Id="rId1" Type="http://schemas.openxmlformats.org/officeDocument/2006/relationships/slide" Target="../slides/slide295.xml"/><Relationship Id="rId2" Type="http://schemas.openxmlformats.org/officeDocument/2006/relationships/notesMaster" Target="../notesMasters/notesMaster1.xml"/>
</Relationships>
</file>

<file path=ppt/notesSlides/_rels/notesSlide296.xml.rels><?xml version="1.0" encoding="UTF-8"?>
<Relationships xmlns="http://schemas.openxmlformats.org/package/2006/relationships"><Relationship Id="rId1" Type="http://schemas.openxmlformats.org/officeDocument/2006/relationships/slide" Target="../slides/slide296.xml"/><Relationship Id="rId2" Type="http://schemas.openxmlformats.org/officeDocument/2006/relationships/notesMaster" Target="../notesMasters/notesMaster1.xml"/>
</Relationships>
</file>

<file path=ppt/notesSlides/_rels/notesSlide297.xml.rels><?xml version="1.0" encoding="UTF-8"?>
<Relationships xmlns="http://schemas.openxmlformats.org/package/2006/relationships"><Relationship Id="rId1" Type="http://schemas.openxmlformats.org/officeDocument/2006/relationships/slide" Target="../slides/slide297.xml"/><Relationship Id="rId2" Type="http://schemas.openxmlformats.org/officeDocument/2006/relationships/notesMaster" Target="../notesMasters/notesMaster1.xml"/>
</Relationships>
</file>

<file path=ppt/notesSlides/_rels/notesSlide298.xml.rels><?xml version="1.0" encoding="UTF-8"?>
<Relationships xmlns="http://schemas.openxmlformats.org/package/2006/relationships"><Relationship Id="rId1" Type="http://schemas.openxmlformats.org/officeDocument/2006/relationships/slide" Target="../slides/slide298.xml"/><Relationship Id="rId2" Type="http://schemas.openxmlformats.org/officeDocument/2006/relationships/notesMaster" Target="../notesMasters/notesMaster1.xml"/>
</Relationships>
</file>

<file path=ppt/notesSlides/_rels/notesSlide299.xml.rels><?xml version="1.0" encoding="UTF-8"?>
<Relationships xmlns="http://schemas.openxmlformats.org/package/2006/relationships"><Relationship Id="rId1" Type="http://schemas.openxmlformats.org/officeDocument/2006/relationships/slide" Target="../slides/slide29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00.xml.rels><?xml version="1.0" encoding="UTF-8"?>
<Relationships xmlns="http://schemas.openxmlformats.org/package/2006/relationships"><Relationship Id="rId1" Type="http://schemas.openxmlformats.org/officeDocument/2006/relationships/slide" Target="../slides/slide300.xml"/><Relationship Id="rId2" Type="http://schemas.openxmlformats.org/officeDocument/2006/relationships/notesMaster" Target="../notesMasters/notesMaster1.xml"/>
</Relationships>
</file>

<file path=ppt/notesSlides/_rels/notesSlide301.xml.rels><?xml version="1.0" encoding="UTF-8"?>
<Relationships xmlns="http://schemas.openxmlformats.org/package/2006/relationships"><Relationship Id="rId1" Type="http://schemas.openxmlformats.org/officeDocument/2006/relationships/slide" Target="../slides/slide301.xml"/><Relationship Id="rId2" Type="http://schemas.openxmlformats.org/officeDocument/2006/relationships/notesMaster" Target="../notesMasters/notesMaster1.xml"/>
</Relationships>
</file>

<file path=ppt/notesSlides/_rels/notesSlide302.xml.rels><?xml version="1.0" encoding="UTF-8"?>
<Relationships xmlns="http://schemas.openxmlformats.org/package/2006/relationships"><Relationship Id="rId1" Type="http://schemas.openxmlformats.org/officeDocument/2006/relationships/slide" Target="../slides/slide302.xml"/><Relationship Id="rId2" Type="http://schemas.openxmlformats.org/officeDocument/2006/relationships/notesMaster" Target="../notesMasters/notesMaster1.xml"/>
</Relationships>
</file>

<file path=ppt/notesSlides/_rels/notesSlide303.xml.rels><?xml version="1.0" encoding="UTF-8"?>
<Relationships xmlns="http://schemas.openxmlformats.org/package/2006/relationships"><Relationship Id="rId1" Type="http://schemas.openxmlformats.org/officeDocument/2006/relationships/slide" Target="../slides/slide303.xml"/><Relationship Id="rId2" Type="http://schemas.openxmlformats.org/officeDocument/2006/relationships/notesMaster" Target="../notesMasters/notesMaster1.xml"/>
</Relationships>
</file>

<file path=ppt/notesSlides/_rels/notesSlide304.xml.rels><?xml version="1.0" encoding="UTF-8"?>
<Relationships xmlns="http://schemas.openxmlformats.org/package/2006/relationships"><Relationship Id="rId1" Type="http://schemas.openxmlformats.org/officeDocument/2006/relationships/slide" Target="../slides/slide304.xml"/><Relationship Id="rId2" Type="http://schemas.openxmlformats.org/officeDocument/2006/relationships/notesMaster" Target="../notesMasters/notesMaster1.xml"/>
</Relationships>
</file>

<file path=ppt/notesSlides/_rels/notesSlide305.xml.rels><?xml version="1.0" encoding="UTF-8"?>
<Relationships xmlns="http://schemas.openxmlformats.org/package/2006/relationships"><Relationship Id="rId1" Type="http://schemas.openxmlformats.org/officeDocument/2006/relationships/slide" Target="../slides/slide305.xml"/><Relationship Id="rId2" Type="http://schemas.openxmlformats.org/officeDocument/2006/relationships/notesMaster" Target="../notesMasters/notesMaster1.xml"/>
</Relationships>
</file>

<file path=ppt/notesSlides/_rels/notesSlide306.xml.rels><?xml version="1.0" encoding="UTF-8"?>
<Relationships xmlns="http://schemas.openxmlformats.org/package/2006/relationships"><Relationship Id="rId1" Type="http://schemas.openxmlformats.org/officeDocument/2006/relationships/slide" Target="../slides/slide306.xml"/><Relationship Id="rId2" Type="http://schemas.openxmlformats.org/officeDocument/2006/relationships/notesMaster" Target="../notesMasters/notesMaster1.xml"/>
</Relationships>
</file>

<file path=ppt/notesSlides/_rels/notesSlide307.xml.rels><?xml version="1.0" encoding="UTF-8"?>
<Relationships xmlns="http://schemas.openxmlformats.org/package/2006/relationships"><Relationship Id="rId1" Type="http://schemas.openxmlformats.org/officeDocument/2006/relationships/slide" Target="../slides/slide307.xml"/><Relationship Id="rId2" Type="http://schemas.openxmlformats.org/officeDocument/2006/relationships/notesMaster" Target="../notesMasters/notesMaster1.xml"/>
</Relationships>
</file>

<file path=ppt/notesSlides/_rels/notesSlide308.xml.rels><?xml version="1.0" encoding="UTF-8"?>
<Relationships xmlns="http://schemas.openxmlformats.org/package/2006/relationships"><Relationship Id="rId1" Type="http://schemas.openxmlformats.org/officeDocument/2006/relationships/slide" Target="../slides/slide308.xml"/><Relationship Id="rId2" Type="http://schemas.openxmlformats.org/officeDocument/2006/relationships/notesMaster" Target="../notesMasters/notesMaster1.xml"/>
</Relationships>
</file>

<file path=ppt/notesSlides/_rels/notesSlide309.xml.rels><?xml version="1.0" encoding="UTF-8"?>
<Relationships xmlns="http://schemas.openxmlformats.org/package/2006/relationships"><Relationship Id="rId1" Type="http://schemas.openxmlformats.org/officeDocument/2006/relationships/slide" Target="../slides/slide30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10.xml.rels><?xml version="1.0" encoding="UTF-8"?>
<Relationships xmlns="http://schemas.openxmlformats.org/package/2006/relationships"><Relationship Id="rId1" Type="http://schemas.openxmlformats.org/officeDocument/2006/relationships/slide" Target="../slides/slide310.xml"/><Relationship Id="rId2" Type="http://schemas.openxmlformats.org/officeDocument/2006/relationships/notesMaster" Target="../notesMasters/notesMaster1.xml"/>
</Relationships>
</file>

<file path=ppt/notesSlides/_rels/notesSlide311.xml.rels><?xml version="1.0" encoding="UTF-8"?>
<Relationships xmlns="http://schemas.openxmlformats.org/package/2006/relationships"><Relationship Id="rId1" Type="http://schemas.openxmlformats.org/officeDocument/2006/relationships/slide" Target="../slides/slide311.xml"/><Relationship Id="rId2" Type="http://schemas.openxmlformats.org/officeDocument/2006/relationships/notesMaster" Target="../notesMasters/notesMaster1.xml"/>
</Relationships>
</file>

<file path=ppt/notesSlides/_rels/notesSlide312.xml.rels><?xml version="1.0" encoding="UTF-8"?>
<Relationships xmlns="http://schemas.openxmlformats.org/package/2006/relationships"><Relationship Id="rId1" Type="http://schemas.openxmlformats.org/officeDocument/2006/relationships/slide" Target="../slides/slide312.xml"/><Relationship Id="rId2" Type="http://schemas.openxmlformats.org/officeDocument/2006/relationships/notesMaster" Target="../notesMasters/notesMaster1.xml"/>
</Relationships>
</file>

<file path=ppt/notesSlides/_rels/notesSlide313.xml.rels><?xml version="1.0" encoding="UTF-8"?>
<Relationships xmlns="http://schemas.openxmlformats.org/package/2006/relationships"><Relationship Id="rId1" Type="http://schemas.openxmlformats.org/officeDocument/2006/relationships/slide" Target="../slides/slide313.xml"/><Relationship Id="rId2" Type="http://schemas.openxmlformats.org/officeDocument/2006/relationships/notesMaster" Target="../notesMasters/notesMaster1.xml"/>
</Relationships>
</file>

<file path=ppt/notesSlides/_rels/notesSlide314.xml.rels><?xml version="1.0" encoding="UTF-8"?>
<Relationships xmlns="http://schemas.openxmlformats.org/package/2006/relationships"><Relationship Id="rId1" Type="http://schemas.openxmlformats.org/officeDocument/2006/relationships/slide" Target="../slides/slide314.xml"/><Relationship Id="rId2" Type="http://schemas.openxmlformats.org/officeDocument/2006/relationships/notesMaster" Target="../notesMasters/notesMaster1.xml"/>
</Relationships>
</file>

<file path=ppt/notesSlides/_rels/notesSlide315.xml.rels><?xml version="1.0" encoding="UTF-8"?>
<Relationships xmlns="http://schemas.openxmlformats.org/package/2006/relationships"><Relationship Id="rId1" Type="http://schemas.openxmlformats.org/officeDocument/2006/relationships/slide" Target="../slides/slide315.xml"/><Relationship Id="rId2" Type="http://schemas.openxmlformats.org/officeDocument/2006/relationships/notesMaster" Target="../notesMasters/notesMaster1.xml"/>
</Relationships>
</file>

<file path=ppt/notesSlides/_rels/notesSlide316.xml.rels><?xml version="1.0" encoding="UTF-8"?>
<Relationships xmlns="http://schemas.openxmlformats.org/package/2006/relationships"><Relationship Id="rId1" Type="http://schemas.openxmlformats.org/officeDocument/2006/relationships/slide" Target="../slides/slide316.xml"/><Relationship Id="rId2" Type="http://schemas.openxmlformats.org/officeDocument/2006/relationships/notesMaster" Target="../notesMasters/notesMaster1.xml"/>
</Relationships>
</file>

<file path=ppt/notesSlides/_rels/notesSlide317.xml.rels><?xml version="1.0" encoding="UTF-8"?>
<Relationships xmlns="http://schemas.openxmlformats.org/package/2006/relationships"><Relationship Id="rId1" Type="http://schemas.openxmlformats.org/officeDocument/2006/relationships/slide" Target="../slides/slide317.xml"/><Relationship Id="rId2" Type="http://schemas.openxmlformats.org/officeDocument/2006/relationships/notesMaster" Target="../notesMasters/notesMaster1.xml"/>
</Relationships>
</file>

<file path=ppt/notesSlides/_rels/notesSlide318.xml.rels><?xml version="1.0" encoding="UTF-8"?>
<Relationships xmlns="http://schemas.openxmlformats.org/package/2006/relationships"><Relationship Id="rId1" Type="http://schemas.openxmlformats.org/officeDocument/2006/relationships/slide" Target="../slides/slide318.xml"/><Relationship Id="rId2" Type="http://schemas.openxmlformats.org/officeDocument/2006/relationships/notesMaster" Target="../notesMasters/notesMaster1.xml"/>
</Relationships>
</file>

<file path=ppt/notesSlides/_rels/notesSlide319.xml.rels><?xml version="1.0" encoding="UTF-8"?>
<Relationships xmlns="http://schemas.openxmlformats.org/package/2006/relationships"><Relationship Id="rId1" Type="http://schemas.openxmlformats.org/officeDocument/2006/relationships/slide" Target="../slides/slide31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20.xml.rels><?xml version="1.0" encoding="UTF-8"?>
<Relationships xmlns="http://schemas.openxmlformats.org/package/2006/relationships"><Relationship Id="rId1" Type="http://schemas.openxmlformats.org/officeDocument/2006/relationships/slide" Target="../slides/slide320.xml"/><Relationship Id="rId2" Type="http://schemas.openxmlformats.org/officeDocument/2006/relationships/notesMaster" Target="../notesMasters/notesMaster1.xml"/>
</Relationships>
</file>

<file path=ppt/notesSlides/_rels/notesSlide321.xml.rels><?xml version="1.0" encoding="UTF-8"?>
<Relationships xmlns="http://schemas.openxmlformats.org/package/2006/relationships"><Relationship Id="rId1" Type="http://schemas.openxmlformats.org/officeDocument/2006/relationships/slide" Target="../slides/slide321.xml"/><Relationship Id="rId2" Type="http://schemas.openxmlformats.org/officeDocument/2006/relationships/notesMaster" Target="../notesMasters/notesMaster1.xml"/>
</Relationships>
</file>

<file path=ppt/notesSlides/_rels/notesSlide322.xml.rels><?xml version="1.0" encoding="UTF-8"?>
<Relationships xmlns="http://schemas.openxmlformats.org/package/2006/relationships"><Relationship Id="rId1" Type="http://schemas.openxmlformats.org/officeDocument/2006/relationships/slide" Target="../slides/slide3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6ECC-2E69-4929-9474-9F885FAC87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9F64-6BDF-4FC0-9E99-E6E786CC2A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5B6-76CB-4AD5-A532-5C8B9A34E0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F66-8DCD-4AB1-BCE4-67F6A9F65B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830A-7FF6-4D09-9A6F-1EF7C41E34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B908-7687-4655-8077-24E1F53ECD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B42E-6377-4F7D-8839-372773B797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3439-E64D-4DA3-896D-14380F96D1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E366-D6BB-4F50-B7C4-8036F5DC25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3F09-1D89-4E81-8BAF-6E702E017A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5B9-A2AB-40AE-98AF-A156D83548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58C-9CAE-4BF6-AEB3-F251620439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135-7E26-43B6-9F7D-48E87CF343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9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F91E-F486-4C43-8B9C-0CFEE390FB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C950-26B3-4E6D-9F53-1D07EE55E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A32-FC6C-4CD1-98C5-0BDA29186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3DF7-9C28-40AD-9AAF-7C3CADA9B3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F038-8DAD-4B62-8D6E-AB6DB03F93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8EA6-365C-4B76-B9A7-F92FAAA6125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A64E-6B7B-42D1-AD62-BAE3D2F795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321F-A73B-454D-A31E-514CCAE2D0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AFEB-72F4-4580-A001-48EEC940D5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54F5-5ECB-41F4-914F-EC3D72A6C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28D1-FAEB-4354-A785-3EBDC6BF56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FEE8-C879-44D0-8158-385D65457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3066-6C26-431D-831E-8167280147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091E-DC22-4E94-8105-387D59DDFC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79A2-7011-4728-A9C0-5EACC64908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A5CA-7739-4841-973D-13A87E61C3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34E-C71F-494B-9A40-56130BECE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A900-3259-4091-B430-8587209917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1A6D-F211-49C1-9180-59D9C19DA6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A9ED-D92D-493C-AF59-E939F00CBA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F3C7-3C5D-473B-94FE-EAD464F5EA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B93-39E0-480A-AA69-AD615D7EC5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6FF-E7F5-412A-B791-0EA5684D3E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4960-3535-48B5-9198-C30E188CE9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6C0A-2DA0-4603-B88D-8450041E2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F037-3C01-4242-8D04-12ECAE849C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D042-B4A1-455F-86A6-F53F33005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E765-60B7-44D9-9E10-59C4CDF8F7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3FC-CD45-4A61-8742-FDCDC77ECD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FE65-98D4-471D-8E86-BE446A833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9C12-1D57-4C03-B051-C85EE257D8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ADE0-F4E6-4848-9560-7F2CD04450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D74B-BB14-4F59-96AD-D3708DA39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BE10-4449-4522-B9EB-58987CED86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FFDF-551D-4FAF-BC2A-2308F0D39A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7BC-BA33-487C-A1DA-00E87858E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4132-A546-4EFD-A224-D8A57F8BE9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329-5C57-44BC-A8C0-6C4FEED04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B5ED-0A50-465E-8EEE-6F245F9B2C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58E5-93DC-48FA-AF5D-BE6EEF8ED5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140-29EE-4B27-85F9-84BA4AE6F1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FFD-B76D-48AD-8A66-7290DB3889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03B5-CBB3-4DB6-8200-D3C3378917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C9F8-191F-4C0D-A7CE-41C61E7EF9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FD1D-952E-4045-BE7F-B604EFAF5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464E-5F58-4D42-8555-FAC28E72EF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20BE-CE6B-4AA2-9D6F-C291CF0120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F67C-C0B5-4438-A77A-4E8EA94FE4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9D80-8936-4350-81FC-3F8B08C33B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D67-901B-4B6C-9885-001D37C4E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DDCE-C748-4971-BB6C-0E3AAA4895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D3D-33C2-48A3-B933-A3F0641B70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DFD5-4546-4FE6-8030-CDF5871BDB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B02F-F182-44EA-855A-FB7394DC15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976-D14D-481B-AD33-4469EC30A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625-66B9-4157-9480-5B599232A9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D51D-C776-453E-9ED6-527D1A02EC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D812-9B54-4396-B914-32DE591F1D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0022-CBA1-421E-B422-9801DB66D5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0B98-9BDE-4AA1-8FAE-665BBB6E16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963A-DC01-4468-AE9C-7C9B4779E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C8B-87DF-4FE1-9041-77BACD43F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3D44-49F0-4468-BE02-713A9873F5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0BE-71FC-4D06-8814-1240472D1B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3581-8539-4252-918B-9C34D252CD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60E8-2B4E-4A34-8887-9DBBF2587F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A2F1-BE21-4E8F-BF85-65C57BD32A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5AC1-D47A-4125-8747-BE4DFBCB78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4C38-6559-4E42-B3C3-2F988F0C68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A7FE-D450-492A-BD41-CDCE6F83A3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0214-F9EF-4D43-A3AB-EAD990B02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4DB3-725E-47AF-BB32-BC1BD8981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E25-DE8A-4FB3-A54B-D4CC9E522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5A32-E4E6-4B71-9682-1BE758D9D5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31F3-888E-4C0F-906F-696480A125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8CD-12FD-4F34-9112-E81B1F462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29C-66A7-408F-8336-F92292DB61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09CC-7013-4553-B11E-05C3EB6B51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C2F0-964D-46D7-A118-CA90F8444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FBDA-F3EE-478D-95BD-A6A8709118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EA9E-2C5D-4F43-8C99-0CCCE192BD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24F-F825-4364-850A-EE5B15A16F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6E5-12E9-4E95-8AFE-9C5043AFB4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2E91-3631-43BF-BA37-32BC594489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6A67-24B9-4A8B-8F58-ECBF8EE8DA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47E9-C6EF-47A9-AFDE-57083A623B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ED12-1610-4A7D-A0CB-BFCAA8B6AE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D6DF-2DB4-479D-8C0A-98FF707AAC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B177-BFA1-49FD-8B67-C58780C565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FF92-6942-4368-BF68-6FFDD3FA55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4B3C-9097-48ED-92BC-F44154F17A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283F-2422-4803-B214-8950F80771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1A76-1B12-4F96-BBC1-CF8429B42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D193-3816-4EF2-8033-FAC2B50002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178D-43C6-4C47-A55F-5F1835C159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C97-D1C5-40A1-9EBA-3951A563E3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678A-9B84-487A-BF47-6A1800DEBD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2EF1-C9EB-4A32-A31C-B1A2CC5F9D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FED9-F472-40F3-A500-1940CD6E7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9762-12AC-4B90-8684-F0C4BD989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D74-8A28-485C-991D-35A4A2B4BE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9A22-624F-43F9-B8CB-24BEDF824B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04B-7670-4F64-A19E-9D56554E5C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83F0-735E-45D1-BC0B-53D1CED75D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7B12-4C24-429B-A67B-A90FA796B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4AEE-BD17-46D1-A9B4-C0B0817552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3503-6DE5-4530-9228-726A5508A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F43-41B3-4407-A098-BC98DB79C6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EF30-AC40-4719-8074-6A65C4F683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980E-B55E-4107-9D8A-82C22A5BA9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54FE-7C60-48FB-9829-985D365C3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6582-699D-431E-9592-1A474E5723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BF50-5B5A-4E81-9DB6-D5ACD85BA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4F6-9AA5-4F32-B64A-38031F77AE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7AB5-6371-404B-BDAB-2C416E9113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3FFD-EF2B-41D3-9F17-8BACF12B1E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D492-B04E-4C3E-A37E-577A0AEE8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822A-5D17-4A71-859A-4BB4513B43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9C3-1BAF-4A43-A21A-413BB99BAA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9C2F-346D-41B0-817E-60324A6BE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FAD2-ADB8-46A0-B165-541F39980C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2A64-9A5B-4785-9873-47F7B81065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685B-0EC4-4E21-B201-B8C33A8279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455C-C7D3-49B5-A6FF-A6240AF8B1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5428-5FF7-4385-B270-EBC670E5E3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9A7-E76F-46CD-9F8E-E3CB68C62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A60B-A3DC-472A-9154-8E0C0ADD48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2822-659B-4B6F-9426-0EDD9F2604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206-D7E5-4043-9360-8772635F63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886200" y="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22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88620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0" y="8683560"/>
            <a:ext cx="297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AEA4-4325-4528-B811-2AE8E6126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22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905F-0019-431F-834D-73E17B72AA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60AAB-EEC8-450C-8F81-E264F9990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D4CE-C774-49E2-992F-717392A059C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26E3-F5CC-4E68-8E16-42334A27C9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9140-44F5-4206-91FF-849E4F2EBA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9A3-1BB8-4FB7-AA47-D7B51AEFC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0A7E-CB6A-4354-AE84-F82126D3A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AB3A-4326-48E4-AD4E-7236234F3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311F-6CA6-4967-B179-116B39E62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FBCE-C8EA-4A31-978B-6E97E4A0B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6B3-CB52-458B-92A5-3B84B03ACA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D79C-C077-49DE-8899-C3B2F4523D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248-BEBF-4D96-A07D-D8DFA5FF07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1A7D-F7DC-4F9E-9A2E-7D33028A5F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C69E-8EC4-4C1D-B622-762B71CC65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DE85-5798-4C50-8359-4D7BEDC55A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529-3C9B-4E68-A6AE-04133C8B84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2738-33ED-4E97-9B14-6309C64E39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73D-2E73-475C-9971-2D2ADF2D7D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D4D4-A64F-42B0-B3DC-3654935881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6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936C-8D99-4124-A16A-CEA5375D32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31E5-A7F7-492E-967A-769FE92A75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F21-26E1-4B31-8295-044CBC8AC3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C9A5-0129-4A69-A9FD-A8F925D0F0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0894-BF5F-44E0-A755-456154D241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0697-A5BB-4C8E-A50E-C072F875D6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966-D657-411C-BDDE-183F9C7BD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9BD1-A42B-4951-A4CA-0CA34A1C1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AD16-0746-4495-8908-B4CBE9834B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A38D-31A2-48D7-8B49-F17557E6A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0DA3-3AC1-415E-822F-9E93068E0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3FDE-F6A5-4A64-A3E8-6DCE6C6AF8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09A3-33D6-4EDE-9E13-979A8DD417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416-60B7-4DDE-B5CB-058F0163CA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82D6-2FDE-47AB-9DF4-39FC3F1E89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A13-4777-47F6-B260-38DD404C8D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9E97-A6A6-4788-969E-4713162431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C41-394A-457C-ADE5-3934388377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463-5D0F-40DB-B939-7673B7293C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49A-D94A-4192-8C8F-C96351CBA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08EA-C4CB-46C6-AF8A-FF5E2F04AB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3928-F1F3-4942-B8F9-2CD6F8E849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8681-FA7A-4C63-99A1-4C8E7331F1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C3C2-EAAB-4801-9353-E8736A7262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PlaceHolder 1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6A3A-C7D1-4DBF-A000-59CE7364A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PlaceHolder 1"/>
          <p:cNvSpPr>
            <a:spLocks noGrp="1"/>
          </p:cNvSpPr>
          <p:nvPr>
            <p:ph type="sldImg"/>
          </p:nvPr>
        </p:nvSpPr>
        <p:spPr>
          <a:xfrm>
            <a:off x="2320920" y="801720"/>
            <a:ext cx="2212920" cy="3195720"/>
          </a:xfrm>
          <a:prstGeom prst="rect">
            <a:avLst/>
          </a:prstGeom>
          <a:ln w="0">
            <a:noFill/>
          </a:ln>
        </p:spPr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150E-E2C3-4EC8-826C-0C4C564A78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43B8-174E-4B6E-A409-65846DD4E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16D0-43EE-4AC0-A6FB-85C55D3C15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E20-F0B7-4259-9AD3-88A68A13CB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6B6A-80CC-489F-8B3E-0FD5C38A2C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84B5-A1D6-47AF-9905-523E5A84C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AF6-103B-43C7-A27A-1F2B496A77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7148-CCB9-4524-9988-3699996537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07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6A7A-26C9-4EAB-ACCD-71A00B4DC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5E5B-83D0-453B-ABC1-544682171A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B958-32E4-4833-A7D6-947DF846EE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C05C-EECC-471A-B15B-0BFFE4D33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3CAD-257B-4F2B-8342-23C7AA9F08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C0B-B360-4DC2-AC96-7B33DE638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729C-DD4D-4D17-B960-54CF716DD6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D407-89AA-48EA-8351-3DFA7D95E0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9E1-E441-4142-BAF2-00298F928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459B-F594-453A-928B-E23DA4B081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4E60-63B8-458B-B780-9DF0987B9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8946-73A2-4572-B801-8BF208B551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6239-9AE9-4A43-B54F-4D2206BCC6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/10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343-71D7-4EB1-944D-19F0A61E32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F699-E891-4306-8853-A069A0903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007-D72D-4A86-95A2-086F457DAA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9C40-39F9-47A8-BAEE-5050E7B8A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5F70-C461-4880-9CC2-0FA3DD3593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AD38-9FC9-4836-91C6-1B1DF70346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5D9F-3D14-4BE0-B9AE-44EAF517F7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AB7-82D8-4009-B94D-3ED93D2987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54A0-D718-49A6-8CE6-C6802F72F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E0C6-EEBB-4333-93F4-F2C3AF9011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C78-267A-40F7-84DA-0CB9D3785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DBBA-AB3F-4645-B1EC-D8C3002182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4ED9-637E-4CC2-AEC0-50D9395E20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0B21-391C-4A64-8134-6D352D91BA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3D27-36B7-4710-B37B-095E65022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50ED-7340-4DAE-A911-DBCC94D847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DCE8-C45C-4A66-A27B-B026F86C84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6C36-D1A5-4803-B8C0-FD100DECB0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/18/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FEA6-9F8A-488E-B13E-B2CE2F3DFC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B78A-C394-4D3C-A13C-B32D5F844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56DD-F15A-40CE-8DB8-C7B1AF7315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99FD-AC91-47AA-AB18-2A0525DC09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1848-15F3-463E-8FAA-BBDA8BB867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373E-11EF-4C61-95E9-3638FF7EC2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3F71-208B-4992-9F8C-1B22F07B3E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CD23-24BE-427B-A6AD-6C5153E283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4EF2-02ED-42D0-A452-C67D1C8984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9E85-F316-4D9E-95E1-06B5781EC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4783-E330-4333-A345-AE017D02BB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1F68-C575-4345-84F6-1F3C9BE0C8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930-E7D2-4C07-AAB7-86EA4247738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8F2-956B-4597-BC38-7EA62B24EC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4B80-D028-47BB-8AE3-0DEC03133CB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996-117C-4643-BDDD-3A07301C65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806E-263A-4960-A8CB-6745DC8A3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422D-E7E0-4662-9E56-0E8C0E960D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C03-EF7A-454A-A606-2E72354B47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306-2132-4900-8015-7A78742F8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9EDE-0B60-40EF-94C4-7D414C83DA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49D9-D2DB-4E1C-A1F0-D564F55266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9534-7EFD-40D4-A9D8-E3184AA2E0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120F-5E9E-4986-8262-3B9F6D85B5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7AF0-D977-47E3-B5AF-4BAF07E858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DEE-EEE2-446E-8D5D-A79EDE6D5E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3E6B-F0DC-4FF7-8195-F7B742693F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8B7B-A49E-45E9-8192-734C2599D9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ldImg"/>
          </p:nvPr>
        </p:nvSpPr>
        <p:spPr>
          <a:xfrm>
            <a:off x="2246400" y="692280"/>
            <a:ext cx="23637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F83-C8FC-42C5-B380-C07C9700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5307-5EEC-4D83-9475-74A2917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2AB-59D6-4170-9939-76883E42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28600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07960"/>
            <a:ext cx="187668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58A2-B9AD-4D4C-9461-A1B6C714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0BA-61AC-4AEC-843D-DF7426CA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2A6-BE00-4077-B21B-D8FB26F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6D58-FF44-4E96-9A5D-D0F631CE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073-E0EF-4E08-971A-A79A983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79F-BC33-4A5D-AFA1-90746C50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810-A784-4F2B-B767-82E472A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0796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C45-20B5-40B7-AE6C-56B3BEC1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286000"/>
            <a:ext cx="284436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07960"/>
            <a:ext cx="582912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A8D-679C-4CDF-9613-1C20A0FE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520" y="9710280"/>
            <a:ext cx="142848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B0B4-3291-4601-93B1-11BDF62F1D74}" type="datetime">
              <a:rPr b="0" lang="sr-Latn-CS" sz="8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9710280"/>
            <a:ext cx="274320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Predavanja iz Upravljanja – 02-U čemu je razlika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2520" y="9710280"/>
            <a:ext cx="1428840" cy="1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87CE-A4F1-470A-AB90-41DD21FADD36}" type="slidenum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sl-SI" sz="800" spc="-1" strike="noStrike">
                <a:solidFill>
                  <a:srgbClr val="000000"/>
                </a:solidFill>
                <a:latin typeface="Times New Roman"/>
              </a:rPr>
              <a:t> od 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3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4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6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7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8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0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2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3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04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4.xml"/>
</Relationships>
</file>

<file path=ppt/slides/_rels/slide2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5.xml"/>
</Relationships>
</file>

<file path=ppt/slides/_rels/slide2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6.xml"/>
</Relationships>
</file>

<file path=ppt/slides/_rels/slide2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0.xml"/>
</Relationships>
</file>

<file path=ppt/slides/_rels/slide2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61.xml"/>
</Relationships>
</file>

<file path=ppt/slides/_rels/slide2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2.xml"/>
</Relationships>
</file>

<file path=ppt/slides/_rels/slide2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3.xml"/>
</Relationships>
</file>

<file path=ppt/slides/_rels/slide2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4.xml"/>
</Relationships>
</file>

<file path=ppt/slides/_rels/slide2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5.xml"/>
</Relationships>
</file>

<file path=ppt/slides/_rels/slide2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6.xml"/>
</Relationships>
</file>

<file path=ppt/slides/_rels/slide2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7.xml"/>
</Relationships>
</file>

<file path=ppt/slides/_rels/slide2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8.xml"/>
</Relationships>
</file>

<file path=ppt/slides/_rels/slide2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7.xml"/>
</Relationships>
</file>

<file path=ppt/slides/_rels/slide2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0.xml"/>
</Relationships>
</file>

<file path=ppt/slides/_rels/slide2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1.xml"/>
</Relationships>
</file>

<file path=ppt/slides/_rels/slide2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2.xml"/>
</Relationships>
</file>

<file path=ppt/slides/_rels/slide2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3.xml"/>
</Relationships>
</file>

<file path=ppt/slides/_rels/slide2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4.xml"/>
</Relationships>
</file>

<file path=ppt/slides/_rels/slide2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5.xml"/>
</Relationships>
</file>

<file path=ppt/slides/_rels/slide2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6.xml"/>
</Relationships>
</file>

<file path=ppt/slides/_rels/slide2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7.xml"/>
</Relationships>
</file>

<file path=ppt/slides/_rels/slide2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8.xml"/>
</Relationships>
</file>

<file path=ppt/slides/_rels/slide2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80.xml"/>
</Relationships>
</file>

<file path=ppt/slides/_rels/slide2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1.xml"/>
</Relationships>
</file>

<file path=ppt/slides/_rels/slide2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2.xml"/>
</Relationships>
</file>

<file path=ppt/slides/_rels/slide2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3.xml"/>
</Relationships>
</file>

<file path=ppt/slides/_rels/slide2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4.xml"/>
</Relationships>
</file>

<file path=ppt/slides/_rels/slide2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5.xml"/>
</Relationships>
</file>

<file path=ppt/slides/_rels/slide2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6.xml"/>
</Relationships>
</file>

<file path=ppt/slides/_rels/slide2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7.xml"/>
</Relationships>
</file>

<file path=ppt/slides/_rels/slide2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8.xml"/>
</Relationships>
</file>

<file path=ppt/slides/_rels/slide2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9.xml"/>
</Relationships>
</file>

<file path=ppt/slides/_rels/slide2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0.xml"/>
</Relationships>
</file>

<file path=ppt/slides/_rels/slide2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1.xml"/>
</Relationships>
</file>

<file path=ppt/slides/_rels/slide2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2.xml"/>
</Relationships>
</file>

<file path=ppt/slides/_rels/slide2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3.xml"/>
</Relationships>
</file>

<file path=ppt/slides/_rels/slide2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94.xml"/>
</Relationships>
</file>

<file path=ppt/slides/_rels/slide2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5.xml"/>
</Relationships>
</file>

<file path=ppt/slides/_rels/slide2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6.xml"/>
</Relationships>
</file>

<file path=ppt/slides/_rels/slide2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7.xml"/>
</Relationships>
</file>

<file path=ppt/slides/_rels/slide2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8.xml"/>
</Relationships>
</file>

<file path=ppt/slides/_rels/slide2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0.xml"/>
</Relationships>
</file>

<file path=ppt/slides/_rels/slide30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1.xml"/>
</Relationships>
</file>

<file path=ppt/slides/_rels/slide3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2.xml"/>
</Relationships>
</file>

<file path=ppt/slides/_rels/slide3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3.xml"/>
</Relationships>
</file>

<file path=ppt/slides/_rels/slide3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4.xml"/>
</Relationships>
</file>

<file path=ppt/slides/_rels/slide3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5.xml"/>
</Relationships>
</file>

<file path=ppt/slides/_rels/slide3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6.xml"/>
</Relationships>
</file>

<file path=ppt/slides/_rels/slide3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7.xml"/>
</Relationships>
</file>

<file path=ppt/slides/_rels/slide3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8.xml"/>
</Relationships>
</file>

<file path=ppt/slides/_rels/slide3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0.xml"/>
</Relationships>
</file>

<file path=ppt/slides/_rels/slide3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1.xml"/>
</Relationships>
</file>

<file path=ppt/slides/_rels/slide3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2.xml"/>
</Relationships>
</file>

<file path=ppt/slides/_rels/slide3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3.xml"/>
</Relationships>
</file>

<file path=ppt/slides/_rels/slide3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4.xml"/>
</Relationships>
</file>

<file path=ppt/slides/_rels/slide3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5.xml"/>
</Relationships>
</file>

<file path=ppt/slides/_rels/slide3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6.xml"/>
</Relationships>
</file>

<file path=ppt/slides/_rels/slide3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7.xml"/>
</Relationships>
</file>

<file path=ppt/slides/_rels/slide3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8.xml"/>
</Relationships>
</file>

<file path=ppt/slides/_rels/slide3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0.xml"/>
</Relationships>
</file>

<file path=ppt/slides/_rels/slide3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1.xml"/>
</Relationships>
</file>

<file path=ppt/slides/_rels/slide3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22.xml"/>
</Relationships>
</file>

<file path=ppt/slides/_rels/slide3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3.xml"/>
</Relationships>
</file>

<file path=ppt/slides/_rels/slide3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19520"/>
            <a:ext cx="58291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6095520"/>
            <a:ext cx="579096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čemu se ovaj predmet razlikuje od ostalih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649-B6BD-457B-B805-DA7B143CFE0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3D95A-23AE-4F49-8F05-4755CF1798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5991120" cy="7543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 svemu tome ima istine,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888920" cy="183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4419720"/>
            <a:ext cx="3591000" cy="193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495680" y="2438280"/>
            <a:ext cx="1828800" cy="1487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295280" y="5410080"/>
            <a:ext cx="1524240" cy="14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838080" y="72388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085-D505-45E2-9E70-99A322322C7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69FE3-1C2A-4A20-B7B4-ED4F253146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14440" y="30906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investitora da postavl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rukovodioca projekta da prihvata tu ulog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is projekta sa osnovnim podacima o budž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e specifič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B618-9755-41ED-AB3A-A28C9C848B39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9C6F5-6710-4601-B1DC-BF44BA7F127B}" type="datetime1">
              <a:rPr lang="en-US"/>
              <a:t>07/28/26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0040" y="324288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žina angažovanja rukovodioc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uge koje ne pru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i za iz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konta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a 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4E0-0E09-4F42-B0A9-A75405F3EC9D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F8C8F-FCF3-4CEF-981A-F7C13EA58981}" type="datetime1">
              <a:rPr lang="en-US"/>
              <a:t>07/28/26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ši pr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zvođenja investicije (organizacioni konsalting) - ne ulazi projekto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ciono savetovanje (konsalting) - ne ulazi struč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17D-B023-4708-B0DF-04E3345F8026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82565-66C8-42FD-BAB9-08FDE61C762A}" type="datetime1">
              <a:rPr lang="en-US"/>
              <a:t>07/28/26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dič UN - Ekonomska komisija za Evrop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FD0-3D8F-4BB8-9943-2B48E6FB9A22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B7B9E-8BA6-4BAE-B6D6-29443DA503B2}" type="datetime1">
              <a:rPr lang="en-US"/>
              <a:t>07/28/26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ncionalni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ukupn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obavlja profesionalne uslu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zrada planova i specifik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prema tend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a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stupanje investit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dzor nad izgradnj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satu plus trošk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nat troš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šalni iz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CB4-09A0-4A15-AE6D-AC8CD8923E93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1EA8D-9009-437F-B360-D8BA7180C98F}" type="datetime1">
              <a:rPr lang="en-US"/>
              <a:t>07/28/26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konvencionalnog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nema finansijskih interesa u izgrad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sni odnosi konsultant - investitor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at se završava pre početka 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m radova je jas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ima pun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kladu je sa regulativom o jav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obaveze su ja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CFF-C6C7-4E74-BF60-DFFE91EE1908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EF316-542F-484E-B6BC-E207B04FD82A}" type="datetime1">
              <a:rPr lang="en-US"/>
              <a:t>07/28/26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stručnjak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i konsal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njuje mogućnost spoljnog sukoba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uigravanje stručnj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D43C-7EFC-4A25-AB13-C9557D0C4F95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1A6F9-BB11-4DF7-939A-CE2C18B1F28F}" type="datetime1">
              <a:rPr lang="en-US"/>
              <a:t>07/28/2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 realizacije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ovanje i/ili upravljanje izradom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bavke i lici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sultant je investitorov izvršni organ, bez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a podela uloga između više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611-AB83-48EB-8722-0532CF5AD856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9DC9E-E865-4B3C-BB0C-84515D6045F7}" type="datetime1">
              <a:rPr lang="en-US"/>
              <a:t>07/28/26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i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kusni savet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a unutrašnjih suko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i za nabavku se sklapaju na osnovu licitacija sa kompletnim specifik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licitacije moguće je porediti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stupanja se rano primeć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ksibilnije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8A9-A57F-4169-AFA7-61A503E9F8D6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7593-7A76-4820-ABD7-8519F514D77E}" type="datetime1">
              <a:rPr lang="en-US"/>
              <a:t>07/28/26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70536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 konsultantskih uslu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na odgovornost za projektovanje i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alno angažovanj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mogu da počnu pre završetka pro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 se utvrđuje na osnovu tačnih specifikacija, pre ili posle sklapanja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828-B29F-46CE-9AB7-B7108D84A0F2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DD600-9C93-4CB9-B919-7230280F0E87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mi imamo još jedan predlog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4440" y="31240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200" spc="-1" strike="noStrike">
                <a:solidFill>
                  <a:srgbClr val="000000"/>
                </a:solidFill>
                <a:latin typeface="Times New Roman"/>
              </a:rPr>
              <a:t>Zarad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9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66680" y="5943600"/>
            <a:ext cx="1565280" cy="2135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19720" y="5943600"/>
            <a:ext cx="1565280" cy="213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A21-3687-4CA2-8AC9-3A1E18F7A02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DB9FAA-7E46-4585-8C28-F454D1738B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šće konsulta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210024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a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i revizij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citacija i 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predaja objekta i obuka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ek mora biti profesionalan i nepristr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mogu dobiti samo oni koji imaju ug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76C-E804-423E-9B21-E5E5E765F14E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23A07-70D6-491A-A51F-24C569388E76}" type="datetime1">
              <a:rPr lang="en-US"/>
              <a:t>07/28/26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D422-F2C1-44D5-98FB-E2462386D4EE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F6F68-BAB1-4505-AA01-85F88C3E52D2}" type="datetime1">
              <a:rPr lang="en-US"/>
              <a:t>07/28/26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25E-9DB0-48CC-B795-01593376804A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39485-B608-478E-BA8B-8FDB42DA504A}" type="datetime1">
              <a:rPr lang="en-US"/>
              <a:t>07/28/26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14440" y="652320"/>
            <a:ext cx="5829120" cy="20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pojm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440" y="2903400"/>
            <a:ext cx="5829120" cy="556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E98-DDD6-4B3E-83E3-4B7B02664539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6BCFA-F7F2-4685-9EE7-3ACBC80C4EEC}" type="datetime1">
              <a:rPr lang="en-US"/>
              <a:t>07/28/26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37760" y="1294920"/>
            <a:ext cx="5829480" cy="769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čki: jednostrana izjava volje upućena određenom licu radi zaključiv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da bi bila valjan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drži osnovne elemente ugovora (predmet, rok, ce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žena volj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 pod navedenim uslovima sklopi u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si 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onuđa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njegov punomoć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ćen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nvestit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obavezujuća z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 rok traj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853-29CE-4C6D-BFB8-80AF0853E9B2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FC962-74FA-484C-A9EC-2C0981AA0054}" type="datetime1">
              <a:rPr lang="en-US"/>
              <a:t>07/28/26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vrha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tni materij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azuje na tehničko-tehnološke aspekt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sposobnost izvođača da urad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kazuje ozbiljnost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 uslove pod kojima investitor može dobiti investiciono dob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939D-2DAA-482B-9C23-2163402FA8B3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673A99-0056-42BC-A664-AA9CF6221264}" type="datetime1">
              <a:rPr lang="en-US"/>
              <a:t>07/28/26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gledavanj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7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asp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e za resursima i njihovi izv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zahtevi podizvođača i kooperanata (tehničko-tehnološki, organizacioni i finasij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isporu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j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 finans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691-C35F-4112-A812-C177B0CA21AB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F7C9B8-73B2-4A99-A6D2-61E84676FFB1}" type="datetime1">
              <a:rPr lang="en-US"/>
              <a:t>07/28/2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e želju kupca za investicionim dob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e definiše predmet budućeg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definiše i način izbora najpovoljnije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definiše i ostale prateće u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ovi resur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CA7-6431-4CDB-88BC-590B4BFBF460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D5B30-C3AA-499B-BBB5-1B38DB5DB4A7}" type="datetime1">
              <a:rPr lang="en-US"/>
              <a:t>07/28/26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definisanja predme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end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unkcionalnim paramet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DA17-E05D-45C0-A507-D538264DAD7D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BF3C7-67D4-439E-98CE-334F5B9E740F}" type="datetime1">
              <a:rPr lang="en-US"/>
              <a:t>07/28/26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14440" y="1338120"/>
            <a:ext cx="5829120" cy="719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utstvo ponu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dnošenj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ja u pos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utstva za podnošenje ponude (rok važnosti, produženje, licitaciona garancij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ponude sa prilogom uz ponu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sa izjavom da će radovi biti izvršeni u roku i po ceni, koji ispunjava ponuđač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F12-AA14-44D6-B64F-8574C007C316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E2EF9-9A4E-4EC7-96B1-7D866DF1A1EE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rada je važna svima koji grade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vestitor veoma često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vođač uvek hoće da zara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raditelj mora od nečeg da živi, i to dobro, ako je mog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o može da bude zaljubljenik u svoj posao, ali ostali obično traže svoj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CD7-68B3-4D78-8084-7289FA0E4A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D1B493-BD4B-4C40-8438-D76BDDDB82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14440" y="424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4440" y="1414440"/>
            <a:ext cx="5829120" cy="79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ac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r na kome se zaključije ugovor, čiji je sastavni deo i ostala tenderska dokum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često bazirani na FIDIC-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kacije i opisi radova koje treba izv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čni zahte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"zamk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7A6B-A1C6-4104-8196-FA2D73B9174E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4A82B-26FA-4D1A-8E83-095142000267}" type="datetime1">
              <a:rPr lang="en-US"/>
              <a:t>07/28/26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14440" y="17949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 i predrač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količine radova koji se 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upisuj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rema stvarnim količi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bi trebalo da dobro sagleda šta se stvarno može očekiv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buhva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ektne 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os cena ponuđač prilagođava željenom toku nov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FC5-034E-43A3-A36A-9FFDCA1C0C87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46C56-0793-4125-B20D-0B29E5C10BC2}" type="datetime1">
              <a:rPr lang="en-US"/>
              <a:t>07/28/26</a:t>
            </a:fld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te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đuje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ovoljni za realizac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razrađuju i prilagođava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cija za dobro izvrše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je banka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10% vrednosti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naplativa na poziv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826-CB52-4169-90A4-B710E313BDF8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44FB1-D878-4575-9602-930A644E4141}" type="datetime1">
              <a:rPr lang="en-US"/>
              <a:t>07/28/26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 tende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kojom se najpovoljniji ponuđač informiše da je iza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ed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ugovor ne sklopi, gubi se licitaciona gara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o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a koja se dostavljaju naknad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se dostavljaju kao odgovor na pitanj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alju se svima, bez obzira da li su pi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91E-5028-4849-9B6B-9325B497D3B7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7FAAA-CAFC-4D9C-8481-3EC909B3AE1A}" type="datetime1">
              <a:rPr lang="en-US"/>
              <a:t>07/28/26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i parametr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o vrsti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, spratnost, nivo obrade, oprema za poslovni obje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sta proizvoda, nivo proizvodnje za proizvodne obje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đač treba da uradi detaljnu razradu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o i dugotra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ća mogućnost za zaradu i gubit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7A4-A8EE-42F7-B5F8-ECBB85CEEEE8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E0B20-DB47-4160-AC8B-CBDAFEF7379E}" type="datetime1">
              <a:rPr lang="en-US"/>
              <a:t>07/28/26</a:t>
            </a:fld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načinu izbora najpovoljnijeh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a pogod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ji po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eni poslovni partn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3C3-4D6D-4D6D-BD53-510EB98E28B6}" type="slidenum">
              <a:t>1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212E-0A2F-46CF-B17A-0F1E2F22490E}" type="datetime1">
              <a:rPr lang="en-US"/>
              <a:t>07/28/26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ci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65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i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ju se kvalifikovani ponu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čekuju se kvalitet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da spreči dogovorn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a lici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ni poziv u specijalizovanim stre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vima informis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postoji predkval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upak sprovodi konsul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310-8852-460A-9B7C-1C308B2C35F5}" type="slidenum">
              <a:t>1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90270-C766-4FC5-B1A6-60C7075DE149}" type="datetime1">
              <a:rPr lang="en-US"/>
              <a:t>07/28/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14440" y="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najpovoljnije ponu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14440" y="1642680"/>
            <a:ext cx="5829120" cy="76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nije najjeftin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an je bon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i su finansijski uslovi (kreditiranje, plaćanje u domaćoj valu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da postoje i specifični uslovi (angažovanje domaćih firmi ili resursa, transfer znan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da postoje i drugi specifični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procedura je definisana u konkursnom materija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02D-7454-416A-B3E9-B9B26B5F2070}" type="slidenum">
              <a:t>1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6A9AD-8417-4DB1-9A8B-4932C800572A}" type="datetime1">
              <a:rPr lang="en-US"/>
              <a:t>07/28/26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slovima za davanje prodajne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ič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dinstvena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razni modalite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može biti i fik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FFF-A440-46BA-B5E1-0F6C6A49D7F5}" type="slidenum">
              <a:t>1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8D278-5991-4A81-9F01-6AB1C575A31B}" type="datetime1">
              <a:rPr lang="en-US"/>
              <a:t>07/28/26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ciji predmet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izbor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definisanju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C06-805B-4F6B-AB92-21043215922C}" type="slidenum">
              <a:t>1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25122-EB3E-43ED-9DAC-F5C6A5C65070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rugačiji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m pokažemo kako da vodite računa o realnim moguć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kušaćemo da vas naučimo kako da vodite računa o realnim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671D-D548-4FBE-9092-7A70A2C4AD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FB8B1-DA45-40CE-8DFE-4906588D47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886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5829120" cy="59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5C74-4B9D-4C6E-882A-11E31A9DC293}" type="slidenum">
              <a:t>1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30596-A594-4E63-815A-02295CE7CE05}" type="datetime1">
              <a:rPr lang="en-US"/>
              <a:t>07/28/26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ubedljivo najznačaj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uračunati faktor neizvesnosti, posebno u uslovima dugotraj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140-45B7-43C8-91A7-1A0FA9AFE645}" type="slidenum">
              <a:t>1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8871E4-09FA-46A0-B8A4-E08EDF41C391}" type="datetime1">
              <a:rPr lang="en-US"/>
              <a:t>07/28/26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 između glavnog izvođač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o je da glavni ponuđač (izvođač) uspostavi internu kontrolu ponuda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 mora biti "čvrsto držan, štapom i šargarepom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2AB-9279-4E36-AB8E-313B3764FD1D}" type="slidenum">
              <a:t>1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BE4A8-B204-41FA-8810-99767FF0112A}" type="datetime1">
              <a:rPr lang="en-US"/>
              <a:t>07/28/26</a:t>
            </a:fld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tap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angažovanja drug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promen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Šargarep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agođavanje ponude interesima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istiranje na tehnologiji koja odgovara pod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nost u raspodeli sredstava (iznos i tok nov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B438-1B8D-46B9-8BED-2E9BAFABF1A1}" type="slidenum">
              <a:t>1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13D88-E2F2-46DB-AC10-CF65E929707E}" type="datetime1">
              <a:rPr lang="en-US"/>
              <a:t>07/28/26</a:t>
            </a:fld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podizvođačem se ugovara cena koja se razlikuje od cene tih radova iz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voditi računa da isplaćen novac odgovara vrednosti izvrše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novca treba da bude u funkciji efikasnog završetk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EAC-743D-4519-8A68-BC460EF919FC}" type="slidenum">
              <a:t>1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8A649-8054-49AC-B5C9-1278FA19B796}" type="datetime1">
              <a:rPr lang="en-US"/>
              <a:t>07/28/26</a:t>
            </a:fld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ceptu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v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procenu obavlja specijalizovana ekipa ponu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ipu vo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cenitel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stimato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su približne, ali su nuž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kada se sagledaju troškovi, dodaje s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F85-DBEB-4268-9D5B-0E20C87B23A0}" type="slidenum">
              <a:t>1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CE0A2-1CA6-43D6-84EB-8D2EDAA1C431}" type="datetime1">
              <a:rPr lang="en-US"/>
              <a:t>07/28/26</a:t>
            </a:fld>
          </a:p>
        </p:txBody>
      </p:sp>
    </p:spTree>
  </p:cSld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šk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omoćnih postrojenja i služ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žijsk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no troškovi direkcije kompa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o nastaju pre ugovaranja (ponude, akvizicija, marke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2BA-D9AE-4F41-9625-9D521A957DEF}" type="slidenum">
              <a:t>1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09716-D61B-4854-AF73-67983641F4B4}" type="datetime1">
              <a:rPr lang="en-US"/>
              <a:t>07/28/26</a:t>
            </a:fld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1440" y="0"/>
            <a:ext cx="5829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6148440" cy="776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36D-9251-4ED7-AA7B-977983F520BB}" type="slidenum">
              <a:t>1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54F56-6E33-40A6-9E38-6A54626B4DC6}" type="datetime1">
              <a:rPr lang="en-US"/>
              <a:t>07/28/26</a:t>
            </a:fld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 za donošenje odluke o radu na ponudi (slično studiji opravdanos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nders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ženi rok (ako ga 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za poč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učešća domaćih firmi i moguće posle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C64-375A-42B1-8B8E-9D06B3970D0C}" type="slidenum">
              <a:t>1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2AD64-22F7-4C5F-AB45-58324E37AA60}" type="datetime1">
              <a:rPr lang="en-US"/>
              <a:t>07/28/26</a:t>
            </a:fld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konstrukcija investitora i njena sigu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plaćanja i način verifikacije obavljenog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iji su troškovi osiguranja, carine i druge tak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AE9-458F-4C54-B554-DF54D5F85CB3}" type="slidenum">
              <a:t>1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E8C62-B43B-4A1E-88DE-1EB4A9BEDAAB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ere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ednost onoga što uradite biće merena prema tome koliko doprinesete intere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mora biti da sačuvate svoj integritet stručnjaka, ali i da zarad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aš interes je da onaj koji vas je angažovao oseti da je imao koristi od t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31EE-E9EE-4987-80A0-F18F28D0D2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47F35-0450-4591-9C78-58BF583A5D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istraživanja tržišta 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ci troškovno značajnih stav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čioci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a osposoblje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9C4-24E5-4642-A9B6-61FE88CB8C57}" type="slidenum">
              <a:t>1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DDA58-9CD8-43EC-8130-CADA621CDED1}" type="datetime1">
              <a:rPr lang="en-US"/>
              <a:t>07/28/26</a:t>
            </a:fld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a o usvajanju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virna finansijska vre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tivnosti potrebne za akviziciju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ni dinamički plan izrade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ske potrebe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a sredstva za izrad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A50-D3C1-447E-8895-7B07CF1550B9}" type="slidenum">
              <a:t>1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0E2F1-3111-440E-A086-BB8DC790A70F}" type="datetime1">
              <a:rPr lang="en-US"/>
              <a:t>07/28/26</a:t>
            </a:fld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7760" y="1191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7760" y="1719000"/>
            <a:ext cx="582948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izvor cene koja se nu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%-1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bitniji element priprem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na za proceduru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i analiza ten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na tehnološke i prostorne pod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eneralnih akti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tehnologije i njenih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CE9-4E71-4AA4-84F7-273ED6190B67}" type="slidenum">
              <a:t>1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DA71DD-3729-43BF-BD4F-EFD4FAE9796A}" type="datetime1">
              <a:rPr lang="en-US"/>
              <a:t>07/28/26</a:t>
            </a:fld>
          </a:p>
        </p:txBody>
      </p:sp>
    </p:spTree>
  </p:cSld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14440" y="1871280"/>
            <a:ext cx="5829120" cy="734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generalnog dinamičkog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iza i izbor meh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rganizacione stru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priprem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režijskih troškova na gradil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5EC-C975-4838-A1B6-475085C1BA85}" type="slidenum">
              <a:t>1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1F578-6C2C-4217-94A0-2C19BA773D3A}" type="datetime1">
              <a:rPr lang="en-US"/>
              <a:t>07/28/26</a:t>
            </a:fld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14440" y="2057040"/>
            <a:ext cx="5829120" cy="716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troškova sedišta fir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račun bankarsk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načina kontrole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zik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učeš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fita u ponu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atizovanje pripremlje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puna baz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2F2-F874-4A17-A0E3-2467D16BA7AA}" type="slidenum">
              <a:t>1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75BFC-457F-44E0-A949-48871C1839C4}" type="datetime1">
              <a:rPr lang="en-US"/>
              <a:t>07/28/26</a:t>
            </a:fld>
          </a:p>
        </p:txBody>
      </p:sp>
    </p:spTree>
  </p:cSld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4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14440" y="1566360"/>
            <a:ext cx="5829120" cy="788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završe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sagledanog celog procesa 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mpletiranih ponuda isporučilac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određivanje poslovne strate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i za kontrolu troškova i upravljanje sredstvima prema isporučiocima i podizvođač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DCC-431A-4B3A-8F51-2A8007ABECEE}" type="slidenum">
              <a:t>1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7EB56-06A4-4133-9680-3BE01B601768}" type="datetime1">
              <a:rPr lang="en-US"/>
              <a:t>07/28/26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za buduće pos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D12-EF05-4B14-B527-00BF80087194}" type="slidenum">
              <a:t>1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7610E-F8B9-4C26-986C-7F7B6D9E4654}" type="datetime1">
              <a:rPr lang="en-US"/>
              <a:t>07/28/2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iti razumnu c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iti realno traj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gurati tražen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2C7-45CE-4A5E-B8DD-35CD4149CDBA}" type="slidenum">
              <a:t>1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1ACC0-5683-4910-96E6-234CF3A2267F}" type="datetime1">
              <a:rPr lang="en-US"/>
              <a:t>07/28/26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14440" y="2362320"/>
            <a:ext cx="5829120" cy="670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e pri izrad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 raspodela sredst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i procen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ceptu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na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BDF-418D-4371-AFD3-BCAF116B5D39}" type="slidenum">
              <a:t>1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8A2A0-C144-45B5-A098-8FEBD1D17B41}" type="datetime1">
              <a:rPr lang="en-US"/>
              <a:t>07/28/26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90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eo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0040" y="2590920"/>
            <a:ext cx="582948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48F-7034-44D4-B557-11FB8FEE1714}" type="slidenum">
              <a:t>1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CBB7F-CC58-4DEC-87F0-6D982A75CF94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505320" y="6019920"/>
            <a:ext cx="2997000" cy="3612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ženjersko balans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je potrebno da se usaglasi ekonomski interes i principi st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tko postoji jednoznačno reš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blemi se veoma često moraju rešavati na licu mesta, znanjem i oseća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2A3-8A5C-4F8E-ADE0-12FA4C9A9DB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B668B-AA32-42F6-A82E-04E195B90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14440" y="1752480"/>
            <a:ext cx="5829120" cy="746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količine resursa  neophodnih za postizanje ci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procenjenih troškova i profita sklapa se 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om realizacije procene se koriguju u skladu sa stvarnim sta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late se prilagođavaju stvarnom st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e troškove i poređenje sa planiranim zove se 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E80-1945-40F1-A447-EB39FA62EA8D}" type="slidenum">
              <a:t>1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93030-374C-4F92-90B1-947412B16C8F}" type="datetime1">
              <a:rPr lang="en-US"/>
              <a:t>07/28/26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je pogled unapred n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troškova je pogled unazad na prošl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 dve aktivnosti su povezane i daju materijal jedna za dru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reporučljivo da analizu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cenu rada dva nezavisna 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F28-0802-4BFE-BF5C-04B26DDF2EB9}" type="slidenum">
              <a:t>1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98155-C2C0-4FAB-8B04-6CFE021C5746}" type="datetime1">
              <a:rPr lang="en-US"/>
              <a:t>07/28/26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j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za kvalitetnu procen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olaganje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metodologije i procedure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lana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a tehnoloških znanja i ve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dovanje hardvera i softv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to je projekat složeniji potrebno je obezbediti više pred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90C-381A-4DF4-A0B7-DE533412E6A4}" type="slidenum">
              <a:t>1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9E1B1-664E-4EF8-8923-173BA2F7EEE7}" type="datetime1">
              <a:rPr lang="en-US"/>
              <a:t>07/28/26</a:t>
            </a:fld>
          </a:p>
        </p:txBody>
      </p:sp>
    </p:spTree>
  </p:cSld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37760" y="1904760"/>
            <a:ext cx="582948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A87-E184-4C77-BC75-489C9604C189}" type="slidenum">
              <a:t>1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11115-A007-4A67-9759-A73476FF2F75}" type="datetime1">
              <a:rPr lang="en-US"/>
              <a:t>07/28/26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347760"/>
            <a:ext cx="640080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kacija posla i sistem kod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jerarhijsk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fikacij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rstam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tipskim eleme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o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iranje prati struktur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broja nivoa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formata ko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standardni načini klasifikacije troškova podržani institucijama i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B84-C681-4F2B-A195-5E6ED80E94C1}" type="slidenum">
              <a:t>1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D2C64-ECEE-48C1-AE0C-ECC9A5F06167}" type="datetime1">
              <a:rPr lang="en-US"/>
              <a:t>07/28/26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pozn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nogo je jednostavnije proceniti standardnu tehnolog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i detalji, materijali i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resursa standardno i povolj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klično korišćenje tehnolog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m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440-2E18-4540-945B-6E334126CEB9}" type="slidenum">
              <a:t>1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A984D-3B32-46C7-8E9E-A19548A2B854}" type="datetime1">
              <a:rPr lang="en-US"/>
              <a:t>07/28/26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gravanje realizacije radova kod poslova koji se ciklično obavlj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standardnih objekata procenjujemo cenu je nekom parametru (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krevetu, kra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estandardnih objekata daje se cene po jedinici mere (bra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kombinacija strateg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34B-1A34-461A-B7B8-901B578FC131}" type="slidenum">
              <a:t>1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3C512-DF54-4448-B311-61FEFDCEB033}" type="datetime1">
              <a:rPr lang="en-US"/>
              <a:t>07/28/2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učavanje tehnoloških reš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prilagoditi procenu predviđenom izvođaču i njegovoj tehnologiji i sposob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eti u obzir veličin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E05-6579-4C8C-BA27-6CB921AC6651}" type="slidenum">
              <a:t>1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C41EA4-7B16-452B-AB89-EEDA2780BD58}" type="datetime1">
              <a:rPr lang="en-US"/>
              <a:t>07/28/26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23360"/>
            <a:ext cx="624816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14440" y="23284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podataka o predviđenim oper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z su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raživanju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istorijskim poda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svetu postoje programi, knjige i baze podataka za pomoć pri procen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postoje zastarele Komgrapove norme i Tanjug-ov bil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58F-0B37-4DAC-BFD1-D3ABA84C80E0}" type="slidenum">
              <a:t>1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2A1D5-6D74-4A2B-9A00-EC8FDAEBADE5}" type="datetime1">
              <a:rPr lang="en-US"/>
              <a:t>07/28/26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ćenje i proširivanje 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2176200"/>
            <a:ext cx="594360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imati i sopstve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o je imati svedene podatke po nekom parametru standardnog ob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nemamo dovoljno detaljni projekat ili nemamo normative, moramo koristiti i specifične istorijsk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korisno prikupiti ponude podizvođača i isporuč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3555-6778-49BE-BD89-976F87B4FB45}" type="slidenum">
              <a:t>1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009EB9-B03B-4F2B-8605-99842DB7CFED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što, kako i zbog ko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3A32-DF13-4393-BDEF-7CA86DA7959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63907-D1D5-49A0-AFFF-A73143622C2C}" type="datetime1">
              <a:rPr lang="en-US"/>
              <a:t>07/28/2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14440" y="274320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infl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načajan i kod malih inflacija (3%-5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zna sk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različitih kompon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statističke verifi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zavisi od strukture cen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219320" y="7391520"/>
                <a:ext cx="43527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⋅</m:t>
                        </m:r>
                        <m:f>
                          <m:num>
                            <m:r>
                              <m:t xml:space="preserve">O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9CA-C59D-49D7-AC34-1D2BC1FFD84F}" type="slidenum">
              <a:t>1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CD0C1-ABD1-46DE-9CCC-2349DD4073E7}" type="datetime1">
              <a:rPr lang="en-US"/>
              <a:t>07/28/26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7760" y="194760"/>
            <a:ext cx="582948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anirano povećanj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 kvalitet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bučenost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podizvođača i dobavlj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enadne promene zakonske i tehnič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dovoljno poznavanje pro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gle promene 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edhodne an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vorišta materij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logija i istražni rad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ojeće podzemne instal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8F1-46DC-47BC-9C14-33F0B31D5AB3}" type="slidenum">
              <a:t>1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D206C-4264-4A09-97BA-4D0FD861AC7A}" type="datetime1">
              <a:rPr lang="en-US"/>
              <a:t>07/28/26</a:t>
            </a:fld>
          </a:p>
        </p:txBody>
      </p:sp>
    </p:spTree>
  </p:cSld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1947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ticaj specifičnih uslova za realizaciju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42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ugovoru, obično se zna na čiji teret padaju ovi troš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a sil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avdano povećanje troškova -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i izvođača i podizvođača -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uobičajeni problemi na nekim tržištima (carine i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poslovi i mesta malog rizika (stalni investitori i podizvođač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C05-4C98-4B10-A7C5-3DDAA79526D8}" type="slidenum">
              <a:t>1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79120-4429-4ECF-920B-693F7F71F01B}" type="datetime1">
              <a:rPr lang="en-US"/>
              <a:t>07/28/26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2452320"/>
            <a:ext cx="58291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9C7-8468-4D87-ADFA-54D205255055}" type="slidenum">
              <a:t>1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22498-76C8-48B0-AD0B-BFA869191CA5}" type="datetime1">
              <a:rPr lang="en-US"/>
              <a:t>07/28/26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8120" y="42840"/>
            <a:ext cx="61149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uba (preliminarna) proc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1566720"/>
            <a:ext cx="5829120" cy="757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čna cena prema predviđ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paci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pre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rš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en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%-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standardizovanim ob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ekcija prema dodatnim uticaj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D252-71AB-4F11-B3CE-65245DFED762}" type="slidenum">
              <a:t>1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98FF3-74B4-49B3-AEA6-165872D5A877}" type="datetime1">
              <a:rPr lang="en-US"/>
              <a:t>07/28/26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ar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7760" y="2252160"/>
            <a:ext cx="582948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komplikovane ob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objekta na ele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i bl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cio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sni 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malom broju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dobra 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843-538A-47C1-A63B-31C8A7E678EF}" type="slidenum">
              <a:t>1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599F4-FFA6-4484-AC75-8B92567153CB}" type="datetime1">
              <a:rPr lang="en-US"/>
              <a:t>07/28/26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ametarski (regresioni)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a vezan za matematički apa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i istorijski po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zriva pri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i mode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ksponencij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aritam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osnovu istorijskih podataka bira 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62D-C874-4C69-BFA2-A0035E14B013}" type="slidenum">
              <a:t>1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EE206-2CBA-446E-86C3-F11A66E21FBB}" type="datetime1">
              <a:rPr lang="en-US"/>
              <a:t>07/28/2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14440" y="179532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 završenoj projektnoj dokument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a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n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podaci s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korisno korišćenje standardnih no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ka jako pomaže pri povećanju tačnosti ovog mod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FB6-530D-4FA0-B859-B4E327958A6E}" type="slidenum">
              <a:t>1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53EC-FE7C-4338-98A8-A60FF75D9DF8}" type="datetime1">
              <a:rPr lang="en-US"/>
              <a:t>07/28/26</a:t>
            </a:fld>
          </a:p>
        </p:txBody>
      </p:sp>
    </p:spTree>
  </p:cSld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 troškovno značajnih pozi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no je da 20% pozicija nosi 80%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neke objekte (pogotovo niskogradnja) ova razlika je još ve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dobro odredimo značajne stavke, procena može biti veoma precizn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godna metoda za utvrđivanje klizne sk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D15C-60D2-4338-B565-41615175D272}" type="slidenum">
              <a:t>1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36182-8DD8-481B-A8EA-33AE8B0109EC}" type="datetime1">
              <a:rPr lang="en-US"/>
              <a:t>07/28/26</a:t>
            </a:fld>
          </a:p>
        </p:txBody>
      </p:sp>
    </p:spTree>
  </p:cSld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40080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14440" y="1676520"/>
            <a:ext cx="5829120" cy="761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javljuju se u predm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arketinga i akvizicije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guranje i deo ca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ajmljivanje i korišćenje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arske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anjanje otpadnog i nepotrebnog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BA0-F3E9-4D4B-8D8B-FF2F49E92594}" type="slidenum">
              <a:t>1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30BA8-6803-4142-95A7-16945F4A6CC6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što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iteljstvo je timski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mnogih str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đevin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strukti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raš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braćaj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gra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izvod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ganiz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nsi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C7F-57C7-4B51-8E3E-9406D3466D9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BA0D5-7035-4DF4-B8F8-A5C53315624D}" type="datetime1">
              <a:rPr lang="en-US"/>
              <a:t>07/28/26</a:t>
            </a:fld>
          </a:p>
        </p:txBody>
      </p:sp>
    </p:spTree>
  </p:cSld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važna za dobijanj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rena čitaoc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ni 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rekapit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etski privl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kvalitet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an vid rek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brzog prilagođavanja toku događaja i željam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C7A-0827-45EC-82C7-BC5640462F3D}" type="slidenum">
              <a:t>1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11406-3B44-4771-A346-5AE17E9C3ED6}" type="datetime1">
              <a:rPr lang="en-US"/>
              <a:t>07/28/26</a:t>
            </a:fld>
          </a:p>
        </p:txBody>
      </p:sp>
    </p:spTree>
  </p:cSld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4440" y="19051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procene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kacija po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učavanje tehnoloških rešenja i redosled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 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caj specifičn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i primena mode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na indirektnih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prezent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EE7-4B4B-4054-AFFB-A156F2DA3E5B}" type="slidenum">
              <a:t>1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BB757-291D-47D4-AC6E-53E9519BD959}" type="datetime1">
              <a:rPr lang="en-US"/>
              <a:t>07/28/26</a:t>
            </a:fld>
          </a:p>
        </p:txBody>
      </p:sp>
    </p:spTree>
  </p:cSld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E67-2616-4147-AD53-DCD6F842BC71}" type="slidenum">
              <a:t>1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98903-E725-490D-8459-D2C6DD654E00}" type="datetime1">
              <a:rPr lang="en-US"/>
              <a:t>07/28/26</a:t>
            </a:fld>
          </a:p>
        </p:txBody>
      </p:sp>
    </p:spTree>
  </p:cSld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55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7EEE-E653-414F-AFED-72E901E40BF2}" type="slidenum">
              <a:t>1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0D7D2-835D-43BA-89B0-578D3C4E2611}" type="datetime1">
              <a:rPr lang="en-US"/>
              <a:t>07/28/26</a:t>
            </a:fld>
          </a:p>
        </p:txBody>
      </p:sp>
    </p:spTree>
  </p:cSld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asnost dva ili više lica koja ima pravno dej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i elementi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predmetu oba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utvrđivanja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 načinu finans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20F-7DBA-4B3C-8EEF-7D9C8268D6BE}" type="slidenum">
              <a:t>1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F0EDA-F4BD-44BA-AA07-F8A19E4213A0}" type="datetime1">
              <a:rPr lang="en-US"/>
              <a:t>07/28/26</a:t>
            </a:fld>
          </a:p>
        </p:txBody>
      </p:sp>
    </p:spTree>
  </p:cSld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14440" y="194796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aža elektro-mašinske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ispor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oruka i mont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juč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est u zemljama u razvo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tako čest u razvijenim zeml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izvod u r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zgradn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78B-2F15-43E4-A222-F34E477BD864}" type="slidenum">
              <a:t>1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F324C6-6DE9-4D0B-830D-8102B0404A56}" type="datetime1">
              <a:rPr lang="en-US"/>
              <a:t>07/28/26</a:t>
            </a:fld>
          </a:p>
        </p:txBody>
      </p:sp>
    </p:spTree>
  </p:cSld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a cena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namika plaćanja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nje po faz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etno na osnovu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rada na osnovu količina koje meri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e mogu da se izmene ako se izm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C6D-2740-470A-AAD1-D276BD98710F}" type="slidenum">
              <a:t>1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CE3F1-DEA4-4E1B-8D0E-E492E55CE29D}" type="datetime1">
              <a:rPr lang="en-US"/>
              <a:t>07/28/26</a:t>
            </a:fld>
          </a:p>
        </p:txBody>
      </p:sp>
    </p:spTree>
  </p:cSld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kovi plus dobit (Cost Pl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procenat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s fiksni honorar i podela prof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ksni honorar i klauzula o nag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plus klizna skala honor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B0E-EF66-47DF-81A2-CB69FFDCCAC3}" type="slidenum">
              <a:t>1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C6C70-EA14-4BC5-9158-700A2481BD1B}" type="datetime1">
              <a:rPr lang="en-US"/>
              <a:t>07/28/26</a:t>
            </a:fld>
          </a:p>
        </p:txBody>
      </p:sp>
    </p:spTree>
  </p:cSld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ena cena koja se ne sme premašiti (Sealing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janta fiksn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rekoračanje preko neke granice izvođač snosi t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ksna cena (Fixed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ložna iz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rihvatljivosti promene cena (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i u slučaju k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D99-BE9E-49FE-9109-B35C71DA6BA4}" type="slidenum">
              <a:t>1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61FB6-C024-4F7F-870E-0D749A5AD9F6}" type="datetime1">
              <a:rPr lang="en-US"/>
              <a:t>07/28/26</a:t>
            </a:fld>
          </a:p>
        </p:txBody>
      </p:sp>
    </p:spTree>
  </p:cSld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ran na britanskom Common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je i tumačenja (čl.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a (naručilac, izvođač, inženjer, podizvođač, zastupnik inženje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kumenti (ugovor, specifikacije, crtež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odavni su samo pisani dokum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5DB-C970-4EF8-ABF4-29F2CBAC02CE}" type="slidenum">
              <a:t>1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5FDF8-2169-4ACE-8C63-B8A8E15A429A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cioni projekat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ka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više lo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gotra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uđenost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klimatsk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vinsko-pravni 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826-CD66-4A26-AF66-72666D640AA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8D496-9292-4606-998C-96F730CD107B}" type="datetime1">
              <a:rPr lang="en-US"/>
              <a:t>07/28/26</a:t>
            </a:fld>
          </a:p>
        </p:txBody>
      </p:sp>
    </p:spTree>
  </p:cSld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 i zastupnik inženjera (čl.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lašćenja se daju ugov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mena uputstva moraju da se potvrde pismeno u roku od 7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može da oslobodi izvođača ugovornih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ovlašćenja se može preneti zastupniku, ali ne s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8D0-EA54-47AD-83C9-D64A92BBD7D2}" type="slidenum">
              <a:t>1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22558-7E81-4E32-83DB-C052E3EE798B}" type="datetime1">
              <a:rPr lang="en-US"/>
              <a:t>07/28/26</a:t>
            </a:fld>
          </a:p>
        </p:txBody>
      </p:sp>
    </p:spTree>
  </p:cSld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os i podugovoranj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3,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ne može biti prenet na drugo lice bez saglasa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 se preneti novčana potraživanja svojoj banci bez saglasnosti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DE7-B7EE-4721-98A4-9CC18463EDFA}" type="slidenum">
              <a:t>1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D87B9-092E-443A-8FB0-E17BFE25BB2E}" type="datetime1">
              <a:rPr lang="en-US"/>
              <a:t>07/28/26</a:t>
            </a:fld>
          </a:p>
        </p:txBody>
      </p:sp>
    </p:spTree>
  </p:cSld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i dokumen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5-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azum o Ugov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o o prihvatanju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o I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vaki drugi dokument koji je deo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šnjenje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B75C-22F5-4DA3-BB1A-643BC93E131E}" type="slidenum">
              <a:t>1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3B09B-3D80-4F01-95FC-F8126C5B4E41}" type="datetime1">
              <a:rPr lang="en-US"/>
              <a:t>07/28/26</a:t>
            </a:fld>
          </a:p>
        </p:txBody>
      </p:sp>
    </p:spTree>
  </p:cSld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nost naplate količina koje nisu obuhvaćene predme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vor postoji čim izvođač pošalje pismo o prihvat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cija za dobro izvršenje posla naplativa na prvi poz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govornost za stanje pod zeml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da odredi kako će izvoditi rad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379-5C63-41A8-AA64-ED7B2EA1FD1E}" type="slidenum">
              <a:t>1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5E9E7-4F63-4A01-B704-E452DE6FC752}" type="datetime1">
              <a:rPr lang="en-US"/>
              <a:t>07/28/26</a:t>
            </a:fld>
          </a:p>
        </p:txBody>
      </p:sp>
    </p:spTree>
  </p:cSld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obaveze (čl. 8-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menja nadzor po sopstvenom naho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dođe do oštećenja zbog "rizika naručioca" postoji pravo na povećanje cene ali ne i povećanje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e transporta nestandardnih materijala i opreme snosi izvođ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F02-2937-4D7C-940D-F45B3905C685}" type="slidenum">
              <a:t>1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361CE-89B4-4182-8107-4A8B4F93C3D5}" type="datetime1">
              <a:rPr lang="en-US"/>
              <a:t>07/28/26</a:t>
            </a:fld>
          </a:p>
        </p:txBody>
      </p:sp>
    </p:spTree>
  </p:cSld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14440" y="182844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na snaga (čl. 34,3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 izvođača da inženjeru dostavlja izveštaje o stanju radne s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, postrojenja i izrada (čl. 36-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ima pravo da traži ispitivanja uzor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oliko su ispitivanja mimo ugovora, a kvalitet je odgovarajući, troškovi padaju n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kontrol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dgovarajući elementi se mogu odbac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9AD-A6EC-49BF-A4D1-188E0D4D9A94}" type="slidenum">
              <a:t>1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3B9CB-AAAE-467A-BD30-4F5395FA0E78}" type="datetime1">
              <a:rPr lang="en-US"/>
              <a:t>07/28/26</a:t>
            </a:fld>
          </a:p>
        </p:txBody>
      </p:sp>
    </p:spTree>
  </p:cSld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(čl. 4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nije zbog propusta izvođača i klimatskih uslova, investitor treba da nadoknadi št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obustava traje duže od 84 dana, i ne dobije se saglasnost za nastavak u roku od 28 dana, izvođač može da okonča svoj anagaž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851-257A-4033-A0F2-2F88850D6B9C}" type="slidenum">
              <a:t>1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F6C1-20BE-4569-A060-1B38DE41DD49}" type="datetime1">
              <a:rPr lang="en-US"/>
              <a:t>07/28/26</a:t>
            </a:fld>
          </a:p>
        </p:txBody>
      </p:sp>
    </p:spTree>
  </p:cSld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očinjanje radova i zakašnjenje (čl. 41-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predaje gradil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se ne izvode noću i u lokalne neradne dane, osim kada inženjer to odob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i za kašnjenje radova, ali ne preko neke s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vršetka i predaje radova i otklanjanja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406-621C-462B-A57C-549306043193}" type="slidenum">
              <a:t>1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4776E-9443-4019-A370-431307D8A7D2}" type="datetime1">
              <a:rPr lang="en-US"/>
              <a:t>07/28/26</a:t>
            </a:fld>
          </a:p>
        </p:txBody>
      </p:sp>
    </p:spTree>
  </p:cSld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14440" y="1676160"/>
            <a:ext cx="5829120" cy="754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nost za nedostatke (čl. 49, 5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le predaje radova izvođač radi radove koje mu inženjer nalož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ko se ti radovi zbog nepoštovanja ugovora, neodgovarajućeg rada i materijala, padaju na teret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uprotnom su naknadni radovi i investitor ih pla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rantni rok (period održavanja) se propisuje ugovorom, ako drugačije ne odredi lokalno zakonodav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4F2-BC62-453A-8BBA-2AACCA9CC049}" type="slidenum">
              <a:t>1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572FF-8063-44B0-9CF7-7362242EDD69}" type="datetime1">
              <a:rPr lang="en-US"/>
              <a:t>07/28/26</a:t>
            </a:fld>
          </a:p>
        </p:txBody>
      </p:sp>
    </p:spTree>
  </p:cSld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e, dopune i ispuštanja (čl. 51, 5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laž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ćaju se prema ugovoru i odgovor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obima radova koj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% se posebno kalkuliš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280-5DEF-4E0B-AB0A-8727A7015A1D}" type="slidenum">
              <a:t>1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09971-02A0-43BA-8ACF-EFA136E727C1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česnici u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izvođači i kooper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d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i, projektantski i upravn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849-0E34-4690-BA46-BFDD729EF62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8DC4B-B7D0-4DAC-8071-CB46045A55EE}" type="datetime1">
              <a:rPr lang="en-US"/>
              <a:t>07/28/26</a:t>
            </a:fld>
          </a:p>
        </p:txBody>
      </p:sp>
    </p:spTree>
  </p:cSld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e za odštetne zahteve (claims) (čl. 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java namere u roku od 28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 i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ično slanje novih obračuna tok problem t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okončanju problema u roku od 28 dana konačan obrač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slučaju propuštanja procedura, iznos klejma ne može da pređe iznos koji utvrdi inženjer 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DE78-6990-4727-81FD-EE1E65F127E8}" type="slidenum">
              <a:t>1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62869-E9AA-4FC6-A7EC-53F6818FF2A7}" type="datetime1">
              <a:rPr lang="en-US"/>
              <a:t>07/28/26</a:t>
            </a:fld>
          </a:p>
        </p:txBody>
      </p:sp>
    </p:spTree>
  </p:cSld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a izvođača, privremeni radovi i materijal (čl. 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, materijal i privremeni radova koji su potrebni za realizaciju objekta ne mogu biti uklonjeni bez saglasnosti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odnosi se na transportna sreds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12E-96AE-4E71-A375-BE3946D400C0}" type="slidenum">
              <a:t>1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EF0B3-5115-44D7-BDDF-4D824CDBAB36}" type="datetime1">
              <a:rPr lang="en-US"/>
              <a:t>07/28/26</a:t>
            </a:fld>
          </a:p>
        </p:txBody>
      </p:sp>
    </p:spTree>
  </p:cSld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nje (čl. 55-5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važe količine iz pred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meri, izvođač može da prisustvu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dostavlja rezul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14 dana vremena da uloži prigov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nosi se na radove po jediničnim ce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žnost blagovremene pismene komun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66E-00B7-44B3-A35B-95C415E50506}" type="slidenum">
              <a:t>1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0B520-BA54-42A7-A703-CB91DD040C4D}" type="datetime1">
              <a:rPr lang="en-US"/>
              <a:t>07/28/26</a:t>
            </a:fld>
          </a:p>
        </p:txBody>
      </p:sp>
    </p:spTree>
  </p:cSld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iznosi (čl. 5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i koji su pokriveni ugovorom, predmerom i predračun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i se prema uputstvima inženjera i njemu se dokazuju trošk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DE48-71DD-44E1-9404-0645D1C5F0A2}" type="slidenum">
              <a:t>1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874F9-D948-4A58-A648-229BEE03E32E}" type="datetime1">
              <a:rPr lang="en-US"/>
              <a:t>07/28/26</a:t>
            </a:fld>
          </a:p>
        </p:txBody>
      </p:sp>
    </p:spTree>
  </p:cSld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enovani podizvođači (čl. 5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ra ih inves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ugovara sa 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treba da bude obezbeđen od propusta ov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e uslovi pod kojima izvođač može da odbije imenovanog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B585-4C1B-4074-8BCA-0D56FDF3EB97}" type="slidenum">
              <a:t>1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9B16-4A9B-4F2B-B388-18D932B0474B}" type="datetime1">
              <a:rPr lang="en-US"/>
              <a:t>07/28/26</a:t>
            </a:fld>
          </a:p>
        </p:txBody>
      </p:sp>
    </p:spTree>
  </p:cSld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tifikati i plaćanja (čl. 60-6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dostavlja izjavu sa iznosom koja mu pripada na osnovu izvrše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ženjer u roku od 28 dana vrši korecije i potvrđuje iz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nos se umanjuje za avans i retencionu svo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a za završno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E30-1F2D-4A6C-9109-50A57F611A5E}" type="slidenum">
              <a:t>1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1107D-A3FD-4C0A-AEBE-3F13DB838866}" type="datetime1">
              <a:rPr lang="en-US"/>
              <a:t>07/28/26</a:t>
            </a:fld>
          </a:p>
        </p:txBody>
      </p:sp>
    </p:spTree>
  </p:cSld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lekovi (čl. 63, 6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naručilac stiče pravo na okončanje ugov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ono što ostav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isključuje lokalne pravne prop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i pod kojima inženjer može da izvede radove koje izvođač neće ili ne m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3EC-0B03-4D34-A7B1-EF1500375526}" type="slidenum">
              <a:t>1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081EE-F4A0-495F-8763-A8087AAF5A74}" type="datetime1">
              <a:rPr lang="en-US"/>
              <a:t>07/28/26</a:t>
            </a:fld>
          </a:p>
        </p:txBody>
      </p:sp>
    </p:spTree>
  </p:cSld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 (čl.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otreba i zauzimanje radova od strane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ške u inženjerovim projek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rodne sile, ratovi, pobune i revolucije van zemlje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svega se odnosi na finansijsku odgovor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 raskidanja ugovora u slučaju r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35B-C7F7-4005-A820-C1A0975ADA31}" type="slidenum">
              <a:t>1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6A1D5-F0E4-49E0-8E0D-2911AD1B3AA1}" type="datetime1">
              <a:rPr lang="en-US"/>
              <a:t>07/28/26</a:t>
            </a:fld>
          </a:p>
        </p:txBody>
      </p:sp>
    </p:spTree>
  </p:cSld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stupanje okolnosti posle pisma o prihvatanju koje onemogućava izvršenje obav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 (čl. 6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prvoj instanci odlučuje inženj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drugoj instanci arbitr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no je šta je uzeto kao osnovno pravo (švajcarsko, FIDIC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E0D-E35E-4E19-AB9B-C7B618244F75}" type="slidenum">
              <a:t>1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2F698-47FB-4C12-95E3-12E39F131FCC}" type="datetime1">
              <a:rPr lang="en-US"/>
              <a:t>07/28/26</a:t>
            </a:fld>
          </a:p>
        </p:txBody>
      </p:sp>
    </p:spTree>
  </p:cSld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štenja (čl. 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oš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resa mora biti zvan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smeno obaveštavanje o promeni adre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87F-8EDA-4BF3-A9E9-779EBE9F824E}" type="slidenum">
              <a:t>1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AF548-D3B0-4404-B473-31F6BF0F357B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a su vas učili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veći deo predmeta koji su do sada slušani spadaju u dve kategor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eorijski (matematika, mehanika, mehanika fluida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rojektantski (mehanika tla, beton, čelik, 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obe kategorije predmeta je karakteristično da postoje neke formule i neka pravila. Ako ispoštujete te formule i pravila, vi ste dobri. Ako ih ne znate ili ne poštujete, niste dob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B75-3A8A-42F0-B418-85361DAEFF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A47FA-EAA6-4B48-B906-6B20B2DF56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iranje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polaže novc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jekt se izvodi zbog njegove žel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inantan pristup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razvijenom sv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 stanovišt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ičajena uloga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goslovensk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interesantno u našim usl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098-AB34-4613-8FDE-66AF4D7A074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7F04A3-3CF2-4815-97BC-C00EE5103036}" type="datetime1">
              <a:rPr lang="en-US"/>
              <a:t>07/28/26</a:t>
            </a:fld>
          </a:p>
        </p:txBody>
      </p:sp>
    </p:spTree>
  </p:cSld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6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, neizdavanje sertifikata, stečaj i 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čno specijalnim riz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oknada svih gubitaka, zajedno sa profitom, ka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e usporava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guć kasniji nastav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976-63DA-44F3-A467-59961A174F49}" type="slidenum">
              <a:t>2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287B5-51EA-4D6A-899E-99C643FE7105}" type="datetime1">
              <a:rPr lang="en-US"/>
              <a:t>07/28/26</a:t>
            </a:fld>
          </a:p>
        </p:txBody>
      </p:sp>
    </p:spTree>
  </p:cSld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e u troškovima i zakonodavstvu (čl. 7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bog promene cena rada i materij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ene u zakonodavstvu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rebno stalno praćenje cena i zakonske reg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DFA-72EC-41D6-9B86-F763099E9D83}" type="slidenum">
              <a:t>2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1791C-9CDD-42E0-A5EF-A4B34728322D}" type="datetime1">
              <a:rPr lang="en-US"/>
              <a:t>07/28/26</a:t>
            </a:fld>
          </a:p>
        </p:txBody>
      </p:sp>
    </p:spTree>
  </p:cSld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ze i devizni tečaj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čl. 71-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promene deviznog tečaja koje su nastale 28 dana pre poslednjeg roka za podnošenje ponude i kas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tete zbog ograničenja u deviznom poslovanju u istom ro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ovde je veoma bitna stalna informisa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A55-4094-4C9D-ABAC-72314266D242}" type="slidenum">
              <a:t>2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2DB52-1653-4489-B98D-C0A4860DF97A}" type="datetime1">
              <a:rPr lang="en-US"/>
              <a:t>07/28/26</a:t>
            </a:fld>
          </a:p>
        </p:txBody>
      </p:sp>
    </p:spTree>
  </p:cSld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predmetu obave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a prema načinu utvrđivanja 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i uslov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86C-BE81-44E7-93C0-2170F1D6B872}" type="slidenum">
              <a:t>2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A9BE0-9FB0-4433-8CBE-16849EE61E05}" type="datetime1">
              <a:rPr lang="en-US"/>
              <a:t>07/28/26</a:t>
            </a:fld>
          </a:p>
        </p:txBody>
      </p:sp>
    </p:spTree>
  </p:cSld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413-CA56-435D-8EE9-333C8E1A463E}" type="slidenum">
              <a:t>2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C9C9D-AB27-41C4-A1E3-12CCFBFF4D06}" type="datetime1">
              <a:rPr lang="en-US"/>
              <a:t>07/28/26</a:t>
            </a:fld>
          </a:p>
        </p:txBody>
      </p:sp>
    </p:spTree>
  </p:cSld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AFF7-963D-49F3-AB21-22936636AE08}" type="slidenum">
              <a:t>2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6884C-AE29-4AB7-B535-7E28157878B2}" type="datetime1">
              <a:rPr lang="en-US"/>
              <a:t>07/28/26</a:t>
            </a:fld>
          </a:p>
        </p:txBody>
      </p:sp>
    </p:spTree>
  </p:cSld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utiče na dalji razvoj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erijalizuje želje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voj fazi se ostvari 85%-90% mogućih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sa stanovišta izvođača može početi i tokom izrade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trajati i tokom izvođenja rad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77A-88C5-4788-AE97-9EE718E5C638}" type="slidenum">
              <a:t>2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63931-18EB-4963-BD0E-452304A344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š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dgovornosti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tehničkih uslova i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2F54-060A-404E-8AB3-305A56C5827D}" type="slidenum">
              <a:t>2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46E1-0652-4EFF-A2A4-6751BF20D6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jerarhija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5456160" cy="492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FB1-7951-4384-ABD6-31B707A4BE88}" type="slidenum">
              <a:t>20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8575B-3F3B-4057-9A08-434EE84826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tup u zavisnosti od značaja o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idej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čujuć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C49-32FA-4FC2-87BA-204D2EC0E119}" type="slidenum">
              <a:t>2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3A16F-5FA0-4256-9472-37D96E590E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nvesti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9F8-D04B-4249-87A6-1367BC060E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3F496-EA41-4187-A0E8-047529E595DB}" type="datetime1">
              <a:rPr lang="en-US"/>
              <a:t>07/28/26</a:t>
            </a:fld>
          </a:p>
        </p:txBody>
      </p:sp>
    </p:spTree>
  </p:cSld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prema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82912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ophodno je definisati pre početka izrade glavnog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o donekl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i skup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že se definisati tokom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 utiče na ostala projekt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a 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zavisna od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1C7-0622-4F9C-A751-55A196E55BDE}" type="slidenum">
              <a:t>2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7C4F1-EBED-434C-911E-D2917F712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a pripr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tehnologi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ško usaglašavanje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kupljanje tehnološ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anje mogućih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E01-8DE2-4D17-8B10-AA0F1695BB5F}" type="slidenum">
              <a:t>2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911CF-7EF6-4368-9843-7C2E27C398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potrebnih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na poznavan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glašavanje svih uče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gledavanje ograni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a načina upravljanja, kontrole i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313-D161-4129-9429-8677E5838AE5}" type="slidenum">
              <a:t>2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C8701-FD4F-41CB-A10A-D29CF2DFFF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klapanje u okružen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se grade samo na osnovu klasične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at mora da se uklopi u šire okruž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ju se obezbediti uslovi i saglasnosti koje daje administracija, odnosno v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dobijanja uslova i saglasnosti je obično značajno složenija i dugotrajnija od samog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222-A159-47B2-B748-362B37FDDF60}" type="slidenum">
              <a:t>2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BB14B-D062-4FB4-8073-3D4ABA14C9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cija, u načelu, ne daje uslove i saglasnosti na osnovu svoje slobodne vo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i na osnovu kojih administracija izdaje uslove i saglasnosti zovu 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lanski dokum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i dokumenti definišu prostorni raspored, vrstu i sadržaje objekata koji se mogu g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79C-861E-4963-A103-BFF53CE540F3}" type="slidenum">
              <a:t>2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C96E5-3598-42E7-BC2D-654B4A3D3C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14440" y="60912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rebne karakterstike planske dokumen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14440" y="259056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uhvata prostorne i ekonomske kriterij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klađ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predmetu, prostoru i vremenskom perio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isanost, usklađivanje razvoja i inte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vrđivanje obavez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om izrade i sprovođenja pl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35A-4401-4401-8E3D-F4AB5E7ABFB9}" type="slidenum">
              <a:t>2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48716-0F89-4E78-A394-C9C5C747BD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u Republici, regionu, gradu i opšt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a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na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eštaj stanovni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eža nase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obraćajna i tehnička infra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e za stimulisanje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4ED-B4B4-4698-BEAC-E88BED2B3FAD}" type="slidenum">
              <a:t>2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A8A7D-B006-4DD6-A739-4F8A3AA7D4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storn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se i prostorni planovi područja sa posebnom na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naseljenih mesta, gde ne postoje urbanistički planovi, rade se detaljni prostorni pla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tornim planovima planira se razvoj u narednih 20 god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0AC2-8CCE-4AF4-A129-F906A3559C11}" type="slidenum">
              <a:t>2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BE4F2-560F-45D0-9DB3-23BB077988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pripr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luku donosi skupština nadležnog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uje se program 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uje se komisija za praćenje i usklađi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dokumentacije i an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i analiza planova, karata i slič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ao obavlja obrađivač, posebna stručna firma koja je angažovana za ovaj po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EF0-3A53-416D-84F9-660A02232911}" type="slidenum">
              <a:t>2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81060-C527-4941-915A-9212E26D40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razvo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cija uređenja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jivanje i analiza varij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 se izvršnom organu skupš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javne rasp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osnovu odluke o izradi pl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matranje primedbi i pred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ošenje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C30B-8CD6-4AF4-A313-DAD1308671E3}" type="slidenum">
              <a:t>2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33CE3-C095-476D-89EA-8FFCC3BC47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4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po W. Hughes-u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5146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za prihvatanja realizacije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ception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studije opravdanosti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easibility stag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ih reše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cheme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rada idejnog i glavnog projek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ail desig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govaran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tract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radnj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struction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jem objekta i puštanje u ra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issioning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E2D-2B13-4351-A59A-B85093EC07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91FBC-E359-4C16-981C-ABDBA560DF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rada prostornog pla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predloga i donošenja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šljenje viših organa vl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osi ga skupš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avljuje se u službenom glas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D6F-B8B3-40BA-8ACD-7EAEBD7122C1}" type="slidenum">
              <a:t>2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339FE-75B8-40C0-9F6F-F4D263888F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banistički plan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e za područje naseljenog me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đuje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ava rešenja iz prostornog plana konkret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a 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DD2-2F5A-4362-B81E-F11A7166DC20}" type="slidenum">
              <a:t>2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EB061-C512-412B-A5AF-5EB6B35A15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na sličan način kao prostorn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jemu se navodi na koje se vreme do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rade nacrta se deli 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gramskog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za izrade prostorne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2041-890C-4B79-B9F9-A2A0376F93C8}" type="slidenum">
              <a:t>2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7A17A-D553-4760-A18B-7B5BD84772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l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 na koje se od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kturne objekte sa priključcima na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novnu koncepciju stambene izgrad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čin ozelenj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štitu prirodnih vrednosti i kulturnih dob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9990-E8E8-4B94-A3A5-CB2EDD1F46EE}" type="slidenum">
              <a:t>2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3303D-12BD-4C4A-9FDA-1D5D80E12E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na faza urbanističkog plan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rada GUP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retizuje GUP u vezi namene provršina i položaja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za manje celine - mesne zajednice, nekoliko blokova 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da previše detalj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se slično kao G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9C4-2131-4138-87AB-40BE77FA9F20}" type="slidenum">
              <a:t>2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A6225-4CDB-40A4-8597-0C86B2DF35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stualni deo DUP-a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šti deo gde se nav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ni osnov i povod za izradu i donošenje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 iz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 javne raspr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love za uređenje prostora sa smernicama za privođenje prostora na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razlo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1F8-0676-4B26-A62B-FBA7374FABE0}" type="slidenum">
              <a:t>2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6B18B-A33F-4207-8310-19820B1C07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taljni urbanistički pla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i deo 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one plan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ljnu namenu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nicu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kte koji se zadržavaju i ruš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ciona i nivelacio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jna rešenja za infrastrukturu i uređenje slobodnih površ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tske elemente za obele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parce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FA6-B4B4-4F52-985C-F010D701B8B2}" type="slidenum">
              <a:t>2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B1C52-6049-4C8E-BC65-D9C0F2541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 za izradu tehničk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tke o lok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banističko-tehničk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e uslove za izgrad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ožaj regulacione i građevi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htevane karakteristike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D1E-3052-4336-A90F-9B29F03AFD6D}" type="slidenum">
              <a:t>2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855B8-8737-430A-ADFA-09030341CA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kt o uslovima za uređenje prost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 se na osnovu DUP-a ili na osnovu privremenih us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e saglasnosti komunalnih služb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osi ga organ uprave nadležan za poslove urban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je slična proceduri donošenja ostalih planskih dokume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2D5-F02A-477F-9372-079310C5F7F0}" type="slidenum">
              <a:t>2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16D4B-134B-41DD-AD7C-6F60072D88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ređenje zemlj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kti ne mogu da funkcionišu bez prateće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troškova izgradnje objekta moraju se uračunati i troškovi infra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izgradnju na području Beograda plaća se opremanje zemljišta Gradskoj direkciji za puteve i zemlj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undarno ure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849-C97C-4A17-A94A-3E6D85AF861D}" type="slidenum">
              <a:t>2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1E04D-5F97-4ADD-B359-F55B6C80F0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novište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 real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i proširenje baze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8AD-719F-4B01-A849-E56CE325F52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45DE6-C5FC-4C6E-A491-9C52113B62B2}" type="datetime1">
              <a:rPr lang="en-US"/>
              <a:t>07/28/26</a:t>
            </a:fld>
          </a:p>
        </p:txBody>
      </p:sp>
    </p:spTree>
  </p:cSld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at tehnologije i organizacija grade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za sagledavanje stvar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150-4B97-41FA-8313-029E4C7EDD65}" type="slidenum">
              <a:t>2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D03C3-D761-4717-9CF0-915265315C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o gra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detske, ge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rološke i meteorološke podlo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ovi snabde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eksperata i učesnik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79F-33EC-441F-BD3C-9474EFC18397}" type="slidenum">
              <a:t>2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C3203-4A79-4C30-AE50-E01B13156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i opis sa tehničkim uslovima za izvođ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račun fonda radnog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cena materijala “franko gradiliš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ri i uži izbor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montaž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čki planovi potreba za resurs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struk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D849-8374-482A-8AE5-DD280CEDC910}" type="slidenum">
              <a:t>2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FA99E-5E8B-4AAA-8657-0F82FAEC9F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i elementi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enje informacio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namički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ema organizacije gradil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predhodnih i pripremnih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troškova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e zaštite na r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BC8-1F96-4451-BEBE-F7A50E5D7CE4}" type="slidenum">
              <a:t>2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69365-EB83-43C4-9606-B7EEAD461A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načaj projektovanja i pripreme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k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at tehnologije i organizacija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A311-B9B1-4156-BCD8-98E8AB8DD9F8}" type="slidenum">
              <a:t>2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0A147-AEF4-48B3-B90C-D8085E49AEC7}" type="datetime1">
              <a:rPr lang="en-US"/>
              <a:t>07/28/26</a:t>
            </a:fld>
          </a:p>
        </p:txBody>
      </p:sp>
    </p:spTree>
  </p:cSld>
</p:sld>
</file>

<file path=ppt/slides/slide2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đenje radova na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73B2-7CB3-4324-9223-A49D2F245C81}" type="slidenum">
              <a:t>2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1CFE7-140D-4C13-942A-B5ECB5E1D1A1}" type="datetime1">
              <a:rPr lang="en-US"/>
              <a:t>07/28/26</a:t>
            </a:fld>
          </a:p>
        </p:txBody>
      </p:sp>
    </p:spTree>
  </p:cSld>
</p:sld>
</file>

<file path=ppt/slides/slide2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D7C-7D29-47DD-AB26-D17007AFBBDA}" type="slidenum">
              <a:t>2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A99BD-C116-4B18-93FF-0BD0BDC828A3}" type="datetime1">
              <a:rPr lang="en-US"/>
              <a:t>07/28/26</a:t>
            </a:fld>
          </a:p>
        </p:txBody>
      </p:sp>
    </p:spTree>
  </p:cSld>
</p:sld>
</file>

<file path=ppt/slides/slide2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ktična realizacija idealizovanog modela koji je do tada razrađ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tovo uvek model se mora prilagođavati realnos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 projektne dokument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9ABD-17D7-4C4B-B233-6942C90742B1}" type="slidenum">
              <a:t>2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D8709-2AB5-48DB-A90F-EF4F6B59DC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gradnja uz razradu tehničko-tehnoloških i organizacionih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rcijalne aktivnosti vezane za obezbeđenje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sopstvenih ugovornih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ispunjenja ugovornih obavez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CC4D-5D13-462F-85D4-A2C773AB4D82}" type="slidenum">
              <a:t>2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8E1FF-A86E-4583-9E6A-55C378478F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a pitanja na koja moramo odgovara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i je obim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je saradnike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o vremena imamo na raspolaganj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liki su troškovi ovog pos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kav kvalitet moramo da ostvari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1DE-B79C-49A8-B164-70B0C3B69D10}" type="slidenum">
              <a:t>2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90C79-62B2-4363-A62C-87D8616B0A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smo naučil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vanj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ološki pro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st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2A4F-C6B4-4EE5-8BCA-832815313F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B416B-BA18-473F-B9E9-DBD7F2266481}" type="datetime1">
              <a:rPr lang="en-US"/>
              <a:t>07/28/26</a:t>
            </a:fld>
          </a:p>
        </p:txBody>
      </p:sp>
    </p:spTree>
  </p:cSld>
</p:sld>
</file>

<file path=ppt/slides/slide2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na navedena pitanja se mogu unapred zn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ki od odgovora se menjaju vremenom zbog razvoja situ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dovoljno odgovoriti na ova pitanja samo u jednom trenut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govori se moraju pribavljati i korigovati tokom celog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D64-C228-4A05-9421-0D47E8F141C8}" type="slidenum">
              <a:t>2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FC0C4-9212-459B-AE49-C19E6EC0EC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(plan) budućih događ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id u stvarno st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akcije za smanjenje odstup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9FD-FD8A-4AA6-9FF1-495D25FA0CD7}" type="slidenum">
              <a:t>2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82F0C-1322-4ECE-885A-44BCD72925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 je obavezan uslov za  kontrolu realizacije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e osobine informacionog sistema za kontrolu realizacije gra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klopljen u IS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obijanja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procene efekata 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zina distribucije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st je potrebna, ali ne apsolutna tačno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53D-A25F-4510-AF26-2960711741AD}" type="slidenum">
              <a:t>2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4FBE5-E9FB-4079-AE9A-E680A1D8FB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odvija na osnovu procena obima radova, procene praktičnog učinka i sagledavanj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se prikazuje u mreženom pl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tačnih pla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ovi se stalno ispravljaju i prilagođavaju stvar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D56-3D82-4098-8E2D-639B9FE7B03E}" type="slidenum">
              <a:t>2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CFF78-2589-4EF0-9ADE-329F3D3A23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postoji efikasan način da se automatski stigne od predmera do mrežnog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automatizovati samo veoma jednostavn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poželjno uspostaviti vezu između predmera i pl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mora kvalitetno ostva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ne mora biti potpuno tač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A768-8F1F-4B3F-8E90-D9768EAB671F}" type="slidenum">
              <a:t>2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6A3A8-CEEE-4B1F-9FAF-CBDB9B6299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e kvalitetni programi za mrežno plan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se može realizovati brzo, efikasno i pregl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dobiti odgovori na pitanja “Šta - ak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A5B-E525-4F67-9D61-BF9BB9F0BA9C}" type="slidenum">
              <a:t>2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5AF63-F23F-47C0-93BE-A08EC3D0CC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, možda najvažnije merilo uspeh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započeti sa kontrolom troškova što ran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troškove se najbolje utiče na samom početku rad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samom početku rada na projektu najslabije poznajemo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629-668F-4583-8096-D7D9FA5C02F5}" type="slidenum">
              <a:t>2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88954-318F-4D66-B9CA-682CD557C0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caj ranih studija na troškov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čine 2% vred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e studije mogu da pruže 50% doprinosa profitabil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 definiše troškove s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čnošću ± 5%-1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okviru projektne dokumentacije je ostvareno 85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19D-582B-484D-8A53-AD6B3911134D}" type="slidenum">
              <a:t>2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888FE-D697-473E-BA83-0E5D02DDE3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raćenje vremena realizacije projekta može da značajno poveća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ženje vremena realizacije projekta može takođe da značajno podigne troš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izabrati optimalno trajan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je primena kvalitetnih programa za planiranje tokom kontr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613-FC0B-41C2-BD7A-0472CBEA407D}" type="slidenum">
              <a:t>2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DC463-7F19-451E-A007-21F98B4AC6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roškova na bazi utroška resur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a razrađena tehnolog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paralelna 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je ostvariti detaljnu kontrolu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ženost modela se mora pažljivo odrediti, da ne bi postao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E70E-FAF3-474E-B9E3-33E9834A57E2}" type="slidenum">
              <a:t>2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482B1-36F6-4051-843B-6E17A9D153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ta ćemo raditi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živanje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on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a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rada projektne dokumentacije i pri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vođen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istorijsk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9AF-56D8-47AF-BBDB-C51A74CCBA5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CDCAC-19FE-4339-A67A-59E468D70776}" type="datetime1">
              <a:rPr lang="en-US"/>
              <a:t>07/28/26</a:t>
            </a:fld>
          </a:p>
        </p:txBody>
      </p:sp>
    </p:spTree>
  </p:cSld>
</p:sld>
</file>

<file path=ppt/slides/slide2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ih i realizovanih troškova po aktivnos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efikasnog plana ne postoji direktna veza između aktivnosti i pozicij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baviti kreativno povezivanje ta dva sk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196-F7C4-4BEB-B490-CDC968D5D43B}" type="slidenum">
              <a:t>2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09FE9-8E6B-4085-8FF0-2EE935DDEF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ba proceniti očekivane troškove pojedinih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i konkretan trošak treba pridruživati konkretnoj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rocene i stvarnog iznosa je osnova za kontro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6AF-25BD-4494-AD4A-6A84D0838642}" type="slidenum">
              <a:t>2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377B9-12FE-4731-A074-ABDF20C9A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atička kontrola trošk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nostavniji i manje kvalitetan način je poređenje procenjenog troška pozicije radova i realizovanih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daje pregled u vre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ično je presporo za efikasno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se sprovodi kroz čisto knjigovodst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e poboljšanje kroz primenu troškovno značajnih stav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283C-2A14-433B-AC64-590DAE7345A4}" type="slidenum">
              <a:t>2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EBF83-D12D-4DA0-A0A5-1CF4B89C55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toka novca (cash flow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eđenje planiranog i ostvarenog toka nov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ub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od životnog značaja za izvođača, pogotovu u naš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esto jedini način realne kontrole troškova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056-AC79-45F6-8288-EAD05302DFAE}" type="slidenum">
              <a:t>2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DEA27-C5DE-4DDD-AC7F-334D3206B3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a za razrešavanje sporova sa investit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bazirati na strategiji firme prema projektu i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se voditi precizno i paž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stavlja deo ugovorn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nas se vodi preko građevinske knjige i dnev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EBE-54B1-4C2A-B084-E1F833A20E2F}" type="slidenum">
              <a:t>2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0E657-9247-4602-8E1E-79BB6BA686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se vodi preko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u dugotrajnim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je deo IS koji će se baviti ovom prepis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FIDIC-u postoji klasifikacija dopi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21F-FD3D-4F13-B267-C6254D9C3F7E}" type="slidenum">
              <a:t>2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2284-A271-42D3-B80B-17E13F4AB0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asifikacija dopis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tehnologij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o ro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o radovim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kcije na licu me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log za izmenu pozicij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riation 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emna list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quest for approval of wor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evni izveštaj o izvođenju radov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aily re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20F-B3C9-472E-A169-F8EBD283D3C9}" type="slidenum">
              <a:t>2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B71F3-A7A3-43C3-83BC-C8143CCDC0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 i prateća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 (računajući i situacije, planove i 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pisnici sa sastan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biti veoma obimna i raznovr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je tokom celog toka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efikasnog korišćenja dokumentacije može da zavisi veoma mn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24C-4710-4037-81DB-D179DFDD6FAE}" type="slidenum">
              <a:t>2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1A7A9-496C-493D-9FDB-D44EC29DB0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sični metod arhiviranja je neefikas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o je praktično nemoguće dobiti prave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rebno je organizovati sistem unošenja, analiziranja i šifr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je bitan interaktivan 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neophodno unositi u računar cele doku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80F-AFFC-45E3-9969-36AACB33B69A}" type="slidenum">
              <a:t>2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0BF70-05F7-4D06-956B-C7BDB8D2DE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carinskim i komercijalnim poslov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da u neinženjerske poslove, po klasič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važno za realizaciju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ro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zoravanje koris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deo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666-89DB-4E5C-870B-9C8CD0460891}" type="slidenum">
              <a:t>2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91D2B-E91B-4131-BD44-355F575A09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ov pogled na sv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izgrad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formiran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za real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620-399D-4CD7-9028-1E4927F7BD9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81114-4317-4D3C-840A-57837A3C6ACF}" type="datetime1">
              <a:rPr lang="en-US"/>
              <a:t>07/28/26</a:t>
            </a:fld>
          </a:p>
        </p:txBody>
      </p:sp>
    </p:spTree>
  </p:cSld>
</p:sld>
</file>

<file path=ppt/slides/slide2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za kontrolu realizacij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a između kontrole troškova i 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iska na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tehničkom dokumentacij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495F-7C4D-40B3-B896-CB16298A8D31}" type="slidenum">
              <a:t>2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2EC17-4A35-4E6C-925F-6B9BDBFDD475}" type="datetime1">
              <a:rPr lang="en-US"/>
              <a:t>07/28/26</a:t>
            </a:fld>
          </a:p>
        </p:txBody>
      </p:sp>
    </p:spTree>
  </p:cSld>
</p:sld>
</file>

<file path=ppt/slides/slide2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8C34-6698-4AFF-92B5-7AE6F25EF55E}" type="slidenum">
              <a:t>2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9086A-2431-43F6-897B-6FC86A802C30}" type="datetime1">
              <a:rPr lang="en-US"/>
              <a:t>07/28/26</a:t>
            </a:fld>
          </a:p>
        </p:txBody>
      </p:sp>
    </p:spTree>
  </p:cSld>
</p:sld>
</file>

<file path=ppt/slides/slide2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25D-9DAE-4B6C-96D5-5038024E0593}" type="slidenum">
              <a:t>2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C0385-9EB9-4F70-BA3F-E634C770C4F9}" type="datetime1">
              <a:rPr lang="en-US"/>
              <a:t>07/28/26</a:t>
            </a:fld>
          </a:p>
        </p:txBody>
      </p:sp>
    </p:spTree>
  </p:cSld>
</p:sld>
</file>

<file path=ppt/slides/slide2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4440" y="5000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5829120" cy="739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vija se tokom celog projek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vanje izvršenog pos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varni cilj svakog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štinski uslov je dokumentacija a ne izvrš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podležu nacionalnim zako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zasnivati na internacionalnim us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527-6F77-4670-8EC7-E5D74E00211B}" type="slidenum">
              <a:t>2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D8001-6F04-44E6-875F-FAC8E704F064}" type="datetime1">
              <a:rPr lang="en-US"/>
              <a:t>07/28/26</a:t>
            </a:fld>
          </a:p>
        </p:txBody>
      </p:sp>
    </p:spTree>
  </p:cSld>
</p:sld>
</file>

<file path=ppt/slides/slide2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YU L Times"/>
              </a:rPr>
              <a:t>FIDIC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usl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e, dopune i ispušt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pitivanje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al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po tuđim specifik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ć drugim izvođač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ovi tokom garantnog r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B97-9EA6-4608-90DD-5B58928F466B}" type="slidenum">
              <a:t>2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BD298-2B07-412D-8A9B-832E6193F25A}" type="datetime1">
              <a:rPr lang="en-US"/>
              <a:t>07/28/26</a:t>
            </a:fld>
          </a:p>
        </p:txBody>
      </p:sp>
    </p:spTree>
  </p:cSld>
</p:sld>
</file>

<file path=ppt/slides/slide2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renje količin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čne cene (unit pr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stvene cene (lump s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binovani mode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merenja prema FIDI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hodno obavešt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traženih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rezult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dbe u roku od 14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743-B073-4056-9912-5BFB7A20F996}" type="slidenum">
              <a:t>2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77FE1-71CC-44F2-B36C-FE3475F9DD12}" type="datetime1">
              <a:rPr lang="en-US"/>
              <a:t>07/28/26</a:t>
            </a:fld>
          </a:p>
        </p:txBody>
      </p:sp>
    </p:spTree>
  </p:cSld>
</p:sld>
</file>

<file path=ppt/slides/slide2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an pismeni nalog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o je obavestiti inženjera u roku od 14 dana o zahtevu za dodatnu naplatu (količine ili c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ukupna izmena pređe 15%, moguća je naplata i ako nalog ne posto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9D07-2BEB-4C37-B593-C26A9ED2E592}" type="slidenum">
              <a:t>2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05F38-6E83-4F4D-8D14-A097FE12FF82}" type="datetime1">
              <a:rPr lang="en-US"/>
              <a:t>07/28/26</a:t>
            </a:fld>
          </a:p>
        </p:txBody>
      </p:sp>
    </p:spTree>
  </p:cSld>
</p:sld>
</file>

<file path=ppt/slides/slide2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vremeni iznos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ranje radova za koje se u trenutku sklapanja nije znalo da li će biti izved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še se na osnovu odobrenja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u se dostavljaju ponude, računi, fakture i s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386C-665B-4BDD-9750-463F483E7798}" type="slidenum">
              <a:t>2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67D88-C89C-4145-B194-6FCDA7EF4DAC}" type="datetime1">
              <a:rPr lang="en-US"/>
              <a:t>07/28/26</a:t>
            </a:fld>
          </a:p>
        </p:txBody>
      </p:sp>
    </p:spTree>
  </p:cSld>
</p:sld>
</file>

<file path=ppt/slides/slide2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trola kvalit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čna procedura kao za mer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viđeno odredbam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čestanost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i mer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redviđeno u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plata od strane "krivca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E08-83EA-4F91-829F-8960521086E2}" type="slidenum">
              <a:t>2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22E5E-2CD3-482F-BFA9-74B279C1E98C}" type="datetime1">
              <a:rPr lang="en-US"/>
              <a:t>07/28/26</a:t>
            </a:fld>
          </a:p>
        </p:txBody>
      </p:sp>
    </p:spTree>
  </p:cSld>
</p:sld>
</file>

<file path=ppt/slides/slide2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iš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nje tuđih specifikaci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je ugovoreno na osnovu specifikacija koje nije uradio, izvođač može da naplati prekoračenje količ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i i ako su specifikacije bile poznate u toku sklapanja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C39-24A1-435F-828D-D24B6386AD73}" type="slidenum">
              <a:t>2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9F405-ED87-4E6A-AC64-755ECD51A4C7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formiranja koncep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3200400"/>
          <a:ext cx="600048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200400"/>
                    <a:ext cx="600048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FC3-5877-4692-A566-8468AC663C9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32337-6CCB-4EA7-9651-C3ABB14784A7}" type="datetime1">
              <a:rPr lang="en-US"/>
              <a:t>07/28/26</a:t>
            </a:fld>
          </a:p>
        </p:txBody>
      </p:sp>
    </p:spTree>
  </p:cSld>
</p:sld>
</file>

<file path=ppt/slides/slide2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drugim izvođači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zan je pismeni zahtev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dnih te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je poželjno da su uneti u specif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štećenja javnih puteva nastala i pored brige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513-271E-41AF-ABFE-81B46302DFF7}" type="slidenum">
              <a:t>2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76CBC-90C7-4D4A-8F1A-A99A303F47DF}" type="datetime1">
              <a:rPr lang="en-US"/>
              <a:t>07/28/26</a:t>
            </a:fld>
          </a:p>
        </p:txBody>
      </p:sp>
    </p:spTree>
  </p:cSld>
</p:sld>
</file>

<file path=ppt/slides/slide2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ni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zvršava naloge inženj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knadno se utvđuje odgovornost i naplata, na osnovu ovih us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ončanje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tor može preuzeti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đač ima pravo na naknadu za izvedene radove i naknadu za ostavljeno gradilište i opr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828-B36B-4582-A2FF-EF67C00CFA80}" type="slidenum">
              <a:t>2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07971-983E-458F-9CDC-9F2817158CCC}" type="datetime1">
              <a:rPr lang="en-US"/>
              <a:t>07/28/26</a:t>
            </a:fld>
          </a:p>
        </p:txBody>
      </p:sp>
    </p:spTree>
  </p:cSld>
</p:sld>
</file>

<file path=ppt/slides/slide2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tali osnovi za napla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 i oružani suko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izdavanje sertifi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č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aveštenje o prestanku plać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lobođenje od izvr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5D8-774C-4EFE-8714-09A85056CBF6}" type="slidenum">
              <a:t>2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9306E-C516-4C4F-A1BC-16C7D6958E88}" type="datetime1">
              <a:rPr lang="en-US"/>
              <a:t>07/28/26</a:t>
            </a:fld>
          </a:p>
        </p:txBody>
      </p:sp>
    </p:spTree>
  </p:cSld>
</p:sld>
</file>

<file path=ppt/slides/slide2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14440" y="4284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14440" y="1295280"/>
            <a:ext cx="5829120" cy="792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remeni sertifik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i odobrav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na izvršenim rad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o preuzimanju aktivnosti tokom garantnog r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tifikat za otklanjanje nedost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sijska porav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java po završe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crt konačne izj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a iz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ačni sertifi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706-C961-4146-8A1F-E8605D4CBC79}" type="slidenum">
              <a:t>2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501531-8320-470C-A2E2-0F6B916524E2}" type="datetime1">
              <a:rPr lang="en-US"/>
              <a:t>07/28/26</a:t>
            </a:fld>
          </a:p>
        </p:txBody>
      </p:sp>
    </p:spTree>
  </p:cSld>
</p:sld>
</file>

<file path=ppt/slides/slide2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klauz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p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ovi nominovanih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na dokument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e, materijali i standar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3DC-5565-4E60-9A18-5E2C020BF5CF}" type="slidenum">
              <a:t>2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F488D-BBB0-406E-BF54-ABB0423FFE3E}" type="datetime1">
              <a:rPr lang="en-US"/>
              <a:t>07/28/26</a:t>
            </a:fld>
          </a:p>
        </p:txBody>
      </p:sp>
    </p:spTree>
  </p:cSld>
</p:sld>
</file>

<file path=ppt/slides/slide2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14440" y="5763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14440" y="2819160"/>
            <a:ext cx="582912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jeni rad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podataka dobijenih od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prostora za gradilište i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ženjerovo neispunjavanje obave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nac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ust pri obeleža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8A7-5F3E-4DF4-9021-BC0DCC02A3BD}" type="slidenum">
              <a:t>2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D0C9B-9801-4A6A-9FDC-EF007CB94CF3}" type="datetime1">
              <a:rPr lang="en-US"/>
              <a:t>07/28/26</a:t>
            </a:fld>
          </a:p>
        </p:txBody>
      </p:sp>
    </p:spTree>
  </p:cSld>
</p:sld>
</file>

<file path=ppt/slides/slide2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3776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e za pokretanje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14440" y="2514240"/>
            <a:ext cx="5829120" cy="662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 van ugo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ustava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zic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usti naruči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 nestandarnih tereta van pred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075-003D-4C92-B7C9-535A0A2E1A96}" type="slidenum">
              <a:t>2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91418F-804B-4E43-9D51-4E4889D500C4}" type="datetime1">
              <a:rPr lang="en-US"/>
              <a:t>07/28/26</a:t>
            </a:fld>
          </a:p>
        </p:txBody>
      </p:sp>
    </p:spTree>
  </p:cSld>
</p:sld>
</file>

<file path=ppt/slides/slide2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tupak pokretanja odštetnih zahte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ena najava inženjeru u roku od 28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ob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zahtev za plaćanje u bilo kojoj mesečnoj situ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obravanje od strane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6E2-1CA4-4F4C-997F-1915C64EE9FA}" type="slidenum">
              <a:t>2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E86D1-E69A-442B-B29D-6B8FEF4F378B}" type="datetime1">
              <a:rPr lang="en-US"/>
              <a:t>07/28/26</a:t>
            </a:fld>
          </a:p>
        </p:txBody>
      </p:sp>
    </p:spTree>
  </p:cSld>
</p:sld>
</file>

<file path=ppt/slides/slide2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kom inžen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govo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itraž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zni vremenski rok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avljeno dovoljno vremena za odlučivanje o arbitraž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9B7-C9D1-47DF-B1C3-4FC7DFC8D8E4}" type="slidenum">
              <a:t>2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600C1-811C-44C0-8477-7B851125D103}" type="datetime1">
              <a:rPr lang="en-US"/>
              <a:t>07/28/26</a:t>
            </a:fld>
          </a:p>
        </p:txBody>
      </p:sp>
    </p:spTree>
  </p:cSld>
</p:sld>
</file>

<file path=ppt/slides/slide2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 u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dura na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štetni zaht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2A4-2C98-4D53-A63D-0F03EDA35410}" type="slidenum">
              <a:t>2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08D3D-8BFC-42F5-A4B2-205F6B853BD0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koncepcije - faza "juriša"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Želja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radi racionalnog sagledavanja žel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jn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ujuće aktiv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%-90% ušte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materijalizuje žel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 pomažu investitoru da donosi odlu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9BC-40C0-4252-9BB2-62A1B807A2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D7C0F-FF66-4920-B564-B3940CE011A1}" type="datetime1">
              <a:rPr lang="en-US"/>
              <a:t>07/28/26</a:t>
            </a:fld>
          </a:p>
        </p:txBody>
      </p:sp>
    </p:spTree>
  </p:cSld>
</p:sld>
</file>

<file path=ppt/slides/slide2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5CE-BE31-4E2C-B508-1169B4870AA6}" type="slidenum">
              <a:t>2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20B30-95AB-4D2B-BBD9-E446BFF4C654}" type="datetime1">
              <a:rPr lang="en-US"/>
              <a:t>07/28/26</a:t>
            </a:fld>
          </a:p>
        </p:txBody>
      </p:sp>
    </p:spTree>
  </p:cSld>
</p:sld>
</file>

<file path=ppt/slides/slide2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C88-3D44-4EF4-8E37-33C13F7F930F}" type="slidenum">
              <a:t>2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30FF0-5FB3-402E-A674-A541736A1BCE}" type="datetime1">
              <a:rPr lang="en-US"/>
              <a:t>07/28/26</a:t>
            </a:fld>
          </a:p>
        </p:txBody>
      </p:sp>
    </p:spTree>
  </p:cSld>
</p:sld>
</file>

<file path=ppt/slides/slide2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jedno sa istraživanjem tržišta odvija se nezavisno od konkretnog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i izvor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drži najvredniju imovinu firme - zn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njuje zavisnost firme od pojedin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D968-235D-45C5-AAA5-585A0416E819}" type="slidenum">
              <a:t>2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41862-3C4C-481D-842D-F57175DFCE8E}" type="datetime1">
              <a:rPr lang="en-US"/>
              <a:t>07/28/26</a:t>
            </a:fld>
          </a:p>
        </p:txBody>
      </p:sp>
    </p:spTree>
  </p:cSld>
</p:sld>
</file>

<file path=ppt/slides/slide2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oma zavisne od konkretn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broj izvor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ophodna sistematizacija i sažimanje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1A0A-2B32-499A-A898-9E6D377A66E0}" type="slidenum">
              <a:t>2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80FE7-DD87-4851-BC89-406AB037ED46}" type="datetime1">
              <a:rPr lang="en-US"/>
              <a:t>07/28/26</a:t>
            </a:fld>
          </a:p>
        </p:txBody>
      </p:sp>
    </p:spTree>
  </p:cSld>
</p:sld>
</file>

<file path=ppt/slides/slide2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u realizaciji projekata (investitor, izvođač, konsultant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a oblast delovanja (izgradnja tunela, stanova, mostova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šte karakteristike firme (organizaciona struktura, veličina, strateg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znanja i isku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rem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53C-5495-4725-AA23-22E9E700C936}" type="slidenum">
              <a:t>2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7322C-20D8-4520-94F0-E10166B8FADA}" type="datetime1">
              <a:rPr lang="en-US"/>
              <a:t>07/28/26</a:t>
            </a:fld>
          </a:p>
        </p:txBody>
      </p:sp>
    </p:spTree>
  </p:cSld>
</p:sld>
</file>

<file path=ppt/slides/slide2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a sistema i sagledavanje potreba za istorijskim poda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iranje izvo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 i toka informacija 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ređivanje sadržaja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iranje specifikacije za nabavku hard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271-B531-4B05-AA7A-082EA0E2A5C1}" type="slidenum">
              <a:t>2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3BF10-6734-4463-8828-9D321E44F15C}" type="datetime1">
              <a:rPr lang="en-US"/>
              <a:t>07/28/26</a:t>
            </a:fld>
          </a:p>
        </p:txBody>
      </p:sp>
    </p:spTree>
  </p:cSld>
</p:sld>
</file>

<file path=ppt/slides/slide2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implementcij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inuirano prikupljanje, selekcija i unoš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je baze podataka (pretraživanje, izveštavanje, povezivanje različitih tipova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34D-FFEA-4016-929B-0564F97CF724}" type="slidenum">
              <a:t>2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3312A-023A-4EC8-961B-E3F3DEA97A10}" type="datetime1">
              <a:rPr lang="en-US"/>
              <a:t>07/28/26</a:t>
            </a:fld>
          </a:p>
        </p:txBody>
      </p:sp>
    </p:spTree>
  </p:cSld>
</p:sld>
</file>

<file path=ppt/slides/slide2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investicionim radovima, potpuno ili delimično realizova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meri i predrač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đevinski dnevnici i knji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uacije o fizičkoj i finansijskoj real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i izveštaji o kontroli vremena i trošk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5B1C-B2E2-4610-B792-6D6F3BABE9E6}" type="slidenum">
              <a:t>2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74918-751C-43E1-B501-A8F919E9AB9B}" type="datetime1">
              <a:rPr lang="en-US"/>
              <a:t>07/28/26</a:t>
            </a:fld>
          </a:p>
        </p:txBody>
      </p:sp>
    </p:spTree>
  </p:cSld>
</p:sld>
</file>

<file path=ppt/slides/slide2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oratorijski i drugi izveštaji o kontrol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e specif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čka projektna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ugrađenoj opr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kovani iskustveni norm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ma i zapisnici o ključnim tehničkim proble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E05-0CB4-4DAD-BA5D-E0806E2700BA}" type="slidenum">
              <a:t>2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E950-24B0-4CD2-88CC-E752F744CF50}" type="datetime1">
              <a:rPr lang="en-US"/>
              <a:t>07/28/26</a:t>
            </a:fld>
          </a:p>
        </p:txBody>
      </p:sp>
    </p:spTree>
  </p:cSld>
</p:sld>
</file>

<file path=ppt/slides/slide2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rišćenoj mehaniz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carinskim i drugim komercijalnim trošk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laćanju lokalne radne snage i mehani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kumentacija o radu sklad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251-098C-4A32-AF4C-C381B5726C1B}" type="slidenum">
              <a:t>2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3B46-E686-4133-B513-DFE192F68B7F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še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3505320"/>
          <a:ext cx="5727960" cy="38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05320"/>
                    <a:ext cx="572796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F87-716C-428C-BD77-C4F5CD8E641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1EC0E-ABEA-4312-A1E0-F0AC5BEC8C1D}" type="datetime1">
              <a:rPr lang="en-US"/>
              <a:t>07/28/26</a:t>
            </a:fld>
          </a:p>
        </p:txBody>
      </p:sp>
    </p:spTree>
  </p:cSld>
</p:sld>
</file>

<file path=ppt/slides/slide2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ska evid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šćene zvanične lokalne publ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mljeni materijali o gradil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a zapažanja pojedi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859-FEDA-4C48-AE95-A47A8F7008CA}" type="slidenum">
              <a:t>2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19C59-A5DA-4B03-8A4B-87433B99BA89}" type="datetime1">
              <a:rPr lang="en-US"/>
              <a:t>07/28/26</a:t>
            </a:fld>
          </a:p>
        </p:txBody>
      </p:sp>
    </p:spTree>
  </p:cSld>
</p:sld>
</file>

<file path=ppt/slides/slide2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stvarno izvedenim količinama i naplaćenim ce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, po jedinici mere, o utrošku radne snage, mehanizacije i materijala, finansijski efekti i vreme izvođ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unkcionisanju maš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podaci o izvedenim rad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104-3CB3-4AA4-805E-809F8682283A}" type="slidenum">
              <a:t>2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E249B-0D8E-4EF0-BA1C-15392E863EF8}" type="datetime1">
              <a:rPr lang="en-US"/>
              <a:t>07/28/26</a:t>
            </a:fld>
          </a:p>
        </p:txBody>
      </p:sp>
    </p:spTree>
  </p:cSld>
</p:sld>
</file>

<file path=ppt/slides/slide2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14440" y="1191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14440" y="1980720"/>
            <a:ext cx="5829120" cy="723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opremi (podizvođači, cene, vremena isporuke, transport, montaža, probni pogon i garantni 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(učešće i kvalitet r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adrovima investitora i pod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i podaci iz lokalnih publ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bitni za rešavanje spo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4DDE-17E4-4327-8577-0DDD8BD1B895}" type="slidenum">
              <a:t>2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C0D76-D0DD-45D0-BA08-479EE417FABE}" type="datetime1">
              <a:rPr lang="en-US"/>
              <a:t>07/28/26</a:t>
            </a:fld>
          </a:p>
        </p:txBody>
      </p:sp>
    </p:spTree>
  </p:cSld>
</p:sld>
</file>

<file path=ppt/slides/slide2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4440" y="1371600"/>
            <a:ext cx="58291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14440" y="2666880"/>
            <a:ext cx="582912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formi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ktori važni za formiranj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aci u formiranju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ri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A05-691E-4123-8F30-24AE4AF93B21}" type="slidenum">
              <a:t>2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D10BA-16AC-4300-A463-A21D6BE59068}" type="datetime1">
              <a:rPr lang="en-US"/>
              <a:t>07/28/26</a:t>
            </a:fld>
          </a:p>
        </p:txBody>
      </p:sp>
    </p:spTree>
  </p:cSld>
</p:sld>
</file>

<file path=ppt/slides/slide2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8D3-1939-4540-AB6B-9E2EB83723D7}" type="slidenum">
              <a:t>2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30063-4DFE-42F5-B1A2-CF56FA5C4B72}" type="datetime1">
              <a:rPr lang="en-US"/>
              <a:t>07/28/26</a:t>
            </a:fld>
          </a:p>
        </p:txBody>
      </p:sp>
    </p:spTree>
  </p:cSld>
</p:sld>
</file>

<file path=ppt/slides/slide2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DBB-737C-4568-8555-0D534D94EC95}" type="slidenum">
              <a:t>2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B9A21-631B-42B1-A297-9AF58FCB9CCB}" type="datetime1">
              <a:rPr lang="en-US"/>
              <a:t>07/28/26</a:t>
            </a:fld>
          </a:p>
        </p:txBody>
      </p:sp>
    </p:spTree>
  </p:cSld>
</p:sld>
</file>

<file path=ppt/slides/slide2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 je znatno više od prostog skupa del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ovi sistema su povezani vez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transformišu i razmenjuju resu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imaju svoj ci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 se podeliti na podsiste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9A4-7B0E-4B21-8C88-46B2C24C1574}" type="slidenum">
              <a:t>2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3782E-923F-4D9B-8A4D-B80E9F0143DE}" type="datetime1">
              <a:rPr lang="en-US"/>
              <a:t>07/28/26</a:t>
            </a:fld>
          </a:p>
        </p:txBody>
      </p:sp>
    </p:spTree>
  </p:cSld>
</p:sld>
</file>

<file path=ppt/slides/slide2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u građevinarstvu reaguju na spoljne uticaje (otvoreni sistem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ma u građevinarstvu se može upravlj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 se na osnovu resursa "informacij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0C07-9462-48E6-9457-D2FC66F3E44D}" type="slidenum">
              <a:t>2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F4413-1CB8-4F4F-804F-B90B766324C5}" type="datetime1">
              <a:rPr lang="en-US"/>
              <a:t>07/28/26</a:t>
            </a:fld>
          </a:p>
        </p:txBody>
      </p:sp>
    </p:spTree>
  </p:cSld>
</p:sld>
</file>

<file path=ppt/slides/slide2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sistemi za razmenu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bi upravljanje bilo moguće, treba da odgovara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u "činjenice iz kojih možemo da izvučemo zaključk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e su "značenja koji čovek pripisuje podacim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7CC-2E7E-4B63-A1D9-4EF243CE4E21}" type="slidenum">
              <a:t>2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DF354-9514-458E-9FF1-7B8EB4845A4B}" type="datetime1">
              <a:rPr lang="en-US"/>
              <a:t>07/28/26</a:t>
            </a:fld>
          </a:p>
        </p:txBody>
      </p:sp>
    </p:spTree>
  </p:cSld>
</p:sld>
</file>

<file path=ppt/slides/slide2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tke je potrebno prikupiti, skladištiti i obra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k posle obrade dobijamo informaciju koja je kori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ednost informacije opada sa vreme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ja treba da bude tačna, dovoljna i pravovrem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627-2524-47B3-AC52-A265505B1378}" type="slidenum">
              <a:t>2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12D5B-BA0E-4963-BBE4-C3C1FD0A52EC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... a šta ćemo vas mi uči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incipi upravljanja se razlikuju od principa matemat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ema opštih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rešiti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bitno je “snaći 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ije dovoljno znati “šta je predavan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znanje ima smisla samo ako se kreativno primenjuje u realnim situ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068E-DAD1-4EFA-B9B4-A615883D92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00264-0E46-49AE-B64E-60C516AB6C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realizacije - "rovovska" borb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vršeni su suštinski posl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ete su suštinske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ao investitora je da kontroliše na bazi predhodnih zn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šk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t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7E22-1756-45AA-99BB-B2DB61F85E8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1F8C5-3579-4EAC-9228-354C1A781211}" type="datetime1">
              <a:rPr lang="en-US"/>
              <a:t>07/28/26</a:t>
            </a:fld>
          </a:p>
        </p:txBody>
      </p:sp>
    </p:spTree>
  </p:cSld>
</p:sld>
</file>

<file path=ppt/slides/slide3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u upravljanju projektim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 odgovara interak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i informisanja odgovaraju učes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govremenost je od suštinskog znač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čunari nisu obavezni ali pomaž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ktura treba da bude slična sam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169A-6A71-4D76-84DB-F895734793D9}" type="slidenum">
              <a:t>3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DFC84-AA2F-49FE-9D3B-138365F10FDA}" type="datetime1">
              <a:rPr lang="en-US"/>
              <a:t>07/28/26</a:t>
            </a:fld>
          </a:p>
        </p:txBody>
      </p:sp>
    </p:spTree>
  </p:cSld>
</p:sld>
</file>

<file path=ppt/slides/slide3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Šema IS za upravljanje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5797440" cy="28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F04-3116-4610-ADA4-AD183D152DC2}" type="slidenum">
              <a:t>30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6A6A9-FDDD-46BA-A6D6-639AC9DEDF0F}" type="datetime1">
              <a:rPr lang="en-US"/>
              <a:t>07/28/26</a:t>
            </a:fld>
          </a:p>
        </p:txBody>
      </p:sp>
    </p:spTree>
  </p:cSld>
</p:sld>
</file>

<file path=ppt/slides/slide3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vivaletan je modelu upravljanja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čari se ne razumeju u menadž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zumevanje da je potrebna investicija koje će se ispla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procenjivanje budućih organizacionih iz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sagledavanje potreba za informaci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še održav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884-5F6B-47D6-81DB-787BBA885812}" type="slidenum">
              <a:t>3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0C0EAF-6EAA-4BF2-81AD-7303154FC27B}" type="datetime1">
              <a:rPr lang="en-US"/>
              <a:t>07/28/26</a:t>
            </a:fld>
          </a:p>
        </p:txBody>
      </p:sp>
    </p:spTree>
  </p:cSld>
</p:sld>
</file>

<file path=ppt/slides/slide3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raci u projektovanj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s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na budućeg razvoja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kad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log poboljšanja u rukovođ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agođen konkretnom poslovnom sist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enje budž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F36-8A39-416A-8B9B-4B3FB9113A3A}" type="slidenum">
              <a:t>3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8D44E-17E2-4035-9BA0-2487B00BF0E6}" type="datetime1">
              <a:rPr lang="en-US"/>
              <a:t>07/28/26</a:t>
            </a:fld>
          </a:p>
        </p:txBody>
      </p:sp>
    </p:spTree>
  </p:cSld>
</p:sld>
</file>

<file path=ppt/slides/slide3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e postavk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e podataka su "kolekcije podatak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 poslovnu primenu trebaju n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investitorima u rokovn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zaposlenima u ličnim dosije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knjigovodstvu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. . . . 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aka od navedenih skupova su "tabe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577-D58D-4B0A-9125-2310EED2D9ED}" type="slidenum">
              <a:t>3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CED70-86D9-48EE-96A8-21332B935289}" type="datetime1">
              <a:rPr lang="en-US"/>
              <a:t>07/28/26</a:t>
            </a:fld>
          </a:p>
        </p:txBody>
      </p:sp>
    </p:spTree>
  </p:cSld>
</p:sld>
</file>

<file path=ppt/slides/slide3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e između tabel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 nisu nezavis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komuniciraju sa pojedinim poslovnim partne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zaposlen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jedini poslovnim partneri doprinose prihodima i troškovima iz knji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72D-9AC2-48F2-AF3D-D9AFAD148F7A}" type="slidenum">
              <a:t>3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12AD1-D7A7-46F6-834A-6027AF572504}" type="datetime1">
              <a:rPr lang="en-US"/>
              <a:t>07/28/26</a:t>
            </a:fld>
          </a:p>
        </p:txBody>
      </p:sp>
    </p:spTree>
  </p:cSld>
</p:sld>
</file>

<file path=ppt/slides/slide3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sno definisan matematičk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avaju smeštaj podataka na jednom me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šu 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ezbeđuje efikasnu pripremu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ogućuje raspodelu prava i odgovor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47E-AC07-457E-9419-6D5B5D585D16}" type="slidenum">
              <a:t>3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7ABDB-8B2C-4865-8BC6-8011729BB6D7}" type="datetime1">
              <a:rPr lang="en-US"/>
              <a:t>07/28/26</a:t>
            </a:fld>
          </a:p>
        </p:txBody>
      </p:sp>
    </p:spTree>
  </p:cSld>
</p:sld>
</file>

<file path=ppt/slides/slide3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ementi relacione baz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među tab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iti (que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ri (Fo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eštaji (Re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i za upravlj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nički interfejs (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755-EE8C-44ED-86D5-2D1E3566C9C9}" type="slidenum">
              <a:t>3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DF05F-6FAA-4C45-8DE1-855BE96D639B}" type="datetime1">
              <a:rPr lang="en-US"/>
              <a:t>07/28/26</a:t>
            </a:fld>
          </a:p>
        </p:txBody>
      </p:sp>
    </p:spTree>
  </p:cSld>
</p:sld>
</file>

<file path=ppt/slides/slide3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tribuiranost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onente mogu da budu smeštene na različitim računar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o postoje kvalitetne telekomunikacione veze i programi, distribuiranost može biti prozirna (transparent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postojati redundansa (višestruko ponavljanje podatak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univerzalni jezik (SQ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724-620F-49FC-A5F1-ED911280D7BE}" type="slidenum">
              <a:t>3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305C7-E011-4CD1-8D14-EB5C55016413}" type="datetime1">
              <a:rPr lang="en-US"/>
              <a:t>07/28/26</a:t>
            </a:fld>
          </a:p>
        </p:txBody>
      </p:sp>
    </p:spTree>
  </p:cSld>
</p:sld>
</file>

<file path=ppt/slides/slide3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oji na svim sistemima od velikih do mal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ebno pogodan za velike sist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ije ne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toji za Windows NT okru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lično 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aničen PC i Windows arhitektu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C12-6321-4DB6-9F09-44EAE7F0C8FB}" type="slidenum">
              <a:t>3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6630-D505-4B43-A616-9E34B1BB74D4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eksploat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činje završetkom garantnog r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ciono dobro se u potpunosti prepušt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na 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o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hnika i tehn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spada u upravljanje projektima u užem smis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FF8-8677-4108-B065-232BDFA2A58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0C650-B1FC-431B-AB55-4EF6FDA3C706}" type="datetime1">
              <a:rPr lang="en-US"/>
              <a:t>07/28/26</a:t>
            </a:fld>
          </a:p>
        </p:txBody>
      </p:sp>
    </p:spTree>
  </p:cSld>
</p:sld>
</file>

<file path=ppt/slides/slide3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window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oma rasprostranj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raničen platformom i OS-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bro povezan sa osta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DOS okruž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oban, ali donekle ogranič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ednje c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3DB-4786-4EF9-89C2-32136514ED0D}" type="slidenum">
              <a:t>3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0465-2438-49C0-9908-AC51035AAFFE}" type="datetime1">
              <a:rPr lang="en-US"/>
              <a:t>07/28/26</a:t>
            </a:fld>
          </a:p>
        </p:txBody>
      </p:sp>
    </p:spTree>
  </p:cSld>
</p:sld>
</file>

<file path=ppt/slides/slide3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municiranje između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univerzalnog jezika (SQ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rišćenjem tabela u standardnom formatu (dB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čke komun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rečne telefonske l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komunikacioni ka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ktne ve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BFE-D909-4540-B751-8D1D8F9FF5CE}" type="slidenum">
              <a:t>3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CD0B5-7509-4428-AA1C-425F73E3158A}" type="datetime1">
              <a:rPr lang="en-US"/>
              <a:t>07/28/26</a:t>
            </a:fld>
          </a:p>
        </p:txBody>
      </p:sp>
    </p:spTree>
  </p:cSld>
</p:sld>
</file>

<file path=ppt/slides/slide3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lijent-sever konce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oji "poslužilac (server)" koji je dovoljno "fizički jak" da opsluži više "mušterija (klijent)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ijent postavi zahtev, server obradi podatke i vrati ih ob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iše se koristi baš za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238B-6443-4F6A-B3B8-A48A044F58CB}" type="slidenum">
              <a:t>3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7663C-C013-4468-928F-1B0A47E92606}" type="datetime1">
              <a:rPr lang="en-US"/>
              <a:t>07/28/26</a:t>
            </a:fld>
          </a:p>
        </p:txBody>
      </p:sp>
    </p:spTree>
  </p:cSld>
</p:sld>
</file>

<file path=ppt/slides/slide3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j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9678-2DE3-4C56-ACDA-32393E480ED1}" type="slidenum">
              <a:t>3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A69DE-70B3-44F0-A9B3-59DB01EFD97F}" type="datetime1">
              <a:rPr lang="en-US"/>
              <a:t>07/28/26</a:t>
            </a:fld>
          </a:p>
        </p:txBody>
      </p:sp>
    </p:spTree>
  </p:cSld>
</p:sld>
</file>

<file path=ppt/slides/slide3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ljivos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še korisnika (pojedinaca ili programa) deli podat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unose samo jedn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e se mnogo pu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nost ograničavanja prava pristu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8C6-4307-484C-BB2E-987B217F0B03}" type="slidenum">
              <a:t>3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749A7-7508-432A-85D6-0778D7E882A6}" type="datetime1">
              <a:rPr lang="en-US"/>
              <a:t>07/28/26</a:t>
            </a:fld>
          </a:p>
        </p:txBody>
      </p:sp>
    </p:spTree>
  </p:cSld>
</p:sld>
</file>

<file path=ppt/slides/slide3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 (raspoloživ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14440" y="2557080"/>
            <a:ext cx="5829120" cy="67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ikasan prist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trenut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željenom me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željenom obli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adištenj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i jez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ne metode ob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like između korisnika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čunarski orjentisani (komand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računarski orjentisani (interaktivni r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64E-0B73-42D9-99D7-4E4297A8D1D5}" type="slidenum">
              <a:t>3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70E99-58DD-4520-88B5-B8301003DF74}" type="datetime1">
              <a:rPr lang="en-US"/>
              <a:t>07/28/26</a:t>
            </a:fld>
          </a:p>
        </p:txBody>
      </p:sp>
    </p:spTree>
  </p:cSld>
</p:sld>
</file>

<file path=ppt/slides/slide3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niza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daljen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ič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kvencijal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niž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D900-31B9-41BA-B69D-FEBE203458A5}" type="slidenum">
              <a:t>3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A971F-465F-41C1-BF6B-BE84F7F12CF8}" type="datetime1">
              <a:rPr lang="en-US"/>
              <a:t>07/28/26</a:t>
            </a:fld>
          </a:p>
        </p:txBody>
      </p:sp>
    </p:spTree>
  </p:cSld>
</p:sld>
</file>

<file path=ppt/slides/slide3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stupnos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visok stepen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izak (logički ili fizički) računarski si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ć tehničkog osob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-line režim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utna ob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ktni pristup ba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risti se neki od jezika višeg niv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6F3-9CFD-4252-8CB3-3DB23FE20188}" type="slidenum">
              <a:t>3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BCD5E-067F-4347-9B2A-9434BAFAE5B4}" type="datetime1">
              <a:rPr lang="en-US"/>
              <a:t>07/28/26</a:t>
            </a:fld>
          </a:p>
        </p:txBody>
      </p:sp>
    </p:spTree>
  </p:cSld>
</p:sld>
</file>

<file path=ppt/slides/slide3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zvojnost (evolutivnost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sobnost menjanja i prilagođa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 veze za prošir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ćanje performansi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mena format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novih izvešta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DC9-A2AE-41FD-90B4-311147CCA0C3}" type="slidenum">
              <a:t>3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098DF-2918-470E-8823-3774E7B54057}" type="datetime1">
              <a:rPr lang="en-US"/>
              <a:t>07/28/26</a:t>
            </a:fld>
          </a:p>
        </p:txBody>
      </p:sp>
    </p:spTree>
  </p:cSld>
</p:sld>
</file>

<file path=ppt/slides/slide3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gritet baz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judske greš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grešno uneti pod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šestruko uno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zdanost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kazi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ndansa opr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 pravilu organizacioni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835-1415-4C2E-8EDE-16896FF3A38F}" type="slidenum">
              <a:t>3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08169-30DA-4599-80BC-B6FB859A6122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duje novac koji želi da invest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ra da bude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učesnik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predmet izučavanja u razvijenim zeml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važniji za 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6E87-171C-4865-A1A4-C5B84889B3C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00740-BA14-4EDF-82D1-8F6F712A489A}" type="datetime1">
              <a:rPr lang="en-US"/>
              <a:t>07/28/26</a:t>
            </a:fld>
          </a:p>
        </p:txBody>
      </p:sp>
    </p:spTree>
  </p:cSld>
</p:sld>
</file>

<file path=ppt/slides/slide3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ahtevi 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eira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ba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isanje novog izvešt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ti za upravl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i korisnici (česta slab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željno je da i administrator i koris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370-8476-416F-9BDC-F9E6695A9A07}" type="slidenum">
              <a:t>3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141D6-EB5B-4055-8E07-D13DF6536DD8}" type="datetime1">
              <a:rPr lang="en-US"/>
              <a:t>07/28/26</a:t>
            </a:fld>
          </a:p>
        </p:txBody>
      </p:sp>
    </p:spTree>
  </p:cSld>
</p:sld>
</file>

<file path=ppt/slides/slide3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14440" y="19512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gl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50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, opšti i u građevinarst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oni sistemi, opšti i u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novne postavke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a koncepcija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 ba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ze između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ljevi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bazam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7D1-F795-43DD-9894-364839F97C1D}" type="slidenum">
              <a:t>3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C321B-B895-47F5-ABF4-E37B2B2503C8}" type="datetime1">
              <a:rPr lang="en-US"/>
              <a:t>07/28/26</a:t>
            </a:fld>
          </a:p>
        </p:txBody>
      </p:sp>
    </p:spTree>
  </p:cSld>
</p:sld>
</file>

<file path=ppt/slides/slide3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Upravljanje projektima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traživanje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791-7D33-4527-B9E1-DE537392AD5F}" type="slidenum">
              <a:t>3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B5F791-9E42-422B-93D9-AE5E9DF786C2}" type="datetime1">
              <a:rPr lang="en-US"/>
              <a:t>07/28/26</a:t>
            </a:fld>
          </a:p>
        </p:txBody>
      </p:sp>
    </p:spTree>
  </p:cSld>
</p:sld>
</file>

<file path=ppt/slides/slide3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formacij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vet u kome živimo je baziran na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iše od 95% istraživača koji su ikada živeli još su ž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je verovatno da neko, negde ima informacije koje nas zanima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rlo često, najbolje i najefikasnije je da prikupimo i organizujemo postojeće informacije na drugi nač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6E7-59DB-41B5-A240-A8887382CC8E}" type="slidenum">
              <a:t>3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06092-9C70-4618-BD88-89C4BA0884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Razmena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 sada, stručnjaci su provodili najveći deo svog vremena u potrazi za postojećim informa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bolja pomoć svakom stručnjaku je mišljenje nekog kolege, koji se negde u svetu bavim sličnim pos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mena podataka i komunikacija između stručnjaka je osnova stručnog i naučnog napret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0AE-FDCE-4CAF-AE0B-CD0C6A6E533E}" type="slidenum">
              <a:t>3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29524-6CD9-489B-8857-387E7808C0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re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biblioteke bile najvažnije institucije za prikupljanje znanja koje su stručnjaci korist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iblioteke su bile među prvim institucijama koje su počele da primenjuju informacione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važnijih prodora je bilo pretraživanje bibliotečkih kataloga na daljinu, obično uz pomoć mod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68B-F2F0-44A2-82A8-C16820693168}" type="slidenum">
              <a:t>3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1B10A-5C02-49D2-A8E2-EA4D169D07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Počeci Interne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nternet je nastao kao istraživački projekat koje je finansiralo USA ministarstvo od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Glavni cilj je bio da se obezbedi da različiti računari rade zaje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aj cilj je postignut tako što je obezbeđen način za komunikaciju između račun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6D9-BDF9-452C-92BE-5AD88587CA6C}" type="slidenum">
              <a:t>3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4FA6F-00D5-49E8-9F35-6E468F6B48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irenje Interen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straživači koji su radili na računarim koji su međusobno komunicirali otkrili su da je to veoma kori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 prvi put, računari su postali sredstvo za komunik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 akademskim sredinama elektronska pošta (E-mail) i razmena fajlova (FTP) su počeli da se koriste kao najbolji način za komunici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EA3-945F-4EEB-9392-7F3BB08A0F6E}" type="slidenum">
              <a:t>3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53E9F-107D-499C-B2F4-59AEFA338B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i WEB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WWW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ide Web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) je kao standard definisan 1989. u CERN-u, Švajc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ostavio svoju web prezentaciju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 proglas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kao svoj glavni priorit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995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, komunikacija u poslovnom i akademskom okruženju je velikim delom bazirana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9B4-AA09-4457-A19F-2F373B7A3F88}" type="slidenum">
              <a:t>3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CB7E2-009B-46FB-AF3C-F46399420A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Times New Roman"/>
              </a:rPr>
              <a:t>Podaci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14440" y="2285640"/>
            <a:ext cx="47433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br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najveća svetska kolekcija svih vrsta podatak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a 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oša ve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nas, Internet je najveća svetska kolekcija svih vrsta podataka, koj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raste svaki dan, praktično bez ogranič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6EB-7639-4A70-AB5B-D95D84FB9970}" type="slidenum">
              <a:t>3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A8DE2-B7CB-4256-8E24-F45A33CF83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 u gra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ačev pogled na sv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1F7-A8FC-403C-BC08-C0D48007165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1F4A1-856F-4E72-AA32-3EDC9B4B6695}" type="datetime1">
              <a:rPr lang="en-US"/>
              <a:t>07/28/26</a:t>
            </a:fld>
          </a:p>
        </p:txBody>
      </p:sp>
    </p:spTree>
  </p:cSld>
</p:sld>
</file>

<file path=ppt/slides/slide3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022640" y="6858000"/>
            <a:ext cx="2835360" cy="3048120"/>
          </a:xfrm>
          <a:prstGeom prst="rect">
            <a:avLst/>
          </a:prstGeom>
          <a:ln w="0">
            <a:noFill/>
          </a:ln>
        </p:spPr>
      </p:pic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an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net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izgleda ka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gromna biblioteka, u koju gotovo svako donosi gotovo s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Gotovo svi podaci su tu, ali niko ne može da nađe ništa, zato što biblioteka nije uređena, odnosno nema katalo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ožemo naći neke podatke samo ako znamo gde su ih naši prijatelji ostav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CF0-3CC0-4D0F-8EF4-FFCBEE9D1D69}" type="slidenum">
              <a:t>3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DDD5D-4D9C-4B33-9256-98ADE2D1D7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Al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kompanije su formirale sisteme za pretraživanje i katalogiziranje WEB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zultati se takođe objavljuju na WEB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akav tip servisa, ako je dobar, može privući mnogo posetil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eklame koje posetioci vide i njihovi lični podaci mogu da ceo posao učine profitabiln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CC7-EDA9-4C49-A98C-D34B52C4C52F}" type="slidenum">
              <a:t>3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7DDB-6C8E-4867-BEB2-F4BBD1942B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Tipovi kata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Razgranata struktu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ema predmetu interesovanja, lokaciji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Baza podataka sa pretraživanjem ključnih reči i celog tek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pecijalizovani katalozi koji sadrže važne adrese (URL) u nekoj oblasti (građevinske mašine, univerziteti,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35-16CF-46AE-9C6F-E77AA54918F2}" type="slidenum">
              <a:t>3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E6CA9-EEA8-48B8-961B-B5A39D5FFE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Katalog u obliku razgranat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ako vam treb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L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organiza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o poznatog proizvođač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davnice, akademske instituc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dobar ako vam trebaju podaci o nekom posebnom pitanju ili iz nepoznatog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yahoo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C30-9308-4699-93B3-02E54747C967}" type="slidenum">
              <a:t>3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7FA25-0FFE-449B-9076-86E733BDB0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AHOO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52280" y="2527200"/>
            <a:ext cx="6553440" cy="605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A32-6203-4F85-BFA0-547CD9017A8E}" type="slidenum">
              <a:t>3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42898-513A-4048-910D-074F4F4759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re ako vam trebaju informacije čiji izvor ne znate ili podaci o veoma specifičnoj tem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Manje efikasni ako vam trebaj adresa poznate kompanije ili institu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zahtevaju korišćenje složenog jezika za postavljanje upita, koji mora da se posebno u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ajstariji i trenutno najpopularniji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lta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AltaVist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EB7-60BD-45E2-8EFE-3D1C38DA6D22}" type="slidenum">
              <a:t>3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044AE-B690-4491-97AE-BD819EBFBC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taVis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"/>
          <a:stretch/>
        </p:blipFill>
        <p:spPr>
          <a:xfrm>
            <a:off x="171360" y="1847880"/>
            <a:ext cx="6534360" cy="64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141-7C6C-4FAE-B007-5A670755757C}" type="slidenum">
              <a:t>3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F97B9-81B2-4F2D-A834-04C456D3E2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Specijalizovani kataloz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Dobar izvor podataka o važnim URL-ovima u nekoj posebnoj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graničeni svojom posebnom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Veoma dobar specijalizovani katalog za građevinsku mehanizaciju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toy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BDC-8E59-4D25-B6E9-C543A14917FD}" type="slidenum">
              <a:t>3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73F57-B3CE-48D6-9F6B-127D8EE90A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orical Construction Equipment Assoc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82440" y="2647800"/>
            <a:ext cx="662328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E7E-89E5-4674-983F-4B88CB767D6A}" type="slidenum">
              <a:t>3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129AC-ECC6-4A59-8454-33824E8B47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ntreni pretraživač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aktično sve lokacije imaju neku vrstu internog pretraživ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ebno su značajni kod kataloga u obliku razgranate strukture i specijalizovanih katalo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bično su lakši za upotrebu ali i sa manje mogućnosti od pretraživača baza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B5C-BE2A-459B-BC9D-975B2D1CA8CE}" type="slidenum">
              <a:t>3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4E96B-6AEF-415B-A2F9-0680B416A3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zvođač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obavezni učesnik u projektu (uz investit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a biti raciona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običajena uloga jugoslovensk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lično neinteresantan u zapadnom sv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oga mu je podređena investito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CDE-0869-4650-A178-37F9A14CA19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A4D3C-E593-44A5-BE0E-CE7DF60FFE65}" type="datetime1">
              <a:rPr lang="en-US"/>
              <a:t>07/28/26</a:t>
            </a:fld>
          </a:p>
        </p:txBody>
      </p:sp>
    </p:spTree>
  </p:cSld>
</p:sld>
</file>

<file path=ppt/slides/slide3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Imenic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lično telefonskim imenicima, postoje i Internet imen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adrže obično E-mail adrese korisnika, koji su ih sami uneli u baz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ostoji opasnost od dobijanja neželjene po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Jedan od najpopularnijih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gf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bigfoo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4E2-79F0-46D7-8C6A-91970585561E}" type="slidenum">
              <a:t>3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A01BE-0BDE-4F6A-AB25-62D07491F3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g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6553440" cy="597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778-6BDA-4474-8E9B-64C6E858256B}" type="slidenum">
              <a:t>3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FA584-B722-4360-B876-7EAE394822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Ćaskanje na Internet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Neke firme nude sisteme za časkanje na Intern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i sistemi obično omogućavaju potragu za korisnicima prema željenim kriterijum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vo je vrlo korisno ako tražite ljude koji dele vaš int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Trenutno je najpopularn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icq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0C5A-FE50-4E41-A716-269F419EB057}" type="slidenum">
              <a:t>3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CDEF4-2D28-4B54-9B05-66121EE12B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6461280" cy="528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387-4D63-4C66-8F9C-48776D9091AD}" type="slidenum">
              <a:t>3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9F16E-E63E-4EA0-8E9C-1556433D27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Opšti saveti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14080" y="2286000"/>
            <a:ext cx="5257800" cy="69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proizvođači cementa u Italiji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h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ju članci o merenju specifične površine cementa, korist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taVis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Ako vam treba neko u Nemačkoj, koga zanima upravljanje projektima u građevinarstvu, korist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BA4-BD4F-40CE-AC0C-64983257D9CB}" type="slidenum">
              <a:t>3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29A4A-9E19-494D-86AB-A8A4335E0D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realizacije projekta sa stanovišta izvođač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2946240"/>
            <a:ext cx="5829120" cy="627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on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a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projektne dokumentacije i pripr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vođe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p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a istorijskih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DCB4-9454-464E-87CC-5E6792A9F7B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E1A0B-F0FB-487E-9188-236F60248AD5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za između faz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279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 i VII se odvijaju kontin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ze II-VI su vezane za konkretan projek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5791320"/>
            <a:ext cx="6005520" cy="140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CED-1BA3-4B37-9429-FD13F0542B5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BE731-ED24-4231-A5D0-7416FF431620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3F5-7880-4AFA-902E-4BA79F0BB2A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864E3-B034-45DA-AD9D-49D505C67A87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e u toku realizacije projekta (II-V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snije detaljno razrađ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 inform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cion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ali za razmenu inform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ze podat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i kod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aciona š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05E-B44A-4F7D-AC63-A2D8B1F50C5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AE93B-2766-48C4-8A32-36EB4827D4D1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orišta resu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88BE-E747-498E-9395-3B4FE2161F67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F94B2-72A4-4791-865D-C2A7FA705852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studirate Građevinski fakulte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6400800" cy="641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837-D3EC-4185-AE4D-6E9AD514426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7FE31-C6B7-4264-92A0-D804D5C65E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miranje baze istorijskih podataka (V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4440" y="2502000"/>
            <a:ext cx="5829120" cy="671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iz faza II-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edene i naplaćene količ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rošak resursa i traj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i efek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čki podaci o mehanizac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jena tehničko-tehnološk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 i podizvođač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CC5-75DC-4985-95A2-CE633A9815B4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A8BF3-50ED-47CE-9DB8-49283CA61489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enljive tokom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organizacione struk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ljn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utrašnji fak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EE6-0EA6-4EE0-98D5-A236E7EE206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02AA6-B6CB-49CD-919D-8F77428283F5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ljn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rakteristike projek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vo razv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a i tradi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ne odred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i pored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43C-6B80-4A09-90E9-1F64A48AEE4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92320-B642-441D-8C25-7A3C959606F7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utrašnji faktori projektovanj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ja i ciljevi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i nivo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dr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čin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a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D33-E34F-4263-AC54-6FED22ED8DB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74D9A-C05A-4DEB-859E-722270F9A0AB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ganizacione struk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icionalne (klasič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ijsko-štab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rem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kcionalno-tim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rič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BFF-246F-41DE-9A72-09418F751C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0F8EB-12FB-4D01-AD3A-E85B734DB8F2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06400" y="3146400"/>
          <a:ext cx="520560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3146400"/>
                    <a:ext cx="5205600" cy="51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831C-F01F-47B2-BC90-E21E4233D97A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F9CCB-F49F-48D8-9378-C67AFF7F8391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20720" y="4602240"/>
          <a:ext cx="5388120" cy="22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4602240"/>
                    <a:ext cx="5388120" cy="22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E9A-2B30-4CB2-8A77-85A1A71D98B6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8289C-304E-497F-BD25-421A2053D559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ijsko-štab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95560" y="2631960"/>
          <a:ext cx="4417920" cy="618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2631960"/>
                    <a:ext cx="441792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0EF-E00B-4382-B563-A03B9484E7B9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57062-83F6-4090-9F80-CB50A4603378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kcionalno-timsk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49320" y="4653000"/>
          <a:ext cx="4930920" cy="216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4653000"/>
                    <a:ext cx="493092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478-38D2-4695-8363-0FF11A6DD6AA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42DAD-53E2-498B-843B-13855C48AAE8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kt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20880" y="4633920"/>
          <a:ext cx="4986360" cy="22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4633920"/>
                    <a:ext cx="498636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C232-CDB4-4488-8904-FB6DE504BFD2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ED041-CB56-4DD3-8C01-37D7998FFA18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bog nauk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4880" y="3079800"/>
            <a:ext cx="5121000" cy="49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7C5C-AD6E-43A5-841B-63AADD3879D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E9B39-4BF3-4A61-946A-21E9996A37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čna organizaciona struktu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15960" y="4322880"/>
          <a:ext cx="5595840" cy="282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4322880"/>
                    <a:ext cx="559584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C2D-0520-4544-B07E-32316E42C238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3AFF5-D978-496A-874F-CA2811EBCC7F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fir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4343400"/>
          <a:ext cx="603252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343400"/>
                    <a:ext cx="603252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C0D-812D-45A7-B83D-FBF44646CBBA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92732-1808-4D81-AD60-FBB7D68930B9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0040" y="50004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lna organizaciona struktura projek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01600" y="3071880"/>
          <a:ext cx="4788000" cy="57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3071880"/>
                    <a:ext cx="478800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5D12-4434-4F9B-B5B4-44C0191AEC5C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DA179-7E8C-49E9-9972-9B45AF600633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AF8-7D6A-47F9-AF25-AB4664556AD7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52A9C-1F8B-4D92-B146-6CA257F72562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za istraživanja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hničko-tehnološke inform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budućim investic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v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regula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sustvo drugih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firmama i pojedin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9D7-21D0-454C-9EDD-A9853D6C2F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539DDE-EEA2-4223-8BF6-5B6F61891890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odac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andar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prenosiv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izvor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ni formati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formalni ka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ba struktuira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o pisan soft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649-B100-40BA-86B4-DC0835A17FE6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82F53-63D2-4A9E-B501-6DEC07A2AB90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snici 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gled asortimana po slič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9A8-5DF5-42DD-A45D-D0D86DF350D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A8A62-9589-4D8E-A0CD-C0F07E858E3A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traživanje izvorišta resurs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712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geološk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293-CDB3-4D6B-8BC7-797C916BEF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59E2B-4732-4989-A1AC-DEF35AA31A06}" type="datetime1">
              <a:rPr lang="en-US"/>
              <a:t>07/28/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519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14440" y="2328840"/>
            <a:ext cx="5829120" cy="69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jm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druge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i u konkursima koji raspisuju naša f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neperiodična lit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90F-7262-4E44-8724-04C3A32CE33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A18FA-6DB7-446E-B237-2FF8235787BF}" type="datetime1">
              <a:rPr lang="en-US"/>
              <a:t>07/28/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71440"/>
            <a:ext cx="65530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hničko-tehnološke informacij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a sa te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firmama sa kojima sarađ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ju sa srodnim firm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naših is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C6F-3429-4942-AE57-35CC16A49ACF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B151F-0527-4736-B3EE-D475A75B966C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to 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što želite da gradit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6095880" cy="32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39C-EA49-46A1-8824-0CEFD0E5153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D936F-2341-4BA1-B6C7-BDF13B66D0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kursi za izradu predinvesticionih studija i projektne dokumentaci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konkursima za konsultantsk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o poslovima u kućama koje se bave predinvesticionim studij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razvoja velikih investi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9AF7-5134-4F82-B655-72C1916E87F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638E9-7F14-4ECE-B26D-F01C241F26C4}" type="datetime1">
              <a:rPr lang="en-US"/>
              <a:t>07/28/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budućim investicija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e informacije investito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5E1D-7C6A-4486-B884-BDBAEFA1D66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44247-0621-4990-B826-BD353186B709}" type="datetime1">
              <a:rPr lang="en-US"/>
              <a:t>07/28/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17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8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594F-E596-4771-B03C-8061B735EF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102D2-CBF8-429F-A544-84EA8FCCB444}" type="datetime1">
              <a:rPr lang="en-US"/>
              <a:t>07/28/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14440" y="804600"/>
            <a:ext cx="5829120" cy="117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av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26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inski propisi i služ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B8F-5E7F-4409-A0F4-40322892CDA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D462F-2BAE-4260-8C7E-CA1DA359CF2F}" type="datetime1">
              <a:rPr lang="en-US"/>
              <a:t>07/28/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anična zakonska dokumentacija (službeni listovi itsl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realizaciji projekata na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kustvo pojedinaca koji su radili na predment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DC9-4B9A-468B-95DB-035F486CC33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058D0-2E9A-47C6-A389-36EF8D032D83}" type="datetime1">
              <a:rPr lang="en-US"/>
              <a:t>07/28/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ručna regulativ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86C-F78B-4394-AF52-0245D6A94F04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59F8C-DC42-4FE6-A6CC-D9DCE7C8C4C1}" type="datetime1">
              <a:rPr lang="en-US"/>
              <a:t>07/28/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dužem vremenskom perio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nude i rezultati na konkursima o izvođenju investicionih radova u poslednjih godinu d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konomska propaganda (reklame, cirkularna pism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D88-CBA2-4887-B3C8-6B8F3C378E6E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2B075-14A1-452D-AFB4-1E596354E697}" type="datetime1">
              <a:rPr lang="en-US"/>
              <a:t>07/28/2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6519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sustvo drugih firmi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22525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ški planovi velikih izvođača i/ili proizvođač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s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 (predstavništ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725-4D60-469F-B152-C0D092D84B8B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C17AD-4E7A-4E2B-9E7B-734F89505F49}" type="datetime1">
              <a:rPr lang="en-US"/>
              <a:t>07/28/26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bonitet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i podaci o rukovodstvu fi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lopljeni ugovori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zultati ugovora o realizaciji pro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a projekata u kojima ne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aci se projekata u kojima učestvuj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957-A426-4A67-963D-BDA73C69F52A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623B7-88ED-4BD8-A886-64702DBB9A3E}" type="datetime1">
              <a:rPr lang="en-US"/>
              <a:t>07/28/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aci o firmama i pojedincima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Časopisi posvećeni inve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cijama i/ili razvo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ne baze podat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ske kuć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čni konta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2B6-4FC9-4E48-BA86-BAEAA75B5DB5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3805B-DE0E-4854-A4E2-9BAD39D7CE0B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ato što volite posao inženjer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533376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CB4-4137-4530-A9F7-CC0BE5E75A4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9C38B9-B0D2-4185-ADDC-BBFF1F9DF1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576360"/>
            <a:ext cx="670536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ormacije o istraživanju tržišt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isak mogućih iz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ezno prilagođavanje stanju fi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ost neformalnih konta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liki skupljački pos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na je š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žna mogućnost pretraž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2C7-86C7-42B9-811A-1679A97BCA3E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E1AC8-A549-4E2D-959C-6F96810B1852}" type="datetime1">
              <a:rPr lang="en-US"/>
              <a:t>07/28/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ima u gra</a:t>
            </a: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đevinarstv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AC25-DE62-415F-9AE8-7B4738584CA4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2524A-5786-402A-BEE3-7E557E7EDA40}" type="datetime1">
              <a:rPr lang="en-US"/>
              <a:t>07/28/26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10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držaj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14440" y="1599840"/>
            <a:ext cx="5829120" cy="74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cipi 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rste uslu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govori o upravljanju proje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 konsultantskih us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češće konsultanata u projek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18A-A41A-4048-9F2C-E57D408BADF7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1BF30-C50E-4CB3-A3B9-35E69214E605}" type="datetime1">
              <a:rPr lang="en-US"/>
              <a:t>07/28/26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onsulta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je obavez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ki su projekti gde ne učestvu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 svega ga angažuje investitor koji nije sam dovoljno osposoblj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že da ga angažuje i izvođač, pogotovo general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jpoznatije međunarodno udruženje - FI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890-1DDF-4070-9254-62B4E7193910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25305-320F-4561-8915-E9D7DB202693}" type="datetime1">
              <a:rPr lang="en-US"/>
              <a:t>07/28/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avljanje posla na visokoj profesionalnoj i etičkoj osno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uzimanje samo zadataka kojima su doras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 je veliki dijapazon usluga, od ličnih saveta do upravljanja projek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guća je uska specijalizacija ili široki repert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869B-F6EC-4D33-A5E9-F95E8311A45F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F3568-BFC2-48DA-87DC-42EC3C9BCD31}" type="datetime1">
              <a:rPr lang="en-US"/>
              <a:t>07/28/26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 rada po FIDIC-u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ini prihodi smeju da budu od honorara koji isplaćuje naruči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može učestvovati u poslovima ili imati finansijski interes koji može uticati na njegovo stručno mišlje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1CF-F20F-4DA6-9DF9-E95FC4B0EF62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D5EAD-827E-4B01-8F71-3D87681C2127}" type="datetime1">
              <a:rPr lang="en-US"/>
              <a:t>07/28/26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14440" y="1947600"/>
            <a:ext cx="5829120" cy="71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hodna istraživanja o uslovima za gradnju objek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ha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de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eo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rolog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tržišta i mogućnost plas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ze i stud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ktiv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kti primene naučnih met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8C5-BAA5-4DB4-A55E-FE1EB1F4093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01BF1-BC2C-4D70-B4E2-0E84FDB014D6}" type="datetime1">
              <a:rPr lang="en-US"/>
              <a:t>07/28/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2252160"/>
            <a:ext cx="5829120" cy="696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 praćenje razvoja tehnolo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zaštite i unapređenja životne i radn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traživanje izvora i vrsta ener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zrada studija rentabilnosti, ekonomskih i finansijskih pokazate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rada podataka, investicioni programi i projektni zad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1CE-1E7F-47C6-8B5C-C486B27B9C54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92764-69AB-4DEC-A4C1-D2672EBC8844}" type="datetime1">
              <a:rPr lang="en-US"/>
              <a:t>07/28/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14440" y="7286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14440" y="26334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radom dokument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premanje podataka i dokumentacije za ustupanje ra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izvođenj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ćenje i usklađivanje rada učesnika u izgradn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 realizacije investicionog programa i finansijske ko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B0F8-98A0-4B5B-A28E-65F4A9E12364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208F7-FF7E-4E76-BD35-D188C52C1686}" type="datetime1">
              <a:rPr lang="en-US"/>
              <a:t>07/28/26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našim propis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čna pomoć tokom primopredaje objekta i konačnog obrač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zor nad funkcionisanjem objekta tokom probnog pog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971-F290-464F-BDA0-23853277A516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4AD1B-817C-4D11-AE27-1ABB6DD2D0CB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Zbog diplome i status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5038920" cy="47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A94-BCC0-427A-8FB8-C88ABF02522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D201-F17E-4574-9A43-8AE7F34F9C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gućnost učešća u više ulog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ziju projektne dokumentacije ne može da vrši projektant i/ili 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ktovanje i stručni nadzor mogu da idu zajedno, ali ponekad nije preporučlj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lja varijanta je projektantski nadz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31A-B570-4507-94D9-EAA30760CF10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D7176-11E6-4130-AFFF-30AAFE96E837}" type="datetime1">
              <a:rPr lang="en-US"/>
              <a:t>07/28/26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14440" y="271080"/>
            <a:ext cx="5829120" cy="132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rste usluga po FIDIC-u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14440" y="1643040"/>
            <a:ext cx="5829120" cy="74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davne uloge (Counselling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nvesticione usluge (Pre-Investment Stud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luge projektovanja i nadzora nad izgradnjom objekata (Design and Supervision Services for Construction of Wor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izovane projektne usluge razrade i razvoja (Specialised Design and Development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ravljanje projektom (Project Manag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8137-E608-4344-A508-60FF825407AC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544A0-05F8-40C3-B1CD-D389A694DDDA}" type="datetime1">
              <a:rPr lang="en-US"/>
              <a:t>07/28/26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14440" y="27144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vetodav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14440" y="240480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anje save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inui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 posebne projekte i probl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lasti savet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kovođ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iranje i kontrola kval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stupanje pred sudovima, komisijama i drugim pravnim tel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9B8-F6D4-4205-ABAC-501523A9DE30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85BAE-DE9F-45F0-9188-C39D58584EDD}" type="datetime1">
              <a:rPr lang="en-US"/>
              <a:t>07/28/26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dinvesticione uslu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uže za donošenje odluke o investira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investicione polit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ređivanje glavnih karakteristika i opravdanost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promena u politici, radu i organizacionim rešenj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F2C-AB45-41F7-ACD7-4BFD672C277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6BE51-3F61-4E7D-BDB9-EC520B53DD47}" type="datetime1">
              <a:rPr lang="en-US"/>
              <a:t>07/28/26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projektna f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opravda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vrđivanje cil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liminar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ena i definisanje zahteva naruči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rada i optimizacija koncep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enja i istraživanja gradilišta i ostalih fak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0A0-9077-47B7-ABD7-C2B33C58640F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00E22-EB03-4029-8081-B4FDBD40DC2F}" type="datetime1">
              <a:rPr lang="en-US"/>
              <a:t>07/28/26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347760"/>
            <a:ext cx="582948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14440" y="2133720"/>
            <a:ext cx="5829120" cy="71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jna inženjerska reš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kulacija približnih ko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sanje pristupa građ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oškovn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eb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zidentni nadz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jalni pregledi i testi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ir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trol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EFB-8FFA-47A2-92C2-011299857875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4654C-0CAE-4507-B8E0-1C90D17AF870}" type="datetime1">
              <a:rPr lang="en-US"/>
              <a:t>07/28/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14440" y="347760"/>
            <a:ext cx="5829120" cy="19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ecijalizovane usluge projektovanja i nadzo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jalni projek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i obrade sirov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ena automatskih koma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tažne zg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r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piti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j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vršeni rad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valitet gotovih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1FF-2D03-477C-A681-049BF14AAA4B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8B4B-7CFA-4831-B5DB-680B167F2165}" type="datetime1">
              <a:rPr lang="en-US"/>
              <a:t>07/28/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pravljanje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izacije resursa i njihova koordinacija da bi se postigao investitorov cilj u okviru plana, bud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a i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eljen nivo poslova i odgovornosti između investitora i konsult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 zadržava pravo odobravanja i revizije ključnih odlu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864-50A4-4252-A9E6-A81E36872134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3A060-E3B0-4A63-B33D-42735D5DAEA1}" type="datetime1">
              <a:rPr lang="en-US"/>
              <a:t>07/28/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1800" y="271440"/>
            <a:ext cx="6267600" cy="15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14440" y="2099880"/>
            <a:ext cx="5829120" cy="635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nicijalnih stud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traživanje mogućnosti plaćanja zemlj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zgovor sa potencijalnim suinvestito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moć pri rešavanju imovinsko-pravnih odn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sa raselje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govor sa budućim stana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C39-248A-4FBF-90A6-6207FA2CF746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C1BB6-5F1A-47BE-AA00-56AECFD9AA3E}" type="datetime1">
              <a:rPr lang="en-US"/>
              <a:t>07/28/26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budžetskih troškova i izrada studije opravdanosti z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crteža kojima se definišu idejna reš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govori o planu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iranje baze podataka o sastancima i drugim aktivnos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mena idejnog rešenja prema željama investi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zivanje i presedavanje sastancima o realizaciji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61F-EA28-4B90-BB14-45362774349B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12754-3D17-4858-A8B3-02991084CBEE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Times New Roman"/>
              </a:rPr>
              <a:t>Da bi izgradili svoju zemlju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637236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E51-09A8-424B-BC69-1F2AEF1A345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A4A81-86B4-40A0-94B9-266996E864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dospelih zahteva projektanata i izvođača za plaća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širenje idejnog rešenja i podnošenje investitoru na o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isanje investitoru o predlozima za skice i crte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izvoda iz dinamičkih planov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stražnih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zija pro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ostvarivanja glavnog plana izvođenj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ACA-24FC-4FFA-9207-351B6574A267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3FD254-BE0A-44F1-9492-43BF712EAA6D}" type="datetime1">
              <a:rPr lang="en-US"/>
              <a:t>07/28/26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2023920"/>
            <a:ext cx="5829120" cy="704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i kontrola realizacije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stavljanje projektnih zahteva i zahteva za dopunama rukovodiocu projekto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o izmenama glavnog plana radova i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 visine naknade za kon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kutovanje inženjerskih i tehničkih rešenja iz projekta sa izvođač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nominovanih pod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FE2-E996-41A0-9223-EC00F0564F75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6E325-5841-49ED-8D10-38AEF3C7FBC7}" type="datetime1">
              <a:rPr lang="en-US"/>
              <a:t>07/28/26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rada mesečnih izveštaja investitoru sa procenom finalnih troškova i roka završetka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cija imenovanja i obezbeđenje angažovanja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rizovanje dopune plana troškova i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obravanje komponenti i materijala koji se ugrađu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nošenje konačnog predloga projekata i revidovanog plana trošk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činjavanje liste mogućih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leđivanje tenderskih dokume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3C2-4EBF-472C-8D02-E5A96C04AAA2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44FA7-12C9-4FB7-9AFA-3271312F0E58}" type="datetime1">
              <a:rPr lang="en-US"/>
              <a:t>07/28/26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em obrađenih tendera i zahtevanje dodatnih objašn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predloga za izbor ponu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mpletiranje ugovornih dokumenata, sračunavanje potrebne garancije i obezbeđenje pristanka investit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ovanje pravovremenog naručivanja komponenti sa dugim vremenom ispo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ertifikata o osiguranju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nje procene izvršenih radova i rad na pripremi konačnog obrač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F55-AB3B-4527-A229-FBEDDC9A73FB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62E1E-C9BB-4404-B075-D74047AE35E1}" type="datetime1">
              <a:rPr lang="en-US"/>
              <a:t>07/28/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94760"/>
            <a:ext cx="6553440" cy="16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14440" y="2023560"/>
            <a:ext cx="5829120" cy="727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naloga o izmenama i instrukcija izvođač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zbeđenje saglasnosti investitora na izmene u obimu i vrednosti koje su van njegovih ovlašćenja i regulisanje potraživanja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vljenje klejmovima u vezi osigur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bavljanje saglas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za produžetak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davanje saglasnosti o primopredaji objek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da li su nedostaci odklonj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92D-30D3-4C4E-96F1-F2405EF06723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EA21C-522E-413F-9B4A-D72F3B8507CC}" type="datetime1">
              <a:rPr lang="en-US"/>
              <a:t>07/28/26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804960"/>
            <a:ext cx="655344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37760" y="3012840"/>
            <a:ext cx="5829480" cy="590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's represen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ovremeno reagovanje na rana upozorenja u toku realizacije rad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prema realizacije programa opremanja i obezbeđivanje uputstva za održavanje i skica izvedenog st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296-DC21-4C83-9218-76A37F65FC6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5998-E2B1-4814-ABE3-DA3E314D8D37}" type="datetime1">
              <a:rPr lang="en-US"/>
              <a:t>07/28/26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tovanje klij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rukovodećeg projekta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ažovanje drugih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kovi za predhodne izb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avanje i odobravanje troškova i programa rada konsultan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ovi koji se direktno ugovaraju sa investito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enovanje nadz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142-42EF-4889-B9CA-C3E5A502FDC2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3D01F6-3CD5-41AB-A235-66C949428021}" type="datetime1">
              <a:rPr lang="en-US"/>
              <a:t>07/28/2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lučivanje i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la posla u projektova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 informacije koji dostavljaju konsultanti i projekt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kcije konsultantima o proceduri izvešta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zbor veštak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13A-85FB-4207-8C5F-C1F10F70846B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0D665-F365-4DAD-A246-19A2E9C532AA}" type="datetime1">
              <a:rPr lang="en-US"/>
              <a:t>07/28/26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slovi na upravljanju projekti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14440" y="2571840"/>
            <a:ext cx="5829120" cy="664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t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ovanje učinaka projektanata, konsultanata, nadzora i 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vezivanje i koordin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sa pravn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rdinacija zahteva budućih stan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7C5-4CA8-4DF9-A9BE-B4861AAEA2D9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9CB5E-08EA-4FCF-AFD5-B2DCD46F4472}" type="datetime1">
              <a:rPr lang="en-US"/>
              <a:t>07/28/26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380880"/>
            <a:ext cx="582912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govori o upravljanju projekto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2286000"/>
            <a:ext cx="5829120" cy="693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a British Property Fed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su detaljni, nego se pozivaju na predhodno navedenu lis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stoje se od dva d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andum of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 of Eng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6F3-D2B7-420B-8E1F-ABC13EADEBBB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566C0-77CF-4379-9DF6-63D3A3D57B94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9T10:38:17Z</dcterms:created>
  <dc:creator>Zoran B. Djordjevic</dc:creator>
  <dc:description/>
  <dc:language>en-US</dc:language>
  <cp:lastModifiedBy>Matej</cp:lastModifiedBy>
  <dcterms:modified xsi:type="dcterms:W3CDTF">2008-01-12T12:04:32Z</dcterms:modified>
  <cp:revision>21</cp:revision>
  <dc:subject/>
  <dc:title>U čemu je razlika?</dc:title>
</cp:coreProperties>
</file>