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8.xml.rels" ContentType="application/vnd.openxmlformats-package.relationships+xml"/>
  <Override PartName="/ppt/notesSlides/_rels/notesSlide162.xml.rels" ContentType="application/vnd.openxmlformats-package.relationships+xml"/>
  <Override PartName="/ppt/notesSlides/_rels/notesSlide265.xml.rels" ContentType="application/vnd.openxmlformats-package.relationships+xml"/>
  <Override PartName="/ppt/notesSlides/_rels/notesSlide11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7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9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2.xml.rels" ContentType="application/vnd.openxmlformats-package.relationships+xml"/>
  <Override PartName="/ppt/notesSlides/_rels/notesSlide148.xml.rels" ContentType="application/vnd.openxmlformats-package.relationships+xml"/>
  <Override PartName="/ppt/notesSlides/_rels/notesSlide20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282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34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63.xml.rels" ContentType="application/vnd.openxmlformats-package.relationships+xml"/>
  <Override PartName="/ppt/notesSlides/_rels/notesSlide266.xml.rels" ContentType="application/vnd.openxmlformats-package.relationships+xml"/>
  <Override PartName="/ppt/notesSlides/_rels/notesSlide119.xml.rels" ContentType="application/vnd.openxmlformats-package.relationships+xml"/>
  <Override PartName="/ppt/notesSlides/_rels/notesSlide122.xml.rels" ContentType="application/vnd.openxmlformats-package.relationships+xml"/>
  <Override PartName="/ppt/notesSlides/_rels/notesSlide190.xml.rels" ContentType="application/vnd.openxmlformats-package.relationships+xml"/>
  <Override PartName="/ppt/notesSlides/_rels/notesSlide293.xml.rels" ContentType="application/vnd.openxmlformats-package.relationships+xml"/>
  <Override PartName="/ppt/notesSlides/_rels/notesSlide14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13.xml.rels" ContentType="application/vnd.openxmlformats-package.relationships+xml"/>
  <Override PartName="/ppt/notesSlides/_rels/notesSlide260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114.xml.rels" ContentType="application/vnd.openxmlformats-package.relationships+xml"/>
  <Override PartName="/ppt/notesSlides/_rels/notesSlide261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262.xml.rels" ContentType="application/vnd.openxmlformats-package.relationships+xml"/>
  <Override PartName="/ppt/notesSlides/_rels/notesSlide115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263.xml.rels" ContentType="application/vnd.openxmlformats-package.relationships+xml"/>
  <Override PartName="/ppt/notesSlides/_rels/notesSlide116.xml.rels" ContentType="application/vnd.openxmlformats-package.relationships+xml"/>
  <Override PartName="/ppt/notesSlides/_rels/notesSlide132.xml.rels" ContentType="application/vnd.openxmlformats-package.relationships+xml"/>
  <Override PartName="/ppt/notesSlides/_rels/notesSlide121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1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165.xml.rels" ContentType="application/vnd.openxmlformats-package.relationships+xml"/>
  <Override PartName="/ppt/notesSlides/_rels/notesSlide320.xml.rels" ContentType="application/vnd.openxmlformats-package.relationships+xml"/>
  <Override PartName="/ppt/notesSlides/_rels/notesSlide268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12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70.xml.rels" ContentType="application/vnd.openxmlformats-package.relationships+xml"/>
  <Override PartName="/ppt/notesSlides/_rels/notesSlide166.xml.rels" ContentType="application/vnd.openxmlformats-package.relationships+xml"/>
  <Override PartName="/ppt/notesSlides/_rels/notesSlide321.xml.rels" ContentType="application/vnd.openxmlformats-package.relationships+xml"/>
  <Override PartName="/ppt/notesSlides/_rels/notesSlide182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307.xml.rels" ContentType="application/vnd.openxmlformats-package.relationships+xml"/>
  <Override PartName="/ppt/notesSlides/_rels/notesSlide299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124.xml.rels" ContentType="application/vnd.openxmlformats-package.relationships+xml"/>
  <Override PartName="/ppt/notesSlides/_rels/notesSlide271.xml.rels" ContentType="application/vnd.openxmlformats-package.relationships+xml"/>
  <Override PartName="/ppt/notesSlides/_rels/notesSlide167.xml.rels" ContentType="application/vnd.openxmlformats-package.relationships+xml"/>
  <Override PartName="/ppt/notesSlides/_rels/notesSlide322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76.xml.rels" ContentType="application/vnd.openxmlformats-package.relationships+xml"/>
  <Override PartName="/ppt/notesSlides/_rels/notesSlide129.xml.rels" ContentType="application/vnd.openxmlformats-package.relationships+xml"/>
  <Override PartName="/ppt/notesSlides/_rels/notesSlide144.xml.rels" ContentType="application/vnd.openxmlformats-package.relationships+xml"/>
  <Override PartName="/ppt/notesSlides/_rels/notesSlide291.xml.rels" ContentType="application/vnd.openxmlformats-package.relationships+xml"/>
  <Override PartName="/ppt/notesSlides/_rels/notesSlide31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11.xml.rels" ContentType="application/vnd.openxmlformats-package.relationships+xml"/>
  <Override PartName="/ppt/notesSlides/_rels/notesSlide278.xml.rels" ContentType="application/vnd.openxmlformats-package.relationships+xml"/>
  <Override PartName="/ppt/notesSlides/_rels/notesSlide175.xml.rels" ContentType="application/vnd.openxmlformats-package.relationships+xml"/>
  <Override PartName="/ppt/notesSlides/_rels/notesSlide285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138.xml.rels" ContentType="application/vnd.openxmlformats-package.relationships+xml"/>
  <Override PartName="/ppt/notesSlides/_rels/notesSlide269.xml.rels" ContentType="application/vnd.openxmlformats-package.relationships+xml"/>
  <Override PartName="/ppt/notesSlides/_rels/notesSlide164.xml.rels" ContentType="application/vnd.openxmlformats-package.relationships+xml"/>
  <Override PartName="/ppt/notesSlides/_rels/notesSlide267.xml.rels" ContentType="application/vnd.openxmlformats-package.relationships+xml"/>
  <Override PartName="/ppt/notesSlides/_rels/notesSlide280.xml.rels" ContentType="application/vnd.openxmlformats-package.relationships+xml"/>
  <Override PartName="/ppt/notesSlides/_rels/notesSlide133.xml.rels" ContentType="application/vnd.openxmlformats-package.relationships+xml"/>
  <Override PartName="/ppt/notesSlides/_rels/notesSlide301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264.xml.rels" ContentType="application/vnd.openxmlformats-package.relationships+xml"/>
  <Override PartName="/ppt/notesSlides/_rels/notesSlide161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117.xml.rels" ContentType="application/vnd.openxmlformats-package.relationships+xml"/>
  <Override PartName="/ppt/notesSlides/_rels/notesSlide295.xml.rels" ContentType="application/vnd.openxmlformats-package.relationships+xml"/>
  <Override PartName="/ppt/notesSlides/_rels/notesSlide303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120.xml.rels" ContentType="application/vnd.openxmlformats-package.relationships+xml"/>
  <Override PartName="/ppt/notesSlides/_rels/notesSlide283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136.xml.rels" ContentType="application/vnd.openxmlformats-package.relationships+xml"/>
  <Override PartName="/ppt/notesSlides/_rels/notesSlide298.xml.rels" ContentType="application/vnd.openxmlformats-package.relationships+xml"/>
  <Override PartName="/ppt/notesSlides/_rels/notesSlide306.xml.rels" ContentType="application/vnd.openxmlformats-package.relationships+xml"/>
  <Override PartName="/ppt/notesSlides/_rels/notesSlide313.xml.rels" ContentType="application/vnd.openxmlformats-package.relationships+xml"/>
  <Override PartName="/ppt/notesSlides/_rels/notesSlide98.xml.rels" ContentType="application/vnd.openxmlformats-package.relationships+xml"/>
  <Override PartName="/ppt/notesSlides/_rels/notesSlide180.xml.rels" ContentType="application/vnd.openxmlformats-package.relationships+xml"/>
  <Override PartName="/ppt/notesSlides/_rels/notesSlide292.xml.rels" ContentType="application/vnd.openxmlformats-package.relationships+xml"/>
  <Override PartName="/ppt/notesSlides/_rels/notesSlide300.xml.rels" ContentType="application/vnd.openxmlformats-package.relationships+xml"/>
  <Override PartName="/ppt/notesSlides/_rels/notesSlide145.xml.rels" ContentType="application/vnd.openxmlformats-package.relationships+xml"/>
  <Override PartName="/ppt/notesSlides/_rels/notesSlide317.xml.rels" ContentType="application/vnd.openxmlformats-package.relationships+xml"/>
  <Override PartName="/ppt/notesSlides/_rels/notesSlide297.xml.rels" ContentType="application/vnd.openxmlformats-package.relationships+xml"/>
  <Override PartName="/ppt/notesSlides/_rels/notesSlide305.xml.rels" ContentType="application/vnd.openxmlformats-package.relationships+xml"/>
  <Override PartName="/ppt/notesSlides/_rels/notesSlide275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128.xml.rels" ContentType="application/vnd.openxmlformats-package.relationships+xml"/>
  <Override PartName="/ppt/notesSlides/_rels/notesSlide287.xml.rels" ContentType="application/vnd.openxmlformats-package.relationships+xml"/>
  <Override PartName="/ppt/notesSlides/_rels/notesSlide316.xml.rels" ContentType="application/vnd.openxmlformats-package.relationships+xml"/>
  <Override PartName="/ppt/notesSlides/_rels/notesSlide27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76.xml.rels" ContentType="application/vnd.openxmlformats-package.relationships+xml"/>
  <Override PartName="/ppt/notesSlides/_rels/notesSlide191.xml.rels" ContentType="application/vnd.openxmlformats-package.relationships+xml"/>
  <Override PartName="/ppt/notesSlides/_rels/notesSlide147.xml.rels" ContentType="application/vnd.openxmlformats-package.relationships+xml"/>
  <Override PartName="/ppt/notesSlides/_rels/notesSlide281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296.xml.rels" ContentType="application/vnd.openxmlformats-package.relationships+xml"/>
  <Override PartName="/ppt/notesSlides/_rels/notesSlide304.xml.rels" ContentType="application/vnd.openxmlformats-package.relationships+xml"/>
  <Override PartName="/ppt/notesSlides/_rels/notesSlide149.xml.rels" ContentType="application/vnd.openxmlformats-package.relationships+xml"/>
  <Override PartName="/ppt/notesSlides/_rels/notesSlide89.xml.rels" ContentType="application/vnd.openxmlformats-package.relationships+xml"/>
  <Override PartName="/ppt/notesSlides/_rels/notesSlide286.xml.rels" ContentType="application/vnd.openxmlformats-package.relationships+xml"/>
  <Override PartName="/ppt/notesSlides/_rels/notesSlide139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131.xml.rels" ContentType="application/vnd.openxmlformats-package.relationships+xml"/>
  <Override PartName="/ppt/notesSlides/_rels/notesSlide13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97.xml.rels" ContentType="application/vnd.openxmlformats-package.relationships+xml"/>
  <Override PartName="/ppt/notesSlides/_rels/notesSlide170.xml.rels" ContentType="application/vnd.openxmlformats-package.relationships+xml"/>
  <Override PartName="/ppt/notesSlides/_rels/notesSlide169.xml.rels" ContentType="application/vnd.openxmlformats-package.relationships+xml"/>
  <Override PartName="/ppt/notesSlides/_rels/notesSlide318.xml.rels" ContentType="application/vnd.openxmlformats-package.relationships+xml"/>
  <Override PartName="/ppt/notesSlides/_rels/notesSlide290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43.xml.rels" ContentType="application/vnd.openxmlformats-package.relationships+xml"/>
  <Override PartName="/ppt/notesSlides/_rels/notesSlide184.xml.rels" ContentType="application/vnd.openxmlformats-package.relationships+xml"/>
  <Override PartName="/ppt/notesSlides/_rels/notesSlide96.xml.rels" ContentType="application/vnd.openxmlformats-package.relationships+xml"/>
  <Override PartName="/ppt/notesSlides/_rels/notesSlide168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142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140.xml.rels" ContentType="application/vnd.openxmlformats-package.relationships+xml"/>
  <Override PartName="/ppt/notesSlides/_rels/notesSlide319.xml.rels" ContentType="application/vnd.openxmlformats-package.relationships+xml"/>
  <Override PartName="/ppt/notesSlides/_rels/notesSlide18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88.xml.rels" ContentType="application/vnd.openxmlformats-package.relationships+xml"/>
  <Override PartName="/ppt/notesSlides/_rels/notesSlide193.xml.rels" ContentType="application/vnd.openxmlformats-package.relationships+xml"/>
  <Override PartName="/ppt/notesSlides/_rels/notesSlide201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141.xml.rels" ContentType="application/vnd.openxmlformats-package.relationships+xml"/>
  <Override PartName="/ppt/notesSlides/_rels/notesSlide194.xml.rels" ContentType="application/vnd.openxmlformats-package.relationships+xml"/>
  <Override PartName="/ppt/notesSlides/_rels/notesSlide20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99.xml.rels" ContentType="application/vnd.openxmlformats-package.relationships+xml"/>
  <Override PartName="/ppt/notesSlides/_rels/notesSlide172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3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171.xml.rels" ContentType="application/vnd.openxmlformats-package.relationships+xml"/>
  <Override PartName="/ppt/notesSlides/_rels/notesSlide177.xml.rels" ContentType="application/vnd.openxmlformats-package.relationships+xml"/>
  <Override PartName="/ppt/notesSlides/_rels/notesSlide181.xml.rels" ContentType="application/vnd.openxmlformats-package.relationships+xml"/>
  <Override PartName="/ppt/notesSlides/_rels/notesSlide135.xml.rels" ContentType="application/vnd.openxmlformats-package.relationships+xml"/>
  <Override PartName="/ppt/notesSlides/_rels/notesSlide27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125.xml.rels" ContentType="application/vnd.openxmlformats-package.relationships+xml"/>
  <Override PartName="/ppt/notesSlides/_rels/notesSlide134.xml.rels" ContentType="application/vnd.openxmlformats-package.relationships+xml"/>
  <Override PartName="/ppt/notesSlides/_rels/notesSlide101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204.xml.rels" ContentType="application/vnd.openxmlformats-package.relationships+xml"/>
  <Override PartName="/ppt/notesSlides/_rels/notesSlide196.xml.rels" ContentType="application/vnd.openxmlformats-package.relationships+xml"/>
  <Override PartName="/ppt/notesSlides/_rels/notesSlide187.xml.rels" ContentType="application/vnd.openxmlformats-package.relationships+xml"/>
  <Override PartName="/ppt/notesSlides/_rels/notesSlide183.xml.rels" ContentType="application/vnd.openxmlformats-package.relationships+xml"/>
  <Override PartName="/ppt/notesSlides/_rels/notesSlide103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198.xml.rels" ContentType="application/vnd.openxmlformats-package.relationships+xml"/>
  <Override PartName="/ppt/notesSlides/_rels/notesSlide288.xml.rels" ContentType="application/vnd.openxmlformats-package.relationships+xml"/>
  <Override PartName="/ppt/notesSlides/_rels/notesSlide309.xml.rels" ContentType="application/vnd.openxmlformats-package.relationships+xml"/>
  <Override PartName="/ppt/notesSlides/_rels/notesSlide105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08.xml.rels" ContentType="application/vnd.openxmlformats-package.relationships+xml"/>
  <Override PartName="/ppt/notesSlides/_rels/notesSlide104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18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92.xml.rels" ContentType="application/vnd.openxmlformats-package.relationships+xml"/>
  <Override PartName="/ppt/notesSlides/_rels/notesSlide108.xml.rels" ContentType="application/vnd.openxmlformats-package.relationships+xml"/>
  <Override PartName="/ppt/notesSlides/_rels/notesSlide152.xml.rels" ContentType="application/vnd.openxmlformats-package.relationships+xml"/>
  <Override PartName="/ppt/notesSlides/_rels/notesSlide109.xml.rels" ContentType="application/vnd.openxmlformats-package.relationships+xml"/>
  <Override PartName="/ppt/notesSlides/_rels/notesSlide93.xml.rels" ContentType="application/vnd.openxmlformats-package.relationships+xml"/>
  <Override PartName="/ppt/notesSlides/_rels/notesSlide153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94.xml.rels" ContentType="application/vnd.openxmlformats-package.relationships+xml"/>
  <Override PartName="/ppt/notesSlides/_rels/notesSlide154.xml.rels" ContentType="application/vnd.openxmlformats-package.relationships+xml"/>
  <Override PartName="/ppt/notesSlides/_rels/notesSlide156.xml.rels" ContentType="application/vnd.openxmlformats-package.relationships+xml"/>
  <Override PartName="/ppt/notesSlides/_rels/notesSlide311.xml.rels" ContentType="application/vnd.openxmlformats-package.relationships+xml"/>
  <Override PartName="/ppt/notesSlides/_rels/notesSlide158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203.xml.rels" ContentType="application/vnd.openxmlformats-package.relationships+xml"/>
  <Override PartName="/ppt/notesSlides/_rels/notesSlide195.xml.rels" ContentType="application/vnd.openxmlformats-package.relationships+xml"/>
  <Override PartName="/ppt/notesSlides/_rels/notesSlide100.xml.rels" ContentType="application/vnd.openxmlformats-package.relationships+xml"/>
  <Override PartName="/ppt/notesSlides/_rels/notesSlide150.xml.rels" ContentType="application/vnd.openxmlformats-package.relationships+xml"/>
  <Override PartName="/ppt/notesSlides/_rels/notesSlide106.xml.rels" ContentType="application/vnd.openxmlformats-package.relationships+xml"/>
  <Override PartName="/ppt/notesSlides/_rels/notesSlide90.xml.rels" ContentType="application/vnd.openxmlformats-package.relationships+xml"/>
  <Override PartName="/ppt/notesSlides/_rels/notesSlide107.xml.rels" ContentType="application/vnd.openxmlformats-package.relationships+xml"/>
  <Override PartName="/ppt/notesSlides/_rels/notesSlide91.xml.rels" ContentType="application/vnd.openxmlformats-package.relationships+xml"/>
  <Override PartName="/ppt/notesSlides/_rels/notesSlide151.xml.rels" ContentType="application/vnd.openxmlformats-package.relationships+xml"/>
  <Override PartName="/ppt/notesSlides/_rels/notesSlide159.xml.rels" ContentType="application/vnd.openxmlformats-package.relationships+xml"/>
  <Override PartName="/ppt/notesSlides/_rels/notesSlide110.xml.rels" ContentType="application/vnd.openxmlformats-package.relationships+xml"/>
  <Override PartName="/ppt/notesSlides/_rels/notesSlide312.xml.rels" ContentType="application/vnd.openxmlformats-package.relationships+xml"/>
  <Override PartName="/ppt/notesSlides/_rels/notesSlide157.xml.rels" ContentType="application/vnd.openxmlformats-package.relationships+xml"/>
  <Override PartName="/ppt/notesSlides/_rels/notesSlide155.xml.rels" ContentType="application/vnd.openxmlformats-package.relationships+xml"/>
  <Override PartName="/ppt/notesSlides/_rels/notesSlide95.xml.rels" ContentType="application/vnd.openxmlformats-package.relationships+xml"/>
  <Override PartName="/ppt/notesSlides/_rels/notesSlide310.xml.rels" ContentType="application/vnd.openxmlformats-package.relationships+xml"/>
  <Override PartName="/ppt/notesSlides/_rels/notesSlide160.xml.rels" ContentType="application/vnd.openxmlformats-package.relationships+xml"/>
  <Override PartName="/ppt/notesSlides/_rels/notesSlide126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273.xml.rels" ContentType="application/vnd.openxmlformats-package.relationships+xml"/>
  <Override PartName="/ppt/notesSlides/_rels/notesSlide127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274.xml.rels" ContentType="application/vnd.openxmlformats-package.relationships+xml"/>
  <Override PartName="/ppt/notesSlides/_rels/notesSlide205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02.xml.rels" ContentType="application/vnd.openxmlformats-package.relationships+xml"/>
  <Override PartName="/ppt/notesSlides/_rels/notesSlide197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5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6.xml.rels" ContentType="application/vnd.openxmlformats-package.relationships+xml"/>
  <Override PartName="/ppt/notesSlides/_rels/notesSlide289.xml.rels" ContentType="application/vnd.openxmlformats-package.relationships+xml"/>
  <Override PartName="/ppt/notesSlides/_rels/notesSlide18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302.xml.rels" ContentType="application/vnd.openxmlformats-package.relationships+xml"/>
  <Override PartName="/ppt/notesSlides/_rels/notesSlide294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137.xml.rels" ContentType="application/vnd.openxmlformats-package.relationships+xml"/>
  <Override PartName="/ppt/notesSlides/_rels/notesSlide284.xml.rels" ContentType="application/vnd.openxmlformats-package.relationships+xml"/>
  <Override PartName="/ppt/notesSlides/_rels/notesSlide174.xml.rels" ContentType="application/vnd.openxmlformats-package.relationships+xml"/>
  <Override PartName="/ppt/notesSlides/_rels/notesSlide277.xml.rels" ContentType="application/vnd.openxmlformats-package.relationships+xml"/>
  <Override PartName="/ppt/notesSlides/_rels/notesSlide99.xml.rels" ContentType="application/vnd.openxmlformats-package.relationships+xml"/>
  <Override PartName="/ppt/notesSlides/_rels/notesSlide314.xml.rels" ContentType="application/vnd.openxmlformats-package.relationships+xml"/>
  <Override PartName="/ppt/notesSlides/_rels/notesSlide50.xml.rels" ContentType="application/vnd.openxmlformats-package.relationships+xml"/>
  <Override PartName="/ppt/notesSlides/notesSlide109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177.xml" ContentType="application/vnd.openxmlformats-officedocument.presentationml.notesSlide+xml"/>
  <Override PartName="/ppt/notesSlides/notesSlide108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176.xml" ContentType="application/vnd.openxmlformats-officedocument.presentationml.notesSlide+xml"/>
  <Override PartName="/ppt/notesSlides/notesSlide107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175.xml" ContentType="application/vnd.openxmlformats-officedocument.presentationml.notesSlide+xml"/>
  <Override PartName="/ppt/notesSlides/notesSlide106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174.xml" ContentType="application/vnd.openxmlformats-officedocument.presentationml.notesSlide+xml"/>
  <Override PartName="/ppt/notesSlides/notesSlide105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173.xml" ContentType="application/vnd.openxmlformats-officedocument.presentationml.notesSlide+xml"/>
  <Override PartName="/ppt/notesSlides/notesSlide104.xml" ContentType="application/vnd.openxmlformats-officedocument.presentationml.notesSlide+xml"/>
  <Override PartName="/ppt/notesSlides/notesSlide172.xml" ContentType="application/vnd.openxmlformats-officedocument.presentationml.notesSlide+xml"/>
  <Override PartName="/ppt/notesSlides/notesSlide103.xml" ContentType="application/vnd.openxmlformats-officedocument.presentationml.notesSlide+xml"/>
  <Override PartName="/ppt/notesSlides/notesSlide171.xml" ContentType="application/vnd.openxmlformats-officedocument.presentationml.notesSlide+xml"/>
  <Override PartName="/ppt/notesSlides/notesSlide98.xml" ContentType="application/vnd.openxmlformats-officedocument.presentationml.notesSlide+xml"/>
  <Override PartName="/ppt/notesSlides/notesSlide203.xml" ContentType="application/vnd.openxmlformats-officedocument.presentationml.notesSlide+xml"/>
  <Override PartName="/ppt/notesSlides/notesSlide271.xml" ContentType="application/vnd.openxmlformats-officedocument.presentationml.notesSlide+xml"/>
  <Override PartName="/ppt/notesSlides/notesSlide97.xml" ContentType="application/vnd.openxmlformats-officedocument.presentationml.notesSlide+xml"/>
  <Override PartName="/ppt/notesSlides/notesSlide202.xml" ContentType="application/vnd.openxmlformats-officedocument.presentationml.notesSlide+xml"/>
  <Override PartName="/ppt/notesSlides/notesSlide270.xml" ContentType="application/vnd.openxmlformats-officedocument.presentationml.notesSlide+xml"/>
  <Override PartName="/ppt/notesSlides/notesSlide96.xml" ContentType="application/vnd.openxmlformats-officedocument.presentationml.notesSlide+xml"/>
  <Override PartName="/ppt/notesSlides/notesSlide199.xml" ContentType="application/vnd.openxmlformats-officedocument.presentationml.notesSlide+xml"/>
  <Override PartName="/ppt/notesSlides/notesSlide201.xml" ContentType="application/vnd.openxmlformats-officedocument.presentationml.notesSlide+xml"/>
  <Override PartName="/ppt/notesSlides/notesSlide95.xml" ContentType="application/vnd.openxmlformats-officedocument.presentationml.notesSlide+xml"/>
  <Override PartName="/ppt/notesSlides/notesSlide198.xml" ContentType="application/vnd.openxmlformats-officedocument.presentationml.notesSlide+xml"/>
  <Override PartName="/ppt/notesSlides/notesSlide200.xml" ContentType="application/vnd.openxmlformats-officedocument.presentationml.notesSlide+xml"/>
  <Override PartName="/ppt/notesSlides/notesSlide94.xml" ContentType="application/vnd.openxmlformats-officedocument.presentationml.notesSlide+xml"/>
  <Override PartName="/ppt/notesSlides/notesSlide129.xml" ContentType="application/vnd.openxmlformats-officedocument.presentationml.notesSlide+xml"/>
  <Override PartName="/ppt/notesSlides/notesSlide197.xml" ContentType="application/vnd.openxmlformats-officedocument.presentationml.notesSlide+xml"/>
  <Override PartName="/ppt/notesSlides/notesSlide143.xml" ContentType="application/vnd.openxmlformats-officedocument.presentationml.notesSlide+xml"/>
  <Override PartName="/ppt/notesSlides/notesSlide93.xml" ContentType="application/vnd.openxmlformats-officedocument.presentationml.notesSlide+xml"/>
  <Override PartName="/ppt/notesSlides/notesSlide128.xml" ContentType="application/vnd.openxmlformats-officedocument.presentationml.notesSlide+xml"/>
  <Override PartName="/ppt/notesSlides/notesSlide196.xml" ContentType="application/vnd.openxmlformats-officedocument.presentationml.notesSlide+xml"/>
  <Override PartName="/ppt/notesSlides/notesSlide142.xml" ContentType="application/vnd.openxmlformats-officedocument.presentationml.notesSlide+xml"/>
  <Override PartName="/ppt/notesSlides/notesSlide92.xml" ContentType="application/vnd.openxmlformats-officedocument.presentationml.notesSlide+xml"/>
  <Override PartName="/ppt/notesSlides/notesSlide127.xml" ContentType="application/vnd.openxmlformats-officedocument.presentationml.notesSlide+xml"/>
  <Override PartName="/ppt/notesSlides/notesSlide195.xml" ContentType="application/vnd.openxmlformats-officedocument.presentationml.notesSlide+xml"/>
  <Override PartName="/ppt/notesSlides/notesSlide141.xml" ContentType="application/vnd.openxmlformats-officedocument.presentationml.notesSlide+xml"/>
  <Override PartName="/ppt/notesSlides/notesSlide91.xml" ContentType="application/vnd.openxmlformats-officedocument.presentationml.notesSlide+xml"/>
  <Override PartName="/ppt/notesSlides/notesSlide126.xml" ContentType="application/vnd.openxmlformats-officedocument.presentationml.notesSlide+xml"/>
  <Override PartName="/ppt/notesSlides/notesSlide194.xml" ContentType="application/vnd.openxmlformats-officedocument.presentationml.notesSlide+xml"/>
  <Override PartName="/ppt/notesSlides/notesSlide319.xml" ContentType="application/vnd.openxmlformats-officedocument.presentationml.notesSlide+xml"/>
  <Override PartName="/ppt/notesSlides/notesSlide140.xml" ContentType="application/vnd.openxmlformats-officedocument.presentationml.notesSlide+xml"/>
  <Override PartName="/ppt/notesSlides/notesSlide90.xml" ContentType="application/vnd.openxmlformats-officedocument.presentationml.notesSlide+xml"/>
  <Override PartName="/ppt/notesSlides/notesSlide125.xml" ContentType="application/vnd.openxmlformats-officedocument.presentationml.notesSlide+xml"/>
  <Override PartName="/ppt/notesSlides/notesSlide193.xml" ContentType="application/vnd.openxmlformats-officedocument.presentationml.notesSlide+xml"/>
  <Override PartName="/ppt/notesSlides/notesSlide318.xml" ContentType="application/vnd.openxmlformats-officedocument.presentationml.notesSlide+xml"/>
  <Override PartName="/ppt/notesSlides/notesSlide138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261.xml" ContentType="application/vnd.openxmlformats-officedocument.presentationml.notesSlide+xml"/>
  <Override PartName="/ppt/notesSlides/notesSlide137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60.xml" ContentType="application/vnd.openxmlformats-officedocument.presentationml.notesSlide+xml"/>
  <Override PartName="/ppt/notesSlides/notesSlide136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189.xml" ContentType="application/vnd.openxmlformats-officedocument.presentationml.notesSlide+xml"/>
  <Override PartName="/ppt/notesSlides/notesSlide135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188.xml" ContentType="application/vnd.openxmlformats-officedocument.presentationml.notesSlide+xml"/>
  <Override PartName="/ppt/notesSlides/notesSlide134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119.xml" ContentType="application/vnd.openxmlformats-officedocument.presentationml.notesSlide+xml"/>
  <Override PartName="/ppt/notesSlides/notesSlide187.xml" ContentType="application/vnd.openxmlformats-officedocument.presentationml.notesSlide+xml"/>
  <Override PartName="/ppt/notesSlides/notesSlide133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118.xml" ContentType="application/vnd.openxmlformats-officedocument.presentationml.notesSlide+xml"/>
  <Override PartName="/ppt/notesSlides/notesSlide186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179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15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183.xml" ContentType="application/vnd.openxmlformats-officedocument.presentationml.notesSlide+xml"/>
  <Override PartName="/ppt/notesSlides/notesSlide308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8.xml" ContentType="application/vnd.openxmlformats-officedocument.presentationml.notesSlide+xml"/>
  <Override PartName="/ppt/notesSlides/notesSlide99.xml" ContentType="application/vnd.openxmlformats-officedocument.presentationml.notesSlide+xml"/>
  <Override PartName="/ppt/notesSlides/notesSlide204.xml" ContentType="application/vnd.openxmlformats-officedocument.presentationml.notesSlide+xml"/>
  <Override PartName="/ppt/notesSlides/notesSlide27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01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16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184.xml" ContentType="application/vnd.openxmlformats-officedocument.presentationml.notesSlide+xml"/>
  <Override PartName="/ppt/notesSlides/notesSlide309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6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02.xml" ContentType="application/vnd.openxmlformats-officedocument.presentationml.notesSlide+xml"/>
  <Override PartName="/ppt/notesSlides/notesSlide170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17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185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39.xml" ContentType="application/vnd.openxmlformats-officedocument.presentationml.notesSlide+xml"/>
  <Override PartName="/ppt/notesSlides/notesSlide89.xml" ContentType="application/vnd.openxmlformats-officedocument.presentationml.notesSlide+xml"/>
  <Override PartName="/ppt/notesSlides/notesSlide26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3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31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31.xml" ContentType="application/vnd.openxmlformats-officedocument.presentationml.notesSlide+xml"/>
  <Override PartName="/ppt/notesSlides/notesSlide148.xml" ContentType="application/vnd.openxmlformats-officedocument.presentationml.notesSlide+xml"/>
  <Override PartName="/ppt/notesSlides/notesSlide150.xml" ContentType="application/vnd.openxmlformats-officedocument.presentationml.notesSlide+xml"/>
  <Override PartName="/ppt/notesSlides/notesSlide158.xml" ContentType="application/vnd.openxmlformats-officedocument.presentationml.notesSlide+xml"/>
  <Override PartName="/ppt/notesSlides/notesSlide159.xml" ContentType="application/vnd.openxmlformats-officedocument.presentationml.notesSlide+xml"/>
  <Override PartName="/ppt/notesSlides/notesSlide151.xml" ContentType="application/vnd.openxmlformats-officedocument.presentationml.notesSlide+xml"/>
  <Override PartName="/ppt/notesSlides/notesSlide149.xml" ContentType="application/vnd.openxmlformats-officedocument.presentationml.notesSlide+xml"/>
  <Override PartName="/ppt/notesSlides/notesSlide234.xml" ContentType="application/vnd.openxmlformats-officedocument.presentationml.notesSlide+xml"/>
  <Override PartName="/ppt/notesSlides/notesSlide235.xml" ContentType="application/vnd.openxmlformats-officedocument.presentationml.notesSlide+xml"/>
  <Override PartName="/ppt/notesSlides/notesSlide23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6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264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265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266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45.xml" ContentType="application/vnd.openxmlformats-officedocument.presentationml.notesSlide+xml"/>
  <Override PartName="/ppt/notesSlides/notesSlide267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46.xml" ContentType="application/vnd.openxmlformats-officedocument.presentationml.notesSlide+xml"/>
  <Override PartName="/ppt/notesSlides/notesSlide268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147.xml" ContentType="application/vnd.openxmlformats-officedocument.presentationml.notesSlide+xml"/>
  <Override PartName="/ppt/notesSlides/notesSlide269.xml" ContentType="application/vnd.openxmlformats-officedocument.presentationml.notesSlide+xml"/>
  <Override PartName="/ppt/notesSlides/notesSlide290.xml" ContentType="application/vnd.openxmlformats-officedocument.presentationml.notesSlide+xml"/>
  <Override PartName="/ppt/notesSlides/notesSlide288.xml" ContentType="application/vnd.openxmlformats-officedocument.presentationml.notesSlide+xml"/>
  <Override PartName="/ppt/notesSlides/notesSlide291.xml" ContentType="application/vnd.openxmlformats-officedocument.presentationml.notesSlide+xml"/>
  <Override PartName="/ppt/notesSlides/notesSlide289.xml" ContentType="application/vnd.openxmlformats-officedocument.presentationml.notesSlide+xml"/>
  <Override PartName="/ppt/notesSlides/notesSlide292.xml" ContentType="application/vnd.openxmlformats-officedocument.presentationml.notesSlide+xml"/>
  <Override PartName="/ppt/notesSlides/notesSlide293.xml" ContentType="application/vnd.openxmlformats-officedocument.presentationml.notesSlide+xml"/>
  <Override PartName="/ppt/notesSlides/notesSlide297.xml" ContentType="application/vnd.openxmlformats-officedocument.presentationml.notesSlide+xml"/>
  <Override PartName="/ppt/notesSlides/notesSlide298.xml" ContentType="application/vnd.openxmlformats-officedocument.presentationml.notesSlide+xml"/>
  <Override PartName="/ppt/notesSlides/notesSlide299.xml" ContentType="application/vnd.openxmlformats-officedocument.presentationml.notesSlide+xml"/>
  <Override PartName="/ppt/notesSlides/notesSlide294.xml" ContentType="application/vnd.openxmlformats-officedocument.presentationml.notesSlide+xml"/>
  <Override PartName="/ppt/notesSlides/notesSlide320.xml" ContentType="application/vnd.openxmlformats-officedocument.presentationml.notesSlide+xml"/>
  <Override PartName="/ppt/notesSlides/notesSlide152.xml" ContentType="application/vnd.openxmlformats-officedocument.presentationml.notesSlide+xml"/>
  <Override PartName="/ppt/notesSlides/notesSlide274.xml" ContentType="application/vnd.openxmlformats-officedocument.presentationml.notesSlide+xml"/>
  <Override PartName="/ppt/notesSlides/notesSlide295.xml" ContentType="application/vnd.openxmlformats-officedocument.presentationml.notesSlide+xml"/>
  <Override PartName="/ppt/notesSlides/notesSlide321.xml" ContentType="application/vnd.openxmlformats-officedocument.presentationml.notesSlide+xml"/>
  <Override PartName="/ppt/notesSlides/notesSlide153.xml" ContentType="application/vnd.openxmlformats-officedocument.presentationml.notesSlide+xml"/>
  <Override PartName="/ppt/notesSlides/notesSlide275.xml" ContentType="application/vnd.openxmlformats-officedocument.presentationml.notesSlide+xml"/>
  <Override PartName="/ppt/notesSlides/notesSlide296.xml" ContentType="application/vnd.openxmlformats-officedocument.presentationml.notesSlide+xml"/>
  <Override PartName="/ppt/notesSlides/notesSlide322.xml" ContentType="application/vnd.openxmlformats-officedocument.presentationml.notesSlide+xml"/>
  <Override PartName="/ppt/notesSlides/notesSlide154.xml" ContentType="application/vnd.openxmlformats-officedocument.presentationml.notesSlide+xml"/>
  <Override PartName="/ppt/notesSlides/notesSlide276.xml" ContentType="application/vnd.openxmlformats-officedocument.presentationml.notesSlide+xml"/>
  <Override PartName="/ppt/notesSlides/notesSlide287.xml" ContentType="application/vnd.openxmlformats-officedocument.presentationml.notesSlide+xml"/>
  <Override PartName="/ppt/notesSlides/notesSlide286.xml" ContentType="application/vnd.openxmlformats-officedocument.presentationml.notesSlide+xml"/>
  <Override PartName="/ppt/notesSlides/notesSlide285.xml" ContentType="application/vnd.openxmlformats-officedocument.presentationml.notesSlide+xml"/>
  <Override PartName="/ppt/notesSlides/notesSlide162.xml" ContentType="application/vnd.openxmlformats-officedocument.presentationml.notesSlide+xml"/>
  <Override PartName="/ppt/notesSlides/notesSlide273.xml" ContentType="application/vnd.openxmlformats-officedocument.presentationml.notesSlide+xml"/>
  <Override PartName="/ppt/notesSlides/notesSlide205.xml" ContentType="application/vnd.openxmlformats-officedocument.presentationml.notesSlide+xml"/>
  <Override PartName="/ppt/notesSlides/notesSlide284.xml" ContentType="application/vnd.openxmlformats-officedocument.presentationml.notesSlide+xml"/>
  <Override PartName="/ppt/notesSlides/notesSlide161.xml" ContentType="application/vnd.openxmlformats-officedocument.presentationml.notesSlide+xml"/>
  <Override PartName="/ppt/notesSlides/notesSlide283.xml" ContentType="application/vnd.openxmlformats-officedocument.presentationml.notesSlide+xml"/>
  <Override PartName="/ppt/notesSlides/notesSlide160.xml" ContentType="application/vnd.openxmlformats-officedocument.presentationml.notesSlide+xml"/>
  <Override PartName="/ppt/notesSlides/notesSlide282.xml" ContentType="application/vnd.openxmlformats-officedocument.presentationml.notesSlide+xml"/>
  <Override PartName="/ppt/notesSlides/notesSlide281.xml" ContentType="application/vnd.openxmlformats-officedocument.presentationml.notesSlide+xml"/>
  <Override PartName="/ppt/notesSlides/notesSlide157.xml" ContentType="application/vnd.openxmlformats-officedocument.presentationml.notesSlide+xml"/>
  <Override PartName="/ppt/notesSlides/notesSlide279.xml" ContentType="application/vnd.openxmlformats-officedocument.presentationml.notesSlide+xml"/>
  <Override PartName="/ppt/notesSlides/notesSlide280.xml" ContentType="application/vnd.openxmlformats-officedocument.presentationml.notesSlide+xml"/>
  <Override PartName="/ppt/notesSlides/notesSlide156.xml" ContentType="application/vnd.openxmlformats-officedocument.presentationml.notesSlide+xml"/>
  <Override PartName="/ppt/notesSlides/notesSlide278.xml" ContentType="application/vnd.openxmlformats-officedocument.presentationml.notesSlide+xml"/>
  <Override PartName="/ppt/notesSlides/notesSlide155.xml" ContentType="application/vnd.openxmlformats-officedocument.presentationml.notesSlide+xml"/>
  <Override PartName="/ppt/notesSlides/notesSlide277.xml" ContentType="application/vnd.openxmlformats-officedocument.presentationml.notesSlide+xml"/>
  <Override PartName="/ppt/notesSlides/notesSlide14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167.xml" ContentType="application/vnd.openxmlformats-officedocument.presentationml.notesSlide+xml"/>
  <Override PartName="/ppt/notesSlides/notesSlide64.xml" ContentType="application/vnd.openxmlformats-officedocument.presentationml.notesSlide+xml"/>
  <Override PartName="/ppt/notesSlides/notesSlide114.xml" ContentType="application/vnd.openxmlformats-officedocument.presentationml.notesSlide+xml"/>
  <Override PartName="/ppt/notesSlides/notesSlide307.xml" ContentType="application/vnd.openxmlformats-officedocument.presentationml.notesSlide+xml"/>
  <Override PartName="/ppt/notesSlides/notesSlide182.xml" ContentType="application/vnd.openxmlformats-officedocument.presentationml.notesSlide+xml"/>
  <Override PartName="/ppt/notesSlides/notesSlide166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13.xml" ContentType="application/vnd.openxmlformats-officedocument.presentationml.notesSlide+xml"/>
  <Override PartName="/ppt/notesSlides/notesSlide306.xml" ContentType="application/vnd.openxmlformats-officedocument.presentationml.notesSlide+xml"/>
  <Override PartName="/ppt/notesSlides/notesSlide181.xml" ContentType="application/vnd.openxmlformats-officedocument.presentationml.notesSlide+xml"/>
  <Override PartName="/ppt/notesSlides/notesSlide165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112.xml" ContentType="application/vnd.openxmlformats-officedocument.presentationml.notesSlide+xml"/>
  <Override PartName="/ppt/notesSlides/notesSlide305.xml" ContentType="application/vnd.openxmlformats-officedocument.presentationml.notesSlide+xml"/>
  <Override PartName="/ppt/notesSlides/notesSlide180.xml" ContentType="application/vnd.openxmlformats-officedocument.presentationml.notesSlide+xml"/>
  <Override PartName="/ppt/notesSlides/notesSlide121.xml" ContentType="application/vnd.openxmlformats-officedocument.presentationml.notesSlide+xml"/>
  <Override PartName="/ppt/notesSlides/notesSlide314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02.xml" ContentType="application/vnd.openxmlformats-officedocument.presentationml.notesSlide+xml"/>
  <Override PartName="/ppt/notesSlides/notesSlide132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31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164.xml" ContentType="application/vnd.openxmlformats-officedocument.presentationml.notesSlide+xml"/>
  <Override PartName="/ppt/notesSlides/notesSlide111.xml" ContentType="application/vnd.openxmlformats-officedocument.presentationml.notesSlide+xml"/>
  <Override PartName="/ppt/notesSlides/notesSlide304.xml" ContentType="application/vnd.openxmlformats-officedocument.presentationml.notesSlide+xml"/>
  <Override PartName="/ppt/notesSlides/notesSlide122.xml" ContentType="application/vnd.openxmlformats-officedocument.presentationml.notesSlide+xml"/>
  <Override PartName="/ppt/notesSlides/notesSlide315.xml" ContentType="application/vnd.openxmlformats-officedocument.presentationml.notesSlide+xml"/>
  <Override PartName="/ppt/notesSlides/notesSlide190.xml" ContentType="application/vnd.openxmlformats-officedocument.presentationml.notesSlide+xml"/>
  <Override PartName="/ppt/notesSlides/notesSlide163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10.xml" ContentType="application/vnd.openxmlformats-officedocument.presentationml.notesSlide+xml"/>
  <Override PartName="/ppt/notesSlides/notesSlide303.xml" ContentType="application/vnd.openxmlformats-officedocument.presentationml.notesSlide+xml"/>
  <Override PartName="/ppt/notesSlides/notesSlide301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313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120.xml" ContentType="application/vnd.openxmlformats-officedocument.presentationml.notesSlide+xml"/>
  <Override PartName="/ppt/notesSlides/notesSlide30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100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17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317.xml" ContentType="application/vnd.openxmlformats-officedocument.presentationml.notesSlide+xml"/>
  <Override PartName="/ppt/notesSlides/notesSlide192.xml" ContentType="application/vnd.openxmlformats-officedocument.presentationml.notesSlide+xml"/>
  <Override PartName="/ppt/notesSlides/notesSlide1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23.xml" ContentType="application/vnd.openxmlformats-officedocument.presentationml.notesSlide+xml"/>
  <Override PartName="/ppt/notesSlides/notesSlide316.xml" ContentType="application/vnd.openxmlformats-officedocument.presentationml.notesSlide+xml"/>
  <Override PartName="/ppt/notesSlides/notesSlide191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312.xml" ContentType="application/vnd.openxmlformats-officedocument.presentationml.notesSlide+xml"/>
  <Override PartName="/ppt/notesSlides/notesSlide5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6.wmf" ContentType="image/x-wmf"/>
  <Override PartName="/ppt/media/image11.wmf" ContentType="image/x-wmf"/>
  <Override PartName="/ppt/media/image26.png" ContentType="image/png"/>
  <Override PartName="/ppt/media/image27.png" ContentType="image/png"/>
  <Override PartName="/ppt/media/image12.wmf" ContentType="image/x-wmf"/>
  <Override PartName="/ppt/media/image7.wmf" ContentType="image/x-wmf"/>
  <Override PartName="/ppt/media/image21.wmf" ContentType="image/x-wmf"/>
  <Override PartName="/ppt/media/image19.wmf" ContentType="image/x-wmf"/>
  <Override PartName="/ppt/media/image10.gif" ContentType="image/gif"/>
  <Override PartName="/ppt/media/image13.wmf" ContentType="image/x-wmf"/>
  <Override PartName="/ppt/media/image30.png" ContentType="image/png"/>
  <Override PartName="/ppt/media/image9.gif" ContentType="image/gif"/>
  <Override PartName="/ppt/media/image5.wmf" ContentType="image/x-wmf"/>
  <Override PartName="/ppt/media/image8.gif" ContentType="image/gif"/>
  <Override PartName="/ppt/media/image4.wmf" ContentType="image/x-wmf"/>
  <Override PartName="/ppt/media/image3.wmf" ContentType="image/x-wmf"/>
  <Override PartName="/ppt/media/image25.wmf" ContentType="image/x-wmf"/>
  <Override PartName="/ppt/media/image28.png" ContentType="image/png"/>
  <Override PartName="/ppt/media/image1.wmf" ContentType="image/x-wmf"/>
  <Override PartName="/ppt/media/image24.wmf" ContentType="image/x-wmf"/>
  <Override PartName="/ppt/media/image14.wmf" ContentType="image/x-wmf"/>
  <Override PartName="/ppt/media/image2.wmf" ContentType="image/x-wmf"/>
  <Override PartName="/ppt/media/image29.png" ContentType="image/png"/>
  <Override PartName="/ppt/media/image15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43.xml.rels" ContentType="application/vnd.openxmlformats-package.relationships+xml"/>
  <Override PartName="/ppt/slides/_rels/slide334.xml.rels" ContentType="application/vnd.openxmlformats-package.relationships+xml"/>
  <Override PartName="/ppt/slides/_rels/slide38.xml.rels" ContentType="application/vnd.openxmlformats-package.relationships+xml"/>
  <Override PartName="/ppt/slides/_rels/slide329.xml.rels" ContentType="application/vnd.openxmlformats-package.relationships+xml"/>
  <Override PartName="/ppt/slides/_rels/slide328.xml.rels" ContentType="application/vnd.openxmlformats-package.relationships+xml"/>
  <Override PartName="/ppt/slides/_rels/slide159.xml.rels" ContentType="application/vnd.openxmlformats-package.relationships+xml"/>
  <Override PartName="/ppt/slides/_rels/slide8.xml.rels" ContentType="application/vnd.openxmlformats-package.relationships+xml"/>
  <Override PartName="/ppt/slides/_rels/slide164.xml.rels" ContentType="application/vnd.openxmlformats-package.relationships+xml"/>
  <Override PartName="/ppt/slides/_rels/slide31.xml.rels" ContentType="application/vnd.openxmlformats-package.relationships+xml"/>
  <Override PartName="/ppt/slides/_rels/slide322.xml.rels" ContentType="application/vnd.openxmlformats-package.relationships+xml"/>
  <Override PartName="/ppt/slides/_rels/slide26.xml.rels" ContentType="application/vnd.openxmlformats-package.relationships+xml"/>
  <Override PartName="/ppt/slides/_rels/slide218.xml.rels" ContentType="application/vnd.openxmlformats-package.relationships+xml"/>
  <Override PartName="/ppt/slides/_rels/slide158.xml.rels" ContentType="application/vnd.openxmlformats-package.relationships+xml"/>
  <Override PartName="/ppt/slides/_rels/slide7.xml.rels" ContentType="application/vnd.openxmlformats-package.relationships+xml"/>
  <Override PartName="/ppt/slides/_rels/slide163.xml.rels" ContentType="application/vnd.openxmlformats-package.relationships+xml"/>
  <Override PartName="/ppt/slides/_rels/slide30.xml.rels" ContentType="application/vnd.openxmlformats-package.relationships+xml"/>
  <Override PartName="/ppt/slides/_rels/slide25.xml.rels" ContentType="application/vnd.openxmlformats-package.relationships+xml"/>
  <Override PartName="/ppt/slides/_rels/slide321.xml.rels" ContentType="application/vnd.openxmlformats-package.relationships+xml"/>
  <Override PartName="/ppt/slides/_rels/slide201.xml.rels" ContentType="application/vnd.openxmlformats-package.relationships+xml"/>
  <Override PartName="/ppt/slides/_rels/slide180.xml.rels" ContentType="application/vnd.openxmlformats-package.relationships+xml"/>
  <Override PartName="/ppt/slides/_rels/slide21.xml.rels" ContentType="application/vnd.openxmlformats-package.relationships+xml"/>
  <Override PartName="/ppt/slides/_rels/slide200.xml.rels" ContentType="application/vnd.openxmlformats-package.relationships+xml"/>
  <Override PartName="/ppt/slides/_rels/slide148.xml.rels" ContentType="application/vnd.openxmlformats-package.relationships+xml"/>
  <Override PartName="/ppt/slides/_rels/slide153.xml.rels" ContentType="application/vnd.openxmlformats-package.relationships+xml"/>
  <Override PartName="/ppt/slides/_rels/slide20.xml.rels" ContentType="application/vnd.openxmlformats-package.relationships+xml"/>
  <Override PartName="/ppt/slides/_rels/slide318.xml.rels" ContentType="application/vnd.openxmlformats-package.relationships+xml"/>
  <Override PartName="/ppt/slides/_rels/slide297.xml.rels" ContentType="application/vnd.openxmlformats-package.relationships+xml"/>
  <Override PartName="/ppt/slides/_rels/slide56.xml.rels" ContentType="application/vnd.openxmlformats-package.relationships+xml"/>
  <Override PartName="/ppt/slides/_rels/slide317.xml.rels" ContentType="application/vnd.openxmlformats-package.relationships+xml"/>
  <Override PartName="/ppt/slides/_rels/slide296.xml.rels" ContentType="application/vnd.openxmlformats-package.relationships+xml"/>
  <Override PartName="/ppt/slides/_rels/slide55.xml.rels" ContentType="application/vnd.openxmlformats-package.relationships+xml"/>
  <Override PartName="/ppt/slides/_rels/slide316.xml.rels" ContentType="application/vnd.openxmlformats-package.relationships+xml"/>
  <Override PartName="/ppt/slides/_rels/slide295.xml.rels" ContentType="application/vnd.openxmlformats-package.relationships+xml"/>
  <Override PartName="/ppt/slides/_rels/slide142.xml.rels" ContentType="application/vnd.openxmlformats-package.relationships+xml"/>
  <Override PartName="/ppt/slides/_rels/slide308.xml.rels" ContentType="application/vnd.openxmlformats-package.relationships+xml"/>
  <Override PartName="/ppt/slides/_rels/slide313.xml.rels" ContentType="application/vnd.openxmlformats-package.relationships+xml"/>
  <Override PartName="/ppt/slides/_rels/slide17.xml.rels" ContentType="application/vnd.openxmlformats-package.relationships+xml"/>
  <Override PartName="/ppt/slides/_rels/slide45.xml.rels" ContentType="application/vnd.openxmlformats-package.relationships+xml"/>
  <Override PartName="/ppt/slides/_rels/slide341.xml.rels" ContentType="application/vnd.openxmlformats-package.relationships+xml"/>
  <Override PartName="/ppt/slides/_rels/slide336.xml.rels" ContentType="application/vnd.openxmlformats-package.relationships+xml"/>
  <Override PartName="/ppt/slides/_rels/slide132.xml.rels" ContentType="application/vnd.openxmlformats-package.relationships+xml"/>
  <Override PartName="/ppt/slides/_rels/slide131.xml.rels" ContentType="application/vnd.openxmlformats-package.relationships+xml"/>
  <Override PartName="/ppt/slides/_rels/slide130.xml.rels" ContentType="application/vnd.openxmlformats-package.relationships+xml"/>
  <Override PartName="/ppt/slides/_rels/slide32.xml.rels" ContentType="application/vnd.openxmlformats-package.relationships+xml"/>
  <Override PartName="/ppt/slides/_rels/slide323.xml.rels" ContentType="application/vnd.openxmlformats-package.relationships+xml"/>
  <Override PartName="/ppt/slides/_rels/slide219.xml.rels" ContentType="application/vnd.openxmlformats-package.relationships+xml"/>
  <Override PartName="/ppt/slides/_rels/slide242.xml.rels" ContentType="application/vnd.openxmlformats-package.relationships+xml"/>
  <Override PartName="/ppt/slides/_rels/slide138.xml.rels" ContentType="application/vnd.openxmlformats-package.relationships+xml"/>
  <Override PartName="/ppt/slides/_rels/slide241.xml.rels" ContentType="application/vnd.openxmlformats-package.relationships+xml"/>
  <Override PartName="/ppt/slides/_rels/slide137.xml.rels" ContentType="application/vnd.openxmlformats-package.relationships+xml"/>
  <Override PartName="/ppt/slides/_rels/slide135.xml.rels" ContentType="application/vnd.openxmlformats-package.relationships+xml"/>
  <Override PartName="/ppt/slides/_rels/slide140.xml.rels" ContentType="application/vnd.openxmlformats-package.relationships+xml"/>
  <Override PartName="/ppt/slides/_rels/slide5.xml.rels" ContentType="application/vnd.openxmlformats-package.relationships+xml"/>
  <Override PartName="/ppt/slides/_rels/slide156.xml.rels" ContentType="application/vnd.openxmlformats-package.relationships+xml"/>
  <Override PartName="/ppt/slides/_rels/slide161.xml.rels" ContentType="application/vnd.openxmlformats-package.relationships+xml"/>
  <Override PartName="/ppt/slides/_rels/slide44.xml.rels" ContentType="application/vnd.openxmlformats-package.relationships+xml"/>
  <Override PartName="/ppt/slides/_rels/slide335.xml.rels" ContentType="application/vnd.openxmlformats-package.relationships+xml"/>
  <Override PartName="/ppt/slides/_rels/slide39.xml.rels" ContentType="application/vnd.openxmlformats-package.relationships+xml"/>
  <Override PartName="/ppt/slides/_rels/slide340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65.xml.rels" ContentType="application/vnd.openxmlformats-package.relationships+xml"/>
  <Override PartName="/ppt/slides/_rels/slide13.xml.rels" ContentType="application/vnd.openxmlformats-package.relationships+xml"/>
  <Override PartName="/ppt/slides/_rels/slide240.xml.rels" ContentType="application/vnd.openxmlformats-package.relationships+xml"/>
  <Override PartName="/ppt/slides/_rels/slide136.xml.rels" ContentType="application/vnd.openxmlformats-package.relationships+xml"/>
  <Override PartName="/ppt/slides/_rels/slide134.xml.rels" ContentType="application/vnd.openxmlformats-package.relationships+xml"/>
  <Override PartName="/ppt/slides/_rels/slide4.xml.rels" ContentType="application/vnd.openxmlformats-package.relationships+xml"/>
  <Override PartName="/ppt/slides/_rels/slide155.xml.rels" ContentType="application/vnd.openxmlformats-package.relationships+xml"/>
  <Override PartName="/ppt/slides/_rels/slide244.xml.rels" ContentType="application/vnd.openxmlformats-package.relationships+xml"/>
  <Override PartName="/ppt/slides/_rels/slide239.xml.rels" ContentType="application/vnd.openxmlformats-package.relationships+xml"/>
  <Override PartName="/ppt/slides/_rels/slide10.xml.rels" ContentType="application/vnd.openxmlformats-package.relationships+xml"/>
  <Override PartName="/ppt/slides/_rels/slide12.xml.rels" ContentType="application/vnd.openxmlformats-package.relationships+xml"/>
  <Override PartName="/ppt/slides/_rels/slide206.xml.rels" ContentType="application/vnd.openxmlformats-package.relationships+xml"/>
  <Override PartName="/ppt/slides/_rels/slide310.xml.rels" ContentType="application/vnd.openxmlformats-package.relationships+xml"/>
  <Override PartName="/ppt/slides/_rels/slide309.xml.rels" ContentType="application/vnd.openxmlformats-package.relationships+xml"/>
  <Override PartName="/ppt/slides/_rels/slide314.xml.rels" ContentType="application/vnd.openxmlformats-package.relationships+xml"/>
  <Override PartName="/ppt/slides/_rels/slide288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_rels/slide319.xml.rels" ContentType="application/vnd.openxmlformats-package.relationships+xml"/>
  <Override PartName="/ppt/slides/_rels/slide298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105.xml.rels" ContentType="application/vnd.openxmlformats-package.relationships+xml"/>
  <Override PartName="/ppt/slides/_rels/slide154.xml.rels" ContentType="application/vnd.openxmlformats-package.relationships+xml"/>
  <Override PartName="/ppt/slides/_rels/slide93.xml.rels" ContentType="application/vnd.openxmlformats-package.relationships+xml"/>
  <Override PartName="/ppt/slides/_rels/slide88.xml.rels" ContentType="application/vnd.openxmlformats-package.relationships+xml"/>
  <Override PartName="/ppt/slides/_rels/slide273.xml.rels" ContentType="application/vnd.openxmlformats-package.relationships+xml"/>
  <Override PartName="/ppt/slides/_rels/slide268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115.xml.rels" ContentType="application/vnd.openxmlformats-package.relationships+xml"/>
  <Override PartName="/ppt/slides/_rels/slide262.xml.rels" ContentType="application/vnd.openxmlformats-package.relationships+xml"/>
  <Override PartName="/ppt/slides/_rels/slide126.xml.rels" ContentType="application/vnd.openxmlformats-package.relationships+xml"/>
  <Override PartName="/ppt/slides/_rels/slide230.xml.rels" ContentType="application/vnd.openxmlformats-package.relationships+xml"/>
  <Override PartName="/ppt/slides/_rels/slide261.xml.rels" ContentType="application/vnd.openxmlformats-package.relationships+xml"/>
  <Override PartName="/ppt/slides/_rels/slide114.xml.rels" ContentType="application/vnd.openxmlformats-package.relationships+xml"/>
  <Override PartName="/ppt/slides/_rels/slide109.xml.rels" ContentType="application/vnd.openxmlformats-package.relationships+xml"/>
  <Override PartName="/ppt/slides/_rels/slide81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108.xml.rels" ContentType="application/vnd.openxmlformats-package.relationships+xml"/>
  <Override PartName="/ppt/slides/_rels/slide260.xml.rels" ContentType="application/vnd.openxmlformats-package.relationships+xml"/>
  <Override PartName="/ppt/slides/_rels/slide255.xml.rels" ContentType="application/vnd.openxmlformats-package.relationships+xml"/>
  <Override PartName="/ppt/slides/_rels/slide80.xml.rels" ContentType="application/vnd.openxmlformats-package.relationships+xml"/>
  <Override PartName="/ppt/slides/_rels/slide75.xml.rels" ContentType="application/vnd.openxmlformats-package.relationships+xml"/>
  <Override PartName="/ppt/slides/_rels/slide98.xml.rels" ContentType="application/vnd.openxmlformats-package.relationships+xml"/>
  <Override PartName="/ppt/slides/_rels/slide175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53.xml.rels" ContentType="application/vnd.openxmlformats-package.relationships+xml"/>
  <Override PartName="/ppt/slides/_rels/slide228.xml.rels" ContentType="application/vnd.openxmlformats-package.relationships+xml"/>
  <Override PartName="/ppt/slides/_rels/slide233.xml.rels" ContentType="application/vnd.openxmlformats-package.relationships+xml"/>
  <Override PartName="/ppt/slides/_rels/slide272.xml.rels" ContentType="application/vnd.openxmlformats-package.relationships+xml"/>
  <Override PartName="/ppt/slides/_rels/slide267.xml.rels" ContentType="application/vnd.openxmlformats-package.relationships+xml"/>
  <Override PartName="/ppt/slides/_rels/slide92.xml.rels" ContentType="application/vnd.openxmlformats-package.relationships+xml"/>
  <Override PartName="/ppt/slides/_rels/slide87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97.xml.rels" ContentType="application/vnd.openxmlformats-package.relationships+xml"/>
  <Override PartName="/ppt/slides/_rels/slide29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28.xml.rels" ContentType="application/vnd.openxmlformats-package.relationships+xml"/>
  <Override PartName="/ppt/slides/_rels/slide27.xml.rels" ContentType="application/vnd.openxmlformats-package.relationships+xml"/>
  <Override PartName="/ppt/slides/_rels/slide146.xml.rels" ContentType="application/vnd.openxmlformats-package.relationships+xml"/>
  <Override PartName="/ppt/slides/_rels/slide151.xml.rels" ContentType="application/vnd.openxmlformats-package.relationships+xml"/>
  <Override PartName="/ppt/slides/_rels/slide254.xml.rels" ContentType="application/vnd.openxmlformats-package.relationships+xml"/>
  <Override PartName="/ppt/slides/_rels/slide74.xml.rels" ContentType="application/vnd.openxmlformats-package.relationships+xml"/>
  <Override PartName="/ppt/slides/_rels/slide275.xml.rels" ContentType="application/vnd.openxmlformats-package.relationships+xml"/>
  <Override PartName="/ppt/slides/_rels/slide301.xml.rels" ContentType="application/vnd.openxmlformats-package.relationships+xml"/>
  <Override PartName="/ppt/slides/_rels/slide69.xml.rels" ContentType="application/vnd.openxmlformats-package.relationships+xml"/>
  <Override PartName="/ppt/slides/_rels/slide249.xml.rels" ContentType="application/vnd.openxmlformats-package.relationships+xml"/>
  <Override PartName="/ppt/slides/_rels/slide264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46.xml.rels" ContentType="application/vnd.openxmlformats-package.relationships+xml"/>
  <Override PartName="/ppt/slides/_rels/slide61.xml.rels" ContentType="application/vnd.openxmlformats-package.relationships+xml"/>
  <Override PartName="/ppt/slides/_rels/slide90.xml.rels" ContentType="application/vnd.openxmlformats-package.relationships+xml"/>
  <Override PartName="/ppt/slides/_rels/slide85.xml.rels" ContentType="application/vnd.openxmlformats-package.relationships+xml"/>
  <Override PartName="/ppt/slides/_rels/slide123.xml.rels" ContentType="application/vnd.openxmlformats-package.relationships+xml"/>
  <Override PartName="/ppt/slides/_rels/slide118.xml.rels" ContentType="application/vnd.openxmlformats-package.relationships+xml"/>
  <Override PartName="/ppt/slides/_rels/slide270.xml.rels" ContentType="application/vnd.openxmlformats-package.relationships+xml"/>
  <Override PartName="/ppt/slides/_rels/slide265.xml.rels" ContentType="application/vnd.openxmlformats-package.relationships+xml"/>
  <Override PartName="/ppt/slides/_rels/slide212.xml.rels" ContentType="application/vnd.openxmlformats-package.relationships+xml"/>
  <Override PartName="/ppt/slides/_rels/slide62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124.xml.rels" ContentType="application/vnd.openxmlformats-package.relationships+xml"/>
  <Override PartName="/ppt/slides/_rels/slide119.xml.rels" ContentType="application/vnd.openxmlformats-package.relationships+xml"/>
  <Override PartName="/ppt/slides/_rels/slide271.xml.rels" ContentType="application/vnd.openxmlformats-package.relationships+xml"/>
  <Override PartName="/ppt/slides/_rels/slide266.xml.rels" ContentType="application/vnd.openxmlformats-package.relationships+xml"/>
  <Override PartName="/ppt/slides/_rels/slide63.xml.rels" ContentType="application/vnd.openxmlformats-package.relationships+xml"/>
  <Override PartName="/ppt/slides/_rels/slide198.xml.rels" ContentType="application/vnd.openxmlformats-package.relationships+xml"/>
  <Override PartName="/ppt/slides/_rels/slide250.xml.rels" ContentType="application/vnd.openxmlformats-package.relationships+xml"/>
  <Override PartName="/ppt/slides/_rels/slide103.xml.rels" ContentType="application/vnd.openxmlformats-package.relationships+xml"/>
  <Override PartName="/ppt/slides/_rels/slide236.xml.rels" ContentType="application/vnd.openxmlformats-package.relationships+xml"/>
  <Override PartName="/ppt/slides/_rels/slide195.xml.rels" ContentType="application/vnd.openxmlformats-package.relationships+xml"/>
  <Override PartName="/ppt/slides/_rels/slide216.xml.rels" ContentType="application/vnd.openxmlformats-package.relationships+xml"/>
  <Override PartName="/ppt/slides/_rels/slide221.xml.rels" ContentType="application/vnd.openxmlformats-package.relationships+xml"/>
  <Override PartName="/ppt/slides/_rels/slide199.xml.rels" ContentType="application/vnd.openxmlformats-package.relationships+xml"/>
  <Override PartName="/ppt/slides/_rels/slide324.xml.rels" ContentType="application/vnd.openxmlformats-package.relationships+xml"/>
  <Override PartName="/ppt/slides/_rels/slide174.xml.rels" ContentType="application/vnd.openxmlformats-package.relationships+xml"/>
  <Override PartName="/ppt/slides/_rels/slide169.xml.rels" ContentType="application/vnd.openxmlformats-package.relationships+xml"/>
  <Override PartName="/ppt/slides/_rels/slide171.xml.rels" ContentType="application/vnd.openxmlformats-package.relationships+xml"/>
  <Override PartName="/ppt/slides/_rels/slide70.xml.rels" ContentType="application/vnd.openxmlformats-package.relationships+xml"/>
  <Override PartName="/ppt/slides/_rels/slide257.xml.rels" ContentType="application/vnd.openxmlformats-package.relationships+xml"/>
  <Override PartName="/ppt/slides/_rels/slide77.xml.rels" ContentType="application/vnd.openxmlformats-package.relationships+xml"/>
  <Override PartName="/ppt/slides/_rels/slide248.xml.rels" ContentType="application/vnd.openxmlformats-package.relationships+xml"/>
  <Override PartName="/ppt/slides/_rels/slide68.xml.rels" ContentType="application/vnd.openxmlformats-package.relationships+xml"/>
  <Override PartName="/ppt/slides/_rels/slide300.xml.rels" ContentType="application/vnd.openxmlformats-package.relationships+xml"/>
  <Override PartName="/ppt/slides/_rels/slide252.xml.rels" ContentType="application/vnd.openxmlformats-package.relationships+xml"/>
  <Override PartName="/ppt/slides/_rels/slide72.xml.rels" ContentType="application/vnd.openxmlformats-package.relationships+xml"/>
  <Override PartName="/ppt/slides/_rels/slide60.xml.rels" ContentType="application/vnd.openxmlformats-package.relationships+xml"/>
  <Override PartName="/ppt/slides/_rels/slide235.xml.rels" ContentType="application/vnd.openxmlformats-package.relationships+xml"/>
  <Override PartName="/ppt/slides/_rels/slide251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247.xml.rels" ContentType="application/vnd.openxmlformats-package.relationships+xml"/>
  <Override PartName="/ppt/slides/_rels/slide67.xml.rels" ContentType="application/vnd.openxmlformats-package.relationships+xml"/>
  <Override PartName="/ppt/slides/_rels/slide79.xml.rels" ContentType="application/vnd.openxmlformats-package.relationships+xml"/>
  <Override PartName="/ppt/slides/_rels/slide259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263.xml.rels" ContentType="application/vnd.openxmlformats-package.relationships+xml"/>
  <Override PartName="/ppt/slides/_rels/slide225.xml.rels" ContentType="application/vnd.openxmlformats-package.relationships+xml"/>
  <Override PartName="/ppt/slides/_rels/slide330.xml.rels" ContentType="application/vnd.openxmlformats-package.relationships+xml"/>
  <Override PartName="/ppt/slides/_rels/slide325.xml.rels" ContentType="application/vnd.openxmlformats-package.relationships+xml"/>
  <Override PartName="/ppt/slides/_rels/slide192.xml.rels" ContentType="application/vnd.openxmlformats-package.relationships+xml"/>
  <Override PartName="/ppt/slides/_rels/slide213.xml.rels" ContentType="application/vnd.openxmlformats-package.relationships+xml"/>
  <Override PartName="/ppt/slides/_rels/slide246.xml.rels" ContentType="application/vnd.openxmlformats-package.relationships+xml"/>
  <Override PartName="/ppt/slides/_rels/slide66.xml.rels" ContentType="application/vnd.openxmlformats-package.relationships+xml"/>
  <Override PartName="/ppt/slides/_rels/slide78.xml.rels" ContentType="application/vnd.openxmlformats-package.relationships+xml"/>
  <Override PartName="/ppt/slides/_rels/slide258.xml.rels" ContentType="application/vnd.openxmlformats-package.relationships+xml"/>
  <Override PartName="/ppt/slides/_rels/slide224.xml.rels" ContentType="application/vnd.openxmlformats-package.relationships+xml"/>
  <Override PartName="/ppt/slides/_rels/slide34.xml.rels" ContentType="application/vnd.openxmlformats-package.relationships+xml"/>
  <Override PartName="/ppt/slides/_rels/slide229.xml.rels" ContentType="application/vnd.openxmlformats-package.relationships+xml"/>
  <Override PartName="/ppt/slides/_rels/slide234.xml.rels" ContentType="application/vnd.openxmlformats-package.relationships+xml"/>
  <Override PartName="/ppt/slides/_rels/slide49.xml.rels" ContentType="application/vnd.openxmlformats-package.relationships+xml"/>
  <Override PartName="/ppt/slides/_rels/slide54.xml.rels" ContentType="application/vnd.openxmlformats-package.relationships+xml"/>
  <Override PartName="/ppt/slides/_rels/slide102.xml.rels" ContentType="application/vnd.openxmlformats-package.relationships+xml"/>
  <Override PartName="/ppt/slides/_rels/slide197.xml.rels" ContentType="application/vnd.openxmlformats-package.relationships+xml"/>
  <Override PartName="/ppt/slides/_rels/slide223.xml.rels" ContentType="application/vnd.openxmlformats-package.relationships+xml"/>
  <Override PartName="/ppt/slides/_rels/slide226.xml.rels" ContentType="application/vnd.openxmlformats-package.relationships+xml"/>
  <Override PartName="/ppt/slides/_rels/slide231.xml.rels" ContentType="application/vnd.openxmlformats-package.relationships+xml"/>
  <Override PartName="/ppt/slides/_rels/slide179.xml.rels" ContentType="application/vnd.openxmlformats-package.relationships+xml"/>
  <Override PartName="/ppt/slides/_rels/slide22.xml.rels" ContentType="application/vnd.openxmlformats-package.relationships+xml"/>
  <Override PartName="/ppt/slides/_rels/slide217.xml.rels" ContentType="application/vnd.openxmlformats-package.relationships+xml"/>
  <Override PartName="/ppt/slides/_rels/slide222.xml.rels" ContentType="application/vnd.openxmlformats-package.relationships+xml"/>
  <Override PartName="/ppt/slides/_rels/slide196.xml.rels" ContentType="application/vnd.openxmlformats-package.relationships+xml"/>
  <Override PartName="/ppt/slides/_rels/slide101.xml.rels" ContentType="application/vnd.openxmlformats-package.relationships+xml"/>
  <Override PartName="/ppt/slides/_rels/slide320.xml.rels" ContentType="application/vnd.openxmlformats-package.relationships+xml"/>
  <Override PartName="/ppt/slides/_rels/slide24.xml.rels" ContentType="application/vnd.openxmlformats-package.relationships+xml"/>
  <Override PartName="/ppt/slides/_rels/slide190.xml.rels" ContentType="application/vnd.openxmlformats-package.relationships+xml"/>
  <Override PartName="/ppt/slides/_rels/slide211.xml.rels" ContentType="application/vnd.openxmlformats-package.relationships+xml"/>
  <Override PartName="/ppt/slides/_rels/slide185.xml.rels" ContentType="application/vnd.openxmlformats-package.relationships+xml"/>
  <Override PartName="/ppt/slides/_rels/slide73.xml.rels" ContentType="application/vnd.openxmlformats-package.relationships+xml"/>
  <Override PartName="/ppt/slides/_rels/slide111.xml.rels" ContentType="application/vnd.openxmlformats-package.relationships+xml"/>
  <Override PartName="/ppt/slides/_rels/slide106.xml.rels" ContentType="application/vnd.openxmlformats-package.relationships+xml"/>
  <Override PartName="/ppt/slides/_rels/slide107.xml.rels" ContentType="application/vnd.openxmlformats-package.relationships+xml"/>
  <Override PartName="/ppt/slides/_rels/slide112.xml.rels" ContentType="application/vnd.openxmlformats-package.relationships+xml"/>
  <Override PartName="/ppt/slides/_rels/slide293.xml.rels" ContentType="application/vnd.openxmlformats-package.relationships+xml"/>
  <Override PartName="/ppt/slides/_rels/slide189.xml.rels" ContentType="application/vnd.openxmlformats-package.relationships+xml"/>
  <Override PartName="/ppt/slides/_rels/slide344.xml.rels" ContentType="application/vnd.openxmlformats-package.relationships+xml"/>
  <Override PartName="/ppt/slides/_rels/slide214.xml.rels" ContentType="application/vnd.openxmlformats-package.relationships+xml"/>
  <Override PartName="/ppt/slides/_rels/slide193.xml.rels" ContentType="application/vnd.openxmlformats-package.relationships+xml"/>
  <Override PartName="/ppt/slides/_rels/slide227.xml.rels" ContentType="application/vnd.openxmlformats-package.relationships+xml"/>
  <Override PartName="/ppt/slides/_rels/slide232.xml.rels" ContentType="application/vnd.openxmlformats-package.relationships+xml"/>
  <Override PartName="/ppt/slides/_rels/slide47.xml.rels" ContentType="application/vnd.openxmlformats-package.relationships+xml"/>
  <Override PartName="/ppt/slides/_rels/slide52.xml.rels" ContentType="application/vnd.openxmlformats-package.relationships+xml"/>
  <Override PartName="/ppt/slides/_rels/slide82.xml.rels" ContentType="application/vnd.openxmlformats-package.relationships+xml"/>
  <Override PartName="/ppt/slides/_rels/slide269.xml.rels" ContentType="application/vnd.openxmlformats-package.relationships+xml"/>
  <Override PartName="/ppt/slides/_rels/slide194.xml.rels" ContentType="application/vnd.openxmlformats-package.relationships+xml"/>
  <Override PartName="/ppt/slides/_rels/slide215.xml.rels" ContentType="application/vnd.openxmlformats-package.relationships+xml"/>
  <Override PartName="/ppt/slides/_rels/slide220.xml.rels" ContentType="application/vnd.openxmlformats-package.relationships+xml"/>
  <Override PartName="/ppt/slides/_rels/slide173.xml.rels" ContentType="application/vnd.openxmlformats-package.relationships+xml"/>
  <Override PartName="/ppt/slides/_rels/slide168.xml.rels" ContentType="application/vnd.openxmlformats-package.relationships+xml"/>
  <Override PartName="/ppt/slides/_rels/slide35.xml.rels" ContentType="application/vnd.openxmlformats-package.relationships+xml"/>
  <Override PartName="/ppt/slides/_rels/slide40.xml.rels" ContentType="application/vnd.openxmlformats-package.relationships+xml"/>
  <Override PartName="/ppt/slides/_rels/slide203.xml.rels" ContentType="application/vnd.openxmlformats-package.relationships+xml"/>
  <Override PartName="/ppt/slides/_rels/slide182.xml.rels" ContentType="application/vnd.openxmlformats-package.relationships+xml"/>
  <Override PartName="/ppt/slides/_rels/slide331.xml.rels" ContentType="application/vnd.openxmlformats-package.relationships+xml"/>
  <Override PartName="/ppt/slides/_rels/slide99.xml.rels" ContentType="application/vnd.openxmlformats-package.relationships+xml"/>
  <Override PartName="/ppt/slides/_rels/slide178.xml.rels" ContentType="application/vnd.openxmlformats-package.relationships+xml"/>
  <Override PartName="/ppt/slides/_rels/slide37.xml.rels" ContentType="application/vnd.openxmlformats-package.relationships+xml"/>
  <Override PartName="/ppt/slides/_rels/slide42.xml.rels" ContentType="application/vnd.openxmlformats-package.relationships+xml"/>
  <Override PartName="/ppt/slides/_rels/slide333.xml.rels" ContentType="application/vnd.openxmlformats-package.relationships+xml"/>
  <Override PartName="/ppt/slides/_rels/slide172.xml.rels" ContentType="application/vnd.openxmlformats-package.relationships+xml"/>
  <Override PartName="/ppt/slides/_rels/slide50.xml.rels" ContentType="application/vnd.openxmlformats-package.relationships+xml"/>
  <Override PartName="/ppt/slides/_rels/slide237.xml.rels" ContentType="application/vnd.openxmlformats-package.relationships+xml"/>
  <Override PartName="/ppt/slides/_rels/slide57.xml.rels" ContentType="application/vnd.openxmlformats-package.relationships+xml"/>
  <Override PartName="/ppt/slides/_rels/slide177.xml.rels" ContentType="application/vnd.openxmlformats-package.relationships+xml"/>
  <Override PartName="/ppt/slides/_rels/slide36.xml.rels" ContentType="application/vnd.openxmlformats-package.relationships+xml"/>
  <Override PartName="/ppt/slides/_rels/slide41.xml.rels" ContentType="application/vnd.openxmlformats-package.relationships+xml"/>
  <Override PartName="/ppt/slides/_rels/slide332.xml.rels" ContentType="application/vnd.openxmlformats-package.relationships+xml"/>
  <Override PartName="/ppt/slides/_rels/slide339.xml.rels" ContentType="application/vnd.openxmlformats-package.relationships+xml"/>
  <Override PartName="/ppt/slides/_rels/slide166.xml.rels" ContentType="application/vnd.openxmlformats-package.relationships+xml"/>
  <Override PartName="/ppt/slides/_rels/slide170.xml.rels" ContentType="application/vnd.openxmlformats-package.relationships+xml"/>
  <Override PartName="/ppt/slides/_rels/slide204.xml.rels" ContentType="application/vnd.openxmlformats-package.relationships+xml"/>
  <Override PartName="/ppt/slides/_rels/slide183.xml.rels" ContentType="application/vnd.openxmlformats-package.relationships+xml"/>
  <Override PartName="/ppt/slides/_rels/slide253.xml.rels" ContentType="application/vnd.openxmlformats-package.relationships+xml"/>
  <Override PartName="/ppt/slides/_rels/slide149.xml.rels" ContentType="application/vnd.openxmlformats-package.relationships+xml"/>
  <Override PartName="/ppt/slides/_rels/slide89.xml.rels" ContentType="application/vnd.openxmlformats-package.relationships+xml"/>
  <Override PartName="/ppt/slides/_rels/slide94.xml.rels" ContentType="application/vnd.openxmlformats-package.relationships+xml"/>
  <Override PartName="/ppt/slides/_rels/slide127.xml.rels" ContentType="application/vnd.openxmlformats-package.relationships+xml"/>
  <Override PartName="/ppt/slides/_rels/slide274.xml.rels" ContentType="application/vnd.openxmlformats-package.relationships+xml"/>
  <Override PartName="/ppt/slides/_rels/slide14.xml.rels" ContentType="application/vnd.openxmlformats-package.relationships+xml"/>
  <Override PartName="/ppt/slides/_rels/slide58.xml.rels" ContentType="application/vnd.openxmlformats-package.relationships+xml"/>
  <Override PartName="/ppt/slides/_rels/slide238.xml.rels" ContentType="application/vnd.openxmlformats-package.relationships+xml"/>
  <Override PartName="/ppt/slides/_rels/slide51.xml.rels" ContentType="application/vnd.openxmlformats-package.relationships+xml"/>
  <Override PartName="/ppt/slides/_rels/slide243.xml.rels" ContentType="application/vnd.openxmlformats-package.relationships+xml"/>
  <Override PartName="/ppt/slides/_rels/slide191.xml.rels" ContentType="application/vnd.openxmlformats-package.relationships+xml"/>
  <Override PartName="/ppt/slides/_rels/slide152.xml.rels" ContentType="application/vnd.openxmlformats-package.relationships+xml"/>
  <Override PartName="/ppt/slides/_rels/slide147.xml.rels" ContentType="application/vnd.openxmlformats-package.relationships+xml"/>
  <Override PartName="/ppt/slides/_rels/slide276.xml.rels" ContentType="application/vnd.openxmlformats-package.relationships+xml"/>
  <Override PartName="/ppt/slides/_rels/slide281.xml.rels" ContentType="application/vnd.openxmlformats-package.relationships+xml"/>
  <Override PartName="/ppt/slides/_rels/slide302.xml.rels" ContentType="application/vnd.openxmlformats-package.relationships+xml"/>
  <Override PartName="/ppt/slides/_rels/slide205.xml.rels" ContentType="application/vnd.openxmlformats-package.relationships+xml"/>
  <Override PartName="/ppt/slides/_rels/slide184.xml.rels" ContentType="application/vnd.openxmlformats-package.relationships+xml"/>
  <Override PartName="/ppt/slides/_rels/slide210.xml.rels" ContentType="application/vnd.openxmlformats-package.relationships+xml"/>
  <Override PartName="/ppt/slides/_rels/slide277.xml.rels" ContentType="application/vnd.openxmlformats-package.relationships+xml"/>
  <Override PartName="/ppt/slides/_rels/slide282.xml.rels" ContentType="application/vnd.openxmlformats-package.relationships+xml"/>
  <Override PartName="/ppt/slides/_rels/slide303.xml.rels" ContentType="application/vnd.openxmlformats-package.relationships+xml"/>
  <Override PartName="/ppt/slides/_rels/slide338.xml.rels" ContentType="application/vnd.openxmlformats-package.relationships+xml"/>
  <Override PartName="/ppt/slides/_rels/slide343.xml.rels" ContentType="application/vnd.openxmlformats-package.relationships+xml"/>
  <Override PartName="/ppt/slides/_rels/slide209.xml.rels" ContentType="application/vnd.openxmlformats-package.relationships+xml"/>
  <Override PartName="/ppt/slides/_rels/slide188.xml.rels" ContentType="application/vnd.openxmlformats-package.relationships+xml"/>
  <Override PartName="/ppt/slides/_rels/slide292.xml.rels" ContentType="application/vnd.openxmlformats-package.relationships+xml"/>
  <Override PartName="/ppt/slides/_rels/slide150.xml.rels" ContentType="application/vnd.openxmlformats-package.relationships+xml"/>
  <Override PartName="/ppt/slides/_rels/slide145.xml.rels" ContentType="application/vnd.openxmlformats-package.relationships+xml"/>
  <Override PartName="/ppt/slides/_rels/slide278.xml.rels" ContentType="application/vnd.openxmlformats-package.relationships+xml"/>
  <Override PartName="/ppt/slides/_rels/slide304.xml.rels" ContentType="application/vnd.openxmlformats-package.relationships+xml"/>
  <Override PartName="/ppt/slides/_rels/slide283.xml.rels" ContentType="application/vnd.openxmlformats-package.relationships+xml"/>
  <Override PartName="/ppt/slides/_rels/slide59.xml.rels" ContentType="application/vnd.openxmlformats-package.relationships+xml"/>
  <Override PartName="/ppt/slides/_rels/slide120.xml.rels" ContentType="application/vnd.openxmlformats-package.relationships+xml"/>
  <Override PartName="/ppt/slides/_rels/slide167.xml.rels" ContentType="application/vnd.openxmlformats-package.relationships+xml"/>
  <Override PartName="/ppt/slides/_rels/slide121.xml.rels" ContentType="application/vnd.openxmlformats-package.relationships+xml"/>
  <Override PartName="/ppt/slides/_rels/slide122.xml.rels" ContentType="application/vnd.openxmlformats-package.relationships+xml"/>
  <Override PartName="/ppt/slides/_rels/slide337.xml.rels" ContentType="application/vnd.openxmlformats-package.relationships+xml"/>
  <Override PartName="/ppt/slides/_rels/slide342.xml.rels" ContentType="application/vnd.openxmlformats-package.relationships+xml"/>
  <Override PartName="/ppt/slides/_rels/slide15.xml.rels" ContentType="application/vnd.openxmlformats-package.relationships+xml"/>
  <Override PartName="/ppt/slides/_rels/slide299.xml.rels" ContentType="application/vnd.openxmlformats-package.relationships+xml"/>
  <Override PartName="/ppt/slides/_rels/slide16.xml.rels" ContentType="application/vnd.openxmlformats-package.relationships+xml"/>
  <Override PartName="/ppt/slides/_rels/slide307.xml.rels" ContentType="application/vnd.openxmlformats-package.relationships+xml"/>
  <Override PartName="/ppt/slides/_rels/slide279.xml.rels" ContentType="application/vnd.openxmlformats-package.relationships+xml"/>
  <Override PartName="/ppt/slides/_rels/slide305.xml.rels" ContentType="application/vnd.openxmlformats-package.relationships+xml"/>
  <Override PartName="/ppt/slides/_rels/slide284.xml.rels" ContentType="application/vnd.openxmlformats-package.relationships+xml"/>
  <Override PartName="/ppt/slides/_rels/slide208.xml.rels" ContentType="application/vnd.openxmlformats-package.relationships+xml"/>
  <Override PartName="/ppt/slides/_rels/slide187.xml.rels" ContentType="application/vnd.openxmlformats-package.relationships+xml"/>
  <Override PartName="/ppt/slides/_rels/slide312.xml.rels" ContentType="application/vnd.openxmlformats-package.relationships+xml"/>
  <Override PartName="/ppt/slides/_rels/slide291.xml.rels" ContentType="application/vnd.openxmlformats-package.relationships+xml"/>
  <Override PartName="/ppt/slides/_rels/slide144.xml.rels" ContentType="application/vnd.openxmlformats-package.relationships+xml"/>
  <Override PartName="/ppt/slides/_rels/slide287.xml.rels" ContentType="application/vnd.openxmlformats-package.relationships+xml"/>
  <Override PartName="/ppt/slides/_rels/slide207.xml.rels" ContentType="application/vnd.openxmlformats-package.relationships+xml"/>
  <Override PartName="/ppt/slides/_rels/slide186.xml.rels" ContentType="application/vnd.openxmlformats-package.relationships+xml"/>
  <Override PartName="/ppt/slides/_rels/slide311.xml.rels" ContentType="application/vnd.openxmlformats-package.relationships+xml"/>
  <Override PartName="/ppt/slides/_rels/slide290.xml.rels" ContentType="application/vnd.openxmlformats-package.relationships+xml"/>
  <Override PartName="/ppt/slides/_rels/slide143.xml.rels" ContentType="application/vnd.openxmlformats-package.relationships+xml"/>
  <Override PartName="/ppt/slides/_rels/slide286.xml.rels" ContentType="application/vnd.openxmlformats-package.relationships+xml"/>
  <Override PartName="/ppt/slides/_rels/slide139.xml.rels" ContentType="application/vnd.openxmlformats-package.relationships+xml"/>
  <Override PartName="/ppt/slides/_rels/slide176.xml.rels" ContentType="application/vnd.openxmlformats-package.relationships+xml"/>
  <Override PartName="/ppt/slides/_rels/slide280.xml.rels" ContentType="application/vnd.openxmlformats-package.relationships+xml"/>
  <Override PartName="/ppt/slides/_rels/slide133.xml.rels" ContentType="application/vnd.openxmlformats-package.relationships+xml"/>
  <Override PartName="/ppt/slides/_rels/slide306.xml.rels" ContentType="application/vnd.openxmlformats-package.relationships+xml"/>
  <Override PartName="/ppt/slides/_rels/slide285.xml.rels" ContentType="application/vnd.openxmlformats-package.relationships+xml"/>
  <Override PartName="/ppt/slides/_rels/slide289.xml.rels" ContentType="application/vnd.openxmlformats-package.relationships+xml"/>
  <Override PartName="/ppt/slides/_rels/slide19.xml.rels" ContentType="application/vnd.openxmlformats-package.relationships+xml"/>
  <Override PartName="/ppt/slides/_rels/slide294.xml.rels" ContentType="application/vnd.openxmlformats-package.relationships+xml"/>
  <Override PartName="/ppt/slides/_rels/slide315.xml.rels" ContentType="application/vnd.openxmlformats-package.relationships+xml"/>
  <Override PartName="/ppt/slides/_rels/slide65.xml.rels" ContentType="application/vnd.openxmlformats-package.relationships+xml"/>
  <Override PartName="/ppt/slides/_rels/slide245.xml.rels" ContentType="application/vnd.openxmlformats-package.relationships+xml"/>
  <Override PartName="/ppt/slides/_rels/slide327.xml.rels" ContentType="application/vnd.openxmlformats-package.relationships+xml"/>
  <Override PartName="/ppt/slides/_rels/slide256.xml.rels" ContentType="application/vnd.openxmlformats-package.relationships+xml"/>
  <Override PartName="/ppt/slides/_rels/slide64.xml.rels" ContentType="application/vnd.openxmlformats-package.relationships+xml"/>
  <Override PartName="/ppt/slides/_rels/slide141.xml.rels" ContentType="application/vnd.openxmlformats-package.relationships+xml"/>
  <Override PartName="/ppt/slides/_rels/slide326.xml.rels" ContentType="application/vnd.openxmlformats-package.relationships+xml"/>
  <Override PartName="/ppt/slides/_rels/slide160.xml.rels" ContentType="application/vnd.openxmlformats-package.relationships+xml"/>
  <Override PartName="/ppt/slides/_rels/slide202.xml.rels" ContentType="application/vnd.openxmlformats-package.relationships+xml"/>
  <Override PartName="/ppt/slides/_rels/slide181.xml.rels" ContentType="application/vnd.openxmlformats-package.relationships+xml"/>
  <Override PartName="/ppt/slides/_rels/slide162.xml.rels" ContentType="application/vnd.openxmlformats-package.relationships+xml"/>
  <Override PartName="/ppt/slides/_rels/slide157.xml.rels" ContentType="application/vnd.openxmlformats-package.relationships+xml"/>
  <Override PartName="/ppt/slides/_rels/slide6.xml.rels" ContentType="application/vnd.openxmlformats-package.relationships+xml"/>
  <Override PartName="/ppt/slides/slide257.xml" ContentType="application/vnd.openxmlformats-officedocument.presentationml.slide+xml"/>
  <Override PartName="/ppt/slides/slide91.xml" ContentType="application/vnd.openxmlformats-officedocument.presentationml.slide+xml"/>
  <Override PartName="/ppt/slides/slide256.xml" ContentType="application/vnd.openxmlformats-officedocument.presentationml.slide+xml"/>
  <Override PartName="/ppt/slides/slide90.xml" ContentType="application/vnd.openxmlformats-officedocument.presentationml.slide+xml"/>
  <Override PartName="/ppt/slides/slide255.xml" ContentType="application/vnd.openxmlformats-officedocument.presentationml.slide+xml"/>
  <Override PartName="/ppt/slides/slide254.xml" ContentType="application/vnd.openxmlformats-officedocument.presentationml.slide+xml"/>
  <Override PartName="/ppt/slides/slide253.xml" ContentType="application/vnd.openxmlformats-officedocument.presentationml.slide+xml"/>
  <Override PartName="/ppt/slides/slide252.xml" ContentType="application/vnd.openxmlformats-officedocument.presentationml.slide+xml"/>
  <Override PartName="/ppt/slides/slide251.xml" ContentType="application/vnd.openxmlformats-officedocument.presentationml.slide+xml"/>
  <Override PartName="/ppt/slides/slide250.xml" ContentType="application/vnd.openxmlformats-officedocument.presentationml.slide+xml"/>
  <Override PartName="/ppt/slides/slide249.xml" ContentType="application/vnd.openxmlformats-officedocument.presentationml.slide+xml"/>
  <Override PartName="/ppt/slides/slide83.xml" ContentType="application/vnd.openxmlformats-officedocument.presentationml.slide+xml"/>
  <Override PartName="/ppt/slides/slide248.xml" ContentType="application/vnd.openxmlformats-officedocument.presentationml.slide+xml"/>
  <Override PartName="/ppt/slides/slide82.xml" ContentType="application/vnd.openxmlformats-officedocument.presentationml.slide+xml"/>
  <Override PartName="/ppt/slides/slide247.xml" ContentType="application/vnd.openxmlformats-officedocument.presentationml.slide+xml"/>
  <Override PartName="/ppt/slides/slide81.xml" ContentType="application/vnd.openxmlformats-officedocument.presentationml.slide+xml"/>
  <Override PartName="/ppt/slides/slide246.xml" ContentType="application/vnd.openxmlformats-officedocument.presentationml.slide+xml"/>
  <Override PartName="/ppt/slides/slide80.xml" ContentType="application/vnd.openxmlformats-officedocument.presentationml.slide+xml"/>
  <Override PartName="/ppt/slides/slide239.xml" ContentType="application/vnd.openxmlformats-officedocument.presentationml.slide+xml"/>
  <Override PartName="/ppt/slides/slide73.xml" ContentType="application/vnd.openxmlformats-officedocument.presentationml.slide+xml"/>
  <Override PartName="/ppt/slides/slide238.xml" ContentType="application/vnd.openxmlformats-officedocument.presentationml.slide+xml"/>
  <Override PartName="/ppt/slides/slide72.xml" ContentType="application/vnd.openxmlformats-officedocument.presentationml.slide+xml"/>
  <Override PartName="/ppt/slides/slide237.xml" ContentType="application/vnd.openxmlformats-officedocument.presentationml.slide+xml"/>
  <Override PartName="/ppt/slides/slide199.xml" ContentType="application/vnd.openxmlformats-officedocument.presentationml.slide+xml"/>
  <Override PartName="/ppt/slides/slide71.xml" ContentType="application/vnd.openxmlformats-officedocument.presentationml.slide+xml"/>
  <Override PartName="/ppt/slides/slide236.xml" ContentType="application/vnd.openxmlformats-officedocument.presentationml.slide+xml"/>
  <Override PartName="/ppt/slides/slide198.xml" ContentType="application/vnd.openxmlformats-officedocument.presentationml.slide+xml"/>
  <Override PartName="/ppt/slides/slide70.xml" ContentType="application/vnd.openxmlformats-officedocument.presentationml.slide+xml"/>
  <Override PartName="/ppt/slides/slide235.xml" ContentType="application/vnd.openxmlformats-officedocument.presentationml.slide+xml"/>
  <Override PartName="/ppt/slides/slide197.xml" ContentType="application/vnd.openxmlformats-officedocument.presentationml.slide+xml"/>
  <Override PartName="/ppt/slides/slide234.xml" ContentType="application/vnd.openxmlformats-officedocument.presentationml.slide+xml"/>
  <Override PartName="/ppt/slides/slide196.xml" ContentType="application/vnd.openxmlformats-officedocument.presentationml.slide+xml"/>
  <Override PartName="/ppt/slides/slide233.xml" ContentType="application/vnd.openxmlformats-officedocument.presentationml.slide+xml"/>
  <Override PartName="/ppt/slides/slide195.xml" ContentType="application/vnd.openxmlformats-officedocument.presentationml.slide+xml"/>
  <Override PartName="/ppt/slides/slide232.xml" ContentType="application/vnd.openxmlformats-officedocument.presentationml.slide+xml"/>
  <Override PartName="/ppt/slides/slide194.xml" ContentType="application/vnd.openxmlformats-officedocument.presentationml.slide+xml"/>
  <Override PartName="/ppt/slides/slide231.xml" ContentType="application/vnd.openxmlformats-officedocument.presentationml.slide+xml"/>
  <Override PartName="/ppt/slides/slide193.xml" ContentType="application/vnd.openxmlformats-officedocument.presentationml.slide+xml"/>
  <Override PartName="/ppt/slides/slide230.xml" ContentType="application/vnd.openxmlformats-officedocument.presentationml.slide+xml"/>
  <Override PartName="/ppt/slides/slide192.xml" ContentType="application/vnd.openxmlformats-officedocument.presentationml.slide+xml"/>
  <Override PartName="/ppt/slides/slide229.xml" ContentType="application/vnd.openxmlformats-officedocument.presentationml.slide+xml"/>
  <Override PartName="/ppt/slides/slide63.xml" ContentType="application/vnd.openxmlformats-officedocument.presentationml.slide+xml"/>
  <Override PartName="/ppt/slides/slide228.xml" ContentType="application/vnd.openxmlformats-officedocument.presentationml.slide+xml"/>
  <Override PartName="/ppt/slides/slide62.xml" ContentType="application/vnd.openxmlformats-officedocument.presentationml.slide+xml"/>
  <Override PartName="/ppt/slides/slide227.xml" ContentType="application/vnd.openxmlformats-officedocument.presentationml.slide+xml"/>
  <Override PartName="/ppt/slides/slide189.xml" ContentType="application/vnd.openxmlformats-officedocument.presentationml.slide+xml"/>
  <Override PartName="/ppt/slides/slide61.xml" ContentType="application/vnd.openxmlformats-officedocument.presentationml.slide+xml"/>
  <Override PartName="/ppt/slides/slide226.xml" ContentType="application/vnd.openxmlformats-officedocument.presentationml.slide+xml"/>
  <Override PartName="/ppt/slides/slide188.xml" ContentType="application/vnd.openxmlformats-officedocument.presentationml.slide+xml"/>
  <Override PartName="/ppt/slides/slide60.xml" ContentType="application/vnd.openxmlformats-officedocument.presentationml.slide+xml"/>
  <Override PartName="/ppt/slides/slide225.xml" ContentType="application/vnd.openxmlformats-officedocument.presentationml.slide+xml"/>
  <Override PartName="/ppt/slides/slide187.xml" ContentType="application/vnd.openxmlformats-officedocument.presentationml.slide+xml"/>
  <Override PartName="/ppt/slides/slide224.xml" ContentType="application/vnd.openxmlformats-officedocument.presentationml.slide+xml"/>
  <Override PartName="/ppt/slides/slide186.xml" ContentType="application/vnd.openxmlformats-officedocument.presentationml.slide+xml"/>
  <Override PartName="/ppt/slides/slide223.xml" ContentType="application/vnd.openxmlformats-officedocument.presentationml.slide+xml"/>
  <Override PartName="/ppt/slides/slide185.xml" ContentType="application/vnd.openxmlformats-officedocument.presentationml.slide+xml"/>
  <Override PartName="/ppt/slides/slide222.xml" ContentType="application/vnd.openxmlformats-officedocument.presentationml.slide+xml"/>
  <Override PartName="/ppt/slides/slide184.xml" ContentType="application/vnd.openxmlformats-officedocument.presentationml.slide+xml"/>
  <Override PartName="/ppt/slides/slide221.xml" ContentType="application/vnd.openxmlformats-officedocument.presentationml.slide+xml"/>
  <Override PartName="/ppt/slides/slide183.xml" ContentType="application/vnd.openxmlformats-officedocument.presentationml.slide+xml"/>
  <Override PartName="/ppt/slides/slide220.xml" ContentType="application/vnd.openxmlformats-officedocument.presentationml.slide+xml"/>
  <Override PartName="/ppt/slides/slide182.xml" ContentType="application/vnd.openxmlformats-officedocument.presentationml.slide+xml"/>
  <Override PartName="/ppt/slides/slide219.xml" ContentType="application/vnd.openxmlformats-officedocument.presentationml.slide+xml"/>
  <Override PartName="/ppt/slides/slide53.xml" ContentType="application/vnd.openxmlformats-officedocument.presentationml.slide+xml"/>
  <Override PartName="/ppt/slides/slide218.xml" ContentType="application/vnd.openxmlformats-officedocument.presentationml.slide+xml"/>
  <Override PartName="/ppt/slides/slide52.xml" ContentType="application/vnd.openxmlformats-officedocument.presentationml.slide+xml"/>
  <Override PartName="/ppt/slides/slide217.xml" ContentType="application/vnd.openxmlformats-officedocument.presentationml.slide+xml"/>
  <Override PartName="/ppt/slides/slide179.xml" ContentType="application/vnd.openxmlformats-officedocument.presentationml.slide+xml"/>
  <Override PartName="/ppt/slides/slide51.xml" ContentType="application/vnd.openxmlformats-officedocument.presentationml.slide+xml"/>
  <Override PartName="/ppt/slides/slide216.xml" ContentType="application/vnd.openxmlformats-officedocument.presentationml.slide+xml"/>
  <Override PartName="/ppt/slides/slide178.xml" ContentType="application/vnd.openxmlformats-officedocument.presentationml.slide+xml"/>
  <Override PartName="/ppt/slides/slide50.xml" ContentType="application/vnd.openxmlformats-officedocument.presentationml.slide+xml"/>
  <Override PartName="/ppt/slides/slide215.xml" ContentType="application/vnd.openxmlformats-officedocument.presentationml.slide+xml"/>
  <Override PartName="/ppt/slides/slide177.xml" ContentType="application/vnd.openxmlformats-officedocument.presentationml.slide+xml"/>
  <Override PartName="/ppt/slides/slide214.xml" ContentType="application/vnd.openxmlformats-officedocument.presentationml.slide+xml"/>
  <Override PartName="/ppt/slides/slide176.xml" ContentType="application/vnd.openxmlformats-officedocument.presentationml.slide+xml"/>
  <Override PartName="/ppt/slides/slide213.xml" ContentType="application/vnd.openxmlformats-officedocument.presentationml.slide+xml"/>
  <Override PartName="/ppt/slides/slide175.xml" ContentType="application/vnd.openxmlformats-officedocument.presentationml.slide+xml"/>
  <Override PartName="/ppt/slides/slide212.xml" ContentType="application/vnd.openxmlformats-officedocument.presentationml.slide+xml"/>
  <Override PartName="/ppt/slides/slide174.xml" ContentType="application/vnd.openxmlformats-officedocument.presentationml.slide+xml"/>
  <Override PartName="/ppt/slides/slide211.xml" ContentType="application/vnd.openxmlformats-officedocument.presentationml.slide+xml"/>
  <Override PartName="/ppt/slides/slide173.xml" ContentType="application/vnd.openxmlformats-officedocument.presentationml.slide+xml"/>
  <Override PartName="/ppt/slides/slide339.xml" ContentType="application/vnd.openxmlformats-officedocument.presentationml.slide+xml"/>
  <Override PartName="/ppt/slides/slide210.xml" ContentType="application/vnd.openxmlformats-officedocument.presentationml.slide+xml"/>
  <Override PartName="/ppt/slides/slide172.xml" ContentType="application/vnd.openxmlformats-officedocument.presentationml.slide+xml"/>
  <Override PartName="/ppt/slides/slide338.xml" ContentType="application/vnd.openxmlformats-officedocument.presentationml.slide+xml"/>
  <Override PartName="/ppt/slides/slide120.xml" ContentType="application/vnd.openxmlformats-officedocument.presentationml.slide+xml"/>
  <Override PartName="/ppt/slides/slide313.xml" ContentType="application/vnd.openxmlformats-officedocument.presentationml.slide+xml"/>
  <Override PartName="/ppt/slides/slide24.xml" ContentType="application/vnd.openxmlformats-officedocument.presentationml.slide+xml"/>
  <Override PartName="/ppt/slides/slide100.xml" ContentType="application/vnd.openxmlformats-officedocument.presentationml.slide+xml"/>
  <Override PartName="/ppt/slides/slide47.xml" ContentType="application/vnd.openxmlformats-officedocument.presentationml.slide+xml"/>
  <Override PartName="/ppt/slides/slide107.xml" ContentType="application/vnd.openxmlformats-officedocument.presentationml.slide+xml"/>
  <Override PartName="/ppt/slides/slide79.xml" ContentType="application/vnd.openxmlformats-officedocument.presentationml.slide+xml"/>
  <Override PartName="/ppt/slides/slide48.xml" ContentType="application/vnd.openxmlformats-officedocument.presentationml.slide+xml"/>
  <Override PartName="/ppt/slides/slide144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87.xml" ContentType="application/vnd.openxmlformats-officedocument.presentationml.slide+xml"/>
  <Override PartName="/ppt/slides/slide115.xml" ContentType="application/vnd.openxmlformats-officedocument.presentationml.slide+xml"/>
  <Override PartName="/ppt/slides/slide19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18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5.xml" ContentType="application/vnd.openxmlformats-officedocument.presentationml.slide+xml"/>
  <Override PartName="/ppt/slides/slide98.xml" ContentType="application/vnd.openxmlformats-officedocument.presentationml.slide+xml"/>
  <Override PartName="/ppt/slides/slide126.xml" ContentType="application/vnd.openxmlformats-officedocument.presentationml.slide+xml"/>
  <Override PartName="/ppt/slides/slide99.xml" ContentType="application/vnd.openxmlformats-officedocument.presentationml.slide+xml"/>
  <Override PartName="/ppt/slides/slide127.xml" ContentType="application/vnd.openxmlformats-officedocument.presentationml.slide+xml"/>
  <Override PartName="/ppt/slides/slide260.xml" ContentType="application/vnd.openxmlformats-officedocument.presentationml.slide+xml"/>
  <Override PartName="/ppt/slides/slide261.xml" ContentType="application/vnd.openxmlformats-officedocument.presentationml.slide+xml"/>
  <Override PartName="/ppt/slides/slide262.xml" ContentType="application/vnd.openxmlformats-officedocument.presentationml.slide+xml"/>
  <Override PartName="/ppt/slides/slide263.xml" ContentType="application/vnd.openxmlformats-officedocument.presentationml.slide+xml"/>
  <Override PartName="/ppt/slides/slide264.xml" ContentType="application/vnd.openxmlformats-officedocument.presentationml.slide+xml"/>
  <Override PartName="/ppt/slides/slide265.xml" ContentType="application/vnd.openxmlformats-officedocument.presentationml.slide+xml"/>
  <Override PartName="/ppt/slides/slide266.xml" ContentType="application/vnd.openxmlformats-officedocument.presentationml.slide+xml"/>
  <Override PartName="/ppt/slides/slide74.xml" ContentType="application/vnd.openxmlformats-officedocument.presentationml.slide+xml"/>
  <Override PartName="/ppt/slides/slide102.xml" ContentType="application/vnd.openxmlformats-officedocument.presentationml.slide+xml"/>
  <Override PartName="/ppt/slides/slide336.xml" ContentType="application/vnd.openxmlformats-officedocument.presentationml.slide+xml"/>
  <Override PartName="/ppt/slides/slide170.xml" ContentType="application/vnd.openxmlformats-officedocument.presentationml.slide+xml"/>
  <Override PartName="/ppt/slides/slide267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337.xml" ContentType="application/vnd.openxmlformats-officedocument.presentationml.slide+xml"/>
  <Override PartName="/ppt/slides/slide171.xml" ContentType="application/vnd.openxmlformats-officedocument.presentationml.slide+xml"/>
  <Override PartName="/ppt/slides/slide268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  <Override PartName="/ppt/slides/slide269.xml" ContentType="application/vnd.openxmlformats-officedocument.presentationml.slide+xml"/>
  <Override PartName="/ppt/slides/slide301.xml" ContentType="application/vnd.openxmlformats-officedocument.presentationml.slide+xml"/>
  <Override PartName="/ppt/slides/slide12.xml" ContentType="application/vnd.openxmlformats-officedocument.presentationml.slide+xml"/>
  <Override PartName="/ppt/slides/slide27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191.xml" ContentType="application/vnd.openxmlformats-officedocument.presentationml.slide+xml"/>
  <Override PartName="/ppt/slides/slide285.xml" ContentType="application/vnd.openxmlformats-officedocument.presentationml.slide+xml"/>
  <Override PartName="/ppt/slides/slide302.xml" ContentType="application/vnd.openxmlformats-officedocument.presentationml.slide+xml"/>
  <Override PartName="/ppt/slides/slide13.xml" ContentType="application/vnd.openxmlformats-officedocument.presentationml.slide+xml"/>
  <Override PartName="/ppt/slides/slide259.xml" ContentType="application/vnd.openxmlformats-officedocument.presentationml.slide+xml"/>
  <Override PartName="/ppt/slides/slide93.xml" ContentType="application/vnd.openxmlformats-officedocument.presentationml.slide+xml"/>
  <Override PartName="/ppt/slides/slide314.xml" ContentType="application/vnd.openxmlformats-officedocument.presentationml.slide+xml"/>
  <Override PartName="/ppt/slides/slide121.xml" ContentType="application/vnd.openxmlformats-officedocument.presentationml.slide+xml"/>
  <Override PartName="/ppt/slides/slide25.xml" ContentType="application/vnd.openxmlformats-officedocument.presentationml.slide+xml"/>
  <Override PartName="/ppt/slides/slide28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6.xml" ContentType="application/vnd.openxmlformats-officedocument.presentationml.slide+xml"/>
  <Override PartName="/ppt/slides/slide310.xml" ContentType="application/vnd.openxmlformats-officedocument.presentationml.slide+xml"/>
  <Override PartName="/ppt/slides/slide294.xml" ContentType="application/vnd.openxmlformats-officedocument.presentationml.slide+xml"/>
  <Override PartName="/ppt/slides/slide311.xml" ContentType="application/vnd.openxmlformats-officedocument.presentationml.slide+xml"/>
  <Override PartName="/ppt/slides/slide22.xml" ContentType="application/vnd.openxmlformats-officedocument.presentationml.slide+xml"/>
  <Override PartName="/ppt/slides/slide295.xml" ContentType="application/vnd.openxmlformats-officedocument.presentationml.slide+xml"/>
  <Override PartName="/ppt/slides/slide113.xml" ContentType="application/vnd.openxmlformats-officedocument.presentationml.slide+xml"/>
  <Override PartName="/ppt/slides/slide181.xml" ContentType="application/vnd.openxmlformats-officedocument.presentationml.slide+xml"/>
  <Override PartName="/ppt/slides/slide85.xml" ContentType="application/vnd.openxmlformats-officedocument.presentationml.slide+xml"/>
  <Override PartName="/ppt/slides/slide17.xml" ContentType="application/vnd.openxmlformats-officedocument.presentationml.slide+xml"/>
  <Override PartName="/ppt/slides/slide312.xml" ContentType="application/vnd.openxmlformats-officedocument.presentationml.slide+xml"/>
  <Override PartName="/ppt/slides/slide23.xml" ContentType="application/vnd.openxmlformats-officedocument.presentationml.slide+xml"/>
  <Override PartName="/ppt/slides/slide296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297.xml" ContentType="application/vnd.openxmlformats-officedocument.presentationml.slide+xml"/>
  <Override PartName="/ppt/slides/slide298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43.xml" ContentType="application/vnd.openxmlformats-officedocument.presentationml.slide+xml"/>
  <Override PartName="/ppt/slides/slide309.xml" ContentType="application/vnd.openxmlformats-officedocument.presentationml.slide+xml"/>
  <Override PartName="/ppt/slides/slide315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26.xml" ContentType="application/vnd.openxmlformats-officedocument.presentationml.slide+xml"/>
  <Override PartName="/ppt/slides/slide190.xml" ContentType="application/vnd.openxmlformats-officedocument.presentationml.slide+xml"/>
  <Override PartName="/ppt/slides/slide299.xml" ContentType="application/vnd.openxmlformats-officedocument.presentationml.slide+xml"/>
  <Override PartName="/ppt/slides/slide68.xml" ContentType="application/vnd.openxmlformats-officedocument.presentationml.slide+xml"/>
  <Override PartName="/ppt/slides/slide320.xml" ContentType="application/vnd.openxmlformats-officedocument.presentationml.slide+xml"/>
  <Override PartName="/ppt/slides/slide69.xml" ContentType="application/vnd.openxmlformats-officedocument.presentationml.slide+xml"/>
  <Override PartName="/ppt/slides/slide321.xml" ContentType="application/vnd.openxmlformats-officedocument.presentationml.slide+xml"/>
  <Override PartName="/ppt/slides/slide32.xml" ContentType="application/vnd.openxmlformats-officedocument.presentationml.slide+xml"/>
  <Override PartName="/ppt/slides/slide322.xml" ContentType="application/vnd.openxmlformats-officedocument.presentationml.slide+xml"/>
  <Override PartName="/ppt/slides/slide33.xml" ContentType="application/vnd.openxmlformats-officedocument.presentationml.slide+xml"/>
  <Override PartName="/ppt/slides/slide323.xml" ContentType="application/vnd.openxmlformats-officedocument.presentationml.slide+xml"/>
  <Override PartName="/ppt/slides/slide34.xml" ContentType="application/vnd.openxmlformats-officedocument.presentationml.slide+xml"/>
  <Override PartName="/ppt/slides/slide130.xml" ContentType="application/vnd.openxmlformats-officedocument.presentationml.slide+xml"/>
  <Override PartName="/ppt/slides/slide270.xml" ContentType="application/vnd.openxmlformats-officedocument.presentationml.slide+xml"/>
  <Override PartName="/ppt/slides/slide164.xml" ContentType="application/vnd.openxmlformats-officedocument.presentationml.slide+xml"/>
  <Override PartName="/ppt/slides/slide202.xml" ContentType="application/vnd.openxmlformats-officedocument.presentationml.slide+xml"/>
  <Override PartName="/ppt/slides/slide344.xml" ContentType="application/vnd.openxmlformats-officedocument.presentationml.slide+xml"/>
  <Override PartName="/ppt/slides/slide55.xml" ContentType="application/vnd.openxmlformats-officedocument.presentationml.slide+xml"/>
  <Override PartName="/ppt/slides/slide317.xml" ContentType="application/vnd.openxmlformats-officedocument.presentationml.slide+xml"/>
  <Override PartName="/ppt/slides/slide151.xml" ContentType="application/vnd.openxmlformats-officedocument.presentationml.slide+xml"/>
  <Override PartName="/ppt/slides/slide291.xml" ContentType="application/vnd.openxmlformats-officedocument.presentationml.slide+xml"/>
  <Override PartName="/ppt/slides/slide332.xml" ContentType="application/vnd.openxmlformats-officedocument.presentationml.slide+xml"/>
  <Override PartName="/ppt/slides/slide209.xml" ContentType="application/vnd.openxmlformats-officedocument.presentationml.slide+xml"/>
  <Override PartName="/ppt/slides/slide43.xml" ContentType="application/vnd.openxmlformats-officedocument.presentationml.slide+xml"/>
  <Override PartName="/ppt/slides/slide343.xml" ContentType="application/vnd.openxmlformats-officedocument.presentationml.slide+xml"/>
  <Override PartName="/ppt/slides/slide54.xml" ContentType="application/vnd.openxmlformats-officedocument.presentationml.slide+xml"/>
  <Override PartName="/ppt/slides/slide316.xml" ContentType="application/vnd.openxmlformats-officedocument.presentationml.slide+xml"/>
  <Override PartName="/ppt/slides/slide150.xml" ContentType="application/vnd.openxmlformats-officedocument.presentationml.slide+xml"/>
  <Override PartName="/ppt/slides/slide290.xml" ContentType="application/vnd.openxmlformats-officedocument.presentationml.slide+xml"/>
  <Override PartName="/ppt/slides/slide331.xml" ContentType="application/vnd.openxmlformats-officedocument.presentationml.slide+xml"/>
  <Override PartName="/ppt/slides/slide106.xml" ContentType="application/vnd.openxmlformats-officedocument.presentationml.slide+xml"/>
  <Override PartName="/ppt/slides/slide78.xml" ContentType="application/vnd.openxmlformats-officedocument.presentationml.slide+xml"/>
  <Override PartName="/ppt/slides/slide305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16.xml" ContentType="application/vnd.openxmlformats-officedocument.presentationml.slide+xml"/>
  <Override PartName="/ppt/slides/slide180.xml" ContentType="application/vnd.openxmlformats-officedocument.presentationml.slide+xml"/>
  <Override PartName="/ppt/slides/slide289.xml" ContentType="application/vnd.openxmlformats-officedocument.presentationml.slide+xml"/>
  <Override PartName="/ppt/slides/slide342.xml" ContentType="application/vnd.openxmlformats-officedocument.presentationml.slide+xml"/>
  <Override PartName="/ppt/slides/slide330.xml" ContentType="application/vnd.openxmlformats-officedocument.presentationml.slide+xml"/>
  <Override PartName="/ppt/slides/slide304.xml" ContentType="application/vnd.openxmlformats-officedocument.presentationml.slide+xml"/>
  <Override PartName="/ppt/slides/slide111.xml" ContentType="application/vnd.openxmlformats-officedocument.presentationml.slide+xml"/>
  <Override PartName="/ppt/slides/slide15.xml" ContentType="application/vnd.openxmlformats-officedocument.presentationml.slide+xml"/>
  <Override PartName="/ppt/slides/slide288.xml" ContentType="application/vnd.openxmlformats-officedocument.presentationml.slide+xml"/>
  <Override PartName="/ppt/slides/slide341.xml" ContentType="application/vnd.openxmlformats-officedocument.presentationml.slide+xml"/>
  <Override PartName="/ppt/slides/slide303.xml" ContentType="application/vnd.openxmlformats-officedocument.presentationml.slide+xml"/>
  <Override PartName="/ppt/slides/slide110.xml" ContentType="application/vnd.openxmlformats-officedocument.presentationml.slide+xml"/>
  <Override PartName="/ppt/slides/slide14.xml" ContentType="application/vnd.openxmlformats-officedocument.presentationml.slide+xml"/>
  <Override PartName="/ppt/slides/slide287.xml" ContentType="application/vnd.openxmlformats-officedocument.presentationml.slide+xml"/>
  <Override PartName="/ppt/slides/slide340.xml" ContentType="application/vnd.openxmlformats-officedocument.presentationml.slide+xml"/>
  <Override PartName="/ppt/slides/slide101.xml" ContentType="application/vnd.openxmlformats-officedocument.presentationml.slide+xml"/>
  <Override PartName="/ppt/slides/slide300.xml" ContentType="application/vnd.openxmlformats-officedocument.presentationml.slide+xml"/>
  <Override PartName="/ppt/slides/slide284.xml" ContentType="application/vnd.openxmlformats-officedocument.presentationml.slide+xml"/>
  <Override PartName="/ppt/slides/slide335.xml" ContentType="application/vnd.openxmlformats-officedocument.presentationml.slide+xml"/>
  <Override PartName="/ppt/slides/slide46.xml" ContentType="application/vnd.openxmlformats-officedocument.presentationml.slide+xml"/>
  <Override PartName="/ppt/slides/slide308.xml" ContentType="application/vnd.openxmlformats-officedocument.presentationml.slide+xml"/>
  <Override PartName="/ppt/slides/slide142.xml" ContentType="application/vnd.openxmlformats-officedocument.presentationml.slide+xml"/>
  <Override PartName="/ppt/slides/slide282.xml" ContentType="application/vnd.openxmlformats-officedocument.presentationml.slide+xml"/>
  <Override PartName="/ppt/slides/slide334.xml" ContentType="application/vnd.openxmlformats-officedocument.presentationml.slide+xml"/>
  <Override PartName="/ppt/slides/slide45.xml" ContentType="application/vnd.openxmlformats-officedocument.presentationml.slide+xml"/>
  <Override PartName="/ppt/slides/slide307.xml" ContentType="application/vnd.openxmlformats-officedocument.presentationml.slide+xml"/>
  <Override PartName="/ppt/slides/slide141.xml" ContentType="application/vnd.openxmlformats-officedocument.presentationml.slide+xml"/>
  <Override PartName="/ppt/slides/slide281.xml" ContentType="application/vnd.openxmlformats-officedocument.presentationml.slide+xml"/>
  <Override PartName="/ppt/slides/slide333.xml" ContentType="application/vnd.openxmlformats-officedocument.presentationml.slide+xml"/>
  <Override PartName="/ppt/slides/slide44.xml" ContentType="application/vnd.openxmlformats-officedocument.presentationml.slide+xml"/>
  <Override PartName="/ppt/slides/slide306.xml" ContentType="application/vnd.openxmlformats-officedocument.presentationml.slide+xml"/>
  <Override PartName="/ppt/slides/slide140.xml" ContentType="application/vnd.openxmlformats-officedocument.presentationml.slide+xml"/>
  <Override PartName="/ppt/slides/slide280.xml" ContentType="application/vnd.openxmlformats-officedocument.presentationml.slide+xml"/>
  <Override PartName="/ppt/slides/slide32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272.xml" ContentType="application/vnd.openxmlformats-officedocument.presentationml.slide+xml"/>
  <Override PartName="/ppt/slides/slide324.xml" ContentType="application/vnd.openxmlformats-officedocument.presentationml.slide+xml"/>
  <Override PartName="/ppt/slides/slide35.xml" ContentType="application/vnd.openxmlformats-officedocument.presentationml.slide+xml"/>
  <Override PartName="/ppt/slides/slide131.xml" ContentType="application/vnd.openxmlformats-officedocument.presentationml.slide+xml"/>
  <Override PartName="/ppt/slides/slide271.xml" ContentType="application/vnd.openxmlformats-officedocument.presentationml.slide+xml"/>
  <Override PartName="/ppt/slides/slide165.xml" ContentType="application/vnd.openxmlformats-officedocument.presentationml.slide+xml"/>
  <Override PartName="/ppt/slides/slide203.xml" ContentType="application/vnd.openxmlformats-officedocument.presentationml.slide+xml"/>
  <Override PartName="/ppt/slides/slide293.xml" ContentType="application/vnd.openxmlformats-officedocument.presentationml.slide+xml"/>
  <Override PartName="/ppt/slides/slide292.xml" ContentType="application/vnd.openxmlformats-officedocument.presentationml.slide+xml"/>
  <Override PartName="/ppt/slides/slide283.xml" ContentType="application/vnd.openxmlformats-officedocument.presentationml.slide+xml"/>
  <Override PartName="/ppt/slides/slide279.xml" ContentType="application/vnd.openxmlformats-officedocument.presentationml.slide+xml"/>
  <Override PartName="/ppt/slides/slide278.xml" ContentType="application/vnd.openxmlformats-officedocument.presentationml.slide+xml"/>
  <Override PartName="/ppt/slides/slide277.xml" ContentType="application/vnd.openxmlformats-officedocument.presentationml.slide+xml"/>
  <Override PartName="/ppt/slides/slide276.xml" ContentType="application/vnd.openxmlformats-officedocument.presentationml.slide+xml"/>
  <Override PartName="/ppt/slides/slide42.xml" ContentType="application/vnd.openxmlformats-officedocument.presentationml.slide+xml"/>
  <Override PartName="/ppt/slides/slide208.xml" ContentType="application/vnd.openxmlformats-officedocument.presentationml.slide+xml"/>
  <Override PartName="/ppt/slides/slide275.xml" ContentType="application/vnd.openxmlformats-officedocument.presentationml.slide+xml"/>
  <Override PartName="/ppt/slides/slide274.xml" ContentType="application/vnd.openxmlformats-officedocument.presentationml.slide+xml"/>
  <Override PartName="/ppt/slides/slide273.xml" ContentType="application/vnd.openxmlformats-officedocument.presentationml.slide+xml"/>
  <Override PartName="/ppt/slides/slide92.xml" ContentType="application/vnd.openxmlformats-officedocument.presentationml.slide+xml"/>
  <Override PartName="/ppt/slides/slide258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161.xml" ContentType="application/vnd.openxmlformats-officedocument.presentationml.slide+xml"/>
  <Override PartName="/ppt/slides/slide327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64.xml" ContentType="application/vnd.openxmlformats-officedocument.presentationml.slide+xml"/>
  <Override PartName="/ppt/slides/slide160.xml" ContentType="application/vnd.openxmlformats-officedocument.presentationml.slide+xml"/>
  <Override PartName="/ppt/slides/slide326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59.xml" ContentType="application/vnd.openxmlformats-officedocument.presentationml.slide+xml"/>
  <Override PartName="/ppt/slides/slide155.xml" ContentType="application/vnd.openxmlformats-officedocument.presentationml.slide+xml"/>
  <Override PartName="/ppt/slides/slide58.xml" ContentType="application/vnd.openxmlformats-officedocument.presentationml.slide+xml"/>
  <Override PartName="/ppt/slides/slide154.xml" ContentType="application/vnd.openxmlformats-officedocument.presentationml.slide+xml"/>
  <Override PartName="/ppt/slides/slide119.xml" ContentType="application/vnd.openxmlformats-officedocument.presentationml.slide+xml"/>
  <Override PartName="/ppt/slides/slide57.xml" ContentType="application/vnd.openxmlformats-officedocument.presentationml.slide+xml"/>
  <Override PartName="/ppt/slides/slide319.xml" ContentType="application/vnd.openxmlformats-officedocument.presentationml.slide+xml"/>
  <Override PartName="/ppt/slides/slide153.xml" ContentType="application/vnd.openxmlformats-officedocument.presentationml.slide+xml"/>
  <Override PartName="/ppt/slides/slide1.xml" ContentType="application/vnd.openxmlformats-officedocument.presentationml.slide+xml"/>
  <Override PartName="/ppt/slides/slide205.xml" ContentType="application/vnd.openxmlformats-officedocument.presentationml.slide+xml"/>
  <Override PartName="/ppt/slides/slide167.xml" ContentType="application/vnd.openxmlformats-officedocument.presentationml.slide+xml"/>
  <Override PartName="/ppt/slides/slide108.xml" ContentType="application/vnd.openxmlformats-officedocument.presentationml.slide+xml"/>
  <Override PartName="/ppt/slides/slide2.xml" ContentType="application/vnd.openxmlformats-officedocument.presentationml.slide+xml"/>
  <Override PartName="/ppt/slides/slide7.xml" ContentType="application/vnd.openxmlformats-officedocument.presentationml.slide+xml"/>
  <Override PartName="/ppt/slides/slide243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207.xml" ContentType="application/vnd.openxmlformats-officedocument.presentationml.slide+xml"/>
  <Override PartName="/ppt/slides/slide169.xml" ContentType="application/vnd.openxmlformats-officedocument.presentationml.slide+xml"/>
  <Override PartName="/ppt/slides/slide8.xml" ContentType="application/vnd.openxmlformats-officedocument.presentationml.slide+xml"/>
  <Override PartName="/ppt/slides/slide244.xml" ContentType="application/vnd.openxmlformats-officedocument.presentationml.slide+xml"/>
  <Override PartName="/ppt/slides/slide4.xml" ContentType="application/vnd.openxmlformats-officedocument.presentationml.slide+xml"/>
  <Override PartName="/ppt/slides/slide240.xml" ContentType="application/vnd.openxmlformats-officedocument.presentationml.slide+xml"/>
  <Override PartName="/ppt/slides/slide9.xml" ContentType="application/vnd.openxmlformats-officedocument.presentationml.slide+xml"/>
  <Override PartName="/ppt/slides/slide245.xml" ContentType="application/vnd.openxmlformats-officedocument.presentationml.slide+xml"/>
  <Override PartName="/ppt/slides/slide5.xml" ContentType="application/vnd.openxmlformats-officedocument.presentationml.slide+xml"/>
  <Override PartName="/ppt/slides/slide241.xml" ContentType="application/vnd.openxmlformats-officedocument.presentationml.slide+xml"/>
  <Override PartName="/ppt/slides/slide49.xml" ContentType="application/vnd.openxmlformats-officedocument.presentationml.slide+xml"/>
  <Override PartName="/ppt/slides/slide145.xml" ContentType="application/vnd.openxmlformats-officedocument.presentationml.slide+xml"/>
  <Override PartName="/ppt/slides/slide6.xml" ContentType="application/vnd.openxmlformats-officedocument.presentationml.slide+xml"/>
  <Override PartName="/ppt/slides/slide242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56.xml" ContentType="application/vnd.openxmlformats-officedocument.presentationml.slide+xml"/>
  <Override PartName="/ppt/slides/slide318.xml" ContentType="application/vnd.openxmlformats-officedocument.presentationml.slide+xml"/>
  <Override PartName="/ppt/slides/slide152.xml" ContentType="application/vnd.openxmlformats-officedocument.presentationml.slide+xml"/>
  <Override PartName="/ppt/slides/slide128.xml" ContentType="application/vnd.openxmlformats-officedocument.presentationml.slide+xml"/>
  <Override PartName="/ppt/slides/slide129.xml" ContentType="application/vnd.openxmlformats-officedocument.presentationml.slide+xml"/>
  <Override PartName="/ppt/slides/slide136.xml" ContentType="application/vnd.openxmlformats-officedocument.presentationml.slide+xml"/>
  <Override PartName="/ppt/slides/slide137.xml" ContentType="application/vnd.openxmlformats-officedocument.presentationml.slide+xml"/>
  <Override PartName="/ppt/slides/slide10.xml" ContentType="application/vnd.openxmlformats-officedocument.presentationml.slide+xml"/>
  <Override PartName="/ppt/slides/slide138.xml" ContentType="application/vnd.openxmlformats-officedocument.presentationml.slide+xml"/>
  <Override PartName="/ppt/slides/slide11.xml" ContentType="application/vnd.openxmlformats-officedocument.presentationml.slide+xml"/>
  <Override PartName="/ppt/slides/slide139.xml" ContentType="application/vnd.openxmlformats-officedocument.presentationml.slide+xml"/>
  <Override PartName="/ppt/slides/slide146.xml" ContentType="application/vnd.openxmlformats-officedocument.presentationml.slide+xml"/>
  <Override PartName="/ppt/slides/slide147.xml" ContentType="application/vnd.openxmlformats-officedocument.presentationml.slide+xml"/>
  <Override PartName="/ppt/slides/slide20.xml" ContentType="application/vnd.openxmlformats-officedocument.presentationml.slide+xml"/>
  <Override PartName="/ppt/slides/slide148.xml" ContentType="application/vnd.openxmlformats-officedocument.presentationml.slide+xml"/>
  <Override PartName="/ppt/slides/slide21.xml" ContentType="application/vnd.openxmlformats-officedocument.presentationml.slide+xml"/>
  <Override PartName="/ppt/slides/slide149.xml" ContentType="application/vnd.openxmlformats-officedocument.presentationml.slide+xml"/>
  <Override PartName="/ppt/slides/slide156.xml" ContentType="application/vnd.openxmlformats-officedocument.presentationml.slide+xml"/>
  <Override PartName="/ppt/slides/slide157.xml" ContentType="application/vnd.openxmlformats-officedocument.presentationml.slide+xml"/>
  <Override PartName="/ppt/slides/slide30.xml" ContentType="application/vnd.openxmlformats-officedocument.presentationml.slide+xml"/>
  <Override PartName="/ppt/slides/slide158.xml" ContentType="application/vnd.openxmlformats-officedocument.presentationml.slide+xml"/>
  <Override PartName="/ppt/slides/slide31.xml" ContentType="application/vnd.openxmlformats-officedocument.presentationml.slide+xml"/>
  <Override PartName="/ppt/slides/slide159.xml" ContentType="application/vnd.openxmlformats-officedocument.presentationml.slide+xml"/>
  <Override PartName="/ppt/slides/slide162.xml" ContentType="application/vnd.openxmlformats-officedocument.presentationml.slide+xml"/>
  <Override PartName="/ppt/slides/slide328.xml" ContentType="application/vnd.openxmlformats-officedocument.presentationml.slide+xml"/>
  <Override PartName="/ppt/slides/slide200.xml" ContentType="application/vnd.openxmlformats-officedocument.presentationml.slide+xml"/>
  <Override PartName="/ppt/slides/slide163.xml" ContentType="application/vnd.openxmlformats-officedocument.presentationml.slide+xml"/>
  <Override PartName="/ppt/slides/slide329.xml" ContentType="application/vnd.openxmlformats-officedocument.presentationml.slide+xml"/>
  <Override PartName="/ppt/slides/slide201.xml" ContentType="application/vnd.openxmlformats-officedocument.presentationml.slide+xml"/>
  <Override PartName="/ppt/slides/slide204.xml" ContentType="application/vnd.openxmlformats-officedocument.presentationml.slide+xml"/>
  <Override PartName="/ppt/slides/slide166.xml" ContentType="application/vnd.openxmlformats-officedocument.presentationml.slide+xml"/>
  <Override PartName="/ppt/slides/slide206.xml" ContentType="application/vnd.openxmlformats-officedocument.presentationml.slide+xml"/>
  <Override PartName="/ppt/slides/slide168.xml" ContentType="application/vnd.openxmlformats-officedocument.presentationml.slide+xml"/>
  <Override PartName="/ppt/slides/slide4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  <p:sldId id="374" r:id="rId122"/>
    <p:sldId id="375" r:id="rId123"/>
    <p:sldId id="376" r:id="rId124"/>
    <p:sldId id="377" r:id="rId125"/>
    <p:sldId id="378" r:id="rId126"/>
    <p:sldId id="379" r:id="rId127"/>
    <p:sldId id="380" r:id="rId128"/>
    <p:sldId id="381" r:id="rId129"/>
    <p:sldId id="382" r:id="rId130"/>
    <p:sldId id="383" r:id="rId131"/>
    <p:sldId id="384" r:id="rId132"/>
    <p:sldId id="385" r:id="rId133"/>
    <p:sldId id="386" r:id="rId134"/>
    <p:sldId id="387" r:id="rId135"/>
    <p:sldId id="388" r:id="rId136"/>
    <p:sldId id="389" r:id="rId137"/>
    <p:sldId id="390" r:id="rId138"/>
    <p:sldId id="391" r:id="rId139"/>
    <p:sldId id="392" r:id="rId140"/>
    <p:sldId id="393" r:id="rId141"/>
    <p:sldId id="394" r:id="rId142"/>
    <p:sldId id="395" r:id="rId143"/>
    <p:sldId id="396" r:id="rId144"/>
    <p:sldId id="397" r:id="rId145"/>
    <p:sldId id="398" r:id="rId146"/>
    <p:sldId id="399" r:id="rId147"/>
    <p:sldId id="400" r:id="rId148"/>
    <p:sldId id="401" r:id="rId149"/>
    <p:sldId id="402" r:id="rId150"/>
    <p:sldId id="403" r:id="rId151"/>
    <p:sldId id="404" r:id="rId152"/>
    <p:sldId id="405" r:id="rId153"/>
    <p:sldId id="406" r:id="rId154"/>
    <p:sldId id="407" r:id="rId155"/>
    <p:sldId id="408" r:id="rId156"/>
    <p:sldId id="409" r:id="rId157"/>
    <p:sldId id="410" r:id="rId158"/>
    <p:sldId id="411" r:id="rId159"/>
    <p:sldId id="412" r:id="rId160"/>
    <p:sldId id="413" r:id="rId161"/>
    <p:sldId id="414" r:id="rId162"/>
    <p:sldId id="415" r:id="rId163"/>
    <p:sldId id="416" r:id="rId164"/>
    <p:sldId id="417" r:id="rId165"/>
    <p:sldId id="418" r:id="rId166"/>
    <p:sldId id="419" r:id="rId167"/>
    <p:sldId id="420" r:id="rId168"/>
    <p:sldId id="421" r:id="rId169"/>
    <p:sldId id="422" r:id="rId170"/>
    <p:sldId id="423" r:id="rId171"/>
    <p:sldId id="424" r:id="rId172"/>
    <p:sldId id="425" r:id="rId173"/>
    <p:sldId id="426" r:id="rId174"/>
    <p:sldId id="427" r:id="rId175"/>
    <p:sldId id="428" r:id="rId176"/>
    <p:sldId id="429" r:id="rId177"/>
    <p:sldId id="430" r:id="rId178"/>
    <p:sldId id="431" r:id="rId179"/>
    <p:sldId id="432" r:id="rId180"/>
    <p:sldId id="433" r:id="rId181"/>
    <p:sldId id="434" r:id="rId182"/>
    <p:sldId id="435" r:id="rId183"/>
    <p:sldId id="436" r:id="rId184"/>
    <p:sldId id="437" r:id="rId185"/>
    <p:sldId id="438" r:id="rId186"/>
    <p:sldId id="439" r:id="rId187"/>
    <p:sldId id="440" r:id="rId188"/>
    <p:sldId id="441" r:id="rId189"/>
    <p:sldId id="442" r:id="rId190"/>
    <p:sldId id="443" r:id="rId191"/>
    <p:sldId id="444" r:id="rId192"/>
    <p:sldId id="445" r:id="rId193"/>
    <p:sldId id="446" r:id="rId194"/>
    <p:sldId id="447" r:id="rId195"/>
    <p:sldId id="448" r:id="rId196"/>
    <p:sldId id="449" r:id="rId197"/>
    <p:sldId id="450" r:id="rId198"/>
    <p:sldId id="451" r:id="rId199"/>
    <p:sldId id="452" r:id="rId200"/>
    <p:sldId id="453" r:id="rId201"/>
    <p:sldId id="454" r:id="rId202"/>
    <p:sldId id="455" r:id="rId203"/>
    <p:sldId id="456" r:id="rId204"/>
    <p:sldId id="457" r:id="rId205"/>
    <p:sldId id="458" r:id="rId206"/>
    <p:sldId id="459" r:id="rId207"/>
    <p:sldId id="460" r:id="rId208"/>
    <p:sldId id="461" r:id="rId209"/>
    <p:sldId id="462" r:id="rId210"/>
    <p:sldId id="463" r:id="rId211"/>
    <p:sldId id="464" r:id="rId212"/>
    <p:sldId id="465" r:id="rId213"/>
    <p:sldId id="466" r:id="rId214"/>
    <p:sldId id="467" r:id="rId215"/>
    <p:sldId id="468" r:id="rId216"/>
    <p:sldId id="469" r:id="rId217"/>
    <p:sldId id="470" r:id="rId218"/>
    <p:sldId id="471" r:id="rId219"/>
    <p:sldId id="472" r:id="rId220"/>
    <p:sldId id="473" r:id="rId221"/>
    <p:sldId id="474" r:id="rId222"/>
    <p:sldId id="475" r:id="rId223"/>
    <p:sldId id="476" r:id="rId224"/>
    <p:sldId id="477" r:id="rId225"/>
    <p:sldId id="478" r:id="rId226"/>
    <p:sldId id="479" r:id="rId227"/>
    <p:sldId id="480" r:id="rId228"/>
    <p:sldId id="481" r:id="rId229"/>
    <p:sldId id="482" r:id="rId230"/>
    <p:sldId id="483" r:id="rId231"/>
    <p:sldId id="484" r:id="rId232"/>
    <p:sldId id="485" r:id="rId233"/>
    <p:sldId id="486" r:id="rId234"/>
    <p:sldId id="487" r:id="rId235"/>
    <p:sldId id="488" r:id="rId236"/>
    <p:sldId id="489" r:id="rId237"/>
    <p:sldId id="490" r:id="rId238"/>
    <p:sldId id="491" r:id="rId239"/>
    <p:sldId id="492" r:id="rId240"/>
    <p:sldId id="493" r:id="rId241"/>
    <p:sldId id="494" r:id="rId242"/>
    <p:sldId id="495" r:id="rId243"/>
    <p:sldId id="496" r:id="rId244"/>
    <p:sldId id="497" r:id="rId245"/>
    <p:sldId id="498" r:id="rId246"/>
    <p:sldId id="499" r:id="rId247"/>
    <p:sldId id="500" r:id="rId248"/>
    <p:sldId id="501" r:id="rId249"/>
    <p:sldId id="502" r:id="rId250"/>
    <p:sldId id="503" r:id="rId251"/>
    <p:sldId id="504" r:id="rId252"/>
    <p:sldId id="505" r:id="rId253"/>
    <p:sldId id="506" r:id="rId254"/>
    <p:sldId id="507" r:id="rId255"/>
    <p:sldId id="508" r:id="rId256"/>
    <p:sldId id="509" r:id="rId257"/>
    <p:sldId id="510" r:id="rId258"/>
    <p:sldId id="511" r:id="rId259"/>
    <p:sldId id="512" r:id="rId260"/>
    <p:sldId id="513" r:id="rId261"/>
    <p:sldId id="514" r:id="rId262"/>
    <p:sldId id="515" r:id="rId263"/>
    <p:sldId id="516" r:id="rId264"/>
    <p:sldId id="517" r:id="rId265"/>
    <p:sldId id="518" r:id="rId266"/>
    <p:sldId id="519" r:id="rId267"/>
    <p:sldId id="520" r:id="rId268"/>
    <p:sldId id="521" r:id="rId269"/>
    <p:sldId id="522" r:id="rId270"/>
    <p:sldId id="523" r:id="rId271"/>
    <p:sldId id="524" r:id="rId272"/>
    <p:sldId id="525" r:id="rId273"/>
    <p:sldId id="526" r:id="rId274"/>
    <p:sldId id="527" r:id="rId275"/>
    <p:sldId id="528" r:id="rId276"/>
    <p:sldId id="529" r:id="rId277"/>
    <p:sldId id="530" r:id="rId278"/>
    <p:sldId id="531" r:id="rId279"/>
    <p:sldId id="532" r:id="rId280"/>
    <p:sldId id="533" r:id="rId281"/>
    <p:sldId id="534" r:id="rId282"/>
    <p:sldId id="535" r:id="rId283"/>
    <p:sldId id="536" r:id="rId284"/>
    <p:sldId id="537" r:id="rId285"/>
    <p:sldId id="538" r:id="rId286"/>
    <p:sldId id="539" r:id="rId287"/>
    <p:sldId id="540" r:id="rId288"/>
    <p:sldId id="541" r:id="rId289"/>
    <p:sldId id="542" r:id="rId290"/>
    <p:sldId id="543" r:id="rId291"/>
    <p:sldId id="544" r:id="rId292"/>
    <p:sldId id="545" r:id="rId293"/>
    <p:sldId id="546" r:id="rId294"/>
    <p:sldId id="547" r:id="rId295"/>
    <p:sldId id="548" r:id="rId296"/>
    <p:sldId id="549" r:id="rId297"/>
    <p:sldId id="550" r:id="rId298"/>
    <p:sldId id="551" r:id="rId299"/>
    <p:sldId id="552" r:id="rId300"/>
    <p:sldId id="553" r:id="rId301"/>
    <p:sldId id="554" r:id="rId302"/>
    <p:sldId id="555" r:id="rId303"/>
    <p:sldId id="556" r:id="rId304"/>
    <p:sldId id="557" r:id="rId305"/>
    <p:sldId id="558" r:id="rId306"/>
    <p:sldId id="559" r:id="rId307"/>
    <p:sldId id="560" r:id="rId308"/>
    <p:sldId id="561" r:id="rId309"/>
    <p:sldId id="562" r:id="rId310"/>
    <p:sldId id="563" r:id="rId311"/>
    <p:sldId id="564" r:id="rId312"/>
    <p:sldId id="565" r:id="rId313"/>
    <p:sldId id="566" r:id="rId314"/>
    <p:sldId id="567" r:id="rId315"/>
    <p:sldId id="568" r:id="rId316"/>
    <p:sldId id="569" r:id="rId317"/>
    <p:sldId id="570" r:id="rId318"/>
    <p:sldId id="571" r:id="rId319"/>
    <p:sldId id="572" r:id="rId320"/>
    <p:sldId id="573" r:id="rId321"/>
    <p:sldId id="574" r:id="rId322"/>
    <p:sldId id="575" r:id="rId323"/>
    <p:sldId id="576" r:id="rId324"/>
    <p:sldId id="577" r:id="rId325"/>
    <p:sldId id="578" r:id="rId326"/>
    <p:sldId id="579" r:id="rId327"/>
    <p:sldId id="580" r:id="rId328"/>
    <p:sldId id="581" r:id="rId329"/>
    <p:sldId id="582" r:id="rId330"/>
    <p:sldId id="583" r:id="rId331"/>
    <p:sldId id="584" r:id="rId332"/>
    <p:sldId id="585" r:id="rId333"/>
    <p:sldId id="586" r:id="rId334"/>
    <p:sldId id="587" r:id="rId335"/>
    <p:sldId id="588" r:id="rId336"/>
    <p:sldId id="589" r:id="rId337"/>
    <p:sldId id="590" r:id="rId338"/>
    <p:sldId id="591" r:id="rId339"/>
    <p:sldId id="592" r:id="rId340"/>
    <p:sldId id="593" r:id="rId341"/>
    <p:sldId id="594" r:id="rId342"/>
    <p:sldId id="595" r:id="rId343"/>
    <p:sldId id="596" r:id="rId344"/>
    <p:sldId id="597" r:id="rId345"/>
    <p:sldId id="598" r:id="rId346"/>
    <p:sldId id="599" r:id="rId347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slide" Target="slides/slide119.xml"/><Relationship Id="rId123" Type="http://schemas.openxmlformats.org/officeDocument/2006/relationships/slide" Target="slides/slide120.xml"/><Relationship Id="rId124" Type="http://schemas.openxmlformats.org/officeDocument/2006/relationships/slide" Target="slides/slide121.xml"/><Relationship Id="rId125" Type="http://schemas.openxmlformats.org/officeDocument/2006/relationships/slide" Target="slides/slide122.xml"/><Relationship Id="rId126" Type="http://schemas.openxmlformats.org/officeDocument/2006/relationships/slide" Target="slides/slide123.xml"/><Relationship Id="rId127" Type="http://schemas.openxmlformats.org/officeDocument/2006/relationships/slide" Target="slides/slide124.xml"/><Relationship Id="rId128" Type="http://schemas.openxmlformats.org/officeDocument/2006/relationships/slide" Target="slides/slide125.xml"/><Relationship Id="rId129" Type="http://schemas.openxmlformats.org/officeDocument/2006/relationships/slide" Target="slides/slide126.xml"/><Relationship Id="rId130" Type="http://schemas.openxmlformats.org/officeDocument/2006/relationships/slide" Target="slides/slide127.xml"/><Relationship Id="rId131" Type="http://schemas.openxmlformats.org/officeDocument/2006/relationships/slide" Target="slides/slide128.xml"/><Relationship Id="rId132" Type="http://schemas.openxmlformats.org/officeDocument/2006/relationships/slide" Target="slides/slide129.xml"/><Relationship Id="rId133" Type="http://schemas.openxmlformats.org/officeDocument/2006/relationships/slide" Target="slides/slide130.xml"/><Relationship Id="rId134" Type="http://schemas.openxmlformats.org/officeDocument/2006/relationships/slide" Target="slides/slide131.xml"/><Relationship Id="rId135" Type="http://schemas.openxmlformats.org/officeDocument/2006/relationships/slide" Target="slides/slide132.xml"/><Relationship Id="rId136" Type="http://schemas.openxmlformats.org/officeDocument/2006/relationships/slide" Target="slides/slide133.xml"/><Relationship Id="rId137" Type="http://schemas.openxmlformats.org/officeDocument/2006/relationships/slide" Target="slides/slide134.xml"/><Relationship Id="rId138" Type="http://schemas.openxmlformats.org/officeDocument/2006/relationships/slide" Target="slides/slide135.xml"/><Relationship Id="rId139" Type="http://schemas.openxmlformats.org/officeDocument/2006/relationships/slide" Target="slides/slide136.xml"/><Relationship Id="rId140" Type="http://schemas.openxmlformats.org/officeDocument/2006/relationships/slide" Target="slides/slide137.xml"/><Relationship Id="rId141" Type="http://schemas.openxmlformats.org/officeDocument/2006/relationships/slide" Target="slides/slide138.xml"/><Relationship Id="rId142" Type="http://schemas.openxmlformats.org/officeDocument/2006/relationships/slide" Target="slides/slide139.xml"/><Relationship Id="rId143" Type="http://schemas.openxmlformats.org/officeDocument/2006/relationships/slide" Target="slides/slide140.xml"/><Relationship Id="rId144" Type="http://schemas.openxmlformats.org/officeDocument/2006/relationships/slide" Target="slides/slide141.xml"/><Relationship Id="rId145" Type="http://schemas.openxmlformats.org/officeDocument/2006/relationships/slide" Target="slides/slide142.xml"/><Relationship Id="rId146" Type="http://schemas.openxmlformats.org/officeDocument/2006/relationships/slide" Target="slides/slide143.xml"/><Relationship Id="rId147" Type="http://schemas.openxmlformats.org/officeDocument/2006/relationships/slide" Target="slides/slide144.xml"/><Relationship Id="rId148" Type="http://schemas.openxmlformats.org/officeDocument/2006/relationships/slide" Target="slides/slide145.xml"/><Relationship Id="rId149" Type="http://schemas.openxmlformats.org/officeDocument/2006/relationships/slide" Target="slides/slide146.xml"/><Relationship Id="rId150" Type="http://schemas.openxmlformats.org/officeDocument/2006/relationships/slide" Target="slides/slide147.xml"/><Relationship Id="rId151" Type="http://schemas.openxmlformats.org/officeDocument/2006/relationships/slide" Target="slides/slide148.xml"/><Relationship Id="rId152" Type="http://schemas.openxmlformats.org/officeDocument/2006/relationships/slide" Target="slides/slide149.xml"/><Relationship Id="rId153" Type="http://schemas.openxmlformats.org/officeDocument/2006/relationships/slide" Target="slides/slide150.xml"/><Relationship Id="rId154" Type="http://schemas.openxmlformats.org/officeDocument/2006/relationships/slide" Target="slides/slide151.xml"/><Relationship Id="rId155" Type="http://schemas.openxmlformats.org/officeDocument/2006/relationships/slide" Target="slides/slide152.xml"/><Relationship Id="rId156" Type="http://schemas.openxmlformats.org/officeDocument/2006/relationships/slide" Target="slides/slide153.xml"/><Relationship Id="rId157" Type="http://schemas.openxmlformats.org/officeDocument/2006/relationships/slide" Target="slides/slide154.xml"/><Relationship Id="rId158" Type="http://schemas.openxmlformats.org/officeDocument/2006/relationships/slide" Target="slides/slide155.xml"/><Relationship Id="rId159" Type="http://schemas.openxmlformats.org/officeDocument/2006/relationships/slide" Target="slides/slide156.xml"/><Relationship Id="rId160" Type="http://schemas.openxmlformats.org/officeDocument/2006/relationships/slide" Target="slides/slide157.xml"/><Relationship Id="rId161" Type="http://schemas.openxmlformats.org/officeDocument/2006/relationships/slide" Target="slides/slide158.xml"/><Relationship Id="rId162" Type="http://schemas.openxmlformats.org/officeDocument/2006/relationships/slide" Target="slides/slide159.xml"/><Relationship Id="rId163" Type="http://schemas.openxmlformats.org/officeDocument/2006/relationships/slide" Target="slides/slide160.xml"/><Relationship Id="rId164" Type="http://schemas.openxmlformats.org/officeDocument/2006/relationships/slide" Target="slides/slide161.xml"/><Relationship Id="rId165" Type="http://schemas.openxmlformats.org/officeDocument/2006/relationships/slide" Target="slides/slide162.xml"/><Relationship Id="rId166" Type="http://schemas.openxmlformats.org/officeDocument/2006/relationships/slide" Target="slides/slide163.xml"/><Relationship Id="rId167" Type="http://schemas.openxmlformats.org/officeDocument/2006/relationships/slide" Target="slides/slide164.xml"/><Relationship Id="rId168" Type="http://schemas.openxmlformats.org/officeDocument/2006/relationships/slide" Target="slides/slide165.xml"/><Relationship Id="rId169" Type="http://schemas.openxmlformats.org/officeDocument/2006/relationships/slide" Target="slides/slide166.xml"/><Relationship Id="rId170" Type="http://schemas.openxmlformats.org/officeDocument/2006/relationships/slide" Target="slides/slide167.xml"/><Relationship Id="rId171" Type="http://schemas.openxmlformats.org/officeDocument/2006/relationships/slide" Target="slides/slide168.xml"/><Relationship Id="rId172" Type="http://schemas.openxmlformats.org/officeDocument/2006/relationships/slide" Target="slides/slide169.xml"/><Relationship Id="rId173" Type="http://schemas.openxmlformats.org/officeDocument/2006/relationships/slide" Target="slides/slide170.xml"/><Relationship Id="rId174" Type="http://schemas.openxmlformats.org/officeDocument/2006/relationships/slide" Target="slides/slide171.xml"/><Relationship Id="rId175" Type="http://schemas.openxmlformats.org/officeDocument/2006/relationships/slide" Target="slides/slide172.xml"/><Relationship Id="rId176" Type="http://schemas.openxmlformats.org/officeDocument/2006/relationships/slide" Target="slides/slide173.xml"/><Relationship Id="rId177" Type="http://schemas.openxmlformats.org/officeDocument/2006/relationships/slide" Target="slides/slide174.xml"/><Relationship Id="rId178" Type="http://schemas.openxmlformats.org/officeDocument/2006/relationships/slide" Target="slides/slide175.xml"/><Relationship Id="rId179" Type="http://schemas.openxmlformats.org/officeDocument/2006/relationships/slide" Target="slides/slide176.xml"/><Relationship Id="rId180" Type="http://schemas.openxmlformats.org/officeDocument/2006/relationships/slide" Target="slides/slide177.xml"/><Relationship Id="rId181" Type="http://schemas.openxmlformats.org/officeDocument/2006/relationships/slide" Target="slides/slide178.xml"/><Relationship Id="rId182" Type="http://schemas.openxmlformats.org/officeDocument/2006/relationships/slide" Target="slides/slide179.xml"/><Relationship Id="rId183" Type="http://schemas.openxmlformats.org/officeDocument/2006/relationships/slide" Target="slides/slide180.xml"/><Relationship Id="rId184" Type="http://schemas.openxmlformats.org/officeDocument/2006/relationships/slide" Target="slides/slide181.xml"/><Relationship Id="rId185" Type="http://schemas.openxmlformats.org/officeDocument/2006/relationships/slide" Target="slides/slide182.xml"/><Relationship Id="rId186" Type="http://schemas.openxmlformats.org/officeDocument/2006/relationships/slide" Target="slides/slide183.xml"/><Relationship Id="rId187" Type="http://schemas.openxmlformats.org/officeDocument/2006/relationships/slide" Target="slides/slide184.xml"/><Relationship Id="rId188" Type="http://schemas.openxmlformats.org/officeDocument/2006/relationships/slide" Target="slides/slide185.xml"/><Relationship Id="rId189" Type="http://schemas.openxmlformats.org/officeDocument/2006/relationships/slide" Target="slides/slide186.xml"/><Relationship Id="rId190" Type="http://schemas.openxmlformats.org/officeDocument/2006/relationships/slide" Target="slides/slide187.xml"/><Relationship Id="rId191" Type="http://schemas.openxmlformats.org/officeDocument/2006/relationships/slide" Target="slides/slide188.xml"/><Relationship Id="rId192" Type="http://schemas.openxmlformats.org/officeDocument/2006/relationships/slide" Target="slides/slide189.xml"/><Relationship Id="rId193" Type="http://schemas.openxmlformats.org/officeDocument/2006/relationships/slide" Target="slides/slide190.xml"/><Relationship Id="rId194" Type="http://schemas.openxmlformats.org/officeDocument/2006/relationships/slide" Target="slides/slide191.xml"/><Relationship Id="rId195" Type="http://schemas.openxmlformats.org/officeDocument/2006/relationships/slide" Target="slides/slide192.xml"/><Relationship Id="rId196" Type="http://schemas.openxmlformats.org/officeDocument/2006/relationships/slide" Target="slides/slide193.xml"/><Relationship Id="rId197" Type="http://schemas.openxmlformats.org/officeDocument/2006/relationships/slide" Target="slides/slide194.xml"/><Relationship Id="rId198" Type="http://schemas.openxmlformats.org/officeDocument/2006/relationships/slide" Target="slides/slide195.xml"/><Relationship Id="rId199" Type="http://schemas.openxmlformats.org/officeDocument/2006/relationships/slide" Target="slides/slide196.xml"/><Relationship Id="rId200" Type="http://schemas.openxmlformats.org/officeDocument/2006/relationships/slide" Target="slides/slide197.xml"/><Relationship Id="rId201" Type="http://schemas.openxmlformats.org/officeDocument/2006/relationships/slide" Target="slides/slide198.xml"/><Relationship Id="rId202" Type="http://schemas.openxmlformats.org/officeDocument/2006/relationships/slide" Target="slides/slide199.xml"/><Relationship Id="rId203" Type="http://schemas.openxmlformats.org/officeDocument/2006/relationships/slide" Target="slides/slide200.xml"/><Relationship Id="rId204" Type="http://schemas.openxmlformats.org/officeDocument/2006/relationships/slide" Target="slides/slide201.xml"/><Relationship Id="rId205" Type="http://schemas.openxmlformats.org/officeDocument/2006/relationships/slide" Target="slides/slide202.xml"/><Relationship Id="rId206" Type="http://schemas.openxmlformats.org/officeDocument/2006/relationships/slide" Target="slides/slide203.xml"/><Relationship Id="rId207" Type="http://schemas.openxmlformats.org/officeDocument/2006/relationships/slide" Target="slides/slide204.xml"/><Relationship Id="rId208" Type="http://schemas.openxmlformats.org/officeDocument/2006/relationships/slide" Target="slides/slide205.xml"/><Relationship Id="rId209" Type="http://schemas.openxmlformats.org/officeDocument/2006/relationships/slide" Target="slides/slide206.xml"/><Relationship Id="rId210" Type="http://schemas.openxmlformats.org/officeDocument/2006/relationships/slide" Target="slides/slide207.xml"/><Relationship Id="rId211" Type="http://schemas.openxmlformats.org/officeDocument/2006/relationships/slide" Target="slides/slide208.xml"/><Relationship Id="rId212" Type="http://schemas.openxmlformats.org/officeDocument/2006/relationships/slide" Target="slides/slide209.xml"/><Relationship Id="rId213" Type="http://schemas.openxmlformats.org/officeDocument/2006/relationships/slide" Target="slides/slide210.xml"/><Relationship Id="rId214" Type="http://schemas.openxmlformats.org/officeDocument/2006/relationships/slide" Target="slides/slide211.xml"/><Relationship Id="rId215" Type="http://schemas.openxmlformats.org/officeDocument/2006/relationships/slide" Target="slides/slide212.xml"/><Relationship Id="rId216" Type="http://schemas.openxmlformats.org/officeDocument/2006/relationships/slide" Target="slides/slide213.xml"/><Relationship Id="rId217" Type="http://schemas.openxmlformats.org/officeDocument/2006/relationships/slide" Target="slides/slide214.xml"/><Relationship Id="rId218" Type="http://schemas.openxmlformats.org/officeDocument/2006/relationships/slide" Target="slides/slide215.xml"/><Relationship Id="rId219" Type="http://schemas.openxmlformats.org/officeDocument/2006/relationships/slide" Target="slides/slide216.xml"/><Relationship Id="rId220" Type="http://schemas.openxmlformats.org/officeDocument/2006/relationships/slide" Target="slides/slide217.xml"/><Relationship Id="rId221" Type="http://schemas.openxmlformats.org/officeDocument/2006/relationships/slide" Target="slides/slide218.xml"/><Relationship Id="rId222" Type="http://schemas.openxmlformats.org/officeDocument/2006/relationships/slide" Target="slides/slide219.xml"/><Relationship Id="rId223" Type="http://schemas.openxmlformats.org/officeDocument/2006/relationships/slide" Target="slides/slide220.xml"/><Relationship Id="rId224" Type="http://schemas.openxmlformats.org/officeDocument/2006/relationships/slide" Target="slides/slide221.xml"/><Relationship Id="rId225" Type="http://schemas.openxmlformats.org/officeDocument/2006/relationships/slide" Target="slides/slide222.xml"/><Relationship Id="rId226" Type="http://schemas.openxmlformats.org/officeDocument/2006/relationships/slide" Target="slides/slide223.xml"/><Relationship Id="rId227" Type="http://schemas.openxmlformats.org/officeDocument/2006/relationships/slide" Target="slides/slide224.xml"/><Relationship Id="rId228" Type="http://schemas.openxmlformats.org/officeDocument/2006/relationships/slide" Target="slides/slide225.xml"/><Relationship Id="rId229" Type="http://schemas.openxmlformats.org/officeDocument/2006/relationships/slide" Target="slides/slide226.xml"/><Relationship Id="rId230" Type="http://schemas.openxmlformats.org/officeDocument/2006/relationships/slide" Target="slides/slide227.xml"/><Relationship Id="rId231" Type="http://schemas.openxmlformats.org/officeDocument/2006/relationships/slide" Target="slides/slide228.xml"/><Relationship Id="rId232" Type="http://schemas.openxmlformats.org/officeDocument/2006/relationships/slide" Target="slides/slide229.xml"/><Relationship Id="rId233" Type="http://schemas.openxmlformats.org/officeDocument/2006/relationships/slide" Target="slides/slide230.xml"/><Relationship Id="rId234" Type="http://schemas.openxmlformats.org/officeDocument/2006/relationships/slide" Target="slides/slide231.xml"/><Relationship Id="rId235" Type="http://schemas.openxmlformats.org/officeDocument/2006/relationships/slide" Target="slides/slide232.xml"/><Relationship Id="rId236" Type="http://schemas.openxmlformats.org/officeDocument/2006/relationships/slide" Target="slides/slide233.xml"/><Relationship Id="rId237" Type="http://schemas.openxmlformats.org/officeDocument/2006/relationships/slide" Target="slides/slide234.xml"/><Relationship Id="rId238" Type="http://schemas.openxmlformats.org/officeDocument/2006/relationships/slide" Target="slides/slide235.xml"/><Relationship Id="rId239" Type="http://schemas.openxmlformats.org/officeDocument/2006/relationships/slide" Target="slides/slide236.xml"/><Relationship Id="rId240" Type="http://schemas.openxmlformats.org/officeDocument/2006/relationships/slide" Target="slides/slide237.xml"/><Relationship Id="rId241" Type="http://schemas.openxmlformats.org/officeDocument/2006/relationships/slide" Target="slides/slide238.xml"/><Relationship Id="rId242" Type="http://schemas.openxmlformats.org/officeDocument/2006/relationships/slide" Target="slides/slide239.xml"/><Relationship Id="rId243" Type="http://schemas.openxmlformats.org/officeDocument/2006/relationships/slide" Target="slides/slide240.xml"/><Relationship Id="rId244" Type="http://schemas.openxmlformats.org/officeDocument/2006/relationships/slide" Target="slides/slide241.xml"/><Relationship Id="rId245" Type="http://schemas.openxmlformats.org/officeDocument/2006/relationships/slide" Target="slides/slide242.xml"/><Relationship Id="rId246" Type="http://schemas.openxmlformats.org/officeDocument/2006/relationships/slide" Target="slides/slide243.xml"/><Relationship Id="rId247" Type="http://schemas.openxmlformats.org/officeDocument/2006/relationships/slide" Target="slides/slide244.xml"/><Relationship Id="rId248" Type="http://schemas.openxmlformats.org/officeDocument/2006/relationships/slide" Target="slides/slide245.xml"/><Relationship Id="rId249" Type="http://schemas.openxmlformats.org/officeDocument/2006/relationships/slide" Target="slides/slide246.xml"/><Relationship Id="rId250" Type="http://schemas.openxmlformats.org/officeDocument/2006/relationships/slide" Target="slides/slide247.xml"/><Relationship Id="rId251" Type="http://schemas.openxmlformats.org/officeDocument/2006/relationships/slide" Target="slides/slide248.xml"/><Relationship Id="rId252" Type="http://schemas.openxmlformats.org/officeDocument/2006/relationships/slide" Target="slides/slide249.xml"/><Relationship Id="rId253" Type="http://schemas.openxmlformats.org/officeDocument/2006/relationships/slide" Target="slides/slide250.xml"/><Relationship Id="rId254" Type="http://schemas.openxmlformats.org/officeDocument/2006/relationships/slide" Target="slides/slide251.xml"/><Relationship Id="rId255" Type="http://schemas.openxmlformats.org/officeDocument/2006/relationships/slide" Target="slides/slide252.xml"/><Relationship Id="rId256" Type="http://schemas.openxmlformats.org/officeDocument/2006/relationships/slide" Target="slides/slide253.xml"/><Relationship Id="rId257" Type="http://schemas.openxmlformats.org/officeDocument/2006/relationships/slide" Target="slides/slide254.xml"/><Relationship Id="rId258" Type="http://schemas.openxmlformats.org/officeDocument/2006/relationships/slide" Target="slides/slide255.xml"/><Relationship Id="rId259" Type="http://schemas.openxmlformats.org/officeDocument/2006/relationships/slide" Target="slides/slide256.xml"/><Relationship Id="rId260" Type="http://schemas.openxmlformats.org/officeDocument/2006/relationships/slide" Target="slides/slide257.xml"/><Relationship Id="rId261" Type="http://schemas.openxmlformats.org/officeDocument/2006/relationships/slide" Target="slides/slide258.xml"/><Relationship Id="rId262" Type="http://schemas.openxmlformats.org/officeDocument/2006/relationships/slide" Target="slides/slide259.xml"/><Relationship Id="rId263" Type="http://schemas.openxmlformats.org/officeDocument/2006/relationships/slide" Target="slides/slide260.xml"/><Relationship Id="rId264" Type="http://schemas.openxmlformats.org/officeDocument/2006/relationships/slide" Target="slides/slide261.xml"/><Relationship Id="rId265" Type="http://schemas.openxmlformats.org/officeDocument/2006/relationships/slide" Target="slides/slide262.xml"/><Relationship Id="rId266" Type="http://schemas.openxmlformats.org/officeDocument/2006/relationships/slide" Target="slides/slide263.xml"/><Relationship Id="rId267" Type="http://schemas.openxmlformats.org/officeDocument/2006/relationships/slide" Target="slides/slide264.xml"/><Relationship Id="rId268" Type="http://schemas.openxmlformats.org/officeDocument/2006/relationships/slide" Target="slides/slide265.xml"/><Relationship Id="rId269" Type="http://schemas.openxmlformats.org/officeDocument/2006/relationships/slide" Target="slides/slide266.xml"/><Relationship Id="rId270" Type="http://schemas.openxmlformats.org/officeDocument/2006/relationships/slide" Target="slides/slide267.xml"/><Relationship Id="rId271" Type="http://schemas.openxmlformats.org/officeDocument/2006/relationships/slide" Target="slides/slide268.xml"/><Relationship Id="rId272" Type="http://schemas.openxmlformats.org/officeDocument/2006/relationships/slide" Target="slides/slide269.xml"/><Relationship Id="rId273" Type="http://schemas.openxmlformats.org/officeDocument/2006/relationships/slide" Target="slides/slide270.xml"/><Relationship Id="rId274" Type="http://schemas.openxmlformats.org/officeDocument/2006/relationships/slide" Target="slides/slide271.xml"/><Relationship Id="rId275" Type="http://schemas.openxmlformats.org/officeDocument/2006/relationships/slide" Target="slides/slide272.xml"/><Relationship Id="rId276" Type="http://schemas.openxmlformats.org/officeDocument/2006/relationships/slide" Target="slides/slide273.xml"/><Relationship Id="rId277" Type="http://schemas.openxmlformats.org/officeDocument/2006/relationships/slide" Target="slides/slide274.xml"/><Relationship Id="rId278" Type="http://schemas.openxmlformats.org/officeDocument/2006/relationships/slide" Target="slides/slide275.xml"/><Relationship Id="rId279" Type="http://schemas.openxmlformats.org/officeDocument/2006/relationships/slide" Target="slides/slide276.xml"/><Relationship Id="rId280" Type="http://schemas.openxmlformats.org/officeDocument/2006/relationships/slide" Target="slides/slide277.xml"/><Relationship Id="rId281" Type="http://schemas.openxmlformats.org/officeDocument/2006/relationships/slide" Target="slides/slide278.xml"/><Relationship Id="rId282" Type="http://schemas.openxmlformats.org/officeDocument/2006/relationships/slide" Target="slides/slide279.xml"/><Relationship Id="rId283" Type="http://schemas.openxmlformats.org/officeDocument/2006/relationships/slide" Target="slides/slide280.xml"/><Relationship Id="rId284" Type="http://schemas.openxmlformats.org/officeDocument/2006/relationships/slide" Target="slides/slide281.xml"/><Relationship Id="rId285" Type="http://schemas.openxmlformats.org/officeDocument/2006/relationships/slide" Target="slides/slide282.xml"/><Relationship Id="rId286" Type="http://schemas.openxmlformats.org/officeDocument/2006/relationships/slide" Target="slides/slide283.xml"/><Relationship Id="rId287" Type="http://schemas.openxmlformats.org/officeDocument/2006/relationships/slide" Target="slides/slide284.xml"/><Relationship Id="rId288" Type="http://schemas.openxmlformats.org/officeDocument/2006/relationships/slide" Target="slides/slide285.xml"/><Relationship Id="rId289" Type="http://schemas.openxmlformats.org/officeDocument/2006/relationships/slide" Target="slides/slide286.xml"/><Relationship Id="rId290" Type="http://schemas.openxmlformats.org/officeDocument/2006/relationships/slide" Target="slides/slide287.xml"/><Relationship Id="rId291" Type="http://schemas.openxmlformats.org/officeDocument/2006/relationships/slide" Target="slides/slide288.xml"/><Relationship Id="rId292" Type="http://schemas.openxmlformats.org/officeDocument/2006/relationships/slide" Target="slides/slide289.xml"/><Relationship Id="rId293" Type="http://schemas.openxmlformats.org/officeDocument/2006/relationships/slide" Target="slides/slide290.xml"/><Relationship Id="rId294" Type="http://schemas.openxmlformats.org/officeDocument/2006/relationships/slide" Target="slides/slide291.xml"/><Relationship Id="rId295" Type="http://schemas.openxmlformats.org/officeDocument/2006/relationships/slide" Target="slides/slide292.xml"/><Relationship Id="rId296" Type="http://schemas.openxmlformats.org/officeDocument/2006/relationships/slide" Target="slides/slide293.xml"/><Relationship Id="rId297" Type="http://schemas.openxmlformats.org/officeDocument/2006/relationships/slide" Target="slides/slide294.xml"/><Relationship Id="rId298" Type="http://schemas.openxmlformats.org/officeDocument/2006/relationships/slide" Target="slides/slide295.xml"/><Relationship Id="rId299" Type="http://schemas.openxmlformats.org/officeDocument/2006/relationships/slide" Target="slides/slide296.xml"/><Relationship Id="rId300" Type="http://schemas.openxmlformats.org/officeDocument/2006/relationships/slide" Target="slides/slide297.xml"/><Relationship Id="rId301" Type="http://schemas.openxmlformats.org/officeDocument/2006/relationships/slide" Target="slides/slide298.xml"/><Relationship Id="rId302" Type="http://schemas.openxmlformats.org/officeDocument/2006/relationships/slide" Target="slides/slide299.xml"/><Relationship Id="rId303" Type="http://schemas.openxmlformats.org/officeDocument/2006/relationships/slide" Target="slides/slide300.xml"/><Relationship Id="rId304" Type="http://schemas.openxmlformats.org/officeDocument/2006/relationships/slide" Target="slides/slide301.xml"/><Relationship Id="rId305" Type="http://schemas.openxmlformats.org/officeDocument/2006/relationships/slide" Target="slides/slide302.xml"/><Relationship Id="rId306" Type="http://schemas.openxmlformats.org/officeDocument/2006/relationships/slide" Target="slides/slide303.xml"/><Relationship Id="rId307" Type="http://schemas.openxmlformats.org/officeDocument/2006/relationships/slide" Target="slides/slide304.xml"/><Relationship Id="rId308" Type="http://schemas.openxmlformats.org/officeDocument/2006/relationships/slide" Target="slides/slide305.xml"/><Relationship Id="rId309" Type="http://schemas.openxmlformats.org/officeDocument/2006/relationships/slide" Target="slides/slide306.xml"/><Relationship Id="rId310" Type="http://schemas.openxmlformats.org/officeDocument/2006/relationships/slide" Target="slides/slide307.xml"/><Relationship Id="rId311" Type="http://schemas.openxmlformats.org/officeDocument/2006/relationships/slide" Target="slides/slide308.xml"/><Relationship Id="rId312" Type="http://schemas.openxmlformats.org/officeDocument/2006/relationships/slide" Target="slides/slide309.xml"/><Relationship Id="rId313" Type="http://schemas.openxmlformats.org/officeDocument/2006/relationships/slide" Target="slides/slide310.xml"/><Relationship Id="rId314" Type="http://schemas.openxmlformats.org/officeDocument/2006/relationships/slide" Target="slides/slide311.xml"/><Relationship Id="rId315" Type="http://schemas.openxmlformats.org/officeDocument/2006/relationships/slide" Target="slides/slide312.xml"/><Relationship Id="rId316" Type="http://schemas.openxmlformats.org/officeDocument/2006/relationships/slide" Target="slides/slide313.xml"/><Relationship Id="rId317" Type="http://schemas.openxmlformats.org/officeDocument/2006/relationships/slide" Target="slides/slide314.xml"/><Relationship Id="rId318" Type="http://schemas.openxmlformats.org/officeDocument/2006/relationships/slide" Target="slides/slide315.xml"/><Relationship Id="rId319" Type="http://schemas.openxmlformats.org/officeDocument/2006/relationships/slide" Target="slides/slide316.xml"/><Relationship Id="rId320" Type="http://schemas.openxmlformats.org/officeDocument/2006/relationships/slide" Target="slides/slide317.xml"/><Relationship Id="rId321" Type="http://schemas.openxmlformats.org/officeDocument/2006/relationships/slide" Target="slides/slide318.xml"/><Relationship Id="rId322" Type="http://schemas.openxmlformats.org/officeDocument/2006/relationships/slide" Target="slides/slide319.xml"/><Relationship Id="rId323" Type="http://schemas.openxmlformats.org/officeDocument/2006/relationships/slide" Target="slides/slide320.xml"/><Relationship Id="rId324" Type="http://schemas.openxmlformats.org/officeDocument/2006/relationships/slide" Target="slides/slide321.xml"/><Relationship Id="rId325" Type="http://schemas.openxmlformats.org/officeDocument/2006/relationships/slide" Target="slides/slide322.xml"/><Relationship Id="rId326" Type="http://schemas.openxmlformats.org/officeDocument/2006/relationships/slide" Target="slides/slide323.xml"/><Relationship Id="rId327" Type="http://schemas.openxmlformats.org/officeDocument/2006/relationships/slide" Target="slides/slide324.xml"/><Relationship Id="rId328" Type="http://schemas.openxmlformats.org/officeDocument/2006/relationships/slide" Target="slides/slide325.xml"/><Relationship Id="rId329" Type="http://schemas.openxmlformats.org/officeDocument/2006/relationships/slide" Target="slides/slide326.xml"/><Relationship Id="rId330" Type="http://schemas.openxmlformats.org/officeDocument/2006/relationships/slide" Target="slides/slide327.xml"/><Relationship Id="rId331" Type="http://schemas.openxmlformats.org/officeDocument/2006/relationships/slide" Target="slides/slide328.xml"/><Relationship Id="rId332" Type="http://schemas.openxmlformats.org/officeDocument/2006/relationships/slide" Target="slides/slide329.xml"/><Relationship Id="rId333" Type="http://schemas.openxmlformats.org/officeDocument/2006/relationships/slide" Target="slides/slide330.xml"/><Relationship Id="rId334" Type="http://schemas.openxmlformats.org/officeDocument/2006/relationships/slide" Target="slides/slide331.xml"/><Relationship Id="rId335" Type="http://schemas.openxmlformats.org/officeDocument/2006/relationships/slide" Target="slides/slide332.xml"/><Relationship Id="rId336" Type="http://schemas.openxmlformats.org/officeDocument/2006/relationships/slide" Target="slides/slide333.xml"/><Relationship Id="rId337" Type="http://schemas.openxmlformats.org/officeDocument/2006/relationships/slide" Target="slides/slide334.xml"/><Relationship Id="rId338" Type="http://schemas.openxmlformats.org/officeDocument/2006/relationships/slide" Target="slides/slide335.xml"/><Relationship Id="rId339" Type="http://schemas.openxmlformats.org/officeDocument/2006/relationships/slide" Target="slides/slide336.xml"/><Relationship Id="rId340" Type="http://schemas.openxmlformats.org/officeDocument/2006/relationships/slide" Target="slides/slide337.xml"/><Relationship Id="rId341" Type="http://schemas.openxmlformats.org/officeDocument/2006/relationships/slide" Target="slides/slide338.xml"/><Relationship Id="rId342" Type="http://schemas.openxmlformats.org/officeDocument/2006/relationships/slide" Target="slides/slide339.xml"/><Relationship Id="rId343" Type="http://schemas.openxmlformats.org/officeDocument/2006/relationships/slide" Target="slides/slide340.xml"/><Relationship Id="rId344" Type="http://schemas.openxmlformats.org/officeDocument/2006/relationships/slide" Target="slides/slide341.xml"/><Relationship Id="rId345" Type="http://schemas.openxmlformats.org/officeDocument/2006/relationships/slide" Target="slides/slide342.xml"/><Relationship Id="rId346" Type="http://schemas.openxmlformats.org/officeDocument/2006/relationships/slide" Target="slides/slide343.xml"/><Relationship Id="rId347" Type="http://schemas.openxmlformats.org/officeDocument/2006/relationships/slide" Target="slides/slide344.xml"/><Relationship Id="rId3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241720" y="685440"/>
            <a:ext cx="237456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C8E74-C6FE-4F2C-9EA9-72688C2E1CC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0.xml.rels><?xml version="1.0" encoding="UTF-8"?>
<Relationships xmlns="http://schemas.openxmlformats.org/package/2006/relationships"><Relationship Id="rId1" Type="http://schemas.openxmlformats.org/officeDocument/2006/relationships/slide" Target="../slides/slide100.xml"/><Relationship Id="rId2" Type="http://schemas.openxmlformats.org/officeDocument/2006/relationships/notesMaster" Target="../notesMasters/notesMaster1.xml"/>
</Relationships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_rels/notesSlide102.xml.rels><?xml version="1.0" encoding="UTF-8"?>
<Relationships xmlns="http://schemas.openxmlformats.org/package/2006/relationships"><Relationship Id="rId1" Type="http://schemas.openxmlformats.org/officeDocument/2006/relationships/slide" Target="../slides/slide102.xml"/><Relationship Id="rId2" Type="http://schemas.openxmlformats.org/officeDocument/2006/relationships/notesMaster" Target="../notesMasters/notesMaster1.xml"/>
</Relationships>
</file>

<file path=ppt/notesSlides/_rels/notesSlide103.xml.rels><?xml version="1.0" encoding="UTF-8"?>
<Relationships xmlns="http://schemas.openxmlformats.org/package/2006/relationships"><Relationship Id="rId1" Type="http://schemas.openxmlformats.org/officeDocument/2006/relationships/slide" Target="../slides/slide103.xml"/><Relationship Id="rId2" Type="http://schemas.openxmlformats.org/officeDocument/2006/relationships/notesMaster" Target="../notesMasters/notesMaster1.xml"/>
</Relationships>
</file>

<file path=ppt/notesSlides/_rels/notesSlide104.xml.rels><?xml version="1.0" encoding="UTF-8"?>
<Relationships xmlns="http://schemas.openxmlformats.org/package/2006/relationships"><Relationship Id="rId1" Type="http://schemas.openxmlformats.org/officeDocument/2006/relationships/slide" Target="../slides/slide104.xml"/><Relationship Id="rId2" Type="http://schemas.openxmlformats.org/officeDocument/2006/relationships/notesMaster" Target="../notesMasters/notesMaster1.xml"/>
</Relationships>
</file>

<file path=ppt/notesSlides/_rels/notesSlide105.xml.rels><?xml version="1.0" encoding="UTF-8"?>
<Relationships xmlns="http://schemas.openxmlformats.org/package/2006/relationships"><Relationship Id="rId1" Type="http://schemas.openxmlformats.org/officeDocument/2006/relationships/slide" Target="../slides/slide105.xml"/><Relationship Id="rId2" Type="http://schemas.openxmlformats.org/officeDocument/2006/relationships/notesMaster" Target="../notesMasters/notesMaster1.xml"/>
</Relationships>
</file>

<file path=ppt/notesSlides/_rels/notesSlide106.xml.rels><?xml version="1.0" encoding="UTF-8"?>
<Relationships xmlns="http://schemas.openxmlformats.org/package/2006/relationships"><Relationship Id="rId1" Type="http://schemas.openxmlformats.org/officeDocument/2006/relationships/slide" Target="../slides/slide106.xml"/><Relationship Id="rId2" Type="http://schemas.openxmlformats.org/officeDocument/2006/relationships/notesMaster" Target="../notesMasters/notesMaster1.xml"/>
</Relationships>
</file>

<file path=ppt/notesSlides/_rels/notesSlide107.xml.rels><?xml version="1.0" encoding="UTF-8"?>
<Relationships xmlns="http://schemas.openxmlformats.org/package/2006/relationships"><Relationship Id="rId1" Type="http://schemas.openxmlformats.org/officeDocument/2006/relationships/slide" Target="../slides/slide107.xml"/><Relationship Id="rId2" Type="http://schemas.openxmlformats.org/officeDocument/2006/relationships/notesMaster" Target="../notesMasters/notesMaster1.xml"/>
</Relationships>
</file>

<file path=ppt/notesSlides/_rels/notesSlide108.xml.rels><?xml version="1.0" encoding="UTF-8"?>
<Relationships xmlns="http://schemas.openxmlformats.org/package/2006/relationships"><Relationship Id="rId1" Type="http://schemas.openxmlformats.org/officeDocument/2006/relationships/slide" Target="../slides/slide108.xml"/><Relationship Id="rId2" Type="http://schemas.openxmlformats.org/officeDocument/2006/relationships/notesMaster" Target="../notesMasters/notesMaster1.xml"/>
</Relationships>
</file>

<file path=ppt/notesSlides/_rels/notesSlide109.xml.rels><?xml version="1.0" encoding="UTF-8"?>
<Relationships xmlns="http://schemas.openxmlformats.org/package/2006/relationships"><Relationship Id="rId1" Type="http://schemas.openxmlformats.org/officeDocument/2006/relationships/slide" Target="../slides/slide109.xml"/><Relationship Id="rId2" Type="http://schemas.openxmlformats.org/officeDocument/2006/relationships/notesMaster" Target="../notesMasters/notesMaster1.xml"/>
</Relationships>
</file>

<file path=ppt/notesSlides/_rels/notesSlide110.xml.rels><?xml version="1.0" encoding="UTF-8"?>
<Relationships xmlns="http://schemas.openxmlformats.org/package/2006/relationships"><Relationship Id="rId1" Type="http://schemas.openxmlformats.org/officeDocument/2006/relationships/slide" Target="../slides/slide110.xml"/><Relationship Id="rId2" Type="http://schemas.openxmlformats.org/officeDocument/2006/relationships/notesMaster" Target="../notesMasters/notesMaster1.xml"/>
</Relationships>
</file>

<file path=ppt/notesSlides/_rels/notesSlide111.xml.rels><?xml version="1.0" encoding="UTF-8"?>
<Relationships xmlns="http://schemas.openxmlformats.org/package/2006/relationships"><Relationship Id="rId1" Type="http://schemas.openxmlformats.org/officeDocument/2006/relationships/slide" Target="../slides/slide111.xml"/><Relationship Id="rId2" Type="http://schemas.openxmlformats.org/officeDocument/2006/relationships/notesMaster" Target="../notesMasters/notesMaster1.xml"/>
</Relationships>
</file>

<file path=ppt/notesSlides/_rels/notesSlide112.xml.rels><?xml version="1.0" encoding="UTF-8"?>
<Relationships xmlns="http://schemas.openxmlformats.org/package/2006/relationships"><Relationship Id="rId1" Type="http://schemas.openxmlformats.org/officeDocument/2006/relationships/slide" Target="../slides/slide112.xml"/><Relationship Id="rId2" Type="http://schemas.openxmlformats.org/officeDocument/2006/relationships/notesMaster" Target="../notesMasters/notesMaster1.xml"/>
</Relationships>
</file>

<file path=ppt/notesSlides/_rels/notesSlide113.xml.rels><?xml version="1.0" encoding="UTF-8"?>
<Relationships xmlns="http://schemas.openxmlformats.org/package/2006/relationships"><Relationship Id="rId1" Type="http://schemas.openxmlformats.org/officeDocument/2006/relationships/slide" Target="../slides/slide113.xml"/><Relationship Id="rId2" Type="http://schemas.openxmlformats.org/officeDocument/2006/relationships/notesMaster" Target="../notesMasters/notesMaster1.xml"/>
</Relationships>
</file>

<file path=ppt/notesSlides/_rels/notesSlide114.xml.rels><?xml version="1.0" encoding="UTF-8"?>
<Relationships xmlns="http://schemas.openxmlformats.org/package/2006/relationships"><Relationship Id="rId1" Type="http://schemas.openxmlformats.org/officeDocument/2006/relationships/slide" Target="../slides/slide114.xml"/><Relationship Id="rId2" Type="http://schemas.openxmlformats.org/officeDocument/2006/relationships/notesMaster" Target="../notesMasters/notesMaster1.xml"/>
</Relationships>
</file>

<file path=ppt/notesSlides/_rels/notesSlide115.xml.rels><?xml version="1.0" encoding="UTF-8"?>
<Relationships xmlns="http://schemas.openxmlformats.org/package/2006/relationships"><Relationship Id="rId1" Type="http://schemas.openxmlformats.org/officeDocument/2006/relationships/slide" Target="../slides/slide115.xml"/><Relationship Id="rId2" Type="http://schemas.openxmlformats.org/officeDocument/2006/relationships/notesMaster" Target="../notesMasters/notesMaster1.xml"/>
</Relationships>
</file>

<file path=ppt/notesSlides/_rels/notesSlide116.xml.rels><?xml version="1.0" encoding="UTF-8"?>
<Relationships xmlns="http://schemas.openxmlformats.org/package/2006/relationships"><Relationship Id="rId1" Type="http://schemas.openxmlformats.org/officeDocument/2006/relationships/slide" Target="../slides/slide116.xml"/><Relationship Id="rId2" Type="http://schemas.openxmlformats.org/officeDocument/2006/relationships/notesMaster" Target="../notesMasters/notesMaster1.xml"/>
</Relationships>
</file>

<file path=ppt/notesSlides/_rels/notesSlide117.xml.rels><?xml version="1.0" encoding="UTF-8"?>
<Relationships xmlns="http://schemas.openxmlformats.org/package/2006/relationships"><Relationship Id="rId1" Type="http://schemas.openxmlformats.org/officeDocument/2006/relationships/slide" Target="../slides/slide117.xml"/><Relationship Id="rId2" Type="http://schemas.openxmlformats.org/officeDocument/2006/relationships/notesMaster" Target="../notesMasters/notesMaster1.xml"/>
</Relationships>
</file>

<file path=ppt/notesSlides/_rels/notesSlide118.xml.rels><?xml version="1.0" encoding="UTF-8"?>
<Relationships xmlns="http://schemas.openxmlformats.org/package/2006/relationships"><Relationship Id="rId1" Type="http://schemas.openxmlformats.org/officeDocument/2006/relationships/slide" Target="../slides/slide118.xml"/><Relationship Id="rId2" Type="http://schemas.openxmlformats.org/officeDocument/2006/relationships/notesMaster" Target="../notesMasters/notesMaster1.xml"/>
</Relationships>
</file>

<file path=ppt/notesSlides/_rels/notesSlide119.xml.rels><?xml version="1.0" encoding="UTF-8"?>
<Relationships xmlns="http://schemas.openxmlformats.org/package/2006/relationships"><Relationship Id="rId1" Type="http://schemas.openxmlformats.org/officeDocument/2006/relationships/slide" Target="../slides/slide119.xml"/><Relationship Id="rId2" Type="http://schemas.openxmlformats.org/officeDocument/2006/relationships/notesMaster" Target="../notesMasters/notesMaster1.xml"/>
</Relationships>
</file>

<file path=ppt/notesSlides/_rels/notesSlide120.xml.rels><?xml version="1.0" encoding="UTF-8"?>
<Relationships xmlns="http://schemas.openxmlformats.org/package/2006/relationships"><Relationship Id="rId1" Type="http://schemas.openxmlformats.org/officeDocument/2006/relationships/slide" Target="../slides/slide120.xml"/><Relationship Id="rId2" Type="http://schemas.openxmlformats.org/officeDocument/2006/relationships/notesMaster" Target="../notesMasters/notesMaster1.xml"/>
</Relationships>
</file>

<file path=ppt/notesSlides/_rels/notesSlide121.xml.rels><?xml version="1.0" encoding="UTF-8"?>
<Relationships xmlns="http://schemas.openxmlformats.org/package/2006/relationships"><Relationship Id="rId1" Type="http://schemas.openxmlformats.org/officeDocument/2006/relationships/slide" Target="../slides/slide121.xml"/><Relationship Id="rId2" Type="http://schemas.openxmlformats.org/officeDocument/2006/relationships/notesMaster" Target="../notesMasters/notesMaster1.xml"/>
</Relationships>
</file>

<file path=ppt/notesSlides/_rels/notesSlide122.xml.rels><?xml version="1.0" encoding="UTF-8"?>
<Relationships xmlns="http://schemas.openxmlformats.org/package/2006/relationships"><Relationship Id="rId1" Type="http://schemas.openxmlformats.org/officeDocument/2006/relationships/slide" Target="../slides/slide122.xml"/><Relationship Id="rId2" Type="http://schemas.openxmlformats.org/officeDocument/2006/relationships/notesMaster" Target="../notesMasters/notesMaster1.xml"/>
</Relationships>
</file>

<file path=ppt/notesSlides/_rels/notesSlide123.xml.rels><?xml version="1.0" encoding="UTF-8"?>
<Relationships xmlns="http://schemas.openxmlformats.org/package/2006/relationships"><Relationship Id="rId1" Type="http://schemas.openxmlformats.org/officeDocument/2006/relationships/slide" Target="../slides/slide123.xml"/><Relationship Id="rId2" Type="http://schemas.openxmlformats.org/officeDocument/2006/relationships/notesMaster" Target="../notesMasters/notesMaster1.xml"/>
</Relationships>
</file>

<file path=ppt/notesSlides/_rels/notesSlide124.xml.rels><?xml version="1.0" encoding="UTF-8"?>
<Relationships xmlns="http://schemas.openxmlformats.org/package/2006/relationships"><Relationship Id="rId1" Type="http://schemas.openxmlformats.org/officeDocument/2006/relationships/slide" Target="../slides/slide124.xml"/><Relationship Id="rId2" Type="http://schemas.openxmlformats.org/officeDocument/2006/relationships/notesMaster" Target="../notesMasters/notesMaster1.xml"/>
</Relationships>
</file>

<file path=ppt/notesSlides/_rels/notesSlide125.xml.rels><?xml version="1.0" encoding="UTF-8"?>
<Relationships xmlns="http://schemas.openxmlformats.org/package/2006/relationships"><Relationship Id="rId1" Type="http://schemas.openxmlformats.org/officeDocument/2006/relationships/slide" Target="../slides/slide125.xml"/><Relationship Id="rId2" Type="http://schemas.openxmlformats.org/officeDocument/2006/relationships/notesMaster" Target="../notesMasters/notesMaster1.xml"/>
</Relationships>
</file>

<file path=ppt/notesSlides/_rels/notesSlide126.xml.rels><?xml version="1.0" encoding="UTF-8"?>
<Relationships xmlns="http://schemas.openxmlformats.org/package/2006/relationships"><Relationship Id="rId1" Type="http://schemas.openxmlformats.org/officeDocument/2006/relationships/slide" Target="../slides/slide126.xml"/><Relationship Id="rId2" Type="http://schemas.openxmlformats.org/officeDocument/2006/relationships/notesMaster" Target="../notesMasters/notesMaster1.xml"/>
</Relationships>
</file>

<file path=ppt/notesSlides/_rels/notesSlide127.xml.rels><?xml version="1.0" encoding="UTF-8"?>
<Relationships xmlns="http://schemas.openxmlformats.org/package/2006/relationships"><Relationship Id="rId1" Type="http://schemas.openxmlformats.org/officeDocument/2006/relationships/slide" Target="../slides/slide127.xml"/><Relationship Id="rId2" Type="http://schemas.openxmlformats.org/officeDocument/2006/relationships/notesMaster" Target="../notesMasters/notesMaster1.xml"/>
</Relationships>
</file>

<file path=ppt/notesSlides/_rels/notesSlide128.xml.rels><?xml version="1.0" encoding="UTF-8"?>
<Relationships xmlns="http://schemas.openxmlformats.org/package/2006/relationships"><Relationship Id="rId1" Type="http://schemas.openxmlformats.org/officeDocument/2006/relationships/slide" Target="../slides/slide128.xml"/><Relationship Id="rId2" Type="http://schemas.openxmlformats.org/officeDocument/2006/relationships/notesMaster" Target="../notesMasters/notesMaster1.xml"/>
</Relationships>
</file>

<file path=ppt/notesSlides/_rels/notesSlide129.xml.rels><?xml version="1.0" encoding="UTF-8"?>
<Relationships xmlns="http://schemas.openxmlformats.org/package/2006/relationships"><Relationship Id="rId1" Type="http://schemas.openxmlformats.org/officeDocument/2006/relationships/slide" Target="../slides/slide129.xml"/><Relationship Id="rId2" Type="http://schemas.openxmlformats.org/officeDocument/2006/relationships/notesMaster" Target="../notesMasters/notesMaster1.xml"/>
</Relationships>
</file>

<file path=ppt/notesSlides/_rels/notesSlide130.xml.rels><?xml version="1.0" encoding="UTF-8"?>
<Relationships xmlns="http://schemas.openxmlformats.org/package/2006/relationships"><Relationship Id="rId1" Type="http://schemas.openxmlformats.org/officeDocument/2006/relationships/slide" Target="../slides/slide130.xml"/><Relationship Id="rId2" Type="http://schemas.openxmlformats.org/officeDocument/2006/relationships/notesMaster" Target="../notesMasters/notesMaster1.xml"/>
</Relationships>
</file>

<file path=ppt/notesSlides/_rels/notesSlide131.xml.rels><?xml version="1.0" encoding="UTF-8"?>
<Relationships xmlns="http://schemas.openxmlformats.org/package/2006/relationships"><Relationship Id="rId1" Type="http://schemas.openxmlformats.org/officeDocument/2006/relationships/slide" Target="../slides/slide131.xml"/><Relationship Id="rId2" Type="http://schemas.openxmlformats.org/officeDocument/2006/relationships/notesMaster" Target="../notesMasters/notesMaster1.xml"/>
</Relationships>
</file>

<file path=ppt/notesSlides/_rels/notesSlide132.xml.rels><?xml version="1.0" encoding="UTF-8"?>
<Relationships xmlns="http://schemas.openxmlformats.org/package/2006/relationships"><Relationship Id="rId1" Type="http://schemas.openxmlformats.org/officeDocument/2006/relationships/slide" Target="../slides/slide132.xml"/><Relationship Id="rId2" Type="http://schemas.openxmlformats.org/officeDocument/2006/relationships/notesMaster" Target="../notesMasters/notesMaster1.xml"/>
</Relationships>
</file>

<file path=ppt/notesSlides/_rels/notesSlide133.xml.rels><?xml version="1.0" encoding="UTF-8"?>
<Relationships xmlns="http://schemas.openxmlformats.org/package/2006/relationships"><Relationship Id="rId1" Type="http://schemas.openxmlformats.org/officeDocument/2006/relationships/slide" Target="../slides/slide133.xml"/><Relationship Id="rId2" Type="http://schemas.openxmlformats.org/officeDocument/2006/relationships/notesMaster" Target="../notesMasters/notesMaster1.xml"/>
</Relationships>
</file>

<file path=ppt/notesSlides/_rels/notesSlide134.xml.rels><?xml version="1.0" encoding="UTF-8"?>
<Relationships xmlns="http://schemas.openxmlformats.org/package/2006/relationships"><Relationship Id="rId1" Type="http://schemas.openxmlformats.org/officeDocument/2006/relationships/slide" Target="../slides/slide134.xml"/><Relationship Id="rId2" Type="http://schemas.openxmlformats.org/officeDocument/2006/relationships/notesMaster" Target="../notesMasters/notesMaster1.xml"/>
</Relationships>
</file>

<file path=ppt/notesSlides/_rels/notesSlide135.xml.rels><?xml version="1.0" encoding="UTF-8"?>
<Relationships xmlns="http://schemas.openxmlformats.org/package/2006/relationships"><Relationship Id="rId1" Type="http://schemas.openxmlformats.org/officeDocument/2006/relationships/slide" Target="../slides/slide135.xml"/><Relationship Id="rId2" Type="http://schemas.openxmlformats.org/officeDocument/2006/relationships/notesMaster" Target="../notesMasters/notesMaster1.xml"/>
</Relationships>
</file>

<file path=ppt/notesSlides/_rels/notesSlide136.xml.rels><?xml version="1.0" encoding="UTF-8"?>
<Relationships xmlns="http://schemas.openxmlformats.org/package/2006/relationships"><Relationship Id="rId1" Type="http://schemas.openxmlformats.org/officeDocument/2006/relationships/slide" Target="../slides/slide136.xml"/><Relationship Id="rId2" Type="http://schemas.openxmlformats.org/officeDocument/2006/relationships/notesMaster" Target="../notesMasters/notesMaster1.xml"/>
</Relationships>
</file>

<file path=ppt/notesSlides/_rels/notesSlide137.xml.rels><?xml version="1.0" encoding="UTF-8"?>
<Relationships xmlns="http://schemas.openxmlformats.org/package/2006/relationships"><Relationship Id="rId1" Type="http://schemas.openxmlformats.org/officeDocument/2006/relationships/slide" Target="../slides/slide137.xml"/><Relationship Id="rId2" Type="http://schemas.openxmlformats.org/officeDocument/2006/relationships/notesMaster" Target="../notesMasters/notesMaster1.xml"/>
</Relationships>
</file>

<file path=ppt/notesSlides/_rels/notesSlide138.xml.rels><?xml version="1.0" encoding="UTF-8"?>
<Relationships xmlns="http://schemas.openxmlformats.org/package/2006/relationships"><Relationship Id="rId1" Type="http://schemas.openxmlformats.org/officeDocument/2006/relationships/slide" Target="../slides/slide138.xml"/><Relationship Id="rId2" Type="http://schemas.openxmlformats.org/officeDocument/2006/relationships/notesMaster" Target="../notesMasters/notesMaster1.xml"/>
</Relationships>
</file>

<file path=ppt/notesSlides/_rels/notesSlide139.xml.rels><?xml version="1.0" encoding="UTF-8"?>
<Relationships xmlns="http://schemas.openxmlformats.org/package/2006/relationships"><Relationship Id="rId1" Type="http://schemas.openxmlformats.org/officeDocument/2006/relationships/slide" Target="../slides/slide139.xml"/><Relationship Id="rId2" Type="http://schemas.openxmlformats.org/officeDocument/2006/relationships/notesMaster" Target="../notesMasters/notesMaster1.xml"/>
</Relationships>
</file>

<file path=ppt/notesSlides/_rels/notesSlide140.xml.rels><?xml version="1.0" encoding="UTF-8"?>
<Relationships xmlns="http://schemas.openxmlformats.org/package/2006/relationships"><Relationship Id="rId1" Type="http://schemas.openxmlformats.org/officeDocument/2006/relationships/slide" Target="../slides/slide140.xml"/><Relationship Id="rId2" Type="http://schemas.openxmlformats.org/officeDocument/2006/relationships/notesMaster" Target="../notesMasters/notesMaster1.xml"/>
</Relationships>
</file>

<file path=ppt/notesSlides/_rels/notesSlide141.xml.rels><?xml version="1.0" encoding="UTF-8"?>
<Relationships xmlns="http://schemas.openxmlformats.org/package/2006/relationships"><Relationship Id="rId1" Type="http://schemas.openxmlformats.org/officeDocument/2006/relationships/slide" Target="../slides/slide141.xml"/><Relationship Id="rId2" Type="http://schemas.openxmlformats.org/officeDocument/2006/relationships/notesMaster" Target="../notesMasters/notesMaster1.xml"/>
</Relationships>
</file>

<file path=ppt/notesSlides/_rels/notesSlide142.xml.rels><?xml version="1.0" encoding="UTF-8"?>
<Relationships xmlns="http://schemas.openxmlformats.org/package/2006/relationships"><Relationship Id="rId1" Type="http://schemas.openxmlformats.org/officeDocument/2006/relationships/slide" Target="../slides/slide142.xml"/><Relationship Id="rId2" Type="http://schemas.openxmlformats.org/officeDocument/2006/relationships/notesMaster" Target="../notesMasters/notesMaster1.xml"/>
</Relationships>
</file>

<file path=ppt/notesSlides/_rels/notesSlide143.xml.rels><?xml version="1.0" encoding="UTF-8"?>
<Relationships xmlns="http://schemas.openxmlformats.org/package/2006/relationships"><Relationship Id="rId1" Type="http://schemas.openxmlformats.org/officeDocument/2006/relationships/slide" Target="../slides/slide143.xml"/><Relationship Id="rId2" Type="http://schemas.openxmlformats.org/officeDocument/2006/relationships/notesMaster" Target="../notesMasters/notesMaster1.xml"/>
</Relationships>
</file>

<file path=ppt/notesSlides/_rels/notesSlide144.xml.rels><?xml version="1.0" encoding="UTF-8"?>
<Relationships xmlns="http://schemas.openxmlformats.org/package/2006/relationships"><Relationship Id="rId1" Type="http://schemas.openxmlformats.org/officeDocument/2006/relationships/slide" Target="../slides/slide144.xml"/><Relationship Id="rId2" Type="http://schemas.openxmlformats.org/officeDocument/2006/relationships/notesMaster" Target="../notesMasters/notesMaster1.xml"/>
</Relationships>
</file>

<file path=ppt/notesSlides/_rels/notesSlide145.xml.rels><?xml version="1.0" encoding="UTF-8"?>
<Relationships xmlns="http://schemas.openxmlformats.org/package/2006/relationships"><Relationship Id="rId1" Type="http://schemas.openxmlformats.org/officeDocument/2006/relationships/slide" Target="../slides/slide145.xml"/><Relationship Id="rId2" Type="http://schemas.openxmlformats.org/officeDocument/2006/relationships/notesMaster" Target="../notesMasters/notesMaster1.xml"/>
</Relationships>
</file>

<file path=ppt/notesSlides/_rels/notesSlide146.xml.rels><?xml version="1.0" encoding="UTF-8"?>
<Relationships xmlns="http://schemas.openxmlformats.org/package/2006/relationships"><Relationship Id="rId1" Type="http://schemas.openxmlformats.org/officeDocument/2006/relationships/slide" Target="../slides/slide146.xml"/><Relationship Id="rId2" Type="http://schemas.openxmlformats.org/officeDocument/2006/relationships/notesMaster" Target="../notesMasters/notesMaster1.xml"/>
</Relationships>
</file>

<file path=ppt/notesSlides/_rels/notesSlide147.xml.rels><?xml version="1.0" encoding="UTF-8"?>
<Relationships xmlns="http://schemas.openxmlformats.org/package/2006/relationships"><Relationship Id="rId1" Type="http://schemas.openxmlformats.org/officeDocument/2006/relationships/slide" Target="../slides/slide147.xml"/><Relationship Id="rId2" Type="http://schemas.openxmlformats.org/officeDocument/2006/relationships/notesMaster" Target="../notesMasters/notesMaster1.xml"/>
</Relationships>
</file>

<file path=ppt/notesSlides/_rels/notesSlide148.xml.rels><?xml version="1.0" encoding="UTF-8"?>
<Relationships xmlns="http://schemas.openxmlformats.org/package/2006/relationships"><Relationship Id="rId1" Type="http://schemas.openxmlformats.org/officeDocument/2006/relationships/slide" Target="../slides/slide148.xml"/><Relationship Id="rId2" Type="http://schemas.openxmlformats.org/officeDocument/2006/relationships/notesMaster" Target="../notesMasters/notesMaster1.xml"/>
</Relationships>
</file>

<file path=ppt/notesSlides/_rels/notesSlide149.xml.rels><?xml version="1.0" encoding="UTF-8"?>
<Relationships xmlns="http://schemas.openxmlformats.org/package/2006/relationships"><Relationship Id="rId1" Type="http://schemas.openxmlformats.org/officeDocument/2006/relationships/slide" Target="../slides/slide149.xml"/><Relationship Id="rId2" Type="http://schemas.openxmlformats.org/officeDocument/2006/relationships/notesMaster" Target="../notesMasters/notesMaster1.xml"/>
</Relationships>
</file>

<file path=ppt/notesSlides/_rels/notesSlide150.xml.rels><?xml version="1.0" encoding="UTF-8"?>
<Relationships xmlns="http://schemas.openxmlformats.org/package/2006/relationships"><Relationship Id="rId1" Type="http://schemas.openxmlformats.org/officeDocument/2006/relationships/slide" Target="../slides/slide150.xml"/><Relationship Id="rId2" Type="http://schemas.openxmlformats.org/officeDocument/2006/relationships/notesMaster" Target="../notesMasters/notesMaster1.xml"/>
</Relationships>
</file>

<file path=ppt/notesSlides/_rels/notesSlide151.xml.rels><?xml version="1.0" encoding="UTF-8"?>
<Relationships xmlns="http://schemas.openxmlformats.org/package/2006/relationships"><Relationship Id="rId1" Type="http://schemas.openxmlformats.org/officeDocument/2006/relationships/slide" Target="../slides/slide151.xml"/><Relationship Id="rId2" Type="http://schemas.openxmlformats.org/officeDocument/2006/relationships/notesMaster" Target="../notesMasters/notesMaster1.xml"/>
</Relationships>
</file>

<file path=ppt/notesSlides/_rels/notesSlide152.xml.rels><?xml version="1.0" encoding="UTF-8"?>
<Relationships xmlns="http://schemas.openxmlformats.org/package/2006/relationships"><Relationship Id="rId1" Type="http://schemas.openxmlformats.org/officeDocument/2006/relationships/slide" Target="../slides/slide152.xml"/><Relationship Id="rId2" Type="http://schemas.openxmlformats.org/officeDocument/2006/relationships/notesMaster" Target="../notesMasters/notesMaster1.xml"/>
</Relationships>
</file>

<file path=ppt/notesSlides/_rels/notesSlide153.xml.rels><?xml version="1.0" encoding="UTF-8"?>
<Relationships xmlns="http://schemas.openxmlformats.org/package/2006/relationships"><Relationship Id="rId1" Type="http://schemas.openxmlformats.org/officeDocument/2006/relationships/slide" Target="../slides/slide153.xml"/><Relationship Id="rId2" Type="http://schemas.openxmlformats.org/officeDocument/2006/relationships/notesMaster" Target="../notesMasters/notesMaster1.xml"/>
</Relationships>
</file>

<file path=ppt/notesSlides/_rels/notesSlide154.xml.rels><?xml version="1.0" encoding="UTF-8"?>
<Relationships xmlns="http://schemas.openxmlformats.org/package/2006/relationships"><Relationship Id="rId1" Type="http://schemas.openxmlformats.org/officeDocument/2006/relationships/slide" Target="../slides/slide154.xml"/><Relationship Id="rId2" Type="http://schemas.openxmlformats.org/officeDocument/2006/relationships/notesMaster" Target="../notesMasters/notesMaster1.xml"/>
</Relationships>
</file>

<file path=ppt/notesSlides/_rels/notesSlide155.xml.rels><?xml version="1.0" encoding="UTF-8"?>
<Relationships xmlns="http://schemas.openxmlformats.org/package/2006/relationships"><Relationship Id="rId1" Type="http://schemas.openxmlformats.org/officeDocument/2006/relationships/slide" Target="../slides/slide155.xml"/><Relationship Id="rId2" Type="http://schemas.openxmlformats.org/officeDocument/2006/relationships/notesMaster" Target="../notesMasters/notesMaster1.xml"/>
</Relationships>
</file>

<file path=ppt/notesSlides/_rels/notesSlide156.xml.rels><?xml version="1.0" encoding="UTF-8"?>
<Relationships xmlns="http://schemas.openxmlformats.org/package/2006/relationships"><Relationship Id="rId1" Type="http://schemas.openxmlformats.org/officeDocument/2006/relationships/slide" Target="../slides/slide156.xml"/><Relationship Id="rId2" Type="http://schemas.openxmlformats.org/officeDocument/2006/relationships/notesMaster" Target="../notesMasters/notesMaster1.xml"/>
</Relationships>
</file>

<file path=ppt/notesSlides/_rels/notesSlide157.xml.rels><?xml version="1.0" encoding="UTF-8"?>
<Relationships xmlns="http://schemas.openxmlformats.org/package/2006/relationships"><Relationship Id="rId1" Type="http://schemas.openxmlformats.org/officeDocument/2006/relationships/slide" Target="../slides/slide157.xml"/><Relationship Id="rId2" Type="http://schemas.openxmlformats.org/officeDocument/2006/relationships/notesMaster" Target="../notesMasters/notesMaster1.xml"/>
</Relationships>
</file>

<file path=ppt/notesSlides/_rels/notesSlide158.xml.rels><?xml version="1.0" encoding="UTF-8"?>
<Relationships xmlns="http://schemas.openxmlformats.org/package/2006/relationships"><Relationship Id="rId1" Type="http://schemas.openxmlformats.org/officeDocument/2006/relationships/slide" Target="../slides/slide158.xml"/><Relationship Id="rId2" Type="http://schemas.openxmlformats.org/officeDocument/2006/relationships/notesMaster" Target="../notesMasters/notesMaster1.xml"/>
</Relationships>
</file>

<file path=ppt/notesSlides/_rels/notesSlide159.xml.rels><?xml version="1.0" encoding="UTF-8"?>
<Relationships xmlns="http://schemas.openxmlformats.org/package/2006/relationships"><Relationship Id="rId1" Type="http://schemas.openxmlformats.org/officeDocument/2006/relationships/slide" Target="../slides/slide159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60.xml.rels><?xml version="1.0" encoding="UTF-8"?>
<Relationships xmlns="http://schemas.openxmlformats.org/package/2006/relationships"><Relationship Id="rId1" Type="http://schemas.openxmlformats.org/officeDocument/2006/relationships/slide" Target="../slides/slide160.xml"/><Relationship Id="rId2" Type="http://schemas.openxmlformats.org/officeDocument/2006/relationships/notesMaster" Target="../notesMasters/notesMaster1.xml"/>
</Relationships>
</file>

<file path=ppt/notesSlides/_rels/notesSlide161.xml.rels><?xml version="1.0" encoding="UTF-8"?>
<Relationships xmlns="http://schemas.openxmlformats.org/package/2006/relationships"><Relationship Id="rId1" Type="http://schemas.openxmlformats.org/officeDocument/2006/relationships/slide" Target="../slides/slide161.xml"/><Relationship Id="rId2" Type="http://schemas.openxmlformats.org/officeDocument/2006/relationships/notesMaster" Target="../notesMasters/notesMaster1.xml"/>
</Relationships>
</file>

<file path=ppt/notesSlides/_rels/notesSlide162.xml.rels><?xml version="1.0" encoding="UTF-8"?>
<Relationships xmlns="http://schemas.openxmlformats.org/package/2006/relationships"><Relationship Id="rId1" Type="http://schemas.openxmlformats.org/officeDocument/2006/relationships/slide" Target="../slides/slide162.xml"/><Relationship Id="rId2" Type="http://schemas.openxmlformats.org/officeDocument/2006/relationships/notesMaster" Target="../notesMasters/notesMaster1.xml"/>
</Relationships>
</file>

<file path=ppt/notesSlides/_rels/notesSlide163.xml.rels><?xml version="1.0" encoding="UTF-8"?>
<Relationships xmlns="http://schemas.openxmlformats.org/package/2006/relationships"><Relationship Id="rId1" Type="http://schemas.openxmlformats.org/officeDocument/2006/relationships/slide" Target="../slides/slide163.xml"/><Relationship Id="rId2" Type="http://schemas.openxmlformats.org/officeDocument/2006/relationships/notesMaster" Target="../notesMasters/notesMaster1.xml"/>
</Relationships>
</file>

<file path=ppt/notesSlides/_rels/notesSlide164.xml.rels><?xml version="1.0" encoding="UTF-8"?>
<Relationships xmlns="http://schemas.openxmlformats.org/package/2006/relationships"><Relationship Id="rId1" Type="http://schemas.openxmlformats.org/officeDocument/2006/relationships/slide" Target="../slides/slide164.xml"/><Relationship Id="rId2" Type="http://schemas.openxmlformats.org/officeDocument/2006/relationships/notesMaster" Target="../notesMasters/notesMaster1.xml"/>
</Relationships>
</file>

<file path=ppt/notesSlides/_rels/notesSlide165.xml.rels><?xml version="1.0" encoding="UTF-8"?>
<Relationships xmlns="http://schemas.openxmlformats.org/package/2006/relationships"><Relationship Id="rId1" Type="http://schemas.openxmlformats.org/officeDocument/2006/relationships/slide" Target="../slides/slide165.xml"/><Relationship Id="rId2" Type="http://schemas.openxmlformats.org/officeDocument/2006/relationships/notesMaster" Target="../notesMasters/notesMaster1.xml"/>
</Relationships>
</file>

<file path=ppt/notesSlides/_rels/notesSlide166.xml.rels><?xml version="1.0" encoding="UTF-8"?>
<Relationships xmlns="http://schemas.openxmlformats.org/package/2006/relationships"><Relationship Id="rId1" Type="http://schemas.openxmlformats.org/officeDocument/2006/relationships/slide" Target="../slides/slide166.xml"/><Relationship Id="rId2" Type="http://schemas.openxmlformats.org/officeDocument/2006/relationships/notesMaster" Target="../notesMasters/notesMaster1.xml"/>
</Relationships>
</file>

<file path=ppt/notesSlides/_rels/notesSlide167.xml.rels><?xml version="1.0" encoding="UTF-8"?>
<Relationships xmlns="http://schemas.openxmlformats.org/package/2006/relationships"><Relationship Id="rId1" Type="http://schemas.openxmlformats.org/officeDocument/2006/relationships/slide" Target="../slides/slide167.xml"/><Relationship Id="rId2" Type="http://schemas.openxmlformats.org/officeDocument/2006/relationships/notesMaster" Target="../notesMasters/notesMaster1.xml"/>
</Relationships>
</file>

<file path=ppt/notesSlides/_rels/notesSlide168.xml.rels><?xml version="1.0" encoding="UTF-8"?>
<Relationships xmlns="http://schemas.openxmlformats.org/package/2006/relationships"><Relationship Id="rId1" Type="http://schemas.openxmlformats.org/officeDocument/2006/relationships/slide" Target="../slides/slide168.xml"/><Relationship Id="rId2" Type="http://schemas.openxmlformats.org/officeDocument/2006/relationships/notesMaster" Target="../notesMasters/notesMaster1.xml"/>
</Relationships>
</file>

<file path=ppt/notesSlides/_rels/notesSlide169.xml.rels><?xml version="1.0" encoding="UTF-8"?>
<Relationships xmlns="http://schemas.openxmlformats.org/package/2006/relationships"><Relationship Id="rId1" Type="http://schemas.openxmlformats.org/officeDocument/2006/relationships/slide" Target="../slides/slide169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70.xml.rels><?xml version="1.0" encoding="UTF-8"?>
<Relationships xmlns="http://schemas.openxmlformats.org/package/2006/relationships"><Relationship Id="rId1" Type="http://schemas.openxmlformats.org/officeDocument/2006/relationships/slide" Target="../slides/slide170.xml"/><Relationship Id="rId2" Type="http://schemas.openxmlformats.org/officeDocument/2006/relationships/notesMaster" Target="../notesMasters/notesMaster1.xml"/>
</Relationships>
</file>

<file path=ppt/notesSlides/_rels/notesSlide171.xml.rels><?xml version="1.0" encoding="UTF-8"?>
<Relationships xmlns="http://schemas.openxmlformats.org/package/2006/relationships"><Relationship Id="rId1" Type="http://schemas.openxmlformats.org/officeDocument/2006/relationships/slide" Target="../slides/slide171.xml"/><Relationship Id="rId2" Type="http://schemas.openxmlformats.org/officeDocument/2006/relationships/notesMaster" Target="../notesMasters/notesMaster1.xml"/>
</Relationships>
</file>

<file path=ppt/notesSlides/_rels/notesSlide172.xml.rels><?xml version="1.0" encoding="UTF-8"?>
<Relationships xmlns="http://schemas.openxmlformats.org/package/2006/relationships"><Relationship Id="rId1" Type="http://schemas.openxmlformats.org/officeDocument/2006/relationships/slide" Target="../slides/slide172.xml"/><Relationship Id="rId2" Type="http://schemas.openxmlformats.org/officeDocument/2006/relationships/notesMaster" Target="../notesMasters/notesMaster1.xml"/>
</Relationships>
</file>

<file path=ppt/notesSlides/_rels/notesSlide173.xml.rels><?xml version="1.0" encoding="UTF-8"?>
<Relationships xmlns="http://schemas.openxmlformats.org/package/2006/relationships"><Relationship Id="rId1" Type="http://schemas.openxmlformats.org/officeDocument/2006/relationships/slide" Target="../slides/slide173.xml"/><Relationship Id="rId2" Type="http://schemas.openxmlformats.org/officeDocument/2006/relationships/notesMaster" Target="../notesMasters/notesMaster1.xml"/>
</Relationships>
</file>

<file path=ppt/notesSlides/_rels/notesSlide174.xml.rels><?xml version="1.0" encoding="UTF-8"?>
<Relationships xmlns="http://schemas.openxmlformats.org/package/2006/relationships"><Relationship Id="rId1" Type="http://schemas.openxmlformats.org/officeDocument/2006/relationships/slide" Target="../slides/slide174.xml"/><Relationship Id="rId2" Type="http://schemas.openxmlformats.org/officeDocument/2006/relationships/notesMaster" Target="../notesMasters/notesMaster1.xml"/>
</Relationships>
</file>

<file path=ppt/notesSlides/_rels/notesSlide175.xml.rels><?xml version="1.0" encoding="UTF-8"?>
<Relationships xmlns="http://schemas.openxmlformats.org/package/2006/relationships"><Relationship Id="rId1" Type="http://schemas.openxmlformats.org/officeDocument/2006/relationships/slide" Target="../slides/slide175.xml"/><Relationship Id="rId2" Type="http://schemas.openxmlformats.org/officeDocument/2006/relationships/notesMaster" Target="../notesMasters/notesMaster1.xml"/>
</Relationships>
</file>

<file path=ppt/notesSlides/_rels/notesSlide176.xml.rels><?xml version="1.0" encoding="UTF-8"?>
<Relationships xmlns="http://schemas.openxmlformats.org/package/2006/relationships"><Relationship Id="rId1" Type="http://schemas.openxmlformats.org/officeDocument/2006/relationships/slide" Target="../slides/slide176.xml"/><Relationship Id="rId2" Type="http://schemas.openxmlformats.org/officeDocument/2006/relationships/notesMaster" Target="../notesMasters/notesMaster1.xml"/>
</Relationships>
</file>

<file path=ppt/notesSlides/_rels/notesSlide177.xml.rels><?xml version="1.0" encoding="UTF-8"?>
<Relationships xmlns="http://schemas.openxmlformats.org/package/2006/relationships"><Relationship Id="rId1" Type="http://schemas.openxmlformats.org/officeDocument/2006/relationships/slide" Target="../slides/slide177.xml"/><Relationship Id="rId2" Type="http://schemas.openxmlformats.org/officeDocument/2006/relationships/notesMaster" Target="../notesMasters/notesMaster1.xml"/>
</Relationships>
</file>

<file path=ppt/notesSlides/_rels/notesSlide178.xml.rels><?xml version="1.0" encoding="UTF-8"?>
<Relationships xmlns="http://schemas.openxmlformats.org/package/2006/relationships"><Relationship Id="rId1" Type="http://schemas.openxmlformats.org/officeDocument/2006/relationships/slide" Target="../slides/slide178.xml"/><Relationship Id="rId2" Type="http://schemas.openxmlformats.org/officeDocument/2006/relationships/notesMaster" Target="../notesMasters/notesMaster1.xml"/>
</Relationships>
</file>

<file path=ppt/notesSlides/_rels/notesSlide179.xml.rels><?xml version="1.0" encoding="UTF-8"?>
<Relationships xmlns="http://schemas.openxmlformats.org/package/2006/relationships"><Relationship Id="rId1" Type="http://schemas.openxmlformats.org/officeDocument/2006/relationships/slide" Target="../slides/slide179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80.xml.rels><?xml version="1.0" encoding="UTF-8"?>
<Relationships xmlns="http://schemas.openxmlformats.org/package/2006/relationships"><Relationship Id="rId1" Type="http://schemas.openxmlformats.org/officeDocument/2006/relationships/slide" Target="../slides/slide180.xml"/><Relationship Id="rId2" Type="http://schemas.openxmlformats.org/officeDocument/2006/relationships/notesMaster" Target="../notesMasters/notesMaster1.xml"/>
</Relationships>
</file>

<file path=ppt/notesSlides/_rels/notesSlide181.xml.rels><?xml version="1.0" encoding="UTF-8"?>
<Relationships xmlns="http://schemas.openxmlformats.org/package/2006/relationships"><Relationship Id="rId1" Type="http://schemas.openxmlformats.org/officeDocument/2006/relationships/slide" Target="../slides/slide181.xml"/><Relationship Id="rId2" Type="http://schemas.openxmlformats.org/officeDocument/2006/relationships/notesMaster" Target="../notesMasters/notesMaster1.xml"/>
</Relationships>
</file>

<file path=ppt/notesSlides/_rels/notesSlide182.xml.rels><?xml version="1.0" encoding="UTF-8"?>
<Relationships xmlns="http://schemas.openxmlformats.org/package/2006/relationships"><Relationship Id="rId1" Type="http://schemas.openxmlformats.org/officeDocument/2006/relationships/slide" Target="../slides/slide182.xml"/><Relationship Id="rId2" Type="http://schemas.openxmlformats.org/officeDocument/2006/relationships/notesMaster" Target="../notesMasters/notesMaster1.xml"/>
</Relationships>
</file>

<file path=ppt/notesSlides/_rels/notesSlide183.xml.rels><?xml version="1.0" encoding="UTF-8"?>
<Relationships xmlns="http://schemas.openxmlformats.org/package/2006/relationships"><Relationship Id="rId1" Type="http://schemas.openxmlformats.org/officeDocument/2006/relationships/slide" Target="../slides/slide183.xml"/><Relationship Id="rId2" Type="http://schemas.openxmlformats.org/officeDocument/2006/relationships/notesMaster" Target="../notesMasters/notesMaster1.xml"/>
</Relationships>
</file>

<file path=ppt/notesSlides/_rels/notesSlide184.xml.rels><?xml version="1.0" encoding="UTF-8"?>
<Relationships xmlns="http://schemas.openxmlformats.org/package/2006/relationships"><Relationship Id="rId1" Type="http://schemas.openxmlformats.org/officeDocument/2006/relationships/slide" Target="../slides/slide184.xml"/><Relationship Id="rId2" Type="http://schemas.openxmlformats.org/officeDocument/2006/relationships/notesMaster" Target="../notesMasters/notesMaster1.xml"/>
</Relationships>
</file>

<file path=ppt/notesSlides/_rels/notesSlide185.xml.rels><?xml version="1.0" encoding="UTF-8"?>
<Relationships xmlns="http://schemas.openxmlformats.org/package/2006/relationships"><Relationship Id="rId1" Type="http://schemas.openxmlformats.org/officeDocument/2006/relationships/slide" Target="../slides/slide185.xml"/><Relationship Id="rId2" Type="http://schemas.openxmlformats.org/officeDocument/2006/relationships/notesMaster" Target="../notesMasters/notesMaster1.xml"/>
</Relationships>
</file>

<file path=ppt/notesSlides/_rels/notesSlide186.xml.rels><?xml version="1.0" encoding="UTF-8"?>
<Relationships xmlns="http://schemas.openxmlformats.org/package/2006/relationships"><Relationship Id="rId1" Type="http://schemas.openxmlformats.org/officeDocument/2006/relationships/slide" Target="../slides/slide186.xml"/><Relationship Id="rId2" Type="http://schemas.openxmlformats.org/officeDocument/2006/relationships/notesMaster" Target="../notesMasters/notesMaster1.xml"/>
</Relationships>
</file>

<file path=ppt/notesSlides/_rels/notesSlide187.xml.rels><?xml version="1.0" encoding="UTF-8"?>
<Relationships xmlns="http://schemas.openxmlformats.org/package/2006/relationships"><Relationship Id="rId1" Type="http://schemas.openxmlformats.org/officeDocument/2006/relationships/slide" Target="../slides/slide187.xml"/><Relationship Id="rId2" Type="http://schemas.openxmlformats.org/officeDocument/2006/relationships/notesMaster" Target="../notesMasters/notesMaster1.xml"/>
</Relationships>
</file>

<file path=ppt/notesSlides/_rels/notesSlide188.xml.rels><?xml version="1.0" encoding="UTF-8"?>
<Relationships xmlns="http://schemas.openxmlformats.org/package/2006/relationships"><Relationship Id="rId1" Type="http://schemas.openxmlformats.org/officeDocument/2006/relationships/slide" Target="../slides/slide188.xml"/><Relationship Id="rId2" Type="http://schemas.openxmlformats.org/officeDocument/2006/relationships/notesMaster" Target="../notesMasters/notesMaster1.xml"/>
</Relationships>
</file>

<file path=ppt/notesSlides/_rels/notesSlide189.xml.rels><?xml version="1.0" encoding="UTF-8"?>
<Relationships xmlns="http://schemas.openxmlformats.org/package/2006/relationships"><Relationship Id="rId1" Type="http://schemas.openxmlformats.org/officeDocument/2006/relationships/slide" Target="../slides/slide189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190.xml.rels><?xml version="1.0" encoding="UTF-8"?>
<Relationships xmlns="http://schemas.openxmlformats.org/package/2006/relationships"><Relationship Id="rId1" Type="http://schemas.openxmlformats.org/officeDocument/2006/relationships/slide" Target="../slides/slide190.xml"/><Relationship Id="rId2" Type="http://schemas.openxmlformats.org/officeDocument/2006/relationships/notesMaster" Target="../notesMasters/notesMaster1.xml"/>
</Relationships>
</file>

<file path=ppt/notesSlides/_rels/notesSlide191.xml.rels><?xml version="1.0" encoding="UTF-8"?>
<Relationships xmlns="http://schemas.openxmlformats.org/package/2006/relationships"><Relationship Id="rId1" Type="http://schemas.openxmlformats.org/officeDocument/2006/relationships/slide" Target="../slides/slide191.xml"/><Relationship Id="rId2" Type="http://schemas.openxmlformats.org/officeDocument/2006/relationships/notesMaster" Target="../notesMasters/notesMaster1.xml"/>
</Relationships>
</file>

<file path=ppt/notesSlides/_rels/notesSlide192.xml.rels><?xml version="1.0" encoding="UTF-8"?>
<Relationships xmlns="http://schemas.openxmlformats.org/package/2006/relationships"><Relationship Id="rId1" Type="http://schemas.openxmlformats.org/officeDocument/2006/relationships/slide" Target="../slides/slide192.xml"/><Relationship Id="rId2" Type="http://schemas.openxmlformats.org/officeDocument/2006/relationships/notesMaster" Target="../notesMasters/notesMaster1.xml"/>
</Relationships>
</file>

<file path=ppt/notesSlides/_rels/notesSlide193.xml.rels><?xml version="1.0" encoding="UTF-8"?>
<Relationships xmlns="http://schemas.openxmlformats.org/package/2006/relationships"><Relationship Id="rId1" Type="http://schemas.openxmlformats.org/officeDocument/2006/relationships/slide" Target="../slides/slide193.xml"/><Relationship Id="rId2" Type="http://schemas.openxmlformats.org/officeDocument/2006/relationships/notesMaster" Target="../notesMasters/notesMaster1.xml"/>
</Relationships>
</file>

<file path=ppt/notesSlides/_rels/notesSlide194.xml.rels><?xml version="1.0" encoding="UTF-8"?>
<Relationships xmlns="http://schemas.openxmlformats.org/package/2006/relationships"><Relationship Id="rId1" Type="http://schemas.openxmlformats.org/officeDocument/2006/relationships/slide" Target="../slides/slide194.xml"/><Relationship Id="rId2" Type="http://schemas.openxmlformats.org/officeDocument/2006/relationships/notesMaster" Target="../notesMasters/notesMaster1.xml"/>
</Relationships>
</file>

<file path=ppt/notesSlides/_rels/notesSlide195.xml.rels><?xml version="1.0" encoding="UTF-8"?>
<Relationships xmlns="http://schemas.openxmlformats.org/package/2006/relationships"><Relationship Id="rId1" Type="http://schemas.openxmlformats.org/officeDocument/2006/relationships/slide" Target="../slides/slide195.xml"/><Relationship Id="rId2" Type="http://schemas.openxmlformats.org/officeDocument/2006/relationships/notesMaster" Target="../notesMasters/notesMaster1.xml"/>
</Relationships>
</file>

<file path=ppt/notesSlides/_rels/notesSlide196.xml.rels><?xml version="1.0" encoding="UTF-8"?>
<Relationships xmlns="http://schemas.openxmlformats.org/package/2006/relationships"><Relationship Id="rId1" Type="http://schemas.openxmlformats.org/officeDocument/2006/relationships/slide" Target="../slides/slide196.xml"/><Relationship Id="rId2" Type="http://schemas.openxmlformats.org/officeDocument/2006/relationships/notesMaster" Target="../notesMasters/notesMaster1.xml"/>
</Relationships>
</file>

<file path=ppt/notesSlides/_rels/notesSlide197.xml.rels><?xml version="1.0" encoding="UTF-8"?>
<Relationships xmlns="http://schemas.openxmlformats.org/package/2006/relationships"><Relationship Id="rId1" Type="http://schemas.openxmlformats.org/officeDocument/2006/relationships/slide" Target="../slides/slide197.xml"/><Relationship Id="rId2" Type="http://schemas.openxmlformats.org/officeDocument/2006/relationships/notesMaster" Target="../notesMasters/notesMaster1.xml"/>
</Relationships>
</file>

<file path=ppt/notesSlides/_rels/notesSlide198.xml.rels><?xml version="1.0" encoding="UTF-8"?>
<Relationships xmlns="http://schemas.openxmlformats.org/package/2006/relationships"><Relationship Id="rId1" Type="http://schemas.openxmlformats.org/officeDocument/2006/relationships/slide" Target="../slides/slide198.xml"/><Relationship Id="rId2" Type="http://schemas.openxmlformats.org/officeDocument/2006/relationships/notesMaster" Target="../notesMasters/notesMaster1.xml"/>
</Relationships>
</file>

<file path=ppt/notesSlides/_rels/notesSlide199.xml.rels><?xml version="1.0" encoding="UTF-8"?>
<Relationships xmlns="http://schemas.openxmlformats.org/package/2006/relationships"><Relationship Id="rId1" Type="http://schemas.openxmlformats.org/officeDocument/2006/relationships/slide" Target="../slides/slide19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00.xml.rels><?xml version="1.0" encoding="UTF-8"?>
<Relationships xmlns="http://schemas.openxmlformats.org/package/2006/relationships"><Relationship Id="rId1" Type="http://schemas.openxmlformats.org/officeDocument/2006/relationships/slide" Target="../slides/slide200.xml"/><Relationship Id="rId2" Type="http://schemas.openxmlformats.org/officeDocument/2006/relationships/notesMaster" Target="../notesMasters/notesMaster1.xml"/>
</Relationships>
</file>

<file path=ppt/notesSlides/_rels/notesSlide201.xml.rels><?xml version="1.0" encoding="UTF-8"?>
<Relationships xmlns="http://schemas.openxmlformats.org/package/2006/relationships"><Relationship Id="rId1" Type="http://schemas.openxmlformats.org/officeDocument/2006/relationships/slide" Target="../slides/slide201.xml"/><Relationship Id="rId2" Type="http://schemas.openxmlformats.org/officeDocument/2006/relationships/notesMaster" Target="../notesMasters/notesMaster1.xml"/>
</Relationships>
</file>

<file path=ppt/notesSlides/_rels/notesSlide202.xml.rels><?xml version="1.0" encoding="UTF-8"?>
<Relationships xmlns="http://schemas.openxmlformats.org/package/2006/relationships"><Relationship Id="rId1" Type="http://schemas.openxmlformats.org/officeDocument/2006/relationships/slide" Target="../slides/slide202.xml"/><Relationship Id="rId2" Type="http://schemas.openxmlformats.org/officeDocument/2006/relationships/notesMaster" Target="../notesMasters/notesMaster1.xml"/>
</Relationships>
</file>

<file path=ppt/notesSlides/_rels/notesSlide203.xml.rels><?xml version="1.0" encoding="UTF-8"?>
<Relationships xmlns="http://schemas.openxmlformats.org/package/2006/relationships"><Relationship Id="rId1" Type="http://schemas.openxmlformats.org/officeDocument/2006/relationships/slide" Target="../slides/slide203.xml"/><Relationship Id="rId2" Type="http://schemas.openxmlformats.org/officeDocument/2006/relationships/notesMaster" Target="../notesMasters/notesMaster1.xml"/>
</Relationships>
</file>

<file path=ppt/notesSlides/_rels/notesSlide204.xml.rels><?xml version="1.0" encoding="UTF-8"?>
<Relationships xmlns="http://schemas.openxmlformats.org/package/2006/relationships"><Relationship Id="rId1" Type="http://schemas.openxmlformats.org/officeDocument/2006/relationships/slide" Target="../slides/slide204.xml"/><Relationship Id="rId2" Type="http://schemas.openxmlformats.org/officeDocument/2006/relationships/notesMaster" Target="../notesMasters/notesMaster1.xml"/>
</Relationships>
</file>

<file path=ppt/notesSlides/_rels/notesSlide205.xml.rels><?xml version="1.0" encoding="UTF-8"?>
<Relationships xmlns="http://schemas.openxmlformats.org/package/2006/relationships"><Relationship Id="rId1" Type="http://schemas.openxmlformats.org/officeDocument/2006/relationships/slide" Target="../slides/slide205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34.xml.rels><?xml version="1.0" encoding="UTF-8"?>
<Relationships xmlns="http://schemas.openxmlformats.org/package/2006/relationships"><Relationship Id="rId1" Type="http://schemas.openxmlformats.org/officeDocument/2006/relationships/slide" Target="../slides/slide234.xml"/><Relationship Id="rId2" Type="http://schemas.openxmlformats.org/officeDocument/2006/relationships/notesMaster" Target="../notesMasters/notesMaster1.xml"/>
</Relationships>
</file>

<file path=ppt/notesSlides/_rels/notesSlide235.xml.rels><?xml version="1.0" encoding="UTF-8"?>
<Relationships xmlns="http://schemas.openxmlformats.org/package/2006/relationships"><Relationship Id="rId1" Type="http://schemas.openxmlformats.org/officeDocument/2006/relationships/slide" Target="../slides/slide235.xml"/><Relationship Id="rId2" Type="http://schemas.openxmlformats.org/officeDocument/2006/relationships/notesMaster" Target="../notesMasters/notesMaster1.xml"/>
</Relationships>
</file>

<file path=ppt/notesSlides/_rels/notesSlide236.xml.rels><?xml version="1.0" encoding="UTF-8"?>
<Relationships xmlns="http://schemas.openxmlformats.org/package/2006/relationships"><Relationship Id="rId1" Type="http://schemas.openxmlformats.org/officeDocument/2006/relationships/slide" Target="../slides/slide236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60.xml.rels><?xml version="1.0" encoding="UTF-8"?>
<Relationships xmlns="http://schemas.openxmlformats.org/package/2006/relationships"><Relationship Id="rId1" Type="http://schemas.openxmlformats.org/officeDocument/2006/relationships/slide" Target="../slides/slide260.xml"/><Relationship Id="rId2" Type="http://schemas.openxmlformats.org/officeDocument/2006/relationships/notesMaster" Target="../notesMasters/notesMaster1.xml"/>
</Relationships>
</file>

<file path=ppt/notesSlides/_rels/notesSlide261.xml.rels><?xml version="1.0" encoding="UTF-8"?>
<Relationships xmlns="http://schemas.openxmlformats.org/package/2006/relationships"><Relationship Id="rId1" Type="http://schemas.openxmlformats.org/officeDocument/2006/relationships/slide" Target="../slides/slide261.xml"/><Relationship Id="rId2" Type="http://schemas.openxmlformats.org/officeDocument/2006/relationships/notesMaster" Target="../notesMasters/notesMaster1.xml"/>
</Relationships>
</file>

<file path=ppt/notesSlides/_rels/notesSlide262.xml.rels><?xml version="1.0" encoding="UTF-8"?>
<Relationships xmlns="http://schemas.openxmlformats.org/package/2006/relationships"><Relationship Id="rId1" Type="http://schemas.openxmlformats.org/officeDocument/2006/relationships/slide" Target="../slides/slide262.xml"/><Relationship Id="rId2" Type="http://schemas.openxmlformats.org/officeDocument/2006/relationships/notesMaster" Target="../notesMasters/notesMaster1.xml"/>
</Relationships>
</file>

<file path=ppt/notesSlides/_rels/notesSlide263.xml.rels><?xml version="1.0" encoding="UTF-8"?>
<Relationships xmlns="http://schemas.openxmlformats.org/package/2006/relationships"><Relationship Id="rId1" Type="http://schemas.openxmlformats.org/officeDocument/2006/relationships/slide" Target="../slides/slide263.xml"/><Relationship Id="rId2" Type="http://schemas.openxmlformats.org/officeDocument/2006/relationships/notesMaster" Target="../notesMasters/notesMaster1.xml"/>
</Relationships>
</file>

<file path=ppt/notesSlides/_rels/notesSlide264.xml.rels><?xml version="1.0" encoding="UTF-8"?>
<Relationships xmlns="http://schemas.openxmlformats.org/package/2006/relationships"><Relationship Id="rId1" Type="http://schemas.openxmlformats.org/officeDocument/2006/relationships/slide" Target="../slides/slide264.xml"/><Relationship Id="rId2" Type="http://schemas.openxmlformats.org/officeDocument/2006/relationships/notesMaster" Target="../notesMasters/notesMaster1.xml"/>
</Relationships>
</file>

<file path=ppt/notesSlides/_rels/notesSlide265.xml.rels><?xml version="1.0" encoding="UTF-8"?>
<Relationships xmlns="http://schemas.openxmlformats.org/package/2006/relationships"><Relationship Id="rId1" Type="http://schemas.openxmlformats.org/officeDocument/2006/relationships/slide" Target="../slides/slide265.xml"/><Relationship Id="rId2" Type="http://schemas.openxmlformats.org/officeDocument/2006/relationships/notesMaster" Target="../notesMasters/notesMaster1.xml"/>
</Relationships>
</file>

<file path=ppt/notesSlides/_rels/notesSlide266.xml.rels><?xml version="1.0" encoding="UTF-8"?>
<Relationships xmlns="http://schemas.openxmlformats.org/package/2006/relationships"><Relationship Id="rId1" Type="http://schemas.openxmlformats.org/officeDocument/2006/relationships/slide" Target="../slides/slide266.xml"/><Relationship Id="rId2" Type="http://schemas.openxmlformats.org/officeDocument/2006/relationships/notesMaster" Target="../notesMasters/notesMaster1.xml"/>
</Relationships>
</file>

<file path=ppt/notesSlides/_rels/notesSlide267.xml.rels><?xml version="1.0" encoding="UTF-8"?>
<Relationships xmlns="http://schemas.openxmlformats.org/package/2006/relationships"><Relationship Id="rId1" Type="http://schemas.openxmlformats.org/officeDocument/2006/relationships/slide" Target="../slides/slide267.xml"/><Relationship Id="rId2" Type="http://schemas.openxmlformats.org/officeDocument/2006/relationships/notesMaster" Target="../notesMasters/notesMaster1.xml"/>
</Relationships>
</file>

<file path=ppt/notesSlides/_rels/notesSlide268.xml.rels><?xml version="1.0" encoding="UTF-8"?>
<Relationships xmlns="http://schemas.openxmlformats.org/package/2006/relationships"><Relationship Id="rId1" Type="http://schemas.openxmlformats.org/officeDocument/2006/relationships/slide" Target="../slides/slide268.xml"/><Relationship Id="rId2" Type="http://schemas.openxmlformats.org/officeDocument/2006/relationships/notesMaster" Target="../notesMasters/notesMaster1.xml"/>
</Relationships>
</file>

<file path=ppt/notesSlides/_rels/notesSlide269.xml.rels><?xml version="1.0" encoding="UTF-8"?>
<Relationships xmlns="http://schemas.openxmlformats.org/package/2006/relationships"><Relationship Id="rId1" Type="http://schemas.openxmlformats.org/officeDocument/2006/relationships/slide" Target="../slides/slide26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70.xml.rels><?xml version="1.0" encoding="UTF-8"?>
<Relationships xmlns="http://schemas.openxmlformats.org/package/2006/relationships"><Relationship Id="rId1" Type="http://schemas.openxmlformats.org/officeDocument/2006/relationships/slide" Target="../slides/slide270.xml"/><Relationship Id="rId2" Type="http://schemas.openxmlformats.org/officeDocument/2006/relationships/notesMaster" Target="../notesMasters/notesMaster1.xml"/>
</Relationships>
</file>

<file path=ppt/notesSlides/_rels/notesSlide271.xml.rels><?xml version="1.0" encoding="UTF-8"?>
<Relationships xmlns="http://schemas.openxmlformats.org/package/2006/relationships"><Relationship Id="rId1" Type="http://schemas.openxmlformats.org/officeDocument/2006/relationships/slide" Target="../slides/slide271.xml"/><Relationship Id="rId2" Type="http://schemas.openxmlformats.org/officeDocument/2006/relationships/notesMaster" Target="../notesMasters/notesMaster1.xml"/>
</Relationships>
</file>

<file path=ppt/notesSlides/_rels/notesSlide272.xml.rels><?xml version="1.0" encoding="UTF-8"?>
<Relationships xmlns="http://schemas.openxmlformats.org/package/2006/relationships"><Relationship Id="rId1" Type="http://schemas.openxmlformats.org/officeDocument/2006/relationships/slide" Target="../slides/slide272.xml"/><Relationship Id="rId2" Type="http://schemas.openxmlformats.org/officeDocument/2006/relationships/notesMaster" Target="../notesMasters/notesMaster1.xml"/>
</Relationships>
</file>

<file path=ppt/notesSlides/_rels/notesSlide273.xml.rels><?xml version="1.0" encoding="UTF-8"?>
<Relationships xmlns="http://schemas.openxmlformats.org/package/2006/relationships"><Relationship Id="rId1" Type="http://schemas.openxmlformats.org/officeDocument/2006/relationships/slide" Target="../slides/slide273.xml"/><Relationship Id="rId2" Type="http://schemas.openxmlformats.org/officeDocument/2006/relationships/notesMaster" Target="../notesMasters/notesMaster1.xml"/>
</Relationships>
</file>

<file path=ppt/notesSlides/_rels/notesSlide274.xml.rels><?xml version="1.0" encoding="UTF-8"?>
<Relationships xmlns="http://schemas.openxmlformats.org/package/2006/relationships"><Relationship Id="rId1" Type="http://schemas.openxmlformats.org/officeDocument/2006/relationships/slide" Target="../slides/slide274.xml"/><Relationship Id="rId2" Type="http://schemas.openxmlformats.org/officeDocument/2006/relationships/notesMaster" Target="../notesMasters/notesMaster1.xml"/>
</Relationships>
</file>

<file path=ppt/notesSlides/_rels/notesSlide275.xml.rels><?xml version="1.0" encoding="UTF-8"?>
<Relationships xmlns="http://schemas.openxmlformats.org/package/2006/relationships"><Relationship Id="rId1" Type="http://schemas.openxmlformats.org/officeDocument/2006/relationships/slide" Target="../slides/slide275.xml"/><Relationship Id="rId2" Type="http://schemas.openxmlformats.org/officeDocument/2006/relationships/notesMaster" Target="../notesMasters/notesMaster1.xml"/>
</Relationships>
</file>

<file path=ppt/notesSlides/_rels/notesSlide276.xml.rels><?xml version="1.0" encoding="UTF-8"?>
<Relationships xmlns="http://schemas.openxmlformats.org/package/2006/relationships"><Relationship Id="rId1" Type="http://schemas.openxmlformats.org/officeDocument/2006/relationships/slide" Target="../slides/slide276.xml"/><Relationship Id="rId2" Type="http://schemas.openxmlformats.org/officeDocument/2006/relationships/notesMaster" Target="../notesMasters/notesMaster1.xml"/>
</Relationships>
</file>

<file path=ppt/notesSlides/_rels/notesSlide277.xml.rels><?xml version="1.0" encoding="UTF-8"?>
<Relationships xmlns="http://schemas.openxmlformats.org/package/2006/relationships"><Relationship Id="rId1" Type="http://schemas.openxmlformats.org/officeDocument/2006/relationships/slide" Target="../slides/slide277.xml"/><Relationship Id="rId2" Type="http://schemas.openxmlformats.org/officeDocument/2006/relationships/notesMaster" Target="../notesMasters/notesMaster1.xml"/>
</Relationships>
</file>

<file path=ppt/notesSlides/_rels/notesSlide278.xml.rels><?xml version="1.0" encoding="UTF-8"?>
<Relationships xmlns="http://schemas.openxmlformats.org/package/2006/relationships"><Relationship Id="rId1" Type="http://schemas.openxmlformats.org/officeDocument/2006/relationships/slide" Target="../slides/slide278.xml"/><Relationship Id="rId2" Type="http://schemas.openxmlformats.org/officeDocument/2006/relationships/notesMaster" Target="../notesMasters/notesMaster1.xml"/>
</Relationships>
</file>

<file path=ppt/notesSlides/_rels/notesSlide279.xml.rels><?xml version="1.0" encoding="UTF-8"?>
<Relationships xmlns="http://schemas.openxmlformats.org/package/2006/relationships"><Relationship Id="rId1" Type="http://schemas.openxmlformats.org/officeDocument/2006/relationships/slide" Target="../slides/slide279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80.xml.rels><?xml version="1.0" encoding="UTF-8"?>
<Relationships xmlns="http://schemas.openxmlformats.org/package/2006/relationships"><Relationship Id="rId1" Type="http://schemas.openxmlformats.org/officeDocument/2006/relationships/slide" Target="../slides/slide280.xml"/><Relationship Id="rId2" Type="http://schemas.openxmlformats.org/officeDocument/2006/relationships/notesMaster" Target="../notesMasters/notesMaster1.xml"/>
</Relationships>
</file>

<file path=ppt/notesSlides/_rels/notesSlide281.xml.rels><?xml version="1.0" encoding="UTF-8"?>
<Relationships xmlns="http://schemas.openxmlformats.org/package/2006/relationships"><Relationship Id="rId1" Type="http://schemas.openxmlformats.org/officeDocument/2006/relationships/slide" Target="../slides/slide281.xml"/><Relationship Id="rId2" Type="http://schemas.openxmlformats.org/officeDocument/2006/relationships/notesMaster" Target="../notesMasters/notesMaster1.xml"/>
</Relationships>
</file>

<file path=ppt/notesSlides/_rels/notesSlide282.xml.rels><?xml version="1.0" encoding="UTF-8"?>
<Relationships xmlns="http://schemas.openxmlformats.org/package/2006/relationships"><Relationship Id="rId1" Type="http://schemas.openxmlformats.org/officeDocument/2006/relationships/slide" Target="../slides/slide282.xml"/><Relationship Id="rId2" Type="http://schemas.openxmlformats.org/officeDocument/2006/relationships/notesMaster" Target="../notesMasters/notesMaster1.xml"/>
</Relationships>
</file>

<file path=ppt/notesSlides/_rels/notesSlide283.xml.rels><?xml version="1.0" encoding="UTF-8"?>
<Relationships xmlns="http://schemas.openxmlformats.org/package/2006/relationships"><Relationship Id="rId1" Type="http://schemas.openxmlformats.org/officeDocument/2006/relationships/slide" Target="../slides/slide283.xml"/><Relationship Id="rId2" Type="http://schemas.openxmlformats.org/officeDocument/2006/relationships/notesMaster" Target="../notesMasters/notesMaster1.xml"/>
</Relationships>
</file>

<file path=ppt/notesSlides/_rels/notesSlide284.xml.rels><?xml version="1.0" encoding="UTF-8"?>
<Relationships xmlns="http://schemas.openxmlformats.org/package/2006/relationships"><Relationship Id="rId1" Type="http://schemas.openxmlformats.org/officeDocument/2006/relationships/slide" Target="../slides/slide284.xml"/><Relationship Id="rId2" Type="http://schemas.openxmlformats.org/officeDocument/2006/relationships/notesMaster" Target="../notesMasters/notesMaster1.xml"/>
</Relationships>
</file>

<file path=ppt/notesSlides/_rels/notesSlide285.xml.rels><?xml version="1.0" encoding="UTF-8"?>
<Relationships xmlns="http://schemas.openxmlformats.org/package/2006/relationships"><Relationship Id="rId1" Type="http://schemas.openxmlformats.org/officeDocument/2006/relationships/slide" Target="../slides/slide285.xml"/><Relationship Id="rId2" Type="http://schemas.openxmlformats.org/officeDocument/2006/relationships/notesMaster" Target="../notesMasters/notesMaster1.xml"/>
</Relationships>
</file>

<file path=ppt/notesSlides/_rels/notesSlide286.xml.rels><?xml version="1.0" encoding="UTF-8"?>
<Relationships xmlns="http://schemas.openxmlformats.org/package/2006/relationships"><Relationship Id="rId1" Type="http://schemas.openxmlformats.org/officeDocument/2006/relationships/slide" Target="../slides/slide286.xml"/><Relationship Id="rId2" Type="http://schemas.openxmlformats.org/officeDocument/2006/relationships/notesMaster" Target="../notesMasters/notesMaster1.xml"/>
</Relationships>
</file>

<file path=ppt/notesSlides/_rels/notesSlide287.xml.rels><?xml version="1.0" encoding="UTF-8"?>
<Relationships xmlns="http://schemas.openxmlformats.org/package/2006/relationships"><Relationship Id="rId1" Type="http://schemas.openxmlformats.org/officeDocument/2006/relationships/slide" Target="../slides/slide287.xml"/><Relationship Id="rId2" Type="http://schemas.openxmlformats.org/officeDocument/2006/relationships/notesMaster" Target="../notesMasters/notesMaster1.xml"/>
</Relationships>
</file>

<file path=ppt/notesSlides/_rels/notesSlide288.xml.rels><?xml version="1.0" encoding="UTF-8"?>
<Relationships xmlns="http://schemas.openxmlformats.org/package/2006/relationships"><Relationship Id="rId1" Type="http://schemas.openxmlformats.org/officeDocument/2006/relationships/slide" Target="../slides/slide288.xml"/><Relationship Id="rId2" Type="http://schemas.openxmlformats.org/officeDocument/2006/relationships/notesMaster" Target="../notesMasters/notesMaster1.xml"/>
</Relationships>
</file>

<file path=ppt/notesSlides/_rels/notesSlide289.xml.rels><?xml version="1.0" encoding="UTF-8"?>
<Relationships xmlns="http://schemas.openxmlformats.org/package/2006/relationships"><Relationship Id="rId1" Type="http://schemas.openxmlformats.org/officeDocument/2006/relationships/slide" Target="../slides/slide289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290.xml.rels><?xml version="1.0" encoding="UTF-8"?>
<Relationships xmlns="http://schemas.openxmlformats.org/package/2006/relationships"><Relationship Id="rId1" Type="http://schemas.openxmlformats.org/officeDocument/2006/relationships/slide" Target="../slides/slide290.xml"/><Relationship Id="rId2" Type="http://schemas.openxmlformats.org/officeDocument/2006/relationships/notesMaster" Target="../notesMasters/notesMaster1.xml"/>
</Relationships>
</file>

<file path=ppt/notesSlides/_rels/notesSlide291.xml.rels><?xml version="1.0" encoding="UTF-8"?>
<Relationships xmlns="http://schemas.openxmlformats.org/package/2006/relationships"><Relationship Id="rId1" Type="http://schemas.openxmlformats.org/officeDocument/2006/relationships/slide" Target="../slides/slide291.xml"/><Relationship Id="rId2" Type="http://schemas.openxmlformats.org/officeDocument/2006/relationships/notesMaster" Target="../notesMasters/notesMaster1.xml"/>
</Relationships>
</file>

<file path=ppt/notesSlides/_rels/notesSlide292.xml.rels><?xml version="1.0" encoding="UTF-8"?>
<Relationships xmlns="http://schemas.openxmlformats.org/package/2006/relationships"><Relationship Id="rId1" Type="http://schemas.openxmlformats.org/officeDocument/2006/relationships/slide" Target="../slides/slide292.xml"/><Relationship Id="rId2" Type="http://schemas.openxmlformats.org/officeDocument/2006/relationships/notesMaster" Target="../notesMasters/notesMaster1.xml"/>
</Relationships>
</file>

<file path=ppt/notesSlides/_rels/notesSlide293.xml.rels><?xml version="1.0" encoding="UTF-8"?>
<Relationships xmlns="http://schemas.openxmlformats.org/package/2006/relationships"><Relationship Id="rId1" Type="http://schemas.openxmlformats.org/officeDocument/2006/relationships/slide" Target="../slides/slide293.xml"/><Relationship Id="rId2" Type="http://schemas.openxmlformats.org/officeDocument/2006/relationships/notesMaster" Target="../notesMasters/notesMaster1.xml"/>
</Relationships>
</file>

<file path=ppt/notesSlides/_rels/notesSlide294.xml.rels><?xml version="1.0" encoding="UTF-8"?>
<Relationships xmlns="http://schemas.openxmlformats.org/package/2006/relationships"><Relationship Id="rId1" Type="http://schemas.openxmlformats.org/officeDocument/2006/relationships/slide" Target="../slides/slide294.xml"/><Relationship Id="rId2" Type="http://schemas.openxmlformats.org/officeDocument/2006/relationships/notesMaster" Target="../notesMasters/notesMaster1.xml"/>
</Relationships>
</file>

<file path=ppt/notesSlides/_rels/notesSlide295.xml.rels><?xml version="1.0" encoding="UTF-8"?>
<Relationships xmlns="http://schemas.openxmlformats.org/package/2006/relationships"><Relationship Id="rId1" Type="http://schemas.openxmlformats.org/officeDocument/2006/relationships/slide" Target="../slides/slide295.xml"/><Relationship Id="rId2" Type="http://schemas.openxmlformats.org/officeDocument/2006/relationships/notesMaster" Target="../notesMasters/notesMaster1.xml"/>
</Relationships>
</file>

<file path=ppt/notesSlides/_rels/notesSlide296.xml.rels><?xml version="1.0" encoding="UTF-8"?>
<Relationships xmlns="http://schemas.openxmlformats.org/package/2006/relationships"><Relationship Id="rId1" Type="http://schemas.openxmlformats.org/officeDocument/2006/relationships/slide" Target="../slides/slide296.xml"/><Relationship Id="rId2" Type="http://schemas.openxmlformats.org/officeDocument/2006/relationships/notesMaster" Target="../notesMasters/notesMaster1.xml"/>
</Relationships>
</file>

<file path=ppt/notesSlides/_rels/notesSlide297.xml.rels><?xml version="1.0" encoding="UTF-8"?>
<Relationships xmlns="http://schemas.openxmlformats.org/package/2006/relationships"><Relationship Id="rId1" Type="http://schemas.openxmlformats.org/officeDocument/2006/relationships/slide" Target="../slides/slide297.xml"/><Relationship Id="rId2" Type="http://schemas.openxmlformats.org/officeDocument/2006/relationships/notesMaster" Target="../notesMasters/notesMaster1.xml"/>
</Relationships>
</file>

<file path=ppt/notesSlides/_rels/notesSlide298.xml.rels><?xml version="1.0" encoding="UTF-8"?>
<Relationships xmlns="http://schemas.openxmlformats.org/package/2006/relationships"><Relationship Id="rId1" Type="http://schemas.openxmlformats.org/officeDocument/2006/relationships/slide" Target="../slides/slide298.xml"/><Relationship Id="rId2" Type="http://schemas.openxmlformats.org/officeDocument/2006/relationships/notesMaster" Target="../notesMasters/notesMaster1.xml"/>
</Relationships>
</file>

<file path=ppt/notesSlides/_rels/notesSlide299.xml.rels><?xml version="1.0" encoding="UTF-8"?>
<Relationships xmlns="http://schemas.openxmlformats.org/package/2006/relationships"><Relationship Id="rId1" Type="http://schemas.openxmlformats.org/officeDocument/2006/relationships/slide" Target="../slides/slide29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00.xml.rels><?xml version="1.0" encoding="UTF-8"?>
<Relationships xmlns="http://schemas.openxmlformats.org/package/2006/relationships"><Relationship Id="rId1" Type="http://schemas.openxmlformats.org/officeDocument/2006/relationships/slide" Target="../slides/slide300.xml"/><Relationship Id="rId2" Type="http://schemas.openxmlformats.org/officeDocument/2006/relationships/notesMaster" Target="../notesMasters/notesMaster1.xml"/>
</Relationships>
</file>

<file path=ppt/notesSlides/_rels/notesSlide301.xml.rels><?xml version="1.0" encoding="UTF-8"?>
<Relationships xmlns="http://schemas.openxmlformats.org/package/2006/relationships"><Relationship Id="rId1" Type="http://schemas.openxmlformats.org/officeDocument/2006/relationships/slide" Target="../slides/slide301.xml"/><Relationship Id="rId2" Type="http://schemas.openxmlformats.org/officeDocument/2006/relationships/notesMaster" Target="../notesMasters/notesMaster1.xml"/>
</Relationships>
</file>

<file path=ppt/notesSlides/_rels/notesSlide302.xml.rels><?xml version="1.0" encoding="UTF-8"?>
<Relationships xmlns="http://schemas.openxmlformats.org/package/2006/relationships"><Relationship Id="rId1" Type="http://schemas.openxmlformats.org/officeDocument/2006/relationships/slide" Target="../slides/slide302.xml"/><Relationship Id="rId2" Type="http://schemas.openxmlformats.org/officeDocument/2006/relationships/notesMaster" Target="../notesMasters/notesMaster1.xml"/>
</Relationships>
</file>

<file path=ppt/notesSlides/_rels/notesSlide303.xml.rels><?xml version="1.0" encoding="UTF-8"?>
<Relationships xmlns="http://schemas.openxmlformats.org/package/2006/relationships"><Relationship Id="rId1" Type="http://schemas.openxmlformats.org/officeDocument/2006/relationships/slide" Target="../slides/slide303.xml"/><Relationship Id="rId2" Type="http://schemas.openxmlformats.org/officeDocument/2006/relationships/notesMaster" Target="../notesMasters/notesMaster1.xml"/>
</Relationships>
</file>

<file path=ppt/notesSlides/_rels/notesSlide304.xml.rels><?xml version="1.0" encoding="UTF-8"?>
<Relationships xmlns="http://schemas.openxmlformats.org/package/2006/relationships"><Relationship Id="rId1" Type="http://schemas.openxmlformats.org/officeDocument/2006/relationships/slide" Target="../slides/slide304.xml"/><Relationship Id="rId2" Type="http://schemas.openxmlformats.org/officeDocument/2006/relationships/notesMaster" Target="../notesMasters/notesMaster1.xml"/>
</Relationships>
</file>

<file path=ppt/notesSlides/_rels/notesSlide305.xml.rels><?xml version="1.0" encoding="UTF-8"?>
<Relationships xmlns="http://schemas.openxmlformats.org/package/2006/relationships"><Relationship Id="rId1" Type="http://schemas.openxmlformats.org/officeDocument/2006/relationships/slide" Target="../slides/slide305.xml"/><Relationship Id="rId2" Type="http://schemas.openxmlformats.org/officeDocument/2006/relationships/notesMaster" Target="../notesMasters/notesMaster1.xml"/>
</Relationships>
</file>

<file path=ppt/notesSlides/_rels/notesSlide306.xml.rels><?xml version="1.0" encoding="UTF-8"?>
<Relationships xmlns="http://schemas.openxmlformats.org/package/2006/relationships"><Relationship Id="rId1" Type="http://schemas.openxmlformats.org/officeDocument/2006/relationships/slide" Target="../slides/slide306.xml"/><Relationship Id="rId2" Type="http://schemas.openxmlformats.org/officeDocument/2006/relationships/notesMaster" Target="../notesMasters/notesMaster1.xml"/>
</Relationships>
</file>

<file path=ppt/notesSlides/_rels/notesSlide307.xml.rels><?xml version="1.0" encoding="UTF-8"?>
<Relationships xmlns="http://schemas.openxmlformats.org/package/2006/relationships"><Relationship Id="rId1" Type="http://schemas.openxmlformats.org/officeDocument/2006/relationships/slide" Target="../slides/slide307.xml"/><Relationship Id="rId2" Type="http://schemas.openxmlformats.org/officeDocument/2006/relationships/notesMaster" Target="../notesMasters/notesMaster1.xml"/>
</Relationships>
</file>

<file path=ppt/notesSlides/_rels/notesSlide308.xml.rels><?xml version="1.0" encoding="UTF-8"?>
<Relationships xmlns="http://schemas.openxmlformats.org/package/2006/relationships"><Relationship Id="rId1" Type="http://schemas.openxmlformats.org/officeDocument/2006/relationships/slide" Target="../slides/slide308.xml"/><Relationship Id="rId2" Type="http://schemas.openxmlformats.org/officeDocument/2006/relationships/notesMaster" Target="../notesMasters/notesMaster1.xml"/>
</Relationships>
</file>

<file path=ppt/notesSlides/_rels/notesSlide309.xml.rels><?xml version="1.0" encoding="UTF-8"?>
<Relationships xmlns="http://schemas.openxmlformats.org/package/2006/relationships"><Relationship Id="rId1" Type="http://schemas.openxmlformats.org/officeDocument/2006/relationships/slide" Target="../slides/slide309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10.xml.rels><?xml version="1.0" encoding="UTF-8"?>
<Relationships xmlns="http://schemas.openxmlformats.org/package/2006/relationships"><Relationship Id="rId1" Type="http://schemas.openxmlformats.org/officeDocument/2006/relationships/slide" Target="../slides/slide310.xml"/><Relationship Id="rId2" Type="http://schemas.openxmlformats.org/officeDocument/2006/relationships/notesMaster" Target="../notesMasters/notesMaster1.xml"/>
</Relationships>
</file>

<file path=ppt/notesSlides/_rels/notesSlide311.xml.rels><?xml version="1.0" encoding="UTF-8"?>
<Relationships xmlns="http://schemas.openxmlformats.org/package/2006/relationships"><Relationship Id="rId1" Type="http://schemas.openxmlformats.org/officeDocument/2006/relationships/slide" Target="../slides/slide311.xml"/><Relationship Id="rId2" Type="http://schemas.openxmlformats.org/officeDocument/2006/relationships/notesMaster" Target="../notesMasters/notesMaster1.xml"/>
</Relationships>
</file>

<file path=ppt/notesSlides/_rels/notesSlide312.xml.rels><?xml version="1.0" encoding="UTF-8"?>
<Relationships xmlns="http://schemas.openxmlformats.org/package/2006/relationships"><Relationship Id="rId1" Type="http://schemas.openxmlformats.org/officeDocument/2006/relationships/slide" Target="../slides/slide312.xml"/><Relationship Id="rId2" Type="http://schemas.openxmlformats.org/officeDocument/2006/relationships/notesMaster" Target="../notesMasters/notesMaster1.xml"/>
</Relationships>
</file>

<file path=ppt/notesSlides/_rels/notesSlide313.xml.rels><?xml version="1.0" encoding="UTF-8"?>
<Relationships xmlns="http://schemas.openxmlformats.org/package/2006/relationships"><Relationship Id="rId1" Type="http://schemas.openxmlformats.org/officeDocument/2006/relationships/slide" Target="../slides/slide313.xml"/><Relationship Id="rId2" Type="http://schemas.openxmlformats.org/officeDocument/2006/relationships/notesMaster" Target="../notesMasters/notesMaster1.xml"/>
</Relationships>
</file>

<file path=ppt/notesSlides/_rels/notesSlide314.xml.rels><?xml version="1.0" encoding="UTF-8"?>
<Relationships xmlns="http://schemas.openxmlformats.org/package/2006/relationships"><Relationship Id="rId1" Type="http://schemas.openxmlformats.org/officeDocument/2006/relationships/slide" Target="../slides/slide314.xml"/><Relationship Id="rId2" Type="http://schemas.openxmlformats.org/officeDocument/2006/relationships/notesMaster" Target="../notesMasters/notesMaster1.xml"/>
</Relationships>
</file>

<file path=ppt/notesSlides/_rels/notesSlide315.xml.rels><?xml version="1.0" encoding="UTF-8"?>
<Relationships xmlns="http://schemas.openxmlformats.org/package/2006/relationships"><Relationship Id="rId1" Type="http://schemas.openxmlformats.org/officeDocument/2006/relationships/slide" Target="../slides/slide315.xml"/><Relationship Id="rId2" Type="http://schemas.openxmlformats.org/officeDocument/2006/relationships/notesMaster" Target="../notesMasters/notesMaster1.xml"/>
</Relationships>
</file>

<file path=ppt/notesSlides/_rels/notesSlide316.xml.rels><?xml version="1.0" encoding="UTF-8"?>
<Relationships xmlns="http://schemas.openxmlformats.org/package/2006/relationships"><Relationship Id="rId1" Type="http://schemas.openxmlformats.org/officeDocument/2006/relationships/slide" Target="../slides/slide316.xml"/><Relationship Id="rId2" Type="http://schemas.openxmlformats.org/officeDocument/2006/relationships/notesMaster" Target="../notesMasters/notesMaster1.xml"/>
</Relationships>
</file>

<file path=ppt/notesSlides/_rels/notesSlide317.xml.rels><?xml version="1.0" encoding="UTF-8"?>
<Relationships xmlns="http://schemas.openxmlformats.org/package/2006/relationships"><Relationship Id="rId1" Type="http://schemas.openxmlformats.org/officeDocument/2006/relationships/slide" Target="../slides/slide317.xml"/><Relationship Id="rId2" Type="http://schemas.openxmlformats.org/officeDocument/2006/relationships/notesMaster" Target="../notesMasters/notesMaster1.xml"/>
</Relationships>
</file>

<file path=ppt/notesSlides/_rels/notesSlide318.xml.rels><?xml version="1.0" encoding="UTF-8"?>
<Relationships xmlns="http://schemas.openxmlformats.org/package/2006/relationships"><Relationship Id="rId1" Type="http://schemas.openxmlformats.org/officeDocument/2006/relationships/slide" Target="../slides/slide318.xml"/><Relationship Id="rId2" Type="http://schemas.openxmlformats.org/officeDocument/2006/relationships/notesMaster" Target="../notesMasters/notesMaster1.xml"/>
</Relationships>
</file>

<file path=ppt/notesSlides/_rels/notesSlide319.xml.rels><?xml version="1.0" encoding="UTF-8"?>
<Relationships xmlns="http://schemas.openxmlformats.org/package/2006/relationships"><Relationship Id="rId1" Type="http://schemas.openxmlformats.org/officeDocument/2006/relationships/slide" Target="../slides/slide319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20.xml.rels><?xml version="1.0" encoding="UTF-8"?>
<Relationships xmlns="http://schemas.openxmlformats.org/package/2006/relationships"><Relationship Id="rId1" Type="http://schemas.openxmlformats.org/officeDocument/2006/relationships/slide" Target="../slides/slide320.xml"/><Relationship Id="rId2" Type="http://schemas.openxmlformats.org/officeDocument/2006/relationships/notesMaster" Target="../notesMasters/notesMaster1.xml"/>
</Relationships>
</file>

<file path=ppt/notesSlides/_rels/notesSlide321.xml.rels><?xml version="1.0" encoding="UTF-8"?>
<Relationships xmlns="http://schemas.openxmlformats.org/package/2006/relationships"><Relationship Id="rId1" Type="http://schemas.openxmlformats.org/officeDocument/2006/relationships/slide" Target="../slides/slide321.xml"/><Relationship Id="rId2" Type="http://schemas.openxmlformats.org/officeDocument/2006/relationships/notesMaster" Target="../notesMasters/notesMaster1.xml"/>
</Relationships>
</file>

<file path=ppt/notesSlides/_rels/notesSlide322.xml.rels><?xml version="1.0" encoding="UTF-8"?>
<Relationships xmlns="http://schemas.openxmlformats.org/package/2006/relationships"><Relationship Id="rId1" Type="http://schemas.openxmlformats.org/officeDocument/2006/relationships/slide" Target="../slides/slide32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89.xml.rels><?xml version="1.0" encoding="UTF-8"?>
<Relationships xmlns="http://schemas.openxmlformats.org/package/2006/relationships"><Relationship Id="rId1" Type="http://schemas.openxmlformats.org/officeDocument/2006/relationships/slide" Target="../slides/slide89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_rels/notesSlide91.xml.rels><?xml version="1.0" encoding="UTF-8"?>
<Relationships xmlns="http://schemas.openxmlformats.org/package/2006/relationships"><Relationship Id="rId1" Type="http://schemas.openxmlformats.org/officeDocument/2006/relationships/slide" Target="../slides/slide91.xml"/><Relationship Id="rId2" Type="http://schemas.openxmlformats.org/officeDocument/2006/relationships/notesMaster" Target="../notesMasters/notesMaster1.xml"/>
</Relationships>
</file>

<file path=ppt/notesSlides/_rels/notesSlide92.xml.rels><?xml version="1.0" encoding="UTF-8"?>
<Relationships xmlns="http://schemas.openxmlformats.org/package/2006/relationships"><Relationship Id="rId1" Type="http://schemas.openxmlformats.org/officeDocument/2006/relationships/slide" Target="../slides/slide92.xml"/><Relationship Id="rId2" Type="http://schemas.openxmlformats.org/officeDocument/2006/relationships/notesMaster" Target="../notesMasters/notesMaster1.xml"/>
</Relationships>
</file>

<file path=ppt/notesSlides/_rels/notesSlide93.xml.rels><?xml version="1.0" encoding="UTF-8"?>
<Relationships xmlns="http://schemas.openxmlformats.org/package/2006/relationships"><Relationship Id="rId1" Type="http://schemas.openxmlformats.org/officeDocument/2006/relationships/slide" Target="../slides/slide93.xml"/><Relationship Id="rId2" Type="http://schemas.openxmlformats.org/officeDocument/2006/relationships/notesMaster" Target="../notesMasters/notesMaster1.xml"/>
</Relationships>
</file>

<file path=ppt/notesSlides/_rels/notesSlide94.xml.rels><?xml version="1.0" encoding="UTF-8"?>
<Relationships xmlns="http://schemas.openxmlformats.org/package/2006/relationships"><Relationship Id="rId1" Type="http://schemas.openxmlformats.org/officeDocument/2006/relationships/slide" Target="../slides/slide94.xml"/><Relationship Id="rId2" Type="http://schemas.openxmlformats.org/officeDocument/2006/relationships/notesMaster" Target="../notesMasters/notesMaster1.xml"/>
</Relationships>
</file>

<file path=ppt/notesSlides/_rels/notesSlide95.xml.rels><?xml version="1.0" encoding="UTF-8"?>
<Relationships xmlns="http://schemas.openxmlformats.org/package/2006/relationships"><Relationship Id="rId1" Type="http://schemas.openxmlformats.org/officeDocument/2006/relationships/slide" Target="../slides/slide95.xml"/><Relationship Id="rId2" Type="http://schemas.openxmlformats.org/officeDocument/2006/relationships/notesMaster" Target="../notesMasters/notesMaster1.xml"/>
</Relationships>
</file>

<file path=ppt/notesSlides/_rels/notesSlide96.xml.rels><?xml version="1.0" encoding="UTF-8"?>
<Relationships xmlns="http://schemas.openxmlformats.org/package/2006/relationships"><Relationship Id="rId1" Type="http://schemas.openxmlformats.org/officeDocument/2006/relationships/slide" Target="../slides/slide96.xml"/><Relationship Id="rId2" Type="http://schemas.openxmlformats.org/officeDocument/2006/relationships/notesMaster" Target="../notesMasters/notesMaster1.xml"/>
</Relationships>
</file>

<file path=ppt/notesSlides/_rels/notesSlide97.xml.rels><?xml version="1.0" encoding="UTF-8"?>
<Relationships xmlns="http://schemas.openxmlformats.org/package/2006/relationships"><Relationship Id="rId1" Type="http://schemas.openxmlformats.org/officeDocument/2006/relationships/slide" Target="../slides/slide97.xml"/><Relationship Id="rId2" Type="http://schemas.openxmlformats.org/officeDocument/2006/relationships/notesMaster" Target="../notesMasters/notesMaster1.xml"/>
</Relationships>
</file>

<file path=ppt/notesSlides/_rels/notesSlide98.xml.rels><?xml version="1.0" encoding="UTF-8"?>
<Relationships xmlns="http://schemas.openxmlformats.org/package/2006/relationships"><Relationship Id="rId1" Type="http://schemas.openxmlformats.org/officeDocument/2006/relationships/slide" Target="../slides/slide98.xml"/><Relationship Id="rId2" Type="http://schemas.openxmlformats.org/officeDocument/2006/relationships/notesMaster" Target="../notesMasters/notesMaster1.xml"/>
</Relationships>
</file>

<file path=ppt/notesSlides/_rels/notesSlide99.xml.rels><?xml version="1.0" encoding="UTF-8"?>
<Relationships xmlns="http://schemas.openxmlformats.org/package/2006/relationships"><Relationship Id="rId1" Type="http://schemas.openxmlformats.org/officeDocument/2006/relationships/slide" Target="../slides/slide99.xml"/><Relationship Id="rId2" Type="http://schemas.openxmlformats.org/officeDocument/2006/relationships/notesMaster" Target="../notesMasters/notesMaster1.xml"/>
</Relationships>
</file>

<file path=ppt/notesSlides/notesSlide10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DDF31-355B-46E3-97EE-A8EABF2FA69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4B230-CAC2-4ADA-9098-77E680F255D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54E0C-C67F-45E7-B9B7-0320F03394A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0ABDE-BC82-45A8-92A1-8149F19A4D4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65F1D-6C2D-4603-BC37-181EA62BD93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A606F-42D0-4A2D-A0CD-37538842CA7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1ECE0-C950-4839-9383-CEFC9F81D64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BD69B-EF71-4DBF-865B-803CA6A09DE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53A4C-6EE6-448B-BCB1-DA35559280B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122F4-26E7-48ED-B6E7-3D3C0382F0F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5B4EE-6E52-4BA0-931E-13703C53FCE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3B79D-5FF4-475A-B64D-0E0CC84A349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418FA-B0D3-4B9A-8C85-915476EDD0C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388620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/19/9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0" y="868680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0" y="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PlaceHolder 1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  <p:sp>
        <p:nvSpPr>
          <p:cNvPr id="1373" name="PlaceHolder 2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C55C6-499E-42CE-8B14-F5F9960B119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B4FE3-827C-4F51-93AC-08C0515A368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69761-A56B-471F-8644-808774E80D3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EEE8B-6A88-4C1E-9A5C-CC9EC11C13D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29E36-13C7-402C-B0CF-025556833E2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24DD2-59F2-476A-934B-D40F76A34FD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35619-BC4C-4A5D-9725-903E8D05093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192A5-1B36-4F7F-AE8D-B4C5E246866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68506-CE9E-4D00-9962-5D7BF8B24CD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4559E-7EC7-4FF6-9053-41DA0E67422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E57C9-1F51-4EE7-9F49-C9074375A1A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4A227-375A-4223-B495-DA767323ED5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C1FD3-00FB-4710-A156-588F8B61B30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BF082-EB77-4E8E-BBD7-CFC25DA0D62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19E8E-9A84-4914-A11D-DA8E7F414F9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3E0E3-2113-4BE6-9FC7-B140B5113F6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0D74C-55FD-44D3-B2B1-30067B4833C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9D15B-A21A-46E6-938F-55D24131DBA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4C043-E4B6-4AAA-A08A-90C1093FF64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E9E29-17EC-43C9-A74B-4056BFB4638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F8C48-F2FF-463B-8007-01EEC7F9E21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EE5FF-1B7F-4DB1-A0C4-B16B9CB55C6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6753D-2A68-43C9-8392-09D6A3A2AB0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DFF91-06C3-4FFD-B762-D964BBE1521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173AF-7608-482E-B97A-F5582D66313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6F752-35E1-42E4-92F2-9D8E1CFDCFF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2752E-B794-4D07-BA59-759CCDA50D5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43979-E22E-40C5-8E8E-9F6AC7A93F0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9D1C6-31D0-48BA-85CF-2586002B6FD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41368-96F9-4CDA-AF5C-33B22F887CA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84E21-D0D6-4ED4-9C11-DDC305C95BA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61FC7-C5CE-416E-B544-98CEFBB62E3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52577-33B2-4F94-89EF-3912D000F1F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94219-45B4-4921-A9FC-963BDD11E87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57251-2521-4DC8-AA70-DF0324A68D3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54741-8FE2-4821-9BBC-8BDF0E5989E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09753-5D41-457A-B958-0EAC975AE64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24D44-B499-4C2F-9B85-6EE9B58CA1B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32A1A-40A7-44CF-9EC9-4515DCA7E30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E85DF-E7B6-478A-8895-B85535FBFDD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1AB1B-FEBB-442B-ABF1-961BFF13E1E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886E7-25E0-4EE9-A691-EEA0FCB92FC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A6A24-3AAA-4CB1-BBDF-19528599D8E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9123C-8BA6-4ECB-8A2B-CC7F504BF54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6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1A9CD-B7E4-4525-9B1C-F6CC194BFBE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CCD62-BC6E-4598-8BC7-D42D2815E2C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3913C-F0F0-4304-86F2-F69305A8F91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07E08-8569-41F0-8891-3CB2C78A251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1/06/9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  <p:sp>
        <p:nvSpPr>
          <p:cNvPr id="7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77191-E001-4BDD-8517-8B19947BEB9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C442C-5BD8-4DDE-999A-4E83CBF8BDF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6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99296-D69D-4972-9111-5ED30AB66B2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2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25F3C-7580-4527-842D-AB7253ECE63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9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44832-8D3E-47B2-B2D9-E56936E0133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4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5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7D7AB-EB1A-4C87-9789-39755F065AF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0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1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73784-0437-4008-9A39-D9F767455BB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6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98ACA-B1F5-4856-A479-64D1440A2B5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FE9C9-768A-4859-8012-43A3E941901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DF5AC-19CE-42A0-837B-DB9E78B9BDD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4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5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4461F-C7C1-4AA8-A767-AFC1E11E0D1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EE531-C217-47C7-B17B-FD6073ABDB8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7D201-DAFD-45FF-9B31-9D4BA71FCBD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4E52D-9796-48FA-852A-C4348BF3E13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2" name=""/>
          <p:cNvSpPr/>
          <p:nvPr/>
        </p:nvSpPr>
        <p:spPr>
          <a:xfrm>
            <a:off x="388620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/22/9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4" name=""/>
          <p:cNvSpPr/>
          <p:nvPr/>
        </p:nvSpPr>
        <p:spPr>
          <a:xfrm>
            <a:off x="0" y="868680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"/>
          <p:cNvSpPr/>
          <p:nvPr/>
        </p:nvSpPr>
        <p:spPr>
          <a:xfrm>
            <a:off x="0" y="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  <p:sp>
        <p:nvSpPr>
          <p:cNvPr id="1737" name="PlaceHolder 2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E1F96-2372-4B76-9C93-DA265ACD316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62C76-31FD-46FF-9695-EFC5FCC05E5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8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9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BCE0A-7EC0-4D2E-8D21-7D3947C9C41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4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5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E27C0-5BF0-45EF-8027-6000152FCCA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1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FCF1B-BF04-4ED9-9B22-68287AB6920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10C96-BACD-44D7-B8B0-B52DD36C132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B1786-3A6F-4892-9E1E-66E9F2DFF60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4E124-5ED8-4F01-9108-CCB8C4C5B2F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CAA75-A1DE-4613-B96F-96C76C935C9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11271-3192-4BE3-B498-B33129BA704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DAD69-AE2E-415F-A57B-1998FBB1D11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38EF6-BE2E-45CD-9D89-8D3D9A6C63F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2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C9B7B-2FB1-41E3-86F0-CCED31ED5BD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17B6D-928A-42BD-BCD6-47CD093B747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837A6-5877-42DD-B451-CE0D469B1F2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E97F0-AE07-4811-B465-D7631369498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6662E-7427-4149-BB1C-BECCE76466D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0026F-7652-4B0E-8E66-D2FF93378F8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9E2A8-8176-4E83-9CA4-2B5AC8ADC39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689D0-98E6-41CC-93CC-3AA73E303EF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4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5C624-525A-4D97-9225-7AB6D1A4B13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13B17-1F65-4129-AEB8-91485468C80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7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80882-BB87-4FA4-857F-D048B1A32C6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D30D4-EFDF-4A6D-A7FA-ED5DEF00255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9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FC67B-E8CE-4218-8A30-E639F6AFBE0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125C7-450A-4FEE-BA81-AF1B5FF8B07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4D7D0-F898-491F-8AA8-389E04A9975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7CC69-324B-4AF4-BED4-E2BF66C108E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3B2B5-9FFD-4C55-A58A-8FD0E060C32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96A04-4320-4A70-A2D9-3520AAC68E9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0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28D1A-E07E-4E4B-AE66-5D902479897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C89A1-5310-4B08-B06E-EF9348473FD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1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0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9D08F-7362-4D88-BD6A-06717B754BC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0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C33FB-EA16-4560-9213-5A40D9AF922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0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D9B6F-BF4D-44B8-AF03-004E32AA1EE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"/>
          <p:cNvSpPr/>
          <p:nvPr/>
        </p:nvSpPr>
        <p:spPr>
          <a:xfrm>
            <a:off x="388620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"/>
          <p:cNvSpPr/>
          <p:nvPr/>
        </p:nvSpPr>
        <p:spPr>
          <a:xfrm>
            <a:off x="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"/>
          <p:cNvSpPr/>
          <p:nvPr/>
        </p:nvSpPr>
        <p:spPr>
          <a:xfrm>
            <a:off x="3886200" y="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/22/9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"/>
          <p:cNvSpPr/>
          <p:nvPr/>
        </p:nvSpPr>
        <p:spPr>
          <a:xfrm>
            <a:off x="3886200" y="868356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"/>
          <p:cNvSpPr/>
          <p:nvPr/>
        </p:nvSpPr>
        <p:spPr>
          <a:xfrm>
            <a:off x="0" y="8683560"/>
            <a:ext cx="2970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"/>
          <p:cNvSpPr/>
          <p:nvPr/>
        </p:nvSpPr>
        <p:spPr>
          <a:xfrm>
            <a:off x="0" y="0"/>
            <a:ext cx="29703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PlaceHolder 1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  <p:sp>
        <p:nvSpPr>
          <p:cNvPr id="1937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29180-3A67-4671-8AF3-CCA9E8EB6E8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"/>
          <p:cNvSpPr/>
          <p:nvPr/>
        </p:nvSpPr>
        <p:spPr>
          <a:xfrm>
            <a:off x="388620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"/>
          <p:cNvSpPr/>
          <p:nvPr/>
        </p:nvSpPr>
        <p:spPr>
          <a:xfrm>
            <a:off x="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PlaceHolder 1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  <p:sp>
        <p:nvSpPr>
          <p:cNvPr id="1947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47613-E42F-4387-8C14-A39DFC3A88E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766F3-18F5-4AF3-AB2E-B16CA4E5930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A42A5-C382-495A-9FB3-D2CD8237B33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2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3" name=""/>
          <p:cNvSpPr/>
          <p:nvPr/>
        </p:nvSpPr>
        <p:spPr>
          <a:xfrm>
            <a:off x="388620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"/>
          <p:cNvSpPr/>
          <p:nvPr/>
        </p:nvSpPr>
        <p:spPr>
          <a:xfrm>
            <a:off x="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6" name="PlaceHolder 1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7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B5E92-0DD3-42B7-ACA1-97C4E96B42D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2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3" name=""/>
          <p:cNvSpPr/>
          <p:nvPr/>
        </p:nvSpPr>
        <p:spPr>
          <a:xfrm>
            <a:off x="388620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"/>
          <p:cNvSpPr/>
          <p:nvPr/>
        </p:nvSpPr>
        <p:spPr>
          <a:xfrm>
            <a:off x="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6" name=""/>
          <p:cNvSpPr/>
          <p:nvPr/>
        </p:nvSpPr>
        <p:spPr>
          <a:xfrm>
            <a:off x="3886200" y="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/22/9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7" name=""/>
          <p:cNvSpPr/>
          <p:nvPr/>
        </p:nvSpPr>
        <p:spPr>
          <a:xfrm>
            <a:off x="3886200" y="868356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8" name=""/>
          <p:cNvSpPr/>
          <p:nvPr/>
        </p:nvSpPr>
        <p:spPr>
          <a:xfrm>
            <a:off x="0" y="8683560"/>
            <a:ext cx="2970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"/>
          <p:cNvSpPr/>
          <p:nvPr/>
        </p:nvSpPr>
        <p:spPr>
          <a:xfrm>
            <a:off x="0" y="0"/>
            <a:ext cx="29703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PlaceHolder 1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  <p:sp>
        <p:nvSpPr>
          <p:cNvPr id="1971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FA7FA-B95D-44D9-A680-2EAF54A889E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6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7" name=""/>
          <p:cNvSpPr/>
          <p:nvPr/>
        </p:nvSpPr>
        <p:spPr>
          <a:xfrm>
            <a:off x="388620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8" name=""/>
          <p:cNvSpPr/>
          <p:nvPr/>
        </p:nvSpPr>
        <p:spPr>
          <a:xfrm>
            <a:off x="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PlaceHolder 1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  <p:sp>
        <p:nvSpPr>
          <p:cNvPr id="1981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061C2-1F9A-4BB4-B34F-2236074C786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C1387-111E-4492-9B20-B43E8B2D67C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A85FD-E381-41C2-ABF6-3BC351FAF68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84905-E9DF-4DEB-8430-1643B8C77B5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6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7" name=""/>
          <p:cNvSpPr/>
          <p:nvPr/>
        </p:nvSpPr>
        <p:spPr>
          <a:xfrm>
            <a:off x="388620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8" name=""/>
          <p:cNvSpPr/>
          <p:nvPr/>
        </p:nvSpPr>
        <p:spPr>
          <a:xfrm>
            <a:off x="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9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0" name="PlaceHolder 1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3D7F5-31E7-4321-8A58-4224331A0F1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6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"/>
          <p:cNvSpPr/>
          <p:nvPr/>
        </p:nvSpPr>
        <p:spPr>
          <a:xfrm>
            <a:off x="388620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8" name=""/>
          <p:cNvSpPr/>
          <p:nvPr/>
        </p:nvSpPr>
        <p:spPr>
          <a:xfrm>
            <a:off x="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9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"/>
          <p:cNvSpPr/>
          <p:nvPr/>
        </p:nvSpPr>
        <p:spPr>
          <a:xfrm>
            <a:off x="3886200" y="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/22/9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1" name=""/>
          <p:cNvSpPr/>
          <p:nvPr/>
        </p:nvSpPr>
        <p:spPr>
          <a:xfrm>
            <a:off x="3886200" y="868356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2" name=""/>
          <p:cNvSpPr/>
          <p:nvPr/>
        </p:nvSpPr>
        <p:spPr>
          <a:xfrm>
            <a:off x="0" y="8683560"/>
            <a:ext cx="2970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"/>
          <p:cNvSpPr/>
          <p:nvPr/>
        </p:nvSpPr>
        <p:spPr>
          <a:xfrm>
            <a:off x="0" y="0"/>
            <a:ext cx="29703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4" name="PlaceHolder 1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  <p:sp>
        <p:nvSpPr>
          <p:cNvPr id="2005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09BAC-3A98-43F7-8113-1691C7EB270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0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1" name=""/>
          <p:cNvSpPr/>
          <p:nvPr/>
        </p:nvSpPr>
        <p:spPr>
          <a:xfrm>
            <a:off x="388620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"/>
          <p:cNvSpPr/>
          <p:nvPr/>
        </p:nvSpPr>
        <p:spPr>
          <a:xfrm>
            <a:off x="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3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66A01-091D-4389-9375-A9C1C1C7AD8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0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"/>
          <p:cNvSpPr/>
          <p:nvPr/>
        </p:nvSpPr>
        <p:spPr>
          <a:xfrm>
            <a:off x="388620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2" name=""/>
          <p:cNvSpPr/>
          <p:nvPr/>
        </p:nvSpPr>
        <p:spPr>
          <a:xfrm>
            <a:off x="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3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DDCED-A03D-43AE-A1E7-3625F42DA3B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1" name=""/>
          <p:cNvSpPr/>
          <p:nvPr/>
        </p:nvSpPr>
        <p:spPr>
          <a:xfrm>
            <a:off x="388620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2" name=""/>
          <p:cNvSpPr/>
          <p:nvPr/>
        </p:nvSpPr>
        <p:spPr>
          <a:xfrm>
            <a:off x="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3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4" name="PlaceHolder 1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  <p:sp>
        <p:nvSpPr>
          <p:cNvPr id="2035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41089-DECF-4678-8F90-E3D7594F86D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0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1" name=""/>
          <p:cNvSpPr/>
          <p:nvPr/>
        </p:nvSpPr>
        <p:spPr>
          <a:xfrm>
            <a:off x="388620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2" name=""/>
          <p:cNvSpPr/>
          <p:nvPr/>
        </p:nvSpPr>
        <p:spPr>
          <a:xfrm>
            <a:off x="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3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AE3AE-6C73-434D-832B-9373EE0547C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0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1" name=""/>
          <p:cNvSpPr/>
          <p:nvPr/>
        </p:nvSpPr>
        <p:spPr>
          <a:xfrm>
            <a:off x="388620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2" name=""/>
          <p:cNvSpPr/>
          <p:nvPr/>
        </p:nvSpPr>
        <p:spPr>
          <a:xfrm>
            <a:off x="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3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4" name="PlaceHolder 1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  <p:sp>
        <p:nvSpPr>
          <p:cNvPr id="2055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69922-D67B-49FF-9247-2A59CB6AEC3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0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1" name=""/>
          <p:cNvSpPr/>
          <p:nvPr/>
        </p:nvSpPr>
        <p:spPr>
          <a:xfrm>
            <a:off x="388620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2" name=""/>
          <p:cNvSpPr/>
          <p:nvPr/>
        </p:nvSpPr>
        <p:spPr>
          <a:xfrm>
            <a:off x="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3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4" name="PlaceHolder 1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  <p:sp>
        <p:nvSpPr>
          <p:cNvPr id="2065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DB336-3770-4B2E-A330-15E11C8F612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0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1" name=""/>
          <p:cNvSpPr/>
          <p:nvPr/>
        </p:nvSpPr>
        <p:spPr>
          <a:xfrm>
            <a:off x="388620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2" name=""/>
          <p:cNvSpPr/>
          <p:nvPr/>
        </p:nvSpPr>
        <p:spPr>
          <a:xfrm>
            <a:off x="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3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96740-F4AF-4987-AE39-BBB9A339CE3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0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1" name=""/>
          <p:cNvSpPr/>
          <p:nvPr/>
        </p:nvSpPr>
        <p:spPr>
          <a:xfrm>
            <a:off x="388620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2" name=""/>
          <p:cNvSpPr/>
          <p:nvPr/>
        </p:nvSpPr>
        <p:spPr>
          <a:xfrm>
            <a:off x="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3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4" name="PlaceHolder 1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  <p:sp>
        <p:nvSpPr>
          <p:cNvPr id="2085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F1116-0D7E-4972-97EF-A6607F27B0E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01D8A-1A35-4DD2-AB6B-F44C2D3BBE9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0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1" name=""/>
          <p:cNvSpPr/>
          <p:nvPr/>
        </p:nvSpPr>
        <p:spPr>
          <a:xfrm>
            <a:off x="388620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2" name=""/>
          <p:cNvSpPr/>
          <p:nvPr/>
        </p:nvSpPr>
        <p:spPr>
          <a:xfrm>
            <a:off x="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3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4" name="PlaceHolder 1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  <p:sp>
        <p:nvSpPr>
          <p:cNvPr id="2095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EC1EA-89B6-4D33-ACA9-F38917E469F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0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1" name=""/>
          <p:cNvSpPr/>
          <p:nvPr/>
        </p:nvSpPr>
        <p:spPr>
          <a:xfrm>
            <a:off x="388620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2" name=""/>
          <p:cNvSpPr/>
          <p:nvPr/>
        </p:nvSpPr>
        <p:spPr>
          <a:xfrm>
            <a:off x="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3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4" name="PlaceHolder 1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  <p:sp>
        <p:nvSpPr>
          <p:cNvPr id="2105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22403-F10B-4AAB-BAF9-D0285D80D56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0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1" name=""/>
          <p:cNvSpPr/>
          <p:nvPr/>
        </p:nvSpPr>
        <p:spPr>
          <a:xfrm>
            <a:off x="388620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2" name=""/>
          <p:cNvSpPr/>
          <p:nvPr/>
        </p:nvSpPr>
        <p:spPr>
          <a:xfrm>
            <a:off x="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3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4" name="PlaceHolder 1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  <p:sp>
        <p:nvSpPr>
          <p:cNvPr id="2115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031E2-8143-4F19-8D3E-C3E7AC123C5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0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1" name=""/>
          <p:cNvSpPr/>
          <p:nvPr/>
        </p:nvSpPr>
        <p:spPr>
          <a:xfrm>
            <a:off x="388620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2" name=""/>
          <p:cNvSpPr/>
          <p:nvPr/>
        </p:nvSpPr>
        <p:spPr>
          <a:xfrm>
            <a:off x="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3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4" name="PlaceHolder 1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  <p:sp>
        <p:nvSpPr>
          <p:cNvPr id="2125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3BF7F-47D3-4783-8324-BCE6CF4754B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0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1" name=""/>
          <p:cNvSpPr/>
          <p:nvPr/>
        </p:nvSpPr>
        <p:spPr>
          <a:xfrm>
            <a:off x="388620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2" name=""/>
          <p:cNvSpPr/>
          <p:nvPr/>
        </p:nvSpPr>
        <p:spPr>
          <a:xfrm>
            <a:off x="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3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4" name="PlaceHolder 1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  <p:sp>
        <p:nvSpPr>
          <p:cNvPr id="2135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D86AD-85A6-4118-BED1-5A862EFD352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0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1" name=""/>
          <p:cNvSpPr/>
          <p:nvPr/>
        </p:nvSpPr>
        <p:spPr>
          <a:xfrm>
            <a:off x="388620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2" name=""/>
          <p:cNvSpPr/>
          <p:nvPr/>
        </p:nvSpPr>
        <p:spPr>
          <a:xfrm>
            <a:off x="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3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4" name="PlaceHolder 1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  <p:sp>
        <p:nvSpPr>
          <p:cNvPr id="2145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9987C-F403-4829-B0BA-B0130418DBD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0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1" name=""/>
          <p:cNvSpPr/>
          <p:nvPr/>
        </p:nvSpPr>
        <p:spPr>
          <a:xfrm>
            <a:off x="388620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2" name=""/>
          <p:cNvSpPr/>
          <p:nvPr/>
        </p:nvSpPr>
        <p:spPr>
          <a:xfrm>
            <a:off x="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3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4" name="PlaceHolder 1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  <p:sp>
        <p:nvSpPr>
          <p:cNvPr id="2155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E2B0C-D15F-4A2F-9664-79E895E004D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0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1" name=""/>
          <p:cNvSpPr/>
          <p:nvPr/>
        </p:nvSpPr>
        <p:spPr>
          <a:xfrm>
            <a:off x="388620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2" name=""/>
          <p:cNvSpPr/>
          <p:nvPr/>
        </p:nvSpPr>
        <p:spPr>
          <a:xfrm>
            <a:off x="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3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4" name="PlaceHolder 1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  <p:sp>
        <p:nvSpPr>
          <p:cNvPr id="2165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F1AC9-C7F3-4AFA-9A71-25F52D97D63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0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1" name=""/>
          <p:cNvSpPr/>
          <p:nvPr/>
        </p:nvSpPr>
        <p:spPr>
          <a:xfrm>
            <a:off x="388620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2" name=""/>
          <p:cNvSpPr/>
          <p:nvPr/>
        </p:nvSpPr>
        <p:spPr>
          <a:xfrm>
            <a:off x="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3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4" name="PlaceHolder 1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  <p:sp>
        <p:nvSpPr>
          <p:cNvPr id="2175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1C1FB-F5EA-4414-A367-833A7F86A6A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0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1" name=""/>
          <p:cNvSpPr/>
          <p:nvPr/>
        </p:nvSpPr>
        <p:spPr>
          <a:xfrm>
            <a:off x="388620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2" name=""/>
          <p:cNvSpPr/>
          <p:nvPr/>
        </p:nvSpPr>
        <p:spPr>
          <a:xfrm>
            <a:off x="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3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4" name="PlaceHolder 1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5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BC5FF-3A7B-422F-A506-8031B9462DE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BA033-6F7A-419C-BA61-8AA52B7EE6D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0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1" name=""/>
          <p:cNvSpPr/>
          <p:nvPr/>
        </p:nvSpPr>
        <p:spPr>
          <a:xfrm>
            <a:off x="388620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2" name=""/>
          <p:cNvSpPr/>
          <p:nvPr/>
        </p:nvSpPr>
        <p:spPr>
          <a:xfrm>
            <a:off x="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3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4" name=""/>
          <p:cNvSpPr/>
          <p:nvPr/>
        </p:nvSpPr>
        <p:spPr>
          <a:xfrm>
            <a:off x="3886200" y="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/22/9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5" name=""/>
          <p:cNvSpPr/>
          <p:nvPr/>
        </p:nvSpPr>
        <p:spPr>
          <a:xfrm>
            <a:off x="3886200" y="868356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6" name=""/>
          <p:cNvSpPr/>
          <p:nvPr/>
        </p:nvSpPr>
        <p:spPr>
          <a:xfrm>
            <a:off x="0" y="8683560"/>
            <a:ext cx="2970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7" name=""/>
          <p:cNvSpPr/>
          <p:nvPr/>
        </p:nvSpPr>
        <p:spPr>
          <a:xfrm>
            <a:off x="0" y="0"/>
            <a:ext cx="29703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8" name="PlaceHolder 1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  <p:sp>
        <p:nvSpPr>
          <p:cNvPr id="2199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75EA6-0D35-468E-B136-DBE4EE2D67E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4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5" name=""/>
          <p:cNvSpPr/>
          <p:nvPr/>
        </p:nvSpPr>
        <p:spPr>
          <a:xfrm>
            <a:off x="388620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6" name=""/>
          <p:cNvSpPr/>
          <p:nvPr/>
        </p:nvSpPr>
        <p:spPr>
          <a:xfrm>
            <a:off x="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7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8" name="PlaceHolder 1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  <p:sp>
        <p:nvSpPr>
          <p:cNvPr id="2209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77367-3939-44F4-8199-F54510416CD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4" name="PlaceHolder 1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5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64184-0158-4580-B3C8-2BE975B4F4F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0" name="PlaceHolder 1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1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D45EE-A009-48B7-9D3C-8D20B7357B8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6" name="PlaceHolder 1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7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45456-C128-4AD0-BB05-2CD839E4D69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2" name="PlaceHolder 1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3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74A68-975A-4105-95CE-894F1835E6A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8" name="PlaceHolder 1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9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A2944-AA2F-435D-9F26-CB34EEAC90F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4" name="PlaceHolder 1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5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3F969-A1AD-4E35-89CC-5534BFD5289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0" name="PlaceHolder 1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1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A0A7D-D67F-43D8-A1F0-5590EDB9E4B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6" name="PlaceHolder 1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7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2DDBA-8D18-40BF-8F40-5BDA7117062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64DA1-199C-417B-B25A-DA5A10AB0DE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2" name="PlaceHolder 1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3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068B0-AEEB-40A4-941F-C2D93ECE91D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8" name="PlaceHolder 1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9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78ADA-C11B-49FF-AA1D-D32B0CF5FCB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4" name="PlaceHolder 1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5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EB61C-141F-45C2-B095-DF2A1F4B369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0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1" name=""/>
          <p:cNvSpPr/>
          <p:nvPr/>
        </p:nvSpPr>
        <p:spPr>
          <a:xfrm>
            <a:off x="388620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2" name=""/>
          <p:cNvSpPr/>
          <p:nvPr/>
        </p:nvSpPr>
        <p:spPr>
          <a:xfrm>
            <a:off x="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3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4" name="PlaceHolder 1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5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9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EA21D-DD35-460C-94AD-AFF27B7E5B7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0" name=""/>
          <p:cNvSpPr/>
          <p:nvPr/>
        </p:nvSpPr>
        <p:spPr>
          <a:xfrm>
            <a:off x="388620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1/07/9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1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2" name=""/>
          <p:cNvSpPr/>
          <p:nvPr/>
        </p:nvSpPr>
        <p:spPr>
          <a:xfrm>
            <a:off x="0" y="868680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3" name=""/>
          <p:cNvSpPr/>
          <p:nvPr/>
        </p:nvSpPr>
        <p:spPr>
          <a:xfrm>
            <a:off x="0" y="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2320920" y="801720"/>
            <a:ext cx="2212920" cy="319572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2960" y="434484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954F4-3B2C-4FDB-BDFA-F6C72C15FC3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body"/>
          </p:nvPr>
        </p:nvSpPr>
        <p:spPr>
          <a:xfrm>
            <a:off x="912960" y="434484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1" name="PlaceHolder 2"/>
          <p:cNvSpPr>
            <a:spLocks noGrp="1"/>
          </p:cNvSpPr>
          <p:nvPr>
            <p:ph type="sldImg"/>
          </p:nvPr>
        </p:nvSpPr>
        <p:spPr>
          <a:xfrm>
            <a:off x="2320920" y="801720"/>
            <a:ext cx="2212920" cy="31957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9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22301-EFEB-418E-B0F3-7FC82260493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6" name="PlaceHolder 1"/>
          <p:cNvSpPr>
            <a:spLocks noGrp="1"/>
          </p:cNvSpPr>
          <p:nvPr>
            <p:ph type="body"/>
          </p:nvPr>
        </p:nvSpPr>
        <p:spPr>
          <a:xfrm>
            <a:off x="912960" y="434484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7" name="PlaceHolder 2"/>
          <p:cNvSpPr>
            <a:spLocks noGrp="1"/>
          </p:cNvSpPr>
          <p:nvPr>
            <p:ph type="sldImg"/>
          </p:nvPr>
        </p:nvSpPr>
        <p:spPr>
          <a:xfrm>
            <a:off x="2320920" y="801720"/>
            <a:ext cx="2212920" cy="31957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9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BCE4C-57BB-4663-8F5D-DAA09C31C38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2" name="PlaceHolder 1"/>
          <p:cNvSpPr>
            <a:spLocks noGrp="1"/>
          </p:cNvSpPr>
          <p:nvPr>
            <p:ph type="body"/>
          </p:nvPr>
        </p:nvSpPr>
        <p:spPr>
          <a:xfrm>
            <a:off x="912960" y="434484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3" name="PlaceHolder 2"/>
          <p:cNvSpPr>
            <a:spLocks noGrp="1"/>
          </p:cNvSpPr>
          <p:nvPr>
            <p:ph type="sldImg"/>
          </p:nvPr>
        </p:nvSpPr>
        <p:spPr>
          <a:xfrm>
            <a:off x="2320920" y="801720"/>
            <a:ext cx="2212920" cy="31957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9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6875D-E3F9-48E5-BEA6-8341F187AA1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8" name="PlaceHolder 1"/>
          <p:cNvSpPr>
            <a:spLocks noGrp="1"/>
          </p:cNvSpPr>
          <p:nvPr>
            <p:ph type="body"/>
          </p:nvPr>
        </p:nvSpPr>
        <p:spPr>
          <a:xfrm>
            <a:off x="912960" y="434484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9" name="PlaceHolder 2"/>
          <p:cNvSpPr>
            <a:spLocks noGrp="1"/>
          </p:cNvSpPr>
          <p:nvPr>
            <p:ph type="sldImg"/>
          </p:nvPr>
        </p:nvSpPr>
        <p:spPr>
          <a:xfrm>
            <a:off x="2320920" y="801720"/>
            <a:ext cx="2212920" cy="31957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9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147EA-8103-4033-BB8B-90D04F7B4FE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4" name="PlaceHolder 1"/>
          <p:cNvSpPr>
            <a:spLocks noGrp="1"/>
          </p:cNvSpPr>
          <p:nvPr>
            <p:ph type="body"/>
          </p:nvPr>
        </p:nvSpPr>
        <p:spPr>
          <a:xfrm>
            <a:off x="912960" y="434484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5" name="PlaceHolder 2"/>
          <p:cNvSpPr>
            <a:spLocks noGrp="1"/>
          </p:cNvSpPr>
          <p:nvPr>
            <p:ph type="sldImg"/>
          </p:nvPr>
        </p:nvSpPr>
        <p:spPr>
          <a:xfrm>
            <a:off x="2320920" y="801720"/>
            <a:ext cx="2212920" cy="31957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A0991-7879-488E-894D-97B49070D1A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1/06/9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PlaceHolder 1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  <p:sp>
        <p:nvSpPr>
          <p:cNvPr id="8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DB8F6-3A58-424A-A97E-F7B46721F5C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0" name="PlaceHolder 1"/>
          <p:cNvSpPr>
            <a:spLocks noGrp="1"/>
          </p:cNvSpPr>
          <p:nvPr>
            <p:ph type="body"/>
          </p:nvPr>
        </p:nvSpPr>
        <p:spPr>
          <a:xfrm>
            <a:off x="912960" y="434484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1" name="PlaceHolder 2"/>
          <p:cNvSpPr>
            <a:spLocks noGrp="1"/>
          </p:cNvSpPr>
          <p:nvPr>
            <p:ph type="sldImg"/>
          </p:nvPr>
        </p:nvSpPr>
        <p:spPr>
          <a:xfrm>
            <a:off x="2320920" y="801720"/>
            <a:ext cx="2212920" cy="31957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85D9C-3685-4000-A74C-EDA584BF36D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6" name="PlaceHolder 1"/>
          <p:cNvSpPr>
            <a:spLocks noGrp="1"/>
          </p:cNvSpPr>
          <p:nvPr>
            <p:ph type="body"/>
          </p:nvPr>
        </p:nvSpPr>
        <p:spPr>
          <a:xfrm>
            <a:off x="912960" y="434484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7" name="PlaceHolder 2"/>
          <p:cNvSpPr>
            <a:spLocks noGrp="1"/>
          </p:cNvSpPr>
          <p:nvPr>
            <p:ph type="sldImg"/>
          </p:nvPr>
        </p:nvSpPr>
        <p:spPr>
          <a:xfrm>
            <a:off x="2320920" y="801720"/>
            <a:ext cx="2212920" cy="31957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0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095A4-DD53-496B-9480-5A7077BCD6B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2" name="PlaceHolder 1"/>
          <p:cNvSpPr>
            <a:spLocks noGrp="1"/>
          </p:cNvSpPr>
          <p:nvPr>
            <p:ph type="body"/>
          </p:nvPr>
        </p:nvSpPr>
        <p:spPr>
          <a:xfrm>
            <a:off x="912960" y="434484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3" name="PlaceHolder 2"/>
          <p:cNvSpPr>
            <a:spLocks noGrp="1"/>
          </p:cNvSpPr>
          <p:nvPr>
            <p:ph type="sldImg"/>
          </p:nvPr>
        </p:nvSpPr>
        <p:spPr>
          <a:xfrm>
            <a:off x="2320920" y="801720"/>
            <a:ext cx="2212920" cy="31957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0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C0129-7DE7-4D6D-94A7-2E569EDC868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8" name="PlaceHolder 1"/>
          <p:cNvSpPr>
            <a:spLocks noGrp="1"/>
          </p:cNvSpPr>
          <p:nvPr>
            <p:ph type="body"/>
          </p:nvPr>
        </p:nvSpPr>
        <p:spPr>
          <a:xfrm>
            <a:off x="912960" y="434484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9" name="PlaceHolder 2"/>
          <p:cNvSpPr>
            <a:spLocks noGrp="1"/>
          </p:cNvSpPr>
          <p:nvPr>
            <p:ph type="sldImg"/>
          </p:nvPr>
        </p:nvSpPr>
        <p:spPr>
          <a:xfrm>
            <a:off x="2320920" y="801720"/>
            <a:ext cx="2212920" cy="31957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0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4CFFD-47A5-4903-BD33-606C610ABEC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4" name="PlaceHolder 1"/>
          <p:cNvSpPr>
            <a:spLocks noGrp="1"/>
          </p:cNvSpPr>
          <p:nvPr>
            <p:ph type="body"/>
          </p:nvPr>
        </p:nvSpPr>
        <p:spPr>
          <a:xfrm>
            <a:off x="912960" y="434484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5" name="PlaceHolder 2"/>
          <p:cNvSpPr>
            <a:spLocks noGrp="1"/>
          </p:cNvSpPr>
          <p:nvPr>
            <p:ph type="sldImg"/>
          </p:nvPr>
        </p:nvSpPr>
        <p:spPr>
          <a:xfrm>
            <a:off x="2320920" y="801720"/>
            <a:ext cx="2212920" cy="31957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0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F8DFE-AF1B-417A-97E6-BDF1DECC643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0" name="PlaceHolder 1"/>
          <p:cNvSpPr>
            <a:spLocks noGrp="1"/>
          </p:cNvSpPr>
          <p:nvPr>
            <p:ph type="body"/>
          </p:nvPr>
        </p:nvSpPr>
        <p:spPr>
          <a:xfrm>
            <a:off x="912960" y="434484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1" name="PlaceHolder 2"/>
          <p:cNvSpPr>
            <a:spLocks noGrp="1"/>
          </p:cNvSpPr>
          <p:nvPr>
            <p:ph type="sldImg"/>
          </p:nvPr>
        </p:nvSpPr>
        <p:spPr>
          <a:xfrm>
            <a:off x="2320920" y="801720"/>
            <a:ext cx="2212920" cy="31957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0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F8734-5A36-422C-90AB-71983DE1F3A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6" name="PlaceHolder 1"/>
          <p:cNvSpPr>
            <a:spLocks noGrp="1"/>
          </p:cNvSpPr>
          <p:nvPr>
            <p:ph type="body"/>
          </p:nvPr>
        </p:nvSpPr>
        <p:spPr>
          <a:xfrm>
            <a:off x="912960" y="434484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7" name="PlaceHolder 2"/>
          <p:cNvSpPr>
            <a:spLocks noGrp="1"/>
          </p:cNvSpPr>
          <p:nvPr>
            <p:ph type="sldImg"/>
          </p:nvPr>
        </p:nvSpPr>
        <p:spPr>
          <a:xfrm>
            <a:off x="2320920" y="801720"/>
            <a:ext cx="2212920" cy="31957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0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59146-1D3D-4629-8B4D-F06E9FD0AD8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2" name="PlaceHolder 1"/>
          <p:cNvSpPr>
            <a:spLocks noGrp="1"/>
          </p:cNvSpPr>
          <p:nvPr>
            <p:ph type="body"/>
          </p:nvPr>
        </p:nvSpPr>
        <p:spPr>
          <a:xfrm>
            <a:off x="912960" y="434484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3" name="PlaceHolder 2"/>
          <p:cNvSpPr>
            <a:spLocks noGrp="1"/>
          </p:cNvSpPr>
          <p:nvPr>
            <p:ph type="sldImg"/>
          </p:nvPr>
        </p:nvSpPr>
        <p:spPr>
          <a:xfrm>
            <a:off x="2320920" y="801720"/>
            <a:ext cx="2212920" cy="31957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0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4D230-CE07-4F3F-94BC-8B7FBA46402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8" name="PlaceHolder 1"/>
          <p:cNvSpPr>
            <a:spLocks noGrp="1"/>
          </p:cNvSpPr>
          <p:nvPr>
            <p:ph type="body"/>
          </p:nvPr>
        </p:nvSpPr>
        <p:spPr>
          <a:xfrm>
            <a:off x="912960" y="434484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9" name="PlaceHolder 2"/>
          <p:cNvSpPr>
            <a:spLocks noGrp="1"/>
          </p:cNvSpPr>
          <p:nvPr>
            <p:ph type="sldImg"/>
          </p:nvPr>
        </p:nvSpPr>
        <p:spPr>
          <a:xfrm>
            <a:off x="2320920" y="801720"/>
            <a:ext cx="2212920" cy="31957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0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B3BB2-597F-4484-A38A-37892755097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4" name="PlaceHolder 1"/>
          <p:cNvSpPr>
            <a:spLocks noGrp="1"/>
          </p:cNvSpPr>
          <p:nvPr>
            <p:ph type="body"/>
          </p:nvPr>
        </p:nvSpPr>
        <p:spPr>
          <a:xfrm>
            <a:off x="912960" y="434484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5" name="PlaceHolder 2"/>
          <p:cNvSpPr>
            <a:spLocks noGrp="1"/>
          </p:cNvSpPr>
          <p:nvPr>
            <p:ph type="sldImg"/>
          </p:nvPr>
        </p:nvSpPr>
        <p:spPr>
          <a:xfrm>
            <a:off x="2320920" y="801720"/>
            <a:ext cx="2212920" cy="31957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03559-F15D-4BA7-846A-FB30FBB0019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8D899-E229-47CE-96DC-98AC4321C2A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0" name="PlaceHolder 1"/>
          <p:cNvSpPr>
            <a:spLocks noGrp="1"/>
          </p:cNvSpPr>
          <p:nvPr>
            <p:ph type="body"/>
          </p:nvPr>
        </p:nvSpPr>
        <p:spPr>
          <a:xfrm>
            <a:off x="912960" y="434484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1" name="PlaceHolder 2"/>
          <p:cNvSpPr>
            <a:spLocks noGrp="1"/>
          </p:cNvSpPr>
          <p:nvPr>
            <p:ph type="sldImg"/>
          </p:nvPr>
        </p:nvSpPr>
        <p:spPr>
          <a:xfrm>
            <a:off x="2320920" y="801720"/>
            <a:ext cx="2212920" cy="31957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6EC6A-7D87-41B1-9EC7-41787BF7161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6" name="PlaceHolder 1"/>
          <p:cNvSpPr>
            <a:spLocks noGrp="1"/>
          </p:cNvSpPr>
          <p:nvPr>
            <p:ph type="body"/>
          </p:nvPr>
        </p:nvSpPr>
        <p:spPr>
          <a:xfrm>
            <a:off x="912960" y="434484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7" name="PlaceHolder 2"/>
          <p:cNvSpPr>
            <a:spLocks noGrp="1"/>
          </p:cNvSpPr>
          <p:nvPr>
            <p:ph type="sldImg"/>
          </p:nvPr>
        </p:nvSpPr>
        <p:spPr>
          <a:xfrm>
            <a:off x="2320920" y="801720"/>
            <a:ext cx="2212920" cy="31957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4FF1B-DB8B-45E7-B942-7CAC1EF0879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2" name="PlaceHolder 1"/>
          <p:cNvSpPr>
            <a:spLocks noGrp="1"/>
          </p:cNvSpPr>
          <p:nvPr>
            <p:ph type="body"/>
          </p:nvPr>
        </p:nvSpPr>
        <p:spPr>
          <a:xfrm>
            <a:off x="912960" y="434484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3" name="PlaceHolder 2"/>
          <p:cNvSpPr>
            <a:spLocks noGrp="1"/>
          </p:cNvSpPr>
          <p:nvPr>
            <p:ph type="sldImg"/>
          </p:nvPr>
        </p:nvSpPr>
        <p:spPr>
          <a:xfrm>
            <a:off x="2320920" y="801720"/>
            <a:ext cx="2212920" cy="31957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35F7B-87BE-409F-BA39-5EDEF8543CE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8" name="PlaceHolder 1"/>
          <p:cNvSpPr>
            <a:spLocks noGrp="1"/>
          </p:cNvSpPr>
          <p:nvPr>
            <p:ph type="body"/>
          </p:nvPr>
        </p:nvSpPr>
        <p:spPr>
          <a:xfrm>
            <a:off x="912960" y="434484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9" name="PlaceHolder 2"/>
          <p:cNvSpPr>
            <a:spLocks noGrp="1"/>
          </p:cNvSpPr>
          <p:nvPr>
            <p:ph type="sldImg"/>
          </p:nvPr>
        </p:nvSpPr>
        <p:spPr>
          <a:xfrm>
            <a:off x="2320920" y="801720"/>
            <a:ext cx="2212920" cy="31957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D2DF4-5306-4770-81EA-A639B0F362A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4" name="PlaceHolder 1"/>
          <p:cNvSpPr>
            <a:spLocks noGrp="1"/>
          </p:cNvSpPr>
          <p:nvPr>
            <p:ph type="body"/>
          </p:nvPr>
        </p:nvSpPr>
        <p:spPr>
          <a:xfrm>
            <a:off x="912960" y="434484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5" name="PlaceHolder 2"/>
          <p:cNvSpPr>
            <a:spLocks noGrp="1"/>
          </p:cNvSpPr>
          <p:nvPr>
            <p:ph type="sldImg"/>
          </p:nvPr>
        </p:nvSpPr>
        <p:spPr>
          <a:xfrm>
            <a:off x="2320920" y="801720"/>
            <a:ext cx="2212920" cy="31957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E14C4-6069-4BFB-851D-D942B4382A9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0" name="PlaceHolder 1"/>
          <p:cNvSpPr>
            <a:spLocks noGrp="1"/>
          </p:cNvSpPr>
          <p:nvPr>
            <p:ph type="body"/>
          </p:nvPr>
        </p:nvSpPr>
        <p:spPr>
          <a:xfrm>
            <a:off x="912960" y="434484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1" name="PlaceHolder 2"/>
          <p:cNvSpPr>
            <a:spLocks noGrp="1"/>
          </p:cNvSpPr>
          <p:nvPr>
            <p:ph type="sldImg"/>
          </p:nvPr>
        </p:nvSpPr>
        <p:spPr>
          <a:xfrm>
            <a:off x="2320920" y="801720"/>
            <a:ext cx="2212920" cy="31957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DA310-66FA-451F-A5CA-B8910C0114D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6" name="PlaceHolder 1"/>
          <p:cNvSpPr>
            <a:spLocks noGrp="1"/>
          </p:cNvSpPr>
          <p:nvPr>
            <p:ph type="body"/>
          </p:nvPr>
        </p:nvSpPr>
        <p:spPr>
          <a:xfrm>
            <a:off x="912960" y="434484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7" name="PlaceHolder 2"/>
          <p:cNvSpPr>
            <a:spLocks noGrp="1"/>
          </p:cNvSpPr>
          <p:nvPr>
            <p:ph type="sldImg"/>
          </p:nvPr>
        </p:nvSpPr>
        <p:spPr>
          <a:xfrm>
            <a:off x="2320920" y="801720"/>
            <a:ext cx="2212920" cy="31957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EC0F5-904A-4585-8227-9712114AD55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2" name="PlaceHolder 1"/>
          <p:cNvSpPr>
            <a:spLocks noGrp="1"/>
          </p:cNvSpPr>
          <p:nvPr>
            <p:ph type="body"/>
          </p:nvPr>
        </p:nvSpPr>
        <p:spPr>
          <a:xfrm>
            <a:off x="912960" y="434484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3" name="PlaceHolder 2"/>
          <p:cNvSpPr>
            <a:spLocks noGrp="1"/>
          </p:cNvSpPr>
          <p:nvPr>
            <p:ph type="sldImg"/>
          </p:nvPr>
        </p:nvSpPr>
        <p:spPr>
          <a:xfrm>
            <a:off x="2320920" y="801720"/>
            <a:ext cx="2212920" cy="31957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5C3D5-829C-47D4-ABB2-24F002C77A4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8" name="PlaceHolder 1"/>
          <p:cNvSpPr>
            <a:spLocks noGrp="1"/>
          </p:cNvSpPr>
          <p:nvPr>
            <p:ph type="body"/>
          </p:nvPr>
        </p:nvSpPr>
        <p:spPr>
          <a:xfrm>
            <a:off x="912960" y="434484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9" name="PlaceHolder 2"/>
          <p:cNvSpPr>
            <a:spLocks noGrp="1"/>
          </p:cNvSpPr>
          <p:nvPr>
            <p:ph type="sldImg"/>
          </p:nvPr>
        </p:nvSpPr>
        <p:spPr>
          <a:xfrm>
            <a:off x="2320920" y="801720"/>
            <a:ext cx="2212920" cy="31957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BD5C1-1895-4F1B-BDA1-1CF86CDBC2E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4" name="PlaceHolder 1"/>
          <p:cNvSpPr>
            <a:spLocks noGrp="1"/>
          </p:cNvSpPr>
          <p:nvPr>
            <p:ph type="body"/>
          </p:nvPr>
        </p:nvSpPr>
        <p:spPr>
          <a:xfrm>
            <a:off x="912960" y="434484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5" name="PlaceHolder 2"/>
          <p:cNvSpPr>
            <a:spLocks noGrp="1"/>
          </p:cNvSpPr>
          <p:nvPr>
            <p:ph type="sldImg"/>
          </p:nvPr>
        </p:nvSpPr>
        <p:spPr>
          <a:xfrm>
            <a:off x="2320920" y="801720"/>
            <a:ext cx="2212920" cy="31957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C73E0-925D-4E16-98E9-B6CBEC33CBE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7B5E4-D9F1-4DA8-9F78-5881B3F5C1A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0" name="PlaceHolder 1"/>
          <p:cNvSpPr>
            <a:spLocks noGrp="1"/>
          </p:cNvSpPr>
          <p:nvPr>
            <p:ph type="body"/>
          </p:nvPr>
        </p:nvSpPr>
        <p:spPr>
          <a:xfrm>
            <a:off x="912960" y="434484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1" name="PlaceHolder 2"/>
          <p:cNvSpPr>
            <a:spLocks noGrp="1"/>
          </p:cNvSpPr>
          <p:nvPr>
            <p:ph type="sldImg"/>
          </p:nvPr>
        </p:nvSpPr>
        <p:spPr>
          <a:xfrm>
            <a:off x="2320920" y="801720"/>
            <a:ext cx="2212920" cy="31957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A496F-1C41-45DA-AC81-B75510D2759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6" name="PlaceHolder 1"/>
          <p:cNvSpPr>
            <a:spLocks noGrp="1"/>
          </p:cNvSpPr>
          <p:nvPr>
            <p:ph type="body"/>
          </p:nvPr>
        </p:nvSpPr>
        <p:spPr>
          <a:xfrm>
            <a:off x="912960" y="434484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7" name="PlaceHolder 2"/>
          <p:cNvSpPr>
            <a:spLocks noGrp="1"/>
          </p:cNvSpPr>
          <p:nvPr>
            <p:ph type="sldImg"/>
          </p:nvPr>
        </p:nvSpPr>
        <p:spPr>
          <a:xfrm>
            <a:off x="2320920" y="801720"/>
            <a:ext cx="2212920" cy="31957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29B18-D8BA-4069-A4A5-BE25FDC2D7C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2" name=""/>
          <p:cNvSpPr/>
          <p:nvPr/>
        </p:nvSpPr>
        <p:spPr>
          <a:xfrm>
            <a:off x="388620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1/07/9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3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4" name=""/>
          <p:cNvSpPr/>
          <p:nvPr/>
        </p:nvSpPr>
        <p:spPr>
          <a:xfrm>
            <a:off x="0" y="868680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5" name=""/>
          <p:cNvSpPr/>
          <p:nvPr/>
        </p:nvSpPr>
        <p:spPr>
          <a:xfrm>
            <a:off x="0" y="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6" name="PlaceHolder 1"/>
          <p:cNvSpPr>
            <a:spLocks noGrp="1"/>
          </p:cNvSpPr>
          <p:nvPr>
            <p:ph type="sldImg"/>
          </p:nvPr>
        </p:nvSpPr>
        <p:spPr>
          <a:xfrm>
            <a:off x="2320920" y="801720"/>
            <a:ext cx="2212920" cy="3195720"/>
          </a:xfrm>
          <a:prstGeom prst="rect">
            <a:avLst/>
          </a:prstGeom>
          <a:ln w="0">
            <a:noFill/>
          </a:ln>
        </p:spPr>
      </p:sp>
      <p:sp>
        <p:nvSpPr>
          <p:cNvPr id="2467" name="PlaceHolder 2"/>
          <p:cNvSpPr>
            <a:spLocks noGrp="1"/>
          </p:cNvSpPr>
          <p:nvPr>
            <p:ph type="body"/>
          </p:nvPr>
        </p:nvSpPr>
        <p:spPr>
          <a:xfrm>
            <a:off x="912960" y="434484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65F8C-EE63-47A8-B963-1237FD67517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388620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1/07/9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0" y="868680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0" y="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PlaceHolder 1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  <p:sp>
        <p:nvSpPr>
          <p:cNvPr id="879" name="PlaceHolder 2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CD36F-8424-493B-8BFF-31F6C13337E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B8A6B-4DEB-485E-B716-911AD8B8322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D94B5-2DC3-481E-9AD4-38E993AFB59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3CD0D-D782-419E-AF28-736ECDB2052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7041C-C525-4CF4-A110-513BB490E40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02731-A406-408C-A686-2C4CCC8F522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388620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1/07/9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0" y="868680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0" y="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PlaceHolder 1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4B216-70A9-4C50-B61B-938ACC7C2BF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88620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1/07/9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0" y="868680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0" y="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PlaceHolder 1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  <p:sp>
        <p:nvSpPr>
          <p:cNvPr id="929" name="PlaceHolder 2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0EE5A-6857-447F-B553-AED5F807EAA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DBE91-E69C-4333-93F5-279B9744A16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71E9E-AD36-4B88-AF00-6D991CDC717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BD351-271B-4816-9FA1-A93D472F2D4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D4F3D-68F1-42E4-8EF2-795980AC2EE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758AE-946B-478D-8BAB-D20AD93C0EE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88A9C-520B-410A-9C7D-875D32C2345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617EF-F19E-4D34-AA81-137C32D7543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67811-1E2E-494B-A051-0D66F34920A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E7FF6-5434-4AB4-9DB5-1942CE3CC0B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5DD55-03D2-4041-A100-A24E11DF936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CCBAF-6B54-49D6-9721-0090514D8C0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54D72-AA8C-4778-AC15-F76017760AF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388620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1/10/9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0" y="868680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0" y="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1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  <p:sp>
        <p:nvSpPr>
          <p:cNvPr id="1011" name="PlaceHolder 2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5C925-86A1-4A23-A5C9-2F7EF57D629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D9CB3-DD7C-427A-8220-3BD72E7C072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A9C41-7723-4EBB-9539-B141DA236D1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A6AF7-7BA1-4070-8A9C-3BAD62BE539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AF7C9-518E-4D21-A37D-720C552846D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63AE1-5769-4D1B-BF54-5A153412366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867B6-B7E2-4B72-A92A-D369D71478E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F4618-4087-4548-B438-76856DDEEAF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B2E03-1634-465C-A0B1-CAB13DEDC2E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0730F-709E-4FE4-ACC8-4048356A381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FF527-CD90-4285-B86A-F767039867A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7DF5D-0DC6-4308-A752-13BDF7931FF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62014-4FB7-4A29-84AC-73AE23AC0E4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E18FA-751C-40A1-8C77-E59898DE947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A6BED-8425-4FC8-B80F-627AEAF2B93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8C6B1-03EF-4864-A489-07BD78FE013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2ECFE-19C2-4C03-ABF6-F24EA1AB7DC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B25FF-D3EE-451A-A174-7A5B5F19E68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388620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/18/9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0" y="868680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0" y="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PlaceHolder 1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  <p:sp>
        <p:nvSpPr>
          <p:cNvPr id="1123" name="PlaceHolder 2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E12D5-1BDD-4729-AE36-B935009286E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BF36D-B1D4-40F6-B9B7-5CD0606B782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73682-AD6C-40C4-BA9D-EA88259102E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57033-544C-47F6-AC21-BF7D63E281B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29F22-167A-4DDE-9337-F69F04AEFD3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FBC88-2DA0-40C0-9FB1-24E15D6B0DA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F2CF2-DCE5-47F0-A637-1811B85E008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1FA8C-E2F8-4F0B-8F14-EBA4367C8E1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ADD12-EBF0-4DE6-9FBF-EAFE4940863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AC726-5FD0-4399-A9CC-1170C5DD23F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3251B-3E52-467C-8848-DA3F6119555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7405B-4C07-4FFA-926B-7B8CCDB28A4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DA180-70F9-461E-A2BE-D9F3EBE8ACC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780ED-92AE-4F3C-9394-D483BD5DE2C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01F81-D1C7-4F63-AB67-85A8F3A4356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C5BB6-A22C-443F-B608-A4601C33D63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C4587-3D42-4216-A13F-BDABCF08E96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02180-FB98-49EA-8C7D-31528B3839C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CC9B8-E1E6-4A1B-B143-85A8585FF0A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7549D-8F11-4F65-AE1F-ED7C1B8ED9D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F3A52-5508-490C-B8C6-9C2D9F1C665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67181-1134-464F-B2F9-61354FD68A8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65D46-EAB8-4485-BB5D-8D593FE0B85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6119C-2155-4A4A-B7AE-A4F2A2F5456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4CA45-B9C4-479A-9AD0-B561F052BEB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BD172-824A-46A3-9CCC-1FFD723C1FB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E0D75-474F-4CAF-AD6E-C76A39B8255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53ADC-9362-481D-91F0-9A0ACA84B47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40C28-D08A-486D-863D-1405331F3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330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07960"/>
            <a:ext cx="5829120" cy="330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8DA8D-241A-4D1D-9977-7D83847BD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2844360" cy="330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286000"/>
            <a:ext cx="2844360" cy="330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07960"/>
            <a:ext cx="2844360" cy="330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07960"/>
            <a:ext cx="2844360" cy="330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CD600-D490-4D4D-AAED-2ACE2A42C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1876680" cy="330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286000"/>
            <a:ext cx="1876680" cy="330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286000"/>
            <a:ext cx="1876680" cy="330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07960"/>
            <a:ext cx="1876680" cy="330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07960"/>
            <a:ext cx="1876680" cy="330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07960"/>
            <a:ext cx="1876680" cy="330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9427E-268E-4828-B526-98CB52356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214A0-217D-4282-A870-68A1A026F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026CA-EFEF-45E3-B8DC-ACD889C61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284436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286000"/>
            <a:ext cx="284436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67777-BFB7-4BAE-890E-1F6B705D8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AA66F-503B-4E40-911E-7C3FE4DE2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3520" y="304920"/>
            <a:ext cx="5829120" cy="76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928F9-5679-4CB6-914C-A1543156F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2844360" cy="330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286000"/>
            <a:ext cx="284436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07960"/>
            <a:ext cx="2844360" cy="330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45DA7-78B5-49A8-AEAC-087272FC4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284436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286000"/>
            <a:ext cx="2844360" cy="330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07960"/>
            <a:ext cx="2844360" cy="330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EC5D7-EEE5-4A3F-A150-47E168C85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2844360" cy="330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286000"/>
            <a:ext cx="2844360" cy="330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07960"/>
            <a:ext cx="5829120" cy="330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08A39-3118-437E-96BC-DAEA94B04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33520" y="9710280"/>
            <a:ext cx="1428480" cy="1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E8182-1829-4F45-8013-3059859C6FB6}" type="datetime">
              <a:rPr b="0" lang="sr-Latn-CS" sz="8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057400" y="9710280"/>
            <a:ext cx="2743200" cy="1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800" spc="-1" strike="noStrike">
                <a:solidFill>
                  <a:srgbClr val="000000"/>
                </a:solidFill>
                <a:latin typeface="Times New Roman"/>
              </a:rPr>
              <a:t>Predavanja iz Upravljanja – 02-U čemu je razlika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52520" y="9710280"/>
            <a:ext cx="1428840" cy="1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DE44A-27D6-40AB-86D0-6A630FA75EDA}" type="slidenum"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sl-SI" sz="800" spc="-1" strike="noStrike">
                <a:solidFill>
                  <a:srgbClr val="000000"/>
                </a:solidFill>
                <a:latin typeface="Times New Roman"/>
              </a:rPr>
              <a:t> od 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0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2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4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5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6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7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8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3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0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2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4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5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6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7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8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0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2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3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4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5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6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7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8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0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2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3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4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5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6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7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8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0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1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2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3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4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5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6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7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8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3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0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1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2.xml"/>
</Relationships>
</file>

<file path=ppt/slides/_rels/slide1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3.xml"/>
</Relationships>
</file>

<file path=ppt/slides/_rels/slide1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4.xml"/>
</Relationships>
</file>

<file path=ppt/slides/_rels/slide1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5.xml"/>
</Relationships>
</file>

<file path=ppt/slides/_rels/slide1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6.xml"/>
</Relationships>
</file>

<file path=ppt/slides/_rels/slide1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7.xml"/>
</Relationships>
</file>

<file path=ppt/slides/_rels/slide1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8.xml"/>
</Relationships>
</file>

<file path=ppt/slides/_rels/slide1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6.xml"/>
</Relationships>
</file>

<file path=ppt/slides/_rels/slide1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0.xml"/>
</Relationships>
</file>

<file path=ppt/slides/_rels/slide1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1.xml"/>
</Relationships>
</file>

<file path=ppt/slides/_rels/slide1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2.xml"/>
</Relationships>
</file>

<file path=ppt/slides/_rels/slide1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3.xml"/>
</Relationships>
</file>

<file path=ppt/slides/_rels/slide1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4.xml"/>
</Relationships>
</file>

<file path=ppt/slides/_rels/slide1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5.xml"/>
</Relationships>
</file>

<file path=ppt/slides/_rels/slide1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6.xml"/>
</Relationships>
</file>

<file path=ppt/slides/_rels/slide1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7.xml"/>
</Relationships>
</file>

<file path=ppt/slides/_rels/slide1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8.xml"/>
</Relationships>
</file>

<file path=ppt/slides/_rels/slide1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0.xml"/>
</Relationships>
</file>

<file path=ppt/slides/_rels/slide1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1.xml"/>
</Relationships>
</file>

<file path=ppt/slides/_rels/slide1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72.xml"/>
</Relationships>
</file>

<file path=ppt/slides/_rels/slide1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3.xml"/>
</Relationships>
</file>

<file path=ppt/slides/_rels/slide1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4.xml"/>
</Relationships>
</file>

<file path=ppt/slides/_rels/slide1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5.xml"/>
</Relationships>
</file>

<file path=ppt/slides/_rels/slide1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6.xml"/>
</Relationships>
</file>

<file path=ppt/slides/_rels/slide1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7.xml"/>
</Relationships>
</file>

<file path=ppt/slides/_rels/slide1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8.xml"/>
</Relationships>
</file>

<file path=ppt/slides/_rels/slide1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0.xml"/>
</Relationships>
</file>

<file path=ppt/slides/_rels/slide1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1.xml"/>
</Relationships>
</file>

<file path=ppt/slides/_rels/slide1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2.xml"/>
</Relationships>
</file>

<file path=ppt/slides/_rels/slide1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3.xml"/>
</Relationships>
</file>

<file path=ppt/slides/_rels/slide1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4.xml"/>
</Relationships>
</file>

<file path=ppt/slides/_rels/slide1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5.xml"/>
</Relationships>
</file>

<file path=ppt/slides/_rels/slide1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6.xml"/>
</Relationships>
</file>

<file path=ppt/slides/_rels/slide1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7.xml"/>
</Relationships>
</file>

<file path=ppt/slides/_rels/slide1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8.xml"/>
</Relationships>
</file>

<file path=ppt/slides/_rels/slide1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1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0.xml"/>
</Relationships>
</file>

<file path=ppt/slides/_rels/slide1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1.xml"/>
</Relationships>
</file>

<file path=ppt/slides/_rels/slide1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2.xml"/>
</Relationships>
</file>

<file path=ppt/slides/_rels/slide1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3.xml"/>
</Relationships>
</file>

<file path=ppt/slides/_rels/slide1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4.xml"/>
</Relationships>
</file>

<file path=ppt/slides/_rels/slide1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5.xml"/>
</Relationships>
</file>

<file path=ppt/slides/_rels/slide1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6.xml"/>
</Relationships>
</file>

<file path=ppt/slides/_rels/slide1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7.xml"/>
</Relationships>
</file>

<file path=ppt/slides/_rels/slide1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8.xml"/>
</Relationships>
</file>

<file path=ppt/slides/_rels/slide1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0.xml"/>
</Relationships>
</file>

<file path=ppt/slides/_rels/slide2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1.xml"/>
</Relationships>
</file>

<file path=ppt/slides/_rels/slide2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2.xml"/>
</Relationships>
</file>

<file path=ppt/slides/_rels/slide2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3.xml"/>
</Relationships>
</file>

<file path=ppt/slides/_rels/slide2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204.xml"/>
</Relationships>
</file>

<file path=ppt/slides/_rels/slide2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5.xml"/>
</Relationships>
</file>

<file path=ppt/slides/_rels/slide2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8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3.xml"/>
</Relationships>
</file>

<file path=ppt/slides/_rels/slide2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4.xml"/>
</Relationships>
</file>

<file path=ppt/slides/_rels/slide2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235.xml"/>
</Relationships>
</file>

<file path=ppt/slides/_rels/slide2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6.xml"/>
</Relationships>
</file>

<file path=ppt/slides/_rels/slide2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0.xml"/>
</Relationships>
</file>

<file path=ppt/slides/_rels/slide2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261.xml"/>
</Relationships>
</file>

<file path=ppt/slides/_rels/slide2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2.xml"/>
</Relationships>
</file>

<file path=ppt/slides/_rels/slide2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3.xml"/>
</Relationships>
</file>

<file path=ppt/slides/_rels/slide2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4.xml"/>
</Relationships>
</file>

<file path=ppt/slides/_rels/slide2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5.xml"/>
</Relationships>
</file>

<file path=ppt/slides/_rels/slide2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6.xml"/>
</Relationships>
</file>

<file path=ppt/slides/_rels/slide2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7.xml"/>
</Relationships>
</file>

<file path=ppt/slides/_rels/slide2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8.xml"/>
</Relationships>
</file>

<file path=ppt/slides/_rels/slide2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7.xml"/>
</Relationships>
</file>

<file path=ppt/slides/_rels/slide2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0.xml"/>
</Relationships>
</file>

<file path=ppt/slides/_rels/slide2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1.xml"/>
</Relationships>
</file>

<file path=ppt/slides/_rels/slide2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2.xml"/>
</Relationships>
</file>

<file path=ppt/slides/_rels/slide2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3.xml"/>
</Relationships>
</file>

<file path=ppt/slides/_rels/slide2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4.xml"/>
</Relationships>
</file>

<file path=ppt/slides/_rels/slide2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5.xml"/>
</Relationships>
</file>

<file path=ppt/slides/_rels/slide2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6.xml"/>
</Relationships>
</file>

<file path=ppt/slides/_rels/slide2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7.xml"/>
</Relationships>
</file>

<file path=ppt/slides/_rels/slide2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8.xml"/>
</Relationships>
</file>

<file path=ppt/slides/_rels/slide2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9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280.xml"/>
</Relationships>
</file>

<file path=ppt/slides/_rels/slide2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1.xml"/>
</Relationships>
</file>

<file path=ppt/slides/_rels/slide2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2.xml"/>
</Relationships>
</file>

<file path=ppt/slides/_rels/slide2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3.xml"/>
</Relationships>
</file>

<file path=ppt/slides/_rels/slide2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4.xml"/>
</Relationships>
</file>

<file path=ppt/slides/_rels/slide2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5.xml"/>
</Relationships>
</file>

<file path=ppt/slides/_rels/slide2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6.xml"/>
</Relationships>
</file>

<file path=ppt/slides/_rels/slide2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7.xml"/>
</Relationships>
</file>

<file path=ppt/slides/_rels/slide2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8.xml"/>
</Relationships>
</file>

<file path=ppt/slides/_rels/slide2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9.xml"/>
</Relationships>
</file>

<file path=ppt/slides/_rels/slide2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0.xml"/>
</Relationships>
</file>

<file path=ppt/slides/_rels/slide2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1.xml"/>
</Relationships>
</file>

<file path=ppt/slides/_rels/slide2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2.xml"/>
</Relationships>
</file>

<file path=ppt/slides/_rels/slide2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3.xml"/>
</Relationships>
</file>

<file path=ppt/slides/_rels/slide2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294.xml"/>
</Relationships>
</file>

<file path=ppt/slides/_rels/slide2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5.xml"/>
</Relationships>
</file>

<file path=ppt/slides/_rels/slide2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6.xml"/>
</Relationships>
</file>

<file path=ppt/slides/_rels/slide2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7.xml"/>
</Relationships>
</file>

<file path=ppt/slides/_rels/slide2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8.xml"/>
</Relationships>
</file>

<file path=ppt/slides/_rels/slide2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0.xml"/>
</Relationships>
</file>

<file path=ppt/slides/_rels/slide301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01.xml"/>
</Relationships>
</file>

<file path=ppt/slides/_rels/slide3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2.xml"/>
</Relationships>
</file>

<file path=ppt/slides/_rels/slide3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3.xml"/>
</Relationships>
</file>

<file path=ppt/slides/_rels/slide3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4.xml"/>
</Relationships>
</file>

<file path=ppt/slides/_rels/slide3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5.xml"/>
</Relationships>
</file>

<file path=ppt/slides/_rels/slide3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6.xml"/>
</Relationships>
</file>

<file path=ppt/slides/_rels/slide3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7.xml"/>
</Relationships>
</file>

<file path=ppt/slides/_rels/slide3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8.xml"/>
</Relationships>
</file>

<file path=ppt/slides/_rels/slide3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9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0.xml"/>
</Relationships>
</file>

<file path=ppt/slides/_rels/slide3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1.xml"/>
</Relationships>
</file>

<file path=ppt/slides/_rels/slide3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2.xml"/>
</Relationships>
</file>

<file path=ppt/slides/_rels/slide3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3.xml"/>
</Relationships>
</file>

<file path=ppt/slides/_rels/slide3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4.xml"/>
</Relationships>
</file>

<file path=ppt/slides/_rels/slide3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5.xml"/>
</Relationships>
</file>

<file path=ppt/slides/_rels/slide3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6.xml"/>
</Relationships>
</file>

<file path=ppt/slides/_rels/slide3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7.xml"/>
</Relationships>
</file>

<file path=ppt/slides/_rels/slide3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8.xml"/>
</Relationships>
</file>

<file path=ppt/slides/_rels/slide3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9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0.xml"/>
</Relationships>
</file>

<file path=ppt/slides/_rels/slide3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1.xml"/>
</Relationships>
</file>

<file path=ppt/slides/_rels/slide3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22.xml"/>
</Relationships>
</file>

<file path=ppt/slides/_rels/slide3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3.xml"/>
</Relationships>
</file>

<file path=ppt/slides/_rels/slide330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3.xml"/>
</Relationships>
</file>

<file path=ppt/slides/_rels/slide3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3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3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3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.xml"/>
</Relationships>
</file>

<file path=ppt/slides/_rels/slide3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3.xml"/>
</Relationships>
</file>

<file path=ppt/slides/_rels/slide3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0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4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6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7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8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14440" y="2819520"/>
            <a:ext cx="582912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Upravljanje projektima u građevinarstvu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33520" y="6095520"/>
            <a:ext cx="579096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 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čemu se ovaj predmet razlikuje od ostalih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2097B-FEDF-4EBD-B758-8B4AB79507B8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A2014F-2F4F-4D13-BCD3-61BE13E201C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33520" y="1981080"/>
            <a:ext cx="5991120" cy="754380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U svemu tome ima istine, ...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990720" y="2438280"/>
            <a:ext cx="1888920" cy="18306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971800" y="4419720"/>
            <a:ext cx="3591000" cy="19350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4495680" y="2438280"/>
            <a:ext cx="1828800" cy="14875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5"/>
          <a:stretch/>
        </p:blipFill>
        <p:spPr>
          <a:xfrm>
            <a:off x="1295280" y="5410080"/>
            <a:ext cx="1524240" cy="14446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6"/>
          <a:stretch/>
        </p:blipFill>
        <p:spPr>
          <a:xfrm>
            <a:off x="838080" y="7238880"/>
            <a:ext cx="2362320" cy="1771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B35CB-2B59-43DA-8EDA-B3B575841670}" type="slidenum">
              <a:t>1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48DDF4-5C1B-4774-A83C-09E9CE05531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govori o upravljanju projektom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514440" y="3090600"/>
            <a:ext cx="5829120" cy="635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andum of Agre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zjava investitora da postavlja rukovodioca projek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zjava rukovodioca projekta da prihvata tu ulog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is projekta sa osnovnim podacima o budž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stale specifičnosti projek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D06D9-6992-42D6-AFA2-58A4111BF7AF}" type="slidenum">
              <a:t>10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F81A5C-81B4-4FD7-A099-75F551AE3575}" type="datetime1">
              <a:rPr lang="en-US"/>
              <a:t>07/29/26</a:t>
            </a:fld>
          </a:p>
        </p:txBody>
      </p:sp>
    </p:spTree>
  </p:cSld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govori o upravljanju projektom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90040" y="3242880"/>
            <a:ext cx="5829480" cy="635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dition of Engag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žina angažovanja rukovodioca projek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luge koje pruž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luge koje ne pruž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htevi za izveštavan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e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čin kontak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vlašćena l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B92BF-B3E7-4861-9298-DED64E04CAE5}" type="slidenum">
              <a:t>10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C4210D-A1A9-43E2-AF64-D8ED53A5A2CD}" type="datetime1">
              <a:rPr lang="en-US"/>
              <a:t>07/29/26</a:t>
            </a:fld>
          </a:p>
        </p:txBody>
      </p:sp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odeli konsultantskih uslug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ši propis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ganizacija izvođenja investicije (organizacioni konsalting) - ne ulazi projektovan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vesticiono savetovanje (konsalting) - ne ulazi stručni nadz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E7421-4129-413E-B906-CB7E04DD7E18}" type="slidenum">
              <a:t>10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F69315-AF57-490D-B33A-1D90BD225DBD}" type="datetime1">
              <a:rPr lang="en-US"/>
              <a:t>07/29/26</a:t>
            </a:fld>
          </a:p>
        </p:txBody>
      </p:sp>
    </p:spTree>
  </p:cSld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odeli konsultantskih uslug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odič UN - Ekonomska komisija za Evrop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vencionalni prist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rišćenje stručnjaka investito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pravljanje projekt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ljuč u ruk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B7D11-42AC-4E2B-A4E8-610C6721DE7A}" type="slidenum">
              <a:t>10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48FEDD-6AE5-4AF8-AD60-8D6823A5C2B7}" type="datetime1">
              <a:rPr lang="en-US"/>
              <a:t>07/29/26</a:t>
            </a:fld>
          </a:p>
        </p:txBody>
      </p:sp>
    </p:spTree>
  </p:cSld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705360" cy="190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odeli konsultantskih uslug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514440" y="2023560"/>
            <a:ext cx="5829120" cy="635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nvencionalni prist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vestitor ima ukupnu odgovor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sultant obavlja profesionalne uslu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zrada planova i specifikaci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prema tende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aliza troško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astupanje investito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dzor nad izgradnj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ćan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 satu plus troškov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cenat troško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ušalni izn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C23D5-5B6F-4401-8A8A-F5BD4F232A50}" type="slidenum">
              <a:t>10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96A85E-4A96-407A-9A9A-40F74D16D3F4}" type="datetime1">
              <a:rPr lang="en-US"/>
              <a:t>07/29/26</a:t>
            </a:fld>
          </a:p>
        </p:txBody>
      </p:sp>
    </p:spTree>
  </p:cSld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705360" cy="190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odeli konsultantskih uslug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14440" y="2023920"/>
            <a:ext cx="5829120" cy="7043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dnosti konvencionalnog pristup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sultant nema finansijskih interesa u izgradnj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asni odnosi konsultant - investitor - izvođa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jekat se završava pre početka gradn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im radova je jas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vestitor ima pun nadz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 skladu je sa regulativom o javnim radovi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ansijske obaveze su jas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28054-E4F5-41D0-B01C-15BAD95779A0}" type="slidenum">
              <a:t>10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CC20F1-BAB0-47A5-BA22-538103F8DA97}" type="datetime1">
              <a:rPr lang="en-US"/>
              <a:t>07/29/26</a:t>
            </a:fld>
          </a:p>
        </p:txBody>
      </p:sp>
    </p:spTree>
  </p:cSld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705360" cy="190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odeli konsultantskih uslug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514440" y="2023560"/>
            <a:ext cx="5829120" cy="635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rišćenje stručnjaka investito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imalni konsal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njuje mogućnost spoljnog sukoba intere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trebno uigravanje stručnjak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FAD53-48C1-44BC-BB2B-0588B3DD2A9B}" type="slidenum">
              <a:t>10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7BDDAF-166E-43AD-ACFC-F5D2F78938FE}" type="datetime1">
              <a:rPr lang="en-US"/>
              <a:t>07/29/26</a:t>
            </a:fld>
          </a:p>
        </p:txBody>
      </p:sp>
    </p:spTree>
  </p:cSld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705360" cy="190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odeli konsultantskih uslug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14440" y="2023560"/>
            <a:ext cx="5829120" cy="635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ravljanje projekt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niranje realizacije projek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jektovanje i/ili upravljanje izradom projektne dokumentaci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bavke i licitaci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pravljanje izgradnj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sultant je investitorov izvršni organ, bez izvođenja rado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guća podela uloga između više konsultan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062D1-BF6C-421C-BE37-C1D640AF07BD}" type="slidenum">
              <a:t>10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42E6D2-C501-4BBA-A57C-0FCE7DFAC1F8}" type="datetime1">
              <a:rPr lang="en-US"/>
              <a:t>07/29/26</a:t>
            </a:fld>
          </a:p>
        </p:txBody>
      </p:sp>
    </p:spTree>
  </p:cSld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705360" cy="190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odeli konsultantskih uslug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14440" y="2023920"/>
            <a:ext cx="5829120" cy="712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dnosti upravljanja projekt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leksibilno angažovanje investito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kusni savetnic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ma unutrašnjih sukob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govori za nabavku se sklapaju na osnovu licitacija sa kompletnim specifikacija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bog licitacije moguće je porediti ponu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dstupanja se rano primećuj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leksibilnije upravljan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3BA6F-EB3B-45DB-8980-454F35803AC5}" type="slidenum">
              <a:t>10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C58F96-7776-44CD-8494-470C64E8B541}" type="datetime1">
              <a:rPr lang="en-US"/>
              <a:t>07/29/26</a:t>
            </a:fld>
          </a:p>
        </p:txBody>
      </p:sp>
    </p:spTree>
  </p:cSld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705360" cy="190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odeli konsultantskih uslug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14440" y="2023920"/>
            <a:ext cx="5829120" cy="712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ljuč u ruk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mpletna odgovornost za projektovanje i izgradnj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imalno angažovanje investito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dovi mogu da počnu pre završetka projek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ena se utvrđuje na osnovu tačnih specifikacija, pre ili posle sklapanja ugovo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37E15-A7A3-4CE2-A98C-091BC1D77834}" type="slidenum">
              <a:t>10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B0EC34-4EF3-41E8-914C-0A84FEB1B805}" type="datetime1">
              <a:rPr lang="en-US"/>
              <a:t>07/29/26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... a mi imamo još jedan predlog.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14440" y="3124080"/>
            <a:ext cx="58291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0000"/>
          </a:bodyPr>
          <a:p>
            <a:pPr marL="1026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0260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7200" spc="-1" strike="noStrike">
                <a:solidFill>
                  <a:srgbClr val="000000"/>
                </a:solidFill>
                <a:latin typeface="Times New Roman"/>
              </a:rPr>
              <a:t>Zarada!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1026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026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02600"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96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066680" y="5943600"/>
            <a:ext cx="1565280" cy="213516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4419720" y="5943600"/>
            <a:ext cx="1565280" cy="2136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4CFE4-E9FC-44EF-B853-0D53F360D89C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2DA86C-2239-4725-92B6-96DC6006BB9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100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češće konsultant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14440" y="2100240"/>
            <a:ext cx="5829120" cy="7043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dinvesticiona istraživan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zrada i revizija projektne dokumentac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citacija i ugovaran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zvođen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mopredaja objekta i obuka osobl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vek mora biti profesionalan i nepristras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ao mogu dobiti samo oni koji imaju ugl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DEB1E-F035-4049-A602-1B30FBF52BD4}" type="slidenum">
              <a:t>1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A9276D-5E01-4510-8E9E-178AA1F91EB1}" type="datetime1">
              <a:rPr lang="en-US"/>
              <a:t>07/29/26</a:t>
            </a:fld>
          </a:p>
        </p:txBody>
      </p:sp>
    </p:spTree>
  </p:cSld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14440" y="347760"/>
            <a:ext cx="5829120" cy="1100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gled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14440" y="1371600"/>
            <a:ext cx="5829120" cy="76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14440" y="1599840"/>
            <a:ext cx="5829120" cy="7467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nsulta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D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ncipi ra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rste uslug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ravljanje projekti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lovi na upravljanju projekti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govori o upravljanju projekti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i konsultantskih usl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češće konsultanata u projekt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7DA6E-A903-4C67-BE94-74760222F229}" type="slidenum">
              <a:t>1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DF4769-E81D-46EA-841B-FB07E4DCD7D2}" type="datetime1">
              <a:rPr lang="en-US"/>
              <a:t>07/29/26</a:t>
            </a:fld>
          </a:p>
        </p:txBody>
      </p:sp>
    </p:spTree>
  </p:cSld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14440" y="3301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Upravljanje projektima u građevinarstvu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1028520" y="5613120"/>
            <a:ext cx="4800600" cy="2531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zrada ponu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65A18-525D-4A57-9ACE-17543D072C0F}" type="slidenum">
              <a:t>1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8E7EA1-B9EB-4EA8-B914-79129CF30CBC}" type="datetime1">
              <a:rPr lang="en-US"/>
              <a:t>07/29/26</a:t>
            </a:fld>
          </a:p>
        </p:txBody>
      </p:sp>
    </p:spTree>
  </p:cSld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14440" y="652320"/>
            <a:ext cx="5829120" cy="20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deo</a:t>
            </a: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snovni pojmovi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14440" y="2903400"/>
            <a:ext cx="5829120" cy="556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n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ela upi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ma definiciji predmeta pos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ma načinu izbora izvođač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ma definisanju ce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n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16AD8-5137-41A1-A5AA-39D272FA231C}" type="slidenum">
              <a:t>1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A611A3-6D64-4D92-932D-A3F1F5822645}" type="datetime1">
              <a:rPr lang="en-US"/>
              <a:t>07/29/26</a:t>
            </a:fld>
          </a:p>
        </p:txBody>
      </p:sp>
    </p:spTree>
  </p:cSld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14440" y="195120"/>
            <a:ext cx="5829120" cy="1100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nud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37760" y="1294920"/>
            <a:ext cx="5829480" cy="76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avnički: jednostrana izjava volje upućena određenom licu radi zaključivanja ugovo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lovi da bi bila valjan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drži osnovne elemente ugovora (predmet, rok, cenu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zražena volja 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ponuđač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a pod navedenim uslovima sklopi ugov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dnosi ga 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ponuđač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li njegov punomoćni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pućena 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investito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ično je obavezujuća za ponuđač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a rok trajan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05C97-1B0E-4BE3-B406-E7B7B117361B}" type="slidenum">
              <a:t>1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9FF27B-B01C-4802-9B91-4387F9A7160F}" type="datetime1">
              <a:rPr lang="en-US"/>
              <a:t>07/29/26</a:t>
            </a:fld>
          </a:p>
        </p:txBody>
      </p:sp>
    </p:spTree>
  </p:cSld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vrha ponud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erentni materij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kazuje na tehničko-tehnološke aspekte projek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kazuje sposobnost izvođača da uradi posa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kazuje ozbiljnost izvođač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gledava uslove pod kojima investitor može dobiti investiciono dob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A7175-970F-4DD0-A2B6-9CE20EAAF13F}" type="slidenum">
              <a:t>1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8E63B3-EAFF-4E00-A807-4D495B6D362B}" type="datetime1">
              <a:rPr lang="en-US"/>
              <a:t>07/29/26</a:t>
            </a:fld>
          </a:p>
        </p:txBody>
      </p:sp>
    </p:spTree>
  </p:cSld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14440" y="1947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agledavanje ponud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514440" y="1566360"/>
            <a:ext cx="5829120" cy="77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hničko-tehnološki aspek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ktivnos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trebe za resursima i njihovi izvor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gući zahtevi podizvođača i kooperanata (tehničko-tehnološki, organizacioni i finasijski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lovi isporuke opre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kov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ganizacija izgradn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namički plan finansi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4FB9D-08C1-44B8-9357-3D832A77F70D}" type="slidenum">
              <a:t>1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6AAB52-D457-46A0-B887-390C0B61CDA8}" type="datetime1">
              <a:rPr lang="en-US"/>
              <a:t>07/29/26</a:t>
            </a:fld>
          </a:p>
        </p:txBody>
      </p:sp>
    </p:spTree>
  </p:cSld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514440" y="1947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pi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514440" y="2023560"/>
            <a:ext cx="5829120" cy="635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še želju kupca za investicionim dobr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me se definiše predmet budućeg ugovo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ično definiše i način izbora najpovoljnijeg izvođač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Često definiše i ostale prateće uslo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čin plaćan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vestitorovi resurs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. 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BD3BF-24C8-469B-9DF5-DEDC2BEAE376}" type="slidenum">
              <a:t>1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028593-E245-4B96-BE99-D2117899B604}" type="datetime1">
              <a:rPr lang="en-US"/>
              <a:t>07/29/26</a:t>
            </a:fld>
          </a:p>
        </p:txBody>
      </p:sp>
    </p:spTree>
  </p:cSld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dela upit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ma načinu definisanja predmeta pos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 tend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 funkcionalnim parametri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52242-6E07-4B70-B0BF-C837B02FEAC7}" type="slidenum">
              <a:t>1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1BAE32-B587-4311-A8AB-A79C4A5D4A28}" type="datetime1">
              <a:rPr lang="en-US"/>
              <a:t>07/29/26</a:t>
            </a:fld>
          </a:p>
        </p:txBody>
      </p:sp>
    </p:spTree>
  </p:cSld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14440" y="42480"/>
            <a:ext cx="5829120" cy="132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adržaj tender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514440" y="1338120"/>
            <a:ext cx="5829120" cy="719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utstvo ponuđači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daci o posl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lovi za podnošenje ponu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graničenja u posl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putstva za podnošenje ponude (rok važnosti, produženje, licitaciona garancij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razac ponude sa prilogom uz ponud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mular sa izjavom da će radovi biti izvršeni u roku i po ceni, koji ispunjava ponuđač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39E20-1C01-4D9C-9F87-6CE07F01FAC7}" type="slidenum">
              <a:t>1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5E7DA8-9BD7-4AD6-A958-74494205BF75}" type="datetime1">
              <a:rPr lang="en-US"/>
              <a:t>07/29/26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Zarada je važna svima koji grade!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8800" indent="-388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Investitor veoma često hoće da zarad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8800" indent="-388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Izvođač uvek hoće da zarad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8800" indent="-388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Graditelj mora od nečeg da živi, i to dobro, ako je moguć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8800" indent="-388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Neko može da bude zaljubljenik u svoj posao, ali ostali obično traže svoj inte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5763B-FA45-4804-AA89-B8861ED4BFE4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805FF5-05C2-4521-915C-7DFDEB82420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14440" y="42480"/>
            <a:ext cx="5829120" cy="132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adržaj tender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514440" y="1414440"/>
            <a:ext cx="5829120" cy="795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razac ugovo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mular na kome se zaključije ugovor, čiji je sastavni deo i ostala tenderska dokumentac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lovi ugovo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š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ebn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oma često bazirani na FIDIC-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hnički uslov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kacije i opisi radova koje treba izve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čni zahtev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guće "zamke"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B4968-FE88-45BB-840B-8F5018EB76F8}" type="slidenum">
              <a:t>1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3CE7E6-58E2-40EC-BFA2-12FF15CBE493}" type="datetime1">
              <a:rPr lang="en-US"/>
              <a:t>07/29/26</a:t>
            </a:fld>
          </a:p>
        </p:txBody>
      </p:sp>
    </p:spTree>
  </p:cSld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14440" y="1947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adržaj tender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14440" y="1794960"/>
            <a:ext cx="5829120" cy="727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dmer i predraču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cena količine radova koji se r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nuđač upisuje jedinične ce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ćanje prema stvarnim količina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nuđač bi trebalo da dobro sagleda šta se stvarno može očekiva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obuhvatne jedinične ce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rektne jedinične ce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nos cena ponuđač prilagođava željenom toku nov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3645D-8965-4272-BC8B-2509A11BFC9B}" type="slidenum">
              <a:t>1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33B4E8-A772-4878-86CF-65F0E1ED3CA9}" type="datetime1">
              <a:rPr lang="en-US"/>
              <a:t>07/29/26</a:t>
            </a:fld>
          </a:p>
        </p:txBody>
      </p:sp>
    </p:spTree>
  </p:cSld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adržaj tender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tež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zrađuje ih investi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isu dovoljni za realizacij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knadno se razrađuju i prilagođavaj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rancija za dobro izvršenje pos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zdaje banka ponuđač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ično 10% vrednosti rado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ično naplativa na poziv investito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44540-719A-42AA-A7E1-4826E6229A61}" type="slidenum">
              <a:t>1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F4DBE2-306D-485E-9535-F9B3C1BFE6F9}" type="datetime1">
              <a:rPr lang="en-US"/>
              <a:t>07/29/26</a:t>
            </a:fld>
          </a:p>
        </p:txBody>
      </p:sp>
    </p:spTree>
  </p:cSld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14440" y="1947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adržaj tender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14440" y="1643040"/>
            <a:ext cx="5829120" cy="750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ismo o prihvatanju ponu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ismo kojom se najpovoljniji ponuđač informiše da je izabr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rsta predugovo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ko se ugovor ne sklopi, gubi se licitaciona garanc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loz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kumenta koja se dostavljaju naknad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ično se dostavljaju kao odgovor na pitanje izvođač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šalju se svima, bez obzira da li su pital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o ugovo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40580-C39A-4A23-BCBA-58AA93940690}" type="slidenum">
              <a:t>1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7BE1C6-15BF-4482-8644-1D5B9424963D}" type="datetime1">
              <a:rPr lang="en-US"/>
              <a:t>07/29/26</a:t>
            </a:fld>
          </a:p>
        </p:txBody>
      </p:sp>
    </p:spTree>
  </p:cSld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unkcionalni parametri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mereno vrsti objek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mena, spratnost, nivo obrade, oprema za poslovni objek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rsta proizvoda, nivo proizvodnje za proizvodne objek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nuđač treba da uradi detaljnu razradu objek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kupo i dugotraj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ća mogućnost za zaradu i gubita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1687A-15EF-44B8-BBBA-B82C55EE7505}" type="slidenum">
              <a:t>1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44BF79-41A9-451B-9D5A-ACEEC3C95FDF}" type="datetime1">
              <a:rPr lang="en-US"/>
              <a:t>07/29/26</a:t>
            </a:fld>
          </a:p>
        </p:txBody>
      </p:sp>
    </p:spTree>
  </p:cSld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dela upit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ma načinu izbora najpovoljnijeh ponuđač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ktna pogodb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zivna licitac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avna licitac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rektna pogodb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ji poslov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ereni poslovni partner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22FDC-5A06-451F-8E39-F076B13A6EDB}" type="slidenum">
              <a:t>1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833EFE-5A06-4430-AD65-9D3E5451A13F}" type="datetime1">
              <a:rPr lang="en-US"/>
              <a:t>07/29/26</a:t>
            </a:fld>
          </a:p>
        </p:txBody>
      </p:sp>
    </p:spTree>
  </p:cSld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514440" y="11916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icitacij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514440" y="1566720"/>
            <a:ext cx="5829120" cy="765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zivna licitaci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raju se kvalifikovani ponuđač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čekuju se kvalitetne ponu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že da spreči dogovorne ponu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vna licitaci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avni poziv u specijalizovanim stre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vima informisan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ično postoji predkvalifikac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tupak sprovodi konsult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C8FB4-490B-47EF-AA95-57BF3B92F5D3}" type="slidenum">
              <a:t>1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0E890F-5B43-498F-81B3-083CB5186DB5}" type="datetime1">
              <a:rPr lang="en-US"/>
              <a:t>07/29/26</a:t>
            </a:fld>
          </a:p>
        </p:txBody>
      </p:sp>
    </p:spTree>
  </p:cSld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14440" y="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zbor najpovoljnije ponuđač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514440" y="1642680"/>
            <a:ext cx="5829120" cy="76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ično nije najjeftinij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tan je bonit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tni su finansijski uslovi (kreditiranje, plaćanje u domaćoj valuti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gu da postoje i specifični uslovi (angažovanje domaćih firmi ili resursa, transfer znanj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guće je da postoje i drugi specifični uslov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vanična procedura je definisana u konkursnom materijal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8D451-4F12-4290-9396-63C3427399AA}" type="slidenum">
              <a:t>1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F55BB9-48FA-4014-8063-8093073F3ACC}" type="datetime1">
              <a:rPr lang="en-US"/>
              <a:t>07/29/26</a:t>
            </a:fld>
          </a:p>
        </p:txBody>
      </p:sp>
    </p:spTree>
  </p:cSld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dela upit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ma uslovima za davanje prodajne ce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edinične ce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edinstvena ce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gući razni modalite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edinstvena cena može biti i fiks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F7B8F-9657-4B37-B6AE-04ADCE8FCB24}" type="slidenum">
              <a:t>1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EE4340-DFFC-4F6A-A280-FF8337D36CC8}" type="datetime1">
              <a:rPr lang="en-US"/>
              <a:t>07/29/26</a:t>
            </a:fld>
          </a:p>
        </p:txBody>
      </p:sp>
    </p:spTree>
  </p:cSld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100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gled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14440" y="1371600"/>
            <a:ext cx="5829120" cy="76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514440" y="2362320"/>
            <a:ext cx="5829120" cy="6705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n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ela upi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ma definiciji predmeta pos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ma načinu izbora izvođač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ma definisanju ce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n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8A03A-0315-463E-A870-D97724C82CC3}" type="slidenum">
              <a:t>1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535F1F-AEC5-42B7-B7CC-1C716D0E29EB}" type="datetime1">
              <a:rPr lang="en-US"/>
              <a:t>07/29/26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Drugačiji pogled na sve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Pokušaćemo da vam pokažemo kako da vodite računa o realnim mogućnosti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Pokušaćemo da vas naučimo kako da vodite računa o realnim interesi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E8317-44D6-4A5C-AF27-94E02C3365A7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503C99-21C0-4383-8BC4-56F4FB441D7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5886360" cy="243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I </a:t>
            </a: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deo</a:t>
            </a: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cedura izrade ponud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33520" y="3123720"/>
            <a:ext cx="5829120" cy="59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cene pri izradi ponu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na raspodela sredsta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oškovi i procena trošk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Šema izrade ponu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nceptualna proce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liminarna proce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tivna proce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talna proce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iljevi ponu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5332C-704C-40E6-B6AC-F33F930ABB76}" type="slidenum">
              <a:t>1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E52B87-8B60-43DC-914E-05DF59050F3E}" type="datetime1">
              <a:rPr lang="en-US"/>
              <a:t>07/29/26</a:t>
            </a:fld>
          </a:p>
        </p:txBody>
      </p:sp>
    </p:spTree>
  </p:cSld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cene pri izradi ponud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oškov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kov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valit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cena troškova je ubedljivo najznačajni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trebno je uračunati faktor neizvesnosti, posebno u uslovima dugotrajnog projek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1C0BE-BBC3-4BFA-BDCB-7B2B10D9243B}" type="slidenum">
              <a:t>1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58AD9D-8B58-4F40-BD82-64244EE2251F}" type="datetime1">
              <a:rPr lang="en-US"/>
              <a:t>07/29/26</a:t>
            </a:fld>
          </a:p>
        </p:txBody>
      </p:sp>
    </p:spTree>
  </p:cSld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terna raspodela sredstav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na raspodela sredstava između glavnog izvođača i podizvođač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tno je da glavni ponuđač (izvođač) uspostavi internu kontrolu ponuda podizvođač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izvođač mora biti "čvrsto držan, štapom i šargarepom"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F1990-2D70-46DB-BC21-29D6F6309E6B}" type="slidenum">
              <a:t>1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B495B6-F9DB-4473-B27C-6178AC2DFF05}" type="datetime1">
              <a:rPr lang="en-US"/>
              <a:t>07/29/26</a:t>
            </a:fld>
          </a:p>
        </p:txBody>
      </p:sp>
    </p:spTree>
  </p:cSld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terna raspodela sredstav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"Štap"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gućnost angažovanja drugog podizvođač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gućnost promene tehnologi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"Šargarepa"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lagođavanje ponude interesima podizvođač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istiranje na tehnologiji koja odgovara podizvođač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dnost u raspodeli sredstava (iznos i tok novc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5628A-0DC6-4C18-A3C7-D4117A5590D1}" type="slidenum">
              <a:t>1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89FD56-0B5A-4C4E-8CD1-8F3085CA198C}" type="datetime1">
              <a:rPr lang="en-US"/>
              <a:t>07/29/26</a:t>
            </a:fld>
          </a:p>
        </p:txBody>
      </p:sp>
    </p:spTree>
  </p:cSld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terna raspodela sredstav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 podizvođačem se ugovara cena koja se razlikuje od cene tih radova iz projek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trebno je voditi računa da isplaćen novac odgovara vrednosti izvršenih rad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k novca treba da bude u funkciji efikasnog završetka rad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108C2-02E1-413F-884F-2AC9EAD94179}" type="slidenum">
              <a:t>13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9E5F59-0187-4503-806D-4E7D6F008DCB}" type="datetime1">
              <a:rPr lang="en-US"/>
              <a:t>07/29/26</a:t>
            </a:fld>
          </a:p>
        </p:txBody>
      </p:sp>
    </p:spTree>
  </p:cSld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14440" y="11916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cena troškov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14440" y="1566720"/>
            <a:ext cx="5829120" cy="757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lasifikaci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ceptual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liminar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itiv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tal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ično procenu obavlja specijalizovana ekipa ponuđač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kipu vodi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rocenitel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estimator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cene su približne, ali su nuž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k kada se sagledaju troškovi, dodaje se prof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C7D7E-C390-477F-B14A-3ADB094DDB6C}" type="slidenum">
              <a:t>1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873242-9C80-4006-81BE-012201A6277F}" type="datetime1">
              <a:rPr lang="en-US"/>
              <a:t>07/29/26</a:t>
            </a:fld>
          </a:p>
        </p:txBody>
      </p:sp>
    </p:spTree>
  </p:cSld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roškovi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rektni troškov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oškovi izgradn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oškovi pomoćnih postrojenja i služb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žijski troškov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ično troškovi direkcije kompani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često nastaju pre ugovaranja (ponude, akvizicija, market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77B8A-03CA-4FAD-8C51-12CE942BA2E0}" type="slidenum">
              <a:t>1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18A1F6-B224-4379-AA36-123ECB13D85B}" type="datetime1">
              <a:rPr lang="en-US"/>
              <a:t>07/29/26</a:t>
            </a:fld>
          </a:p>
        </p:txBody>
      </p:sp>
    </p:spTree>
  </p:cSld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61440" y="0"/>
            <a:ext cx="582948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Šema izrade ponud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380880" y="1371600"/>
            <a:ext cx="6148440" cy="7767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20A73-48B4-42F4-992E-F025386741EE}" type="slidenum">
              <a:t>13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43DD9A-594F-4077-863A-A5EB196BB53E}" type="datetime1">
              <a:rPr lang="en-US"/>
              <a:t>07/29/26</a:t>
            </a:fld>
          </a:p>
        </p:txBody>
      </p:sp>
    </p:spTree>
  </p:cSld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Konceptualna procen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lov za donošenje odluke o radu na ponudi (slično studiji opravdanosti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gledavanje tenderske dokumentac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vesti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jekt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dmet pos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ženi rok (ako ga im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lovi za početak rado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lovi učešća domaćih firmi i moguće posled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80FF1-E9BC-42E7-A666-7EA24535DF5B}" type="slidenum">
              <a:t>13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038022-9F6E-48A7-A5AF-253B5ED5C75E}" type="datetime1">
              <a:rPr lang="en-US"/>
              <a:t>07/29/26</a:t>
            </a:fld>
          </a:p>
        </p:txBody>
      </p:sp>
    </p:spTree>
  </p:cSld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Konceptualna procen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ansijska konstrukcija investitora i njena sigur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čin plaćanja i način verifikacije obavljenog pos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čiji su troškovi osiguranja, carine i druge tak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97381-1998-4CD2-9F8F-3D0301BEAA77}" type="slidenum">
              <a:t>13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3C8B47-3BD6-464E-963D-8B2BA2344259}" type="datetime1">
              <a:rPr lang="en-US"/>
              <a:t>07/29/26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Interesi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Vrednost onoga što uradite biće merena prema tome koliko doprinesete interesi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Vaš interes mora biti da sačuvate svoj integritet stručnjaka, ali i da zarad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Vaš interes je da onaj koji vas je angažovao oseti da je imao koristi od tog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31E6C-16D7-4BD0-9C81-2279F3D3C3F4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90EB0F-9462-4CF6-9E54-C605D647B43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Konceptualna procen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gledavanje istraživanja tržišta i istorijskih podat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hnološka rešen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trošci troškovno značajnih stavk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hanizac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poručioci materija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poručioci opr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dizvođač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adrovska osposoblje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C0E32-A096-465A-921B-FB1CD4E6D167}" type="slidenum">
              <a:t>14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735F9B-26F2-4B09-96B1-7979A954FF2A}" type="datetime1">
              <a:rPr lang="en-US"/>
              <a:t>07/29/26</a:t>
            </a:fld>
          </a:p>
        </p:txBody>
      </p:sp>
    </p:spTree>
  </p:cSld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Konceptualna procen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dluka o usvajanju ponu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kvirna finansijska vred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ktivnosti potrebne za akviziciju pos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ni dinamički plan izrade ponu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adrovske potrebe za izradu ponu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ansijska sredstva za izradu ponu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1A6B8-5D7F-4CE0-9F9D-363E4E086CE2}" type="slidenum">
              <a:t>14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1AC88C-52BB-432F-AEFC-18C39CBEF0B3}" type="datetime1">
              <a:rPr lang="en-US"/>
              <a:t>07/29/26</a:t>
            </a:fld>
          </a:p>
        </p:txBody>
      </p:sp>
    </p:spTree>
  </p:cSld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37760" y="119160"/>
            <a:ext cx="582948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liminarna procen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37760" y="1719000"/>
            <a:ext cx="5829480" cy="727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snovni izvor cene koja se nud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čnost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sl-SI" sz="32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0%-15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jbitniji element pripreme ponu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zana za proceduru izrade ponu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jem i analiza tende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dela na tehnološke i prostorne podsist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isanje generalnih aktiv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aliza tehnologije i njenih posled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ABA4E-E141-46B5-9D33-DE48F6D3942E}" type="slidenum">
              <a:t>14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02BB22-C3E5-44AF-B108-4B8883F40082}" type="datetime1">
              <a:rPr lang="en-US"/>
              <a:t>07/29/26</a:t>
            </a:fld>
          </a:p>
        </p:txBody>
      </p:sp>
    </p:spTree>
  </p:cSld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14440" y="11916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liminarna procen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14440" y="1871280"/>
            <a:ext cx="5829120" cy="734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aliza vreme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zrada generalnog dinamičkog pl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bavljanje ponu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aliza resur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aliza i izbor mehanizaci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tvrđivanje organizacione struk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račun direktnih troško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isanje gradiliš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račun troškova pripremnih rado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račun režijskih troškova na gradiliš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36417-9BB1-4FE6-834F-835A1F5FB9A3}" type="slidenum">
              <a:t>14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3F5397-0A13-4AD5-86E5-49D204A67BA4}" type="datetime1">
              <a:rPr lang="en-US"/>
              <a:t>07/29/26</a:t>
            </a:fld>
          </a:p>
        </p:txBody>
      </p:sp>
    </p:spTree>
  </p:cSld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514440" y="119160"/>
            <a:ext cx="5829120" cy="155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liminarna procen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514440" y="2057040"/>
            <a:ext cx="5829120" cy="7162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račun troškova sedišta fir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račun bankarskih troško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tvrđivanje načina kontrole troško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tvrđivanje učeš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rizika u ponud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tvrđivanje učeš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profita u ponud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stematizovanje pripremljene dokumentaci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puna baza podatak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7AA9A-A60D-41E6-B5D4-3A6331D14274}" type="slidenum">
              <a:t>1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423D9B-B9A8-4E2D-9EE4-C64A439D4256}" type="datetime1">
              <a:rPr lang="en-US"/>
              <a:t>07/29/26</a:t>
            </a:fld>
          </a:p>
        </p:txBody>
      </p:sp>
    </p:spTree>
  </p:cSld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14440" y="119160"/>
            <a:ext cx="5829120" cy="1481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ivna procen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14440" y="1566360"/>
            <a:ext cx="5829120" cy="7882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 osnovu završene projektne dokumentac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 osnovu sagledanog celog procesa gradn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 osnovu kompletiranih ponuda isporučilaca i podizvođač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luži za određivanje poslovne strateg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luži za kontrolu troškova i upravljanje sredstvima prema isporučiocima i podizvođači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čnost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sl-SI" sz="32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25897-0772-4F5F-8E10-B211B88EE27D}" type="slidenum">
              <a:t>1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5AF633-C984-4A35-B19C-E8B29E761C99}" type="datetime1">
              <a:rPr lang="en-US"/>
              <a:t>07/29/26</a:t>
            </a:fld>
          </a:p>
        </p:txBody>
      </p:sp>
    </p:spTree>
  </p:cSld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talna procen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 osnovu konačnog obraču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prema za buduće poslo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5396E-2209-40CF-8F15-59E1AE2F5CC9}" type="slidenum">
              <a:t>1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6C5366-8E69-4E9D-A886-030F324D4CFA}" type="datetime1">
              <a:rPr lang="en-US"/>
              <a:t>07/29/26</a:t>
            </a:fld>
          </a:p>
        </p:txBody>
      </p:sp>
    </p:spTree>
  </p:cSld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iljevi ponud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nuditi razumnu cen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ceniti realno trajanje rad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sigurati tražen kvalit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F8E0F-62CD-47FB-A22F-C2ADCFB8975F}" type="slidenum">
              <a:t>14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193829-78B2-4F50-96E8-C999C79F7E60}" type="datetime1">
              <a:rPr lang="en-US"/>
              <a:t>07/29/26</a:t>
            </a:fld>
          </a:p>
        </p:txBody>
      </p:sp>
    </p:spTree>
  </p:cSld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100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gled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4440" y="1371600"/>
            <a:ext cx="5829120" cy="76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514440" y="2362320"/>
            <a:ext cx="5829120" cy="6705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cene pri izradi ponu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na raspodela sredsta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oškovi i procena trošk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Šema izrade ponu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nceptualna proce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liminarna proce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tivna proce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talna proce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iljevi ponu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559E8-5BE4-478F-9BC6-A0BBCAB80194}" type="slidenum">
              <a:t>14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B85892-53C0-4FE7-A56C-A38BD1C6B47F}" type="datetime1">
              <a:rPr lang="en-US"/>
              <a:t>07/29/26</a:t>
            </a:fld>
          </a:p>
        </p:txBody>
      </p:sp>
    </p:spTree>
  </p:cSld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90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II </a:t>
            </a: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deo</a:t>
            </a: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cena troškov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590040" y="2590920"/>
            <a:ext cx="5829480" cy="6858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cena troškova u građevinarstv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cedura procene trošk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entifikacija pos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učavanje tehnoloških rešenja i redosleda rado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rišćenje baze podatak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ticaj specifičnih uslo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zbor i primena modela troško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cena indirektnih troško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razloženje i prezentac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10282-8B4D-4B99-BC45-D81CBDE80B5F}" type="slidenum">
              <a:t>14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412851-BC5F-4F6D-915D-54B4C4C4724B}" type="datetime1">
              <a:rPr lang="en-US"/>
              <a:t>07/29/26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3505320" y="6019920"/>
            <a:ext cx="2997000" cy="361296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Inženjersko balansiranj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Obično je potrebno da se usaglasi ekonomski interes i principi struk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Retko postoji jednoznačno rešen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Problemi se veoma često moraju rešavati na licu mesta, znanjem i osećaj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A9002-685F-4C03-96AE-E97138E49A34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832918-6BD2-4FCB-A88B-F4A7EB7963E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14440" y="11916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cena troškova u građevinarstvu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514440" y="1752480"/>
            <a:ext cx="5829120" cy="7467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dređivanje količine resursa  neophodnih za postizanje cil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 osnovu procenjenih troškova i profita sklapa se ugov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kom realizacije procene se koriguju u skladu sa stvarnim stanj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plate se prilagođavaju stvarnom stanj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vid u stvarne troškove i poređenje sa planiranim zove se kontrola trošk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B6859-0F78-4389-9575-7130E7AB90EA}" type="slidenum">
              <a:t>15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EFB2B7-1812-44C7-A780-A0934C7A9D73}" type="datetime1">
              <a:rPr lang="en-US"/>
              <a:t>07/29/26</a:t>
            </a:fld>
          </a:p>
        </p:txBody>
      </p:sp>
    </p:spTree>
  </p:cSld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snove procene troškov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cena troškova je pogled unapred na troško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aliza troškova je pogled unazad na prošle troško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ve dve aktivnosti su povezane i daju materijal jedna za drug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oma je preporučljivo da analizu 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rocenu rada dva nezavisna ti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DBB05-14B5-44DE-BA24-2C4C47B235BB}" type="slidenum">
              <a:t>15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E882EB-F0FA-4A46-B578-10AC3D6B16E8}" type="datetime1">
              <a:rPr lang="en-US"/>
              <a:t>07/29/26</a:t>
            </a:fld>
          </a:p>
        </p:txBody>
      </p:sp>
    </p:spTree>
  </p:cSld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514440" y="27144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rganizacija procene troškov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lovi za kvalitetnu procenu trošk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spolaganje informacija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isanje metodologije i procedure r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isanje plana r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edovanja tehnoloških znanja i vešti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edovanje hardvera i softve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Što je projekat složeniji potrebno je obezbediti više predusl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ED37B-9883-4AF4-BB06-3C6D4F7EE754}" type="slidenum">
              <a:t>1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710A6D-1666-4AE3-AEBA-9440081FDFF1}" type="datetime1">
              <a:rPr lang="en-US"/>
              <a:t>07/29/26</a:t>
            </a:fld>
          </a:p>
        </p:txBody>
      </p:sp>
    </p:spTree>
  </p:cSld>
</p:sld>
</file>

<file path=ppt/slides/slide1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14440" y="42840"/>
            <a:ext cx="5829120" cy="155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cedura procene troškov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37760" y="1904760"/>
            <a:ext cx="5829480" cy="7467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dentifikacija posla i sistem kodiran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učavanje tehnoloških rešenja i redosleda rad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rišćenje i proširivanje baze podat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ticaj specifičnih uslova za realizaciju projek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zbor i primena modela trošk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cena indirektnih trošk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razloženje i prezentaci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B6026-4F10-4BE2-AFC9-B4BFA9FA5DF8}" type="slidenum">
              <a:t>15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95A36E-7758-449D-9685-BC7724B1D66C}" type="datetime1">
              <a:rPr lang="en-US"/>
              <a:t>07/29/26</a:t>
            </a:fld>
          </a:p>
        </p:txBody>
      </p:sp>
    </p:spTree>
  </p:cSld>
</p:sld>
</file>

<file path=ppt/slides/slide1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228600" y="347760"/>
            <a:ext cx="640080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dentifikacija posla i sistem kodiranj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514440" y="1980720"/>
            <a:ext cx="5829120" cy="723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jerarhijska struktu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lasifikacija trošk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 vrstama rado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 tipskim elementi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ivoi odgovor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diranje prati strukturu trošk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dređivanje broja nivoa kodiran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dređivanje formata kodo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toje standardni načini klasifikacije troškova podržani institucijama i bazama podat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A2253-254A-4239-B580-8AE9334C8CAB}" type="slidenum">
              <a:t>1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99D4B2-6FB3-4854-B240-051B46FFBB71}" type="datetime1">
              <a:rPr lang="en-US"/>
              <a:t>07/29/26</a:t>
            </a:fld>
          </a:p>
        </p:txBody>
      </p:sp>
    </p:spTree>
  </p:cSld>
</p:sld>
</file>

<file path=ppt/slides/slide1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učavanje tehnoloških rešenj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trebno poznavanje tehnologije rad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nogo je jednostavnije proceniti standardnu tehnologij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ndardni detalji, materijali i tehnologi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ezbeđenje resursa standardno i povolj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iklično korišćenje tehnologi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ndardna mehanizac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35329-5442-406B-BC5E-D92EFC441FCB}" type="slidenum">
              <a:t>15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AFDA30-F641-450F-9A91-64FEAF5E0BBF}" type="datetime1">
              <a:rPr lang="en-US"/>
              <a:t>07/29/26</a:t>
            </a:fld>
          </a:p>
        </p:txBody>
      </p:sp>
    </p:spTree>
  </p:cSld>
</p:sld>
</file>

<file path=ppt/slides/slide1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učavanje tehnoloških rešenj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igravanje realizacije radova kod poslova koji se ciklično obavljaj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d standardnih objekata procenjujemo cenu je nekom parametru (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krevetu, kravi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d nestandardnih objekata daje se cene po jedinici mere (brane itd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guća kombinacija strategi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1C0C6-2B2B-48ED-BBA5-58AF6E397E53}" type="slidenum">
              <a:t>1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C150DB-DAC6-4B51-955F-110F75017413}" type="datetime1">
              <a:rPr lang="en-US"/>
              <a:t>07/29/26</a:t>
            </a:fld>
          </a:p>
        </p:txBody>
      </p:sp>
    </p:spTree>
  </p:cSld>
</p:sld>
</file>

<file path=ppt/slides/slide1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učavanje tehnoloških rešenj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bro je prilagoditi procenu predviđenom izvođaču i njegovoj tehnologiji i sposobnosti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zeti u obzir veličinu projek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805D9-1702-47B0-86DB-0A592DF6FCC8}" type="slidenum">
              <a:t>1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8DDFD5-4424-405F-8BAA-A668A0224782}" type="datetime1">
              <a:rPr lang="en-US"/>
              <a:t>07/29/26</a:t>
            </a:fld>
          </a:p>
        </p:txBody>
      </p:sp>
    </p:spTree>
  </p:cSld>
</p:sld>
</file>

<file path=ppt/slides/slide1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23360"/>
            <a:ext cx="6248160" cy="16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Korišćenje i proširivanje baze podatak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514440" y="2328480"/>
            <a:ext cx="5829120" cy="635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kupljanje podataka o predviđenim operacija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laz su baze podat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istraživanju tržiš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istorijskim podaci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 svetu postoje programi, knjige i baze podataka za pomoć pri proceni trošk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d nas postoje zastarele Komgrapove norme i Tanjug-ov bilt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CF175-07B3-4A00-A37F-FB410814930F}" type="slidenum">
              <a:t>1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3D01E4-E22E-42C6-870B-EBB56806FEDE}" type="datetime1">
              <a:rPr lang="en-US"/>
              <a:t>07/29/26</a:t>
            </a:fld>
          </a:p>
        </p:txBody>
      </p:sp>
    </p:spTree>
  </p:cSld>
</p:sld>
</file>

<file path=ppt/slides/slide1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14440" y="27144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Korišćenje i proširivanje baze podatak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380880" y="2176200"/>
            <a:ext cx="5943600" cy="681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trebno je imati i sopstvene ba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bro je imati svedene podatke po nekom parametru standardnog objek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ko nemamo dovoljno detaljni projekat ili nemamo normative, moramo koristiti i specifične istorijske podatk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oma je korisno prikupiti ponude podizvođača i isporučila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A6F62-3350-4A76-8998-CB36C3AE37C6}" type="slidenum">
              <a:t>15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E15698-214B-47AC-9291-F88BF05434C0}" type="datetime1">
              <a:rPr lang="en-US"/>
              <a:t>07/29/26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14440" y="3301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pravljanje projektima</a:t>
            </a: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 u građevinarstvu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028520" y="5613120"/>
            <a:ext cx="4800600" cy="2531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što, kako i zbog kog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06662-B1B5-45D4-9133-05F7A2C16EAE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AE123F-C9A0-48D4-9E34-3E98CE258CFD}" type="datetime1">
              <a:rPr lang="en-US"/>
              <a:t>07/29/26</a:t>
            </a:fld>
          </a:p>
        </p:txBody>
      </p:sp>
    </p:spTree>
  </p:cSld>
</p:sld>
</file>

<file path=ppt/slides/slide1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ticaj specifičnih uslova za realizaciju projekt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514440" y="2743200"/>
            <a:ext cx="5829120" cy="419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ticaj inflac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načajan i kod malih inflacija (3%-5%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lizna ska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ticaj različitih komponen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 osnovu statističke verifikac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dnos 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zavisi od strukture cene objek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0" name=""/>
              <p:cNvSpPr txBox="1"/>
              <p:nvPr/>
            </p:nvSpPr>
            <p:spPr>
              <a:xfrm>
                <a:off x="1219320" y="7391520"/>
                <a:ext cx="435276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f>
                          <m:num>
                            <m:r>
                              <m:t xml:space="preserve">R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⋅</m:t>
                        </m:r>
                        <m:f>
                          <m:num>
                            <m:r>
                              <m:t xml:space="preserve">O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O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EC9FA-6EF0-4FA2-A994-D6633FE63376}" type="slidenum">
              <a:t>1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C30BF5-FA56-4FF3-941B-A6C30880B73D}" type="datetime1">
              <a:rPr lang="en-US"/>
              <a:t>07/29/26</a:t>
            </a:fld>
          </a:p>
        </p:txBody>
      </p:sp>
    </p:spTree>
  </p:cSld>
</p:sld>
</file>

<file path=ppt/slides/slide1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37760" y="194760"/>
            <a:ext cx="5829480" cy="16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ticaj specifičnih uslova za realizaciju projekt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14440" y="2099880"/>
            <a:ext cx="5829120" cy="727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planirano povećanje trošk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š kvalitet projek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obučenost radne sn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pusti podizvođača i dobavljač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znenadne promene zakonske i tehničke regul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dovoljno poznavanje propi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gle promene ce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še predhodne anal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zvorišta materija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ologija i istražni radov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tojeće podzemne instalaci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C104A-AFE8-4DEC-8882-5DF0F3F78D4F}" type="slidenum">
              <a:t>16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69B0BF-4E3A-4EB6-8806-7CD65575CF86}" type="datetime1">
              <a:rPr lang="en-US"/>
              <a:t>07/29/26</a:t>
            </a:fld>
          </a:p>
        </p:txBody>
      </p:sp>
    </p:spTree>
  </p:cSld>
</p:sld>
</file>

<file path=ppt/slides/slide1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14440" y="1947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ticaj specifičnih uslova za realizaciju projekt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514440" y="2023560"/>
            <a:ext cx="5829120" cy="742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ma ugovoru, obično se zna na čiji teret padaju ovi troškov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ša sila - investi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ravdano povećanje troškova - investi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pusti izvođača i podizvođača - izvođa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toje uobičajeni problemi na nekim tržištima (carine itd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toje poslovi i mesta malog rizika (stalni investitori i podizvođači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BD3A0-66D6-4662-A8DE-AA06344D1E36}" type="slidenum">
              <a:t>1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B85B7C-9143-4B5B-ADF0-D8A7CD7395E4}" type="datetime1">
              <a:rPr lang="en-US"/>
              <a:t>07/29/26</a:t>
            </a:fld>
          </a:p>
        </p:txBody>
      </p:sp>
    </p:spTree>
  </p:cSld>
</p:sld>
</file>

<file path=ppt/slides/slide1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zbor i primena modela troškov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514440" y="2452320"/>
            <a:ext cx="5829120" cy="552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uba (preliminarna) proce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ementarni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ametarski (regresioni)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taljni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 troškovno značajnih pozici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331F7-2D26-49AB-A68F-BBAF4597161F}" type="slidenum">
              <a:t>1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88F856-73AA-4C16-AF50-A6C1B73415B9}" type="datetime1">
              <a:rPr lang="en-US"/>
              <a:t>07/29/26</a:t>
            </a:fld>
          </a:p>
        </p:txBody>
      </p:sp>
    </p:spTree>
  </p:cSld>
</p:sld>
</file>

<file path=ppt/slides/slide1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38120" y="42840"/>
            <a:ext cx="611496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Gruba (preliminarna) procen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514440" y="1566720"/>
            <a:ext cx="5829120" cy="757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sečna cena prema predviđen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apacit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premin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vršin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izvodenj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čnost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sl-SI" sz="32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5%-30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merena malom broju podat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merena standardizovanim objekti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rekcija prema dodatnim uticaji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8E64E-112B-4444-92D2-BECBA0064D6C}" type="slidenum">
              <a:t>16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0D9A62-50F5-42BF-92CE-0809F7003668}" type="datetime1">
              <a:rPr lang="en-US"/>
              <a:t>07/29/26</a:t>
            </a:fld>
          </a:p>
        </p:txBody>
      </p:sp>
    </p:spTree>
  </p:cSld>
</p:sld>
</file>

<file path=ppt/slides/slide1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lementarni model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37760" y="2252160"/>
            <a:ext cx="5829480" cy="635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a komplikovane objek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ela objekta na eleme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eracioni blo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cion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rvisni de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borator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čnost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sl-SI" sz="32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0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merena malom broju podat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trebna dobra baza istorijskih podat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3D73A-6AE5-4F3E-B880-03EE7BE275A7}" type="slidenum">
              <a:t>16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F79582-E682-4BD5-9D3F-D2E5B84C0E3B}" type="datetime1">
              <a:rPr lang="en-US"/>
              <a:t>07/29/26</a:t>
            </a:fld>
          </a:p>
        </p:txBody>
      </p:sp>
    </p:spTree>
  </p:cSld>
</p:sld>
</file>

<file path=ppt/slides/slide1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ametarski (regresioni) model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sta vezan za matematički apar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trebni istorijski pod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azriva prime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gući modeli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nearn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epen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ksponencijaln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garitamsk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 osnovu istorijskih podataka bira se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A3241-2BC8-4D34-81EB-2AFB6DD9E803}" type="slidenum">
              <a:t>16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D754E4-6464-42F4-AE94-29E676A5A4BA}" type="datetime1">
              <a:rPr lang="en-US"/>
              <a:t>07/29/26</a:t>
            </a:fld>
          </a:p>
        </p:txBody>
      </p:sp>
    </p:spTree>
  </p:cSld>
</p:sld>
</file>

<file path=ppt/slides/slide1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14440" y="27144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taljni model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14440" y="1795320"/>
            <a:ext cx="5829120" cy="712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meren završenoj projektnoj dokumentacij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ledica predme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riste se nor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riste se podaci sa tržiš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oma korisno korišćenje standardnih norm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tistika jako pomaže pri povećanju tačnosti ovog mode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čnost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sl-SI" sz="32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%-10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3D8E2-3451-44B8-B0A1-17CA88DACB1D}" type="slidenum">
              <a:t>16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539F88-D19D-4A64-B48D-A6F0473BC1BE}" type="datetime1">
              <a:rPr lang="en-US"/>
              <a:t>07/29/26</a:t>
            </a:fld>
          </a:p>
        </p:txBody>
      </p:sp>
    </p:spTree>
  </p:cSld>
</p:sld>
</file>

<file path=ppt/slides/slide1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odel troškovno značajnih pozicij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ndardno je da 20% pozicija nosi 80% trošk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a neke objekte (pogotovo niskogradnja) ova razlika je još već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ko dobro odredimo značajne stavke, procena može biti veoma precizna 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sl-SI" sz="32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%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godna metoda za utvrđivanje klizne ska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D16D9-BFD8-4D68-BC3D-D631E9266950}" type="slidenum">
              <a:t>16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4A3EB2-4CFE-4735-A2BD-4257DEB7C43B}" type="datetime1">
              <a:rPr lang="en-US"/>
              <a:t>07/29/26</a:t>
            </a:fld>
          </a:p>
        </p:txBody>
      </p:sp>
    </p:spTree>
  </p:cSld>
</p:sld>
</file>

<file path=ppt/slides/slide1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52280" y="194760"/>
            <a:ext cx="6400800" cy="16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cena indirektnih troškov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14440" y="1676520"/>
            <a:ext cx="5829120" cy="761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 pojavljuju se u predmer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ophodni s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m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ministrac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f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oškovi marketinga i akvizicije pos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oškovi komunikaci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siguranje i deo cari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znajmljivanje i korišćenje objek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nkarske obave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klanjanje otpadnog i nepotrebnog materija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4D14F-EEDF-4200-A6E4-E5AF7CFA8684}" type="slidenum">
              <a:t>16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5F63AA-0705-42CA-8FB2-4A7700F35C26}" type="datetime1">
              <a:rPr lang="en-US"/>
              <a:t>07/29/2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Zašto?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aditeljstvo je timski r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češće mnogih stru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đevinc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struktiv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raš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obraćaj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ne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hnoloz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gradn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izvodn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ganizator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ansijer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vnic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60BF2-AC27-4735-B42A-A90B8CD432CB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D8418D-2654-4C60-9E07-20AFF22D4BAF}" type="datetime1">
              <a:rPr lang="en-US"/>
              <a:t>07/29/26</a:t>
            </a:fld>
          </a:p>
        </p:txBody>
      </p:sp>
    </p:spTree>
  </p:cSld>
</p:sld>
</file>

<file path=ppt/slides/slide1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14440" y="57636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razloženje i prezentacij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14440" y="2252160"/>
            <a:ext cx="5829120" cy="696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že biti veoma važna za dobijanje pos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merena čitaoc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gledni uv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avršna rekapitulaci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tetski privlač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hnički kvalitet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oma važan vid rekl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gućnost brzog prilagođavanja toku događaja i željama investito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9E111-D47D-4AEB-97A6-A5C2279D2F34}" type="slidenum">
              <a:t>17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8FB320-E49D-4E88-B391-0685AEFD218E}" type="datetime1">
              <a:rPr lang="en-US"/>
              <a:t>07/29/26</a:t>
            </a:fld>
          </a:p>
        </p:txBody>
      </p:sp>
    </p:spTree>
  </p:cSld>
</p:sld>
</file>

<file path=ppt/slides/slide1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14440" y="271440"/>
            <a:ext cx="5829120" cy="1100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gled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14440" y="1371600"/>
            <a:ext cx="5829120" cy="76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514440" y="1905120"/>
            <a:ext cx="5829120" cy="7162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cena troškova u građevinarstv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cedura procene trošk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entifikacija pos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učavanje tehnoloških rešenja i redosleda rado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rišćenje baze podatak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ticaj specifičnih uslo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zbor i primena modela troško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cena indirektnih troško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razloženje i prezentac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4104B-B202-4293-A5B5-27CDB382A971}" type="slidenum">
              <a:t>17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DAE86B-C884-40A9-AD9F-64FF58CDAB4E}" type="datetime1">
              <a:rPr lang="en-US"/>
              <a:t>07/29/26</a:t>
            </a:fld>
          </a:p>
        </p:txBody>
      </p:sp>
    </p:spTree>
  </p:cSld>
</p:sld>
</file>

<file path=ppt/slides/slide1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514440" y="3301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Upravljanje projektima u građevinarstvu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1028520" y="5613120"/>
            <a:ext cx="4800600" cy="2531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govaran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BC754-FBCD-482C-844C-66113F6FF3BD}" type="slidenum">
              <a:t>17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C1301A-F38B-4D21-A24C-AEFA0C0025B1}" type="datetime1">
              <a:rPr lang="en-US"/>
              <a:t>07/29/26</a:t>
            </a:fld>
          </a:p>
        </p:txBody>
      </p:sp>
    </p:spTree>
  </p:cSld>
</p:sld>
</file>

<file path=ppt/slides/slide1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100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adržaj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514440" y="2514240"/>
            <a:ext cx="5829120" cy="655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gov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ela prema predmetu obave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ela prema načinu utvrđivanja ce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šti uslovi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DIC-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4B996-F3FF-4378-A2DC-EB5A11FBAF7B}" type="slidenum">
              <a:t>17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F9595E-3902-4543-BFD0-F2BCE93708A4}" type="datetime1">
              <a:rPr lang="en-US"/>
              <a:t>07/29/26</a:t>
            </a:fld>
          </a:p>
        </p:txBody>
      </p:sp>
    </p:spTree>
  </p:cSld>
</p:sld>
</file>

<file path=ppt/slides/slide1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govor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glasnost dva ili više lica koja ima pravno dejstv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snovni elementi ugovo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dm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e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ela ugovo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ma predmetu obave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ma načinu utvrđivanja ce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ma načinu finansiran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E746F-BAD1-4F1D-960D-7A310FC2C7CC}" type="slidenum">
              <a:t>17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A29009-7A37-4C13-B916-E5DF57A350FE}" type="datetime1">
              <a:rPr lang="en-US"/>
              <a:t>07/29/26</a:t>
            </a:fld>
          </a:p>
        </p:txBody>
      </p:sp>
    </p:spTree>
  </p:cSld>
</p:sld>
</file>

<file path=ppt/slides/slide1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14440" y="27144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dela prema predmetu obavez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14440" y="1947960"/>
            <a:ext cx="5829120" cy="7043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zvođenje rad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ntaža elektro-mašinske opre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mo isporuk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mo montaž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poruka i montaž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dz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ljuč u ruk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čest u zemljama u razvoj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 tako čest u razvijenim zemlja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izvod u ruk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ravljanje izgradnj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1FC56-8823-47BB-8154-FF2F3AD43A18}" type="slidenum">
              <a:t>17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0C7BDD-0562-422A-97F5-E46592247C46}" type="datetime1">
              <a:rPr lang="en-US"/>
              <a:t>07/29/26</a:t>
            </a:fld>
          </a:p>
        </p:txBody>
      </p:sp>
    </p:spTree>
  </p:cSld>
</p:sld>
</file>

<file path=ppt/slides/slide1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dela prema načinu utvrđivanja cen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edinstvena cena (Lump Sum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namika plaćanja na osnovu predme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ćanje po faza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edinične cene (Unit Pric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etno na osnovu predme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kom rada na osnovu količina koje meri inženj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ene mogu da se izmene ako se izmene količ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68F45-3222-45E8-BC90-C25ED642E5B2}" type="slidenum">
              <a:t>1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211FF2-42E3-4F75-9351-F420C13CB9EC}" type="datetime1">
              <a:rPr lang="en-US"/>
              <a:t>07/29/26</a:t>
            </a:fld>
          </a:p>
        </p:txBody>
      </p:sp>
    </p:spTree>
  </p:cSld>
</p:sld>
</file>

<file path=ppt/slides/slide1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dela prema načinu utvrđivanja cen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oškovi plus dobit (Cost Plu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us procenat troško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us fiksni honor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us fiksni honorar i podela profi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ksni honorar i klauzula o nagrad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oškovi plus klizna skala honora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45E52-5B32-4D4B-B404-212069655E78}" type="slidenum">
              <a:t>17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235E24-42D4-4011-87DE-2ADE42076451}" type="datetime1">
              <a:rPr lang="en-US"/>
              <a:t>07/29/26</a:t>
            </a:fld>
          </a:p>
        </p:txBody>
      </p:sp>
    </p:spTree>
  </p:cSld>
</p:sld>
</file>

<file path=ppt/slides/slide1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dela prema načinu utvrđivanja cen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tvrđena cena koja se ne sme premašiti (Sealing Pric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rijanta fiksne ce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 prekoračanje preko neke granice izvođač snosi troško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ksna cena (Fixed Pric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dložna izmen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nica prihvatljivosti promene cena (10%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 važi u slučaju kašnjen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679C1-720E-421B-9A92-D00925FF09F9}" type="slidenum">
              <a:t>17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DEDFA4-D700-42CA-8A79-9766184FD31C}" type="datetime1">
              <a:rPr lang="en-US"/>
              <a:t>07/29/26</a:t>
            </a:fld>
          </a:p>
        </p:txBody>
      </p:sp>
    </p:spTree>
  </p:cSld>
</p:sld>
</file>

<file path=ppt/slides/slide1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pšti uslovi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DIC-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ziran na britanskom Common La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ije i tumačenja (čl. 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ca (naručilac, izvođač, inženjer, podizvođač, zastupnik inženjer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kumenti (ugovor, specifikacije, crtež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rodavni su samo pisani dokumen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238DB-36AF-4BED-A63F-E71E225245B9}" type="slidenum">
              <a:t>17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5F89FE-F961-42EB-AE5B-16A52953D3EC}" type="datetime1">
              <a:rPr lang="en-US"/>
              <a:t>07/29/26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vesticioni projekat u građevinarstvu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lož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kat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 više lokaci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ugotraj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liki broj učesni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zuđenost proce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žnost klimatskih usl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ovinsko-pravni problem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3FA40-8377-4FCF-95AC-3E59865B09CD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8837B1-5925-4D7A-97DD-D11FCAA73691}" type="datetime1">
              <a:rPr lang="en-US"/>
              <a:t>07/29/26</a:t>
            </a:fld>
          </a:p>
        </p:txBody>
      </p:sp>
    </p:spTree>
  </p:cSld>
</p:sld>
</file>

<file path=ppt/slides/slide1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pšti uslovi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DIC-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ženjer i zastupnik inženjera (čl. 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vlašćenja se daju ugovor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mena uputstva moraju da se potvrde pismeno u roku od 7 d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 može da oslobodi izvođača ugovornih obavez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o ovlašćenja se može preneti zastupniku, ali ne s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823EC-4F22-4E64-B54C-A695851F17E0}" type="slidenum">
              <a:t>18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1D7887-38EC-4ACF-BAE5-B3AD122E5E28}" type="datetime1">
              <a:rPr lang="en-US"/>
              <a:t>07/29/26</a:t>
            </a:fld>
          </a:p>
        </p:txBody>
      </p:sp>
    </p:spTree>
  </p:cSld>
</p:sld>
</file>

<file path=ppt/slides/slide1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pšti uslovi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DIC-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nos i podugovoranje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čl. 3, 4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govor ne može biti prenet na drugo lice bez saglasanosti investito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gu se preneti novčana potraživanja svojoj banci bez saglasnosti investito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C5EEE-5C0E-4132-BB64-6BAA5F843D06}" type="slidenum">
              <a:t>18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964829-369E-4155-B95C-EAF0EF352369}" type="datetime1">
              <a:rPr lang="en-US"/>
              <a:t>07/29/26</a:t>
            </a:fld>
          </a:p>
        </p:txBody>
      </p:sp>
    </p:spTree>
  </p:cSld>
</p:sld>
</file>

<file path=ppt/slides/slide1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pšti uslovi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DIC-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govorni dokumenti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čl. 5-7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orazum o Ugovo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ismo o prihvatanju ponu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nu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o II Uslo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o I uslo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vaki drugi dokument koji je deo Ugovo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dštetni zahtev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ašnjenje dokumen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8C2C4-C694-4B57-BC3E-273C731B0EBD}" type="slidenum">
              <a:t>18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BB9651-4E1C-48F4-AAC1-5F6EA8C829D5}" type="datetime1">
              <a:rPr lang="en-US"/>
              <a:t>07/29/26</a:t>
            </a:fld>
          </a:p>
        </p:txBody>
      </p:sp>
    </p:spTree>
  </p:cSld>
</p:sld>
</file>

<file path=ppt/slides/slide1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pšti uslovi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DIC-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šte obaveze (čl. 8-3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gućnost naplate količina koje nisu obuhvaćene predmer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govor postoji čim izvođač pošalje pismo o prihvatanj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rancija za dobro izvršenje posla naplativa na prvi pozi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dgovornost za stanje pod zemlj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zvođač ima pravo da odredi kako će izvoditi rado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1D3E9-623E-430D-9E41-FE281C910612}" type="slidenum">
              <a:t>18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62BEAB-3121-49EF-828B-F86F1034110F}" type="datetime1">
              <a:rPr lang="en-US"/>
              <a:t>07/29/26</a:t>
            </a:fld>
          </a:p>
        </p:txBody>
      </p:sp>
    </p:spTree>
  </p:cSld>
</p:sld>
</file>

<file path=ppt/slides/slide1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pšti uslovi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DIC-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šte obaveze (čl. 8-3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ženjer ima pravo da menja nadzor po sopstvenom nahođenj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ko dođe do oštećenja zbog "rizika naručioca" postoji pravo na povećanje cene ali ne i povećanje rok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oškove transporta nestandardnih materijala i opreme snosi izvođa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E2DF8-3F90-43B4-A4E9-4D4975B2D005}" type="slidenum">
              <a:t>18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99D869-B9C7-46CF-841E-C87B5FBE0EBF}" type="datetime1">
              <a:rPr lang="en-US"/>
              <a:t>07/29/26</a:t>
            </a:fld>
          </a:p>
        </p:txBody>
      </p:sp>
    </p:spTree>
  </p:cSld>
</p:sld>
</file>

<file path=ppt/slides/slide1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14440" y="11916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pšti uslovi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DIC-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514440" y="1828440"/>
            <a:ext cx="5829120" cy="7543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dna snaga (čl. 34,3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aveza izvođača da inženjeru dostavlja izveštaje o stanju radne sn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terijali, postrojenja i izrada (čl. 36-39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ženjer ima pravo da traži ispitivanja uzorak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koliko su ispitivanja mimo ugovora, a kvalitet je odgovarajući, troškovi padaju na investito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cedura kontrole kvalite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odgovarajući elementi se mogu odbaci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E8951-3DEA-43EE-BBC0-2297A0E4529C}" type="slidenum">
              <a:t>18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7AB3B8-3FAE-4E63-9523-C419BFBDEE04}" type="datetime1">
              <a:rPr lang="en-US"/>
              <a:t>07/29/26</a:t>
            </a:fld>
          </a:p>
        </p:txBody>
      </p:sp>
    </p:spTree>
  </p:cSld>
</p:sld>
</file>

<file path=ppt/slides/slide1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pšti uslovi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DIC-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ustava (čl. 4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 zahtev inženje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ko nije zbog propusta izvođača i klimatskih uslova, investitor treba da nadoknadi št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ko obustava traje duže od 84 dana, i ne dobije se saglasnost za nastavak u roku od 28 dana, izvođač može da okonča svoj anagažm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38817-72E6-4127-8AD7-519E7943B949}" type="slidenum">
              <a:t>18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2EB23A-FF55-4F01-B272-D4525B4233ED}" type="datetime1">
              <a:rPr lang="en-US"/>
              <a:t>07/29/26</a:t>
            </a:fld>
          </a:p>
        </p:txBody>
      </p:sp>
    </p:spTree>
  </p:cSld>
</p:sld>
</file>

<file path=ppt/slides/slide1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pšti uslovi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DIC-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apočinjanje radova i zakašnjenje (čl. 41-48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cedura predaje gradiliš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dovi se ne izvode noću i u lokalne neradne dane, osim kada inženjer to odobr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nali za kašnjenje radova, ali ne preko neke su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cedura završetka i predaje radova i otklanjanja nedostatak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ED3DE-8FA8-4DCF-8115-C9C2B5E69076}" type="slidenum">
              <a:t>18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CC5BAC-5541-427C-AE34-EDFE56FC7EB1}" type="datetime1">
              <a:rPr lang="en-US"/>
              <a:t>07/29/26</a:t>
            </a:fld>
          </a:p>
        </p:txBody>
      </p:sp>
    </p:spTree>
  </p:cSld>
</p:sld>
</file>

<file path=ppt/slides/slide1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514440" y="11916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pšti uslovi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DIC-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514440" y="1676160"/>
            <a:ext cx="5829120" cy="7543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dgovornost za nedostatke (čl. 49, 5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le predaje radova izvođač radi radove koje mu inženjer nalož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ko se ti radovi zbog nepoštovanja ugovora, neodgovarajućeg rada i materijala, padaju na teret izvođač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 suprotnom su naknadni radovi i investitor ih plać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rantni rok (period održavanja) se propisuje ugovorom, ako drugačije ne odredi lokalno zakonodavstv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16C0A-930C-4627-ACFE-0B4A6420ADF0}" type="slidenum">
              <a:t>18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70AB7F-F923-4A78-90E7-E54BEA2AFE15}" type="datetime1">
              <a:rPr lang="en-US"/>
              <a:t>07/29/26</a:t>
            </a:fld>
          </a:p>
        </p:txBody>
      </p:sp>
    </p:spTree>
  </p:cSld>
</p:sld>
</file>

<file path=ppt/slides/slide1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pšti uslovi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DIC-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zmene, dopune i ispuštanja (čl. 51, 5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laže inženj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ćaju se prema ugovoru i odgovor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mene obima radova koj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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5% se posebno kalkuliš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DAC10-7774-4843-A7D8-EFBCE0A17C82}" type="slidenum">
              <a:t>18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6D6CF6-4237-49A9-A413-591F169D017E}" type="datetime1">
              <a:rPr lang="en-US"/>
              <a:t>07/29/26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česnici u </a:t>
            </a: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ojektu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vesti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zvođa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izvođači i kooperan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nsultan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jektan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viden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učni, projektantski i upravni nadz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895FB-769B-415C-B3C9-7AFF48E5466D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0BF436-721D-4252-851C-666F72542456}" type="datetime1">
              <a:rPr lang="en-US"/>
              <a:t>07/29/26</a:t>
            </a:fld>
          </a:p>
        </p:txBody>
      </p:sp>
    </p:spTree>
  </p:cSld>
</p:sld>
</file>

<file path=ppt/slides/slide1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pšti uslovi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DIC-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cedure za odštetne zahteve (claims) (čl. 5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java namere u roku od 28 d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razloženje i obraču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iodično slanje novih obračuna tok problem tra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 okončanju problema u roku od 28 dana konačan obraču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 slučaju propuštanja procedura, iznos klejma ne može da pređe iznos koji utvrdi inženjer i arbitraž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1C77C-6EFE-4E3D-A1BA-8B603678436F}" type="slidenum">
              <a:t>19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C284A9-1930-4EB0-B33F-F3FDDBE119A7}" type="datetime1">
              <a:rPr lang="en-US"/>
              <a:t>07/29/26</a:t>
            </a:fld>
          </a:p>
        </p:txBody>
      </p:sp>
    </p:spTree>
  </p:cSld>
</p:sld>
</file>

<file path=ppt/slides/slide1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pšti uslovi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DIC-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rema izvođača, privremeni radovi i materijal (čl. 54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rema, materijal i privremeni radova koji su potrebni za realizaciju objekta ne mogu biti uklonjeni bez saglasnosti inženje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 odnosi se na transportna sredst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F3D5F-5FD3-4CD4-A92B-30C731C541BB}" type="slidenum">
              <a:t>19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3E7860-36D7-4C4E-BA8C-FB8FB03FCAE2}" type="datetime1">
              <a:rPr lang="en-US"/>
              <a:t>07/29/26</a:t>
            </a:fld>
          </a:p>
        </p:txBody>
      </p:sp>
    </p:spTree>
  </p:cSld>
</p:sld>
</file>

<file path=ppt/slides/slide1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pšti uslovi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DIC-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renje (čl. 55-57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 važe količine iz predme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ženjer meri, izvođač može da prisustvu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ženjer dostavlja rezult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zvođač ima 14 dana vremena da uloži prigov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dnosi se na radove po jediničnim cena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žnost blagovremene pismene komunikaci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97C33-2CF8-4EEC-8B62-5FFED5D8F9F7}" type="slidenum">
              <a:t>19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A5847E-7214-422D-8962-1B407EAE6878}" type="datetime1">
              <a:rPr lang="en-US"/>
              <a:t>07/29/26</a:t>
            </a:fld>
          </a:p>
        </p:txBody>
      </p:sp>
    </p:spTree>
  </p:cSld>
</p:sld>
</file>

<file path=ppt/slides/slide1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pšti uslovi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DIC-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vremeni iznosi (čl. 58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znosi koji su pokriveni ugovorom, predmerom i predračun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oši se prema uputstvima inženjera i njemu se dokazuju troškov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64140-B82B-4942-885D-363388EBD49E}" type="slidenum">
              <a:t>19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54E283-D4AA-487A-9EBB-279A909875D6}" type="datetime1">
              <a:rPr lang="en-US"/>
              <a:t>07/29/26</a:t>
            </a:fld>
          </a:p>
        </p:txBody>
      </p:sp>
    </p:spTree>
  </p:cSld>
</p:sld>
</file>

<file path=ppt/slides/slide1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pšti uslovi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DIC-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enovani podizvođači (čl. 59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ra ih investi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zvođač ugovara sa nji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zvođač treba da bude obezbeđen od propusta ovog podizvođač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toje uslovi pod kojima izvođač može da odbije imenovanog podizvođač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D5B29-6E0B-427B-9615-66EAF394A07B}" type="slidenum">
              <a:t>19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24F64C-70B7-4371-A09F-9ADC9FBA9CE9}" type="datetime1">
              <a:rPr lang="en-US"/>
              <a:t>07/29/26</a:t>
            </a:fld>
          </a:p>
        </p:txBody>
      </p:sp>
    </p:spTree>
  </p:cSld>
</p:sld>
</file>

<file path=ppt/slides/slide1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pšti uslovi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DIC-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tifikati i plaćanja (čl. 60-6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zvođač dostavlja izjavu sa iznosom koja mu pripada na osnovu izvršenih rado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ženjer u roku od 28 dana vrši korecije i potvrđuje iz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znos se umanjuje za avans i retencionu svo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cedura za završno plaćan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30667-1014-4F15-BC40-8DF41B9107B6}" type="slidenum">
              <a:t>19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A6AD9C-73C0-4037-BCE8-0EE4A8C99824}" type="datetime1">
              <a:rPr lang="en-US"/>
              <a:t>07/29/26</a:t>
            </a:fld>
          </a:p>
        </p:txBody>
      </p:sp>
    </p:spTree>
  </p:cSld>
</p:sld>
</file>

<file path=ppt/slides/slide1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pšti uslovi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DIC-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avni lekovi (čl. 63, 64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lovi pod kojima naručilac stiče pravo na okončanje ugovo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zvođač ima pravo na naknadu za ono što ostavl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 isključuje lokalne pravne propi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lovi pod kojima inženjer može da izvede radove koje izvođač neće ili ne mož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48DAF-728E-48F1-90CB-F417A4C4053D}" type="slidenum">
              <a:t>19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5FA261-A45E-41BA-BC4D-4D60EBEFB90E}" type="datetime1">
              <a:rPr lang="en-US"/>
              <a:t>07/29/26</a:t>
            </a:fld>
          </a:p>
        </p:txBody>
      </p:sp>
    </p:spTree>
  </p:cSld>
</p:sld>
</file>

<file path=ppt/slides/slide1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pšti uslovi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DIC-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ecijalni rizici (čl. 6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izici naručio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potreba i zauzimanje radova od strane investito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eške u inženjerovim projekti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rodne sile, ratovi, pobune i revolucije van zemlje izvođenja rado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 svega se odnosi na finansijsku odgovor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avo raskidanja ugovora u slučaju r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F0D0B-AA62-4FFB-81FA-6C8ACC5A947B}" type="slidenum">
              <a:t>19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0C39B7-9C41-435C-BF2A-ED221017A8EE}" type="datetime1">
              <a:rPr lang="en-US"/>
              <a:t>07/29/26</a:t>
            </a:fld>
          </a:p>
        </p:txBody>
      </p:sp>
    </p:spTree>
  </p:cSld>
</p:sld>
</file>

<file path=ppt/slides/slide1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pšti uslovi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DIC-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slobođenje od izvršenja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čl. 66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stupanje okolnosti posle pisma o prihvatanju koje onemogućava izvršenje obavez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šavanje sporova (čl. 67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 prvoj instanci odlučuje inženj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 drugoj instanci arbitraž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tno je šta je uzeto kao osnovno pravo (švajcarsko, FIDIC, ..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E7A59-BFEE-4510-84C8-C3F26F79DFF0}" type="slidenum">
              <a:t>19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5E8EBE-69C0-4C64-AFEE-C072E539EDC7}" type="datetime1">
              <a:rPr lang="en-US"/>
              <a:t>07/29/26</a:t>
            </a:fld>
          </a:p>
        </p:txBody>
      </p:sp>
    </p:spTree>
  </p:cSld>
</p:sld>
</file>

<file path=ppt/slides/slide1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pšti uslovi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DIC-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aveštenja (čl. 68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stavljanje pošt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resa mora biti zvanič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ismeno obaveštavanje o promeni adre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A0A9B-4A5C-4703-A7C2-85B892F9E3E5}" type="slidenum">
              <a:t>19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96632E-87CB-491F-8C7B-B566D4D0E63E}" type="datetime1">
              <a:rPr lang="en-US"/>
              <a:t>07/29/2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Šta su vas učili ...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Najveći deo predmeta koji su do sada slušani spadaju u dve kategorij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teorijski (matematika, mehanika, mehanika fluida, ..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projektantski (mehanika tla, beton, čelik, ..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Za obe kategorije predmeta je karakteristično da postoje neke formule i neka pravila. Ako ispoštujete te formule i pravila, vi ste dobri. Ako ih ne znate ili ne poštujete, niste dobr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4F0C5-593F-43C9-BC52-E6917C8E1D3A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F6503D-174D-48D4-A5ED-0094D17C751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odeliranje </a:t>
            </a: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ojekt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 stanovišta investito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19000" indent="-2854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polaže novc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19000" indent="-2854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jekt se izvodi zbog njegove žel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19000" indent="-2854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minantan pristup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 razvijenom sv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 stanovišta izvođač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19000" indent="-2854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ičajena uloga 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goslovenskih firm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19000" indent="-2854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ebno interesantno u našim uslovi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A48E7-E394-4467-B37C-51129A704EAC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929FE1-BF94-4B5E-8925-F4BA7A234022}" type="datetime1">
              <a:rPr lang="en-US"/>
              <a:t>07/29/26</a:t>
            </a:fld>
          </a:p>
        </p:txBody>
      </p:sp>
    </p:spTree>
  </p:cSld>
</p:sld>
</file>

<file path=ppt/slides/slide2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pšti uslovi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DIC-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pusti naručioca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čl. 69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plaćanje, neizdavanje sertifikata, stečaj i obaveštenje o prestanku plaćan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lično specijalnim rizici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doknada svih gubitaka, zajedno sa profitom, kam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guće usporavanje rado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guć kasniji nastavak rado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6CB0F-6594-4C67-8069-1EB733DA76E7}" type="slidenum">
              <a:t>20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74BD1F-7A80-4E9F-9432-81BB1741BCD0}" type="datetime1">
              <a:rPr lang="en-US"/>
              <a:t>07/29/26</a:t>
            </a:fld>
          </a:p>
        </p:txBody>
      </p:sp>
    </p:spTree>
  </p:cSld>
</p:sld>
</file>

<file path=ppt/slides/slide2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pšti uslovi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DIC-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mene u troškovima i zakonodavstvu (čl. 7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bog promene cena rada i materija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mene u zakonodavstvu koje su nastale 28 dana pre poslednjeg roka za podnošenje ponude i kasni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trebno stalno praćenje cena i zakonske regul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088A2-26AA-416B-9B9C-8FB388ED540B}" type="slidenum">
              <a:t>20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2086D3-9AC9-4824-B576-A5FE90326E82}" type="datetime1">
              <a:rPr lang="en-US"/>
              <a:t>07/29/26</a:t>
            </a:fld>
          </a:p>
        </p:txBody>
      </p:sp>
    </p:spTree>
  </p:cSld>
</p:sld>
</file>

<file path=ppt/slides/slide2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pšti uslovi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DIC-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ize i devizni tečaj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čl. 71-7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štete zbog promene deviznog tečaja koje su nastale 28 dana pre poslednjeg roka za podnošenje ponude i kasni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štete zbog ograničenja u deviznom poslovanju u istom rok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ovde je veoma bitna stalna informisa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83994-6D09-4F3D-9B05-55EF7000A25A}" type="slidenum">
              <a:t>20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0E2F21-58E4-4091-B1FE-82ABDA015F36}" type="datetime1">
              <a:rPr lang="en-US"/>
              <a:t>07/29/26</a:t>
            </a:fld>
          </a:p>
        </p:txBody>
      </p:sp>
    </p:spTree>
  </p:cSld>
</p:sld>
</file>

<file path=ppt/slides/slide2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100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gled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14440" y="1371600"/>
            <a:ext cx="5829120" cy="76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514440" y="2666880"/>
            <a:ext cx="5829120" cy="6400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gov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ela prema predmetu obave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ela prema načinu utvrđivanja ce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šti uslovi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DIC-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6CA3E-82C7-4754-B1AE-0215E165CFA2}" type="slidenum">
              <a:t>20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FC59AC-C1E8-4304-8725-F7182DF26BA3}" type="datetime1">
              <a:rPr lang="en-US"/>
              <a:t>07/29/26</a:t>
            </a:fld>
          </a:p>
        </p:txBody>
      </p:sp>
    </p:spTree>
  </p:cSld>
</p:sld>
</file>

<file path=ppt/slides/slide2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14440" y="3301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Upravljanje projektima u građevinarstvu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subTitle"/>
          </p:nvPr>
        </p:nvSpPr>
        <p:spPr>
          <a:xfrm>
            <a:off x="1028520" y="5613120"/>
            <a:ext cx="4800600" cy="2531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jektovanje i pripr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499C8-DC71-4BE4-BE93-7E470620834B}" type="slidenum">
              <a:t>20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52FA91-A34F-468C-A605-4C93BF007589}" type="datetime1">
              <a:rPr lang="en-US"/>
              <a:t>07/29/26</a:t>
            </a:fld>
          </a:p>
        </p:txBody>
      </p:sp>
    </p:spTree>
  </p:cSld>
</p:sld>
</file>

<file path=ppt/slides/slide2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adržaj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načaj projektovanja i pripreme pos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zrada projektne dokumentac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lanska dokumentaci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jekat tehnologije i organizacija građen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3A3C5-D76F-4284-9264-728E2FDCBDD9}" type="slidenum">
              <a:t>20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4F4693-CF88-4F35-9AEB-893A3B90BBAD}" type="datetime1">
              <a:rPr lang="en-US"/>
              <a:t>07/29/26</a:t>
            </a:fld>
          </a:p>
        </p:txBody>
      </p:sp>
    </p:spTree>
  </p:cSld>
</p:sld>
</file>

<file path=ppt/slides/slide2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Značaj projektovanja i pripreme posl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dlučujuće utiče na dalji razvoj projek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terijalizuje želje investito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 ovoj fazi se ostvari 85%-90% mogućih ušte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jektovanje sa stanovišta izvođača može početi i tokom izrade ponu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že trajati i tokom izvođenja radov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F2DA4-820D-43F0-9D89-B1925B7B95D6}" type="slidenum">
              <a:t>20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7F0FA8-77DD-4242-9EAE-2FE43089852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duslovi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sanje organizacione še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sanje odgovornosti učesni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ormacioni si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stem šifriran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sanje tehničkih uslova i ograničen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7BDD7-A6D8-47F7-92A6-1F6833A596C2}" type="slidenum">
              <a:t>20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D77D2C-3311-4EBC-826B-5922891A920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jerarhija projektovanj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8" name="" descr=""/>
          <p:cNvPicPr/>
          <p:nvPr/>
        </p:nvPicPr>
        <p:blipFill>
          <a:blip r:embed="rId1"/>
          <a:stretch/>
        </p:blipFill>
        <p:spPr>
          <a:xfrm>
            <a:off x="685800" y="3581280"/>
            <a:ext cx="5456160" cy="4924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F5F40-A067-4FE9-91BB-5BAC4EEB6F32}" type="slidenum">
              <a:t>20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2692BA-B9BE-4FE8-B738-F577ED3526E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prema u projektovanju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stup u zavisnosti od značaja opre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p 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ophodno je definisati pre početka izrade idejnog projek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dlučujuće utiče na ostala projektna rešen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standardna i skupa opr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AF319-758D-4DB0-8E60-EC21D89C5E04}" type="slidenum">
              <a:t>20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BCC220-F780-4F82-9722-5FEB62C6747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tanovište Investitor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za izgradn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za formiranja koncepci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za realizaci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za eksploatac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B3119-9D0C-4699-B515-33ED0B13FB99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6E9D02-28D8-4A01-9C15-73C686B956A2}" type="datetime1">
              <a:rPr lang="en-US"/>
              <a:t>07/29/26</a:t>
            </a:fld>
          </a:p>
        </p:txBody>
      </p:sp>
    </p:spTree>
  </p:cSld>
</p:sld>
</file>

<file path=ppt/slides/slide2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5829120" cy="13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prema u projektovanju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514440" y="2437920"/>
            <a:ext cx="5829120" cy="67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p 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ophodno je definisati pre početka izrade glavnog projek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mo donekle utiče na ostala projektna rešen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ndardna i skupa opr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lično nezavisna od proizvođač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p 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že se definisati tokom izgradn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 utiče na ostala projektna rešen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ndardna opr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zavisna od proizvođač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1CDF2-C05F-47D4-9ADC-188AA9133016}" type="slidenum">
              <a:t>2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FC030F-09FC-4C3D-B025-C16AD028F48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hničko-tehnološka priprem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gledavanje tehnologije rad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hnološko usaglašavanje učesnika u projekt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kupljanje tehnoloških podat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dviđanje mogućih probl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4667E-E272-40A5-856D-DAC4AFC5AB47}" type="slidenum">
              <a:t>2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B164FE-FEC4-44D4-8E75-A2D1004FD8E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laniranj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aliza potrebnih resur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mena poznavanja tehnolog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aglašavanje svih učesni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gledavanje ograničen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sanja načina upravljanja, kontrole i komunikac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8DFA6-3316-47A1-A7FA-1794F1A77A6F}" type="slidenum">
              <a:t>2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9DD3FE-195C-46D5-B602-020A633A7B6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klapanje u okruženj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jekti ne mogu da se grade samo na osnovu klasične projektne dokumentac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jekat mora da se uklopi u šire okružen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aju se obezbediti uslovi i saglasnosti koje daje administracija, odnosno vla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cedura dobijanja uslova i saglasnosti je obično značajno složenija i dugotrajnija od samog građen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FC5BC-3E97-4450-B0AD-2D67308AB1CE}" type="slidenum">
              <a:t>2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A9F09B-789A-43C0-9292-7305E6C6467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lanska dokumentacij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ministracija, u načelu, ne daje uslove i saglasnosti na osnovu svoje slobodne vol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kumenti na osnovu kojih administracija izdaje uslove i saglasnosti zovu s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lanski dokumen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lanski dokumenti definišu prostorni raspored, vrstu i sadržaje objekata koji se mogu gradi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AE6E4-2D04-45B1-AA84-1DD30D663104}" type="slidenum">
              <a:t>2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79A7B3-2723-487D-915B-7B534ED451C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14440" y="609120"/>
            <a:ext cx="5829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trebne karakterstike planske dokumentacij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14440" y="2590560"/>
            <a:ext cx="582912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gral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uhvata prostorne i ekonomske kriteriju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klađe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 predmetu, prostoru i vremenskom period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ordinaci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ormisanost, usklađivanje razvoja i intere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tvrđivanje obaveza i odgovornos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kom izrade i sprovođenja plano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BB3CC-CEEF-4542-A956-9891982B905B}" type="slidenum">
              <a:t>2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EC1779-5295-44AD-AA01-8DF515878D6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storni planovi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nose se u Republici, regionu, gradu i opštin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drži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nica područja na koje se odnos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mena površi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zmeštaj stanovništ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reža nasel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obraćajna i tehnička infrastruktu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snove za stimulisanje razvo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6CF8A-391A-489A-99DC-0A67F3D5D33D}" type="slidenum">
              <a:t>2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7DE2C4-3461-4185-8CA8-EBB52EDD49A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storni planovi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nose se i prostorni planovi područja sa posebnom namen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n naseljenih mesta, gde ne postoje urbanistički planovi, rade se detaljni prostorni planov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stornim planovima planira se razvoj u narednih 20 godi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2DF5F-2C25-48A0-A8A6-A14C32E4DFFE}" type="slidenum">
              <a:t>2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97A5C5-E8CD-488E-A43D-0E1DAE42498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zrada prostornog plan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za pripre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dluku donosi skupština nadležnog područ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tvrđuje se program r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razuje se komisija za praćenje i usklađivan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za dokumentacije i anali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bavljanje i analiza planova, karata i sličn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ao obavlja obrađivač, posebna stručna firma koja je angažovana za ovaj pos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AF708-8CD8-46F1-AC98-6A66F6DFD6E8}" type="slidenum">
              <a:t>2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47CE92-7966-4247-AB97-79A01345FF7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zrada prostornog plan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za izrade nacr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jekcija razvo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jekcija organizaci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jekcija uređenja prosto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cenjivanje i analiza varijan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stavlja se izvršnom organu skupšt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za javne raspra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 osnovu odluke o izradi pl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zmatranje primedbi i predlog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ošenje izme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599F9-61D2-4D00-B4F6-42416024D515}" type="slidenum">
              <a:t>2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917C0E-B530-4FCF-A372-1D9CD7EFF66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4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aze po W. Hughes-u 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14440" y="25146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za prihvatanja realizacije projekta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nception stage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Izrada studije opravdanosti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easibility stage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Izrada idejnih rešenja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cheme design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Izrada idejnog i glavnog projekta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etail design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Ugovaranje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ontracting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Izgradnja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onstruction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Prijem objekta i puštanje u rad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ommissioning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C4AD7-C98D-4ADC-9A65-D69771DAC23F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B16646-DC97-4D21-890F-FCF039BAE1A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zrada prostornog plan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za izrade predloga i donošenja pla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šljenje viših organa vla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nosi ga skupšti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avljuje se u službenom glasnik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A8D10-F0D4-4187-97A1-23B59B7C7206}" type="slidenum">
              <a:t>2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3210BA-828B-4D80-9D54-194DB8D3F92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rbanistički planovi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nose za područje naseljenog mes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zrađuje prostorni p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lagođava rešenja iz prostornog plana konkretnim uslovi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toj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lni urbanistički p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taljni urbanistički p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rbanistička osno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BD64D-8D94-44F6-88C2-F9363BED4A11}" type="slidenum">
              <a:t>2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4EEA2A-8A16-45F5-8DC1-1C0897793EB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Generalni urbanistički plan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nosi se na sličan način kao prostorni p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 njemu se navodi na koje se vreme donos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za izrade nacrta se deli 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za izrade programskog de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za izrade prostorne koncepci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473B7-2A1F-4CC5-B0AF-684448C6ED8A}" type="slidenum">
              <a:t>2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8A75AE-459A-40ED-8563-3739FFD767D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Generalni urbanistički plan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drži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nicu područja na koje se odnos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snovnu namenu površi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rastrukturne objekte sa priključcima na okružen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snovnu koncepciju stambene izgradn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čin ozelenjavan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štitu prirodnih vrednosti i kulturnih doba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36541-06D8-4A0E-9C50-14A223B125E1}" type="slidenum">
              <a:t>2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F57D80-FB8D-47F2-859A-02227A8B1B6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taljni urbanistički plan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avršna faza urbanističkog planiran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zrada GUP-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nkretizuje GUP u vezi namene provršina i položaja objek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di se za manje celine - mesne zajednice, nekoliko blokova it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žda previše detalj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nosi se slično kao G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CC2AA-CE8E-4671-9F87-F18E2853A888}" type="slidenum">
              <a:t>2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37197E-FE41-40FE-8DC7-3F1C9768AD8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taljni urbanistički plan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kstualni deo DUP-a sadrži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šti deo gde se navod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avni osnov i povod za izradu i donošenje pl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lj izra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k javne raspr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love za uređenje prostora sa smernicama za privođenje prostora namen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razložen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E3805-5DAB-4C92-AA90-D15832B1D303}" type="slidenum">
              <a:t>2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C70982-CBCB-48A7-B67B-458F5FD4950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taljni urbanistički plan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afički deo sadrži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tuacione plano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taljnu namenu površi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nicu područ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kte koji se zadržavaju i ruš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ulaciona i nivelaciona rešen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ejna rešenja za infrastrukturu i uređenje slobodnih površi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odetske elemente za obeležavan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n parcelaci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6D7D1-7F46-4663-A244-265A6B5AF49C}" type="slidenum">
              <a:t>2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37BE5C-FF21-4754-BFD7-F0AA259FCC5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kt o uslovima za uređenje prostor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snov za izradu tehničke dokumentac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drži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datke o lokacij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rbanističko-tehničke uslove za izgradnj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ebne uslove za izgradnj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ložaj regulacione i građevinske lini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htevane karakteristike objek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ED516-691B-4591-842F-3686FF0CE0F6}" type="slidenum">
              <a:t>2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8BD265-2539-48C6-8FE0-F27EE23BBFE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kt o uslovima za uređenje prostor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di se na osnovu DUP-a ili na osnovu privremenih usl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ophodne saglasnosti komunalnih služb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nosi ga organ uprave nadležan za poslove urbaniz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cedura je slična proceduri donošenja ostalih planskih dokumen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3576C-4C62-4F15-8328-8C2A660B38BD}" type="slidenum">
              <a:t>2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ACE152-1442-4C8B-BC7F-6ED98A9BF54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ređenje zemljist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jekti ne mogu da funkcionišu bez prateće infrastruk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 okviru troškova izgradnje objekta moraju se uračunati i troškovi infrastruk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a izgradnju na području Beograda plaća se opremanje zemljišta Gradskoj direkciji za puteve i zemljiš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marno uređen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kundarno uređen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8F722-42AD-4623-87C2-E9D24300C6CE}" type="slidenum">
              <a:t>2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47CB64-421F-4532-9194-992BDBB225B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tanovište izvođač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traživanje tržiš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zrada ponu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govaran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zrada projektne dokumentacije i priprema realizac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zvođenje rad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pl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miranje i proširenje baze istorijskih podat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9D774-3DAA-4A73-A241-620E0C4AF19C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70E74C-071E-4724-A1C8-C6EDB5418C74}" type="datetime1">
              <a:rPr lang="en-US"/>
              <a:t>07/29/26</a:t>
            </a:fld>
          </a:p>
        </p:txBody>
      </p:sp>
    </p:spTree>
  </p:cSld>
</p:sld>
</file>

<file path=ppt/slides/slide2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jekat tehnologije i organizacija gradenj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ophodan deo projektne dokumentac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ophodno poznavanje tehnolog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ophodan za sagledavanje stvarnih trošk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DF42C-BC19-42E5-91CD-546AD2A929EC}" type="slidenum">
              <a:t>2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DF5864-C7D8-4DF9-BBD7-BB76E053F5D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zvori podatak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hnička dokumentac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govor o građenj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odetske, geološke podlo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drološke i meteorološke podlo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nje tržiš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lovi snabdevan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kustva eksperata i učesnika u projekt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AE482-4D33-45D2-93B1-750F9C003F97}" type="slidenum">
              <a:t>2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163246-4BCB-4534-B7D1-0E18679B29C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snovni elementi projekt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hnički opis sa tehničkim uslovima za izvođen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hnologija rad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račun fonda radnog vreme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aliza cena materijala “franko gradilište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Širi i uži izbor mehanizac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Šema montaž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tički planovi potreba za resursi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ganizaciona struktu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BAC06-6118-4888-909E-F6453334336E}" type="slidenum">
              <a:t>2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1715AD-4A85-40BC-9DDA-3F131C53CE5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snovni elementi projekt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šenje informacionog sist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namički p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Šema organizacije gradiliš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cena troškova predhodnih i pripremnih rad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cena troškova upravljanja projekti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re zaštite na rad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43A6F-E815-4C13-94EE-0C137998AEC3}" type="slidenum">
              <a:t>2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3EAE57-5419-4941-8255-C5C4AE4BEC9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100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gled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514440" y="1371600"/>
            <a:ext cx="5829120" cy="76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514440" y="2666880"/>
            <a:ext cx="5829120" cy="6400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načaj projektovanja i pripreme pos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zrada projektne dokumentac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lanska dokumentaci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jekat tehnologije i organizacija građen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3154E-05BB-4DEF-8ECA-C5D3F6C73164}" type="slidenum">
              <a:t>23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FDB2F4-EF88-46B7-AFAF-DBCA5D6BBEE7}" type="datetime1">
              <a:rPr lang="en-US"/>
              <a:t>07/29/26</a:t>
            </a:fld>
          </a:p>
        </p:txBody>
      </p:sp>
    </p:spTree>
  </p:cSld>
</p:sld>
</file>

<file path=ppt/slides/slide2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14440" y="3301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Upravljanje projektima u građevinarstvu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subTitle"/>
          </p:nvPr>
        </p:nvSpPr>
        <p:spPr>
          <a:xfrm>
            <a:off x="1028520" y="5613120"/>
            <a:ext cx="4800600" cy="2531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zvo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đenje radova na gradilišt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4585C-9E50-4222-8ABB-982F1246749F}" type="slidenum">
              <a:t>2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5AF0C4-4493-4C0A-BFC2-BE6C0BDFAAD5}" type="datetime1">
              <a:rPr lang="en-US"/>
              <a:t>07/29/26</a:t>
            </a:fld>
          </a:p>
        </p:txBody>
      </p:sp>
    </p:spTree>
  </p:cSld>
</p:sld>
</file>

<file path=ppt/slides/slide2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adržaj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lovi izvođač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ntrola realizacije projek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stem za kontrolu realizacije projek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ntrola vreme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ntrola trošk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za između kontrole troškova i vreme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piska na projekt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ravljanje tehničkom dokumentacij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3E7D1-C14A-4EAE-8C6F-20B5A06E4155}" type="slidenum">
              <a:t>2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80E896-78D3-475C-864C-5E71A103CD49}" type="datetime1">
              <a:rPr lang="en-US"/>
              <a:t>07/29/26</a:t>
            </a:fld>
          </a:p>
        </p:txBody>
      </p:sp>
    </p:spTree>
  </p:cSld>
</p:sld>
</file>

<file path=ppt/slides/slide2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vod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aktična realizacija idealizovanog modela koji je do tada razrađiv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otovo uvek model se mora prilagođavati realnosti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zrada projektne dokumentaci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zrada projektne dokumentaci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zmene projektne dokumentaci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DEE11-E731-450D-AD9F-3F291BBA29B3}" type="slidenum">
              <a:t>23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804437-AB25-43E5-AF22-731E9BD1C61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slovi izvođač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zgradnja uz razradu tehničko-tehnoloških i organizacionih rešen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rcijalne aktivnosti vezane za obezbeđenje resur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ntrola ispunjenja sopstvenih ugovornih obavez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ntrola ispunjenja ugovornih obaveza investito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plata pos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piska sa investitor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D5F25-10F9-428B-818C-7729163158D8}" type="slidenum">
              <a:t>23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FBDE22-115E-4322-AF75-CE62B007AF3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Kontrola realizacije projekt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štinska pitanja na koja moramo odgovarati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ji je obim posl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je saradnike imamo na raspolaganju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liko vremena imamo na raspolaganju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liki su troškovi ovog posl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akav kvalitet moramo da ostvarim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65C14-1D3A-432E-8F25-7B161F1A2BAF}" type="slidenum">
              <a:t>23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E665EE-0FE6-4A92-B80D-F3071387371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Šta smo naučili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znavanje tehnolog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hnološki pro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hanizac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laniran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ravljanje informacija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dstv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mizaci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95D59-73FA-4EC4-92D9-1A4DDD6E2D06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697103-895A-48F8-AACD-FEDBFCA1488D}" type="datetime1">
              <a:rPr lang="en-US"/>
              <a:t>07/29/26</a:t>
            </a:fld>
          </a:p>
        </p:txBody>
      </p:sp>
    </p:spTree>
  </p:cSld>
</p:sld>
</file>

<file path=ppt/slides/slide2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Kontrola realizacije projekt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ki od odgovora na navedena pitanja se mogu unapred zna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ki od odgovora se menjaju vremenom zbog razvoja situac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ije dovoljno odgovoriti na ova pitanja samo u jednom trenutk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dgovori se moraju pribavljati i korigovati tokom celog rada na projekt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52C8B-7BA0-43D1-BCA9-0FBAEA7882C1}" type="slidenum">
              <a:t>24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23A3C5-7423-4A70-BF92-45769F09235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istem za kontrolu realizacije projekt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cena (plan) budućih događa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vid u stvarno stan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eđenje planiranog i ostvareno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uzimanje akcije za smanjenje odstupan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AEF4B-EC7B-42C8-8513-928DBA22C595}" type="slidenum">
              <a:t>24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DE8220-7EAF-4C1F-B94C-2EF6EE98686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formacioni sistem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ormacioni sistem je obavezan uslov za  kontrolu realizacije projek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jvažnije osobine informacionog sistema za kontrolu realizacije građen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klopljen u IS projek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rzina dobijanja informac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rzina procene efekata odluk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rzina distribucije informac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čnost je potrebna, ali ne apsolutna tačnos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C532F-4332-41F3-B737-D5986149A49E}" type="slidenum">
              <a:t>24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455004-E536-4043-907A-36F43C8255B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Kontrola vremen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cena se odvija na osnovu procena obima radova, procene praktičnog učinka i sagledavanja tehnologija rad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cena se prikazuje u mreženom plan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ma tačnih plan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lanovi se stalno ispravljaju i prilagođavaju stvarnoj situacij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4E674-0263-4592-B74B-12509B34AC63}" type="slidenum">
              <a:t>24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357EFE-C6AC-44BE-9FC6-5FA173198A0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Kontrola vremen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 postoji efikasan način da se automatski stigne od predmera do mrežnog pla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guće je automatizovati samo veoma jednostavne projek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oma je poželjno uspostaviti vezu između predmera i pla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za mora kvalitetno ostvare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za ne mora biti potpuno tač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F1226-1FB8-400B-8165-8E94CEC8C5A4}" type="slidenum">
              <a:t>2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5BB4FB-97CF-4D5B-A6FC-2282F852196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Kontrola vremen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toje kvalitetni programi za mrežno planiran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eđenje planiranog i ostvarenog se može realizovati brzo, efikasno i pregled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gu se dobiti odgovori na pitanja “Šta - ako?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CED7B-6B1C-4209-91BA-E048EAEE37E9}" type="slidenum">
              <a:t>2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FCD9F5-F03A-4039-9D7B-1B34B28B9E5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Kontrola troškov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oma važno, možda najvažnije merilo uspeha izgradn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trebno je započeti sa kontrolom troškova što ranij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 troškove se najbolje utiče na samom početku rada na projekt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 samom početku rada na projektu najslabije poznajemo troško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47A96-5CD0-47C3-9C1E-2CCDCD8A0D5D}" type="slidenum">
              <a:t>2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C80860-E6D8-4411-9D37-F02F4AC2555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Kontrola troškov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ticaj ranih studija na troškove projek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e studije čine 2% vrednosti projek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e studije mogu da pruže 50% doprinosa profitabilnosti projek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jektna dokumentacija definiše troškove sa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čnošću ± 5%-10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 okviru projektne dokumentacije je ostvareno 85%-90% ušte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B1FB8-87AE-4B9A-9AFA-D6A3DBBCA16A}" type="slidenum">
              <a:t>24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D1545E-3F0E-438A-9494-5624AD2094C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za između kontrole troškova i vremen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kraćenje vremena realizacije projekta može da značajno poveća troško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duženje vremena realizacije projekta može takođe da značajno podigne troško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eba izabrati optimalno trajanje projek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ophodna je primena kvalitetnih programa za planiranje tokom kontrol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8C8FD-2145-48DE-B2F0-A2514CA09341}" type="slidenum">
              <a:t>24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17B9B2-1350-47F9-BD34-19FD8AFFA88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Kontrola troškova na bazi utroška resurs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trebna razrađena tehnologija rad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ophodna paralelna kontrola vreme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guće je ostvariti detaljnu kontrolu trošk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loženost modela se mora pažljivo odrediti, da ne bi postao neefikas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812DD-AF1A-4A98-9A81-5D486CC2DD74}" type="slidenum">
              <a:t>24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BF2A48-C924-4821-BEEE-3291D4B73C8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Šta ćemo raditi?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vestitorov pogled na sv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zvođačev pogled na sv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aživanje tržiš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rada ponu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varan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rada projektne dokumentacije i pripr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vođenje rado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l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za istorijskih podatak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63B57-776F-43C3-95B2-1170219519DA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11ABF0-DED3-4BA2-850E-F4B0C166D137}" type="datetime1">
              <a:rPr lang="en-US"/>
              <a:t>07/29/26</a:t>
            </a:fld>
          </a:p>
        </p:txBody>
      </p:sp>
    </p:spTree>
  </p:cSld>
</p:sld>
</file>

<file path=ppt/slides/slide2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tatička kontrola troškov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eđenje planiranih i realizovanih troškova po aktivnosti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d efikasnog plana ne postoji direktna veza između aktivnosti i pozicija rad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trebno je obaviti kreativno povezivanje ta dva skup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FC364-7A5B-45F0-8412-CF81500CCD93}" type="slidenum">
              <a:t>25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263CC5-3DFE-4025-A293-66B57903C0A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tatička kontrola troškov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eba proceniti očekivane troškove pojedinih aktivnos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vaki konkretan trošak treba pridruživati konkretnoj aktivnos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eđenje procene i stvarnog iznosa je osnova za kontrol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2DC38-231B-42BA-A597-6E17F7B97957}" type="slidenum">
              <a:t>25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DFE659-E597-4179-9395-8595B27C39C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tatička kontrola troškov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ednostavniji i manje kvalitetan način je poređenje procenjenog troška pozicije radova i realizovanih trošk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 daje pregled u vremen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ično je presporo za efikasno upravljan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Često se sprovodi kroz čisto knjigovodstv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guće poboljšanje kroz primenu troškovno značajnih stavk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82CD3-55F3-4ACA-AC64-F321D12A3F0D}" type="slidenum">
              <a:t>2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441296-659F-4DDD-84CE-05E05CFA2F7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Kontrola toka novca (cash flow)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eđenje planiranog i ostvarenog toka nov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ub nač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že biti od životnog značaja za izvođača, pogotovu u našim uslovi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Često jedini način realne kontrole troškova tokom projek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22570-AA80-4ECB-9BF2-E82A009D914D}" type="slidenum">
              <a:t>25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A58A76-BACD-426C-B3F0-79768AB24F2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piska na projektu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snova za razrešavanje sporova sa investitor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a se bazirati na strategiji firme prema projektu i investitor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a se voditi precizno i pažljiv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dstavlja deo ugovorne dokumentac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d nas se vodi preko građevinske knjige i dnevni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47DC9-7EA3-42D0-B532-6B38DE2A754B}" type="slidenum">
              <a:t>2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64F825-7F11-454A-A904-EEF7E949D54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piska na projektu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 FIDIC-u se vodi preko dopi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že biti veoma obimna u dugotrajnim projekti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ophodan je deo IS koji će se baviti ovom prepisk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 FIDIC-u postoji klasifikacija dopi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4558C-582B-4603-A849-AC9FA6D5846B}" type="slidenum">
              <a:t>25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19D598-15C9-4B10-97F5-9153DFCCDCF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Klasifikacija dopis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514440" y="2514240"/>
            <a:ext cx="5829120" cy="67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pisi o tehnologiji ra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pisi o rokovi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trukcije o radovima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trukcije na licu mesta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ite instruction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log za izmenu pozicije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ariation ord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jemna lista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equest for approval of work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evni izveštaj o izvođenju radova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aily repor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C9282-34AF-44ED-8FB2-BC654B7D9A12}" type="slidenum">
              <a:t>2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4CA03D-8C29-4EB6-99CC-4043EA4C750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pravljanje tehničkom dokumentacijom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govor i prateća dokumen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jektna dokumentaci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pisi (računajući i situacije, planove i sl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apisnici sa sastan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že biti veoma obimna i raznovrs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je tokom celog toka projek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d efikasnog korišćenja dokumentacije može da zavisi veoma mnog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88A39-6772-4E61-B67D-A0E6DA85F6FA}" type="slidenum">
              <a:t>2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2610AE-1C06-4209-BFC9-E84563B9828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pravljanje tehničkom dokumentacijom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lasični metod arhiviranja je neefikas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ko je praktično nemoguće dobiti prave podatk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trebno je organizovati sistem unošenja, analiziranja i šifriran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oma je bitan interaktivan r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ije neophodno unositi u računar cele dokume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1190F-5333-4325-9B22-DB46982DC5B9}" type="slidenum">
              <a:t>2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93DDCA-9349-43AF-8138-7E45F604133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pravljanje carinskim i komercijalnim poslovim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14440" y="2571840"/>
            <a:ext cx="5829120" cy="664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ada u neinženjerske poslove, po klasičnim kriterijumi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oma važno za realizaciju projek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r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va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aćenje dokumentac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aćenje rok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ozoravanje korisni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ophodan deo 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7328C-36E0-4857-A2B2-430F433C0496}" type="slidenum">
              <a:t>25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BB001A-4473-4BA6-ABFA-ACF191A8AF7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vestitorov pogled na sve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za izgradn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za formiranja koncepci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za realizaci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za eksploatac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87035-2C82-4B57-863C-44E9CB799BF0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6A78CE-5B6C-417C-B7D0-8EE0DFF119A6}" type="datetime1">
              <a:rPr lang="en-US"/>
              <a:t>07/29/26</a:t>
            </a:fld>
          </a:p>
        </p:txBody>
      </p:sp>
    </p:spTree>
  </p:cSld>
</p:sld>
</file>

<file path=ppt/slides/slide2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100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gled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514440" y="1371600"/>
            <a:ext cx="5829120" cy="76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14440" y="2666880"/>
            <a:ext cx="5829120" cy="6400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lovi izvođač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ntrola realizacije projek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stem za kontrolu realizacije projek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ntrola vreme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ntrola trošk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za između kontrole troškova i vreme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piska na projekt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ravljanje tehničkom dokumentacij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A2B92-CE20-4EFA-8512-807474FD8947}" type="slidenum">
              <a:t>2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C33537-52F9-4956-A063-91C44D57EEAF}" type="datetime1">
              <a:rPr lang="en-US"/>
              <a:t>07/29/26</a:t>
            </a:fld>
          </a:p>
        </p:txBody>
      </p:sp>
    </p:spTree>
  </p:cSld>
</p:sld>
</file>

<file path=ppt/slides/slide2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514440" y="3301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Upravljanje projektima u građevinarstvu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 type="subTitle"/>
          </p:nvPr>
        </p:nvSpPr>
        <p:spPr>
          <a:xfrm>
            <a:off x="1028520" y="5613120"/>
            <a:ext cx="4800600" cy="2531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plata pos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3905E-D934-467F-8556-3177C2A7606C}" type="slidenum">
              <a:t>26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AAE4FB-D2F7-41EF-BD58-DA8A08DD034F}" type="datetime1">
              <a:rPr lang="en-US"/>
              <a:t>07/29/26</a:t>
            </a:fld>
          </a:p>
        </p:txBody>
      </p:sp>
    </p:spTree>
  </p:cSld>
</p:sld>
</file>

<file path=ppt/slides/slide2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adržaj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pl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DIC uslov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cedura napl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dštetni zahtev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šavanje spor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4FE5C-1144-41F1-A54F-76B0E76B878A}" type="slidenum">
              <a:t>2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4B9899-B872-4BF6-BC3E-B527969420B7}" type="datetime1">
              <a:rPr lang="en-US"/>
              <a:t>07/29/26</a:t>
            </a:fld>
          </a:p>
        </p:txBody>
      </p:sp>
    </p:spTree>
  </p:cSld>
</p:sld>
</file>

<file path=ppt/slides/slide2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514440" y="500040"/>
            <a:ext cx="5829120" cy="1100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Naplat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514440" y="1981080"/>
            <a:ext cx="5829120" cy="7391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dvija se tokom celog projekt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rednovanje izvršenog pos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varni cilj svakog izvođač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štinski uslov je dokumentacija a ne izvršeni radov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 pravilu podležu nacionalnim zakoni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gu se zasnivati na internacionalnim uslovi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F38E4-8B54-4CDB-AE34-29CB8C72B19C}" type="slidenum">
              <a:t>2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5966CC-473B-4AA9-918B-0BD6813EF72A}" type="datetime1">
              <a:rPr lang="en-US"/>
              <a:t>07/29/26</a:t>
            </a:fld>
          </a:p>
        </p:txBody>
      </p:sp>
    </p:spTree>
  </p:cSld>
</p:sld>
</file>

<file path=ppt/slides/slide2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YU L Times"/>
              </a:rPr>
              <a:t>FIDIC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uslovi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sno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renje količi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zmene, dopune i ispuštan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vremeni iznos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pitivanje kvalite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stali uslov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dovi po tuđim specifikacija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moć drugim izvođači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port nestandardnih tere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dovi tokom garantnog rok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končanje ugovo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50A81-38B0-43C9-BFFE-C44D022DF5A4}" type="slidenum">
              <a:t>26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BEFCCA-9910-44FC-8D3A-B5406D97D9AD}" type="datetime1">
              <a:rPr lang="en-US"/>
              <a:t>07/29/26</a:t>
            </a:fld>
          </a:p>
        </p:txBody>
      </p:sp>
    </p:spTree>
  </p:cSld>
</p:sld>
</file>

<file path=ppt/slides/slide2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erenje količin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edinične cene (unit pric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edinstvene cene (lump sum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binovani model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cedura merenja prema FIDIC-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dhodno obaveštavan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stavljanje traženih podatak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ren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stavljanje rezult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medbe u roku od 14 d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79CEE-92DE-49B4-9698-7CE6047757DE}" type="slidenum">
              <a:t>26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358E68-B003-453A-BBE8-6FCF19832578}" type="datetime1">
              <a:rPr lang="en-US"/>
              <a:t>07/29/26</a:t>
            </a:fld>
          </a:p>
        </p:txBody>
      </p:sp>
    </p:spTree>
  </p:cSld>
</p:sld>
</file>

<file path=ppt/slides/slide2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menjeni radovi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ophodan pismeni nalog inženje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ophodno je obavestiti inženjera u roku od 14 dana o zahtevu za dodatnu naplatu (količine ili cen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ko ukupna izmena pređe 15%, moguća je naplata i ako nalog ne postoj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DFF2F-168E-4507-BC8E-576FF8ED718B}" type="slidenum">
              <a:t>26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264E00-6943-42CA-B7EB-4B59ADB86A03}" type="datetime1">
              <a:rPr lang="en-US"/>
              <a:t>07/29/26</a:t>
            </a:fld>
          </a:p>
        </p:txBody>
      </p:sp>
    </p:spTree>
  </p:cSld>
</p:sld>
</file>

<file path=ppt/slides/slide2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ivremeni iznosi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ansiranje radova za koje se u trenutku sklapanja nije znalo da li će biti izveden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oše se na osnovu odobrenja inženje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ženjeru se dostavljaju ponude, računi, fakture i s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41113-D320-4922-9A1A-DB9BAE025F51}" type="slidenum">
              <a:t>26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0C025A-2713-4D82-859C-DAFF1F9A2A03}" type="datetime1">
              <a:rPr lang="en-US"/>
              <a:t>07/29/26</a:t>
            </a:fld>
          </a:p>
        </p:txBody>
      </p:sp>
    </p:spTree>
  </p:cSld>
</p:sld>
</file>

<file path=ppt/slides/slide2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Kontrola kvalitet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lična procedura kao za meren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dviđeno odredbama ugovo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valit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čestanost meren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oškovi meren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predviđeno ugovor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plata od strane "krivca"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341A2-AEA5-46C2-90CA-E9BC33F19421}" type="slidenum">
              <a:t>26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813C76-F1F9-4C91-BF17-B006D0D7261E}" type="datetime1">
              <a:rPr lang="en-US"/>
              <a:t>07/29/26</a:t>
            </a:fld>
          </a:p>
        </p:txBody>
      </p:sp>
    </p:spTree>
  </p:cSld>
</p:sld>
</file>

<file path=ppt/slides/slide2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Koriš</a:t>
            </a: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ć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nje tuđih specifikacij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ko je ugovoreno na osnovu specifikacija koje nije uradio, izvođač može da naplati prekoračenje količi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ži i ako su specifikacije bile poznate u toku sklapanja ugovo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3435B-F98F-4E18-9E2D-9D1B463E9900}" type="slidenum">
              <a:t>26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93F19F-6396-4B79-9BEE-FAC22FE33347}" type="datetime1">
              <a:rPr lang="en-US"/>
              <a:t>07/29/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aza formiranja koncepcij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533520" y="3200400"/>
          <a:ext cx="6000480" cy="495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3200400"/>
                    <a:ext cx="6000480" cy="495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56A83-27B3-4518-9018-17D9C22FBE99}" type="slidenum">
              <a:t>2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EF00B1-0227-4DB7-A94A-4BB48BBB30ED}" type="datetime1">
              <a:rPr lang="en-US"/>
              <a:t>07/29/26</a:t>
            </a:fld>
          </a:p>
        </p:txBody>
      </p:sp>
    </p:spTree>
  </p:cSld>
</p:sld>
</file>

<file path=ppt/slides/slide2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stali osnovi za naplatu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moć drugim izvođačim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avezan je pismeni zahtev inženje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port nestandardnih tere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oma je poželjno da su uneti u specifikaci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štećenja javnih puteva nastala i pored brige izvođač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BCE89-2267-49A9-956D-4A0D1CEBB7DB}" type="slidenum">
              <a:t>27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8F5635-7537-40A7-A48B-A96B994385E9}" type="datetime1">
              <a:rPr lang="en-US"/>
              <a:t>07/29/26</a:t>
            </a:fld>
          </a:p>
        </p:txBody>
      </p:sp>
    </p:spTree>
  </p:cSld>
</p:sld>
</file>

<file path=ppt/slides/slide2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stali osnovi za naplatu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rantni peri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zvođač izvršava naloge inženje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knadno se utvđuje odgovornost i naplata, na osnovu ovih uslo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končanje ugovo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vestitor može preuzeti gradilište i oprem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zvođač ima pravo na naknadu za izvedene radove i naknadu za ostavljeno gradilište i oprem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F4691-BDEB-4E26-90C9-82C7648E3A54}" type="slidenum">
              <a:t>27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7855A0-2F51-4CE6-85B5-26A11684E4CC}" type="datetime1">
              <a:rPr lang="en-US"/>
              <a:t>07/29/26</a:t>
            </a:fld>
          </a:p>
        </p:txBody>
      </p:sp>
    </p:spTree>
  </p:cSld>
</p:sld>
</file>

<file path=ppt/slides/slide2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stali osnovi za naplatu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ecijalni rizi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t i oružani sukob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pusti naručio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plaćan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izdavanje sertifik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eča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aveštenje o prestanku plaćan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slobođenje od izvršen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9FD06-3040-4CEB-BE5B-7A2AF12112F7}" type="slidenum">
              <a:t>27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D9A098-A102-4458-8CB0-2B6D431B9E79}" type="datetime1">
              <a:rPr lang="en-US"/>
              <a:t>07/29/26</a:t>
            </a:fld>
          </a:p>
        </p:txBody>
      </p:sp>
    </p:spTree>
  </p:cSld>
</p:sld>
</file>

<file path=ppt/slides/slide2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14440" y="42840"/>
            <a:ext cx="5829120" cy="1100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cedura naplat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514440" y="1295280"/>
            <a:ext cx="5829120" cy="792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vremeni sertifika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uzimanje i odobravanje rad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e na izvršenim radovi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rtifikat o preuzimanju aktivnosti tokom garantnog rok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rtifikat za otklanjanje nedostatak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ansijska poravnan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zjava po završetk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crt konačne izja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ačna izja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ačni sertifik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883E0-0694-4C5A-810B-318AEED36570}" type="slidenum">
              <a:t>27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778E1F-5B7A-41B2-B028-00B2D2D892D6}" type="datetime1">
              <a:rPr lang="en-US"/>
              <a:t>07/29/26</a:t>
            </a:fld>
          </a:p>
        </p:txBody>
      </p:sp>
    </p:spTree>
  </p:cSld>
</p:sld>
</file>

<file path=ppt/slides/slide2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dštetni zahtevi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govorne klauzu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pis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dovi nominovanih podizvođač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jektna dokumentaci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boratorije, materijali i standard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C6AFA-C086-42AF-BEE5-1895D42DC8EC}" type="slidenum">
              <a:t>27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034489-C44C-441F-8532-9CAB61402F66}" type="datetime1">
              <a:rPr lang="en-US"/>
              <a:t>07/29/26</a:t>
            </a:fld>
          </a:p>
        </p:txBody>
      </p:sp>
    </p:spTree>
  </p:cSld>
</p:sld>
</file>

<file path=ppt/slides/slide2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14440" y="57636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snove za pokretanje odštetnih zahtev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514440" y="2819160"/>
            <a:ext cx="5829120" cy="601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menjeni radov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rišćenje podataka dobijenih od investito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ezbeđenje prostora za gradilište i pristup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ženjerovo neispunjavanje obavez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stavljanje nacr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pust pri obeležavanj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481D7-ED17-45CE-A314-B18CA8BCBC98}" type="slidenum">
              <a:t>27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C0936C-F5DB-44EF-A1FE-A426C10EF096}" type="datetime1">
              <a:rPr lang="en-US"/>
              <a:t>07/29/26</a:t>
            </a:fld>
          </a:p>
        </p:txBody>
      </p:sp>
    </p:spTree>
  </p:cSld>
</p:sld>
</file>

<file path=ppt/slides/slide2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37760" y="500040"/>
            <a:ext cx="582948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snove za pokretanje odštetnih zahtev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14440" y="2514240"/>
            <a:ext cx="5829120" cy="6629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pitivanja van ugovo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ustava rad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izici naručio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ecijalni rizi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pusti naručio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port nestandarnih tereta van predme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521E1-0D24-4DE1-AB5E-860497A10B80}" type="slidenum">
              <a:t>2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BA80CC-30E3-4EFA-86AF-DD5530268133}" type="datetime1">
              <a:rPr lang="en-US"/>
              <a:t>07/29/26</a:t>
            </a:fld>
          </a:p>
        </p:txBody>
      </p:sp>
    </p:spTree>
  </p:cSld>
</p:sld>
</file>

<file path=ppt/slides/slide2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stupak pokretanja odštetnih zahtev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ismena najava inženjeru u roku od 28 da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prema dokumentac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iodični obračun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guć zahtev za plaćanje u bilo kojoj mesečnoj situacij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dobravanje od strane inženje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8EC5B-2BFF-4E61-81FC-25E58892506B}" type="slidenum">
              <a:t>27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6334E4-6C50-44B9-A5F9-CBAC30EEE71C}" type="datetime1">
              <a:rPr lang="en-US"/>
              <a:t>07/29/26</a:t>
            </a:fld>
          </a:p>
        </p:txBody>
      </p:sp>
    </p:spTree>
  </p:cSld>
</p:sld>
</file>

<file path=ppt/slides/slide2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ešavanje sporov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dlukom inženje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govor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bitraž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cizni vremenski rokov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stavljeno dovoljno vremena za odlučivanje o arbitraž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954C6-AE43-4248-A65F-FE0CE3B5924A}" type="slidenum">
              <a:t>27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1F79D1-6140-4D5F-93D2-FC78A01D9F60}" type="datetime1">
              <a:rPr lang="en-US"/>
              <a:t>07/29/26</a:t>
            </a:fld>
          </a:p>
        </p:txBody>
      </p:sp>
    </p:spTree>
  </p:cSld>
</p:sld>
</file>

<file path=ppt/slides/slide2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100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gled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514440" y="1371600"/>
            <a:ext cx="5829120" cy="76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514440" y="2666880"/>
            <a:ext cx="5829120" cy="6400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pl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DIC uslov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cedura napl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dštetni zahtev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šavanje spor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C8E42-044A-4763-8F6E-58B52C611C4C}" type="slidenum">
              <a:t>27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20E98F-A0B9-43FA-ADD7-7AABB1435A7F}" type="datetime1">
              <a:rPr lang="en-US"/>
              <a:t>07/29/26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aza koncepcije - faza "juriša"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Želja investito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alize radi racionalnog sagledavanja žel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jne aktivnos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dlučujuće aktivnos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0%-90% ušte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jektovanje materijalizuje želj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nsultanti pomažu investitoru da donosi odluk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C292E-B37E-4EF9-9C7B-851EA7C3DE7A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CB7CEB-86F8-495C-9C06-029CF9357270}" type="datetime1">
              <a:rPr lang="en-US"/>
              <a:t>07/29/26</a:t>
            </a:fld>
          </a:p>
        </p:txBody>
      </p:sp>
    </p:spTree>
  </p:cSld>
</p:sld>
</file>

<file path=ppt/slides/slide2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14440" y="3301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Upravljanje projektima u građevinarstvu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 type="subTitle"/>
          </p:nvPr>
        </p:nvSpPr>
        <p:spPr>
          <a:xfrm>
            <a:off x="1028520" y="5613120"/>
            <a:ext cx="4800600" cy="2531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za istorijskih podat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13ECA-5BD5-4CD0-8559-8FAE74CC2032}" type="slidenum">
              <a:t>28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C4C834-1D5F-4FA0-AFA9-416A2128E59B}" type="datetime1">
              <a:rPr lang="en-US"/>
              <a:t>07/29/26</a:t>
            </a:fld>
          </a:p>
        </p:txBody>
      </p:sp>
    </p:spTree>
  </p:cSld>
</p:sld>
</file>

<file path=ppt/slides/slide2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adržaj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v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ncipi formiran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ktori važni za formiranje ba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raci u formiranju ba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zvori istorijskih podat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uktura istorijskih podat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2E1C8-CF93-409B-983E-1DB03AE75F19}" type="slidenum">
              <a:t>28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2F8028-727D-4932-ADBA-7E98540BC3D7}" type="datetime1">
              <a:rPr lang="en-US"/>
              <a:t>07/29/26</a:t>
            </a:fld>
          </a:p>
        </p:txBody>
      </p:sp>
    </p:spTree>
  </p:cSld>
</p:sld>
</file>

<file path=ppt/slides/slide2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vod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ajedno sa istraživanjem tržišta odvija se nezavisno od konkretnog projek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ophodni izvor informaci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drži najvredniju imovinu firme - znan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manjuje zavisnost firme od pojedina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B1FD1-BADD-41FA-BB6C-CBAD26FAE93A}" type="slidenum">
              <a:t>28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1ADC5D-621A-4572-8A72-91416E2A654B}" type="datetime1">
              <a:rPr lang="en-US"/>
              <a:t>07/29/26</a:t>
            </a:fld>
          </a:p>
        </p:txBody>
      </p:sp>
    </p:spTree>
  </p:cSld>
</p:sld>
</file>

<file path=ppt/slides/slide2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incipi formiranj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oma zavisne od konkretne fir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liki broj podat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liki broj izvora podat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ophodna sistematizacija i sažimanje informaci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10EB3-C72B-402B-B818-051FBAA68D8C}" type="slidenum">
              <a:t>28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53C7A9-D358-4136-ABCD-95FC1D8BD394}" type="datetime1">
              <a:rPr lang="en-US"/>
              <a:t>07/29/26</a:t>
            </a:fld>
          </a:p>
        </p:txBody>
      </p:sp>
    </p:spTree>
  </p:cSld>
</p:sld>
</file>

<file path=ppt/slides/slide2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aktori važni za formiranje baz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loga u realizaciji projekata (investitor, izvođač, konsultant ..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ža oblast delovanja (izgradnja tunela, stanova, mostova ..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šte karakteristike firme (organizaciona struktura, veličina, strategij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ivo znanja i iskust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remlje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ED6E0-F5FF-4C36-82AC-1E8AE358BFA9}" type="slidenum">
              <a:t>28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D66F3A-1E0E-4905-A845-C28FFE9237DB}" type="datetime1">
              <a:rPr lang="en-US"/>
              <a:t>07/29/26</a:t>
            </a:fld>
          </a:p>
        </p:txBody>
      </p:sp>
    </p:spTree>
  </p:cSld>
</p:sld>
</file>

<file path=ppt/slides/slide2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Koraci u formiranju baz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aliza sistema i sagledavanje potreba za istorijskim podaci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ciranje izvora istorijskih podat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sanje organizacione strukture i toka informacija u firm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dređivanje sadržaja ba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miranje specifikacije za nabavku hardve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2FC11-A0EF-414E-B160-AB6D9D529EAF}" type="slidenum">
              <a:t>28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9F236C-E75F-4661-8010-0173CDBE4857}" type="datetime1">
              <a:rPr lang="en-US"/>
              <a:t>07/29/26</a:t>
            </a:fld>
          </a:p>
        </p:txBody>
      </p:sp>
    </p:spTree>
  </p:cSld>
</p:sld>
</file>

<file path=ppt/slides/slide2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Koraci u formiranju baz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jektovanje i implementcija baze podat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ntinuirano prikupljanje, selekcija i unošenje podat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rišćenje baze podataka (pretraživanje, izveštavanje, povezivanje različitih tipova podatak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52CD0-7640-4C97-A670-90C5B70F9D7A}" type="slidenum">
              <a:t>28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5E2C70-D3F8-4E12-AB8C-D9488F8EFD00}" type="datetime1">
              <a:rPr lang="en-US"/>
              <a:t>07/29/26</a:t>
            </a:fld>
          </a:p>
        </p:txBody>
      </p:sp>
    </p:spTree>
  </p:cSld>
</p:sld>
</file>

<file path=ppt/slides/slide2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zvori istorijskih podatak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govori o investicionim radovima, potpuno ili delimično realizovan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dmeri i predračun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alize ce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ađevinski dnevnici i knji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tuacije o fizičkoj i finansijskoj realizacij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iodični izveštaji o kontroli vremena i trošk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C1E2B-F07E-46E5-A386-46C1AAB28780}" type="slidenum">
              <a:t>28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A31685-EEC9-4650-AB0A-715339698AAA}" type="datetime1">
              <a:rPr lang="en-US"/>
              <a:t>07/29/26</a:t>
            </a:fld>
          </a:p>
        </p:txBody>
      </p:sp>
    </p:spTree>
  </p:cSld>
</p:sld>
</file>

<file path=ppt/slides/slide2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zvori istorijskih podatak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boratorijski i drugi izveštaji o kontroli kvalite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hničke specifikac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afička projektna dokumentac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aci o ugrađenoj oprem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rifikovani iskustveni normativ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isma i zapisnici o ključnim tehničkim problemi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D1320-E94A-4CB9-9816-AC2A58D096C8}" type="slidenum">
              <a:t>28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B76EBC-0713-4393-A48A-F45A91269643}" type="datetime1">
              <a:rPr lang="en-US"/>
              <a:t>07/29/26</a:t>
            </a:fld>
          </a:p>
        </p:txBody>
      </p:sp>
    </p:spTree>
  </p:cSld>
</p:sld>
</file>

<file path=ppt/slides/slide2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zvori istorijskih podatak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aci o korišćenoj mehanizacij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kumentacija o carinskim i drugim komercijalnim troškovi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aci o plaćanju osiguran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aci o plaćanju lokalne radne snage i mehanizac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kumentacija o radu skladiš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32A3C-ADCA-4ECE-BCA8-204E08BDAB37}" type="slidenum">
              <a:t>28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C12CD1-3FFE-4240-9836-C8EB34A99CD7}" type="datetime1">
              <a:rPr lang="en-US"/>
              <a:t>07/29/26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aza realizacije - šem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609480" y="3505320"/>
          <a:ext cx="5727960" cy="382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505320"/>
                    <a:ext cx="5727960" cy="382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1ECB7-A8B5-4682-92E9-C0217ECD559E}" type="slidenum">
              <a:t>2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288911-2E8D-42D9-824E-548B667AD98B}" type="datetime1">
              <a:rPr lang="en-US"/>
              <a:t>07/29/26</a:t>
            </a:fld>
          </a:p>
        </p:txBody>
      </p:sp>
    </p:spTree>
  </p:cSld>
</p:sld>
</file>

<file path=ppt/slides/slide2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zvori istorijskih podatak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drovska evidenci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rišćene zvanične lokalne publikac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nimljeni materijali o gradilišt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čna zapažanja pojedin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2D307-1F9D-47E4-8A40-672735D10EA1}" type="slidenum">
              <a:t>29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4AFB8B-928D-45C3-8B21-811D77134A82}" type="datetime1">
              <a:rPr lang="en-US"/>
              <a:t>07/29/26</a:t>
            </a:fld>
          </a:p>
        </p:txBody>
      </p:sp>
    </p:spTree>
  </p:cSld>
</p:sld>
</file>

<file path=ppt/slides/slide2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truktura istorijskih podatak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aci o stvarno izvedenim količinama i naplaćenim cena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aci, po jedinici mere, o utrošku radne snage, mehanizacije i materijala, finansijski efekti i vreme izvođen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aci o funkcionisanju maši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hničko-tehnološki podaci o izvedenim radovi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6F151-0906-4F4C-84E1-9FBAA11AD244}" type="slidenum">
              <a:t>29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05AA2F-6E2B-4C10-8E81-A7732129C4E0}" type="datetime1">
              <a:rPr lang="en-US"/>
              <a:t>07/29/26</a:t>
            </a:fld>
          </a:p>
        </p:txBody>
      </p:sp>
    </p:spTree>
  </p:cSld>
</p:sld>
</file>

<file path=ppt/slides/slide2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14440" y="11916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truktura istorijskih podatak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514440" y="1980720"/>
            <a:ext cx="5829120" cy="723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aci o opremi (podizvođači, cene, vremena isporuke, transport, montaža, probni pogon i garantni rok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aci o kadrovima (učešće i kvalitet rad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aci o kadrovima investitora i podizvođač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vanični podaci iz lokalnih publikaci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aci bitni za rešavanje spor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BCC85-18A4-4CCB-A1C7-4290FBB6172A}" type="slidenum">
              <a:t>29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B80A3E-5AFB-42A4-B964-E280F855B3FF}" type="datetime1">
              <a:rPr lang="en-US"/>
              <a:t>07/29/26</a:t>
            </a:fld>
          </a:p>
        </p:txBody>
      </p:sp>
    </p:spTree>
  </p:cSld>
</p:sld>
</file>

<file path=ppt/slides/slide2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100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gled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4440" y="1371600"/>
            <a:ext cx="5829120" cy="76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14440" y="2666880"/>
            <a:ext cx="5829120" cy="6400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v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ncipi formiran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ktori važni za formiranje ba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raci u formiranju ba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zvori istorijskih podat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uktura istorijskih podat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177B0-63C6-4A82-9492-41A7B60578AC}" type="slidenum">
              <a:t>29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F07C9E-5B3F-4A63-BEC7-8A827D9BB30B}" type="datetime1">
              <a:rPr lang="en-US"/>
              <a:t>07/29/26</a:t>
            </a:fld>
          </a:p>
        </p:txBody>
      </p:sp>
    </p:spTree>
  </p:cSld>
</p:sld>
</file>

<file path=ppt/slides/slide2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14440" y="3301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Upravljanje projektima u građevinarstvu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 type="subTitle"/>
          </p:nvPr>
        </p:nvSpPr>
        <p:spPr>
          <a:xfrm>
            <a:off x="1028520" y="5613120"/>
            <a:ext cx="4800600" cy="2531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ormacioni si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D70A9-6515-4253-8730-37D481B3133F}" type="slidenum">
              <a:t>29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E9FAAD-C6FB-47AD-A581-083F62D3CD67}" type="datetime1">
              <a:rPr lang="en-US"/>
              <a:t>07/29/26</a:t>
            </a:fld>
          </a:p>
        </p:txBody>
      </p:sp>
    </p:spTree>
  </p:cSld>
</p:sld>
</file>

<file path=ppt/slides/slide2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14440" y="195120"/>
            <a:ext cx="5829120" cy="1100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adržaj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14440" y="1643040"/>
            <a:ext cx="5829120" cy="750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stemi, opšti i u građevinarstv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aci i informac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ormacioni sistemi, opšti i u upravljanju projekti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snovne postavke 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hnička koncepcija 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lacione ba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stemi baza podat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ze između baza podat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iljevi baza podat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ravljanje bazama podat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1EEFF-8737-494C-B0E9-A951E34932DC}" type="slidenum">
              <a:t>29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79F0AC-D0BB-4BE3-A753-026B40851FC0}" type="datetime1">
              <a:rPr lang="en-US"/>
              <a:t>07/29/26</a:t>
            </a:fld>
          </a:p>
        </p:txBody>
      </p:sp>
    </p:spTree>
  </p:cSld>
</p:sld>
</file>

<file path=ppt/slides/slide2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istemi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stem je znatno više od prostog skupa del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lovi sistema su povezani veza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ze transformišu i razmenjuju resur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stemi imaju svoj cilj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gu se podeliti na podsistem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7910B-743D-45B3-AB03-7710041A5A64}" type="slidenum">
              <a:t>29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C9C814-A246-46A1-A524-F45E2C6864B8}" type="datetime1">
              <a:rPr lang="en-US"/>
              <a:t>07/29/26</a:t>
            </a:fld>
          </a:p>
        </p:txBody>
      </p:sp>
    </p:spTree>
  </p:cSld>
</p:sld>
</file>

<file path=ppt/slides/slide2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istemi u građevinarstvu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stemi u građevinarstvu reaguju na spoljne uticaje (otvoreni sistemi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stemima u građevinarstvu se može upravlja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ravlja se na osnovu resursa "informacija"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1303E-040F-44A6-9C12-4D23A8227087}" type="slidenum">
              <a:t>29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DD062A-04AD-4045-B082-B157CFA1D734}" type="datetime1">
              <a:rPr lang="en-US"/>
              <a:t>07/29/26</a:t>
            </a:fld>
          </a:p>
        </p:txBody>
      </p:sp>
    </p:spTree>
  </p:cSld>
</p:sld>
</file>

<file path=ppt/slides/slide2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daci i informacij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sistemi za razmenu informaci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 bi upravljanje bilo moguće, treba da odgovara siste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aci su "činjenice iz kojih možemo da izvučemo zaključke"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ormacije su "značenja koji čovek pripisuje podacima"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A0119-52A7-47CC-9AD2-72E0CA170E3C}" type="slidenum">
              <a:t>29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B3E15A-FE61-4289-91D5-70BA6AF127E9}" type="datetime1">
              <a:rPr lang="en-US"/>
              <a:t>07/29/26</a:t>
            </a:fld>
          </a:p>
        </p:txBody>
      </p:sp>
    </p:spTree>
  </p:cSld>
</p:sld>
</file>

<file path=ppt/slides/slide2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formacioni sistem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atke je potrebno prikupiti, skladištiti i obradi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k posle obrade dobijamo informaciju koja je koris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rednost informacije opada sa vremen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ormacija treba da bude tačna, dovoljna i pravovreme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EB414-720C-47F7-B8B8-379E4A16356A}" type="slidenum">
              <a:t>29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EC13D3-EF01-4153-A8BB-66BFE85E2095}" type="datetime1">
              <a:rPr lang="en-US"/>
              <a:t>07/29/26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... a šta ćemo vas mi učiti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Principi upravljanja se razlikuju od principa matematik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nema opštih rešen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bitno je rešiti probl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bitno je “snaći se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nije dovoljno znati “šta je predavano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znanje ima smisla samo ako se kreativno primenjuje u realnim situacija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C6FB1-C8FB-47A2-A574-8BE48FC0C2FD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FA495D-15CC-44B3-9112-EA7F710EF9D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aza realizacije - "rovovska" borb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avršeni su suštinski poslov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nete su suštinske odlu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ao investitora je da kontroliše na bazi predhodnih znan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ško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it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E7BC7-73CC-479E-80E2-C1AE9E7CC0A0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88B740-A722-4543-8B00-8559F9008A06}" type="datetime1">
              <a:rPr lang="en-US"/>
              <a:t>07/29/26</a:t>
            </a:fld>
          </a:p>
        </p:txBody>
      </p:sp>
    </p:spTree>
  </p:cSld>
</p:sld>
</file>

<file path=ppt/slides/slide3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formacije u upravljanju projektima 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k informacija odgovara interakcij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entri informisanja odgovaraju učesnici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lagovremenost je od suštinskog znača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čunari nisu obavezni ali pomaž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uktura treba da bude slična samom siste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6EEF1-51E9-4130-BE59-2375852F5596}" type="slidenum">
              <a:t>30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15AEF1-9665-44F1-97C3-448553CB0B42}" type="datetime1">
              <a:rPr lang="en-US"/>
              <a:t>07/29/26</a:t>
            </a:fld>
          </a:p>
        </p:txBody>
      </p:sp>
    </p:spTree>
  </p:cSld>
</p:sld>
</file>

<file path=ppt/slides/slide3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Šema IS za upravljanje projektim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8" name="" descr=""/>
          <p:cNvPicPr/>
          <p:nvPr/>
        </p:nvPicPr>
        <p:blipFill>
          <a:blip r:embed="rId1"/>
          <a:stretch/>
        </p:blipFill>
        <p:spPr>
          <a:xfrm>
            <a:off x="533520" y="4038480"/>
            <a:ext cx="5797440" cy="2845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02D7E-2C59-44F4-9135-692B4AA62A3A}" type="slidenum">
              <a:t>30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6AA228-5143-490F-9CE6-446CA489DCFA}" type="datetime1">
              <a:rPr lang="en-US"/>
              <a:t>07/29/26</a:t>
            </a:fld>
          </a:p>
        </p:txBody>
      </p:sp>
    </p:spTree>
  </p:cSld>
</p:sld>
</file>

<file path=ppt/slides/slide3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snovne postavke I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kvivaletan je modelu upravljanja projekti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ormatičari se ne razumeju u menadž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razumevanje da je potrebna investicija koje će se isplati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še procenjivanje budućih organizacionih izme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še sagledavanje potreba za informacija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še održavan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DFB76-05D3-4930-A6EE-B7D4ED2FE331}" type="slidenum">
              <a:t>30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09D117-A9E9-463B-A77F-7A4A0022223A}" type="datetime1">
              <a:rPr lang="en-US"/>
              <a:t>07/29/26</a:t>
            </a:fld>
          </a:p>
        </p:txBody>
      </p:sp>
    </p:spTree>
  </p:cSld>
</p:sld>
</file>

<file path=ppt/slides/slide3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Koraci u projektovanju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sanje organizacione struk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cena budućeg razvoja organizacione struk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ezbeđenje kadr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dlog poboljšanja u rukovođenj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lagođen konkretnom poslovnom siste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ezbeđenje budže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60047-FD87-4EE8-BDBC-23A23B8B95C6}" type="slidenum">
              <a:t>30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FD8B85-F32B-4FE5-95AC-2276A797A629}" type="datetime1">
              <a:rPr lang="en-US"/>
              <a:t>07/29/26</a:t>
            </a:fld>
          </a:p>
        </p:txBody>
      </p:sp>
    </p:spTree>
  </p:cSld>
</p:sld>
</file>

<file path=ppt/slides/slide3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hničke postavk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ze podataka su "kolekcije podataka"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a poslovnu primenu trebaju na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daci o investitorima u rokovnik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daci o zaposlenima u ličnim dosijei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daci o knjigovodstvu iz knjig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. . . . . . 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vaka od navedenih skupova su "tabele"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6F494-813B-452C-B5BD-D2FE8CF0A573}" type="slidenum">
              <a:t>30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4160E0-4F21-4304-83F6-43152F163BCB}" type="datetime1">
              <a:rPr lang="en-US"/>
              <a:t>07/29/26</a:t>
            </a:fld>
          </a:p>
        </p:txBody>
      </p:sp>
    </p:spTree>
  </p:cSld>
</p:sld>
</file>

<file path=ppt/slides/slide3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ze između tabel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bele nisu nezavis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jedini zaposleni komuniciraju sa pojedinim poslovnim partneri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jedini zaposleni doprinose prihodima i troškovima iz knjig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jedini poslovnim partneri doprinose prihodima i troškovima iz knjig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B3AF2-843A-4DBC-B88B-BDD379A443DC}" type="slidenum">
              <a:t>30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EDD982-E71B-4849-A886-C32FFB6A0041}" type="datetime1">
              <a:rPr lang="en-US"/>
              <a:t>07/29/26</a:t>
            </a:fld>
          </a:p>
        </p:txBody>
      </p:sp>
    </p:spTree>
  </p:cSld>
</p:sld>
</file>

<file path=ppt/slides/slide3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elacione baz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sno definisan matematički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mogućavaju smeštaj podataka na jednom mest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šu veze imeđu tabe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ezbeđuje efikasnu pripremu izvešta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mogućuje raspodelu prava i odgovornos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0DB4F-9002-4EA6-9EFF-1CBD16410929}" type="slidenum">
              <a:t>30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08759C-38B1-4714-91A3-664C0F6CCC2E}" type="datetime1">
              <a:rPr lang="en-US"/>
              <a:t>07/29/26</a:t>
            </a:fld>
          </a:p>
        </p:txBody>
      </p:sp>
    </p:spTree>
  </p:cSld>
</p:sld>
</file>

<file path=ppt/slides/slide3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lementi relacione baz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be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ze imeđu tabe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iti (quer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mulari (Form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zveštaji (Repor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grami za upravljan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risnički interfejs (interfac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A6342-8C4D-4BB0-9D5E-2D9793715C10}" type="slidenum">
              <a:t>30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23B4F6-6146-4FB7-B711-E2DE76007821}" type="datetime1">
              <a:rPr lang="en-US"/>
              <a:t>07/29/26</a:t>
            </a:fld>
          </a:p>
        </p:txBody>
      </p:sp>
    </p:spTree>
  </p:cSld>
</p:sld>
</file>

<file path=ppt/slides/slide3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istribuiranost podatak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ponente mogu da budu smeštene na različitim računari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ko postoje kvalitetne telekomunikacione veze i programi, distribuiranost može biti prozirna (transparentn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že postojati redundansa (višestruko ponavljanje podatak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toji univerzalni jezik (SQ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6C333-499A-4F66-B3B4-49C8ABE66109}" type="slidenum">
              <a:t>30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A3D308-D09B-4C9D-A776-2D228DC23676}" type="datetime1">
              <a:rPr lang="en-US"/>
              <a:t>07/29/26</a:t>
            </a:fld>
          </a:p>
        </p:txBody>
      </p:sp>
    </p:spTree>
  </p:cSld>
</p:sld>
</file>

<file path=ppt/slides/slide3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istemi baza podatak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AC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toji na svim sistemima od velikih do mali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ebno pogodan za velike sist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sprostranj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ije neudob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k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QL 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stoji za Windows NT okru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žen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lično udob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lativno jeft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ograničen PC i Windows arhitektur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4E09A-5297-437D-BB60-EE4B109C37D3}" type="slidenum">
              <a:t>30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4C1AE5-E266-4F90-92E8-B1F466C9D490}" type="datetime1">
              <a:rPr lang="en-US"/>
              <a:t>07/29/26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aza eksploatacij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činje završetkom garantnog ro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vesticiono dobro se u potpunosti prepušta investitor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lovna politi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om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v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hnika i tehnolog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 spada u upravljanje projektima u užem smisl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01484-2658-468A-9CC2-F98556424571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ECDA02-2193-4EF5-813E-D1174289D931}" type="datetime1">
              <a:rPr lang="en-US"/>
              <a:t>07/29/26</a:t>
            </a:fld>
          </a:p>
        </p:txBody>
      </p:sp>
    </p:spTree>
  </p:cSld>
</p:sld>
</file>

<file path=ppt/slides/slide3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istemi baza podatak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C-windows okružen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dob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oma rasprostranj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graničen platformom i OS-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bro povezan sa ostali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eft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g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C-DOS okružen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doban, ali donekle ogranič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rednje ce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5AA30-C2CB-4668-ACB7-B34BEC49C3E5}" type="slidenum">
              <a:t>3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AF2272-86E7-4F42-9214-FC23F7B585FF}" type="datetime1">
              <a:rPr lang="en-US"/>
              <a:t>07/29/26</a:t>
            </a:fld>
          </a:p>
        </p:txBody>
      </p:sp>
    </p:spTree>
  </p:cSld>
</p:sld>
</file>

<file path=ppt/slides/slide3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Komuniciranje između baza podatak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gičke komunikac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rišćenjem univerzalnog jezika (SQ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rišćenjem tabela u standardnom formatu (dBAS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zičke komunikac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ndardne telefonske lini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rečne telefonske lini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čunarski komunikacioni kanal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ktne ve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73D2A-37DD-4AA3-8E89-B186AFCA4521}" type="slidenum">
              <a:t>3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E0C120-2918-424B-8A00-3D4C7014E0BC}" type="datetime1">
              <a:rPr lang="en-US"/>
              <a:t>07/29/26</a:t>
            </a:fld>
          </a:p>
        </p:txBody>
      </p:sp>
    </p:spTree>
  </p:cSld>
</p:sld>
</file>

<file path=ppt/slides/slide3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Klijent-sever koncep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toji "poslužilac (server)" koji je dovoljno "fizički jak" da opsluži više "mušterija (klijent)"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lijent postavi zahtev, server obradi podatke i vrati ih obrađe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jviše se koristi baš za baze podat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50213-3974-4331-93BE-0573104B987C}" type="slidenum">
              <a:t>3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0DADCD-FD3A-47A9-85CE-63E6B367F360}" type="datetime1">
              <a:rPr lang="en-US"/>
              <a:t>07/29/26</a:t>
            </a:fld>
          </a:p>
        </p:txBody>
      </p:sp>
    </p:spTree>
  </p:cSld>
</p:sld>
</file>

<file path=ppt/slides/slide3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iljevi baza podatak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ljiv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stupnost (raspoloživos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zvojnost (evolutivnos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grit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9E0CC-233C-44C6-BB79-E3EF39C68F9C}" type="slidenum">
              <a:t>3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8FB5C6-5E9E-4310-9868-B40B8D5B670D}" type="datetime1">
              <a:rPr lang="en-US"/>
              <a:t>07/29/26</a:t>
            </a:fld>
          </a:p>
        </p:txBody>
      </p:sp>
    </p:spTree>
  </p:cSld>
</p:sld>
</file>

<file path=ppt/slides/slide3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ljivost baza podatak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še korisnika (pojedinaca ili programa) deli podatk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aci se unose samo jedn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riste se mnogo pu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gućnost ograničavanja prava pristup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B6E00-FD9C-4C3B-9C61-05220079FECC}" type="slidenum">
              <a:t>3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FA3456-64B8-4A34-85FC-F582D398A6E9}" type="datetime1">
              <a:rPr lang="en-US"/>
              <a:t>07/29/26</a:t>
            </a:fld>
          </a:p>
        </p:txBody>
      </p:sp>
    </p:spTree>
  </p:cSld>
</p:sld>
</file>

<file path=ppt/slides/slide3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ostupnost (raspoloživost)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514440" y="2557080"/>
            <a:ext cx="5829120" cy="673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fikasan prist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 željenom trenutk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 željenom mes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 željenom oblik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kladištenje podat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zni jezic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zne metode obr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zlike između korisnika sist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čunarski orjentisani (komandni ra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računarski orjentisani (interaktivni ra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2B987-71EC-462C-B16A-D8881E65A5E2}" type="slidenum">
              <a:t>3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597942-D43D-4563-8708-AF29D2D20434}" type="datetime1">
              <a:rPr lang="en-US"/>
              <a:t>07/29/26</a:t>
            </a:fld>
          </a:p>
        </p:txBody>
      </p:sp>
    </p:spTree>
  </p:cSld>
</p:sld>
</file>

<file path=ppt/slides/slide3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ostupnost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nizak stepen)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daljen (logički ili fizički) računarski si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ff-line režim ra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iodična obra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kvencijalni pristup baz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risti se neki od jezika nižeg nivo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0FE7D-2F3F-4A38-9A2F-C4518703FDF5}" type="slidenum">
              <a:t>3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7E7531-C76B-4D26-985F-251E17A1FC52}" type="datetime1">
              <a:rPr lang="en-US"/>
              <a:t>07/29/26</a:t>
            </a:fld>
          </a:p>
        </p:txBody>
      </p:sp>
    </p:spTree>
  </p:cSld>
</p:sld>
</file>

<file path=ppt/slides/slide3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ostupnost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visok stepen)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lizak (logički ili fizički) računarski si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moć tehničkog osobl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-line režim ra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enutna obra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rektni pristup baz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risti se neki od jezika višeg nivo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2FED0-C774-466B-97E0-1819C93E7FD3}" type="slidenum">
              <a:t>3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D2B34B-F4CD-4F4C-A08A-1093C9472472}" type="datetime1">
              <a:rPr lang="en-US"/>
              <a:t>07/29/26</a:t>
            </a:fld>
          </a:p>
        </p:txBody>
      </p:sp>
    </p:spTree>
  </p:cSld>
</p:sld>
</file>

<file path=ppt/slides/slide3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azvojnost (evolutivnost)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osobnost menjanja i prilagođavan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ma veze za proširenj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većanje performansi sist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zmena formata podat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davanje novih izvešta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5DE0A-90BC-4B59-87F8-F7FEBB0EB42A}" type="slidenum">
              <a:t>3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946539-676A-4416-B6F1-5B74BE8876DB}" type="datetime1">
              <a:rPr lang="en-US"/>
              <a:t>07/29/26</a:t>
            </a:fld>
          </a:p>
        </p:txBody>
      </p:sp>
    </p:spTree>
  </p:cSld>
</p:sld>
</file>

<file path=ppt/slides/slide3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tegritet baza podatak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judske grešk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grešno uneti podac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šestruko unošen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zdanost sist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kazi sist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dundansa podatak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dundansa opr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 pravilu organizacioni probl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71BE2-F0FC-431D-9D5A-D12402656BD4}" type="slidenum">
              <a:t>3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8ECA2E-F2CC-4A44-8570-E3B031746969}" type="datetime1">
              <a:rPr lang="en-US"/>
              <a:t>07/29/26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vestitor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eduje novac koji želi da investi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 mora da bude raciona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jvažniji učesnik u projekt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jvažniji predmet izučavanja u razvijenim zemlja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jvažniji za izvođač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66303-E373-4630-92F3-5DD35572346F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E3FD43-45C1-48BC-AE25-D9C0B727A873}" type="datetime1">
              <a:rPr lang="en-US"/>
              <a:t>07/29/26</a:t>
            </a:fld>
          </a:p>
        </p:txBody>
      </p:sp>
    </p:spTree>
  </p:cSld>
</p:sld>
</file>

<file path=ppt/slides/slide3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pravljanje bazama podatak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ahtevi z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reiranje ba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širenje ba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isanje novog izvešta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o sist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ati za upravljan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ministra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učni korisnici (česta slabos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željno je da i administrator i korisni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61B3A-DDED-46C0-B752-C2181227FEBD}" type="slidenum">
              <a:t>3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AAAC6A-D102-452C-9331-E65FCA63E95B}" type="datetime1">
              <a:rPr lang="en-US"/>
              <a:t>07/29/26</a:t>
            </a:fld>
          </a:p>
        </p:txBody>
      </p:sp>
    </p:spTree>
  </p:cSld>
</p:sld>
</file>

<file path=ppt/slides/slide3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14440" y="195120"/>
            <a:ext cx="5829120" cy="1100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gled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514440" y="1643040"/>
            <a:ext cx="5829120" cy="750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stemi, opšti i u građevinarstv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aci i informac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ormacioni sistemi, opšti i u upravljanju projekti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snovne postavke 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hnička koncepcija 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lacione ba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stemi baza podat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ze između baza podat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iljevi baza podat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ravljanje bazama podat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BBF6F-AE57-48C8-B4CB-19A98383C60E}" type="slidenum">
              <a:t>3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CCC41E-568B-4F6F-9060-75C00C27AC17}" type="datetime1">
              <a:rPr lang="en-US"/>
              <a:t>07/29/26</a:t>
            </a:fld>
          </a:p>
        </p:txBody>
      </p:sp>
    </p:spTree>
  </p:cSld>
</p:sld>
</file>

<file path=ppt/slides/slide3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514440" y="3301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Upravljanje projektima u građevinarstvu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subTitle"/>
          </p:nvPr>
        </p:nvSpPr>
        <p:spPr>
          <a:xfrm>
            <a:off x="1028520" y="5613120"/>
            <a:ext cx="4800600" cy="2531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Pretraživanje Interne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822A2-3934-468E-8AB9-976795D81EE9}" type="slidenum">
              <a:t>3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F955C3-FAA8-4B3B-9E23-9D502ACDD71B}" type="datetime1">
              <a:rPr lang="en-US"/>
              <a:t>07/29/26</a:t>
            </a:fld>
          </a:p>
        </p:txBody>
      </p:sp>
    </p:spTree>
  </p:cSld>
</p:sld>
</file>

<file path=ppt/slides/slide3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Informacij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514080" y="2286000"/>
            <a:ext cx="525780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Svet u kome živimo je baziran na informacija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Više od 95% istraživača koji su ikada živeli još su živ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Vrlo je verovatno da neko, negde ima informacije koje nas zanimaj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Vrlo često, najbolje i najefikasnije je da prikupimo i organizujemo postojeće informacije na drugi nač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62150-62D0-48B4-9759-9DAC8B4F79CA}" type="slidenum">
              <a:t>3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D6BC67-EF32-457C-AA71-76212D0B51E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Razmena podatak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514080" y="2286000"/>
            <a:ext cx="525780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Do sada, stručnjaci su provodili najveći deo svog vremena u potrazi za postojećim informacija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Najbolja pomoć svakom stručnjaku je mišljenje nekog kolege, koji se negde u svetu bavim sličnim posl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Razmena podataka i komunikacija između stručnjaka je osnova stručnog i naučnog napret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CE47D-7C5B-493E-BD20-8FB8C99BF5A9}" type="slidenum">
              <a:t>3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57B674-EE3F-40F1-8508-3384A72C582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Pre Internet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514080" y="2286000"/>
            <a:ext cx="525780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Obično su biblioteke bile najvažnije institucije za prikupljanje znanja koje su stručnjaci koristil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Biblioteke su bile među prvim institucijama koje su počele da primenjuju informacione tehnolog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Jedan od najvažnijih prodora je bilo pretraživanje bibliotečkih kataloga na daljinu, obično uz pomoć mod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BDAAF-6C75-4BF0-912F-7C62DFCBC30E}" type="slidenum">
              <a:t>3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CFED77-1472-4AA7-B0ED-24B25F6B394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Počeci Internet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514080" y="2286000"/>
            <a:ext cx="525780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Internet je nastao kao istraživački projekat koje je finansiralo USA ministarstvo odbra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Glavni cilj je bio da se obezbedi da različiti računari rade zajed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Taj cilj je postignut tako što je obezbeđen način za komunikaciju između računa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5C8D9-9C8E-464B-A6A9-C25E40D82A5B}" type="slidenum">
              <a:t>3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AEB35F-0F86-4526-B149-3CD1A56F816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Širenje Interent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14080" y="2286000"/>
            <a:ext cx="525780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Istraživači koji su radili na računarim koji su međusobno komunicirali otkrili su da je to veoma koris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Po prvi put, računari su postali sredstvo za komunikacij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U akademskim sredinama elektronska pošta (E-mail) i razmena fajlova (FTP) su počeli da se koriste kao najbolji način za komuniciran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B1874-A694-4121-B5AC-3756B9EC8802}" type="slidenum">
              <a:t>3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BFE00E-B686-4D9D-A670-77E4AA01377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 i WEB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14080" y="2286000"/>
            <a:ext cx="525780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WWW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ld Wide Web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) je kao standard definisan 1989. u CERN-u, Švajcars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crosoft 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je postavio svoju web prezentaciju 1994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crosoft 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je proglasi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ternet 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kao svoj glavni priorite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1995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Danas, komunikacija u poslovnom i akademskom okruženju je velikim delom bazirana na Internet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CAEAD-F87F-47CF-9D49-61B173B11733}" type="slidenum">
              <a:t>3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7FDCB5-AA64-42CC-A727-E894C1EE2D5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000000"/>
                </a:solidFill>
                <a:latin typeface="Times New Roman"/>
              </a:rPr>
              <a:t>Podaci na Internetu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14440" y="2285640"/>
            <a:ext cx="474336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Dobra ves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danas, Internet je 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najveća svetska kolekcija svih vrsta podatak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, koja raste svaki dan, praktično bez ograničen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Loša ves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danas, Internet je najveća svetska kolekcija svih vrsta podataka, koja 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raste svaki dan, praktično bez ograničen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B473B-CF25-4D55-B047-F9E9D9E6DC73}" type="slidenum">
              <a:t>3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8D1176-F3F1-4059-81B4-6D5BB4DBEE6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7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7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14440" y="3301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pravljanje projektima</a:t>
            </a: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 u građevinarstvu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028520" y="5613120"/>
            <a:ext cx="4800600" cy="2531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zvođačev pogled na sv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59A5C-2EEE-448E-BCE3-004CDE8D39DD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24A6F2-BEF2-400A-8058-B308C15AD4E6}" type="datetime1">
              <a:rPr lang="en-US"/>
              <a:t>07/29/26</a:t>
            </a:fld>
          </a:p>
        </p:txBody>
      </p:sp>
    </p:spTree>
  </p:cSld>
</p:sld>
</file>

<file path=ppt/slides/slide3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5" name="" descr=""/>
          <p:cNvPicPr/>
          <p:nvPr/>
        </p:nvPicPr>
        <p:blipFill>
          <a:blip r:embed="rId1"/>
          <a:stretch/>
        </p:blipFill>
        <p:spPr>
          <a:xfrm>
            <a:off x="4022640" y="6858000"/>
            <a:ext cx="2835360" cy="3048120"/>
          </a:xfrm>
          <a:prstGeom prst="rect">
            <a:avLst/>
          </a:prstGeom>
          <a:ln w="0">
            <a:noFill/>
          </a:ln>
        </p:spPr>
      </p:pic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Danas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…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514080" y="2286000"/>
            <a:ext cx="525780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Dana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ternet 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izgleda ka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Ogromna biblioteka, u koju gotovo svako donosi gotovo s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Gotovo svi podaci su tu, ali niko ne može da nađe ništa, zato što biblioteka nije uređena, odnosno nema katalog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Možemo naći neke podatke samo ako znamo gde su ih naši prijatelji ostavil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A68F1-055E-4F5A-8A84-3CD2C380D6D8}" type="slidenum">
              <a:t>3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254C01-8E87-452C-A632-896ACAA07BC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Ali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…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14080" y="2286000"/>
            <a:ext cx="525780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Neke kompanije su formirale sisteme za pretraživanje i katalogiziranje WEB-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Rezultati se takođe objavljuju na WEB-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Ovakav tip servisa, ako je dobar, može privući mnogo posetila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Reklame koje posetioci vide i njihovi lični podaci mogu da ceo posao učine profitabilni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392C9-31D6-4E1F-9D74-03A4E45818BB}" type="slidenum">
              <a:t>3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A21DD0-8DFE-4CDA-9C7B-F7FEB74CFCD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Tipovi katalog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514080" y="2286000"/>
            <a:ext cx="525780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Razgranata struktur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prema predmetu interesovanja, lokaciji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Baza podataka sa pretraživanjem ključnih reči i celog teks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Specijalizovani katalozi koji sadrže važne adrese (URL) u nekoj oblasti (građevinske mašine, univerziteti, ..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B8E78-DEF7-458A-8653-282F4DC931B7}" type="slidenum">
              <a:t>3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12D9B2-F308-4CFE-8575-03FF731303C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Katalog u obliku razgranate struktur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14080" y="2286000"/>
            <a:ext cx="525780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Dobar ako vam treba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RL 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neke organizacij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dobro poznatog proizvođač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prodavnice, akademske institucij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Manje dobar ako vam trebaju podaci o nekom posebnom pitanju ili iz nepoznatog izvo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Najstariji i trenutno najpopularniji j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Yahoo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ttp://www.yahoo.c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7070E-80A4-4C3E-B1D7-14F54B584EDE}" type="slidenum">
              <a:t>3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3F1F4A-AA47-416F-9DF4-C9C3D1C9E79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YAHOO!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5" name="" descr=""/>
          <p:cNvPicPr/>
          <p:nvPr/>
        </p:nvPicPr>
        <p:blipFill>
          <a:blip r:embed="rId1"/>
          <a:stretch/>
        </p:blipFill>
        <p:spPr>
          <a:xfrm>
            <a:off x="152280" y="2527200"/>
            <a:ext cx="6553440" cy="6051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A4B8D-6078-4368-B0E2-74464C5B185D}" type="slidenum">
              <a:t>33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C021A2-D1D8-4785-B8A0-169F9698E77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Baze podatak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14080" y="2286000"/>
            <a:ext cx="525780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Dobre ako vam trebaju informacije čiji izvor ne znate ili podaci o veoma specifičnoj tem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Manje efikasni ako vam trebaj adresa poznate kompanije ili instituc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Obično zahtevaju korišćenje složenog jezika za postavljanje upita, koji mora da se posebno uč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Najstariji i trenutno najpopularniji j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ltaVis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ttp://www.AltaVista.c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409A1-9E7C-4811-80C1-8ABDE6382FAE}" type="slidenum">
              <a:t>3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A5E752-8D74-4542-9628-4AE2B5E0301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ltaVist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9" name="" descr=""/>
          <p:cNvPicPr/>
          <p:nvPr/>
        </p:nvPicPr>
        <p:blipFill>
          <a:blip r:embed="rId1"/>
          <a:stretch/>
        </p:blipFill>
        <p:spPr>
          <a:xfrm>
            <a:off x="171360" y="1847880"/>
            <a:ext cx="6534360" cy="6451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42B75-9C48-4FEC-811B-3EA139B95B21}" type="slidenum">
              <a:t>33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2D95A1-8402-49A7-8B4A-7C6383A6957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Specijalizovani katalozi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14080" y="2286000"/>
            <a:ext cx="525780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Dobar izvor podataka o važnim URL-ovima u nekoj posebnoj oblas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Ograničeni svojom posebnom oblas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Veoma dobar specijalizovani katalog za građevinsku mehanizaciju j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istorical Construction Equipment Associ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ttp://www.bigtoy.c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57726-50D9-4435-B4E6-79C2DC127AA8}" type="slidenum">
              <a:t>33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5CDB3E-A8F9-43EF-AB62-2DC8660DDFB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istorical Construction Equipment Association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3" name="" descr=""/>
          <p:cNvPicPr/>
          <p:nvPr/>
        </p:nvPicPr>
        <p:blipFill>
          <a:blip r:embed="rId1"/>
          <a:stretch/>
        </p:blipFill>
        <p:spPr>
          <a:xfrm>
            <a:off x="82440" y="2647800"/>
            <a:ext cx="6623280" cy="4638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8E288-722A-4417-8AA9-A7A54ACB0A59}" type="slidenum">
              <a:t>33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5EE5CF-6DF5-460E-9688-7B3806D1988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Intreni pretraživači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14080" y="2286000"/>
            <a:ext cx="525780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Praktično sve lokacije imaju neku vrstu internog pretraživač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Posebno su značajni kod kataloga u obliku razgranate strukture i specijalizovanih katalog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Obično su lakši za upotrebu ali i sa manje mogućnosti od pretraživača baza podat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F0A8D-EB6F-4165-8243-E1907962FCD2}" type="slidenum">
              <a:t>33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C47739-DCFD-4C2B-8BB7-507839DA018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zvođač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edini obavezni učesnik u projektu (uz investitor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a biti raciona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običajena uloga jugoslovenskih firm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lično neinteresantan u zapadnom svet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loga mu je podređena investitor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98829-855D-4BFC-9882-B07DDA21D868}" type="slidenum">
              <a:t>3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01767A-F7D7-4EE7-BCF7-9A40F4C992C6}" type="datetime1">
              <a:rPr lang="en-US"/>
              <a:t>07/29/26</a:t>
            </a:fld>
          </a:p>
        </p:txBody>
      </p:sp>
    </p:spTree>
  </p:cSld>
</p:sld>
</file>

<file path=ppt/slides/slide3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Imenici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514080" y="2286000"/>
            <a:ext cx="525780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Slično telefonskim imenicima, postoje i Internet imeni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Sadrže obično E-mail adrese korisnika, koji su ih sami uneli u baz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Postoji opasnost od dobijanja neželjene poš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Jedan od najpopularnijih j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igfo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ttp://www.bigfoot.c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D3AE5-BDDE-4667-8087-69549BA68A51}" type="slidenum">
              <a:t>34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F5922B-C424-45C4-9A22-7CED4C59957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igfoo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9" name="" descr=""/>
          <p:cNvPicPr/>
          <p:nvPr/>
        </p:nvPicPr>
        <p:blipFill>
          <a:blip r:embed="rId1"/>
          <a:stretch/>
        </p:blipFill>
        <p:spPr>
          <a:xfrm>
            <a:off x="152280" y="2057400"/>
            <a:ext cx="6553440" cy="5977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3899B-6B6D-4957-8F27-8BB252952876}" type="slidenum">
              <a:t>34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934A5B-8AA0-492B-8945-3F8E2DAD5CF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Ćaskanje na Internetu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Neke firme nude sisteme za časkanje na Internet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Ti sistemi obično omogućavaju potragu za korisnicima prema željenim kriterijumi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Ovo je vrlo korisno ako tražite ljude koji dele vaš inte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Trenutno je najpopularnij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C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ttp://www.icq.c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802E2-EA17-4DE7-8522-1D3F41CF324A}" type="slidenum">
              <a:t>34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7D5FE0-F4A3-4FCC-AD35-43595A8E9F4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CQ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3" name="" descr=""/>
          <p:cNvPicPr/>
          <p:nvPr/>
        </p:nvPicPr>
        <p:blipFill>
          <a:blip r:embed="rId1"/>
          <a:stretch/>
        </p:blipFill>
        <p:spPr>
          <a:xfrm>
            <a:off x="228600" y="2438280"/>
            <a:ext cx="6461280" cy="5280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25746-BF73-43AB-8D3C-909F9FFB7BD7}" type="slidenum">
              <a:t>34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129F36-368A-476D-91A7-306A14CECD6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Opšti saveti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514080" y="2286000"/>
            <a:ext cx="525780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Ako vam trebaju proizvođači cementa u Italiji, koristit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Yaho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Ako vam trebaju članci o merenju specifične površine cementa, koristit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AltaVist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Ako vam treba neko u Nemačkoj, koga zanima upravljanje projektima u građevinarstvu, koristit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C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135DA-BA62-4857-9EB3-55FEED43EDC6}" type="slidenum">
              <a:t>3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C7CAA3-F639-4FC7-A890-8AB1FB4E758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aze realizacije projekta sa stanovišta izvođač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14440" y="2946240"/>
            <a:ext cx="5829120" cy="6274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76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traživanje tržiš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6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I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zrada ponu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6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II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govaran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6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V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zrada projektne dokumentacije i pripr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6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zvođenje rad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6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pl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6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I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za istorijskih podat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E2CB9-91A7-4164-B42C-63FB9465687D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D41CC4-25E7-4A73-B8FB-529C49D564BE}" type="datetime1">
              <a:rPr lang="en-US"/>
              <a:t>07/29/26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za između faz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2795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ze I i VII se odvijaju kontinual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ze II-VI su vezane za konkretan projek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457200" y="5791320"/>
            <a:ext cx="6005520" cy="140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2F059-1AB1-4B01-9E9E-419DEDD019BB}" type="slidenum">
              <a:t>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06D7B6-12E6-49C8-92AA-7E978A5A37B9}" type="datetime1">
              <a:rPr lang="en-US"/>
              <a:t>07/29/2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aza istraživanja tržišta (I)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traživanje izvorišta resur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hničko-tehnološke informac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aci o budućim investicija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avna regulati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učna regulati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sustvo drugih firm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aci o firmama i pojedinci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A302F-C995-4A9D-A3F9-5647B9DBC63A}" type="slidenum">
              <a:t>3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EBC135-597B-49CF-9815-22437211D360}" type="datetime1">
              <a:rPr lang="en-US"/>
              <a:t>07/29/26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aze u toku realizacije projekta (II-VI)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14440" y="2502000"/>
            <a:ext cx="5829120" cy="671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snije detaljno razrađe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k informaci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ormacioni si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anali za razmenu informac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ze podatak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stemi kodiran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ganizaciona š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F47BE-41E9-4FB9-B522-DCAC2D5E6A20}" type="slidenum">
              <a:t>3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ECE64C-5F19-4D92-8B64-F3DB5627FA3C}" type="datetime1">
              <a:rPr lang="en-US"/>
              <a:t>07/29/26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ormiranje baze istorijskih podataka (VII)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14440" y="2502000"/>
            <a:ext cx="5829120" cy="671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aci iz faze 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zvorišta resur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hničko-tehnološke informaci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avna regulati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učna regulati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sustvo drugih firm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daci o firmama i pojedinci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74490-1948-447D-A575-2101B30FF97B}" type="slidenum">
              <a:t>3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9F86E6-E171-46CC-9829-DA122724F163}" type="datetime1">
              <a:rPr lang="en-US"/>
              <a:t>07/29/26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Za</a:t>
            </a: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što studirate Građevinski fakultet?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2514600"/>
            <a:ext cx="6400800" cy="6419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CA84B-03A1-495D-A396-BF4FC268D831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BFCFAD-8B99-44AA-8CC9-455AA2E4EBA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ormiranje baze istorijskih podataka (VII)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14440" y="2502000"/>
            <a:ext cx="5829120" cy="671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aci iz faza II-V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zvedene i naplaćene količ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trošak resursa i trajan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ansijski efek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istički podaci o mehanizacij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menjena tehničko-tehnološka rešen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rema i podizvođač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adrov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5A7C1-617B-4901-8720-8BDA472F27F2}" type="slidenum">
              <a:t>4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DD651C-435D-430C-BBA5-87039F8BE764}" type="datetime1">
              <a:rPr lang="en-US"/>
              <a:t>07/29/26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rganizacione struktur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menljive tokom projek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jektovanje organizacione struk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oljni faktor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utrašnji faktor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F412F-82DA-43A2-8F4A-E6E20F9C86F3}" type="slidenum">
              <a:t>4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32FD25-63FF-4EC3-8A87-6DA5673113EB}" type="datetime1">
              <a:rPr lang="en-US"/>
              <a:t>07/29/26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poljni faktori projektovanj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rakteristike projek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žiš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ivo razvo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ultura i tradici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govorne odredb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avni poreda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25EB5-2B7A-43F8-9881-762E0CBFBE3C}" type="slidenum">
              <a:t>4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C44E22-3F6F-4614-AF13-B8F437387AB3}" type="datetime1">
              <a:rPr lang="en-US"/>
              <a:t>07/29/26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nutrašnji faktori projektovanj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ategija i ciljevi fir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hničko-tehnološki nivo fir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drov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ličina fir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nuda fir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7A17F-AFD3-4F46-B5B7-BE51A488A7FF}" type="slidenum">
              <a:t>4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51C50A-2533-4974-96AB-673E00B515BB}" type="datetime1">
              <a:rPr lang="en-US"/>
              <a:t>07/29/26</a:t>
            </a:fld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rganizacione struktur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dicionalne (klasičn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nijsk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nkcional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nijsko-štab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vreme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nkcionalno-timsk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jekt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rič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4B8A7-8C06-4549-9629-0069F9D2A3D0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B8EA96-1554-491E-A563-7D52A87EE5BE}" type="datetime1">
              <a:rPr lang="en-US"/>
              <a:t>07/29/26</a:t>
            </a:fld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inijska struktur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806400" y="3146400"/>
          <a:ext cx="5205600" cy="516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06400" y="3146400"/>
                    <a:ext cx="5205600" cy="516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C1097-27C6-4F60-8CA1-D5CE06287F14}" type="slidenum">
              <a:t>4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A4A47E-E131-4988-AC7D-0A3D4EE0B684}" type="datetime1">
              <a:rPr lang="en-US"/>
              <a:t>07/29/26</a:t>
            </a:fld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unkcionalna struktur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720720" y="4602240"/>
          <a:ext cx="5388120" cy="226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0720" y="4602240"/>
                    <a:ext cx="5388120" cy="226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41928-99F7-4CF4-B3CC-07DCF08F5F01}" type="slidenum">
              <a:t>4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212BDD-ADB5-475D-8F3D-E35E1175C55E}" type="datetime1">
              <a:rPr lang="en-US"/>
              <a:t>07/29/26</a:t>
            </a:fld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inijsko-štabna struktur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1195560" y="2631960"/>
          <a:ext cx="4417920" cy="6186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95560" y="2631960"/>
                    <a:ext cx="4417920" cy="618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A883D-7104-46F0-BFDF-B240A7579B9E}" type="slidenum">
              <a:t>4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1921B3-4DE9-4615-B6BE-CD9C358FA166}" type="datetime1">
              <a:rPr lang="en-US"/>
              <a:t>07/29/26</a:t>
            </a:fld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unkcionalno-timska struktur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949320" y="4653000"/>
          <a:ext cx="4930920" cy="2166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49320" y="4653000"/>
                    <a:ext cx="4930920" cy="21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49FCA-3232-4A6C-B1FE-B49A28429A1A}" type="slidenum">
              <a:t>4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1A0137-4EE0-4F5C-A7E9-9D33CF49D9DC}" type="datetime1">
              <a:rPr lang="en-US"/>
              <a:t>07/29/26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jektna struktur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920880" y="4633920"/>
          <a:ext cx="4986360" cy="2206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0880" y="4633920"/>
                    <a:ext cx="4986360" cy="22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A79DF-9EFC-47C6-95AD-D842ED8E8C1B}" type="slidenum">
              <a:t>4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997812-0252-4940-BB45-0F40964BAB44}" type="datetime1">
              <a:rPr lang="en-US"/>
              <a:t>07/29/26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Zbog nauke?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974880" y="3079800"/>
            <a:ext cx="5121000" cy="4965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62DB3-10E9-42AB-88CF-98ECCECA31B0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966D5F-681F-477E-9A2C-65533E20BA6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atrična organizaciona struktur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615960" y="4322880"/>
          <a:ext cx="5595840" cy="2820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5960" y="4322880"/>
                    <a:ext cx="5595840" cy="282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3FFB6-A8C1-40F7-B70A-95D6E401F3CB}" type="slidenum">
              <a:t>5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8E7BE9-2E84-4E67-9EC7-6448DB62EAA3}" type="datetime1">
              <a:rPr lang="en-US"/>
              <a:t>07/29/26</a:t>
            </a:fld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ealna organizaciona struktura firm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457200" y="4343400"/>
          <a:ext cx="6032520" cy="3057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343400"/>
                    <a:ext cx="6032520" cy="305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8D585-192C-49CE-B4C4-FDF0CFEA7D7F}" type="slidenum">
              <a:t>5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C0BC91-4B6B-44E6-B1AB-6849826ED8F0}" type="datetime1">
              <a:rPr lang="en-US"/>
              <a:t>07/29/26</a:t>
            </a:fld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90040" y="500040"/>
            <a:ext cx="582948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ealna organizaciona struktura projekt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1101600" y="3071880"/>
          <a:ext cx="4788000" cy="5726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01600" y="3071880"/>
                    <a:ext cx="4788000" cy="572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40683-EA32-4E3C-A62F-C61A158450A5}" type="slidenum">
              <a:t>5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0A4995-98D0-44EA-AEA2-C2DB6CF3C7B9}" type="datetime1">
              <a:rPr lang="en-US"/>
              <a:t>07/29/26</a:t>
            </a:fld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14440" y="3301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pravljanje projektima u gra</a:t>
            </a: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đevinarstvu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1028520" y="5613120"/>
            <a:ext cx="4800600" cy="2531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traživanje tržiš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16ACA-84D4-4AD0-B57F-D3D72CCD96BD}" type="slidenum">
              <a:t>5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719278-65A8-4BF0-A243-973702263C51}" type="datetime1">
              <a:rPr lang="en-US"/>
              <a:t>07/29/26</a:t>
            </a:fld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aza istraživanja tržišt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traživanje izvorišta resur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hničko-tehnološke informac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aci o budućim investicija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avna regulati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učna regulati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sustvo drugih firm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aci o firmama i pojedinci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5F29C-69A8-4E76-9585-819DE389CB03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B0C1CB-8570-40B2-B783-8D1297418B70}" type="datetime1">
              <a:rPr lang="en-US"/>
              <a:t>07/29/26</a:t>
            </a:fld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pravljanje podacim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standard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laba prenosiv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zni izvori podat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zni formati podat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formalni kanal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laba struktuira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ecijalno pisan soft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5C776-06E7-47C4-BF4A-B7FF4128FFEE}" type="slidenum">
              <a:t>5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D983FF-A8C3-4B03-997F-E9EF96FEFD5B}" type="datetime1">
              <a:rPr lang="en-US"/>
              <a:t>07/29/26</a:t>
            </a:fld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14440" y="6519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straživanje izvorišta resursa (I)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konomska propaganda (reklame, cirkularna pism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jmov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česnici u konkursima koji raspisuju druge fir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česnici u konkursima koji raspisuju naša fir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česnici u projekti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gled asortimana po sličnos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vne baze podat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F69C3-BD4A-49DB-8301-35175BC6E954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38C6DE-D319-47B5-8F79-2BB4C48CEE69}" type="datetime1">
              <a:rPr lang="en-US"/>
              <a:t>07/29/26</a:t>
            </a:fld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14440" y="34776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straživanje izvorišta resursa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II)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14440" y="2328840"/>
            <a:ext cx="5829120" cy="712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zultati geoloških istraživan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aci sa projekata u kojima ne učestvuje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aci se projekata u kojima učestvuje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kustva sa tere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vju sa firmama sa kojima sarađuje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vju sa srodnim firma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nsultantske kuć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čni kontak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64ED0-5007-4FE4-B9E3-B6B738504CE2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8DB53B-2932-401E-8193-9F7EBFC8BEB9}" type="datetime1">
              <a:rPr lang="en-US"/>
              <a:t>07/29/26</a:t>
            </a:fld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52280" y="651960"/>
            <a:ext cx="6553440" cy="16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hničko-tehnološke informacije (I)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14440" y="2328840"/>
            <a:ext cx="5829120" cy="696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konomska propaganda (reklame, cirkularna pism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jmov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jekti u konkursima koji raspisuju druge fir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jekti u konkursima koji raspisuju naša fir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učna periodična literatu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učna neperiodična literatu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vne baze podat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60C30-D688-49BC-BFFB-7CB14471BCFA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ADF4A4-7F2D-4ECF-BBD1-5EFC1A1B61DE}" type="datetime1">
              <a:rPr lang="en-US"/>
              <a:t>07/29/26</a:t>
            </a:fld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28240" y="271440"/>
            <a:ext cx="655308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hničko-tehnološke informacije (II)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14440" y="2252520"/>
            <a:ext cx="5829120" cy="7043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aci sa projekata u kojima ne učestvuje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aci se projekata u kojima učestvuje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kustva sa tere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vju sa firmama sa kojima sarađuje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vju sa srodnim firma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zultati naših istraživan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nsultantske kuć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čni kontak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1DB22-1911-4C27-A7F0-0E9B344774D2}" type="slidenum">
              <a:t>5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BBF2CB-D19B-4D88-BC91-C776AEE49E43}" type="datetime1">
              <a:rPr lang="en-US"/>
              <a:t>07/29/26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Zato </a:t>
            </a: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što želite da gradite?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6095880" cy="3286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3A129-24D8-4CB4-A83C-02DC8EFB00B6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C20166-A1A0-480C-87C7-8C6379E8D9F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daci o budućim investicijama (I)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nkursi za izradu predinvesticionih studija i projektne dokumentacij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aci o konkursima za konsultantske usl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aci o poslovima u kućama koje se bave predinvesticionim studija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ateški planovi razvoja velikih investito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A3768-1614-4F42-BD63-99F288C0FA84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8193AE-D2DF-4B25-916D-470F21DF348D}" type="datetime1">
              <a:rPr lang="en-US"/>
              <a:t>07/29/26</a:t>
            </a:fld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daci o budućim investicijama (II)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Časopisi posvećeni inve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cijama i/ili razvoj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liminarne informacije investitor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vne baze podat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nsultantske kuć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čni kontak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BAEFE-6C36-42FB-AC85-98123EF9B81F}" type="slidenum">
              <a:t>6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5E877E-BE2F-4311-89DA-57C289C0E596}" type="datetime1">
              <a:rPr lang="en-US"/>
              <a:t>07/29/26</a:t>
            </a:fld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14440" y="728640"/>
            <a:ext cx="5829120" cy="1176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avna regulativa (I)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14440" y="2252160"/>
            <a:ext cx="5829120" cy="681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vanična zakonska dokumentacija (službeni listovi itsl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govori o realizaciji projekata na kojima ne učestvuje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govori o realizaciji projekata na kojima učestvuje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kustvo pojedinaca koji su radili na predmentnom tržišt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207E7-AE66-4763-BAB9-0F3594F2727E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CAE3AC-FD98-40EA-917B-39FF936433F6}" type="datetime1">
              <a:rPr lang="en-US"/>
              <a:t>07/29/26</a:t>
            </a:fld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14440" y="804600"/>
            <a:ext cx="5829120" cy="117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avna regulativa (II)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269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rinski propisi i služb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vne baze podat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nsultantske kuć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čni kontak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1F981-F879-4F8B-842D-9D79083879ED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FA0CE9-C7F1-4696-AA72-772741CDC4A5}" type="datetime1">
              <a:rPr lang="en-US"/>
              <a:t>07/29/26</a:t>
            </a:fld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tručna regulativa (I)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vanična zakonska dokumentacija (službeni listovi itsl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govori o realizaciji projekata na kojima ne učestvuje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govori o realizaciji projekata na kojima učestvuje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kustvo pojedinaca koji su radili na predmentnom tržišt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480F5-F0A1-47B5-8029-128F5DC6477B}" type="slidenum">
              <a:t>6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55F95C-0507-4A3F-B2AA-276223598812}" type="datetime1">
              <a:rPr lang="en-US"/>
              <a:t>07/29/26</a:t>
            </a:fld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tručna regulativa (II)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vne baze podat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nsultantske kuć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čni kontak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8AEE0-8603-45DA-8D4B-17C84F179ED5}" type="slidenum">
              <a:t>6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D8B90C-CFFE-4021-9B90-AA6C1500A13B}" type="datetime1">
              <a:rPr lang="en-US"/>
              <a:t>07/29/26</a:t>
            </a:fld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14440" y="6519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isustvo drugih firmi (I)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nude i rezultati na konkursima o izvođenju investicionih radova u dužem vremenskom period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nude i rezultati na konkursima o izvođenju investicionih radova u poslednjih godinu da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konomska propaganda (reklame, cirkularna pism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9F89A-5967-4228-8926-33F593E87CD4}" type="slidenum">
              <a:t>6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3EFA46-AA88-4E83-A1F0-C008F999B9A0}" type="datetime1">
              <a:rPr lang="en-US"/>
              <a:t>07/29/26</a:t>
            </a:fld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14440" y="6519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isustvo drugih firmi (II)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14440" y="2252520"/>
            <a:ext cx="5829120" cy="7043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ateški planovi velikih izvođača i/ili proizvođač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Časopisi posvećeni investicijama i/ili razvoj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aci sa projekata u kojima ne učestvuje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aci se projekata u kojima učestvuje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vne baze podataka (predstavništv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nsultantske kuć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čni kontak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3F3D6-6597-4366-91FD-11FF0B134263}" type="slidenum">
              <a:t>6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3B17BA-1C36-4C45-888F-2A1F8DC08341}" type="datetime1">
              <a:rPr lang="en-US"/>
              <a:t>07/29/26</a:t>
            </a:fld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daci o firmama i pojedincima (I)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vni podaci o bonitetu firm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vni podaci o rukovodstvu firm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klopljeni ugovori o realizaciji projek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zultati ugovora o realizaciji projek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aci sa projekata u kojima ne učestvuje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aci se projekata u kojima učestvuje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B88C8-0270-4F7C-8743-50DDE722B973}" type="slidenum">
              <a:t>6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E52D12-4105-4F9F-9389-F4064BD95E07}" type="datetime1">
              <a:rPr lang="en-US"/>
              <a:t>07/29/26</a:t>
            </a:fld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daci o firmama i pojedincima (II)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Časopisi posvećeni inve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cijama i/ili razvoj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vne baze podat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nsultantske kuć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čni kontak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021A9-C2F2-4CDE-95B8-B016BC65C867}" type="slidenum">
              <a:t>6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98CB56-3CA7-423C-8B8C-D3BBFD503D61}" type="datetime1">
              <a:rPr lang="en-US"/>
              <a:t>07/29/2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Zato što volite posao inženjera?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762120" y="3505320"/>
            <a:ext cx="5333760" cy="4343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E5645-DB2D-4362-9FC2-464FEE1DE080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2AFCE3-EEAF-4D3A-A0AA-1BDA668DC3B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76320" y="576360"/>
            <a:ext cx="670536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formacije o istraživanju tržišt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isak mogućih izvo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avezno prilagođavanje tržišt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avezno prilagođavanje stanju fir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žnost neformalnih kontak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liki skupljački posa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tna je širi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žna mogućnost pretraživan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EFE0A-4A80-46F6-9E06-6B41AB14AD4E}" type="slidenum">
              <a:t>7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6BC84E-70C8-4C38-80A6-7D99AA9AA612}" type="datetime1">
              <a:rPr lang="en-US"/>
              <a:t>07/29/26</a:t>
            </a:fld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14440" y="3301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pravljanje projektima u gra</a:t>
            </a: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đevinarstvu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1028520" y="5613120"/>
            <a:ext cx="4800600" cy="2531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nsultan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61680-6680-4B6F-86C5-CD4BDE9F7FB3}" type="slidenum">
              <a:t>7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F33F20-D036-469C-9B71-F26D2ED32936}" type="datetime1">
              <a:rPr lang="en-US"/>
              <a:t>07/29/26</a:t>
            </a:fld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14440" y="347760"/>
            <a:ext cx="5829120" cy="1100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adržaj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14440" y="1599840"/>
            <a:ext cx="5829120" cy="7467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nsulta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D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ncipi ra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rste uslug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ravljanje projekti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lovi na upravljanju projekti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govori o upravljanju projekti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i konsultantskih usl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češće konsultanata u projekt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B37E5-261A-4D8B-A47F-B921947C855B}" type="slidenum">
              <a:t>7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E0619E-4E37-4990-AFFB-59CF236DC4A2}" type="datetime1">
              <a:rPr lang="en-US"/>
              <a:t>07/29/26</a:t>
            </a:fld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Konsultan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ije obavez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tki su projekti gde ne učestvuj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 svega ga angažuje investitor koji nije sam dovoljno osposoblj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že da ga angažuje i izvođač, pogotovo generaln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jpoznatije međunarodno udruženje - FID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378FB-FD40-4A51-AEA8-45D0A6F93623}" type="slidenum">
              <a:t>7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0A752B-AECA-4E57-84A7-2FE7DA252611}" type="datetime1">
              <a:rPr lang="en-US"/>
              <a:t>07/29/26</a:t>
            </a:fld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incipi rada po FIDIC-u  (I)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avljanje posla na visokoj profesionalnoj i etičkoj osnov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uzimanje samo zadataka kojima su dorasl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guć je veliki dijapazon usluga, od ličnih saveta do upravljanja projekt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guća je uska specijalizacija ili široki reperto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3E475-A65D-4C36-B56F-6FC0C0961C52}" type="slidenum">
              <a:t>7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2C8EF7-92F5-4DA2-B88B-8BA865E2D45F}" type="datetime1">
              <a:rPr lang="en-US"/>
              <a:t>07/29/26</a:t>
            </a:fld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incipi rada po FIDIC-u (II)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edini prihodi smeju da budu od honorara koji isplaćuje naručil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 može učestvovati u poslovima ili imati finansijski interes koji može uticati na njegovo stručno mišljen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0045F-9F43-4368-BF87-FBB821AAC951}" type="slidenum">
              <a:t>7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65D695-EC2F-48C7-B56F-F7749BE9BBAD}" type="datetime1">
              <a:rPr lang="en-US"/>
              <a:t>07/29/26</a:t>
            </a:fld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14440" y="27144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rste usluga po našim propisim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14440" y="1947600"/>
            <a:ext cx="5829120" cy="71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dhodna istraživanja o uslovima za gradnju objek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olog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omehanik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odez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teorolog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drolog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traživanje tržišta i mogućnost plasma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alize i stud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duktiv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ganizac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fekti primene naučnih meto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76461-D26B-4E0E-A33D-90C7A73DBCDD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D05E18-5C0A-44A5-8D5C-0482DEC88419}" type="datetime1">
              <a:rPr lang="en-US"/>
              <a:t>07/29/26</a:t>
            </a:fld>
          </a:p>
        </p:txBody>
      </p: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14440" y="34776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rste usluga po našim propisim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14440" y="2252160"/>
            <a:ext cx="5829120" cy="696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traživanje i praćenje razvoja tehnolog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traživanje zaštite i unapređenja životne i radne sred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traživanje izvora i vrsta energ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zrada studija rentabilnosti, ekonomskih i finansijskih pokazatel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rada podataka, investicioni programi i projektni zad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0DB2D-66F3-4ADF-806F-EE2D3E4C2938}" type="slidenum">
              <a:t>7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C193D1-6AD1-4175-B652-E28FFB4C14D6}" type="datetime1">
              <a:rPr lang="en-US"/>
              <a:t>07/29/26</a:t>
            </a:fld>
          </a:p>
        </p:txBody>
      </p: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14440" y="72864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rste usluga po našim propisim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14440" y="2633400"/>
            <a:ext cx="5829120" cy="635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dzor nad izradom dokumentac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premanje podataka i dokumentacije za ustupanje rad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dzor nad izvođenj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aćenje i usklađivanje rada učesnika u izgradnj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ntrola realizacije investicionog programa i finansijske konstrukc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76836-BDA2-4E01-A603-0722FFA3BAE7}" type="slidenum">
              <a:t>7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E1F227-4547-4933-ABA7-D3F9BBB86E60}" type="datetime1">
              <a:rPr lang="en-US"/>
              <a:t>07/29/26</a:t>
            </a:fld>
          </a:p>
        </p:txBody>
      </p:sp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rste usluga po našim propisim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učna pomoć tokom primopredaje objekta i konačnog obraču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dzor nad funkcionisanjem objekta tokom probnog pogo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299F6-0C25-4B0B-A43A-8298C05F4BDD}" type="slidenum">
              <a:t>7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628BDB-96F9-468B-BA81-B20B3EAED706}" type="datetime1">
              <a:rPr lang="en-US"/>
              <a:t>07/29/26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Zbog diplome i statusa?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838080" y="3429000"/>
            <a:ext cx="5038920" cy="4775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FB481-FE1D-481A-AAF7-04AA57BA8302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F0B321-9CA7-4320-B702-5A928F63A1F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ogućnost učešća u više ulog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viziju projektne dokumentacije ne može da vrši projektant i/ili investi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jektovanje i stručni nadzor mogu da idu zajedno, ali ponekad nije preporučljiv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lja varijanta je projektantski nadz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CAF9B-2F9A-454B-826F-5A3462F025DC}" type="slidenum">
              <a:t>8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E86E2B-F906-467A-9038-F46B41A5846B}" type="datetime1">
              <a:rPr lang="en-US"/>
              <a:t>07/29/26</a:t>
            </a:fld>
          </a:p>
        </p:txBody>
      </p:sp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14440" y="271080"/>
            <a:ext cx="5829120" cy="132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rste usluga po FIDIC-u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14440" y="1643040"/>
            <a:ext cx="5829120" cy="7424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vetodavne uloge (Counselling Servic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dinvesticione usluge (Pre-Investment Studi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luge projektovanja i nadzora nad izgradnjom objekata (Design and Supervision Services for Construction of Work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ecijalizovane projektne usluge razrade i razvoja (Specialised Design and Development Servic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ravljanje projektom (Project Managemen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3B586-64B1-4D15-BC04-5CEF21DA2E87}" type="slidenum">
              <a:t>8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75A6E3-5BCE-473A-9A53-48281635E496}" type="datetime1">
              <a:rPr lang="en-US"/>
              <a:t>07/29/26</a:t>
            </a:fld>
          </a:p>
        </p:txBody>
      </p:sp>
    </p:spTree>
  </p:cSld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14440" y="27144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avetodavne uslug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514440" y="2404800"/>
            <a:ext cx="5829120" cy="635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vanje savet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tinuira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 posebne projekte i probl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lasti savetovan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kovođen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izvodn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dz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stiranje i kontrola kvalite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stupanje pred sudovima, komisijama i drugim pravnim teli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45CF7-86D1-4530-822B-9CC3D78DC59B}" type="slidenum">
              <a:t>8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9A9D9A-7B84-4FB3-94A8-0C31BB262C24}" type="datetime1">
              <a:rPr lang="en-US"/>
              <a:t>07/29/26</a:t>
            </a:fld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dinvesticione uslug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luže za donošenje odluke o investiranj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tvrđivanje investicione politik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dređivanje glavnih karakteristika i opravdanosti projek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tvrđivanje promena u politici, radu i organizacionim rešenji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21023-DBB5-4E70-9F79-25DA68655275}" type="slidenum">
              <a:t>8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A92AF6-FA51-41AB-972B-663847DB9024}" type="datetime1">
              <a:rPr lang="en-US"/>
              <a:t>07/29/26</a:t>
            </a:fld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luge projektovanja i nadzor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dprojektna faz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tvrđivanje opravda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tvrđivanje cil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liminarna inženjerska rešen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cena i definisanje zahteva naručio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zrada i optimizacija koncepci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renja i istraživanja gradilišta i ostalih fakto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76782-85B1-45D2-B53A-410FFCDAA47D}" type="slidenum">
              <a:t>8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C92FE2-809B-4CBD-9CBD-AC121A6C2198}" type="datetime1">
              <a:rPr lang="en-US"/>
              <a:t>07/29/26</a:t>
            </a:fld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37760" y="347760"/>
            <a:ext cx="582948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luge projektovanja i nadzor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14440" y="2133720"/>
            <a:ext cx="5829120" cy="7162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taljna inženjerska rešen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alkulacija približnih količi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isanje pristupa građenj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oškovni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ebne usl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zidentni nadz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jalni pregledi i testiran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niran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trola troško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2A458-C62A-4ADB-9D47-F23763C180FD}" type="slidenum">
              <a:t>8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87C7F5-1D96-4F8C-9705-FD66A5C9D45E}" type="datetime1">
              <a:rPr lang="en-US"/>
              <a:t>07/29/26</a:t>
            </a:fld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14440" y="347760"/>
            <a:ext cx="5829120" cy="193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pecijalizovane usluge projektovanja i nadzor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ecijalni projek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cesi obrade sirovi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izvodn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mena automatskih komand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ntažne zgr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r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pitivan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erijal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zvršeni radov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valitet gotovih proizvo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ACFD6-E326-4EDE-9518-0607798BA46C}" type="slidenum">
              <a:t>8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6FD020-04E1-46EE-BF46-54838BF3D1A3}" type="datetime1">
              <a:rPr lang="en-US"/>
              <a:t>07/29/26</a:t>
            </a:fld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pravljanje projektom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bilizacije resursa i njihova koordinacija da bi se postigao investitorov cilj u okviru plana, bud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ta i kvalite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eljen nivo poslova i odgovornosti između investitora i konsultan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vestitor zadržava pravo odobravanja i revizije ključnih odlu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50024-0339-4216-B910-17CC56062FD9}" type="slidenum">
              <a:t>8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920571-B540-46C0-92C7-F414D8DF3B7F}" type="datetime1">
              <a:rPr lang="en-US"/>
              <a:t>07/29/26</a:t>
            </a:fld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61800" y="271440"/>
            <a:ext cx="6267600" cy="155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slovi na upravljanju projektim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514440" y="2099880"/>
            <a:ext cx="5829120" cy="635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ma British Property Fed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vesti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prema inicijalnih stud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traživanje mogućnosti plaćanja zemljiš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zgovor sa potencijalnim suinvestitori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moć pri rešavanju imovinsko-pravnih odno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govori sa raseljenici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govor sa budućim stanari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FD1E5-EE7C-4E86-888D-43743CA2B1F1}" type="slidenum">
              <a:t>8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54116F-BB2E-401C-8B32-456DEEB4B874}" type="datetime1">
              <a:rPr lang="en-US"/>
              <a:t>07/29/26</a:t>
            </a:fld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52280" y="194760"/>
            <a:ext cx="6553440" cy="16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slovi na upravljanju projektim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14440" y="2023560"/>
            <a:ext cx="5829120" cy="727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ent's representa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prema budžetskih troškova i izrada studije opravdanosti za investito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prema crteža kojima se definišu idejna rešen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govori o planu izvođenja rado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miranje baze podataka o sastancima i drugim aktivnosti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zmena idejnog rešenja prema željama investito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zivanje i presedavanje sastancima o realizaciji projek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18A12-913E-4850-8009-2462AD69AD38}" type="slidenum">
              <a:t>8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5950A5-31C5-4CA4-92D2-0BAFBFACDCA6}" type="datetime1">
              <a:rPr lang="en-US"/>
              <a:t>07/29/26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Da bi izgradili svoju zemlju?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28600" y="3352680"/>
            <a:ext cx="6372360" cy="4781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09756-0683-45D0-BB1A-11F3628A30B6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EF3448-C9E1-4767-A29D-89EA6E03B42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52280" y="194760"/>
            <a:ext cx="6553440" cy="16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slovi na upravljanju projektim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14440" y="2023560"/>
            <a:ext cx="5829120" cy="727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ent's representa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era dospelih zahteva projektanata i izvođača za plaćan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širenje idejnog rešenja i podnošenje investitoru na o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ferisanje investitoru o predlozima za skice i crtež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stavljanje izvoda iz dinamičkih planova rado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ganizacija istražnih rado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vizija projek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prema i kontrola ostvarivanja glavnog plana izvođenja rado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97E78-75E1-4E18-A2B5-103FD0BE6167}" type="slidenum">
              <a:t>9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1A254D-8B93-4E08-87DB-E7776EA1376C}" type="datetime1">
              <a:rPr lang="en-US"/>
              <a:t>07/29/26</a:t>
            </a:fld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52280" y="194760"/>
            <a:ext cx="6553440" cy="16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slovi na upravljanju projektim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14440" y="2023920"/>
            <a:ext cx="5829120" cy="7043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ent's representa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prema i kontrola realizacije plana troško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stavljanje projektnih zahteva i zahteva za dopunama rukovodiocu projektovan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ezbeđenje saglasnosti investitora o izmenama glavnog plana radova i troško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era visine naknade za konsulta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kutovanje inženjerskih i tehničkih rešenja iz projekta sa izvođač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dobravanje nominovanih podizvođač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B95DD-70CA-4DB0-99A0-243B197B4F0A}" type="slidenum">
              <a:t>9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DF26EB-FB96-46B6-A88C-DFA7EA66893E}" type="datetime1">
              <a:rPr lang="en-US"/>
              <a:t>07/29/26</a:t>
            </a:fld>
          </a:p>
        </p:txBody>
      </p:sp>
    </p:spTree>
  </p:cSld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52280" y="194760"/>
            <a:ext cx="6553440" cy="16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slovi na upravljanju projektim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514440" y="2023560"/>
            <a:ext cx="5829120" cy="727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ent's representa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zrada mesečnih izveštaja investitoru sa procenom finalnih troškova i roka završetka rado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ganizacija imenovanja i obezbeđenje angažovanja veštak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torizovanje dopune plana troškova i vreme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dobravanje komponenti i materijala koji se ugrađuj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dnošenje konačnog predloga projekata i revidovanog plana troško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činjavanje liste mogućih izvođač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sleđivanje tenderskih dokumen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59E68-E0A0-4DF7-AF52-A944C4E53484}" type="slidenum">
              <a:t>9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EFF1BB-F9C3-471B-A205-EB722B403D2E}" type="datetime1">
              <a:rPr lang="en-US"/>
              <a:t>07/29/26</a:t>
            </a:fld>
          </a:p>
        </p:txBody>
      </p:sp>
    </p:spTree>
  </p:cSld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52280" y="194760"/>
            <a:ext cx="6553440" cy="16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slovi na upravljanju projektim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14440" y="2023560"/>
            <a:ext cx="5829120" cy="727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ent's representa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jem obrađenih tendera i zahtevanje dodatnih objašnjen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prema predloga za izbor ponuđač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mpletiranje ugovornih dokumenata, sračunavanje potrebne garancije i obezbeđenje pristanka investitora i izvođač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ganizovanje pravovremenog naručivanja komponenti sa dugim vremenom isporuk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bavljanje sertifikata o osiguranju izvođač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premanje procene izvršenih radova i rad na pripremi konačnog obraču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3962F-E4B0-41A9-AE12-9734086A3602}" type="slidenum">
              <a:t>9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559DB5-7A1A-4D3E-BE58-EB83F31422E0}" type="datetime1">
              <a:rPr lang="en-US"/>
              <a:t>07/29/26</a:t>
            </a:fld>
          </a:p>
        </p:txBody>
      </p:sp>
    </p:spTree>
  </p:cSld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2280" y="194760"/>
            <a:ext cx="6553440" cy="16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slovi na upravljanju projektim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14440" y="2023560"/>
            <a:ext cx="5829120" cy="727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ent's representa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zdavanje naloga o izmenama i instrukcija izvođač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ezbeđenje saglasnosti investitora na izmene u obimu i vrednosti koje su van njegovih ovlašćenja i regulisanje potraživanja izvođač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vljenje klejmovima u vezi osiguran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bavljanje saglas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zdavanje saglasnosti za produžetak rado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zdavanje saglasnosti o primopredaji objek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eravanje da li su nedostaci odklonjen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19F4A-23A1-48D6-A7CA-58915B6CCB0D}" type="slidenum">
              <a:t>9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BF9382-6937-4DB6-9F8B-4A3ECDB7C9F6}" type="datetime1">
              <a:rPr lang="en-US"/>
              <a:t>07/29/26</a:t>
            </a:fld>
          </a:p>
        </p:txBody>
      </p:sp>
    </p:spTree>
  </p:cSld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52280" y="804960"/>
            <a:ext cx="655344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slovi na upravljanju projektim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37760" y="3012840"/>
            <a:ext cx="5829480" cy="5902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ent's representa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avovremeno reagovanje na rana upozorenja u toku realizacije rado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prema realizacije programa opremanja i obezbeđivanje uputstva za održavanje i skica izvedenog stan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722EE-0BEF-4616-8051-179E2279AB77}" type="slidenum">
              <a:t>9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0939FB-66A3-4C5D-A39A-8A0E5BC714CD}" type="datetime1">
              <a:rPr lang="en-US"/>
              <a:t>07/29/26</a:t>
            </a:fld>
          </a:p>
        </p:txBody>
      </p:sp>
    </p:spTree>
  </p:cSld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slovi na upravljanju projektim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514440" y="2571840"/>
            <a:ext cx="5829120" cy="6648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vetovanje klijen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zbor rukovodećeg projektan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gažovanje drugih konsultan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kovi za predhodne izb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eravanje i odobravanje troškova i programa rada konsultan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dovi koji se direktno ugovaraju sa investitor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enovanje nadzo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322C4-9C49-40E2-9E5E-DF8F0AFDC859}" type="slidenum">
              <a:t>9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F5DCEA-1A42-46A8-81C1-885FC11B6FCA}" type="datetime1">
              <a:rPr lang="en-US"/>
              <a:t>07/29/26</a:t>
            </a:fld>
          </a:p>
        </p:txBody>
      </p:sp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slovi na upravljanju projektim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514440" y="2571840"/>
            <a:ext cx="5829120" cy="6648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dlučivanje i instrukc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rukcije konsultanti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dela posla u projektovanj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p informacije koji dostavljaju konsultanti i projektan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rukcije konsultantima o proceduri izveštavan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zbor veštak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7CE51-7CB7-4DF3-8C32-9FDC762F221B}" type="slidenum">
              <a:t>9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C4C7FE-0D9F-43AA-9FC6-18F65DC23321}" type="datetime1">
              <a:rPr lang="en-US"/>
              <a:t>07/29/26</a:t>
            </a:fld>
          </a:p>
        </p:txBody>
      </p:sp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slovi na upravljanju projektim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514440" y="2571840"/>
            <a:ext cx="5829120" cy="6648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ntro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strovanje učinaka projektanata, konsultanata, nadzora i izvođač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vezivanje i koordinaci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vezivanje sa pravnici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ordinacija zahteva budućih stana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BB42C-41DC-4698-80E8-0331323745CA}" type="slidenum">
              <a:t>9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411E9F-5EFF-4679-9294-0C02FD289A99}" type="datetime1">
              <a:rPr lang="en-US"/>
              <a:t>07/29/26</a:t>
            </a:fld>
          </a:p>
        </p:txBody>
      </p:sp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14440" y="380880"/>
            <a:ext cx="5829120" cy="215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govori o upravljanju projektom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ma British Property Fed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isu detaljni, nego se pozivaju na predhodno navedenu lis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stoje se od dva de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morandum of Agre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dition of Engag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C3987-9B48-4CF3-A2CB-789596063036}" type="slidenum">
              <a:t>9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F6E581-F404-48C2-946C-F4B2DF33596E}" type="datetime1">
              <a:rPr lang="en-US"/>
              <a:t>07/29/26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9T10:38:17Z</dcterms:created>
  <dc:creator>Zoran B. Djordjevic</dc:creator>
  <dc:description/>
  <dc:language>en-US</dc:language>
  <cp:lastModifiedBy>Matej</cp:lastModifiedBy>
  <dcterms:modified xsi:type="dcterms:W3CDTF">2008-01-12T12:04:32Z</dcterms:modified>
  <cp:revision>21</cp:revision>
  <dc:subject/>
  <dc:title>U čemu je razlika?</dc:title>
</cp:coreProperties>
</file>