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265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20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28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4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266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293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26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26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262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63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320.xml.rels" ContentType="application/vnd.openxmlformats-package.relationships+xml"/>
  <Override PartName="/ppt/notesSlides/_rels/notesSlide268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0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321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07.xml.rels" ContentType="application/vnd.openxmlformats-package.relationships+xml"/>
  <Override PartName="/ppt/notesSlides/_rels/notesSlide299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271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32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7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291.xml.rels" ContentType="application/vnd.openxmlformats-package.relationships+xml"/>
  <Override PartName="/ppt/notesSlides/_rels/notesSlide31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278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28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269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267.xml.rels" ContentType="application/vnd.openxmlformats-package.relationships+xml"/>
  <Override PartName="/ppt/notesSlides/_rels/notesSlide280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30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264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295.xml.rels" ContentType="application/vnd.openxmlformats-package.relationships+xml"/>
  <Override PartName="/ppt/notesSlides/_rels/notesSlide30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83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298.xml.rels" ContentType="application/vnd.openxmlformats-package.relationships+xml"/>
  <Override PartName="/ppt/notesSlides/_rels/notesSlide306.xml.rels" ContentType="application/vnd.openxmlformats-package.relationships+xml"/>
  <Override PartName="/ppt/notesSlides/_rels/notesSlide313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292.xml.rels" ContentType="application/vnd.openxmlformats-package.relationships+xml"/>
  <Override PartName="/ppt/notesSlides/_rels/notesSlide300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317.xml.rels" ContentType="application/vnd.openxmlformats-package.relationships+xml"/>
  <Override PartName="/ppt/notesSlides/_rels/notesSlide297.xml.rels" ContentType="application/vnd.openxmlformats-package.relationships+xml"/>
  <Override PartName="/ppt/notesSlides/_rels/notesSlide305.xml.rels" ContentType="application/vnd.openxmlformats-package.relationships+xml"/>
  <Override PartName="/ppt/notesSlides/_rels/notesSlide2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287.xml.rels" ContentType="application/vnd.openxmlformats-package.relationships+xml"/>
  <Override PartName="/ppt/notesSlides/_rels/notesSlide316.xml.rels" ContentType="application/vnd.openxmlformats-package.relationships+xml"/>
  <Override PartName="/ppt/notesSlides/_rels/notesSlide27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281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296.xml.rels" ContentType="application/vnd.openxmlformats-package.relationships+xml"/>
  <Override PartName="/ppt/notesSlides/_rels/notesSlide304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286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318.xml.rels" ContentType="application/vnd.openxmlformats-package.relationships+xml"/>
  <Override PartName="/ppt/notesSlides/_rels/notesSlide290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319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201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94.xml.rels" ContentType="application/vnd.openxmlformats-package.relationships+xml"/>
  <Override PartName="/ppt/notesSlides/_rels/notesSlide20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99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27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04.xml.rels" ContentType="application/vnd.openxmlformats-package.relationships+xml"/>
  <Override PartName="/ppt/notesSlides/_rels/notesSlide196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98.xml.rels" ContentType="application/vnd.openxmlformats-package.relationships+xml"/>
  <Override PartName="/ppt/notesSlides/_rels/notesSlide288.xml.rels" ContentType="application/vnd.openxmlformats-package.relationships+xml"/>
  <Override PartName="/ppt/notesSlides/_rels/notesSlide30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8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311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03.xml.rels" ContentType="application/vnd.openxmlformats-package.relationships+xml"/>
  <Override PartName="/ppt/notesSlides/_rels/notesSlide195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312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310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73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274.xml.rels" ContentType="application/vnd.openxmlformats-package.relationships+xml"/>
  <Override PartName="/ppt/notesSlides/_rels/notesSlide20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197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6.xml.rels" ContentType="application/vnd.openxmlformats-package.relationships+xml"/>
  <Override PartName="/ppt/notesSlides/_rels/notesSlide289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302.xml.rels" ContentType="application/vnd.openxmlformats-package.relationships+xml"/>
  <Override PartName="/ppt/notesSlides/_rels/notesSlide294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284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27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314.xml.rels" ContentType="application/vnd.openxmlformats-package.relationships+xml"/>
  <Override PartName="/ppt/notesSlides/_rels/notesSlide50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203.xml" ContentType="application/vnd.openxmlformats-officedocument.presentationml.notesSlide+xml"/>
  <Override PartName="/ppt/notesSlides/notesSlide271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202.xml" ContentType="application/vnd.openxmlformats-officedocument.presentationml.notesSlide+xml"/>
  <Override PartName="/ppt/notesSlides/notesSlide270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199.xml" ContentType="application/vnd.openxmlformats-officedocument.presentationml.notesSlide+xml"/>
  <Override PartName="/ppt/notesSlides/notesSlide201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198.xml" ContentType="application/vnd.openxmlformats-officedocument.presentationml.notesSlide+xml"/>
  <Override PartName="/ppt/notesSlides/notesSlide200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197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196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195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194.xml" ContentType="application/vnd.openxmlformats-officedocument.presentationml.notesSlide+xml"/>
  <Override PartName="/ppt/notesSlides/notesSlide31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318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261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60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83.xml" ContentType="application/vnd.openxmlformats-officedocument.presentationml.notesSlide+xml"/>
  <Override PartName="/ppt/notesSlides/notesSlide308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204.xml" ContentType="application/vnd.openxmlformats-officedocument.presentationml.notesSlide+xml"/>
  <Override PartName="/ppt/notesSlides/notesSlide27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09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6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3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234.xml" ContentType="application/vnd.openxmlformats-officedocument.presentationml.notesSlide+xml"/>
  <Override PartName="/ppt/notesSlides/notesSlide235.xml" ContentType="application/vnd.openxmlformats-officedocument.presentationml.notesSlide+xml"/>
  <Override PartName="/ppt/notesSlides/notesSlide23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264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26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26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26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26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269.xml" ContentType="application/vnd.openxmlformats-officedocument.presentationml.notesSlide+xml"/>
  <Override PartName="/ppt/notesSlides/notesSlide290.xml" ContentType="application/vnd.openxmlformats-officedocument.presentationml.notesSlide+xml"/>
  <Override PartName="/ppt/notesSlides/notesSlide288.xml" ContentType="application/vnd.openxmlformats-officedocument.presentationml.notesSlide+xml"/>
  <Override PartName="/ppt/notesSlides/notesSlide291.xml" ContentType="application/vnd.openxmlformats-officedocument.presentationml.notesSlide+xml"/>
  <Override PartName="/ppt/notesSlides/notesSlide289.xml" ContentType="application/vnd.openxmlformats-officedocument.presentationml.notesSlide+xml"/>
  <Override PartName="/ppt/notesSlides/notesSlide292.xml" ContentType="application/vnd.openxmlformats-officedocument.presentationml.notesSlide+xml"/>
  <Override PartName="/ppt/notesSlides/notesSlide293.xml" ContentType="application/vnd.openxmlformats-officedocument.presentationml.notesSlide+xml"/>
  <Override PartName="/ppt/notesSlides/notesSlide297.xml" ContentType="application/vnd.openxmlformats-officedocument.presentationml.notesSlide+xml"/>
  <Override PartName="/ppt/notesSlides/notesSlide298.xml" ContentType="application/vnd.openxmlformats-officedocument.presentationml.notesSlide+xml"/>
  <Override PartName="/ppt/notesSlides/notesSlide299.xml" ContentType="application/vnd.openxmlformats-officedocument.presentationml.notesSlide+xml"/>
  <Override PartName="/ppt/notesSlides/notesSlide294.xml" ContentType="application/vnd.openxmlformats-officedocument.presentationml.notesSlide+xml"/>
  <Override PartName="/ppt/notesSlides/notesSlide320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274.xml" ContentType="application/vnd.openxmlformats-officedocument.presentationml.notesSlide+xml"/>
  <Override PartName="/ppt/notesSlides/notesSlide295.xml" ContentType="application/vnd.openxmlformats-officedocument.presentationml.notesSlide+xml"/>
  <Override PartName="/ppt/notesSlides/notesSlide321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275.xml" ContentType="application/vnd.openxmlformats-officedocument.presentationml.notesSlide+xml"/>
  <Override PartName="/ppt/notesSlides/notesSlide296.xml" ContentType="application/vnd.openxmlformats-officedocument.presentationml.notesSlide+xml"/>
  <Override PartName="/ppt/notesSlides/notesSlide322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276.xml" ContentType="application/vnd.openxmlformats-officedocument.presentationml.notesSlide+xml"/>
  <Override PartName="/ppt/notesSlides/notesSlide287.xml" ContentType="application/vnd.openxmlformats-officedocument.presentationml.notesSlide+xml"/>
  <Override PartName="/ppt/notesSlides/notesSlide286.xml" ContentType="application/vnd.openxmlformats-officedocument.presentationml.notesSlide+xml"/>
  <Override PartName="/ppt/notesSlides/notesSlide285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273.xml" ContentType="application/vnd.openxmlformats-officedocument.presentationml.notesSlide+xml"/>
  <Override PartName="/ppt/notesSlides/notesSlide205.xml" ContentType="application/vnd.openxmlformats-officedocument.presentationml.notesSlide+xml"/>
  <Override PartName="/ppt/notesSlides/notesSlide284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283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282.xml" ContentType="application/vnd.openxmlformats-officedocument.presentationml.notesSlide+xml"/>
  <Override PartName="/ppt/notesSlides/notesSlide281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279.xml" ContentType="application/vnd.openxmlformats-officedocument.presentationml.notesSlide+xml"/>
  <Override PartName="/ppt/notesSlides/notesSlide280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278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277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307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306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305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31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02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1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04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315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03.xml" ContentType="application/vnd.openxmlformats-officedocument.presentationml.notesSlide+xml"/>
  <Override PartName="/ppt/notesSlides/notesSlide30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13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30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7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316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12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6.wmf" ContentType="image/x-wmf"/>
  <Override PartName="/ppt/media/image11.wmf" ContentType="image/x-wmf"/>
  <Override PartName="/ppt/media/image26.png" ContentType="image/png"/>
  <Override PartName="/ppt/media/image27.png" ContentType="image/png"/>
  <Override PartName="/ppt/media/image12.wmf" ContentType="image/x-wmf"/>
  <Override PartName="/ppt/media/image7.wmf" ContentType="image/x-wmf"/>
  <Override PartName="/ppt/media/image21.wmf" ContentType="image/x-wmf"/>
  <Override PartName="/ppt/media/image19.wmf" ContentType="image/x-wmf"/>
  <Override PartName="/ppt/media/image10.gif" ContentType="image/gif"/>
  <Override PartName="/ppt/media/image13.wmf" ContentType="image/x-wmf"/>
  <Override PartName="/ppt/media/image30.png" ContentType="image/png"/>
  <Override PartName="/ppt/media/image9.gif" ContentType="image/gif"/>
  <Override PartName="/ppt/media/image5.wmf" ContentType="image/x-wmf"/>
  <Override PartName="/ppt/media/image8.gif" ContentType="image/gif"/>
  <Override PartName="/ppt/media/image4.wmf" ContentType="image/x-wmf"/>
  <Override PartName="/ppt/media/image3.wmf" ContentType="image/x-wmf"/>
  <Override PartName="/ppt/media/image25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4.wmf" ContentType="image/x-wmf"/>
  <Override PartName="/ppt/media/image2.wmf" ContentType="image/x-wmf"/>
  <Override PartName="/ppt/media/image29.png" ContentType="image/png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43.xml.rels" ContentType="application/vnd.openxmlformats-package.relationships+xml"/>
  <Override PartName="/ppt/slides/_rels/slide334.xml.rels" ContentType="application/vnd.openxmlformats-package.relationships+xml"/>
  <Override PartName="/ppt/slides/_rels/slide38.xml.rels" ContentType="application/vnd.openxmlformats-package.relationships+xml"/>
  <Override PartName="/ppt/slides/_rels/slide329.xml.rels" ContentType="application/vnd.openxmlformats-package.relationships+xml"/>
  <Override PartName="/ppt/slides/_rels/slide328.xml.rels" ContentType="application/vnd.openxmlformats-package.relationships+xml"/>
  <Override PartName="/ppt/slides/_rels/slide159.xml.rels" ContentType="application/vnd.openxmlformats-package.relationships+xml"/>
  <Override PartName="/ppt/slides/_rels/slide8.xml.rels" ContentType="application/vnd.openxmlformats-package.relationships+xml"/>
  <Override PartName="/ppt/slides/_rels/slide164.xml.rels" ContentType="application/vnd.openxmlformats-package.relationships+xml"/>
  <Override PartName="/ppt/slides/_rels/slide31.xml.rels" ContentType="application/vnd.openxmlformats-package.relationships+xml"/>
  <Override PartName="/ppt/slides/_rels/slide322.xml.rels" ContentType="application/vnd.openxmlformats-package.relationships+xml"/>
  <Override PartName="/ppt/slides/_rels/slide26.xml.rels" ContentType="application/vnd.openxmlformats-package.relationships+xml"/>
  <Override PartName="/ppt/slides/_rels/slide218.xml.rels" ContentType="application/vnd.openxmlformats-package.relationships+xml"/>
  <Override PartName="/ppt/slides/_rels/slide158.xml.rels" ContentType="application/vnd.openxmlformats-package.relationships+xml"/>
  <Override PartName="/ppt/slides/_rels/slide7.xml.rels" ContentType="application/vnd.openxmlformats-package.relationships+xml"/>
  <Override PartName="/ppt/slides/_rels/slide163.xml.rels" ContentType="application/vnd.openxmlformats-package.relationships+xml"/>
  <Override PartName="/ppt/slides/_rels/slide30.xml.rels" ContentType="application/vnd.openxmlformats-package.relationships+xml"/>
  <Override PartName="/ppt/slides/_rels/slide25.xml.rels" ContentType="application/vnd.openxmlformats-package.relationships+xml"/>
  <Override PartName="/ppt/slides/_rels/slide321.xml.rels" ContentType="application/vnd.openxmlformats-package.relationships+xml"/>
  <Override PartName="/ppt/slides/_rels/slide201.xml.rels" ContentType="application/vnd.openxmlformats-package.relationships+xml"/>
  <Override PartName="/ppt/slides/_rels/slide180.xml.rels" ContentType="application/vnd.openxmlformats-package.relationships+xml"/>
  <Override PartName="/ppt/slides/_rels/slide21.xml.rels" ContentType="application/vnd.openxmlformats-package.relationships+xml"/>
  <Override PartName="/ppt/slides/_rels/slide200.xml.rels" ContentType="application/vnd.openxmlformats-package.relationships+xml"/>
  <Override PartName="/ppt/slides/_rels/slide148.xml.rels" ContentType="application/vnd.openxmlformats-package.relationships+xml"/>
  <Override PartName="/ppt/slides/_rels/slide153.xml.rels" ContentType="application/vnd.openxmlformats-package.relationships+xml"/>
  <Override PartName="/ppt/slides/_rels/slide20.xml.rels" ContentType="application/vnd.openxmlformats-package.relationships+xml"/>
  <Override PartName="/ppt/slides/_rels/slide318.xml.rels" ContentType="application/vnd.openxmlformats-package.relationships+xml"/>
  <Override PartName="/ppt/slides/_rels/slide297.xml.rels" ContentType="application/vnd.openxmlformats-package.relationships+xml"/>
  <Override PartName="/ppt/slides/_rels/slide56.xml.rels" ContentType="application/vnd.openxmlformats-package.relationships+xml"/>
  <Override PartName="/ppt/slides/_rels/slide317.xml.rels" ContentType="application/vnd.openxmlformats-package.relationships+xml"/>
  <Override PartName="/ppt/slides/_rels/slide296.xml.rels" ContentType="application/vnd.openxmlformats-package.relationships+xml"/>
  <Override PartName="/ppt/slides/_rels/slide55.xml.rels" ContentType="application/vnd.openxmlformats-package.relationships+xml"/>
  <Override PartName="/ppt/slides/_rels/slide316.xml.rels" ContentType="application/vnd.openxmlformats-package.relationships+xml"/>
  <Override PartName="/ppt/slides/_rels/slide295.xml.rels" ContentType="application/vnd.openxmlformats-package.relationships+xml"/>
  <Override PartName="/ppt/slides/_rels/slide142.xml.rels" ContentType="application/vnd.openxmlformats-package.relationships+xml"/>
  <Override PartName="/ppt/slides/_rels/slide308.xml.rels" ContentType="application/vnd.openxmlformats-package.relationships+xml"/>
  <Override PartName="/ppt/slides/_rels/slide313.xml.rels" ContentType="application/vnd.openxmlformats-package.relationships+xml"/>
  <Override PartName="/ppt/slides/_rels/slide17.xml.rels" ContentType="application/vnd.openxmlformats-package.relationships+xml"/>
  <Override PartName="/ppt/slides/_rels/slide45.xml.rels" ContentType="application/vnd.openxmlformats-package.relationships+xml"/>
  <Override PartName="/ppt/slides/_rels/slide341.xml.rels" ContentType="application/vnd.openxmlformats-package.relationships+xml"/>
  <Override PartName="/ppt/slides/_rels/slide336.xml.rels" ContentType="application/vnd.openxmlformats-package.relationships+xml"/>
  <Override PartName="/ppt/slides/_rels/slide132.xml.rels" ContentType="application/vnd.openxmlformats-package.relationships+xml"/>
  <Override PartName="/ppt/slides/_rels/slide131.xml.rels" ContentType="application/vnd.openxmlformats-package.relationships+xml"/>
  <Override PartName="/ppt/slides/_rels/slide130.xml.rels" ContentType="application/vnd.openxmlformats-package.relationships+xml"/>
  <Override PartName="/ppt/slides/_rels/slide32.xml.rels" ContentType="application/vnd.openxmlformats-package.relationships+xml"/>
  <Override PartName="/ppt/slides/_rels/slide323.xml.rels" ContentType="application/vnd.openxmlformats-package.relationships+xml"/>
  <Override PartName="/ppt/slides/_rels/slide219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135.xml.rels" ContentType="application/vnd.openxmlformats-package.relationships+xml"/>
  <Override PartName="/ppt/slides/_rels/slide140.xml.rels" ContentType="application/vnd.openxmlformats-package.relationships+xml"/>
  <Override PartName="/ppt/slides/_rels/slide5.xml.rels" ContentType="application/vnd.openxmlformats-package.relationships+xml"/>
  <Override PartName="/ppt/slides/_rels/slide156.xml.rels" ContentType="application/vnd.openxmlformats-package.relationships+xml"/>
  <Override PartName="/ppt/slides/_rels/slide161.xml.rels" ContentType="application/vnd.openxmlformats-package.relationships+xml"/>
  <Override PartName="/ppt/slides/_rels/slide44.xml.rels" ContentType="application/vnd.openxmlformats-package.relationships+xml"/>
  <Override PartName="/ppt/slides/_rels/slide335.xml.rels" ContentType="application/vnd.openxmlformats-package.relationships+xml"/>
  <Override PartName="/ppt/slides/_rels/slide39.xml.rels" ContentType="application/vnd.openxmlformats-package.relationships+xml"/>
  <Override PartName="/ppt/slides/_rels/slide340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65.xml.rels" ContentType="application/vnd.openxmlformats-package.relationships+xml"/>
  <Override PartName="/ppt/slides/_rels/slide13.xml.rels" ContentType="application/vnd.openxmlformats-package.relationships+xml"/>
  <Override PartName="/ppt/slides/_rels/slide240.xml.rels" ContentType="application/vnd.openxmlformats-package.relationships+xml"/>
  <Override PartName="/ppt/slides/_rels/slide136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55.xml.rels" ContentType="application/vnd.openxmlformats-package.relationships+xml"/>
  <Override PartName="/ppt/slides/_rels/slide244.xml.rels" ContentType="application/vnd.openxmlformats-package.relationships+xml"/>
  <Override PartName="/ppt/slides/_rels/slide239.xml.rels" ContentType="application/vnd.openxmlformats-package.relationships+xml"/>
  <Override PartName="/ppt/slides/_rels/slide10.xml.rels" ContentType="application/vnd.openxmlformats-package.relationships+xml"/>
  <Override PartName="/ppt/slides/_rels/slide12.xml.rels" ContentType="application/vnd.openxmlformats-package.relationships+xml"/>
  <Override PartName="/ppt/slides/_rels/slide206.xml.rels" ContentType="application/vnd.openxmlformats-package.relationships+xml"/>
  <Override PartName="/ppt/slides/_rels/slide310.xml.rels" ContentType="application/vnd.openxmlformats-package.relationships+xml"/>
  <Override PartName="/ppt/slides/_rels/slide309.xml.rels" ContentType="application/vnd.openxmlformats-package.relationships+xml"/>
  <Override PartName="/ppt/slides/_rels/slide314.xml.rels" ContentType="application/vnd.openxmlformats-package.relationships+xml"/>
  <Override PartName="/ppt/slides/_rels/slide288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_rels/slide319.xml.rels" ContentType="application/vnd.openxmlformats-package.relationships+xml"/>
  <Override PartName="/ppt/slides/_rels/slide29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05.xml.rels" ContentType="application/vnd.openxmlformats-package.relationships+xml"/>
  <Override PartName="/ppt/slides/_rels/slide154.xml.rels" ContentType="application/vnd.openxmlformats-package.relationships+xml"/>
  <Override PartName="/ppt/slides/_rels/slide93.xml.rels" ContentType="application/vnd.openxmlformats-package.relationships+xml"/>
  <Override PartName="/ppt/slides/_rels/slide88.xml.rels" ContentType="application/vnd.openxmlformats-package.relationships+xml"/>
  <Override PartName="/ppt/slides/_rels/slide273.xml.rels" ContentType="application/vnd.openxmlformats-package.relationships+xml"/>
  <Override PartName="/ppt/slides/_rels/slide268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15.xml.rels" ContentType="application/vnd.openxmlformats-package.relationships+xml"/>
  <Override PartName="/ppt/slides/_rels/slide262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261.xml.rels" ContentType="application/vnd.openxmlformats-package.relationships+xml"/>
  <Override PartName="/ppt/slides/_rels/slide114.xml.rels" ContentType="application/vnd.openxmlformats-package.relationships+xml"/>
  <Override PartName="/ppt/slides/_rels/slide109.xml.rels" ContentType="application/vnd.openxmlformats-package.relationships+xml"/>
  <Override PartName="/ppt/slides/_rels/slide81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108.xml.rels" ContentType="application/vnd.openxmlformats-package.relationships+xml"/>
  <Override PartName="/ppt/slides/_rels/slide260.xml.rels" ContentType="application/vnd.openxmlformats-package.relationships+xml"/>
  <Override PartName="/ppt/slides/_rels/slide255.xml.rels" ContentType="application/vnd.openxmlformats-package.relationships+xml"/>
  <Override PartName="/ppt/slides/_rels/slide80.xml.rels" ContentType="application/vnd.openxmlformats-package.relationships+xml"/>
  <Override PartName="/ppt/slides/_rels/slide75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53.xml.rels" ContentType="application/vnd.openxmlformats-package.relationships+xml"/>
  <Override PartName="/ppt/slides/_rels/slide228.xml.rels" ContentType="application/vnd.openxmlformats-package.relationships+xml"/>
  <Override PartName="/ppt/slides/_rels/slide233.xml.rels" ContentType="application/vnd.openxmlformats-package.relationships+xml"/>
  <Override PartName="/ppt/slides/_rels/slide272.xml.rels" ContentType="application/vnd.openxmlformats-package.relationships+xml"/>
  <Override PartName="/ppt/slides/_rels/slide267.xml.rels" ContentType="application/vnd.openxmlformats-package.relationships+xml"/>
  <Override PartName="/ppt/slides/_rels/slide92.xml.rels" ContentType="application/vnd.openxmlformats-package.relationships+xml"/>
  <Override PartName="/ppt/slides/_rels/slide8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97.xml.rels" ContentType="application/vnd.openxmlformats-package.relationships+xml"/>
  <Override PartName="/ppt/slides/_rels/slide29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8.xml.rels" ContentType="application/vnd.openxmlformats-package.relationships+xml"/>
  <Override PartName="/ppt/slides/_rels/slide27.xml.rels" ContentType="application/vnd.openxmlformats-package.relationships+xml"/>
  <Override PartName="/ppt/slides/_rels/slide146.xml.rels" ContentType="application/vnd.openxmlformats-package.relationships+xml"/>
  <Override PartName="/ppt/slides/_rels/slide151.xml.rels" ContentType="application/vnd.openxmlformats-package.relationships+xml"/>
  <Override PartName="/ppt/slides/_rels/slide254.xml.rels" ContentType="application/vnd.openxmlformats-package.relationships+xml"/>
  <Override PartName="/ppt/slides/_rels/slide74.xml.rels" ContentType="application/vnd.openxmlformats-package.relationships+xml"/>
  <Override PartName="/ppt/slides/_rels/slide275.xml.rels" ContentType="application/vnd.openxmlformats-package.relationships+xml"/>
  <Override PartName="/ppt/slides/_rels/slide301.xml.rels" ContentType="application/vnd.openxmlformats-package.relationships+xml"/>
  <Override PartName="/ppt/slides/_rels/slide69.xml.rels" ContentType="application/vnd.openxmlformats-package.relationships+xml"/>
  <Override PartName="/ppt/slides/_rels/slide249.xml.rels" ContentType="application/vnd.openxmlformats-package.relationships+xml"/>
  <Override PartName="/ppt/slides/_rels/slide2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46.xml.rels" ContentType="application/vnd.openxmlformats-package.relationships+xml"/>
  <Override PartName="/ppt/slides/_rels/slide61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270.xml.rels" ContentType="application/vnd.openxmlformats-package.relationships+xml"/>
  <Override PartName="/ppt/slides/_rels/slide265.xml.rels" ContentType="application/vnd.openxmlformats-package.relationships+xml"/>
  <Override PartName="/ppt/slides/_rels/slide212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124.xml.rels" ContentType="application/vnd.openxmlformats-package.relationships+xml"/>
  <Override PartName="/ppt/slides/_rels/slide119.xml.rels" ContentType="application/vnd.openxmlformats-package.relationships+xml"/>
  <Override PartName="/ppt/slides/_rels/slide271.xml.rels" ContentType="application/vnd.openxmlformats-package.relationships+xml"/>
  <Override PartName="/ppt/slides/_rels/slide266.xml.rels" ContentType="application/vnd.openxmlformats-package.relationships+xml"/>
  <Override PartName="/ppt/slides/_rels/slide63.xml.rels" ContentType="application/vnd.openxmlformats-package.relationships+xml"/>
  <Override PartName="/ppt/slides/_rels/slide198.xml.rels" ContentType="application/vnd.openxmlformats-package.relationships+xml"/>
  <Override PartName="/ppt/slides/_rels/slide250.xml.rels" ContentType="application/vnd.openxmlformats-package.relationships+xml"/>
  <Override PartName="/ppt/slides/_rels/slide103.xml.rels" ContentType="application/vnd.openxmlformats-package.relationships+xml"/>
  <Override PartName="/ppt/slides/_rels/slide236.xml.rels" ContentType="application/vnd.openxmlformats-package.relationships+xml"/>
  <Override PartName="/ppt/slides/_rels/slide195.xml.rels" ContentType="application/vnd.openxmlformats-package.relationships+xml"/>
  <Override PartName="/ppt/slides/_rels/slide216.xml.rels" ContentType="application/vnd.openxmlformats-package.relationships+xml"/>
  <Override PartName="/ppt/slides/_rels/slide221.xml.rels" ContentType="application/vnd.openxmlformats-package.relationships+xml"/>
  <Override PartName="/ppt/slides/_rels/slide199.xml.rels" ContentType="application/vnd.openxmlformats-package.relationships+xml"/>
  <Override PartName="/ppt/slides/_rels/slide324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171.xml.rels" ContentType="application/vnd.openxmlformats-package.relationships+xml"/>
  <Override PartName="/ppt/slides/_rels/slide70.xml.rels" ContentType="application/vnd.openxmlformats-package.relationships+xml"/>
  <Override PartName="/ppt/slides/_rels/slide257.xml.rels" ContentType="application/vnd.openxmlformats-package.relationships+xml"/>
  <Override PartName="/ppt/slides/_rels/slide77.xml.rels" ContentType="application/vnd.openxmlformats-package.relationships+xml"/>
  <Override PartName="/ppt/slides/_rels/slide248.xml.rels" ContentType="application/vnd.openxmlformats-package.relationships+xml"/>
  <Override PartName="/ppt/slides/_rels/slide68.xml.rels" ContentType="application/vnd.openxmlformats-package.relationships+xml"/>
  <Override PartName="/ppt/slides/_rels/slide300.xml.rels" ContentType="application/vnd.openxmlformats-package.relationships+xml"/>
  <Override PartName="/ppt/slides/_rels/slide252.xml.rels" ContentType="application/vnd.openxmlformats-package.relationships+xml"/>
  <Override PartName="/ppt/slides/_rels/slide72.xml.rels" ContentType="application/vnd.openxmlformats-package.relationships+xml"/>
  <Override PartName="/ppt/slides/_rels/slide60.xml.rels" ContentType="application/vnd.openxmlformats-package.relationships+xml"/>
  <Override PartName="/ppt/slides/_rels/slide235.xml.rels" ContentType="application/vnd.openxmlformats-package.relationships+xml"/>
  <Override PartName="/ppt/slides/_rels/slide25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247.xml.rels" ContentType="application/vnd.openxmlformats-package.relationships+xml"/>
  <Override PartName="/ppt/slides/_rels/slide67.xml.rels" ContentType="application/vnd.openxmlformats-package.relationships+xml"/>
  <Override PartName="/ppt/slides/_rels/slide79.xml.rels" ContentType="application/vnd.openxmlformats-package.relationships+xml"/>
  <Override PartName="/ppt/slides/_rels/slide25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263.xml.rels" ContentType="application/vnd.openxmlformats-package.relationships+xml"/>
  <Override PartName="/ppt/slides/_rels/slide225.xml.rels" ContentType="application/vnd.openxmlformats-package.relationships+xml"/>
  <Override PartName="/ppt/slides/_rels/slide330.xml.rels" ContentType="application/vnd.openxmlformats-package.relationships+xml"/>
  <Override PartName="/ppt/slides/_rels/slide325.xml.rels" ContentType="application/vnd.openxmlformats-package.relationships+xml"/>
  <Override PartName="/ppt/slides/_rels/slide192.xml.rels" ContentType="application/vnd.openxmlformats-package.relationships+xml"/>
  <Override PartName="/ppt/slides/_rels/slide213.xml.rels" ContentType="application/vnd.openxmlformats-package.relationships+xml"/>
  <Override PartName="/ppt/slides/_rels/slide246.xml.rels" ContentType="application/vnd.openxmlformats-package.relationships+xml"/>
  <Override PartName="/ppt/slides/_rels/slide66.xml.rels" ContentType="application/vnd.openxmlformats-package.relationships+xml"/>
  <Override PartName="/ppt/slides/_rels/slide78.xml.rels" ContentType="application/vnd.openxmlformats-package.relationships+xml"/>
  <Override PartName="/ppt/slides/_rels/slide258.xml.rels" ContentType="application/vnd.openxmlformats-package.relationships+xml"/>
  <Override PartName="/ppt/slides/_rels/slide224.xml.rels" ContentType="application/vnd.openxmlformats-package.relationships+xml"/>
  <Override PartName="/ppt/slides/_rels/slide34.xml.rels" ContentType="application/vnd.openxmlformats-package.relationships+xml"/>
  <Override PartName="/ppt/slides/_rels/slide229.xml.rels" ContentType="application/vnd.openxmlformats-package.relationships+xml"/>
  <Override PartName="/ppt/slides/_rels/slide234.xml.rels" ContentType="application/vnd.openxmlformats-package.relationships+xml"/>
  <Override PartName="/ppt/slides/_rels/slide49.xml.rels" ContentType="application/vnd.openxmlformats-package.relationships+xml"/>
  <Override PartName="/ppt/slides/_rels/slide54.xml.rels" ContentType="application/vnd.openxmlformats-package.relationships+xml"/>
  <Override PartName="/ppt/slides/_rels/slide102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179.xml.rels" ContentType="application/vnd.openxmlformats-package.relationships+xml"/>
  <Override PartName="/ppt/slides/_rels/slide22.xml.rels" ContentType="application/vnd.openxmlformats-package.relationships+xml"/>
  <Override PartName="/ppt/slides/_rels/slide217.xml.rels" ContentType="application/vnd.openxmlformats-package.relationships+xml"/>
  <Override PartName="/ppt/slides/_rels/slide222.xml.rels" ContentType="application/vnd.openxmlformats-package.relationships+xml"/>
  <Override PartName="/ppt/slides/_rels/slide196.xml.rels" ContentType="application/vnd.openxmlformats-package.relationships+xml"/>
  <Override PartName="/ppt/slides/_rels/slide101.xml.rels" ContentType="application/vnd.openxmlformats-package.relationships+xml"/>
  <Override PartName="/ppt/slides/_rels/slide320.xml.rels" ContentType="application/vnd.openxmlformats-package.relationships+xml"/>
  <Override PartName="/ppt/slides/_rels/slide24.xml.rels" ContentType="application/vnd.openxmlformats-package.relationships+xml"/>
  <Override PartName="/ppt/slides/_rels/slide190.xml.rels" ContentType="application/vnd.openxmlformats-package.relationships+xml"/>
  <Override PartName="/ppt/slides/_rels/slide211.xml.rels" ContentType="application/vnd.openxmlformats-package.relationships+xml"/>
  <Override PartName="/ppt/slides/_rels/slide185.xml.rels" ContentType="application/vnd.openxmlformats-package.relationships+xml"/>
  <Override PartName="/ppt/slides/_rels/slide73.xml.rels" ContentType="application/vnd.openxmlformats-package.relationships+xml"/>
  <Override PartName="/ppt/slides/_rels/slide111.xml.rels" ContentType="application/vnd.openxmlformats-package.relationships+xml"/>
  <Override PartName="/ppt/slides/_rels/slide106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293.xml.rels" ContentType="application/vnd.openxmlformats-package.relationships+xml"/>
  <Override PartName="/ppt/slides/_rels/slide189.xml.rels" ContentType="application/vnd.openxmlformats-package.relationships+xml"/>
  <Override PartName="/ppt/slides/_rels/slide344.xml.rels" ContentType="application/vnd.openxmlformats-package.relationships+xml"/>
  <Override PartName="/ppt/slides/_rels/slide214.xml.rels" ContentType="application/vnd.openxmlformats-package.relationships+xml"/>
  <Override PartName="/ppt/slides/_rels/slide193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47.xml.rels" ContentType="application/vnd.openxmlformats-package.relationships+xml"/>
  <Override PartName="/ppt/slides/_rels/slide52.xml.rels" ContentType="application/vnd.openxmlformats-package.relationships+xml"/>
  <Override PartName="/ppt/slides/_rels/slide82.xml.rels" ContentType="application/vnd.openxmlformats-package.relationships+xml"/>
  <Override PartName="/ppt/slides/_rels/slide269.xml.rels" ContentType="application/vnd.openxmlformats-package.relationships+xml"/>
  <Override PartName="/ppt/slides/_rels/slide194.xml.rels" ContentType="application/vnd.openxmlformats-package.relationships+xml"/>
  <Override PartName="/ppt/slides/_rels/slide215.xml.rels" ContentType="application/vnd.openxmlformats-package.relationships+xml"/>
  <Override PartName="/ppt/slides/_rels/slide220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35.xml.rels" ContentType="application/vnd.openxmlformats-package.relationships+xml"/>
  <Override PartName="/ppt/slides/_rels/slide40.xml.rels" ContentType="application/vnd.openxmlformats-package.relationships+xml"/>
  <Override PartName="/ppt/slides/_rels/slide203.xml.rels" ContentType="application/vnd.openxmlformats-package.relationships+xml"/>
  <Override PartName="/ppt/slides/_rels/slide182.xml.rels" ContentType="application/vnd.openxmlformats-package.relationships+xml"/>
  <Override PartName="/ppt/slides/_rels/slide331.xml.rels" ContentType="application/vnd.openxmlformats-package.relationships+xml"/>
  <Override PartName="/ppt/slides/_rels/slide99.xml.rels" ContentType="application/vnd.openxmlformats-package.relationships+xml"/>
  <Override PartName="/ppt/slides/_rels/slide178.xml.rels" ContentType="application/vnd.openxmlformats-package.relationships+xml"/>
  <Override PartName="/ppt/slides/_rels/slide37.xml.rels" ContentType="application/vnd.openxmlformats-package.relationships+xml"/>
  <Override PartName="/ppt/slides/_rels/slide42.xml.rels" ContentType="application/vnd.openxmlformats-package.relationships+xml"/>
  <Override PartName="/ppt/slides/_rels/slide333.xml.rels" ContentType="application/vnd.openxmlformats-package.relationships+xml"/>
  <Override PartName="/ppt/slides/_rels/slide172.xml.rels" ContentType="application/vnd.openxmlformats-package.relationships+xml"/>
  <Override PartName="/ppt/slides/_rels/slide50.xml.rels" ContentType="application/vnd.openxmlformats-package.relationships+xml"/>
  <Override PartName="/ppt/slides/_rels/slide237.xml.rels" ContentType="application/vnd.openxmlformats-package.relationships+xml"/>
  <Override PartName="/ppt/slides/_rels/slide57.xml.rels" ContentType="application/vnd.openxmlformats-package.relationships+xml"/>
  <Override PartName="/ppt/slides/_rels/slide177.xml.rels" ContentType="application/vnd.openxmlformats-package.relationships+xml"/>
  <Override PartName="/ppt/slides/_rels/slide36.xml.rels" ContentType="application/vnd.openxmlformats-package.relationships+xml"/>
  <Override PartName="/ppt/slides/_rels/slide41.xml.rels" ContentType="application/vnd.openxmlformats-package.relationships+xml"/>
  <Override PartName="/ppt/slides/_rels/slide332.xml.rels" ContentType="application/vnd.openxmlformats-package.relationships+xml"/>
  <Override PartName="/ppt/slides/_rels/slide339.xml.rels" ContentType="application/vnd.openxmlformats-package.relationships+xml"/>
  <Override PartName="/ppt/slides/_rels/slide166.xml.rels" ContentType="application/vnd.openxmlformats-package.relationships+xml"/>
  <Override PartName="/ppt/slides/_rels/slide170.xml.rels" ContentType="application/vnd.openxmlformats-package.relationships+xml"/>
  <Override PartName="/ppt/slides/_rels/slide204.xml.rels" ContentType="application/vnd.openxmlformats-package.relationships+xml"/>
  <Override PartName="/ppt/slides/_rels/slide183.xml.rels" ContentType="application/vnd.openxmlformats-package.relationships+xml"/>
  <Override PartName="/ppt/slides/_rels/slide253.xml.rels" ContentType="application/vnd.openxmlformats-package.relationships+xml"/>
  <Override PartName="/ppt/slides/_rels/slide149.xml.rels" ContentType="application/vnd.openxmlformats-package.relationships+xml"/>
  <Override PartName="/ppt/slides/_rels/slide89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74.xml.rels" ContentType="application/vnd.openxmlformats-package.relationships+xml"/>
  <Override PartName="/ppt/slides/_rels/slide14.xml.rels" ContentType="application/vnd.openxmlformats-package.relationships+xml"/>
  <Override PartName="/ppt/slides/_rels/slide58.xml.rels" ContentType="application/vnd.openxmlformats-package.relationships+xml"/>
  <Override PartName="/ppt/slides/_rels/slide238.xml.rels" ContentType="application/vnd.openxmlformats-package.relationships+xml"/>
  <Override PartName="/ppt/slides/_rels/slide51.xml.rels" ContentType="application/vnd.openxmlformats-package.relationships+xml"/>
  <Override PartName="/ppt/slides/_rels/slide243.xml.rels" ContentType="application/vnd.openxmlformats-package.relationships+xml"/>
  <Override PartName="/ppt/slides/_rels/slide191.xml.rels" ContentType="application/vnd.openxmlformats-package.relationships+xml"/>
  <Override PartName="/ppt/slides/_rels/slide152.xml.rels" ContentType="application/vnd.openxmlformats-package.relationships+xml"/>
  <Override PartName="/ppt/slides/_rels/slide147.xml.rels" ContentType="application/vnd.openxmlformats-package.relationships+xml"/>
  <Override PartName="/ppt/slides/_rels/slide276.xml.rels" ContentType="application/vnd.openxmlformats-package.relationships+xml"/>
  <Override PartName="/ppt/slides/_rels/slide281.xml.rels" ContentType="application/vnd.openxmlformats-package.relationships+xml"/>
  <Override PartName="/ppt/slides/_rels/slide302.xml.rels" ContentType="application/vnd.openxmlformats-package.relationships+xml"/>
  <Override PartName="/ppt/slides/_rels/slide205.xml.rels" ContentType="application/vnd.openxmlformats-package.relationships+xml"/>
  <Override PartName="/ppt/slides/_rels/slide184.xml.rels" ContentType="application/vnd.openxmlformats-package.relationships+xml"/>
  <Override PartName="/ppt/slides/_rels/slide210.xml.rels" ContentType="application/vnd.openxmlformats-package.relationships+xml"/>
  <Override PartName="/ppt/slides/_rels/slide277.xml.rels" ContentType="application/vnd.openxmlformats-package.relationships+xml"/>
  <Override PartName="/ppt/slides/_rels/slide282.xml.rels" ContentType="application/vnd.openxmlformats-package.relationships+xml"/>
  <Override PartName="/ppt/slides/_rels/slide303.xml.rels" ContentType="application/vnd.openxmlformats-package.relationships+xml"/>
  <Override PartName="/ppt/slides/_rels/slide338.xml.rels" ContentType="application/vnd.openxmlformats-package.relationships+xml"/>
  <Override PartName="/ppt/slides/_rels/slide343.xml.rels" ContentType="application/vnd.openxmlformats-package.relationships+xml"/>
  <Override PartName="/ppt/slides/_rels/slide209.xml.rels" ContentType="application/vnd.openxmlformats-package.relationships+xml"/>
  <Override PartName="/ppt/slides/_rels/slide188.xml.rels" ContentType="application/vnd.openxmlformats-package.relationships+xml"/>
  <Override PartName="/ppt/slides/_rels/slide292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278.xml.rels" ContentType="application/vnd.openxmlformats-package.relationships+xml"/>
  <Override PartName="/ppt/slides/_rels/slide304.xml.rels" ContentType="application/vnd.openxmlformats-package.relationships+xml"/>
  <Override PartName="/ppt/slides/_rels/slide283.xml.rels" ContentType="application/vnd.openxmlformats-package.relationships+xml"/>
  <Override PartName="/ppt/slides/_rels/slide59.xml.rels" ContentType="application/vnd.openxmlformats-package.relationships+xml"/>
  <Override PartName="/ppt/slides/_rels/slide120.xml.rels" ContentType="application/vnd.openxmlformats-package.relationships+xml"/>
  <Override PartName="/ppt/slides/_rels/slide167.xml.rels" ContentType="application/vnd.openxmlformats-package.relationships+xml"/>
  <Override PartName="/ppt/slides/_rels/slide121.xml.rels" ContentType="application/vnd.openxmlformats-package.relationships+xml"/>
  <Override PartName="/ppt/slides/_rels/slide122.xml.rels" ContentType="application/vnd.openxmlformats-package.relationships+xml"/>
  <Override PartName="/ppt/slides/_rels/slide337.xml.rels" ContentType="application/vnd.openxmlformats-package.relationships+xml"/>
  <Override PartName="/ppt/slides/_rels/slide342.xml.rels" ContentType="application/vnd.openxmlformats-package.relationships+xml"/>
  <Override PartName="/ppt/slides/_rels/slide15.xml.rels" ContentType="application/vnd.openxmlformats-package.relationships+xml"/>
  <Override PartName="/ppt/slides/_rels/slide299.xml.rels" ContentType="application/vnd.openxmlformats-package.relationships+xml"/>
  <Override PartName="/ppt/slides/_rels/slide16.xml.rels" ContentType="application/vnd.openxmlformats-package.relationships+xml"/>
  <Override PartName="/ppt/slides/_rels/slide307.xml.rels" ContentType="application/vnd.openxmlformats-package.relationships+xml"/>
  <Override PartName="/ppt/slides/_rels/slide279.xml.rels" ContentType="application/vnd.openxmlformats-package.relationships+xml"/>
  <Override PartName="/ppt/slides/_rels/slide305.xml.rels" ContentType="application/vnd.openxmlformats-package.relationships+xml"/>
  <Override PartName="/ppt/slides/_rels/slide284.xml.rels" ContentType="application/vnd.openxmlformats-package.relationships+xml"/>
  <Override PartName="/ppt/slides/_rels/slide208.xml.rels" ContentType="application/vnd.openxmlformats-package.relationships+xml"/>
  <Override PartName="/ppt/slides/_rels/slide187.xml.rels" ContentType="application/vnd.openxmlformats-package.relationships+xml"/>
  <Override PartName="/ppt/slides/_rels/slide312.xml.rels" ContentType="application/vnd.openxmlformats-package.relationships+xml"/>
  <Override PartName="/ppt/slides/_rels/slide291.xml.rels" ContentType="application/vnd.openxmlformats-package.relationships+xml"/>
  <Override PartName="/ppt/slides/_rels/slide144.xml.rels" ContentType="application/vnd.openxmlformats-package.relationships+xml"/>
  <Override PartName="/ppt/slides/_rels/slide287.xml.rels" ContentType="application/vnd.openxmlformats-package.relationships+xml"/>
  <Override PartName="/ppt/slides/_rels/slide207.xml.rels" ContentType="application/vnd.openxmlformats-package.relationships+xml"/>
  <Override PartName="/ppt/slides/_rels/slide186.xml.rels" ContentType="application/vnd.openxmlformats-package.relationships+xml"/>
  <Override PartName="/ppt/slides/_rels/slide311.xml.rels" ContentType="application/vnd.openxmlformats-package.relationships+xml"/>
  <Override PartName="/ppt/slides/_rels/slide290.xml.rels" ContentType="application/vnd.openxmlformats-package.relationships+xml"/>
  <Override PartName="/ppt/slides/_rels/slide143.xml.rels" ContentType="application/vnd.openxmlformats-package.relationships+xml"/>
  <Override PartName="/ppt/slides/_rels/slide286.xml.rels" ContentType="application/vnd.openxmlformats-package.relationships+xml"/>
  <Override PartName="/ppt/slides/_rels/slide139.xml.rels" ContentType="application/vnd.openxmlformats-package.relationships+xml"/>
  <Override PartName="/ppt/slides/_rels/slide176.xml.rels" ContentType="application/vnd.openxmlformats-package.relationships+xml"/>
  <Override PartName="/ppt/slides/_rels/slide280.xml.rels" ContentType="application/vnd.openxmlformats-package.relationships+xml"/>
  <Override PartName="/ppt/slides/_rels/slide133.xml.rels" ContentType="application/vnd.openxmlformats-package.relationships+xml"/>
  <Override PartName="/ppt/slides/_rels/slide306.xml.rels" ContentType="application/vnd.openxmlformats-package.relationships+xml"/>
  <Override PartName="/ppt/slides/_rels/slide285.xml.rels" ContentType="application/vnd.openxmlformats-package.relationships+xml"/>
  <Override PartName="/ppt/slides/_rels/slide289.xml.rels" ContentType="application/vnd.openxmlformats-package.relationships+xml"/>
  <Override PartName="/ppt/slides/_rels/slide19.xml.rels" ContentType="application/vnd.openxmlformats-package.relationships+xml"/>
  <Override PartName="/ppt/slides/_rels/slide294.xml.rels" ContentType="application/vnd.openxmlformats-package.relationships+xml"/>
  <Override PartName="/ppt/slides/_rels/slide315.xml.rels" ContentType="application/vnd.openxmlformats-package.relationships+xml"/>
  <Override PartName="/ppt/slides/_rels/slide65.xml.rels" ContentType="application/vnd.openxmlformats-package.relationships+xml"/>
  <Override PartName="/ppt/slides/_rels/slide245.xml.rels" ContentType="application/vnd.openxmlformats-package.relationships+xml"/>
  <Override PartName="/ppt/slides/_rels/slide327.xml.rels" ContentType="application/vnd.openxmlformats-package.relationships+xml"/>
  <Override PartName="/ppt/slides/_rels/slide256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326.xml.rels" ContentType="application/vnd.openxmlformats-package.relationships+xml"/>
  <Override PartName="/ppt/slides/_rels/slide160.xml.rels" ContentType="application/vnd.openxmlformats-package.relationships+xml"/>
  <Override PartName="/ppt/slides/_rels/slide202.xml.rels" ContentType="application/vnd.openxmlformats-package.relationships+xml"/>
  <Override PartName="/ppt/slides/_rels/slide181.xml.rels" ContentType="application/vnd.openxmlformats-package.relationships+xml"/>
  <Override PartName="/ppt/slides/_rels/slide162.xml.rels" ContentType="application/vnd.openxmlformats-package.relationships+xml"/>
  <Override PartName="/ppt/slides/_rels/slide157.xml.rels" ContentType="application/vnd.openxmlformats-package.relationships+xml"/>
  <Override PartName="/ppt/slides/_rels/slide6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253.xml" ContentType="application/vnd.openxmlformats-officedocument.presentationml.slide+xml"/>
  <Override PartName="/ppt/slides/slide252.xml" ContentType="application/vnd.openxmlformats-officedocument.presentationml.slide+xml"/>
  <Override PartName="/ppt/slides/slide251.xml" ContentType="application/vnd.openxmlformats-officedocument.presentationml.slide+xml"/>
  <Override PartName="/ppt/slides/slide250.xml" ContentType="application/vnd.openxmlformats-officedocument.presentationml.slide+xml"/>
  <Override PartName="/ppt/slides/slide249.xml" ContentType="application/vnd.openxmlformats-officedocument.presentationml.slide+xml"/>
  <Override PartName="/ppt/slides/slide83.xml" ContentType="application/vnd.openxmlformats-officedocument.presentationml.slide+xml"/>
  <Override PartName="/ppt/slides/slide248.xml" ContentType="application/vnd.openxmlformats-officedocument.presentationml.slide+xml"/>
  <Override PartName="/ppt/slides/slide82.xml" ContentType="application/vnd.openxmlformats-officedocument.presentationml.slide+xml"/>
  <Override PartName="/ppt/slides/slide247.xml" ContentType="application/vnd.openxmlformats-officedocument.presentationml.slide+xml"/>
  <Override PartName="/ppt/slides/slide81.xml" ContentType="application/vnd.openxmlformats-officedocument.presentationml.slide+xml"/>
  <Override PartName="/ppt/slides/slide246.xml" ContentType="application/vnd.openxmlformats-officedocument.presentationml.slide+xml"/>
  <Override PartName="/ppt/slides/slide80.xml" ContentType="application/vnd.openxmlformats-officedocument.presentationml.slide+xml"/>
  <Override PartName="/ppt/slides/slide239.xml" ContentType="application/vnd.openxmlformats-officedocument.presentationml.slide+xml"/>
  <Override PartName="/ppt/slides/slide73.xml" ContentType="application/vnd.openxmlformats-officedocument.presentationml.slide+xml"/>
  <Override PartName="/ppt/slides/slide238.xml" ContentType="application/vnd.openxmlformats-officedocument.presentationml.slide+xml"/>
  <Override PartName="/ppt/slides/slide72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6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5.xml" ContentType="application/vnd.openxmlformats-officedocument.presentationml.slide+xml"/>
  <Override PartName="/ppt/slides/slide197.xml" ContentType="application/vnd.openxmlformats-officedocument.presentationml.slide+xml"/>
  <Override PartName="/ppt/slides/slide234.xml" ContentType="application/vnd.openxmlformats-officedocument.presentationml.slide+xml"/>
  <Override PartName="/ppt/slides/slide196.xml" ContentType="application/vnd.openxmlformats-officedocument.presentationml.slide+xml"/>
  <Override PartName="/ppt/slides/slide233.xml" ContentType="application/vnd.openxmlformats-officedocument.presentationml.slide+xml"/>
  <Override PartName="/ppt/slides/slide195.xml" ContentType="application/vnd.openxmlformats-officedocument.presentationml.slide+xml"/>
  <Override PartName="/ppt/slides/slide232.xml" ContentType="application/vnd.openxmlformats-officedocument.presentationml.slide+xml"/>
  <Override PartName="/ppt/slides/slide194.xml" ContentType="application/vnd.openxmlformats-officedocument.presentationml.slide+xml"/>
  <Override PartName="/ppt/slides/slide231.xml" ContentType="application/vnd.openxmlformats-officedocument.presentationml.slide+xml"/>
  <Override PartName="/ppt/slides/slide193.xml" ContentType="application/vnd.openxmlformats-officedocument.presentationml.slide+xml"/>
  <Override PartName="/ppt/slides/slide230.xml" ContentType="application/vnd.openxmlformats-officedocument.presentationml.slide+xml"/>
  <Override PartName="/ppt/slides/slide192.xml" ContentType="application/vnd.openxmlformats-officedocument.presentationml.slide+xml"/>
  <Override PartName="/ppt/slides/slide229.xml" ContentType="application/vnd.openxmlformats-officedocument.presentationml.slide+xml"/>
  <Override PartName="/ppt/slides/slide63.xml" ContentType="application/vnd.openxmlformats-officedocument.presentationml.slide+xml"/>
  <Override PartName="/ppt/slides/slide228.xml" ContentType="application/vnd.openxmlformats-officedocument.presentationml.slide+xml"/>
  <Override PartName="/ppt/slides/slide62.xml" ContentType="application/vnd.openxmlformats-officedocument.presentationml.slide+xml"/>
  <Override PartName="/ppt/slides/slide227.xml" ContentType="application/vnd.openxmlformats-officedocument.presentationml.slide+xml"/>
  <Override PartName="/ppt/slides/slide189.xml" ContentType="application/vnd.openxmlformats-officedocument.presentationml.slide+xml"/>
  <Override PartName="/ppt/slides/slide61.xml" ContentType="application/vnd.openxmlformats-officedocument.presentationml.slide+xml"/>
  <Override PartName="/ppt/slides/slide226.xml" ContentType="application/vnd.openxmlformats-officedocument.presentationml.slide+xml"/>
  <Override PartName="/ppt/slides/slide188.xml" ContentType="application/vnd.openxmlformats-officedocument.presentationml.slide+xml"/>
  <Override PartName="/ppt/slides/slide60.xml" ContentType="application/vnd.openxmlformats-officedocument.presentationml.slide+xml"/>
  <Override PartName="/ppt/slides/slide225.xml" ContentType="application/vnd.openxmlformats-officedocument.presentationml.slide+xml"/>
  <Override PartName="/ppt/slides/slide187.xml" ContentType="application/vnd.openxmlformats-officedocument.presentationml.slide+xml"/>
  <Override PartName="/ppt/slides/slide224.xml" ContentType="application/vnd.openxmlformats-officedocument.presentationml.slide+xml"/>
  <Override PartName="/ppt/slides/slide186.xml" ContentType="application/vnd.openxmlformats-officedocument.presentationml.slide+xml"/>
  <Override PartName="/ppt/slides/slide223.xml" ContentType="application/vnd.openxmlformats-officedocument.presentationml.slide+xml"/>
  <Override PartName="/ppt/slides/slide185.xml" ContentType="application/vnd.openxmlformats-officedocument.presentationml.slide+xml"/>
  <Override PartName="/ppt/slides/slide222.xml" ContentType="application/vnd.openxmlformats-officedocument.presentationml.slide+xml"/>
  <Override PartName="/ppt/slides/slide184.xml" ContentType="application/vnd.openxmlformats-officedocument.presentationml.slide+xml"/>
  <Override PartName="/ppt/slides/slide221.xml" ContentType="application/vnd.openxmlformats-officedocument.presentationml.slide+xml"/>
  <Override PartName="/ppt/slides/slide183.xml" ContentType="application/vnd.openxmlformats-officedocument.presentationml.slide+xml"/>
  <Override PartName="/ppt/slides/slide220.xml" ContentType="application/vnd.openxmlformats-officedocument.presentationml.slide+xml"/>
  <Override PartName="/ppt/slides/slide182.xml" ContentType="application/vnd.openxmlformats-officedocument.presentationml.slide+xml"/>
  <Override PartName="/ppt/slides/slide219.xml" ContentType="application/vnd.openxmlformats-officedocument.presentationml.slide+xml"/>
  <Override PartName="/ppt/slides/slide53.xml" ContentType="application/vnd.openxmlformats-officedocument.presentationml.slide+xml"/>
  <Override PartName="/ppt/slides/slide218.xml" ContentType="application/vnd.openxmlformats-officedocument.presentationml.slide+xml"/>
  <Override PartName="/ppt/slides/slide52.xml" ContentType="application/vnd.openxmlformats-officedocument.presentationml.slide+xml"/>
  <Override PartName="/ppt/slides/slide217.xml" ContentType="application/vnd.openxmlformats-officedocument.presentationml.slide+xml"/>
  <Override PartName="/ppt/slides/slide179.xml" ContentType="application/vnd.openxmlformats-officedocument.presentationml.slide+xml"/>
  <Override PartName="/ppt/slides/slide51.xml" ContentType="application/vnd.openxmlformats-officedocument.presentationml.slide+xml"/>
  <Override PartName="/ppt/slides/slide216.xml" ContentType="application/vnd.openxmlformats-officedocument.presentationml.slide+xml"/>
  <Override PartName="/ppt/slides/slide178.xml" ContentType="application/vnd.openxmlformats-officedocument.presentationml.slide+xml"/>
  <Override PartName="/ppt/slides/slide50.xml" ContentType="application/vnd.openxmlformats-officedocument.presentationml.slide+xml"/>
  <Override PartName="/ppt/slides/slide215.xml" ContentType="application/vnd.openxmlformats-officedocument.presentationml.slide+xml"/>
  <Override PartName="/ppt/slides/slide177.xml" ContentType="application/vnd.openxmlformats-officedocument.presentationml.slide+xml"/>
  <Override PartName="/ppt/slides/slide214.xml" ContentType="application/vnd.openxmlformats-officedocument.presentationml.slide+xml"/>
  <Override PartName="/ppt/slides/slide176.xml" ContentType="application/vnd.openxmlformats-officedocument.presentationml.slide+xml"/>
  <Override PartName="/ppt/slides/slide213.xml" ContentType="application/vnd.openxmlformats-officedocument.presentationml.slide+xml"/>
  <Override PartName="/ppt/slides/slide175.xml" ContentType="application/vnd.openxmlformats-officedocument.presentationml.slide+xml"/>
  <Override PartName="/ppt/slides/slide212.xml" ContentType="application/vnd.openxmlformats-officedocument.presentationml.slide+xml"/>
  <Override PartName="/ppt/slides/slide174.xml" ContentType="application/vnd.openxmlformats-officedocument.presentationml.slide+xml"/>
  <Override PartName="/ppt/slides/slide211.xml" ContentType="application/vnd.openxmlformats-officedocument.presentationml.slide+xml"/>
  <Override PartName="/ppt/slides/slide173.xml" ContentType="application/vnd.openxmlformats-officedocument.presentationml.slide+xml"/>
  <Override PartName="/ppt/slides/slide339.xml" ContentType="application/vnd.openxmlformats-officedocument.presentationml.slide+xml"/>
  <Override PartName="/ppt/slides/slide210.xml" ContentType="application/vnd.openxmlformats-officedocument.presentationml.slide+xml"/>
  <Override PartName="/ppt/slides/slide172.xml" ContentType="application/vnd.openxmlformats-officedocument.presentationml.slide+xml"/>
  <Override PartName="/ppt/slides/slide338.xml" ContentType="application/vnd.openxmlformats-officedocument.presentationml.slide+xml"/>
  <Override PartName="/ppt/slides/slide120.xml" ContentType="application/vnd.openxmlformats-officedocument.presentationml.slide+xml"/>
  <Override PartName="/ppt/slides/slide313.xml" ContentType="application/vnd.openxmlformats-officedocument.presentationml.slide+xml"/>
  <Override PartName="/ppt/slides/slide24.xml" ContentType="application/vnd.openxmlformats-officedocument.presentationml.slide+xml"/>
  <Override PartName="/ppt/slides/slide100.xml" ContentType="application/vnd.openxmlformats-officedocument.presentationml.slide+xml"/>
  <Override PartName="/ppt/slides/slide47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48.xml" ContentType="application/vnd.openxmlformats-officedocument.presentationml.slide+xml"/>
  <Override PartName="/ppt/slides/slide14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19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8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99.xml" ContentType="application/vnd.openxmlformats-officedocument.presentationml.slide+xml"/>
  <Override PartName="/ppt/slides/slide127.xml" ContentType="application/vnd.openxmlformats-officedocument.presentationml.slide+xml"/>
  <Override PartName="/ppt/slides/slide260.xml" ContentType="application/vnd.openxmlformats-officedocument.presentationml.slide+xml"/>
  <Override PartName="/ppt/slides/slide261.xml" ContentType="application/vnd.openxmlformats-officedocument.presentationml.slide+xml"/>
  <Override PartName="/ppt/slides/slide262.xml" ContentType="application/vnd.openxmlformats-officedocument.presentationml.slide+xml"/>
  <Override PartName="/ppt/slides/slide263.xml" ContentType="application/vnd.openxmlformats-officedocument.presentationml.slide+xml"/>
  <Override PartName="/ppt/slides/slide264.xml" ContentType="application/vnd.openxmlformats-officedocument.presentationml.slide+xml"/>
  <Override PartName="/ppt/slides/slide265.xml" ContentType="application/vnd.openxmlformats-officedocument.presentationml.slide+xml"/>
  <Override PartName="/ppt/slides/slide266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336.xml" ContentType="application/vnd.openxmlformats-officedocument.presentationml.slide+xml"/>
  <Override PartName="/ppt/slides/slide170.xml" ContentType="application/vnd.openxmlformats-officedocument.presentationml.slide+xml"/>
  <Override PartName="/ppt/slides/slide267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337.xml" ContentType="application/vnd.openxmlformats-officedocument.presentationml.slide+xml"/>
  <Override PartName="/ppt/slides/slide171.xml" ContentType="application/vnd.openxmlformats-officedocument.presentationml.slide+xml"/>
  <Override PartName="/ppt/slides/slide268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269.xml" ContentType="application/vnd.openxmlformats-officedocument.presentationml.slide+xml"/>
  <Override PartName="/ppt/slides/slide301.xml" ContentType="application/vnd.openxmlformats-officedocument.presentationml.slide+xml"/>
  <Override PartName="/ppt/slides/slide12.xml" ContentType="application/vnd.openxmlformats-officedocument.presentationml.slide+xml"/>
  <Override PartName="/ppt/slides/slide27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91.xml" ContentType="application/vnd.openxmlformats-officedocument.presentationml.slide+xml"/>
  <Override PartName="/ppt/slides/slide285.xml" ContentType="application/vnd.openxmlformats-officedocument.presentationml.slide+xml"/>
  <Override PartName="/ppt/slides/slide302.xml" ContentType="application/vnd.openxmlformats-officedocument.presentationml.slide+xml"/>
  <Override PartName="/ppt/slides/slide13.xml" ContentType="application/vnd.openxmlformats-officedocument.presentationml.slide+xml"/>
  <Override PartName="/ppt/slides/slide259.xml" ContentType="application/vnd.openxmlformats-officedocument.presentationml.slide+xml"/>
  <Override PartName="/ppt/slides/slide93.xml" ContentType="application/vnd.openxmlformats-officedocument.presentationml.slide+xml"/>
  <Override PartName="/ppt/slides/slide314.xml" ContentType="application/vnd.openxmlformats-officedocument.presentationml.slide+xml"/>
  <Override PartName="/ppt/slides/slide121.xml" ContentType="application/vnd.openxmlformats-officedocument.presentationml.slide+xml"/>
  <Override PartName="/ppt/slides/slide25.xml" ContentType="application/vnd.openxmlformats-officedocument.presentationml.slide+xml"/>
  <Override PartName="/ppt/slides/slide28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6.xml" ContentType="application/vnd.openxmlformats-officedocument.presentationml.slide+xml"/>
  <Override PartName="/ppt/slides/slide310.xml" ContentType="application/vnd.openxmlformats-officedocument.presentationml.slide+xml"/>
  <Override PartName="/ppt/slides/slide294.xml" ContentType="application/vnd.openxmlformats-officedocument.presentationml.slide+xml"/>
  <Override PartName="/ppt/slides/slide311.xml" ContentType="application/vnd.openxmlformats-officedocument.presentationml.slide+xml"/>
  <Override PartName="/ppt/slides/slide22.xml" ContentType="application/vnd.openxmlformats-officedocument.presentationml.slide+xml"/>
  <Override PartName="/ppt/slides/slide295.xml" ContentType="application/vnd.openxmlformats-officedocument.presentationml.slide+xml"/>
  <Override PartName="/ppt/slides/slide113.xml" ContentType="application/vnd.openxmlformats-officedocument.presentationml.slide+xml"/>
  <Override PartName="/ppt/slides/slide181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312.xml" ContentType="application/vnd.openxmlformats-officedocument.presentationml.slide+xml"/>
  <Override PartName="/ppt/slides/slide23.xml" ContentType="application/vnd.openxmlformats-officedocument.presentationml.slide+xml"/>
  <Override PartName="/ppt/slides/slide296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297.xml" ContentType="application/vnd.openxmlformats-officedocument.presentationml.slide+xml"/>
  <Override PartName="/ppt/slides/slide298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43.xml" ContentType="application/vnd.openxmlformats-officedocument.presentationml.slide+xml"/>
  <Override PartName="/ppt/slides/slide309.xml" ContentType="application/vnd.openxmlformats-officedocument.presentationml.slide+xml"/>
  <Override PartName="/ppt/slides/slide315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299.xml" ContentType="application/vnd.openxmlformats-officedocument.presentationml.slide+xml"/>
  <Override PartName="/ppt/slides/slide68.xml" ContentType="application/vnd.openxmlformats-officedocument.presentationml.slide+xml"/>
  <Override PartName="/ppt/slides/slide320.xml" ContentType="application/vnd.openxmlformats-officedocument.presentationml.slide+xml"/>
  <Override PartName="/ppt/slides/slide69.xml" ContentType="application/vnd.openxmlformats-officedocument.presentationml.slide+xml"/>
  <Override PartName="/ppt/slides/slide321.xml" ContentType="application/vnd.openxmlformats-officedocument.presentationml.slide+xml"/>
  <Override PartName="/ppt/slides/slide32.xml" ContentType="application/vnd.openxmlformats-officedocument.presentationml.slide+xml"/>
  <Override PartName="/ppt/slides/slide322.xml" ContentType="application/vnd.openxmlformats-officedocument.presentationml.slide+xml"/>
  <Override PartName="/ppt/slides/slide33.xml" ContentType="application/vnd.openxmlformats-officedocument.presentationml.slide+xml"/>
  <Override PartName="/ppt/slides/slide32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270.xml" ContentType="application/vnd.openxmlformats-officedocument.presentationml.slide+xml"/>
  <Override PartName="/ppt/slides/slide164.xml" ContentType="application/vnd.openxmlformats-officedocument.presentationml.slide+xml"/>
  <Override PartName="/ppt/slides/slide202.xml" ContentType="application/vnd.openxmlformats-officedocument.presentationml.slide+xml"/>
  <Override PartName="/ppt/slides/slide344.xml" ContentType="application/vnd.openxmlformats-officedocument.presentationml.slide+xml"/>
  <Override PartName="/ppt/slides/slide55.xml" ContentType="application/vnd.openxmlformats-officedocument.presentationml.slide+xml"/>
  <Override PartName="/ppt/slides/slide317.xml" ContentType="application/vnd.openxmlformats-officedocument.presentationml.slide+xml"/>
  <Override PartName="/ppt/slides/slide151.xml" ContentType="application/vnd.openxmlformats-officedocument.presentationml.slide+xml"/>
  <Override PartName="/ppt/slides/slide291.xml" ContentType="application/vnd.openxmlformats-officedocument.presentationml.slide+xml"/>
  <Override PartName="/ppt/slides/slide332.xml" ContentType="application/vnd.openxmlformats-officedocument.presentationml.slide+xml"/>
  <Override PartName="/ppt/slides/slide209.xml" ContentType="application/vnd.openxmlformats-officedocument.presentationml.slide+xml"/>
  <Override PartName="/ppt/slides/slide43.xml" ContentType="application/vnd.openxmlformats-officedocument.presentationml.slide+xml"/>
  <Override PartName="/ppt/slides/slide343.xml" ContentType="application/vnd.openxmlformats-officedocument.presentationml.slide+xml"/>
  <Override PartName="/ppt/slides/slide54.xml" ContentType="application/vnd.openxmlformats-officedocument.presentationml.slide+xml"/>
  <Override PartName="/ppt/slides/slide316.xml" ContentType="application/vnd.openxmlformats-officedocument.presentationml.slide+xml"/>
  <Override PartName="/ppt/slides/slide150.xml" ContentType="application/vnd.openxmlformats-officedocument.presentationml.slide+xml"/>
  <Override PartName="/ppt/slides/slide290.xml" ContentType="application/vnd.openxmlformats-officedocument.presentationml.slide+xml"/>
  <Override PartName="/ppt/slides/slide33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305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80.xml" ContentType="application/vnd.openxmlformats-officedocument.presentationml.slide+xml"/>
  <Override PartName="/ppt/slides/slide289.xml" ContentType="application/vnd.openxmlformats-officedocument.presentationml.slide+xml"/>
  <Override PartName="/ppt/slides/slide342.xml" ContentType="application/vnd.openxmlformats-officedocument.presentationml.slide+xml"/>
  <Override PartName="/ppt/slides/slide330.xml" ContentType="application/vnd.openxmlformats-officedocument.presentationml.slide+xml"/>
  <Override PartName="/ppt/slides/slide304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288.xml" ContentType="application/vnd.openxmlformats-officedocument.presentationml.slide+xml"/>
  <Override PartName="/ppt/slides/slide341.xml" ContentType="application/vnd.openxmlformats-officedocument.presentationml.slide+xml"/>
  <Override PartName="/ppt/slides/slide303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287.xml" ContentType="application/vnd.openxmlformats-officedocument.presentationml.slide+xml"/>
  <Override PartName="/ppt/slides/slide340.xml" ContentType="application/vnd.openxmlformats-officedocument.presentationml.slide+xml"/>
  <Override PartName="/ppt/slides/slide101.xml" ContentType="application/vnd.openxmlformats-officedocument.presentationml.slide+xml"/>
  <Override PartName="/ppt/slides/slide300.xml" ContentType="application/vnd.openxmlformats-officedocument.presentationml.slide+xml"/>
  <Override PartName="/ppt/slides/slide284.xml" ContentType="application/vnd.openxmlformats-officedocument.presentationml.slide+xml"/>
  <Override PartName="/ppt/slides/slide335.xml" ContentType="application/vnd.openxmlformats-officedocument.presentationml.slide+xml"/>
  <Override PartName="/ppt/slides/slide46.xml" ContentType="application/vnd.openxmlformats-officedocument.presentationml.slide+xml"/>
  <Override PartName="/ppt/slides/slide308.xml" ContentType="application/vnd.openxmlformats-officedocument.presentationml.slide+xml"/>
  <Override PartName="/ppt/slides/slide142.xml" ContentType="application/vnd.openxmlformats-officedocument.presentationml.slide+xml"/>
  <Override PartName="/ppt/slides/slide282.xml" ContentType="application/vnd.openxmlformats-officedocument.presentationml.slide+xml"/>
  <Override PartName="/ppt/slides/slide334.xml" ContentType="application/vnd.openxmlformats-officedocument.presentationml.slide+xml"/>
  <Override PartName="/ppt/slides/slide45.xml" ContentType="application/vnd.openxmlformats-officedocument.presentationml.slide+xml"/>
  <Override PartName="/ppt/slides/slide307.xml" ContentType="application/vnd.openxmlformats-officedocument.presentationml.slide+xml"/>
  <Override PartName="/ppt/slides/slide141.xml" ContentType="application/vnd.openxmlformats-officedocument.presentationml.slide+xml"/>
  <Override PartName="/ppt/slides/slide281.xml" ContentType="application/vnd.openxmlformats-officedocument.presentationml.slide+xml"/>
  <Override PartName="/ppt/slides/slide333.xml" ContentType="application/vnd.openxmlformats-officedocument.presentationml.slide+xml"/>
  <Override PartName="/ppt/slides/slide44.xml" ContentType="application/vnd.openxmlformats-officedocument.presentationml.slide+xml"/>
  <Override PartName="/ppt/slides/slide306.xml" ContentType="application/vnd.openxmlformats-officedocument.presentationml.slide+xml"/>
  <Override PartName="/ppt/slides/slide140.xml" ContentType="application/vnd.openxmlformats-officedocument.presentationml.slide+xml"/>
  <Override PartName="/ppt/slides/slide280.xml" ContentType="application/vnd.openxmlformats-officedocument.presentationml.slide+xml"/>
  <Override PartName="/ppt/slides/slide32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272.xml" ContentType="application/vnd.openxmlformats-officedocument.presentationml.slide+xml"/>
  <Override PartName="/ppt/slides/slide324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271.xml" ContentType="application/vnd.openxmlformats-officedocument.presentationml.slide+xml"/>
  <Override PartName="/ppt/slides/slide165.xml" ContentType="application/vnd.openxmlformats-officedocument.presentationml.slide+xml"/>
  <Override PartName="/ppt/slides/slide203.xml" ContentType="application/vnd.openxmlformats-officedocument.presentationml.slide+xml"/>
  <Override PartName="/ppt/slides/slide293.xml" ContentType="application/vnd.openxmlformats-officedocument.presentationml.slide+xml"/>
  <Override PartName="/ppt/slides/slide292.xml" ContentType="application/vnd.openxmlformats-officedocument.presentationml.slide+xml"/>
  <Override PartName="/ppt/slides/slide283.xml" ContentType="application/vnd.openxmlformats-officedocument.presentationml.slide+xml"/>
  <Override PartName="/ppt/slides/slide279.xml" ContentType="application/vnd.openxmlformats-officedocument.presentationml.slide+xml"/>
  <Override PartName="/ppt/slides/slide278.xml" ContentType="application/vnd.openxmlformats-officedocument.presentationml.slide+xml"/>
  <Override PartName="/ppt/slides/slide277.xml" ContentType="application/vnd.openxmlformats-officedocument.presentationml.slide+xml"/>
  <Override PartName="/ppt/slides/slide276.xml" ContentType="application/vnd.openxmlformats-officedocument.presentationml.slide+xml"/>
  <Override PartName="/ppt/slides/slide42.xml" ContentType="application/vnd.openxmlformats-officedocument.presentationml.slide+xml"/>
  <Override PartName="/ppt/slides/slide208.xml" ContentType="application/vnd.openxmlformats-officedocument.presentationml.slide+xml"/>
  <Override PartName="/ppt/slides/slide275.xml" ContentType="application/vnd.openxmlformats-officedocument.presentationml.slide+xml"/>
  <Override PartName="/ppt/slides/slide274.xml" ContentType="application/vnd.openxmlformats-officedocument.presentationml.slide+xml"/>
  <Override PartName="/ppt/slides/slide273.xml" ContentType="application/vnd.openxmlformats-officedocument.presentationml.slide+xml"/>
  <Override PartName="/ppt/slides/slide92.xml" ContentType="application/vnd.openxmlformats-officedocument.presentationml.slide+xml"/>
  <Override PartName="/ppt/slides/slide25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32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64.xml" ContentType="application/vnd.openxmlformats-officedocument.presentationml.slide+xml"/>
  <Override PartName="/ppt/slides/slide160.xml" ContentType="application/vnd.openxmlformats-officedocument.presentationml.slide+xml"/>
  <Override PartName="/ppt/slides/slide32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119.xml" ContentType="application/vnd.openxmlformats-officedocument.presentationml.slide+xml"/>
  <Override PartName="/ppt/slides/slide57.xml" ContentType="application/vnd.openxmlformats-officedocument.presentationml.slide+xml"/>
  <Override PartName="/ppt/slides/slide319.xml" ContentType="application/vnd.openxmlformats-officedocument.presentationml.slide+xml"/>
  <Override PartName="/ppt/slides/slide153.xml" ContentType="application/vnd.openxmlformats-officedocument.presentationml.slide+xml"/>
  <Override PartName="/ppt/slides/slide1.xml" ContentType="application/vnd.openxmlformats-officedocument.presentationml.slide+xml"/>
  <Override PartName="/ppt/slides/slide205.xml" ContentType="application/vnd.openxmlformats-officedocument.presentationml.slide+xml"/>
  <Override PartName="/ppt/slides/slide167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243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207.xml" ContentType="application/vnd.openxmlformats-officedocument.presentationml.slide+xml"/>
  <Override PartName="/ppt/slides/slide169.xml" ContentType="application/vnd.openxmlformats-officedocument.presentationml.slide+xml"/>
  <Override PartName="/ppt/slides/slide8.xml" ContentType="application/vnd.openxmlformats-officedocument.presentationml.slide+xml"/>
  <Override PartName="/ppt/slides/slide244.xml" ContentType="application/vnd.openxmlformats-officedocument.presentationml.slide+xml"/>
  <Override PartName="/ppt/slides/slide4.xml" ContentType="application/vnd.openxmlformats-officedocument.presentationml.slide+xml"/>
  <Override PartName="/ppt/slides/slide240.xml" ContentType="application/vnd.openxmlformats-officedocument.presentationml.slide+xml"/>
  <Override PartName="/ppt/slides/slide9.xml" ContentType="application/vnd.openxmlformats-officedocument.presentationml.slide+xml"/>
  <Override PartName="/ppt/slides/slide245.xml" ContentType="application/vnd.openxmlformats-officedocument.presentationml.slide+xml"/>
  <Override PartName="/ppt/slides/slide5.xml" ContentType="application/vnd.openxmlformats-officedocument.presentationml.slide+xml"/>
  <Override PartName="/ppt/slides/slide241.xml" ContentType="application/vnd.openxmlformats-officedocument.presentationml.slide+xml"/>
  <Override PartName="/ppt/slides/slide49.xml" ContentType="application/vnd.openxmlformats-officedocument.presentationml.slide+xml"/>
  <Override PartName="/ppt/slides/slide145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56.xml" ContentType="application/vnd.openxmlformats-officedocument.presentationml.slide+xml"/>
  <Override PartName="/ppt/slides/slide318.xml" ContentType="application/vnd.openxmlformats-officedocument.presentationml.slide+xml"/>
  <Override PartName="/ppt/slides/slide152.xml" ContentType="application/vnd.openxmlformats-officedocument.presentationml.slide+xml"/>
  <Override PartName="/ppt/slides/slide128.xml" ContentType="application/vnd.openxmlformats-officedocument.presentationml.slide+xml"/>
  <Override PartName="/ppt/slides/slide12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0.xml" ContentType="application/vnd.openxmlformats-officedocument.presentationml.slide+xml"/>
  <Override PartName="/ppt/slides/slide138.xml" ContentType="application/vnd.openxmlformats-officedocument.presentationml.slide+xml"/>
  <Override PartName="/ppt/slides/slide11.xml" ContentType="application/vnd.openxmlformats-officedocument.presentationml.slide+xml"/>
  <Override PartName="/ppt/slides/slide139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20.xml" ContentType="application/vnd.openxmlformats-officedocument.presentationml.slide+xml"/>
  <Override PartName="/ppt/slides/slide148.xml" ContentType="application/vnd.openxmlformats-officedocument.presentationml.slide+xml"/>
  <Override PartName="/ppt/slides/slide21.xml" ContentType="application/vnd.openxmlformats-officedocument.presentationml.slide+xml"/>
  <Override PartName="/ppt/slides/slide149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30.xml" ContentType="application/vnd.openxmlformats-officedocument.presentationml.slide+xml"/>
  <Override PartName="/ppt/slides/slide158.xml" ContentType="application/vnd.openxmlformats-officedocument.presentationml.slide+xml"/>
  <Override PartName="/ppt/slides/slide31.xml" ContentType="application/vnd.openxmlformats-officedocument.presentationml.slide+xml"/>
  <Override PartName="/ppt/slides/slide159.xml" ContentType="application/vnd.openxmlformats-officedocument.presentationml.slide+xml"/>
  <Override PartName="/ppt/slides/slide162.xml" ContentType="application/vnd.openxmlformats-officedocument.presentationml.slide+xml"/>
  <Override PartName="/ppt/slides/slide328.xml" ContentType="application/vnd.openxmlformats-officedocument.presentationml.slide+xml"/>
  <Override PartName="/ppt/slides/slide200.xml" ContentType="application/vnd.openxmlformats-officedocument.presentationml.slide+xml"/>
  <Override PartName="/ppt/slides/slide163.xml" ContentType="application/vnd.openxmlformats-officedocument.presentationml.slide+xml"/>
  <Override PartName="/ppt/slides/slide329.xml" ContentType="application/vnd.openxmlformats-officedocument.presentationml.slide+xml"/>
  <Override PartName="/ppt/slides/slide201.xml" ContentType="application/vnd.openxmlformats-officedocument.presentationml.slide+xml"/>
  <Override PartName="/ppt/slides/slide204.xml" ContentType="application/vnd.openxmlformats-officedocument.presentationml.slide+xml"/>
  <Override PartName="/ppt/slides/slide166.xml" ContentType="application/vnd.openxmlformats-officedocument.presentationml.slide+xml"/>
  <Override PartName="/ppt/slides/slide206.xml" ContentType="application/vnd.openxmlformats-officedocument.presentationml.slide+xml"/>
  <Override PartName="/ppt/slides/slide168.xml" ContentType="application/vnd.openxmlformats-officedocument.presentationml.slide+xml"/>
  <Override PartName="/ppt/slides/slide4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  <p:sldId id="456" r:id="rId204"/>
    <p:sldId id="457" r:id="rId205"/>
    <p:sldId id="458" r:id="rId206"/>
    <p:sldId id="459" r:id="rId207"/>
    <p:sldId id="460" r:id="rId208"/>
    <p:sldId id="461" r:id="rId209"/>
    <p:sldId id="462" r:id="rId210"/>
    <p:sldId id="463" r:id="rId211"/>
    <p:sldId id="464" r:id="rId212"/>
    <p:sldId id="465" r:id="rId213"/>
    <p:sldId id="466" r:id="rId214"/>
    <p:sldId id="467" r:id="rId215"/>
    <p:sldId id="468" r:id="rId216"/>
    <p:sldId id="469" r:id="rId217"/>
    <p:sldId id="470" r:id="rId218"/>
    <p:sldId id="471" r:id="rId219"/>
    <p:sldId id="472" r:id="rId220"/>
    <p:sldId id="473" r:id="rId221"/>
    <p:sldId id="474" r:id="rId222"/>
    <p:sldId id="475" r:id="rId223"/>
    <p:sldId id="476" r:id="rId224"/>
    <p:sldId id="477" r:id="rId225"/>
    <p:sldId id="478" r:id="rId226"/>
    <p:sldId id="479" r:id="rId227"/>
    <p:sldId id="480" r:id="rId228"/>
    <p:sldId id="481" r:id="rId229"/>
    <p:sldId id="482" r:id="rId230"/>
    <p:sldId id="483" r:id="rId231"/>
    <p:sldId id="484" r:id="rId232"/>
    <p:sldId id="485" r:id="rId233"/>
    <p:sldId id="486" r:id="rId234"/>
    <p:sldId id="487" r:id="rId235"/>
    <p:sldId id="488" r:id="rId236"/>
    <p:sldId id="489" r:id="rId237"/>
    <p:sldId id="490" r:id="rId238"/>
    <p:sldId id="491" r:id="rId239"/>
    <p:sldId id="492" r:id="rId240"/>
    <p:sldId id="493" r:id="rId241"/>
    <p:sldId id="494" r:id="rId242"/>
    <p:sldId id="495" r:id="rId243"/>
    <p:sldId id="496" r:id="rId244"/>
    <p:sldId id="497" r:id="rId245"/>
    <p:sldId id="498" r:id="rId246"/>
    <p:sldId id="499" r:id="rId247"/>
    <p:sldId id="500" r:id="rId248"/>
    <p:sldId id="501" r:id="rId249"/>
    <p:sldId id="502" r:id="rId250"/>
    <p:sldId id="503" r:id="rId251"/>
    <p:sldId id="504" r:id="rId252"/>
    <p:sldId id="505" r:id="rId253"/>
    <p:sldId id="506" r:id="rId254"/>
    <p:sldId id="507" r:id="rId255"/>
    <p:sldId id="508" r:id="rId256"/>
    <p:sldId id="509" r:id="rId257"/>
    <p:sldId id="510" r:id="rId258"/>
    <p:sldId id="511" r:id="rId259"/>
    <p:sldId id="512" r:id="rId260"/>
    <p:sldId id="513" r:id="rId261"/>
    <p:sldId id="514" r:id="rId262"/>
    <p:sldId id="515" r:id="rId263"/>
    <p:sldId id="516" r:id="rId264"/>
    <p:sldId id="517" r:id="rId265"/>
    <p:sldId id="518" r:id="rId266"/>
    <p:sldId id="519" r:id="rId267"/>
    <p:sldId id="520" r:id="rId268"/>
    <p:sldId id="521" r:id="rId269"/>
    <p:sldId id="522" r:id="rId270"/>
    <p:sldId id="523" r:id="rId271"/>
    <p:sldId id="524" r:id="rId272"/>
    <p:sldId id="525" r:id="rId273"/>
    <p:sldId id="526" r:id="rId274"/>
    <p:sldId id="527" r:id="rId275"/>
    <p:sldId id="528" r:id="rId276"/>
    <p:sldId id="529" r:id="rId277"/>
    <p:sldId id="530" r:id="rId278"/>
    <p:sldId id="531" r:id="rId279"/>
    <p:sldId id="532" r:id="rId280"/>
    <p:sldId id="533" r:id="rId281"/>
    <p:sldId id="534" r:id="rId282"/>
    <p:sldId id="535" r:id="rId283"/>
    <p:sldId id="536" r:id="rId284"/>
    <p:sldId id="537" r:id="rId285"/>
    <p:sldId id="538" r:id="rId286"/>
    <p:sldId id="539" r:id="rId287"/>
    <p:sldId id="540" r:id="rId288"/>
    <p:sldId id="541" r:id="rId289"/>
    <p:sldId id="542" r:id="rId290"/>
    <p:sldId id="543" r:id="rId291"/>
    <p:sldId id="544" r:id="rId292"/>
    <p:sldId id="545" r:id="rId293"/>
    <p:sldId id="546" r:id="rId294"/>
    <p:sldId id="547" r:id="rId295"/>
    <p:sldId id="548" r:id="rId296"/>
    <p:sldId id="549" r:id="rId297"/>
    <p:sldId id="550" r:id="rId298"/>
    <p:sldId id="551" r:id="rId299"/>
    <p:sldId id="552" r:id="rId300"/>
    <p:sldId id="553" r:id="rId301"/>
    <p:sldId id="554" r:id="rId302"/>
    <p:sldId id="555" r:id="rId303"/>
    <p:sldId id="556" r:id="rId304"/>
    <p:sldId id="557" r:id="rId305"/>
    <p:sldId id="558" r:id="rId306"/>
    <p:sldId id="559" r:id="rId307"/>
    <p:sldId id="560" r:id="rId308"/>
    <p:sldId id="561" r:id="rId309"/>
    <p:sldId id="562" r:id="rId310"/>
    <p:sldId id="563" r:id="rId311"/>
    <p:sldId id="564" r:id="rId312"/>
    <p:sldId id="565" r:id="rId313"/>
    <p:sldId id="566" r:id="rId314"/>
    <p:sldId id="567" r:id="rId315"/>
    <p:sldId id="568" r:id="rId316"/>
    <p:sldId id="569" r:id="rId317"/>
    <p:sldId id="570" r:id="rId318"/>
    <p:sldId id="571" r:id="rId319"/>
    <p:sldId id="572" r:id="rId320"/>
    <p:sldId id="573" r:id="rId321"/>
    <p:sldId id="574" r:id="rId322"/>
    <p:sldId id="575" r:id="rId323"/>
    <p:sldId id="576" r:id="rId324"/>
    <p:sldId id="577" r:id="rId325"/>
    <p:sldId id="578" r:id="rId326"/>
    <p:sldId id="579" r:id="rId327"/>
    <p:sldId id="580" r:id="rId328"/>
    <p:sldId id="581" r:id="rId329"/>
    <p:sldId id="582" r:id="rId330"/>
    <p:sldId id="583" r:id="rId331"/>
    <p:sldId id="584" r:id="rId332"/>
    <p:sldId id="585" r:id="rId333"/>
    <p:sldId id="586" r:id="rId334"/>
    <p:sldId id="587" r:id="rId335"/>
    <p:sldId id="588" r:id="rId336"/>
    <p:sldId id="589" r:id="rId337"/>
    <p:sldId id="590" r:id="rId338"/>
    <p:sldId id="591" r:id="rId339"/>
    <p:sldId id="592" r:id="rId340"/>
    <p:sldId id="593" r:id="rId341"/>
    <p:sldId id="594" r:id="rId342"/>
    <p:sldId id="595" r:id="rId343"/>
    <p:sldId id="596" r:id="rId344"/>
    <p:sldId id="597" r:id="rId345"/>
    <p:sldId id="598" r:id="rId346"/>
    <p:sldId id="599" r:id="rId347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slide" Target="slides/slide201.xml"/><Relationship Id="rId205" Type="http://schemas.openxmlformats.org/officeDocument/2006/relationships/slide" Target="slides/slide202.xml"/><Relationship Id="rId206" Type="http://schemas.openxmlformats.org/officeDocument/2006/relationships/slide" Target="slides/slide203.xml"/><Relationship Id="rId207" Type="http://schemas.openxmlformats.org/officeDocument/2006/relationships/slide" Target="slides/slide204.xml"/><Relationship Id="rId208" Type="http://schemas.openxmlformats.org/officeDocument/2006/relationships/slide" Target="slides/slide205.xml"/><Relationship Id="rId209" Type="http://schemas.openxmlformats.org/officeDocument/2006/relationships/slide" Target="slides/slide206.xml"/><Relationship Id="rId210" Type="http://schemas.openxmlformats.org/officeDocument/2006/relationships/slide" Target="slides/slide207.xml"/><Relationship Id="rId211" Type="http://schemas.openxmlformats.org/officeDocument/2006/relationships/slide" Target="slides/slide208.xml"/><Relationship Id="rId212" Type="http://schemas.openxmlformats.org/officeDocument/2006/relationships/slide" Target="slides/slide209.xml"/><Relationship Id="rId213" Type="http://schemas.openxmlformats.org/officeDocument/2006/relationships/slide" Target="slides/slide210.xml"/><Relationship Id="rId214" Type="http://schemas.openxmlformats.org/officeDocument/2006/relationships/slide" Target="slides/slide211.xml"/><Relationship Id="rId215" Type="http://schemas.openxmlformats.org/officeDocument/2006/relationships/slide" Target="slides/slide212.xml"/><Relationship Id="rId216" Type="http://schemas.openxmlformats.org/officeDocument/2006/relationships/slide" Target="slides/slide213.xml"/><Relationship Id="rId217" Type="http://schemas.openxmlformats.org/officeDocument/2006/relationships/slide" Target="slides/slide214.xml"/><Relationship Id="rId218" Type="http://schemas.openxmlformats.org/officeDocument/2006/relationships/slide" Target="slides/slide215.xml"/><Relationship Id="rId219" Type="http://schemas.openxmlformats.org/officeDocument/2006/relationships/slide" Target="slides/slide216.xml"/><Relationship Id="rId220" Type="http://schemas.openxmlformats.org/officeDocument/2006/relationships/slide" Target="slides/slide217.xml"/><Relationship Id="rId221" Type="http://schemas.openxmlformats.org/officeDocument/2006/relationships/slide" Target="slides/slide218.xml"/><Relationship Id="rId222" Type="http://schemas.openxmlformats.org/officeDocument/2006/relationships/slide" Target="slides/slide219.xml"/><Relationship Id="rId223" Type="http://schemas.openxmlformats.org/officeDocument/2006/relationships/slide" Target="slides/slide220.xml"/><Relationship Id="rId224" Type="http://schemas.openxmlformats.org/officeDocument/2006/relationships/slide" Target="slides/slide221.xml"/><Relationship Id="rId225" Type="http://schemas.openxmlformats.org/officeDocument/2006/relationships/slide" Target="slides/slide222.xml"/><Relationship Id="rId226" Type="http://schemas.openxmlformats.org/officeDocument/2006/relationships/slide" Target="slides/slide223.xml"/><Relationship Id="rId227" Type="http://schemas.openxmlformats.org/officeDocument/2006/relationships/slide" Target="slides/slide224.xml"/><Relationship Id="rId228" Type="http://schemas.openxmlformats.org/officeDocument/2006/relationships/slide" Target="slides/slide225.xml"/><Relationship Id="rId229" Type="http://schemas.openxmlformats.org/officeDocument/2006/relationships/slide" Target="slides/slide226.xml"/><Relationship Id="rId230" Type="http://schemas.openxmlformats.org/officeDocument/2006/relationships/slide" Target="slides/slide227.xml"/><Relationship Id="rId231" Type="http://schemas.openxmlformats.org/officeDocument/2006/relationships/slide" Target="slides/slide228.xml"/><Relationship Id="rId232" Type="http://schemas.openxmlformats.org/officeDocument/2006/relationships/slide" Target="slides/slide229.xml"/><Relationship Id="rId233" Type="http://schemas.openxmlformats.org/officeDocument/2006/relationships/slide" Target="slides/slide230.xml"/><Relationship Id="rId234" Type="http://schemas.openxmlformats.org/officeDocument/2006/relationships/slide" Target="slides/slide231.xml"/><Relationship Id="rId235" Type="http://schemas.openxmlformats.org/officeDocument/2006/relationships/slide" Target="slides/slide232.xml"/><Relationship Id="rId236" Type="http://schemas.openxmlformats.org/officeDocument/2006/relationships/slide" Target="slides/slide233.xml"/><Relationship Id="rId237" Type="http://schemas.openxmlformats.org/officeDocument/2006/relationships/slide" Target="slides/slide234.xml"/><Relationship Id="rId238" Type="http://schemas.openxmlformats.org/officeDocument/2006/relationships/slide" Target="slides/slide235.xml"/><Relationship Id="rId239" Type="http://schemas.openxmlformats.org/officeDocument/2006/relationships/slide" Target="slides/slide236.xml"/><Relationship Id="rId240" Type="http://schemas.openxmlformats.org/officeDocument/2006/relationships/slide" Target="slides/slide237.xml"/><Relationship Id="rId241" Type="http://schemas.openxmlformats.org/officeDocument/2006/relationships/slide" Target="slides/slide238.xml"/><Relationship Id="rId242" Type="http://schemas.openxmlformats.org/officeDocument/2006/relationships/slide" Target="slides/slide239.xml"/><Relationship Id="rId243" Type="http://schemas.openxmlformats.org/officeDocument/2006/relationships/slide" Target="slides/slide240.xml"/><Relationship Id="rId244" Type="http://schemas.openxmlformats.org/officeDocument/2006/relationships/slide" Target="slides/slide241.xml"/><Relationship Id="rId245" Type="http://schemas.openxmlformats.org/officeDocument/2006/relationships/slide" Target="slides/slide242.xml"/><Relationship Id="rId246" Type="http://schemas.openxmlformats.org/officeDocument/2006/relationships/slide" Target="slides/slide243.xml"/><Relationship Id="rId247" Type="http://schemas.openxmlformats.org/officeDocument/2006/relationships/slide" Target="slides/slide244.xml"/><Relationship Id="rId248" Type="http://schemas.openxmlformats.org/officeDocument/2006/relationships/slide" Target="slides/slide245.xml"/><Relationship Id="rId249" Type="http://schemas.openxmlformats.org/officeDocument/2006/relationships/slide" Target="slides/slide246.xml"/><Relationship Id="rId250" Type="http://schemas.openxmlformats.org/officeDocument/2006/relationships/slide" Target="slides/slide247.xml"/><Relationship Id="rId251" Type="http://schemas.openxmlformats.org/officeDocument/2006/relationships/slide" Target="slides/slide248.xml"/><Relationship Id="rId252" Type="http://schemas.openxmlformats.org/officeDocument/2006/relationships/slide" Target="slides/slide249.xml"/><Relationship Id="rId253" Type="http://schemas.openxmlformats.org/officeDocument/2006/relationships/slide" Target="slides/slide250.xml"/><Relationship Id="rId254" Type="http://schemas.openxmlformats.org/officeDocument/2006/relationships/slide" Target="slides/slide251.xml"/><Relationship Id="rId255" Type="http://schemas.openxmlformats.org/officeDocument/2006/relationships/slide" Target="slides/slide252.xml"/><Relationship Id="rId256" Type="http://schemas.openxmlformats.org/officeDocument/2006/relationships/slide" Target="slides/slide253.xml"/><Relationship Id="rId257" Type="http://schemas.openxmlformats.org/officeDocument/2006/relationships/slide" Target="slides/slide254.xml"/><Relationship Id="rId258" Type="http://schemas.openxmlformats.org/officeDocument/2006/relationships/slide" Target="slides/slide255.xml"/><Relationship Id="rId259" Type="http://schemas.openxmlformats.org/officeDocument/2006/relationships/slide" Target="slides/slide256.xml"/><Relationship Id="rId260" Type="http://schemas.openxmlformats.org/officeDocument/2006/relationships/slide" Target="slides/slide257.xml"/><Relationship Id="rId261" Type="http://schemas.openxmlformats.org/officeDocument/2006/relationships/slide" Target="slides/slide258.xml"/><Relationship Id="rId262" Type="http://schemas.openxmlformats.org/officeDocument/2006/relationships/slide" Target="slides/slide259.xml"/><Relationship Id="rId263" Type="http://schemas.openxmlformats.org/officeDocument/2006/relationships/slide" Target="slides/slide260.xml"/><Relationship Id="rId264" Type="http://schemas.openxmlformats.org/officeDocument/2006/relationships/slide" Target="slides/slide261.xml"/><Relationship Id="rId265" Type="http://schemas.openxmlformats.org/officeDocument/2006/relationships/slide" Target="slides/slide262.xml"/><Relationship Id="rId266" Type="http://schemas.openxmlformats.org/officeDocument/2006/relationships/slide" Target="slides/slide263.xml"/><Relationship Id="rId267" Type="http://schemas.openxmlformats.org/officeDocument/2006/relationships/slide" Target="slides/slide264.xml"/><Relationship Id="rId268" Type="http://schemas.openxmlformats.org/officeDocument/2006/relationships/slide" Target="slides/slide265.xml"/><Relationship Id="rId269" Type="http://schemas.openxmlformats.org/officeDocument/2006/relationships/slide" Target="slides/slide266.xml"/><Relationship Id="rId270" Type="http://schemas.openxmlformats.org/officeDocument/2006/relationships/slide" Target="slides/slide267.xml"/><Relationship Id="rId271" Type="http://schemas.openxmlformats.org/officeDocument/2006/relationships/slide" Target="slides/slide268.xml"/><Relationship Id="rId272" Type="http://schemas.openxmlformats.org/officeDocument/2006/relationships/slide" Target="slides/slide269.xml"/><Relationship Id="rId273" Type="http://schemas.openxmlformats.org/officeDocument/2006/relationships/slide" Target="slides/slide270.xml"/><Relationship Id="rId274" Type="http://schemas.openxmlformats.org/officeDocument/2006/relationships/slide" Target="slides/slide271.xml"/><Relationship Id="rId275" Type="http://schemas.openxmlformats.org/officeDocument/2006/relationships/slide" Target="slides/slide272.xml"/><Relationship Id="rId276" Type="http://schemas.openxmlformats.org/officeDocument/2006/relationships/slide" Target="slides/slide273.xml"/><Relationship Id="rId277" Type="http://schemas.openxmlformats.org/officeDocument/2006/relationships/slide" Target="slides/slide274.xml"/><Relationship Id="rId278" Type="http://schemas.openxmlformats.org/officeDocument/2006/relationships/slide" Target="slides/slide275.xml"/><Relationship Id="rId279" Type="http://schemas.openxmlformats.org/officeDocument/2006/relationships/slide" Target="slides/slide276.xml"/><Relationship Id="rId280" Type="http://schemas.openxmlformats.org/officeDocument/2006/relationships/slide" Target="slides/slide277.xml"/><Relationship Id="rId281" Type="http://schemas.openxmlformats.org/officeDocument/2006/relationships/slide" Target="slides/slide278.xml"/><Relationship Id="rId282" Type="http://schemas.openxmlformats.org/officeDocument/2006/relationships/slide" Target="slides/slide279.xml"/><Relationship Id="rId283" Type="http://schemas.openxmlformats.org/officeDocument/2006/relationships/slide" Target="slides/slide280.xml"/><Relationship Id="rId284" Type="http://schemas.openxmlformats.org/officeDocument/2006/relationships/slide" Target="slides/slide281.xml"/><Relationship Id="rId285" Type="http://schemas.openxmlformats.org/officeDocument/2006/relationships/slide" Target="slides/slide282.xml"/><Relationship Id="rId286" Type="http://schemas.openxmlformats.org/officeDocument/2006/relationships/slide" Target="slides/slide283.xml"/><Relationship Id="rId287" Type="http://schemas.openxmlformats.org/officeDocument/2006/relationships/slide" Target="slides/slide284.xml"/><Relationship Id="rId288" Type="http://schemas.openxmlformats.org/officeDocument/2006/relationships/slide" Target="slides/slide285.xml"/><Relationship Id="rId289" Type="http://schemas.openxmlformats.org/officeDocument/2006/relationships/slide" Target="slides/slide286.xml"/><Relationship Id="rId290" Type="http://schemas.openxmlformats.org/officeDocument/2006/relationships/slide" Target="slides/slide287.xml"/><Relationship Id="rId291" Type="http://schemas.openxmlformats.org/officeDocument/2006/relationships/slide" Target="slides/slide288.xml"/><Relationship Id="rId292" Type="http://schemas.openxmlformats.org/officeDocument/2006/relationships/slide" Target="slides/slide289.xml"/><Relationship Id="rId293" Type="http://schemas.openxmlformats.org/officeDocument/2006/relationships/slide" Target="slides/slide290.xml"/><Relationship Id="rId294" Type="http://schemas.openxmlformats.org/officeDocument/2006/relationships/slide" Target="slides/slide291.xml"/><Relationship Id="rId295" Type="http://schemas.openxmlformats.org/officeDocument/2006/relationships/slide" Target="slides/slide292.xml"/><Relationship Id="rId296" Type="http://schemas.openxmlformats.org/officeDocument/2006/relationships/slide" Target="slides/slide293.xml"/><Relationship Id="rId297" Type="http://schemas.openxmlformats.org/officeDocument/2006/relationships/slide" Target="slides/slide294.xml"/><Relationship Id="rId298" Type="http://schemas.openxmlformats.org/officeDocument/2006/relationships/slide" Target="slides/slide295.xml"/><Relationship Id="rId299" Type="http://schemas.openxmlformats.org/officeDocument/2006/relationships/slide" Target="slides/slide296.xml"/><Relationship Id="rId300" Type="http://schemas.openxmlformats.org/officeDocument/2006/relationships/slide" Target="slides/slide297.xml"/><Relationship Id="rId301" Type="http://schemas.openxmlformats.org/officeDocument/2006/relationships/slide" Target="slides/slide298.xml"/><Relationship Id="rId302" Type="http://schemas.openxmlformats.org/officeDocument/2006/relationships/slide" Target="slides/slide299.xml"/><Relationship Id="rId303" Type="http://schemas.openxmlformats.org/officeDocument/2006/relationships/slide" Target="slides/slide300.xml"/><Relationship Id="rId304" Type="http://schemas.openxmlformats.org/officeDocument/2006/relationships/slide" Target="slides/slide301.xml"/><Relationship Id="rId305" Type="http://schemas.openxmlformats.org/officeDocument/2006/relationships/slide" Target="slides/slide302.xml"/><Relationship Id="rId306" Type="http://schemas.openxmlformats.org/officeDocument/2006/relationships/slide" Target="slides/slide303.xml"/><Relationship Id="rId307" Type="http://schemas.openxmlformats.org/officeDocument/2006/relationships/slide" Target="slides/slide304.xml"/><Relationship Id="rId308" Type="http://schemas.openxmlformats.org/officeDocument/2006/relationships/slide" Target="slides/slide305.xml"/><Relationship Id="rId309" Type="http://schemas.openxmlformats.org/officeDocument/2006/relationships/slide" Target="slides/slide306.xml"/><Relationship Id="rId310" Type="http://schemas.openxmlformats.org/officeDocument/2006/relationships/slide" Target="slides/slide307.xml"/><Relationship Id="rId311" Type="http://schemas.openxmlformats.org/officeDocument/2006/relationships/slide" Target="slides/slide308.xml"/><Relationship Id="rId312" Type="http://schemas.openxmlformats.org/officeDocument/2006/relationships/slide" Target="slides/slide309.xml"/><Relationship Id="rId313" Type="http://schemas.openxmlformats.org/officeDocument/2006/relationships/slide" Target="slides/slide310.xml"/><Relationship Id="rId314" Type="http://schemas.openxmlformats.org/officeDocument/2006/relationships/slide" Target="slides/slide311.xml"/><Relationship Id="rId315" Type="http://schemas.openxmlformats.org/officeDocument/2006/relationships/slide" Target="slides/slide312.xml"/><Relationship Id="rId316" Type="http://schemas.openxmlformats.org/officeDocument/2006/relationships/slide" Target="slides/slide313.xml"/><Relationship Id="rId317" Type="http://schemas.openxmlformats.org/officeDocument/2006/relationships/slide" Target="slides/slide314.xml"/><Relationship Id="rId318" Type="http://schemas.openxmlformats.org/officeDocument/2006/relationships/slide" Target="slides/slide315.xml"/><Relationship Id="rId319" Type="http://schemas.openxmlformats.org/officeDocument/2006/relationships/slide" Target="slides/slide316.xml"/><Relationship Id="rId320" Type="http://schemas.openxmlformats.org/officeDocument/2006/relationships/slide" Target="slides/slide317.xml"/><Relationship Id="rId321" Type="http://schemas.openxmlformats.org/officeDocument/2006/relationships/slide" Target="slides/slide318.xml"/><Relationship Id="rId322" Type="http://schemas.openxmlformats.org/officeDocument/2006/relationships/slide" Target="slides/slide319.xml"/><Relationship Id="rId323" Type="http://schemas.openxmlformats.org/officeDocument/2006/relationships/slide" Target="slides/slide320.xml"/><Relationship Id="rId324" Type="http://schemas.openxmlformats.org/officeDocument/2006/relationships/slide" Target="slides/slide321.xml"/><Relationship Id="rId325" Type="http://schemas.openxmlformats.org/officeDocument/2006/relationships/slide" Target="slides/slide322.xml"/><Relationship Id="rId326" Type="http://schemas.openxmlformats.org/officeDocument/2006/relationships/slide" Target="slides/slide323.xml"/><Relationship Id="rId327" Type="http://schemas.openxmlformats.org/officeDocument/2006/relationships/slide" Target="slides/slide324.xml"/><Relationship Id="rId328" Type="http://schemas.openxmlformats.org/officeDocument/2006/relationships/slide" Target="slides/slide325.xml"/><Relationship Id="rId329" Type="http://schemas.openxmlformats.org/officeDocument/2006/relationships/slide" Target="slides/slide326.xml"/><Relationship Id="rId330" Type="http://schemas.openxmlformats.org/officeDocument/2006/relationships/slide" Target="slides/slide327.xml"/><Relationship Id="rId331" Type="http://schemas.openxmlformats.org/officeDocument/2006/relationships/slide" Target="slides/slide328.xml"/><Relationship Id="rId332" Type="http://schemas.openxmlformats.org/officeDocument/2006/relationships/slide" Target="slides/slide329.xml"/><Relationship Id="rId333" Type="http://schemas.openxmlformats.org/officeDocument/2006/relationships/slide" Target="slides/slide330.xml"/><Relationship Id="rId334" Type="http://schemas.openxmlformats.org/officeDocument/2006/relationships/slide" Target="slides/slide331.xml"/><Relationship Id="rId335" Type="http://schemas.openxmlformats.org/officeDocument/2006/relationships/slide" Target="slides/slide332.xml"/><Relationship Id="rId336" Type="http://schemas.openxmlformats.org/officeDocument/2006/relationships/slide" Target="slides/slide333.xml"/><Relationship Id="rId337" Type="http://schemas.openxmlformats.org/officeDocument/2006/relationships/slide" Target="slides/slide334.xml"/><Relationship Id="rId338" Type="http://schemas.openxmlformats.org/officeDocument/2006/relationships/slide" Target="slides/slide335.xml"/><Relationship Id="rId339" Type="http://schemas.openxmlformats.org/officeDocument/2006/relationships/slide" Target="slides/slide336.xml"/><Relationship Id="rId340" Type="http://schemas.openxmlformats.org/officeDocument/2006/relationships/slide" Target="slides/slide337.xml"/><Relationship Id="rId341" Type="http://schemas.openxmlformats.org/officeDocument/2006/relationships/slide" Target="slides/slide338.xml"/><Relationship Id="rId342" Type="http://schemas.openxmlformats.org/officeDocument/2006/relationships/slide" Target="slides/slide339.xml"/><Relationship Id="rId343" Type="http://schemas.openxmlformats.org/officeDocument/2006/relationships/slide" Target="slides/slide340.xml"/><Relationship Id="rId344" Type="http://schemas.openxmlformats.org/officeDocument/2006/relationships/slide" Target="slides/slide341.xml"/><Relationship Id="rId345" Type="http://schemas.openxmlformats.org/officeDocument/2006/relationships/slide" Target="slides/slide342.xml"/><Relationship Id="rId346" Type="http://schemas.openxmlformats.org/officeDocument/2006/relationships/slide" Target="slides/slide343.xml"/><Relationship Id="rId347" Type="http://schemas.openxmlformats.org/officeDocument/2006/relationships/slide" Target="slides/slide344.xml"/><Relationship Id="rId3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41720" y="685440"/>
            <a:ext cx="2374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DB80-015B-41BE-B985-3FA3E2C97F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194.xml.rels><?xml version="1.0" encoding="UTF-8"?>
<Relationships xmlns="http://schemas.openxmlformats.org/package/2006/relationships"><Relationship Id="rId1" Type="http://schemas.openxmlformats.org/officeDocument/2006/relationships/slide" Target="../slides/slide194.xml"/><Relationship Id="rId2" Type="http://schemas.openxmlformats.org/officeDocument/2006/relationships/notesMaster" Target="../notesMasters/notesMaster1.xml"/>
</Relationships>
</file>

<file path=ppt/notesSlides/_rels/notesSlide195.xml.rels><?xml version="1.0" encoding="UTF-8"?>
<Relationships xmlns="http://schemas.openxmlformats.org/package/2006/relationships"><Relationship Id="rId1" Type="http://schemas.openxmlformats.org/officeDocument/2006/relationships/slide" Target="../slides/slide195.xml"/><Relationship Id="rId2" Type="http://schemas.openxmlformats.org/officeDocument/2006/relationships/notesMaster" Target="../notesMasters/notesMaster1.xml"/>
</Relationships>
</file>

<file path=ppt/notesSlides/_rels/notesSlide196.xml.rels><?xml version="1.0" encoding="UTF-8"?>
<Relationships xmlns="http://schemas.openxmlformats.org/package/2006/relationships"><Relationship Id="rId1" Type="http://schemas.openxmlformats.org/officeDocument/2006/relationships/slide" Target="../slides/slide196.xml"/><Relationship Id="rId2" Type="http://schemas.openxmlformats.org/officeDocument/2006/relationships/notesMaster" Target="../notesMasters/notesMaster1.xml"/>
</Relationships>
</file>

<file path=ppt/notesSlides/_rels/notesSlide197.xml.rels><?xml version="1.0" encoding="UTF-8"?>
<Relationships xmlns="http://schemas.openxmlformats.org/package/2006/relationships"><Relationship Id="rId1" Type="http://schemas.openxmlformats.org/officeDocument/2006/relationships/slide" Target="../slides/slide197.xml"/><Relationship Id="rId2" Type="http://schemas.openxmlformats.org/officeDocument/2006/relationships/notesMaster" Target="../notesMasters/notesMaster1.xml"/>
</Relationships>
</file>

<file path=ppt/notesSlides/_rels/notesSlide198.xml.rels><?xml version="1.0" encoding="UTF-8"?>
<Relationships xmlns="http://schemas.openxmlformats.org/package/2006/relationships"><Relationship Id="rId1" Type="http://schemas.openxmlformats.org/officeDocument/2006/relationships/slide" Target="../slides/slide198.xml"/><Relationship Id="rId2" Type="http://schemas.openxmlformats.org/officeDocument/2006/relationships/notesMaster" Target="../notesMasters/notesMaster1.xml"/>
</Relationships>
</file>

<file path=ppt/notesSlides/_rels/notesSlide199.xml.rels><?xml version="1.0" encoding="UTF-8"?>
<Relationships xmlns="http://schemas.openxmlformats.org/package/2006/relationships"><Relationship Id="rId1" Type="http://schemas.openxmlformats.org/officeDocument/2006/relationships/slide" Target="../slides/slide19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00.xml.rels><?xml version="1.0" encoding="UTF-8"?>
<Relationships xmlns="http://schemas.openxmlformats.org/package/2006/relationships"><Relationship Id="rId1" Type="http://schemas.openxmlformats.org/officeDocument/2006/relationships/slide" Target="../slides/slide200.xml"/><Relationship Id="rId2" Type="http://schemas.openxmlformats.org/officeDocument/2006/relationships/notesMaster" Target="../notesMasters/notesMaster1.xml"/>
</Relationships>
</file>

<file path=ppt/notesSlides/_rels/notesSlide201.xml.rels><?xml version="1.0" encoding="UTF-8"?>
<Relationships xmlns="http://schemas.openxmlformats.org/package/2006/relationships"><Relationship Id="rId1" Type="http://schemas.openxmlformats.org/officeDocument/2006/relationships/slide" Target="../slides/slide201.xml"/><Relationship Id="rId2" Type="http://schemas.openxmlformats.org/officeDocument/2006/relationships/notesMaster" Target="../notesMasters/notesMaster1.xml"/>
</Relationships>
</file>

<file path=ppt/notesSlides/_rels/notesSlide202.xml.rels><?xml version="1.0" encoding="UTF-8"?>
<Relationships xmlns="http://schemas.openxmlformats.org/package/2006/relationships"><Relationship Id="rId1" Type="http://schemas.openxmlformats.org/officeDocument/2006/relationships/slide" Target="../slides/slide202.xml"/><Relationship Id="rId2" Type="http://schemas.openxmlformats.org/officeDocument/2006/relationships/notesMaster" Target="../notesMasters/notesMaster1.xml"/>
</Relationships>
</file>

<file path=ppt/notesSlides/_rels/notesSlide203.xml.rels><?xml version="1.0" encoding="UTF-8"?>
<Relationships xmlns="http://schemas.openxmlformats.org/package/2006/relationships"><Relationship Id="rId1" Type="http://schemas.openxmlformats.org/officeDocument/2006/relationships/slide" Target="../slides/slide203.xml"/><Relationship Id="rId2" Type="http://schemas.openxmlformats.org/officeDocument/2006/relationships/notesMaster" Target="../notesMasters/notesMaster1.xml"/>
</Relationships>
</file>

<file path=ppt/notesSlides/_rels/notesSlide204.xml.rels><?xml version="1.0" encoding="UTF-8"?>
<Relationships xmlns="http://schemas.openxmlformats.org/package/2006/relationships"><Relationship Id="rId1" Type="http://schemas.openxmlformats.org/officeDocument/2006/relationships/slide" Target="../slides/slide204.xml"/><Relationship Id="rId2" Type="http://schemas.openxmlformats.org/officeDocument/2006/relationships/notesMaster" Target="../notesMasters/notesMaster1.xml"/>
</Relationships>
</file>

<file path=ppt/notesSlides/_rels/notesSlide205.xml.rels><?xml version="1.0" encoding="UTF-8"?>
<Relationships xmlns="http://schemas.openxmlformats.org/package/2006/relationships"><Relationship Id="rId1" Type="http://schemas.openxmlformats.org/officeDocument/2006/relationships/slide" Target="../slides/slide20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34.xml.rels><?xml version="1.0" encoding="UTF-8"?>
<Relationships xmlns="http://schemas.openxmlformats.org/package/2006/relationships"><Relationship Id="rId1" Type="http://schemas.openxmlformats.org/officeDocument/2006/relationships/slide" Target="../slides/slide234.xml"/><Relationship Id="rId2" Type="http://schemas.openxmlformats.org/officeDocument/2006/relationships/notesMaster" Target="../notesMasters/notesMaster1.xml"/>
</Relationships>
</file>

<file path=ppt/notesSlides/_rels/notesSlide235.xml.rels><?xml version="1.0" encoding="UTF-8"?>
<Relationships xmlns="http://schemas.openxmlformats.org/package/2006/relationships"><Relationship Id="rId1" Type="http://schemas.openxmlformats.org/officeDocument/2006/relationships/slide" Target="../slides/slide235.xml"/><Relationship Id="rId2" Type="http://schemas.openxmlformats.org/officeDocument/2006/relationships/notesMaster" Target="../notesMasters/notesMaster1.xml"/>
</Relationships>
</file>

<file path=ppt/notesSlides/_rels/notesSlide236.xml.rels><?xml version="1.0" encoding="UTF-8"?>
<Relationships xmlns="http://schemas.openxmlformats.org/package/2006/relationships"><Relationship Id="rId1" Type="http://schemas.openxmlformats.org/officeDocument/2006/relationships/slide" Target="../slides/slide236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60.xml.rels><?xml version="1.0" encoding="UTF-8"?>
<Relationships xmlns="http://schemas.openxmlformats.org/package/2006/relationships"><Relationship Id="rId1" Type="http://schemas.openxmlformats.org/officeDocument/2006/relationships/slide" Target="../slides/slide260.xml"/><Relationship Id="rId2" Type="http://schemas.openxmlformats.org/officeDocument/2006/relationships/notesMaster" Target="../notesMasters/notesMaster1.xml"/>
</Relationships>
</file>

<file path=ppt/notesSlides/_rels/notesSlide261.xml.rels><?xml version="1.0" encoding="UTF-8"?>
<Relationships xmlns="http://schemas.openxmlformats.org/package/2006/relationships"><Relationship Id="rId1" Type="http://schemas.openxmlformats.org/officeDocument/2006/relationships/slide" Target="../slides/slide261.xml"/><Relationship Id="rId2" Type="http://schemas.openxmlformats.org/officeDocument/2006/relationships/notesMaster" Target="../notesMasters/notesMaster1.xml"/>
</Relationships>
</file>

<file path=ppt/notesSlides/_rels/notesSlide262.xml.rels><?xml version="1.0" encoding="UTF-8"?>
<Relationships xmlns="http://schemas.openxmlformats.org/package/2006/relationships"><Relationship Id="rId1" Type="http://schemas.openxmlformats.org/officeDocument/2006/relationships/slide" Target="../slides/slide262.xml"/><Relationship Id="rId2" Type="http://schemas.openxmlformats.org/officeDocument/2006/relationships/notesMaster" Target="../notesMasters/notesMaster1.xml"/>
</Relationships>
</file>

<file path=ppt/notesSlides/_rels/notesSlide263.xml.rels><?xml version="1.0" encoding="UTF-8"?>
<Relationships xmlns="http://schemas.openxmlformats.org/package/2006/relationships"><Relationship Id="rId1" Type="http://schemas.openxmlformats.org/officeDocument/2006/relationships/slide" Target="../slides/slide263.xml"/><Relationship Id="rId2" Type="http://schemas.openxmlformats.org/officeDocument/2006/relationships/notesMaster" Target="../notesMasters/notesMaster1.xml"/>
</Relationships>
</file>

<file path=ppt/notesSlides/_rels/notesSlide264.xml.rels><?xml version="1.0" encoding="UTF-8"?>
<Relationships xmlns="http://schemas.openxmlformats.org/package/2006/relationships"><Relationship Id="rId1" Type="http://schemas.openxmlformats.org/officeDocument/2006/relationships/slide" Target="../slides/slide264.xml"/><Relationship Id="rId2" Type="http://schemas.openxmlformats.org/officeDocument/2006/relationships/notesMaster" Target="../notesMasters/notesMaster1.xml"/>
</Relationships>
</file>

<file path=ppt/notesSlides/_rels/notesSlide265.xml.rels><?xml version="1.0" encoding="UTF-8"?>
<Relationships xmlns="http://schemas.openxmlformats.org/package/2006/relationships"><Relationship Id="rId1" Type="http://schemas.openxmlformats.org/officeDocument/2006/relationships/slide" Target="../slides/slide265.xml"/><Relationship Id="rId2" Type="http://schemas.openxmlformats.org/officeDocument/2006/relationships/notesMaster" Target="../notesMasters/notesMaster1.xml"/>
</Relationships>
</file>

<file path=ppt/notesSlides/_rels/notesSlide266.xml.rels><?xml version="1.0" encoding="UTF-8"?>
<Relationships xmlns="http://schemas.openxmlformats.org/package/2006/relationships"><Relationship Id="rId1" Type="http://schemas.openxmlformats.org/officeDocument/2006/relationships/slide" Target="../slides/slide266.xml"/><Relationship Id="rId2" Type="http://schemas.openxmlformats.org/officeDocument/2006/relationships/notesMaster" Target="../notesMasters/notesMaster1.xml"/>
</Relationships>
</file>

<file path=ppt/notesSlides/_rels/notesSlide267.xml.rels><?xml version="1.0" encoding="UTF-8"?>
<Relationships xmlns="http://schemas.openxmlformats.org/package/2006/relationships"><Relationship Id="rId1" Type="http://schemas.openxmlformats.org/officeDocument/2006/relationships/slide" Target="../slides/slide267.xml"/><Relationship Id="rId2" Type="http://schemas.openxmlformats.org/officeDocument/2006/relationships/notesMaster" Target="../notesMasters/notesMaster1.xml"/>
</Relationships>
</file>

<file path=ppt/notesSlides/_rels/notesSlide268.xml.rels><?xml version="1.0" encoding="UTF-8"?>
<Relationships xmlns="http://schemas.openxmlformats.org/package/2006/relationships"><Relationship Id="rId1" Type="http://schemas.openxmlformats.org/officeDocument/2006/relationships/slide" Target="../slides/slide268.xml"/><Relationship Id="rId2" Type="http://schemas.openxmlformats.org/officeDocument/2006/relationships/notesMaster" Target="../notesMasters/notesMaster1.xml"/>
</Relationships>
</file>

<file path=ppt/notesSlides/_rels/notesSlide269.xml.rels><?xml version="1.0" encoding="UTF-8"?>
<Relationships xmlns="http://schemas.openxmlformats.org/package/2006/relationships"><Relationship Id="rId1" Type="http://schemas.openxmlformats.org/officeDocument/2006/relationships/slide" Target="../slides/slide26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70.xml.rels><?xml version="1.0" encoding="UTF-8"?>
<Relationships xmlns="http://schemas.openxmlformats.org/package/2006/relationships"><Relationship Id="rId1" Type="http://schemas.openxmlformats.org/officeDocument/2006/relationships/slide" Target="../slides/slide270.xml"/><Relationship Id="rId2" Type="http://schemas.openxmlformats.org/officeDocument/2006/relationships/notesMaster" Target="../notesMasters/notesMaster1.xml"/>
</Relationships>
</file>

<file path=ppt/notesSlides/_rels/notesSlide271.xml.rels><?xml version="1.0" encoding="UTF-8"?>
<Relationships xmlns="http://schemas.openxmlformats.org/package/2006/relationships"><Relationship Id="rId1" Type="http://schemas.openxmlformats.org/officeDocument/2006/relationships/slide" Target="../slides/slide271.xml"/><Relationship Id="rId2" Type="http://schemas.openxmlformats.org/officeDocument/2006/relationships/notesMaster" Target="../notesMasters/notesMaster1.xml"/>
</Relationships>
</file>

<file path=ppt/notesSlides/_rels/notesSlide272.xml.rels><?xml version="1.0" encoding="UTF-8"?>
<Relationships xmlns="http://schemas.openxmlformats.org/package/2006/relationships"><Relationship Id="rId1" Type="http://schemas.openxmlformats.org/officeDocument/2006/relationships/slide" Target="../slides/slide272.xml"/><Relationship Id="rId2" Type="http://schemas.openxmlformats.org/officeDocument/2006/relationships/notesMaster" Target="../notesMasters/notesMaster1.xml"/>
</Relationships>
</file>

<file path=ppt/notesSlides/_rels/notesSlide273.xml.rels><?xml version="1.0" encoding="UTF-8"?>
<Relationships xmlns="http://schemas.openxmlformats.org/package/2006/relationships"><Relationship Id="rId1" Type="http://schemas.openxmlformats.org/officeDocument/2006/relationships/slide" Target="../slides/slide273.xml"/><Relationship Id="rId2" Type="http://schemas.openxmlformats.org/officeDocument/2006/relationships/notesMaster" Target="../notesMasters/notesMaster1.xml"/>
</Relationships>
</file>

<file path=ppt/notesSlides/_rels/notesSlide274.xml.rels><?xml version="1.0" encoding="UTF-8"?>
<Relationships xmlns="http://schemas.openxmlformats.org/package/2006/relationships"><Relationship Id="rId1" Type="http://schemas.openxmlformats.org/officeDocument/2006/relationships/slide" Target="../slides/slide274.xml"/><Relationship Id="rId2" Type="http://schemas.openxmlformats.org/officeDocument/2006/relationships/notesMaster" Target="../notesMasters/notesMaster1.xml"/>
</Relationships>
</file>

<file path=ppt/notesSlides/_rels/notesSlide275.xml.rels><?xml version="1.0" encoding="UTF-8"?>
<Relationships xmlns="http://schemas.openxmlformats.org/package/2006/relationships"><Relationship Id="rId1" Type="http://schemas.openxmlformats.org/officeDocument/2006/relationships/slide" Target="../slides/slide275.xml"/><Relationship Id="rId2" Type="http://schemas.openxmlformats.org/officeDocument/2006/relationships/notesMaster" Target="../notesMasters/notesMaster1.xml"/>
</Relationships>
</file>

<file path=ppt/notesSlides/_rels/notesSlide276.xml.rels><?xml version="1.0" encoding="UTF-8"?>
<Relationships xmlns="http://schemas.openxmlformats.org/package/2006/relationships"><Relationship Id="rId1" Type="http://schemas.openxmlformats.org/officeDocument/2006/relationships/slide" Target="../slides/slide276.xml"/><Relationship Id="rId2" Type="http://schemas.openxmlformats.org/officeDocument/2006/relationships/notesMaster" Target="../notesMasters/notesMaster1.xml"/>
</Relationships>
</file>

<file path=ppt/notesSlides/_rels/notesSlide277.xml.rels><?xml version="1.0" encoding="UTF-8"?>
<Relationships xmlns="http://schemas.openxmlformats.org/package/2006/relationships"><Relationship Id="rId1" Type="http://schemas.openxmlformats.org/officeDocument/2006/relationships/slide" Target="../slides/slide277.xml"/><Relationship Id="rId2" Type="http://schemas.openxmlformats.org/officeDocument/2006/relationships/notesMaster" Target="../notesMasters/notesMaster1.xml"/>
</Relationships>
</file>

<file path=ppt/notesSlides/_rels/notesSlide278.xml.rels><?xml version="1.0" encoding="UTF-8"?>
<Relationships xmlns="http://schemas.openxmlformats.org/package/2006/relationships"><Relationship Id="rId1" Type="http://schemas.openxmlformats.org/officeDocument/2006/relationships/slide" Target="../slides/slide278.xml"/><Relationship Id="rId2" Type="http://schemas.openxmlformats.org/officeDocument/2006/relationships/notesMaster" Target="../notesMasters/notesMaster1.xml"/>
</Relationships>
</file>

<file path=ppt/notesSlides/_rels/notesSlide279.xml.rels><?xml version="1.0" encoding="UTF-8"?>
<Relationships xmlns="http://schemas.openxmlformats.org/package/2006/relationships"><Relationship Id="rId1" Type="http://schemas.openxmlformats.org/officeDocument/2006/relationships/slide" Target="../slides/slide279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80.xml.rels><?xml version="1.0" encoding="UTF-8"?>
<Relationships xmlns="http://schemas.openxmlformats.org/package/2006/relationships"><Relationship Id="rId1" Type="http://schemas.openxmlformats.org/officeDocument/2006/relationships/slide" Target="../slides/slide280.xml"/><Relationship Id="rId2" Type="http://schemas.openxmlformats.org/officeDocument/2006/relationships/notesMaster" Target="../notesMasters/notesMaster1.xml"/>
</Relationships>
</file>

<file path=ppt/notesSlides/_rels/notesSlide281.xml.rels><?xml version="1.0" encoding="UTF-8"?>
<Relationships xmlns="http://schemas.openxmlformats.org/package/2006/relationships"><Relationship Id="rId1" Type="http://schemas.openxmlformats.org/officeDocument/2006/relationships/slide" Target="../slides/slide281.xml"/><Relationship Id="rId2" Type="http://schemas.openxmlformats.org/officeDocument/2006/relationships/notesMaster" Target="../notesMasters/notesMaster1.xml"/>
</Relationships>
</file>

<file path=ppt/notesSlides/_rels/notesSlide282.xml.rels><?xml version="1.0" encoding="UTF-8"?>
<Relationships xmlns="http://schemas.openxmlformats.org/package/2006/relationships"><Relationship Id="rId1" Type="http://schemas.openxmlformats.org/officeDocument/2006/relationships/slide" Target="../slides/slide282.xml"/><Relationship Id="rId2" Type="http://schemas.openxmlformats.org/officeDocument/2006/relationships/notesMaster" Target="../notesMasters/notesMaster1.xml"/>
</Relationships>
</file>

<file path=ppt/notesSlides/_rels/notesSlide283.xml.rels><?xml version="1.0" encoding="UTF-8"?>
<Relationships xmlns="http://schemas.openxmlformats.org/package/2006/relationships"><Relationship Id="rId1" Type="http://schemas.openxmlformats.org/officeDocument/2006/relationships/slide" Target="../slides/slide283.xml"/><Relationship Id="rId2" Type="http://schemas.openxmlformats.org/officeDocument/2006/relationships/notesMaster" Target="../notesMasters/notesMaster1.xml"/>
</Relationships>
</file>

<file path=ppt/notesSlides/_rels/notesSlide284.xml.rels><?xml version="1.0" encoding="UTF-8"?>
<Relationships xmlns="http://schemas.openxmlformats.org/package/2006/relationships"><Relationship Id="rId1" Type="http://schemas.openxmlformats.org/officeDocument/2006/relationships/slide" Target="../slides/slide284.xml"/><Relationship Id="rId2" Type="http://schemas.openxmlformats.org/officeDocument/2006/relationships/notesMaster" Target="../notesMasters/notesMaster1.xml"/>
</Relationships>
</file>

<file path=ppt/notesSlides/_rels/notesSlide285.xml.rels><?xml version="1.0" encoding="UTF-8"?>
<Relationships xmlns="http://schemas.openxmlformats.org/package/2006/relationships"><Relationship Id="rId1" Type="http://schemas.openxmlformats.org/officeDocument/2006/relationships/slide" Target="../slides/slide285.xml"/><Relationship Id="rId2" Type="http://schemas.openxmlformats.org/officeDocument/2006/relationships/notesMaster" Target="../notesMasters/notesMaster1.xml"/>
</Relationships>
</file>

<file path=ppt/notesSlides/_rels/notesSlide286.xml.rels><?xml version="1.0" encoding="UTF-8"?>
<Relationships xmlns="http://schemas.openxmlformats.org/package/2006/relationships"><Relationship Id="rId1" Type="http://schemas.openxmlformats.org/officeDocument/2006/relationships/slide" Target="../slides/slide286.xml"/><Relationship Id="rId2" Type="http://schemas.openxmlformats.org/officeDocument/2006/relationships/notesMaster" Target="../notesMasters/notesMaster1.xml"/>
</Relationships>
</file>

<file path=ppt/notesSlides/_rels/notesSlide287.xml.rels><?xml version="1.0" encoding="UTF-8"?>
<Relationships xmlns="http://schemas.openxmlformats.org/package/2006/relationships"><Relationship Id="rId1" Type="http://schemas.openxmlformats.org/officeDocument/2006/relationships/slide" Target="../slides/slide287.xml"/><Relationship Id="rId2" Type="http://schemas.openxmlformats.org/officeDocument/2006/relationships/notesMaster" Target="../notesMasters/notesMaster1.xml"/>
</Relationships>
</file>

<file path=ppt/notesSlides/_rels/notesSlide288.xml.rels><?xml version="1.0" encoding="UTF-8"?>
<Relationships xmlns="http://schemas.openxmlformats.org/package/2006/relationships"><Relationship Id="rId1" Type="http://schemas.openxmlformats.org/officeDocument/2006/relationships/slide" Target="../slides/slide288.xml"/><Relationship Id="rId2" Type="http://schemas.openxmlformats.org/officeDocument/2006/relationships/notesMaster" Target="../notesMasters/notesMaster1.xml"/>
</Relationships>
</file>

<file path=ppt/notesSlides/_rels/notesSlide289.xml.rels><?xml version="1.0" encoding="UTF-8"?>
<Relationships xmlns="http://schemas.openxmlformats.org/package/2006/relationships"><Relationship Id="rId1" Type="http://schemas.openxmlformats.org/officeDocument/2006/relationships/slide" Target="../slides/slide289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290.xml.rels><?xml version="1.0" encoding="UTF-8"?>
<Relationships xmlns="http://schemas.openxmlformats.org/package/2006/relationships"><Relationship Id="rId1" Type="http://schemas.openxmlformats.org/officeDocument/2006/relationships/slide" Target="../slides/slide290.xml"/><Relationship Id="rId2" Type="http://schemas.openxmlformats.org/officeDocument/2006/relationships/notesMaster" Target="../notesMasters/notesMaster1.xml"/>
</Relationships>
</file>

<file path=ppt/notesSlides/_rels/notesSlide291.xml.rels><?xml version="1.0" encoding="UTF-8"?>
<Relationships xmlns="http://schemas.openxmlformats.org/package/2006/relationships"><Relationship Id="rId1" Type="http://schemas.openxmlformats.org/officeDocument/2006/relationships/slide" Target="../slides/slide291.xml"/><Relationship Id="rId2" Type="http://schemas.openxmlformats.org/officeDocument/2006/relationships/notesMaster" Target="../notesMasters/notesMaster1.xml"/>
</Relationships>
</file>

<file path=ppt/notesSlides/_rels/notesSlide292.xml.rels><?xml version="1.0" encoding="UTF-8"?>
<Relationships xmlns="http://schemas.openxmlformats.org/package/2006/relationships"><Relationship Id="rId1" Type="http://schemas.openxmlformats.org/officeDocument/2006/relationships/slide" Target="../slides/slide292.xml"/><Relationship Id="rId2" Type="http://schemas.openxmlformats.org/officeDocument/2006/relationships/notesMaster" Target="../notesMasters/notesMaster1.xml"/>
</Relationships>
</file>

<file path=ppt/notesSlides/_rels/notesSlide293.xml.rels><?xml version="1.0" encoding="UTF-8"?>
<Relationships xmlns="http://schemas.openxmlformats.org/package/2006/relationships"><Relationship Id="rId1" Type="http://schemas.openxmlformats.org/officeDocument/2006/relationships/slide" Target="../slides/slide293.xml"/><Relationship Id="rId2" Type="http://schemas.openxmlformats.org/officeDocument/2006/relationships/notesMaster" Target="../notesMasters/notesMaster1.xml"/>
</Relationships>
</file>

<file path=ppt/notesSlides/_rels/notesSlide294.xml.rels><?xml version="1.0" encoding="UTF-8"?>
<Relationships xmlns="http://schemas.openxmlformats.org/package/2006/relationships"><Relationship Id="rId1" Type="http://schemas.openxmlformats.org/officeDocument/2006/relationships/slide" Target="../slides/slide294.xml"/><Relationship Id="rId2" Type="http://schemas.openxmlformats.org/officeDocument/2006/relationships/notesMaster" Target="../notesMasters/notesMaster1.xml"/>
</Relationships>
</file>

<file path=ppt/notesSlides/_rels/notesSlide295.xml.rels><?xml version="1.0" encoding="UTF-8"?>
<Relationships xmlns="http://schemas.openxmlformats.org/package/2006/relationships"><Relationship Id="rId1" Type="http://schemas.openxmlformats.org/officeDocument/2006/relationships/slide" Target="../slides/slide295.xml"/><Relationship Id="rId2" Type="http://schemas.openxmlformats.org/officeDocument/2006/relationships/notesMaster" Target="../notesMasters/notesMaster1.xml"/>
</Relationships>
</file>

<file path=ppt/notesSlides/_rels/notesSlide296.xml.rels><?xml version="1.0" encoding="UTF-8"?>
<Relationships xmlns="http://schemas.openxmlformats.org/package/2006/relationships"><Relationship Id="rId1" Type="http://schemas.openxmlformats.org/officeDocument/2006/relationships/slide" Target="../slides/slide296.xml"/><Relationship Id="rId2" Type="http://schemas.openxmlformats.org/officeDocument/2006/relationships/notesMaster" Target="../notesMasters/notesMaster1.xml"/>
</Relationships>
</file>

<file path=ppt/notesSlides/_rels/notesSlide297.xml.rels><?xml version="1.0" encoding="UTF-8"?>
<Relationships xmlns="http://schemas.openxmlformats.org/package/2006/relationships"><Relationship Id="rId1" Type="http://schemas.openxmlformats.org/officeDocument/2006/relationships/slide" Target="../slides/slide297.xml"/><Relationship Id="rId2" Type="http://schemas.openxmlformats.org/officeDocument/2006/relationships/notesMaster" Target="../notesMasters/notesMaster1.xml"/>
</Relationships>
</file>

<file path=ppt/notesSlides/_rels/notesSlide298.xml.rels><?xml version="1.0" encoding="UTF-8"?>
<Relationships xmlns="http://schemas.openxmlformats.org/package/2006/relationships"><Relationship Id="rId1" Type="http://schemas.openxmlformats.org/officeDocument/2006/relationships/slide" Target="../slides/slide298.xml"/><Relationship Id="rId2" Type="http://schemas.openxmlformats.org/officeDocument/2006/relationships/notesMaster" Target="../notesMasters/notesMaster1.xml"/>
</Relationships>
</file>

<file path=ppt/notesSlides/_rels/notesSlide299.xml.rels><?xml version="1.0" encoding="UTF-8"?>
<Relationships xmlns="http://schemas.openxmlformats.org/package/2006/relationships"><Relationship Id="rId1" Type="http://schemas.openxmlformats.org/officeDocument/2006/relationships/slide" Target="../slides/slide29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00.xml.rels><?xml version="1.0" encoding="UTF-8"?>
<Relationships xmlns="http://schemas.openxmlformats.org/package/2006/relationships"><Relationship Id="rId1" Type="http://schemas.openxmlformats.org/officeDocument/2006/relationships/slide" Target="../slides/slide300.xml"/><Relationship Id="rId2" Type="http://schemas.openxmlformats.org/officeDocument/2006/relationships/notesMaster" Target="../notesMasters/notesMaster1.xml"/>
</Relationships>
</file>

<file path=ppt/notesSlides/_rels/notesSlide301.xml.rels><?xml version="1.0" encoding="UTF-8"?>
<Relationships xmlns="http://schemas.openxmlformats.org/package/2006/relationships"><Relationship Id="rId1" Type="http://schemas.openxmlformats.org/officeDocument/2006/relationships/slide" Target="../slides/slide301.xml"/><Relationship Id="rId2" Type="http://schemas.openxmlformats.org/officeDocument/2006/relationships/notesMaster" Target="../notesMasters/notesMaster1.xml"/>
</Relationships>
</file>

<file path=ppt/notesSlides/_rels/notesSlide302.xml.rels><?xml version="1.0" encoding="UTF-8"?>
<Relationships xmlns="http://schemas.openxmlformats.org/package/2006/relationships"><Relationship Id="rId1" Type="http://schemas.openxmlformats.org/officeDocument/2006/relationships/slide" Target="../slides/slide302.xml"/><Relationship Id="rId2" Type="http://schemas.openxmlformats.org/officeDocument/2006/relationships/notesMaster" Target="../notesMasters/notesMaster1.xml"/>
</Relationships>
</file>

<file path=ppt/notesSlides/_rels/notesSlide303.xml.rels><?xml version="1.0" encoding="UTF-8"?>
<Relationships xmlns="http://schemas.openxmlformats.org/package/2006/relationships"><Relationship Id="rId1" Type="http://schemas.openxmlformats.org/officeDocument/2006/relationships/slide" Target="../slides/slide303.xml"/><Relationship Id="rId2" Type="http://schemas.openxmlformats.org/officeDocument/2006/relationships/notesMaster" Target="../notesMasters/notesMaster1.xml"/>
</Relationships>
</file>

<file path=ppt/notesSlides/_rels/notesSlide304.xml.rels><?xml version="1.0" encoding="UTF-8"?>
<Relationships xmlns="http://schemas.openxmlformats.org/package/2006/relationships"><Relationship Id="rId1" Type="http://schemas.openxmlformats.org/officeDocument/2006/relationships/slide" Target="../slides/slide304.xml"/><Relationship Id="rId2" Type="http://schemas.openxmlformats.org/officeDocument/2006/relationships/notesMaster" Target="../notesMasters/notesMaster1.xml"/>
</Relationships>
</file>

<file path=ppt/notesSlides/_rels/notesSlide305.xml.rels><?xml version="1.0" encoding="UTF-8"?>
<Relationships xmlns="http://schemas.openxmlformats.org/package/2006/relationships"><Relationship Id="rId1" Type="http://schemas.openxmlformats.org/officeDocument/2006/relationships/slide" Target="../slides/slide305.xml"/><Relationship Id="rId2" Type="http://schemas.openxmlformats.org/officeDocument/2006/relationships/notesMaster" Target="../notesMasters/notesMaster1.xml"/>
</Relationships>
</file>

<file path=ppt/notesSlides/_rels/notesSlide306.xml.rels><?xml version="1.0" encoding="UTF-8"?>
<Relationships xmlns="http://schemas.openxmlformats.org/package/2006/relationships"><Relationship Id="rId1" Type="http://schemas.openxmlformats.org/officeDocument/2006/relationships/slide" Target="../slides/slide306.xml"/><Relationship Id="rId2" Type="http://schemas.openxmlformats.org/officeDocument/2006/relationships/notesMaster" Target="../notesMasters/notesMaster1.xml"/>
</Relationships>
</file>

<file path=ppt/notesSlides/_rels/notesSlide307.xml.rels><?xml version="1.0" encoding="UTF-8"?>
<Relationships xmlns="http://schemas.openxmlformats.org/package/2006/relationships"><Relationship Id="rId1" Type="http://schemas.openxmlformats.org/officeDocument/2006/relationships/slide" Target="../slides/slide307.xml"/><Relationship Id="rId2" Type="http://schemas.openxmlformats.org/officeDocument/2006/relationships/notesMaster" Target="../notesMasters/notesMaster1.xml"/>
</Relationships>
</file>

<file path=ppt/notesSlides/_rels/notesSlide308.xml.rels><?xml version="1.0" encoding="UTF-8"?>
<Relationships xmlns="http://schemas.openxmlformats.org/package/2006/relationships"><Relationship Id="rId1" Type="http://schemas.openxmlformats.org/officeDocument/2006/relationships/slide" Target="../slides/slide308.xml"/><Relationship Id="rId2" Type="http://schemas.openxmlformats.org/officeDocument/2006/relationships/notesMaster" Target="../notesMasters/notesMaster1.xml"/>
</Relationships>
</file>

<file path=ppt/notesSlides/_rels/notesSlide309.xml.rels><?xml version="1.0" encoding="UTF-8"?>
<Relationships xmlns="http://schemas.openxmlformats.org/package/2006/relationships"><Relationship Id="rId1" Type="http://schemas.openxmlformats.org/officeDocument/2006/relationships/slide" Target="../slides/slide30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10.xml.rels><?xml version="1.0" encoding="UTF-8"?>
<Relationships xmlns="http://schemas.openxmlformats.org/package/2006/relationships"><Relationship Id="rId1" Type="http://schemas.openxmlformats.org/officeDocument/2006/relationships/slide" Target="../slides/slide310.xml"/><Relationship Id="rId2" Type="http://schemas.openxmlformats.org/officeDocument/2006/relationships/notesMaster" Target="../notesMasters/notesMaster1.xml"/>
</Relationships>
</file>

<file path=ppt/notesSlides/_rels/notesSlide311.xml.rels><?xml version="1.0" encoding="UTF-8"?>
<Relationships xmlns="http://schemas.openxmlformats.org/package/2006/relationships"><Relationship Id="rId1" Type="http://schemas.openxmlformats.org/officeDocument/2006/relationships/slide" Target="../slides/slide311.xml"/><Relationship Id="rId2" Type="http://schemas.openxmlformats.org/officeDocument/2006/relationships/notesMaster" Target="../notesMasters/notesMaster1.xml"/>
</Relationships>
</file>

<file path=ppt/notesSlides/_rels/notesSlide312.xml.rels><?xml version="1.0" encoding="UTF-8"?>
<Relationships xmlns="http://schemas.openxmlformats.org/package/2006/relationships"><Relationship Id="rId1" Type="http://schemas.openxmlformats.org/officeDocument/2006/relationships/slide" Target="../slides/slide312.xml"/><Relationship Id="rId2" Type="http://schemas.openxmlformats.org/officeDocument/2006/relationships/notesMaster" Target="../notesMasters/notesMaster1.xml"/>
</Relationships>
</file>

<file path=ppt/notesSlides/_rels/notesSlide313.xml.rels><?xml version="1.0" encoding="UTF-8"?>
<Relationships xmlns="http://schemas.openxmlformats.org/package/2006/relationships"><Relationship Id="rId1" Type="http://schemas.openxmlformats.org/officeDocument/2006/relationships/slide" Target="../slides/slide313.xml"/><Relationship Id="rId2" Type="http://schemas.openxmlformats.org/officeDocument/2006/relationships/notesMaster" Target="../notesMasters/notesMaster1.xml"/>
</Relationships>
</file>

<file path=ppt/notesSlides/_rels/notesSlide314.xml.rels><?xml version="1.0" encoding="UTF-8"?>
<Relationships xmlns="http://schemas.openxmlformats.org/package/2006/relationships"><Relationship Id="rId1" Type="http://schemas.openxmlformats.org/officeDocument/2006/relationships/slide" Target="../slides/slide314.xml"/><Relationship Id="rId2" Type="http://schemas.openxmlformats.org/officeDocument/2006/relationships/notesMaster" Target="../notesMasters/notesMaster1.xml"/>
</Relationships>
</file>

<file path=ppt/notesSlides/_rels/notesSlide315.xml.rels><?xml version="1.0" encoding="UTF-8"?>
<Relationships xmlns="http://schemas.openxmlformats.org/package/2006/relationships"><Relationship Id="rId1" Type="http://schemas.openxmlformats.org/officeDocument/2006/relationships/slide" Target="../slides/slide315.xml"/><Relationship Id="rId2" Type="http://schemas.openxmlformats.org/officeDocument/2006/relationships/notesMaster" Target="../notesMasters/notesMaster1.xml"/>
</Relationships>
</file>

<file path=ppt/notesSlides/_rels/notesSlide316.xml.rels><?xml version="1.0" encoding="UTF-8"?>
<Relationships xmlns="http://schemas.openxmlformats.org/package/2006/relationships"><Relationship Id="rId1" Type="http://schemas.openxmlformats.org/officeDocument/2006/relationships/slide" Target="../slides/slide316.xml"/><Relationship Id="rId2" Type="http://schemas.openxmlformats.org/officeDocument/2006/relationships/notesMaster" Target="../notesMasters/notesMaster1.xml"/>
</Relationships>
</file>

<file path=ppt/notesSlides/_rels/notesSlide317.xml.rels><?xml version="1.0" encoding="UTF-8"?>
<Relationships xmlns="http://schemas.openxmlformats.org/package/2006/relationships"><Relationship Id="rId1" Type="http://schemas.openxmlformats.org/officeDocument/2006/relationships/slide" Target="../slides/slide317.xml"/><Relationship Id="rId2" Type="http://schemas.openxmlformats.org/officeDocument/2006/relationships/notesMaster" Target="../notesMasters/notesMaster1.xml"/>
</Relationships>
</file>

<file path=ppt/notesSlides/_rels/notesSlide318.xml.rels><?xml version="1.0" encoding="UTF-8"?>
<Relationships xmlns="http://schemas.openxmlformats.org/package/2006/relationships"><Relationship Id="rId1" Type="http://schemas.openxmlformats.org/officeDocument/2006/relationships/slide" Target="../slides/slide318.xml"/><Relationship Id="rId2" Type="http://schemas.openxmlformats.org/officeDocument/2006/relationships/notesMaster" Target="../notesMasters/notesMaster1.xml"/>
</Relationships>
</file>

<file path=ppt/notesSlides/_rels/notesSlide319.xml.rels><?xml version="1.0" encoding="UTF-8"?>
<Relationships xmlns="http://schemas.openxmlformats.org/package/2006/relationships"><Relationship Id="rId1" Type="http://schemas.openxmlformats.org/officeDocument/2006/relationships/slide" Target="../slides/slide31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20.xml.rels><?xml version="1.0" encoding="UTF-8"?>
<Relationships xmlns="http://schemas.openxmlformats.org/package/2006/relationships"><Relationship Id="rId1" Type="http://schemas.openxmlformats.org/officeDocument/2006/relationships/slide" Target="../slides/slide320.xml"/><Relationship Id="rId2" Type="http://schemas.openxmlformats.org/officeDocument/2006/relationships/notesMaster" Target="../notesMasters/notesMaster1.xml"/>
</Relationships>
</file>

<file path=ppt/notesSlides/_rels/notesSlide321.xml.rels><?xml version="1.0" encoding="UTF-8"?>
<Relationships xmlns="http://schemas.openxmlformats.org/package/2006/relationships"><Relationship Id="rId1" Type="http://schemas.openxmlformats.org/officeDocument/2006/relationships/slide" Target="../slides/slide321.xml"/><Relationship Id="rId2" Type="http://schemas.openxmlformats.org/officeDocument/2006/relationships/notesMaster" Target="../notesMasters/notesMaster1.xml"/>
</Relationships>
</file>

<file path=ppt/notesSlides/_rels/notesSlide322.xml.rels><?xml version="1.0" encoding="UTF-8"?>
<Relationships xmlns="http://schemas.openxmlformats.org/package/2006/relationships"><Relationship Id="rId1" Type="http://schemas.openxmlformats.org/officeDocument/2006/relationships/slide" Target="../slides/slide32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3AE7-8C4D-46F9-8003-B33D15602B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88DB-75A6-44E1-8B2B-5173FECDB1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004C-BD27-4B7E-84B1-B2909D0774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FA94-BBA5-44C7-94EB-F156C24268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9F96-3387-4840-B968-B47E5EA2D6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6FFF-5D92-44E3-82A4-820247EFE0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15D3-43A1-459B-BEB6-E90EFD2742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F015-01BA-4294-BFC4-D478E4571E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84E2-377A-44DE-9457-A32847236E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899D-5172-4473-963D-2E0CA3947E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27F0-350E-44C1-8AD9-98D5C58EF7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DFDA-2C9C-4E76-BBD5-FDB77EA5AA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A670-C73A-48EC-8557-3114EFFA77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19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499F-5FBB-491C-BE60-D20C2B3C7B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EEAE-4538-40C3-A016-2804F0FCB8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82D4-B14F-4050-A1B4-DF3D0863A1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FCB6-EC96-472E-A1D9-741C1C9095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A8E8-723C-4742-A338-C161428010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D2DB-6C6B-44E1-9F91-546D6236D8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73C0-FFC9-4711-8B54-72B4E2A5F2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5EB1-6553-4049-8299-C6077D488B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281F-8149-47C7-A011-8AE5F6728D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806E-CF4F-4721-8259-0A26878A3A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B40D-86CE-4355-A647-C3E3D2CAD5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E7EA-FFC6-4503-9B83-5391AA2312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36FD-05E0-4F60-8074-02EE590743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E1FE-FCC4-4F0D-97F1-B06200B420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A137-9251-4E4E-890D-63993BD22E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DEB9-D15F-4362-A88A-C3340A33B4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601D-22E9-4130-822E-F010497CAB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A8F0-7C12-4517-9BCD-3797DBB0D9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7B26-8C34-4918-B5D4-1D9CC9CE69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9528-9BB6-4B29-A6B9-24CBB76B41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06F1-C129-47C4-883E-089A51B4FC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66EB-EF1D-4CEA-A575-1D9B5E6133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55FA-8CD2-4908-8A96-C6F021A7B8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2021-8513-4B69-A5C3-727E3994EA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8EEA-E3D9-4B85-B6AC-3D0FA131BE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48C2-60C6-4EA6-8D95-B857941D80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F9DA-96F7-4A1F-B3F2-8E0788184B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6EC5-AE9A-46A7-BB34-DF1A308244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8DDB-30F7-4B33-8AE4-394EA1262E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1FD8-9273-4F4D-A827-35C1EC94AA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E3C3-8E18-422B-8675-0C88038D21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C468-1C36-4951-8A18-2C4309B4DF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4D8C-13CD-4B1C-A747-D52C2D98B3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B8D9-8E5B-4D36-BCE1-D038BDCF9B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B20B-F275-4148-AA65-ABB3183A98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907E-6584-42EE-B27A-1FF529174B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1291-C4FF-450A-8FA2-E6BF5F508D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A112-EBC9-4A04-9899-683E35276D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268A-72AA-405D-83AE-CE4B95F6FE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CC40-C907-462F-A429-5EC0A71AD6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2D6F-35C2-4D2F-B835-113E1DF831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C002-8770-4158-80AB-EC0F088C2F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0315-B18A-4762-9529-CB7E419C71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E616-5A87-40FB-81D5-CF12C902F4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CC8C-EE0F-4AC1-937C-A9145856F6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6748-0D85-4B1D-B0E4-AB2EE1CF3E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F846-A1B7-4D28-97AA-99C43042AA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BD5B-DE7A-4950-AD2C-F26B12426A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6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B9B6-4F07-4AAC-84FE-415E96DF09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2DDB-AFB0-4A11-9B32-D3B2BDA43D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C131-A073-4CC1-9E3C-2D909CC5D8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B205-951C-46EF-99D1-C16A61754D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7223-6F0A-4B76-BBF7-59EBBBB320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9BE2-10EF-4FAD-9FE5-6F5A736CC3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7A8C-7751-4F2C-956C-123A8E07AB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3864-342E-4D83-A1AF-F6CFF01DD8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32A4-FA06-4636-87D6-5CB96CDC0B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1D8C-B2A1-46A7-B389-D5788DAA0B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AB7B-BA5D-4010-8EE9-51CE7F0B1F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F8C9-7842-4F69-BDC7-A7791ACF44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9BD6-5417-4E17-8976-006112BD3C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B85D-34C5-4C09-8E68-7EFE1A4535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BA0A-DF82-4525-B748-2FCF90CBB9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5CEF-93D1-4A6B-A69A-93980B4EF6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C4A1-B26F-430B-B043-E49CB08E01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3BF5-39EA-42A0-AA7D-2FED32689E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9B44-EF39-4F9B-A0D9-ED5D9897A5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473B-E89E-460E-BD19-C9BC11E460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8BDA-4037-4107-B07F-0FCC89B6EA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3610-44C7-4BF3-AAD3-9EB3ED776E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4413-112D-454D-B3C5-C7B077C703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3BE0-DA86-4BF4-99F1-2C59E088B5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F084-21A0-4BDF-A47D-88363438D0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35C2-0D7F-4C0D-A5F3-DFBD08B1D5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54A2-D204-40BB-A9E5-4E8ECE7181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1D28-CC44-47F6-85C3-06E4CBDA1E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0882-B162-44CC-9E31-13B0ADA5DA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229C-FC25-4FEC-AAB1-D29E3D944E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B257-7F14-4A2A-B737-88764A3DEE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6358-0375-4E4D-9E73-50AFF328DD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B65F-B71D-4093-A749-38205A75C4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3924-96B2-42C9-886E-D89FF9B543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4636-B49F-49B6-8AAF-23DD0FB5A1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260B-9427-47C5-A687-EDFCB36218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289E-F7AE-4251-8BB0-0EF21B2A0D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9359-ECA9-4E96-9507-AAECF995F6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BDB6-E4B9-4A5F-962C-D35797BC46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90D8-BBF4-428F-A8C4-57C1ECA441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569F-51CA-4E5B-9D4F-07032EA60A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D4CE-99A1-460D-AE9C-820316ED7F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E38C-9774-4F5B-AABB-5DA00F4B42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CCBD-126B-495D-9D12-E182B784DC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2A9A-0302-43E3-8093-FFBF33A2B2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25D3-17F4-42B4-9DA7-EE80904011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8C25-01D1-406D-BAB3-9DFEDF8048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7EB9-5DE1-4CA2-8CD0-49751F2BA0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56B0-34C3-42D5-8074-117F973B47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0" y="8683560"/>
            <a:ext cx="29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93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2661-B5BD-4317-81BF-E75D8FE324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E9BE-57F0-4A21-9666-8483CC8F75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C3EB-7BCF-4047-9F94-39F5244FF5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DF23-467A-42F6-BFF3-A678B42FEF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33CF-1D1D-4696-80D8-54E65D41CF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0" y="8683560"/>
            <a:ext cx="29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481A-062D-488D-91BC-207DB6124C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98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7FA4-359A-404B-95F5-9B07E5791E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A252-BC2F-4C78-8624-665583505E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8500-C901-4800-9783-246853F786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C9E3-67EF-4C17-B5C1-5AAF079BE4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2009-B398-4075-899C-5C20F833DC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0" y="8683560"/>
            <a:ext cx="29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0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AF2F-BD40-4B81-81D6-E8AF91B27D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93DA-D481-4FD3-A5A7-E022911CCF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0523-92CA-4F55-9588-5E976B1DCB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3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09CF-59B8-403A-B816-CB4EAC344B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8BB4-DD98-4DDD-A5E2-77263B8EF2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5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B7D1-120A-4248-B721-98C7BF7674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6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6580-1D78-46D9-A493-049BC5F69D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799D-0550-4CD7-A189-4358421F6E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8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6A69-0C30-4477-8400-28986F6785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525E-A2CB-4F1B-9BC7-20D71BCB33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9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4911-CA96-4DCB-97C4-B68E13CB93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0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6409-A43F-4C0E-B798-E18D295882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1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DF35-4D3A-44E6-8DBD-091FDD1F4E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D62B-AFA9-4115-B3C3-3E492FADA0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3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9193-7FEF-49C2-9DFE-71F307C923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4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D5A3-846E-4364-93F4-9901BC2726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5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1EFC-4E5B-4CAA-A70B-C3FBFCE880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6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EE75-F696-48B1-8117-289EB0E16F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7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B695-765E-441A-9557-AD1A687E0C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BC90-B3F5-4618-BB76-A52EF11670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ED18-B116-4311-A538-21792CDABA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0" y="8683560"/>
            <a:ext cx="29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9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FC7D-0695-4198-B3E0-B7AFD6A2C0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20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E20E-5FEA-44BB-98FE-88F8611C2A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3213-5F95-455E-BDB0-49EE4AA6A1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E1BA-069C-466E-8C4F-68D44D2782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0DEC-D17F-47A0-BCB1-45C4CA8EF7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6C8A-6EC7-4639-B4E4-F4F2BC2001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8C25-6D2A-4F87-A9D3-D8DDA85B35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A147-1239-47F4-BF2E-8CCB9FA3AF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DFF1-6AF3-4667-A539-9FD7401D1F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799F-FFAE-4443-A5AE-333475A3B6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3724-747A-472C-AB38-3EE680AD7A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BCEC-4BF3-4570-9AE9-26C26A18D4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A265-C029-469D-9745-7C95D5D9B8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C0BC-7CA3-41EB-AF00-2CB07BE464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84DD-6776-4850-A939-B31BDFB58E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F9FD-3EF5-44F2-AAAF-6D651514DD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1553-A5C6-45DC-8009-CAE9D8731D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56B0-88F8-49E4-9C3B-14A70FDF82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936D-980D-4B80-93EE-6BEB4A436F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79C8-C850-419F-A56F-E859D658E5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BFC7-D526-411C-837C-44D72BDA9C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6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368E-CB11-499F-8411-CD80B46DCD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B52F-0CDE-43FD-A0AA-3EE1781000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F115-FC8C-4C89-BDDD-37FE836DF8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3E35-F700-4AE8-90BF-61D8AA1B25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A940-2863-4094-9B50-1DFAC32AC7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00FA-0266-4AF8-9871-19A6FC43A2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1BAC-C252-40AA-B9F8-788120B626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F797-21CB-4253-A236-7C6CBE216B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564C-864C-46FB-B580-589A492DE8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5D13-C4A7-4C84-A69A-85F114C3ED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DE22-B29D-4E29-8B1A-1A057B40E8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AD67-63B3-4DCA-863B-55D5451584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6D3B-CF17-4AD5-806D-291D43E88A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7079-516B-453E-B6CB-23982C0375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D249-0B5C-441E-A386-402998C200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400E-F1A6-4F90-9F76-6C3BAA055B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0F89-AE08-400A-BADF-FF99A6E14E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BC7F-FE28-48F9-9743-EC1F28B506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C4C8-3CE4-4CAF-918B-D27C9FAFC0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BC8E-1EA0-4EFE-9AA7-45FED6647D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324F-2148-4BF3-B3A4-E30E730368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A565-18F6-43A8-95E6-D6B2954D2A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414D-57BD-4FBC-8592-DD81478DD6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08A5-5259-4919-9C65-CA9C4EA2E3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2BD3-1868-49B6-9CBF-ABD45E5FA0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PlaceHolder 1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  <p:sp>
        <p:nvSpPr>
          <p:cNvPr id="2467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78DF-2D8E-4D87-A3DE-CB6B2F0676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0763-68C3-4BFF-8447-CD24E52C4F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47C7-871E-455A-9818-F7E2846DA2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9EDE-10FE-46EF-B6C3-4F8353344C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3459-36B2-42DD-AAE1-DA1DD53BF2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8873-6E0A-4169-8457-64B3E97457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1567-EEA1-45F2-9D4D-C0609FFBB6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3B9A-79F7-477A-8A28-16BFBEFED8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54EF-E66A-4EB4-9DF8-1843CCD850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D397-9E3E-4959-B6D6-63D96C39F4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DEFE-DCC7-4D0D-93D6-5F934BD91F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CB1A-8ADA-4DDC-B499-B87F077DB4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44F9-2258-4CA7-8928-29E9C31839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B41F-A408-427A-97AD-0EAF7AF810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A916-A2B0-449F-9D42-ACD71C9FF5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E8B1-A46B-4A4A-8A95-12C3EB44E9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E0B8-7ED9-4E2B-89FF-FFDBF444A6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6215-83A1-4C6B-9778-9828807011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F4B9-DFDE-4E9D-9860-3504EAC834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F1EE-2A48-4B8E-A4E9-1A25824D11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7D16-8ACE-4EDA-A44C-17F18818FF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10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E4EE-8B96-497F-8A3D-E5BBE065A3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A405-91DF-4F94-A4C9-ABE654E926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7159-6988-4D93-B9DB-BCF9982D6A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A3B2-D95C-41E9-BF2F-4A1F733FDD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E0E9-4923-450F-A577-7323E2E57B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94B4-1984-4B56-B1BC-1B85627E83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E09E-16EE-4163-B53B-0723D8A4CF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64E5-54EA-4EBE-8C93-A15E10E748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381E-653F-4CE1-82A8-48CFD4E76C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F7A3-0776-47B3-B344-2C6BFDF38F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8722-4C24-4537-BD41-9601BB1744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FCE5-6A87-421D-950B-BE8A1839F7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D912-8813-4BDC-8506-2378D5B839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36D7-8DFE-4FA5-8758-5547E8EB46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A6FF-1146-4FDB-B6FD-D3B585C06F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8BE0-A517-4607-BB93-E00495C7F0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21FB-D484-4354-A574-99D9A63BF5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F46F-6444-4B1B-AA3B-2A817D2AB4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18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5AE4-484F-49F5-943D-7D99455923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AB12-0C28-4A89-BF25-3F2B63C0AB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9FA2-AD04-4F17-B048-857839BD9E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77B8-AAC1-4D7F-B3E7-0735AB70B3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E83E-5406-4190-A2BE-2DC4F811DA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E6D3-E9C4-4B28-A932-60482155AA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6988-E418-41FD-BA1B-A1FE29CF5F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999D-D9C8-49EE-B096-48B301FB2C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2AAA-D0DB-4700-94C3-44A4167D93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6833-9397-4E22-A606-9F2BE7F561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0334-1034-4450-AF31-C307EE0379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C02C-C32A-43B1-9734-3C8E7FDA1E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7075-4C1F-4108-9D67-A3090CA981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983F-E7B1-4BA1-88F7-BFE631D8D8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2287-346E-46DA-B553-E518AAB08C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9E80-F8D4-4286-A4D7-0A44B767F3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D385-C606-48AD-B272-426D213564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D415-B86E-4582-B504-43CDDACB0B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6E3B-108C-4230-B243-CE665FA348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8F54-2815-440E-A8C4-600D3076E6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B429-5F83-4285-B97F-AD5B416DBF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C81E-CAC6-47FA-85B7-92B6B35941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A8FA-2692-47FD-96A9-C93A8870A2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4565-E8AD-44E7-B22A-1C3196702D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7880-A6DA-4A7C-8393-4FA22A06E9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E116-89AF-4CE4-A3E1-FE4E333353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1F85-EEF6-4A2C-B80C-015A3ADE86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8831-FA33-4B33-B556-388D832F15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85D7-F057-44C8-B0F6-3D85D96A0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07960"/>
            <a:ext cx="582912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322C-DE44-4DD4-B45A-7DE1D799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0796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0796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9624-898E-462C-B349-9D22610AF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28600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28600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0796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0796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0796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6681-80ED-47E4-8324-950D13007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8EC2-4944-4311-8121-6802DAE8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1382-3C78-4D6F-8C24-BCD45D94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6559-5DBD-49DD-94C7-5107A248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4ABC-ECFD-4B50-AFC0-D3A06EEB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30492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58C1-5BC5-40FE-B2FE-68EE903D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0796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6D26-37A1-4889-A578-DAE5FCC2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0796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3F19-F924-4F1D-95AF-F4E91807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07960"/>
            <a:ext cx="582912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B3CD-C138-42C9-BAAA-C09D7D64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3520" y="9710280"/>
            <a:ext cx="1428480" cy="1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17EE-C136-4CBF-8621-F5FFAAAE393A}" type="datetime">
              <a:rPr b="0" lang="sr-Latn-CS" sz="8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400" y="9710280"/>
            <a:ext cx="2743200" cy="1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00" spc="-1" strike="noStrike">
                <a:solidFill>
                  <a:srgbClr val="000000"/>
                </a:solidFill>
                <a:latin typeface="Times New Roman"/>
              </a:rPr>
              <a:t>Predavanja iz Upravljanja – 02-U čemu je razlika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52520" y="9710280"/>
            <a:ext cx="1428840" cy="1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7C76-9D01-4CBD-9F2E-C73BC6CCE7CF}" type="slidenum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sl-SI" sz="800" spc="-1" strike="noStrike">
                <a:solidFill>
                  <a:srgbClr val="000000"/>
                </a:solidFill>
                <a:latin typeface="Times New Roman"/>
              </a:rPr>
              <a:t> od 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3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4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5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6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7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8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0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2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3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04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5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4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35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6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0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61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2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3.xml"/>
</Relationships>
</file>

<file path=ppt/slides/_rels/slide2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4.xml"/>
</Relationships>
</file>

<file path=ppt/slides/_rels/slide2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5.xml"/>
</Relationships>
</file>

<file path=ppt/slides/_rels/slide2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6.xml"/>
</Relationships>
</file>

<file path=ppt/slides/_rels/slide2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7.xml"/>
</Relationships>
</file>

<file path=ppt/slides/_rels/slide2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8.xml"/>
</Relationships>
</file>

<file path=ppt/slides/_rels/slide2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7.xml"/>
</Relationships>
</file>

<file path=ppt/slides/_rels/slide2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0.xml"/>
</Relationships>
</file>

<file path=ppt/slides/_rels/slide2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1.xml"/>
</Relationships>
</file>

<file path=ppt/slides/_rels/slide2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2.xml"/>
</Relationships>
</file>

<file path=ppt/slides/_rels/slide2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3.xml"/>
</Relationships>
</file>

<file path=ppt/slides/_rels/slide2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4.xml"/>
</Relationships>
</file>

<file path=ppt/slides/_rels/slide2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5.xml"/>
</Relationships>
</file>

<file path=ppt/slides/_rels/slide2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6.xml"/>
</Relationships>
</file>

<file path=ppt/slides/_rels/slide2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7.xml"/>
</Relationships>
</file>

<file path=ppt/slides/_rels/slide2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8.xml"/>
</Relationships>
</file>

<file path=ppt/slides/_rels/slide2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80.xml"/>
</Relationships>
</file>

<file path=ppt/slides/_rels/slide2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1.xml"/>
</Relationships>
</file>

<file path=ppt/slides/_rels/slide2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2.xml"/>
</Relationships>
</file>

<file path=ppt/slides/_rels/slide2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3.xml"/>
</Relationships>
</file>

<file path=ppt/slides/_rels/slide2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4.xml"/>
</Relationships>
</file>

<file path=ppt/slides/_rels/slide2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5.xml"/>
</Relationships>
</file>

<file path=ppt/slides/_rels/slide2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6.xml"/>
</Relationships>
</file>

<file path=ppt/slides/_rels/slide2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7.xml"/>
</Relationships>
</file>

<file path=ppt/slides/_rels/slide2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8.xml"/>
</Relationships>
</file>

<file path=ppt/slides/_rels/slide2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9.xml"/>
</Relationships>
</file>

<file path=ppt/slides/_rels/slide2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0.xml"/>
</Relationships>
</file>

<file path=ppt/slides/_rels/slide2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1.xml"/>
</Relationships>
</file>

<file path=ppt/slides/_rels/slide2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2.xml"/>
</Relationships>
</file>

<file path=ppt/slides/_rels/slide2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3.xml"/>
</Relationships>
</file>

<file path=ppt/slides/_rels/slide2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94.xml"/>
</Relationships>
</file>

<file path=ppt/slides/_rels/slide2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5.xml"/>
</Relationships>
</file>

<file path=ppt/slides/_rels/slide2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6.xml"/>
</Relationships>
</file>

<file path=ppt/slides/_rels/slide2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7.xml"/>
</Relationships>
</file>

<file path=ppt/slides/_rels/slide2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8.xml"/>
</Relationships>
</file>

<file path=ppt/slides/_rels/slide2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0.xml"/>
</Relationships>
</file>

<file path=ppt/slides/_rels/slide30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01.xml"/>
</Relationships>
</file>

<file path=ppt/slides/_rels/slide3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2.xml"/>
</Relationships>
</file>

<file path=ppt/slides/_rels/slide3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3.xml"/>
</Relationships>
</file>

<file path=ppt/slides/_rels/slide3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4.xml"/>
</Relationships>
</file>

<file path=ppt/slides/_rels/slide3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5.xml"/>
</Relationships>
</file>

<file path=ppt/slides/_rels/slide3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6.xml"/>
</Relationships>
</file>

<file path=ppt/slides/_rels/slide3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7.xml"/>
</Relationships>
</file>

<file path=ppt/slides/_rels/slide3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8.xml"/>
</Relationships>
</file>

<file path=ppt/slides/_rels/slide3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0.xml"/>
</Relationships>
</file>

<file path=ppt/slides/_rels/slide3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1.xml"/>
</Relationships>
</file>

<file path=ppt/slides/_rels/slide3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2.xml"/>
</Relationships>
</file>

<file path=ppt/slides/_rels/slide3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3.xml"/>
</Relationships>
</file>

<file path=ppt/slides/_rels/slide3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4.xml"/>
</Relationships>
</file>

<file path=ppt/slides/_rels/slide3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5.xml"/>
</Relationships>
</file>

<file path=ppt/slides/_rels/slide3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6.xml"/>
</Relationships>
</file>

<file path=ppt/slides/_rels/slide3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7.xml"/>
</Relationships>
</file>

<file path=ppt/slides/_rels/slide3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8.xml"/>
</Relationships>
</file>

<file path=ppt/slides/_rels/slide3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0.xml"/>
</Relationships>
</file>

<file path=ppt/slides/_rels/slide3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1.xml"/>
</Relationships>
</file>

<file path=ppt/slides/_rels/slide3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22.xml"/>
</Relationships>
</file>

<file path=ppt/slides/_rels/slide3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3.xml"/>
</Relationships>
</file>

<file path=ppt/slides/_rels/slide3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3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2819520"/>
            <a:ext cx="58291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6095520"/>
            <a:ext cx="57909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čemu se ovaj predmet razlikuje od ostalih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5D3E-8C94-4DEB-A8DA-89C115A2410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E78701-524D-4F3D-97AC-B4348E05D2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5991120" cy="7543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 svemu tome ima istine,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90720" y="2438280"/>
            <a:ext cx="1888920" cy="1830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971800" y="4419720"/>
            <a:ext cx="3591000" cy="1935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495680" y="2438280"/>
            <a:ext cx="1828800" cy="1487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1295280" y="5410080"/>
            <a:ext cx="1524240" cy="1444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838080" y="7238880"/>
            <a:ext cx="2362320" cy="177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8FA3-BDF8-46ED-A676-618954E5A6D6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CED65B-CA87-4026-80A2-D1D61ED045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govori o upravljanju projekt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14440" y="309060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andum of 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java investitora da postavlja rukovodioca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java rukovodioca projekta da prihvata tu ulog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s projekta sa osnovnim podacima o budž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tale specifičnost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F08B-6EF4-482E-8F83-7F6E4E0893AB}" type="slidenum">
              <a:t>1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1D93EC-67C6-4F14-B9B4-CC8A7C2B1C21}" type="datetime1">
              <a:rPr lang="en-US"/>
              <a:t>07/30/26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govori o upravljanju projekt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0040" y="3242880"/>
            <a:ext cx="582948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ition of Eng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žina angažovanja rukovodioca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uge koje pru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uge koje ne pru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htevi za izvešta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čin konta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lašćena 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4F51-A760-4578-9292-B10B4440A46E}" type="slidenum">
              <a:t>1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715AD6-28ED-4B77-AFEA-CACA81B23F39}" type="datetime1">
              <a:rPr lang="en-US"/>
              <a:t>07/30/26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ši propi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ja izvođenja investicije (organizacioni konsalting) - ne ulazi projekto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ciono savetovanje (konsalting) - ne ulazi stručni 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149D-B5CE-45A4-95F1-812DABAA411B}" type="slidenum">
              <a:t>1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CECE01-F918-4A28-86F4-BDA4474F3ECB}" type="datetime1">
              <a:rPr lang="en-US"/>
              <a:t>07/30/26</a:t>
            </a:fld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dič UN - Ekonomska komisija za Evrop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vencionalni pris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 stručnjaka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ravljanje projek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juč u ru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FE94-EFA4-4CB6-AFE0-0967123051AE}" type="slidenum">
              <a:t>1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5BA2D8-E61D-42FB-94BF-A3B98CB12A8D}" type="datetime1">
              <a:rPr lang="en-US"/>
              <a:t>07/30/26</a:t>
            </a:fld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vencionalni prist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 ima ukupnu odgovor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sultant obavlja profesionalne uslu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zrada planova i specifik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prema tend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iza trošk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stupanje investit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dzor nad izgradnj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ć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satu plus troško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nat trošk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šalni iz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51C5-689E-4FF8-B09D-1972E23D11A8}" type="slidenum">
              <a:t>1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740FA7-ABD1-4D2C-AEEC-125B0EF7EA17}" type="datetime1">
              <a:rPr lang="en-US"/>
              <a:t>07/30/26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14440" y="202392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nosti konvencionalnog pristu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sultant nema finansijskih interesa u izgradn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sni odnosi konsultant - investitor - izvođa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at se završava pre početka grad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m radova je jas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 ima pun 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skladu je sa regulativom o javnim radov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sijske obaveze su jas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AB38-BD60-4409-A863-BA3B51A5F100}" type="slidenum">
              <a:t>1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204690-F506-4A15-9062-F6014099F4D9}" type="datetime1">
              <a:rPr lang="en-US"/>
              <a:t>07/30/26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je stručnjak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alni konsal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njuje mogućnost spoljnog sukoba inte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rebno uigravanje stručnj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51B0-F834-4B0E-8506-7D2A1DDB2624}" type="slidenum">
              <a:t>1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F8E079-44F0-46B3-A7CA-52464E22A595}" type="datetime1">
              <a:rPr lang="en-US"/>
              <a:t>07/30/26</a:t>
            </a:fld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projek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iranje realizacije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tovanje i/ili upravljanje izradom projekt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bavke i lici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ravljanje izgradnj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sultant je investitorov izvršni organ, bez izvođenj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a podela uloga između više konsulta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31E6-EB15-4AE0-A781-BCF5BDAA5D6C}" type="slidenum">
              <a:t>1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EE00B-B9B3-45EF-974B-3910719F6D0F}" type="datetime1">
              <a:rPr lang="en-US"/>
              <a:t>07/30/26</a:t>
            </a:fld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14440" y="2023920"/>
            <a:ext cx="5829120" cy="712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nosti upravljanja projek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ksibilno angažovanje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kusni savetn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ma unutrašnjih suko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govori za nabavku se sklapaju na osnovu licitacija sa kompletnim specifikaci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bog licitacije moguće je porediti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stupanja se rano primeću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ksibilnije upravlj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8977-4013-40BC-89C7-AFB36C895371}" type="slidenum">
              <a:t>1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8BB603-BE49-4FF5-9C23-E8F500508F77}" type="datetime1">
              <a:rPr lang="en-US"/>
              <a:t>07/30/26</a:t>
            </a:fld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14440" y="2023920"/>
            <a:ext cx="5829120" cy="712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juč u r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letna odgovornost za projektovanje i izgrad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alno angažovanje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ovi mogu da počnu pre završetka projek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a se utvrđuje na osnovu tačnih specifikacija, pre ili posle sklapanja 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060B-8584-4035-AF60-EA12E101186B}" type="slidenum">
              <a:t>1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208BC-344B-495A-92B1-20A2E521F1D9}" type="datetime1">
              <a:rPr lang="en-US"/>
              <a:t>07/30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... a mi imamo još jedan predlog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4440" y="31240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200" spc="-1" strike="noStrike">
                <a:solidFill>
                  <a:srgbClr val="000000"/>
                </a:solidFill>
                <a:latin typeface="Times New Roman"/>
              </a:rPr>
              <a:t>Zarada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9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66680" y="5943600"/>
            <a:ext cx="1565280" cy="2135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419720" y="5943600"/>
            <a:ext cx="1565280" cy="213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B32B-8F5E-45A1-9D54-993E725FD51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3739BC-79C3-4035-BA56-BD99F0D3F9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češće konsultan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14440" y="210024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nvesticiona istraž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i revizija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citacija i ugova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opredaja objekta i obuka osob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ek mora biti profesionalan i nepristras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ao mogu dobiti samo oni koji imaju ug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820A-66C9-4221-B8D4-C576C3D4D66B}" type="slidenum">
              <a:t>1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04C4E7-002E-42C9-90C0-265B5D47C401}" type="datetime1">
              <a:rPr lang="en-US"/>
              <a:t>07/30/26</a:t>
            </a:fld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14440" y="1599840"/>
            <a:ext cx="5829120" cy="74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i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rste uslu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i konsultantskih usl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šće konsultanata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FC56-C064-4BB2-90A1-18440BCA5662}" type="slidenum">
              <a:t>1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9985A5-758C-4E8A-9438-6522EB1D800F}" type="datetime1">
              <a:rPr lang="en-US"/>
              <a:t>07/30/26</a:t>
            </a:fld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B161-2E52-4B14-865F-C159FCBE7FA0}" type="slidenum">
              <a:t>1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67EFEE-973D-4A47-92DB-7658CA81B4C5}" type="datetime1">
              <a:rPr lang="en-US"/>
              <a:t>07/30/26</a:t>
            </a:fld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14440" y="652320"/>
            <a:ext cx="5829120" cy="20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eo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ni pojm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14440" y="2903400"/>
            <a:ext cx="5829120" cy="556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definiciji predmeta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načinu izbora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definisanju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A956-2C7D-41DF-8F6A-1CD1A0CE7238}" type="slidenum">
              <a:t>1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739D7F-EE99-4E62-8A13-79743ED0C597}" type="datetime1">
              <a:rPr lang="en-US"/>
              <a:t>07/30/26</a:t>
            </a:fld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14440" y="1951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nud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37760" y="1294920"/>
            <a:ext cx="5829480" cy="76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ički: jednostrana izjava volje upućena određenom licu radi zaključivanja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da bi bila valjan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drži osnovne elemente ugovora (predmet, rok, cen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žena volj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onuđač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 pod navedenim uslovima sklopi ugov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nosi g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onuđa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li njegov punomoć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ućen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nvestito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je obavezujuća za ponu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 rok traj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660B-3482-4B75-8C10-84109809D0FE}" type="slidenum">
              <a:t>1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382B38-B907-47A0-9B45-01B80A267746}" type="datetime1">
              <a:rPr lang="en-US"/>
              <a:t>07/30/26</a:t>
            </a:fld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vrha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tni materij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kazuje na tehničko-tehnološke aspekt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kazuje sposobnost izvođača da uradi pos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kazuje ozbiljnost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 uslove pod kojima investitor može dobiti investiciono dob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29E0-CE60-45DD-9B50-F9FBDC7203E0}" type="slidenum">
              <a:t>1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370520-31CB-4CC6-8C7C-547BA66E1990}" type="datetime1">
              <a:rPr lang="en-US"/>
              <a:t>07/30/26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gledavanje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14440" y="1566360"/>
            <a:ext cx="5829120" cy="77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i aspe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e za resursima i njihovi izvo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i zahtevi podizvođača i kooperanata (tehničko-tehnološki, organizacioni i finasijsk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isporuke op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cija iz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namički plan finans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0A19-F121-47A8-976B-778D956B0FC1}" type="slidenum">
              <a:t>1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5129DB-E544-4D93-95E9-A1C48A9BA7ED}" type="datetime1">
              <a:rPr lang="en-US"/>
              <a:t>07/30/26</a:t>
            </a:fld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i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še želju kupca za investicionim dob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se definiše predmet budućeg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definiše i način izbora najpovoljnijeg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esto definiše i ostale prateće usl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čin plać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ovi resur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3C00-7124-479C-BAE7-1198C14EE377}" type="slidenum">
              <a:t>1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1221C3-9DEB-4C28-9626-42ACE809BE77}" type="datetime1">
              <a:rPr lang="en-US"/>
              <a:t>07/30/26</a:t>
            </a:fld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načinu definisanja predmeta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tend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funkcionalnim paramet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7760-E3BB-4C2D-9E0C-856815518020}" type="slidenum">
              <a:t>1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443ABE-F504-4D26-A5CD-3748200B18C5}" type="datetime1">
              <a:rPr lang="en-US"/>
              <a:t>07/30/26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14440" y="42480"/>
            <a:ext cx="5829120" cy="132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14440" y="1338120"/>
            <a:ext cx="5829120" cy="719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utstvo ponuđač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pos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za podnošenje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graničenja u pos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utstva za podnošenje ponude (rok važnosti, produženje, licitaciona garancij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zac ponude sa prilogom uz ponu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ular sa izjavom da će radovi biti izvršeni u roku i po ceni, koji ispunjava ponuđač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4F53-C97A-4228-B55F-E7A63ABC9A40}" type="slidenum">
              <a:t>1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77308F-6B91-420A-B945-11EC2FDCD1DF}" type="datetime1">
              <a:rPr lang="en-US"/>
              <a:t>07/30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Zarada je važna svima koji grade!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8800" indent="-388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nvestitor veoma često hoće da zara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vođač uvek hoće da zara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Graditelj mora od nečeg da živi, i to dobro, ako je mog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eko može da bude zaljubljenik u svoj posao, ali ostali obično traže svoj inte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AB8D-A5F3-4FE0-97F7-9A3E45B5691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A7D829-2CAB-46A1-9112-8CE5E0C8F2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14440" y="42480"/>
            <a:ext cx="5829120" cy="132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14440" y="1414440"/>
            <a:ext cx="5829120" cy="795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zac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ular na kome se zaključije ugovor, čiji je sastavni deo i ostala tenderska dokumen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š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b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oma često bazirani na FIDIC-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i u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kacije i opisi radova koje treba izve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čni zahte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e "zamke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6028-9BD3-41FF-AE02-87013A89CE3B}" type="slidenum">
              <a:t>1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05256B-A275-47F6-BF9F-B86AC439EA87}" type="datetime1">
              <a:rPr lang="en-US"/>
              <a:t>07/30/26</a:t>
            </a:fld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14440" y="17949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mer i predrač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na količine radova koji se 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uđač upisuje jedinič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ćanje prema stvarnim količin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uđač bi trebalo da dobro sagleda šta se stvarno može očekiv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obuhvatne jedinič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ektne jedinič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nos cena ponuđač prilagođava željenom toku nov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FD39-1136-4999-BAB3-A7C1612FD7A1}" type="slidenum">
              <a:t>1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FE1B85-2260-46BE-B827-ADE905CB8E52}" type="datetime1">
              <a:rPr lang="en-US"/>
              <a:t>07/30/26</a:t>
            </a:fld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tež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đuje ih 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su dovoljni za realizaci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knadno se razrađuju i prilagođava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ancija za dobro izvršenje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daje banka ponu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10% vrednosti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naplativa na poziv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0E03-9D55-4BE5-899F-D58CB0F9919A}" type="slidenum">
              <a:t>1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1556A0-289C-40AF-9F51-3D7C60772F27}" type="datetime1">
              <a:rPr lang="en-US"/>
              <a:t>07/30/26</a:t>
            </a:fld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14440" y="1643040"/>
            <a:ext cx="5829120" cy="750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smo o prihvatanju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smo kojom se najpovoljniji ponuđač informiše da je izabr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sta pred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se ugovor ne sklopi, gubi se licitaciona garan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lo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kumenta koja se dostavljaju naknad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se dostavljaju kao odgovor na pitanje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šalju se svima, bez obzira da li su pit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 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F9AC-F168-4D8C-952B-5702FF5AA60E}" type="slidenum">
              <a:t>1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69F5FC-5CF7-4248-AC72-7486B8DECE25}" type="datetime1">
              <a:rPr lang="en-US"/>
              <a:t>07/30/26</a:t>
            </a:fld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kcionalni parametr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o vrsti ob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na, spratnost, nivo obrade, oprema za poslovni objek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sta proizvoda, nivo proizvodnje za proizvodne objek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uđač treba da uradi detaljnu razradu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upo i dugotraj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ća mogućnost za zaradu i gubit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02AA-C8C2-4B36-BD84-5AFEBFEAC081}" type="slidenum">
              <a:t>1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F7985D-85B4-40BE-9B0D-BA3D3BFF7D7C}" type="datetime1">
              <a:rPr lang="en-US"/>
              <a:t>07/30/26</a:t>
            </a:fld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načinu izbora najpovoljnijeh ponu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ktna pogod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zivna lici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na lici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ktna pogod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ji posl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eni poslovni partne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E3B8-6CCA-413C-A017-D2D03491F215}" type="slidenum">
              <a:t>1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31ED3A-2BE3-49BC-9F2D-0A9C530AB8EB}" type="datetime1">
              <a:rPr lang="en-US"/>
              <a:t>07/30/26</a:t>
            </a:fld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cit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14440" y="1566720"/>
            <a:ext cx="5829120" cy="76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zivna lici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raju se kvalifikovani ponuđač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čekuju se kvalitetne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že da spreči dogovorne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a lici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ni poziv u specijalizovanim stre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vima informis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postoji predkvalifik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upak sprovodi konsul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6F60-5F59-437F-B1D4-D7F375EEE597}" type="slidenum">
              <a:t>1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64A872-1B69-4151-B6D8-3ACD7E829941}" type="datetime1">
              <a:rPr lang="en-US"/>
              <a:t>07/30/26</a:t>
            </a:fld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bor najpovoljnije ponuđač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14440" y="1642680"/>
            <a:ext cx="5829120" cy="76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nije najjeftin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an je boni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ni su finansijski uslovi (kreditiranje, plaćanje u domaćoj valut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 da postoje i specifični uslovi (angažovanje domaćih firmi ili resursa, transfer znanj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e je da postoje i drugi specifični u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vanična procedura je definisana u konkursnom materija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4778-820E-4FA9-8874-E09B840F10EC}" type="slidenum">
              <a:t>1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68D7AC-3B64-4EFA-8A2E-2AB36D92AB97}" type="datetime1">
              <a:rPr lang="en-US"/>
              <a:t>07/30/26</a:t>
            </a:fld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uslovima za davanje prodajne 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dinič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dinstvena c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i razni modalite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stvena cena može biti i fiks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23E3-085D-4D41-8024-D7381DE334A7}" type="slidenum">
              <a:t>1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2C2F73-D5C6-4976-8E1D-FC04124B7BE7}" type="datetime1">
              <a:rPr lang="en-US"/>
              <a:t>07/30/26</a:t>
            </a:fld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14440" y="2362320"/>
            <a:ext cx="5829120" cy="670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definiciji predmeta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načinu izbora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definisanju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AB4D-C4F5-4DC2-B1BC-2551C869E806}" type="slidenum">
              <a:t>1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7C51CC-3EA7-40DE-9643-3141BC5C7965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rugačiji pogled na sve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kušaćemo da vam pokažemo kako da vodite računa o realnim mogućnos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kušaćemo da vas naučimo kako da vodite računa o realnim interes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1F94-3796-40E8-9D20-5E6ED25180C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A91BB6-5B5A-4327-8EF5-BB827C2D2B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588636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eo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dura izrade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520" y="3123720"/>
            <a:ext cx="5829120" cy="59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e pri izradi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kovi i procen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ema izrad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v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ljevi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21DC-356D-4E4F-A49D-239344F49F07}" type="slidenum">
              <a:t>1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957AF4-C9D4-431F-9DEC-1069AA768C20}" type="datetime1">
              <a:rPr lang="en-US"/>
              <a:t>07/30/26</a:t>
            </a:fld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e pri izradi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vali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je ubedljivo najznačajn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uračunati faktor neizvesnosti, posebno u uslovima dugotrajnog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2A1C-46A9-4A78-8508-5DCD70A65B53}" type="slidenum">
              <a:t>1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B48E89-B0C1-413A-8960-ACFAAD8EFF83}" type="datetime1">
              <a:rPr lang="en-US"/>
              <a:t>07/30/26</a:t>
            </a:fld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 raspodela sredstava između glavnog izvođača i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no je da glavni ponuđač (izvođač) uspostavi internu kontrolu ponuda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izvođač mora biti "čvrsto držan, štapom i šargarepom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0FBA-4382-441A-9D3C-4F1B9E9066B1}" type="slidenum">
              <a:t>1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5ED3C5-E013-4B3B-8BB5-EE3E672CF318}" type="datetime1">
              <a:rPr lang="en-US"/>
              <a:t>07/30/26</a:t>
            </a:fld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Štap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nost angažovanja drugog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nost promene tehnolog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Šargarepa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lagođavanje ponude interesima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istiranje na tehnologiji koja odgovara podizvođač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nost u raspodeli sredstava (iznos i tok nov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A252-1939-483E-B247-ADC95C976BC6}" type="slidenum">
              <a:t>1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3383C5-4CF4-4CAC-9A0F-FB47C6FB236A}" type="datetime1">
              <a:rPr lang="en-US"/>
              <a:t>07/30/26</a:t>
            </a:fld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 podizvođačem se ugovara cena koja se razlikuje od cene tih radova iz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voditi računa da isplaćen novac odgovara vrednosti izvršenih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 novca treba da bude u funkciji efikasnog završetk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5879-3F46-45B0-98A5-2F2AAEAD4E2D}" type="slidenum">
              <a:t>1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96F782-BA7A-4E2B-A8EB-44B2E1914A06}" type="datetime1">
              <a:rPr lang="en-US"/>
              <a:t>07/30/26</a:t>
            </a:fld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14440" y="1566720"/>
            <a:ext cx="5829120" cy="757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sifik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ceptua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limina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v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procenu obavlja specijalizovana ekipa ponu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ipu vodi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cenitel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stimator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e su približne, ali su nuž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k kada se sagledaju troškovi, dodaje se prof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0C92-2670-4681-B0AF-7AE313E7522E}" type="slidenum">
              <a:t>1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B90480-F2F5-4563-9E19-CFFF5217559C}" type="datetime1">
              <a:rPr lang="en-US"/>
              <a:t>07/30/26</a:t>
            </a:fld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ošk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ktni troš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izgrad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pomoćnih postrojenja i služb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žijski troš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troškovi direkcije kompa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često nastaju pre ugovaranja (ponude, akvizicija, market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BC53-5B52-47CC-BCEF-CE646D5E0E41}" type="slidenum">
              <a:t>1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64AB2A-EC45-43FF-A742-1B3D9C159372}" type="datetime1">
              <a:rPr lang="en-US"/>
              <a:t>07/30/26</a:t>
            </a:fld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58294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Šema izrade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6148440" cy="776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7533-DD48-4EC0-A0AA-0325B3F3A7AE}" type="slidenum">
              <a:t>1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998E88-2D87-491D-9950-74B30893DB23}" type="datetime1">
              <a:rPr lang="en-US"/>
              <a:t>07/30/26</a:t>
            </a:fld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 za donošenje odluke o radu na ponudi (slično studiji opravdanost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nje tendersk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met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ženi rok (ako ga i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za početak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učešća domaćih firmi i moguće posled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EBD0-7F05-4E71-881E-B106F5753D23}" type="slidenum">
              <a:t>1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9293B-7B55-4512-8E73-38BD27FF58B6}" type="datetime1">
              <a:rPr lang="en-US"/>
              <a:t>07/30/26</a:t>
            </a:fld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sijska konstrukcija investitora i njena sigur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čin plaćanja i način verifikacije obavljenog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čiji su troškovi osiguranja, carine i druge tak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16C7-76FE-40B0-9D70-F32E394E4570}" type="slidenum">
              <a:t>1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6B2F89-3B7A-4613-914B-1B0318C60A4D}" type="datetime1">
              <a:rPr lang="en-US"/>
              <a:t>07/30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nteres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rednost onoga što uradite biće merena prema tome koliko doprinesete interes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aš interes mora biti da sačuvate svoj integritet stručnjaka, ali i da zarad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aš interes je da onaj koji vas je angažovao oseti da je imao koristi od to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E559-F80C-412E-98BE-175A4147A55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882925-0D12-443D-A87F-D3DE311672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nje istraživanja tržišta i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hnološk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rošci troškovno značajnih stav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haniz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poručioci materij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poručioci opr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izvođač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drovska osposoblje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B0C4-F921-4ABC-AD50-7F01CF135CD8}" type="slidenum">
              <a:t>1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BA8E0A-1968-4FB8-8BEE-CC172CDFBFEE}" type="datetime1">
              <a:rPr lang="en-US"/>
              <a:t>07/30/26</a:t>
            </a:fld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ka o usvajanju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virna finansijska vred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tivnosti potrebne za akviziciju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ni dinamički plan izrade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drovske potrebe za izradu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sijska sredstva za izradu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1AF9-0D4A-4E45-AFB4-2AA4162B56B0}" type="slidenum">
              <a:t>1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F49837-FC6C-467F-919A-4040648857B0}" type="datetime1">
              <a:rPr lang="en-US"/>
              <a:t>07/30/26</a:t>
            </a:fld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37760" y="11916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37760" y="1719000"/>
            <a:ext cx="582948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ni izvor cene koja se nu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%-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bitniji element priprem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na za proceduru izrad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jem i analiza tend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ela na tehnološke i prostorne podsist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generalnih aktiv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iza tehnologije i njenih posled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3113-ACCB-4B5C-8E7A-DD24C17283A2}" type="slidenum">
              <a:t>1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DCB2FA-B14E-4AD5-ADFA-7746EAC66B85}" type="datetime1">
              <a:rPr lang="en-US"/>
              <a:t>07/30/26</a:t>
            </a:fld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14440" y="1871280"/>
            <a:ext cx="5829120" cy="734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iza vre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da generalnog dinamičkog pl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bavljanje ponu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iza resu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iza i izbor mehaniz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organizacione struk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direktnih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gradil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troškova pripremnih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režijskih troškova na gradiliš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520B-7155-4453-95D0-61B65A02631D}" type="slidenum">
              <a:t>1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64C180-F651-4B41-B023-8E850CE8273F}" type="datetime1">
              <a:rPr lang="en-US"/>
              <a:t>07/30/26</a:t>
            </a:fld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55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14440" y="2057040"/>
            <a:ext cx="5829120" cy="716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troškova sedišta fi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bankarskih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načina kontrole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učeš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izika u ponu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učeš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fita u ponu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atizovanje pripremlje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puna baza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A8A0-B7C0-475A-9E1F-32404AF40F6E}" type="slidenum">
              <a:t>1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757017-1C6E-431E-94AD-CAE37881F32B}" type="datetime1">
              <a:rPr lang="en-US"/>
              <a:t>07/30/26</a:t>
            </a:fld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4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iv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14440" y="1566360"/>
            <a:ext cx="5829120" cy="788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završene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sagledanog celog procesa 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kompletiranih ponuda isporučilaca i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uži za određivanje poslovne strate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uži za kontrolu troškova i upravljanje sredstvima prema isporučiocima i podizvođač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6742-D658-42A7-BBE9-CCBF2D52BD42}" type="slidenum">
              <a:t>1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3FF7CB-1A53-4076-9880-1A8E9E5E98E3}" type="datetime1">
              <a:rPr lang="en-US"/>
              <a:t>07/30/26</a:t>
            </a:fld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t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konačnog obrač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prema za buduće posl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8E63-9AF5-44B0-8C27-2F965C54930F}" type="slidenum">
              <a:t>1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5AEB9B-BA07-4E2B-8462-3BD313E2CC34}" type="datetime1">
              <a:rPr lang="en-US"/>
              <a:t>07/30/26</a:t>
            </a:fld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ljevi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iti razumnu c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iti realno traja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igurati tražen kvali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D6D8-57D1-4E2E-ABC6-DFEE7F1794AB}" type="slidenum">
              <a:t>1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16B6EB-37C2-4892-ADC7-F51A1AB5CB70}" type="datetime1">
              <a:rPr lang="en-US"/>
              <a:t>07/30/26</a:t>
            </a:fld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14440" y="2362320"/>
            <a:ext cx="5829120" cy="670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e pri izradi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kovi i procen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ema izrad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v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ljevi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89B5-A157-419B-BB5C-AC8FA67B3500}" type="slidenum">
              <a:t>1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DEA558-A6F0-452F-BB9C-FB7424D26B57}" type="datetime1">
              <a:rPr lang="en-US"/>
              <a:t>07/30/26</a:t>
            </a:fld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eo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90040" y="2590920"/>
            <a:ext cx="5829480" cy="685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u građevinarst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procene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kacija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učavanje tehnoloških rešenja i redosled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 baze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caj specifičnih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bor i primena model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na indirektnih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loženje i prezen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EE39-58CD-4939-99A5-954528CBA96B}" type="slidenum">
              <a:t>1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7A2CB-312B-45F5-A6CC-B5B97078B29E}" type="datetime1">
              <a:rPr lang="en-US"/>
              <a:t>07/30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505320" y="6019920"/>
            <a:ext cx="2997000" cy="3612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nženjersko balansiran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bično je potrebno da se usaglasi ekonomski interes i principi str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etko postoji jednoznačno reš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oblemi se veoma često moraju rešavati na licu mesta, znanjem i osećaj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3F7C-1129-4E8D-8A34-EC69265EC18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0290C7-3219-4EA3-A2BC-FFB77C6F20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a troškov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14440" y="1752480"/>
            <a:ext cx="5829120" cy="746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ređivanje količine resursa  neophodnih za postizanje ci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procenjenih troškova i profita sklapa se ugov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om realizacije procene se koriguju u skladu sa stvarnim stanj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plate se prilagođavaju stvarnom sta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id u stvarne troškove i poređenje sa planiranim zove se kontrol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FD2B-9E33-4C7F-9987-53DCEA57107B}" type="slidenum">
              <a:t>1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16B1FF-73BB-44AA-85AA-EBF86ACD4E66}" type="datetime1">
              <a:rPr lang="en-US"/>
              <a:t>07/30/26</a:t>
            </a:fld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e procene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je pogled unapred na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 troškova je pogled unazad na prošle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 dve aktivnosti su povezane i daju materijal jedna za drug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je preporučljivo da analizu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cenu rada dva nezavisna 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F358-B993-4F42-8886-6F57CD6393F9}" type="slidenum">
              <a:t>1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EFDB28-5600-4687-801E-7A0063565C3F}" type="datetime1">
              <a:rPr lang="en-US"/>
              <a:t>07/30/26</a:t>
            </a:fld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izacija procene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za kvalitetnu procenu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spolaganje informaci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metodologije i procedure 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plana 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dovanja tehnoloških znanja i veš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dovanje hardvera i softv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to je projekat složeniji potrebno je obezbediti više predusl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15CC-90FB-4D2D-83C2-1EA34959DE22}" type="slidenum">
              <a:t>1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4D26CB-F067-49DC-B65C-67EE771D2E66}" type="datetime1">
              <a:rPr lang="en-US"/>
              <a:t>07/30/26</a:t>
            </a:fld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14440" y="42840"/>
            <a:ext cx="5829120" cy="155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dura procene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37760" y="1904760"/>
            <a:ext cx="5829480" cy="74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kacija posla i sistem kod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učavanje tehnoloških rešenja i redosled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je i proširivanj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caj specifičnih uslova za realizaciju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bor i primena model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indirektnih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zloženje i prez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7713-8A50-4175-A8A3-79EA639425A0}" type="slidenum">
              <a:t>1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CA03D-0792-40E8-A91F-5CA28D53AB41}" type="datetime1">
              <a:rPr lang="en-US"/>
              <a:t>07/30/26</a:t>
            </a:fld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600" y="347760"/>
            <a:ext cx="640080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dentifikacija posla i sistem kodir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14440" y="1980720"/>
            <a:ext cx="5829120" cy="723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jerarhijska struk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sifikacij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vrstam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tipskim elemen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voi odgovor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iranje prati strukturu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ređivanje broja nivoa kodi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ređivanje formata ko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 standardni načini klasifikacije troškova podržani institucijama i bazam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BFDF-A0FE-404F-8F17-528D64ACC4BC}" type="slidenum">
              <a:t>1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52AE21-1648-4F06-B8EF-850D58EDAD92}" type="datetime1">
              <a:rPr lang="en-US"/>
              <a:t>07/30/26</a:t>
            </a:fld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učavanje tehnoloških reše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poznavanje tehnologi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nogo je jednostavnije proceniti standardnu tehnologi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i detalji, materijali i tehnolog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ezbeđenje resursa standardno i povolj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klično korišćenje tehnolog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a mehaniz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287D-FA61-4177-B62F-4E2AED789C2C}" type="slidenum">
              <a:t>1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CFB4A-74DF-4221-91F1-7FCB57763DAD}" type="datetime1">
              <a:rPr lang="en-US"/>
              <a:t>07/30/26</a:t>
            </a:fld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učavanje tehnoloških reše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gravanje realizacije radova kod poslova koji se ciklično obavlja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standardnih objekata procenjujemo cenu je nekom parametru (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krevetu, krav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nestandardnih objekata daje se cene po jedinici mere (brane itd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a kombinacija strateg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F96E-7057-424A-A073-0149C86F59C8}" type="slidenum">
              <a:t>1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56CF08-4AE3-4164-A95A-4FF80AEC5938}" type="datetime1">
              <a:rPr lang="en-US"/>
              <a:t>07/30/26</a:t>
            </a:fld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učavanje tehnoloških reše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bro je prilagoditi procenu predviđenom izvođaču i njegovoj tehnologiji i sposobnos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zeti u obzir veličinu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5561-5F09-47EC-8B79-573DFEF83CD8}" type="slidenum">
              <a:t>1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0A4575-B6D1-4E7F-91E9-6FD8273DDAB7}" type="datetime1">
              <a:rPr lang="en-US"/>
              <a:t>07/30/26</a:t>
            </a:fld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23360"/>
            <a:ext cx="624816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išćenje i proširivanje baze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14440" y="232848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kupljanje podataka o predviđenim opera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az su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istraživanju trž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istorijskim poda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svetu postoje programi, knjige i baze podataka za pomoć pri proceni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nas postoje zastarele Komgrapove norme i Tanjug-ov bil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C715-42C8-43CC-A164-46BA7C8967EC}" type="slidenum">
              <a:t>1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258098-AC57-45BB-8C18-51AB3F99C2CF}" type="datetime1">
              <a:rPr lang="en-US"/>
              <a:t>07/30/26</a:t>
            </a:fld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išćenje i proširivanje baze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2176200"/>
            <a:ext cx="5943600" cy="681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imati i sopstven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bro je imati svedene podatke po nekom parametru standardnog ob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nemamo dovoljno detaljni projekat ili nemamo normative, moramo koristiti i specifične istorijske podat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je korisno prikupiti ponude podizvođača i isporučila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3BB4-7C29-4174-90C1-F4CED511536E}" type="slidenum">
              <a:t>1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71BAB1-DF92-4512-9F43-835398C42384}" type="datetime1">
              <a:rPr lang="en-US"/>
              <a:t>07/30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im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što, kako i zbog kog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0BFF-017D-49FD-92AF-F2EAE21A2C8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D62BDA-D9B7-4914-A54E-66CB80AA9935}" type="datetime1">
              <a:rPr lang="en-US"/>
              <a:t>07/30/26</a:t>
            </a:fld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ticaj specifičnih uslova za realizaciju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14440" y="2743200"/>
            <a:ext cx="58291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caj infl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načajan i kod malih inflacija (3%-5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izna ska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caj različitih kompon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osnovu statističke verifik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nos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zavisi od strukture cene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219320" y="7391520"/>
                <a:ext cx="43527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O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C96C-D435-4A29-AFA5-250AB91A387B}" type="slidenum">
              <a:t>1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DA419B-9162-451B-866F-0755EEB6E3A3}" type="datetime1">
              <a:rPr lang="en-US"/>
              <a:t>07/30/26</a:t>
            </a:fld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37760" y="1947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ticaj specifičnih uslova za realizaciju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14440" y="209988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planirano povećanje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 kvalitet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obučenost radne sn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usti podizvođača i dobavlj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nenadne promene zakonske i tehničke regul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dovoljno poznavanje prop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gle promene c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e predhodne an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zvorišta materij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logija i istražni rado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ojeće podzemne instala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6EE7-83F2-4715-BF8E-1CD4D5DAEC2D}" type="slidenum">
              <a:t>1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4DC53B-ACD9-43F4-85EF-751E5FAC11E0}" type="datetime1">
              <a:rPr lang="en-US"/>
              <a:t>07/30/26</a:t>
            </a:fld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ticaj specifičnih uslova za realizaciju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42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ugovoru, obično se zna na čiji teret padaju ovi troš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ša sila - 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ravdano povećanje troškova - 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usti izvođača i podizvođača - izvođa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 uobičajeni problemi na nekim tržištima (carine itd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 poslovi i mesta malog rizika (stalni investitori i podizvođač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1FED-D5C8-4FD8-8A4D-317A147FA130}" type="slidenum">
              <a:t>1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A04D59-4286-4DC2-B745-F847BFA512B4}" type="datetime1">
              <a:rPr lang="en-US"/>
              <a:t>07/30/26</a:t>
            </a:fld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bor i primena mode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14440" y="2452320"/>
            <a:ext cx="5829120" cy="552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uba (preliminarna)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arni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arski (regresioni)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ljni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troškovno značajnih pozi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47B0-1CF8-487E-9590-4AF48438B913}" type="slidenum">
              <a:t>1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D887C0-1F49-4EFB-BADC-16AD9E849A0D}" type="datetime1">
              <a:rPr lang="en-US"/>
              <a:t>07/30/26</a:t>
            </a:fld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38120" y="42840"/>
            <a:ext cx="611496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ruba (preliminarna)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14440" y="1566720"/>
            <a:ext cx="5829120" cy="757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sečna cena prema predviđen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pacit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prem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vrš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izvoden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%-3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a malom broju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a standardizovanim ob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ekcija prema dodatnim uticaj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388F-7773-4A7F-A34B-9E04EC0E3E45}" type="slidenum">
              <a:t>1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08BD7A-420E-4246-899D-D4151F2FAC21}" type="datetime1">
              <a:rPr lang="en-US"/>
              <a:t>07/30/26</a:t>
            </a:fld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ementarni mode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37760" y="2252160"/>
            <a:ext cx="582948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 komplikovane objek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objekta na ele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cioni bl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cio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sni 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orator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a malom broju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a dobra baz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CD55-D4C1-46E2-BA23-3EFB91912409}" type="slidenum">
              <a:t>1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72CA4A-DB38-4DCA-8890-98CFC95F6E4D}" type="datetime1">
              <a:rPr lang="en-US"/>
              <a:t>07/30/26</a:t>
            </a:fld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ametarski (regresioni) mode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sta vezan za matematički apa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i istorijski pod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zriva pri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i model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ksponencijal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aritams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istorijskih podataka bira s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01E7-4D2C-493C-AA81-98E226F50220}" type="slidenum">
              <a:t>1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5E5103-9314-486B-AD81-27AFB51E7A25}" type="datetime1">
              <a:rPr lang="en-US"/>
              <a:t>07/30/26</a:t>
            </a:fld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taljni mode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14440" y="1795320"/>
            <a:ext cx="5829120" cy="712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 završenoj projektnoj dokument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edica predm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e se no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e se podaci sa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korisno korišćenje standardnih no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ka jako pomaže pri povećanju tačnosti ovog mod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%-1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8F49-A405-4C2A-A4E0-AED72F452E15}" type="slidenum">
              <a:t>1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CA8DD6-5D2D-438E-8770-1B58191A2CD4}" type="datetime1">
              <a:rPr lang="en-US"/>
              <a:t>07/30/26</a:t>
            </a:fld>
          </a:p>
        </p:txBody>
      </p:sp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 troškovno značajnih pozici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no je da 20% pozicija nosi 80%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 neke objekte (pogotovo niskogradnja) ova razlika je još već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dobro odredimo značajne stavke, procena može biti veoma precizna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godna metoda za utvrđivanje klizne sk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B8CD-C51C-4D54-8DF1-4A2F625B4385}" type="slidenum">
              <a:t>1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BE05F9-095F-40E9-84F2-FD892AE85865}" type="datetime1">
              <a:rPr lang="en-US"/>
              <a:t>07/30/26</a:t>
            </a:fld>
          </a:p>
        </p:txBody>
      </p:sp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40080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a indirektnih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14440" y="1676520"/>
            <a:ext cx="5829120" cy="761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pojavljuju se u predme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i s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marketinga i akvizicije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komun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iguranje i deo car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najmljivanje i korišćenje objek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karske obave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lanjanje otpadnog i nepotrebnog materij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F370-7821-4764-AF83-2B6D97ABDC88}" type="slidenum">
              <a:t>1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8FF699-E59F-424B-8D60-B03B650711EE}" type="datetime1">
              <a:rPr lang="en-US"/>
              <a:t>07/30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ašto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iteljstvo je timski r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šće mnogih stru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đevin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struktiv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raš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braćaj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hnoloz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grad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izvod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ganiza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ansije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vn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0EC3-55D4-4012-8322-9484F10C94A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4E6E1C-2EBE-49B6-8C9D-BE794C09D8B0}" type="datetime1">
              <a:rPr lang="en-US"/>
              <a:t>07/30/26</a:t>
            </a:fld>
          </a:p>
        </p:txBody>
      </p:sp>
    </p:spTree>
  </p:cSld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14440" y="5763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razloženje i prezentaci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14440" y="2252160"/>
            <a:ext cx="5829120" cy="696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biti veoma važna za dobijanje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a čitaoc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gledni uv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vršna rekapitul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etski privlač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i kvalitet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važan vid rekl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nost brzog prilagođavanja toku događaja i željam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84F4-46B4-4B43-8F2D-069D8CDF73FD}" type="slidenum">
              <a:t>1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18CA91-F992-4326-8765-E234D47B9845}" type="datetime1">
              <a:rPr lang="en-US"/>
              <a:t>07/30/26</a:t>
            </a:fld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14440" y="1905120"/>
            <a:ext cx="5829120" cy="71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u građevinarst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procene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kacija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učavanje tehnoloških rešenja i redosled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 baze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caj specifičnih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bor i primena model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na indirektnih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loženje i prezen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7B29-DC55-4786-85BA-33EB396E8EEC}" type="slidenum">
              <a:t>1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D14519-8B5D-4100-9DB8-32D4ED3578C1}" type="datetime1">
              <a:rPr lang="en-US"/>
              <a:t>07/30/26</a:t>
            </a:fld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a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907F-F7CF-46B0-9D66-88AB0B05B1C2}" type="slidenum">
              <a:t>1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AE758E-F4B7-4E92-9536-D3A98F9C0CDD}" type="datetime1">
              <a:rPr lang="en-US"/>
              <a:t>07/30/26</a:t>
            </a:fld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14440" y="2514240"/>
            <a:ext cx="5829120" cy="655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prema predmetu obave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6322-D4F3-4E39-92CD-F7F06013DB63}" type="slidenum">
              <a:t>1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7A09AB-4228-4D9F-9911-50C24A104CDA}" type="datetime1">
              <a:rPr lang="en-US"/>
              <a:t>07/30/26</a:t>
            </a:fld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govo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asnost dva ili više lica koja ima pravno dejst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ni elementi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m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predmetu obave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načinu utvrđivanja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načinu finansi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D750-460C-453D-9303-AAEF3C9B8368}" type="slidenum">
              <a:t>1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B6AF0D-437A-4C20-974C-A52B53254936}" type="datetime1">
              <a:rPr lang="en-US"/>
              <a:t>07/30/26</a:t>
            </a:fld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prema predmetu obave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14440" y="194796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e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aža elektro-mašinske op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o isporu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o mont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poruka i mont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juč u r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čest u zemljama u razvo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tako čest u razvijenim zeml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izvod u r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izgradnj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1F5A-FB87-4F87-9E7B-D71F83517F1C}" type="slidenum">
              <a:t>1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8CC67F-B581-4D17-93D8-BCEEE4FB0D1F}" type="datetime1">
              <a:rPr lang="en-US"/>
              <a:t>07/30/26</a:t>
            </a:fld>
          </a:p>
        </p:txBody>
      </p:sp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stvena cena (Lump S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namika plaćanja na osnovu predm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ćanje po faz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ične cene (Unit Pr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etno na osnovu predm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om rada na osnovu količina koje meri inženj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e mogu da se izmene ako se izmene količ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600E-D5AB-48DB-92A7-EA7B94BB80AD}" type="slidenum">
              <a:t>1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D62ABD-9B1C-4C0E-AF6D-1ACA89BFB614}" type="datetime1">
              <a:rPr lang="en-US"/>
              <a:t>07/30/26</a:t>
            </a:fld>
          </a:p>
        </p:txBody>
      </p:sp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kovi plus dobit (Cost Plu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s procenat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s fiksni hono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s fiksni honorar i podela prof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ksni honorar i klauzula o nagra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plus klizna skala honor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44E1-DD91-4F6E-B744-0442C6E4C7C1}" type="slidenum">
              <a:t>1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CB4495-3658-461F-AB0F-9A734F75539E}" type="datetime1">
              <a:rPr lang="en-US"/>
              <a:t>07/30/26</a:t>
            </a:fld>
          </a:p>
        </p:txBody>
      </p:sp>
    </p:spTree>
  </p:cSld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vrđena cena koja se ne sme premašiti (Sealing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janta fiks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 prekoračanje preko neke granice izvođač snosi trošk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ksna cena (Fixed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ložna izm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ica prihvatljivosti promene cena (1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važi u slučaju kašnj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5A3A-4149-424F-B3D1-36B998474552}" type="slidenum">
              <a:t>1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37A8D5-A3C4-4378-B24E-22EEAC2F9AC5}" type="datetime1">
              <a:rPr lang="en-US"/>
              <a:t>07/30/26</a:t>
            </a:fld>
          </a:p>
        </p:txBody>
      </p:sp>
    </p:spTree>
  </p:cSld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ziran na britanskom Common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je i tumačenja (čl.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ca (naručilac, izvođač, inženjer, podizvođač, zastupnik inženje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kumenti (ugovor, specifikacije, crtež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odavni su samo pisani dokum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22D9-13F1-4AC0-8581-6D91D0141F1A}" type="slidenum">
              <a:t>1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D98A86-31CB-4454-9B91-BC8BC34003B0}" type="datetime1">
              <a:rPr lang="en-US"/>
              <a:t>07/30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vesticioni projekat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ž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kat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više lok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gotraj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ki broj učes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uđenost proc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žnost klimatskih usl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ovinsko-pravni probl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A6EC-DD5F-43D5-8802-6869C0669D5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5583A6-ECD4-4822-8ED1-E7B7AB7DFB16}" type="datetime1">
              <a:rPr lang="en-US"/>
              <a:t>07/30/26</a:t>
            </a:fld>
          </a:p>
        </p:txBody>
      </p:sp>
    </p:spTree>
  </p:cSld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ženjer i zastupnik inženjera (čl.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lašćenja se daju ugovo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mena uputstva moraju da se potvrde pismeno u roku od 7 d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može da oslobodi izvođača ugovornih obav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 ovlašćenja se može preneti zastupniku, ali ne s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8ABA-37F6-4875-BC1C-D365AAB34428}" type="slidenum">
              <a:t>1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E7EF9D-BC59-4469-AF8A-D7A891317BD0}" type="datetime1">
              <a:rPr lang="en-US"/>
              <a:t>07/30/26</a:t>
            </a:fld>
          </a:p>
        </p:txBody>
      </p:sp>
    </p:spTree>
  </p:cSld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nos i podugovoranj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3, 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govor ne može biti prenet na drugo lice bez saglasanosti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 se preneti novčana potraživanja svojoj banci bez saglasnosti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6568-6D34-4774-97B0-FC46019DF553}" type="slidenum">
              <a:t>1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F315E7-CF40-4232-8ED7-B2F4E7FCE45F}" type="datetime1">
              <a:rPr lang="en-US"/>
              <a:t>07/30/26</a:t>
            </a:fld>
          </a:p>
        </p:txBody>
      </p:sp>
    </p:spTree>
  </p:cSld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ni dokument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5-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orazum o Ugovo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smo o prihvatanju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u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 II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 I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vaki drugi dokument koji je deo 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štetni zahte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šnjenje dokume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8F49-F3C9-466C-9C57-A5268D2F7F2F}" type="slidenum">
              <a:t>1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464E64-3D4F-46A5-883D-70D32B700C3E}" type="datetime1">
              <a:rPr lang="en-US"/>
              <a:t>07/30/26</a:t>
            </a:fld>
          </a:p>
        </p:txBody>
      </p:sp>
    </p:spTree>
  </p:cSld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e obaveze (čl. 8-3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nost naplate količina koje nisu obuhvaćene predme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govor postoji čim izvođač pošalje pismo o prihvata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rancija za dobro izvršenje posla naplativa na prvi poz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govornost za stanje pod zemlj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ma pravo da odredi kako će izvoditi rad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4A52-9139-4B47-9252-287DBFB276F4}" type="slidenum">
              <a:t>1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5CEC7A-B2B1-4543-A407-7947E4E69F49}" type="datetime1">
              <a:rPr lang="en-US"/>
              <a:t>07/30/26</a:t>
            </a:fld>
          </a:p>
        </p:txBody>
      </p:sp>
    </p:spTree>
  </p:cSld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e obaveze (čl. 8-3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ima pravo da menja nadzor po sopstvenom nahođe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dođe do oštećenja zbog "rizika naručioca" postoji pravo na povećanje cene ali ne i povećanje ro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e transporta nestandardnih materijala i opreme snosi izvođa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ED55-574B-42CB-8B4F-9FF1A2DAFFB2}" type="slidenum">
              <a:t>1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21F266-BBA3-46D3-B7B8-A9811D46E9DB}" type="datetime1">
              <a:rPr lang="en-US"/>
              <a:t>07/30/26</a:t>
            </a:fld>
          </a:p>
        </p:txBody>
      </p:sp>
    </p:spTree>
  </p:cSld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14440" y="1828440"/>
            <a:ext cx="5829120" cy="754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na snaga (čl. 34,3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aveza izvođača da inženjeru dostavlja izveštaje o stanju radne sn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jali, postrojenja i izrada (čl. 36-3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ima pravo da traži ispitivanja uzor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oliko su ispitivanja mimo ugovora, a kvalitet je odgovarajući, troškovi padaju na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 kontrole kvalit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odgovarajući elementi se mogu odbac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38C6-88D7-492C-AEEE-F7D5319C2302}" type="slidenum">
              <a:t>1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05F7EF-F8F7-4E26-9098-767ECAB282E8}" type="datetime1">
              <a:rPr lang="en-US"/>
              <a:t>07/30/26</a:t>
            </a:fld>
          </a:p>
        </p:txBody>
      </p:sp>
    </p:spTree>
  </p:cSld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ustava (čl. 4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zahtev inženj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nije zbog propusta izvođača i klimatskih uslova, investitor treba da nadoknadi št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obustava traje duže od 84 dana, i ne dobije se saglasnost za nastavak u roku od 28 dana, izvođač može da okonča svoj anagaž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047C-92A2-47D8-BF8F-0CAE915334FD}" type="slidenum">
              <a:t>1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B8DD64-D80C-42E1-8EA0-FDDD71DFABB1}" type="datetime1">
              <a:rPr lang="en-US"/>
              <a:t>07/30/26</a:t>
            </a:fld>
          </a:p>
        </p:txBody>
      </p:sp>
    </p:spTree>
  </p:cSld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počinjanje radova i zakašnjenje (čl. 41-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 predaje gradil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ovi se ne izvode noću i u lokalne neradne dane, osim kada inženjer to odob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i za kašnjenje radova, ali ne preko neke s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 završetka i predaje radova i otklanjanja nedost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FF6F-D880-44CB-BA31-384CDF342BB9}" type="slidenum">
              <a:t>1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C3E556-2230-4D86-A9EB-C57184768991}" type="datetime1">
              <a:rPr lang="en-US"/>
              <a:t>07/30/26</a:t>
            </a:fld>
          </a:p>
        </p:txBody>
      </p:sp>
    </p:spTree>
  </p:cSld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14440" y="1676160"/>
            <a:ext cx="5829120" cy="754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govornost za nedostatke (čl. 49, 5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le predaje radova izvođač radi radove koje mu inženjer nalož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se ti radovi zbog nepoštovanja ugovora, neodgovarajućeg rada i materijala, padaju na teret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suprotnom su naknadni radovi i investitor ih plać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rantni rok (period održavanja) se propisuje ugovorom, ako drugačije ne odredi lokalno zakonodavs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090F-D5AD-4E72-A7FB-12F1D8EBF068}" type="slidenum">
              <a:t>1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426DD8-8BC9-40A5-AC67-0DF95F5E2748}" type="datetime1">
              <a:rPr lang="en-US"/>
              <a:t>07/30/26</a:t>
            </a:fld>
          </a:p>
        </p:txBody>
      </p:sp>
    </p:spTree>
  </p:cSld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mene, dopune i ispuštanja (čl. 51, 5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laže inženj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ćaju se prema ugovoru i odgovor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ene obima radova koj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% se posebno kalkuliš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2D5E-AA4B-412A-8FA8-39BA88D2BF57}" type="slidenum">
              <a:t>1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3F3DCB-0029-4E7E-8230-D59795C0DBC3}" type="datetime1">
              <a:rPr lang="en-US"/>
              <a:t>07/30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česnici u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jek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a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izvođači i kooper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d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i, projektantski i upravni nadz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8CED-6510-44C5-89BB-10BDBC423C8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94A6B3-91FC-4C98-9917-4ED0909C090D}" type="datetime1">
              <a:rPr lang="en-US"/>
              <a:t>07/30/26</a:t>
            </a:fld>
          </a:p>
        </p:txBody>
      </p:sp>
    </p:spTree>
  </p:cSld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e za odštetne zahteve (claims) (čl. 5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java namere u roku od 28 d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loženje i obrač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odično slanje novih obračuna tok problem tr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okončanju problema u roku od 28 dana konačan obrač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slučaju propuštanja procedura, iznos klejma ne može da pređe iznos koji utvrdi inženjer i arbitr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FECA-4C15-4D5C-B4AC-4FE420659FBD}" type="slidenum">
              <a:t>1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1E3A76-CDE0-43B8-A1A5-43849559EF04}" type="datetime1">
              <a:rPr lang="en-US"/>
              <a:t>07/30/26</a:t>
            </a:fld>
          </a:p>
        </p:txBody>
      </p:sp>
    </p:spTree>
  </p:cSld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rema izvođača, privremeni radovi i materijal (čl. 5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rema, materijal i privremeni radova koji su potrebni za realizaciju objekta ne mogu biti uklonjeni bez saglasnosti inženj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odnosi se na transportna sredst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D9FE-ABDC-4656-929D-AF5F81709D28}" type="slidenum">
              <a:t>1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70B249-D3ED-4E58-BF22-75B67FF558B5}" type="datetime1">
              <a:rPr lang="en-US"/>
              <a:t>07/30/26</a:t>
            </a:fld>
          </a:p>
        </p:txBody>
      </p:sp>
    </p:spTree>
  </p:cSld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enje (čl. 55-5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važe količine iz predm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meri, izvođač može da prisustvu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dostavlja rezul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ma 14 dana vremena da uloži prigov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nosi se na radove po jediničnim cen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žnost blagovremene pismene komun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1C9E-A5D4-46F6-ABCB-7FDEA079C812}" type="slidenum">
              <a:t>1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63AC99-EB90-4603-8F9E-51BE9D9A3C67}" type="datetime1">
              <a:rPr lang="en-US"/>
              <a:t>07/30/26</a:t>
            </a:fld>
          </a:p>
        </p:txBody>
      </p:sp>
    </p:spTree>
  </p:cSld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remeni iznosi (čl. 5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nosi koji su pokriveni ugovorom, predmerom i predračun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i se prema uputstvima inženjera i njemu se dokazuju trošk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F219-8A92-4478-A5F5-DC16F604CB97}" type="slidenum">
              <a:t>1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DD06D7-1A33-4CF5-8D33-AB8074188A1A}" type="datetime1">
              <a:rPr lang="en-US"/>
              <a:t>07/30/26</a:t>
            </a:fld>
          </a:p>
        </p:txBody>
      </p:sp>
    </p:spTree>
  </p:cSld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enovani podizvođači (čl. 5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ra ih 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ugovara sa nj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treba da bude obezbeđen od propusta ovog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oje uslovi pod kojima izvođač može da odbije imenovanog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75BE-AC91-4FB7-9A90-A9E6C7AA356E}" type="slidenum">
              <a:t>1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B2229E-C244-4716-A72E-D7BBB16FD4CE}" type="datetime1">
              <a:rPr lang="en-US"/>
              <a:t>07/30/26</a:t>
            </a:fld>
          </a:p>
        </p:txBody>
      </p:sp>
    </p:spTree>
  </p:cSld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tifikati i plaćanja (čl. 60-6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dostavlja izjavu sa iznosom koja mu pripada na osnovu izvršenih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u roku od 28 dana vrši korecije i potvrđuje iz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nos se umanjuje za avans i retencionu svo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 za završno plać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C69C-2051-4A6B-857D-7263AE9234B6}" type="slidenum">
              <a:t>1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7CDF5D-1701-431D-9416-E30DF3BC77D8}" type="datetime1">
              <a:rPr lang="en-US"/>
              <a:t>07/30/26</a:t>
            </a:fld>
          </a:p>
        </p:txBody>
      </p:sp>
    </p:spTree>
  </p:cSld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i lekovi (čl. 63, 6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pod kojima naručilac stiče pravo na okončanje 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ma pravo na naknadu za ono što ostav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isključuje lokalne pravne prop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pod kojima inženjer može da izvede radove koje izvođač neće ili ne mož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8720-DFC1-4ABB-91E6-27A3487EE8BA}" type="slidenum">
              <a:t>1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AA6042-F911-4553-AA93-10C0CACC7E6D}" type="datetime1">
              <a:rPr lang="en-US"/>
              <a:t>07/30/26</a:t>
            </a:fld>
          </a:p>
        </p:txBody>
      </p:sp>
    </p:spTree>
  </p:cSld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i rizici (čl. 6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zici naruči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otreba i zauzimanje radova od strane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ške u inženjerovim projek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rodne sile, ratovi, pobune i revolucije van zemlje izvođenj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 svega se odnosi na finansijsku odgovor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vo raskidanja ugovora u slučaju r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E4BD-F4C5-449A-BA5D-49FD9C52CD27}" type="slidenum">
              <a:t>1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CD225-828B-4491-ACEE-3438FE82F2E4}" type="datetime1">
              <a:rPr lang="en-US"/>
              <a:t>07/30/26</a:t>
            </a:fld>
          </a:p>
        </p:txBody>
      </p:sp>
    </p:spTree>
  </p:cSld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lobođenje od izvršenj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6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stupanje okolnosti posle pisma o prihvatanju koje onemogućava izvršenje obav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šavanje sporova (čl. 6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prvoj instanci odlučuje inženj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drugoj instanci arbitr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no je šta je uzeto kao osnovno pravo (švajcarsko, FIDIC, 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7999-7C67-462A-AE00-984264E14222}" type="slidenum">
              <a:t>1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F08DBE-987B-403A-A8FC-B22B652D14AF}" type="datetime1">
              <a:rPr lang="en-US"/>
              <a:t>07/30/26</a:t>
            </a:fld>
          </a:p>
        </p:txBody>
      </p:sp>
    </p:spTree>
  </p:cSld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veštenja (čl. 6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poš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resa mora biti zvanič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smeno obaveštavanje o promeni adr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5183-2A32-4D85-B27F-95B4C929F773}" type="slidenum">
              <a:t>1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794C81-52E8-4074-B079-ED501E32958B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Šta su vas učili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ajveći deo predmeta koji su do sada slušani spadaju u dve kategorij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eorijski (matematika, mehanika, mehanika fluida, 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rojektantski (mehanika tla, beton, čelik, 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Za obe kategorije predmeta je karakteristično da postoje neke formule i neka pravila. Ako ispoštujete te formule i pravila, vi ste dobri. Ako ih ne znate ili ne poštujete, niste dobr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40FA-2D4A-44D0-86F2-F0BD2BF673A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68985A-2624-4C94-8711-D9D82A1BDA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ranje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 stanovišt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polaže novc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jekt se izvodi zbog njegove žel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inantan pristup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razvijenom sv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 stanovišta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ajena ulog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goslovenskih fir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bno interesantno u našim uslov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580A-FDCA-418F-82D3-689A39A6AA0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ABD3BD-D480-4302-AA29-61DE1D2328F9}" type="datetime1">
              <a:rPr lang="en-US"/>
              <a:t>07/30/26</a:t>
            </a:fld>
          </a:p>
        </p:txBody>
      </p:sp>
    </p:spTree>
  </p:cSld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usti naručioc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6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plaćanje, neizdavanje sertifikata, stečaj i obaveštenje o prestanku plać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ično specijalnim rizi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doknada svih gubitaka, zajedno sa profitom, kam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e usporavanje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 kasniji nastavak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AC5B-59D1-4239-9E4F-022D7A96EDC4}" type="slidenum">
              <a:t>2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20C5A7-B780-4036-9483-6D641452B77B}" type="datetime1">
              <a:rPr lang="en-US"/>
              <a:t>07/30/26</a:t>
            </a:fld>
          </a:p>
        </p:txBody>
      </p:sp>
    </p:spTree>
  </p:cSld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ene u troškovima i zakonodavstvu (čl. 7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bog promene cena rada i materij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ene u zakonodavstvu koje su nastale 28 dana pre poslednjeg roka za podnošenje ponude i kas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rebno stalno praćenje cena i zakonske regul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9817-C200-45F1-A9A3-85C254AC9982}" type="slidenum">
              <a:t>2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27686C-3C52-47A8-8D84-570FA2F055C6}" type="datetime1">
              <a:rPr lang="en-US"/>
              <a:t>07/30/26</a:t>
            </a:fld>
          </a:p>
        </p:txBody>
      </p:sp>
    </p:spTree>
  </p:cSld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ize i devizni tečaj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71-7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štete zbog promene deviznog tečaja koje su nastale 28 dana pre poslednjeg roka za podnošenje ponude i kas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štete zbog ograničenja u deviznom poslovanju u istom ro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ovde je veoma bitna stalna informisa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271C-8A91-4195-B135-1C91447B686C}" type="slidenum">
              <a:t>2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9E6D83-1BAC-4920-820D-EE87F7429547}" type="datetime1">
              <a:rPr lang="en-US"/>
              <a:t>07/30/26</a:t>
            </a:fld>
          </a:p>
        </p:txBody>
      </p:sp>
    </p:spTree>
  </p:cSld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prema predmetu obave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F97E-7901-40CC-8B43-94E5495DC611}" type="slidenum">
              <a:t>2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0F0F56-5B50-4065-85C0-8730F66EACC4}" type="datetime1">
              <a:rPr lang="en-US"/>
              <a:t>07/30/26</a:t>
            </a:fld>
          </a:p>
        </p:txBody>
      </p:sp>
    </p:spTree>
  </p:cSld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i pripr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8268-7E22-4303-A57A-0B9456A33B91}" type="slidenum">
              <a:t>2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B31604-02AA-4AC3-82D0-527F4D630FC8}" type="datetime1">
              <a:rPr lang="en-US"/>
              <a:t>07/30/26</a:t>
            </a:fld>
          </a:p>
        </p:txBody>
      </p:sp>
    </p:spTree>
  </p:cSld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ačaj projektovanja i pripreme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ska dokum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at tehnologije i organizacija gra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8B48-B848-4E80-99B1-E7608FBDF73F}" type="slidenum">
              <a:t>2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CD8854-454C-464C-9326-36016BBA0821}" type="datetime1">
              <a:rPr lang="en-US"/>
              <a:t>07/30/26</a:t>
            </a:fld>
          </a:p>
        </p:txBody>
      </p:sp>
    </p:spTree>
  </p:cSld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načaj projektovanja i pripreme posl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čujuće utiče na dalji razvoj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jalizuje želje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ovoj fazi se ostvari 85%-90% mogućih ušt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sa stanovišta izvođača može početi i tokom izrad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trajati i tokom izvođenja rado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BF68-331C-4E31-94F2-4F4F59C2C824}" type="slidenum">
              <a:t>2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A5F3D0-FE8A-4022-B87B-1824284FBB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dusl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organizacione š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odgovornosti učes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 šifr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tehničkih uslova i ogranič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B2BB-3624-4D31-AA97-E7EFDD5DAE29}" type="slidenum">
              <a:t>2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C3758D-7367-4510-A016-8DD820EBD9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jerarhija projektov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685800" y="3581280"/>
            <a:ext cx="5456160" cy="492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5C52-3A02-48B1-87B1-CEB584A41FE1}" type="slidenum">
              <a:t>20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2EB657-7D94-4298-8679-ABC04E39DF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rema u projektovanj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stup u zavisnosti od značaja op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ophodno je definisati pre početka izrade idejnog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lučujuće utiče na ostala projekt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andardna i skupa o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9712-B877-46F3-B3C8-0D1B526DC54D}" type="slidenum">
              <a:t>2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B8D060-0AE6-4896-8359-31E66C06B8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novište Investit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formiranja koncep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realiz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eksploa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B053-9ED5-4AD5-A7FC-7217866E9B9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8C3F62-F8D4-43B5-B1AF-A03B454EC8DB}" type="datetime1">
              <a:rPr lang="en-US"/>
              <a:t>07/30/26</a:t>
            </a:fld>
          </a:p>
        </p:txBody>
      </p:sp>
    </p:spTree>
  </p:cSld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582912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rema u projektovanj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829120" cy="67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ophodno je definisati pre početka izrade glavnog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o donekle utiče na ostala projekt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a i skupa o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lično nezavisna od pro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že se definisati tokom izgrad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utiče na ostala projekt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a o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zavisna od pro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0EB0-00FE-4E07-A016-398345FC5507}" type="slidenum">
              <a:t>2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BF1B21-0155-4781-8102-22D5479A78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hničko-tehnološka pripre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nje tehnologi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ološko usaglašavanje učesnika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kupljanje tehnološ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viđanje mogućih probl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3B7A-E47C-43A7-9D9E-D12B870982F6}" type="slidenum">
              <a:t>2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D97E24-21D0-434B-A5C0-BA693B2D2C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niran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 potrebnih resu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na poznavanja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aglašavanje svih učes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nje ogranič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a načina upravljanja, kontrole i komun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D834-4D02-4B8A-9752-6D1A5D4FF39B}" type="slidenum">
              <a:t>2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8E4CC6-4D62-4857-A845-2C0145000D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klapanje u okružen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kti ne mogu da se grade samo na osnovu klasične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kat mora da se uklopi u šire okruž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aju se obezbediti uslovi i saglasnosti koje daje administracija, odnosno v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dobijanja uslova i saglasnosti je obično značajno složenija i dugotrajnija od samog gra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E5D0-507F-4B22-B1D1-704DC5501EB0}" type="slidenum">
              <a:t>2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6D967A-A9A5-4263-9541-BD24437BE2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nska dokumentaci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nistracija, u načelu, ne daje uslove i saglasnosti na osnovu svoje slobodne vol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kumenti na osnovu kojih administracija izdaje uslove i saglasnosti zovu 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lanski dokum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ski dokumenti definišu prostorni raspored, vrstu i sadržaje objekata koji se mogu grad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BAE5-50BE-4CE1-B0B4-2617C484F653}" type="slidenum">
              <a:t>2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D9580D-0236-46BE-9E85-9F4827AD1E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14440" y="60912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trebne karakterstike planske dokument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14440" y="2590560"/>
            <a:ext cx="58291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l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uhvata prostorne i ekonomske kriterij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klađe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predmetu, prostoru i vremenskom perio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ordin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isanost, usklađivanje razvoja i inte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vrđivanje obaveza i odgovor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om izrade i sprovođenja plan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8B9A-0FFB-45EA-AC1B-7D6873F26893}" type="slidenum">
              <a:t>2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0B97FF-C3B8-4263-ACED-D21BC2ED83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storni plan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e se u Republici, regionu, gradu i opšt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ica područja na koje se odno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na površ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meštaj stanovništ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eža nase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obraćajna i tehnička infrastruk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nove za stimulisanje razvo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066A-E487-4B52-B9F7-718CC5D067AC}" type="slidenum">
              <a:t>2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B3F0FF-C7F9-4A85-A1C2-2D0B52DC21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storni plan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e se i prostorni planovi područja sa posebnom namen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 naseljenih mesta, gde ne postoje urbanistički planovi, rade se detaljni prostorni plan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stornim planovima planira se razvoj u narednih 20 god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C78C-0F97-4B58-873B-204370FA73F0}" type="slidenum">
              <a:t>2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A82AE7-FD0E-4DC3-812B-4190B69A0A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rada prostornog pla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prip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luku donosi skupština nadležnog područ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uje se program 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uje se komisija za praćenje i usklađi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dokumentacije i an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bavljanje i analiza planova, karata i slič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ao obavlja obrađivač, posebna stručna firma koja je angažovana za ovaj pos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7057-F763-4FA4-8A03-673D45734A94}" type="slidenum">
              <a:t>2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C64D3C-5C33-4F07-8254-ED5C62D19B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rada prostornog pla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rade nac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cija razvo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cija organiz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cija uređenja pros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enjivanje i analiza varij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 se izvršnom organu skupš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javne raspr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osnovu odluke o izradi pl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matranje primedbi i predlo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ošenje iz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A2AE-E455-4049-BAF2-FB63F86B2316}" type="slidenum">
              <a:t>2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354EF7-84F4-4AD0-BA07-D217E91E1B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4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e po W. Hughes-u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4440" y="25146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za prihvatanja realizacije projekt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ception stage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rada studije opravdanosti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easibility stage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rada idejnih rešenj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cheme design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rada idejnog i glavnog projekt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tail design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govaranj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racting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gradnj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ijem objekta i puštanje u rad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missioning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3A74-5D85-4442-B0D6-E29ACDCCAB2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291EF4-0A10-406D-B5D4-599A760772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rada prostornog pla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rade predloga i donošenja pl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šljenje viših organa vla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osi ga skupš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avljuje se u službenom glasni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0CF4-5F41-486A-BA91-8F2BBFC0EEDE}" type="slidenum">
              <a:t>2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6A3AE4-B1B5-4326-AFCC-E7DC4B481A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rbanistički plan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e za područje naseljenog me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rađuje prostorni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lagođava rešenja iz prostornog plana konkretnim usl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ni urbanistički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ljni urbanistički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banistička osn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102A-BC76-4799-943D-2536D1B0E360}" type="slidenum">
              <a:t>2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76AF98-4D9D-40CC-9FD9-794977AC02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neral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i se na sličan način kao prostorni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njemu se navodi na koje se vreme dono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rade nacrta se deli 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za izrade programskog d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za izrade prostorne koncep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B7AA-3AED-4CF5-83A8-CEEDA0995617}" type="slidenum">
              <a:t>2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093C6D-CEE1-4729-999B-A1438E8409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neral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icu područja na koje se odno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novnu namenu površ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strukturne objekte sa priključcima na okru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novnu koncepciju stambene izgrad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čin ozelenja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štitu prirodnih vrednosti i kulturnih dob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1FA0-8A70-4DBD-9CDF-52F2F8E4C330}" type="slidenum">
              <a:t>2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3946FB-D42E-46C6-BC07-82D4E3BE2E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talj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vršna faza urbanističkog plan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rada GUP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kretizuje GUP u vezi namene provršina i položaja ob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 se za manje celine - mesne zajednice, nekoliko blokova it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da previše detalj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i se slično kao G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31AA-E972-4BBE-90F7-9B617B91556D}" type="slidenum">
              <a:t>2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56FCEE-6BEE-40AB-A1CA-421C9FEEF0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talj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kstualni deo DUP-a 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šti deo gde se nav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vni osnov i povod za izradu i donošenje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lj iz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 javne raspr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e za uređenje prostora sa smernicama za privođenje prostora nam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lo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A06B-0FA5-477A-BA3E-3044ED91A9CC}" type="slidenum">
              <a:t>2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6964CA-17BB-453B-BADD-62BE8EE8FE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talj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fički deo 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cione plan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ljnu namenu površ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icu područ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kte koji se zadržavaju i ruš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ciona i nivelacio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jna rešenja za infrastrukturu i uređenje slobodnih površ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detske elemente za obeleža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parcel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4A01-8DFC-42CA-A8F5-F2108FA19477}" type="slidenum">
              <a:t>2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357BA3-77BA-425A-9CE9-DAC0F5F7DA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kt o uslovima za uređenje prost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 za izradu tehničk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tke o lokaci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banističko-tehničke uslove za izgrad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bne uslove za izgrad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ožaj regulacione i građevinske li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htevane karakteristike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4DEB-DFB1-452A-9096-454F5B3E338B}" type="slidenum">
              <a:t>2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298474-B29A-4914-9FD2-5CDEA5CE84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kt o uslovima za uređenje prost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 se na osnovu DUP-a ili na osnovu privremenih usl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e saglasnosti komunalnih služb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i ga organ uprave nadležan za poslove urbaniz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je slična proceduri donošenja ostalih planskih dokumen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220E-CBD7-4201-843E-C84D2BE8C2C0}" type="slidenum">
              <a:t>2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288187-7CFF-46F8-BA43-D1FA868727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ređenje zemljis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kti ne mogu da funkcionišu bez prateće infra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okviru troškova izgradnje objekta moraju se uračunati i troškovi infra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 izgradnju na području Beograda plaća se opremanje zemljišta Gradskoj direkciji za puteve i zemljiš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no uređ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kundarno uređ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3F38-210B-4CFA-BF4A-8F27F73D06B8}" type="slidenum">
              <a:t>2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C64831-72BC-4E33-99F8-01EE6C862C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novište izvođač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a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rojektne dokumentacije i priprema realiz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e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iranje i proširenje baze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8D6B-92FF-4CFF-956C-5B3F33167F5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00135B-0281-43EE-A1F8-469063F35EAD}" type="datetime1">
              <a:rPr lang="en-US"/>
              <a:t>07/30/26</a:t>
            </a:fld>
          </a:p>
        </p:txBody>
      </p:sp>
    </p:spTree>
  </p:cSld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kat tehnologije i organizacija grade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deo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o poznavanje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za sagledavanje stvarnih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439C-04FB-46DD-B4F1-9F86163FB0D3}" type="slidenum">
              <a:t>2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57BC2E-933F-423D-8C02-6BA8E3DC74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a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 o građe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detske, geološke podlo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drološke i meteorološke podlo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je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snabde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a eksperata i učesnika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DF68-0250-401C-A14B-02C1F1208B8B}" type="slidenum">
              <a:t>2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B1578-E9D9-48FC-9741-176AC050EE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ni elementi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i opis sa tehničkim uslovima za izvođ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ologij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račun fonda radnog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 cena materijala “franko gradilišt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iri i uži izbor mehaniz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ema montaž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čki planovi potreba za resurs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ciona struk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AA76-6E7F-47B1-8CE2-1900252EFD3C}" type="slidenum">
              <a:t>2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E96850-F8E8-44D5-8E5E-EDAC91BC7D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ni elementi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šenje informacionog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namički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ema organizacije gradil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predhodnih i pripremnih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upravljanja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e zaštite na ra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ACF8-02F5-4F8B-826F-9C6A9501C432}" type="slidenum">
              <a:t>2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4CA1DB-791A-4452-97ED-72996F2863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ačaj projektovanja i pripreme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ska dokum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at tehnologije i organizacija gra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CD01-10AF-4FD3-B4C6-F57A05259DD5}" type="slidenum">
              <a:t>2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9FC3C9-74DB-43B4-B2FD-AAE62143DACE}" type="datetime1">
              <a:rPr lang="en-US"/>
              <a:t>07/30/26</a:t>
            </a:fld>
          </a:p>
        </p:txBody>
      </p:sp>
    </p:spTree>
  </p:cSld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đenje radova na gradil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3123-3A52-4648-8FF3-80F5496C36E3}" type="slidenum">
              <a:t>2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BA8A1A-8225-4728-A936-5ACB8D6803AC}" type="datetime1">
              <a:rPr lang="en-US"/>
              <a:t>07/30/26</a:t>
            </a:fld>
          </a:p>
        </p:txBody>
      </p:sp>
    </p:spTree>
  </p:cSld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i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realizaci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 za kontrolu realizaci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 između kontrole troškova i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iska na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tehničkom dokumentacij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A67D-26E5-45AE-8150-DC1F090E4871}" type="slidenum">
              <a:t>2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957556-09A0-4DF1-BF07-81BF1375E9AE}" type="datetime1">
              <a:rPr lang="en-US"/>
              <a:t>07/30/26</a:t>
            </a:fld>
          </a:p>
        </p:txBody>
      </p:sp>
    </p:spTree>
  </p:cSld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vo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ktična realizacija idealizovanog modela koji je do tada razrađi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tovo uvek model se mora prilagođavati realnost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da projekt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rada projekt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mene projekt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7867-8BEB-4E3D-A7D6-53343AA9308F}" type="slidenum">
              <a:t>2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9833E5-1DC4-40BF-AAF9-F4A4E2203A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izvođač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gradnja uz razradu tehničko-tehnoloških i organizacionih reš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rcijalne aktivnosti vezane za obezbeđenje resu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ispunjenja sopstvenih ugovornih obav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ispunjenja ugovornih obavez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iska sa investito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5CEE-99FD-4BF2-B527-328DEE27B99D}" type="slidenum">
              <a:t>2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56BF24-3EE5-48C0-9358-DE8C01803B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realizacije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štinska pitanja na koja moramo odgovarat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ji je obim posl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je saradnike imamo na raspolaganj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liko vremena imamo na raspolaganj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liki su troškovi ovog posl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kav kvalitet moramo da ostvarim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4BBD-ED19-4CB0-99BC-060A9BEB362E}" type="slidenum">
              <a:t>2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61E896-56D0-4FC4-AD9D-1C896A85D8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Šta smo naučil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znavanje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hnološki pro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haniz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i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informa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s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z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84FE-D2E7-4368-BE9B-99CF9914C70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DC7537-5693-4CEF-BAF8-9991BDC866DC}" type="datetime1">
              <a:rPr lang="en-US"/>
              <a:t>07/30/26</a:t>
            </a:fld>
          </a:p>
        </p:txBody>
      </p:sp>
    </p:spTree>
  </p:cSld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realizacije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ki od odgovora na navedena pitanja se mogu unapred zn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ki od odgovora se menjaju vremenom zbog razvoja situ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je dovoljno odgovoriti na ova pitanja samo u jednom trenutk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govori se moraju pribavljati i korigovati tokom celog rada na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77FB-EFAE-4056-B619-629BA51D005F}" type="slidenum">
              <a:t>2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4B66CD-BDA4-439B-B449-178E3EF39F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 za kontrolu realizacije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(plan) budućih događa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id u stvarno st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laniranog i ostvaren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uzimanje akcije za smanjenje odstup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82F3-3A08-489B-BC1E-A25AAC407235}" type="slidenum">
              <a:t>2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54A3A2-F22A-494F-B587-FD60D9FFBD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 je obavezan uslov za  kontrolu realizacije pro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ažnije osobine informacionog sistema za kontrolu realizacije gra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lopljen u IS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zina dobijanja inform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zina procene efekata odlu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zina distribucije inform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je potrebna, ali ne apsolutna tačno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7500-0C24-459A-B606-6761596F4A57}" type="slidenum">
              <a:t>2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235A6A-9AA2-45DF-8310-0D201088A3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se odvija na osnovu procena obima radova, procene praktičnog učinka i sagledavanja tehnologij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se prikazuje u mreženom pla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ma tačnih plan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ovi se stalno ispravljaju i prilagođavaju stvarnoj situ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B2B6-C034-4ECA-8789-44DB6C0BB0F4}" type="slidenum">
              <a:t>2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2E9459-18D5-4A81-A0F5-36832BBBC6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postoji efikasan način da se automatski stigne od predmera do mrežnog pl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e je automatizovati samo veoma jednostavne projek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je poželjno uspostaviti vezu između predmera i pl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 mora kvalitetno ostvar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 ne mora biti potpuno tač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D5DF-75FE-4B0C-8FF7-C7C1A2A0CBCE}" type="slidenum">
              <a:t>2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83438E-04B7-47E4-99BF-C6776E678E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 kvalitetni programi za mrežno plani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laniranog i ostvarenog se može realizovati brzo, efikasno i pregled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 se dobiti odgovori na pitanja “Šta - ak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9EDB-08DB-4B08-AF00-D4002AF88932}" type="slidenum">
              <a:t>2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B1A2BF-F5B4-47DC-B6D4-AE9AD1B62D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važno, možda najvažnije merilo uspeha iz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započeti sa kontrolom troškova što ranij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troškove se najbolje utiče na samom početku rada na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samom početku rada na projektu najslabije poznajemo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2463-1C82-42AC-97A7-11071D7BDC64}" type="slidenum">
              <a:t>2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E2133C-C081-495E-8D94-1FBEB5AB78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caj ranih studija na troškov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e studije čine 2% vrednost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e studije mogu da pruže 50% doprinosa profitabilnost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na dokumentacija definiše troškove s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šću ± 5%-1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okviru projektne dokumentacije je ostvareno 85%-90% ušt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A54F-4928-42F5-ADEE-CC9A42B2A62B}" type="slidenum">
              <a:t>2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A67E93-2BD5-41F0-89E4-A7E8F1E48F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za između kontrole troškova i vrem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raćenje vremena realizacije projekta može da značajno poveća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ženje vremena realizacije projekta može takođe da značajno podigne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ba izabrati optimalno trajan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a je primena kvalitetnih programa za planiranje tokom kontro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28A8-F5BA-4D67-B14A-DF9A0BB86F95}" type="slidenum">
              <a:t>2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57DF23-3C7C-428F-8E99-3C9581F22E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troškova na bazi utroška resurs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a razrađena tehnologij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a paralelna kontrola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e je ostvariti detaljnu kontrolu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ženost modela se mora pažljivo odrediti, da ne bi postao neefikas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2AEB-E376-458F-953B-2DFD2E7C7D59}" type="slidenum">
              <a:t>2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F3D6CF-B63E-4B78-81AD-B17ECA6DCC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Šta ćemo raditi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torov pogled na sv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ačev pogled na sv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živanje trž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rada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var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rada projektne dokumentacije i pri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vođenje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istorijskih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4CB1-863D-461D-8710-A90F6996E32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276EE8-4507-49CE-9DF7-E17BB09E1184}" type="datetime1">
              <a:rPr lang="en-US"/>
              <a:t>07/30/26</a:t>
            </a:fld>
          </a:p>
        </p:txBody>
      </p:sp>
    </p:spTree>
  </p:cSld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tička 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laniranih i realizovanih troškova po aktivnos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efikasnog plana ne postoji direktna veza između aktivnosti i pozicij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obaviti kreativno povezivanje ta dva sku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76F6-A1C6-4D03-B87C-371D4CFA8A2B}" type="slidenum">
              <a:t>2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BA6DCA-B732-41CA-AB55-E3B092107C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tička 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ba proceniti očekivane troškove pojedinih 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vaki konkretan trošak treba pridruživati konkretnoj 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rocene i stvarnog iznosa je osnova za kontro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DA70-9A75-4DB7-AFBA-ACCC4C5A2996}" type="slidenum">
              <a:t>2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86DA94-1ECD-4C3C-9773-F9D28A4366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tička 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nostavniji i manje kvalitetan način je poređenje procenjenog troška pozicije radova i realizovanih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daje pregled u vrem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je presporo za efikasno upravlj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esto se sprovodi kroz čisto knjigovodst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e poboljšanje kroz primenu troškovno značajnih stav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FCE3-BBAD-4C06-8E30-CD7B92551927}" type="slidenum">
              <a:t>2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AB7365-A9CF-4F64-B737-7C69AD36BD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toka novca (cash flow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laniranog i ostvarenog toka nov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ub nač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biti od životnog značaja za izvođača, pogotovu u našim usl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esto jedini način realne kontrole troškova tokom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A547-2001-4A5A-AA75-9BD884C4DE33}" type="slidenum">
              <a:t>2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FC49E3-1519-4D3B-B701-BB90B66523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piska na projek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a za razrešavanje sporova sa investito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a se bazirati na strategiji firme prema projektu i investito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a se voditi precizno i pažlj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stavlja deo ugovor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nas se vodi preko građevinske knjige i dnev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162A-0CA4-4208-8429-F5EC1D4233AE}" type="slidenum">
              <a:t>2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317E88-EE49-42AA-96EE-B0DEDF2C9C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piska na projek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 FIDIC-u se vodi preko dopi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biti veoma obimna u dugotrajnim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je deo IS koji će se baviti ovom prepisk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 FIDIC-u postoji klasifikacija dopi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2E00-B775-4DD7-9946-17E7B7FBC0B7}" type="slidenum">
              <a:t>2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B1DE57-8B09-42D0-86C0-7B9E52B1A8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lasifikacija dopis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14440" y="2514240"/>
            <a:ext cx="58291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isi o tehnologiji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isi o rok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kcije o radovim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kcije na licu mest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te instru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log za izmenu pozicij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riation or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jemna list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quest for approval of wor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evni izveštaj o izvođenju radov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ily repo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3F6D-C558-47FB-8FD9-8FD2989D3AB1}" type="slidenum">
              <a:t>2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AD2931-58AB-47E1-BEDE-6B74AAB1F0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tehničkom dokumentacij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 i prateća dokume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na dokum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isi (računajući i situacije, planove i sl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pisnici sa sastan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biti veoma obimna i raznovrs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je tokom celog toka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 efikasnog korišćenja dokumentacije može da zavisi veoma mno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17DE-053C-4C76-91C2-B889A93198E5}" type="slidenum">
              <a:t>2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51C2ED-CF86-49F5-81AA-027C92C469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tehničkom dokumentacij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sični metod arhiviranja je neefikas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o je praktično nemoguće dobiti prave podat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organizovati sistem unošenja, analiziranja i šifr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je bitan interaktivan r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je neophodno unositi u računar cele doku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B30A-95B6-47DA-A670-FD107DB6330B}" type="slidenum">
              <a:t>2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445CD6-46E8-4113-91D2-E1B9DBCBB8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carinskim i komercijalnim poslov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14440" y="2571840"/>
            <a:ext cx="5829120" cy="664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da u neinženjerske poslove, po klasičnim kriterijum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važno za realizaciju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v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ćenj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ćenje ro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ozoravanje koris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deo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4730-7EC5-4DBC-B689-C461B91C9AAC}" type="slidenum">
              <a:t>2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763224-4226-49FE-8BF0-E36BBD9A28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vestitorov pogled na sve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formiranja koncep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realiz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eksploa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2165-29BE-4BD5-9960-85AB6C151C0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F1EB47-DB74-4700-A310-A3DB9E6A9330}" type="datetime1">
              <a:rPr lang="en-US"/>
              <a:t>07/30/26</a:t>
            </a:fld>
          </a:p>
        </p:txBody>
      </p:sp>
    </p:spTree>
  </p:cSld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i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realizaci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 za kontrolu realizaci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 između kontrole troškova i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iska na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tehničkom dokumentacij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BBB4-18E8-42AC-9447-92ACDD383BC3}" type="slidenum">
              <a:t>2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E2924F-3333-4A8D-89C3-C9E11F688317}" type="datetime1">
              <a:rPr lang="en-US"/>
              <a:t>07/30/26</a:t>
            </a:fld>
          </a:p>
        </p:txBody>
      </p:sp>
    </p:spTree>
  </p:cSld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F716-3666-4D16-8ABA-BC2217DB1B60}" type="slidenum">
              <a:t>2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ABAF8B-9DE9-4924-9350-614AF107021B}" type="datetime1">
              <a:rPr lang="en-US"/>
              <a:t>07/30/26</a:t>
            </a:fld>
          </a:p>
        </p:txBody>
      </p:sp>
    </p:spTree>
  </p:cSld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 u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nap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štetni zahte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šavanje spor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65A7-4480-45E8-B616-D936D6050B70}" type="slidenum">
              <a:t>2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6B8CF5-F605-4ED5-81E7-CCD2D45425DC}" type="datetime1">
              <a:rPr lang="en-US"/>
              <a:t>07/30/26</a:t>
            </a:fld>
          </a:p>
        </p:txBody>
      </p:sp>
    </p:spTree>
  </p:cSld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14440" y="50004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14440" y="1981080"/>
            <a:ext cx="5829120" cy="739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vija se tokom celog projek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rednovanje izvršenog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varni cilj svakog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štinski uslov je dokumentacija a ne izvršeni rad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 pravilu podležu nacionalnim zakon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 se zasnivati na internacionalnim usl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1503-731D-4045-B9CE-F20039E17936}" type="slidenum">
              <a:t>2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5502D2-B0F7-4C49-9DB3-21204937F6B8}" type="datetime1">
              <a:rPr lang="en-US"/>
              <a:t>07/30/26</a:t>
            </a:fld>
          </a:p>
        </p:txBody>
      </p:sp>
    </p:spTree>
  </p:cSld>
</p:sld>
</file>

<file path=ppt/slides/slide2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YU L Times"/>
              </a:rPr>
              <a:t>FIDIC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usl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enje količ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mene, dopune i ispušt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remeni izno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pitivanje kvalit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tali usl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ovi po tuđim specifikacij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moć drugim izvođač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 nestandardnih ter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ovi tokom garantnog ro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ončanje ugov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BFB6-B9C1-41E0-AC82-565A3B91E974}" type="slidenum">
              <a:t>2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16C9B3-34C0-4BA7-AA3D-CA089557AFFE}" type="datetime1">
              <a:rPr lang="en-US"/>
              <a:t>07/30/26</a:t>
            </a:fld>
          </a:p>
        </p:txBody>
      </p:sp>
    </p:spTree>
  </p:cSld>
</p:sld>
</file>

<file path=ppt/slides/slide2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renje količi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ične cene (unit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stvene cene (lump s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binovani mode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merenja prema FIDIC-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hodno obavešta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traženih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rezult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edbe u roku od 14 d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3FC6-72D4-4848-B950-6F87684BE827}" type="slidenum">
              <a:t>2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72143B-78F4-477F-8861-0E07CD9DB0A1}" type="datetime1">
              <a:rPr lang="en-US"/>
              <a:t>07/30/26</a:t>
            </a:fld>
          </a:p>
        </p:txBody>
      </p:sp>
    </p:spTree>
  </p:cSld>
</p:sld>
</file>

<file path=ppt/slides/slide2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menjeni rad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pismeni nalog inženj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o je obavestiti inženjera u roku od 14 dana o zahtevu za dodatnu naplatu (količine ili ce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ukupna izmena pređe 15%, moguća je naplata i ako nalog ne posto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28F2-51B4-4A64-9BA2-D4E76ECA2B71}" type="slidenum">
              <a:t>2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0EFCB5-F3E6-45AD-842C-62BAC2D85634}" type="datetime1">
              <a:rPr lang="en-US"/>
              <a:t>07/30/26</a:t>
            </a:fld>
          </a:p>
        </p:txBody>
      </p:sp>
    </p:spTree>
  </p:cSld>
</p:sld>
</file>

<file path=ppt/slides/slide2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vremeni iznos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nsiranje radova za koje se u trenutku sklapanja nije znalo da li će biti izvede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e se na osnovu odobrenja inženj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ženjeru se dostavljaju ponude, računi, fakture i s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D389-9871-456F-B0A5-6E4ED72AC8CB}" type="slidenum">
              <a:t>2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8EFD06-CA43-424D-AD8C-46F376C16296}" type="datetime1">
              <a:rPr lang="en-US"/>
              <a:t>07/30/26</a:t>
            </a:fld>
          </a:p>
        </p:txBody>
      </p:sp>
    </p:spTree>
  </p:cSld>
</p:sld>
</file>

<file path=ppt/slides/slide2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kvalite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ična procedura kao za mer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viđeno odredbama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valit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čestanost mer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mer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predviđeno ugovo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plata od strane "krivca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3B28-E124-45F0-90DE-19B3819D3969}" type="slidenum">
              <a:t>2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C21921-EE49-4DEC-8B8A-03508033A6CC}" type="datetime1">
              <a:rPr lang="en-US"/>
              <a:t>07/30/26</a:t>
            </a:fld>
          </a:p>
        </p:txBody>
      </p:sp>
    </p:spTree>
  </p:cSld>
</p:sld>
</file>

<file path=ppt/slides/slide2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iš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nje tuđih specifikaci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je ugovoreno na osnovu specifikacija koje nije uradio, izvođač može da naplati prekoračenje količ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ži i ako su specifikacije bile poznate u toku sklapanja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B6BF-25B8-40B7-924A-54130A50F711}" type="slidenum">
              <a:t>2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F0A9AC-4E0E-446A-8C83-005E5ADFD506}" type="datetime1">
              <a:rPr lang="en-US"/>
              <a:t>07/30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formiranja koncep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33520" y="3200400"/>
          <a:ext cx="600048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200400"/>
                    <a:ext cx="600048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3BDF-1EB9-4EDC-8E6B-931E51FF7882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90308F-DD30-46E9-96E1-71F78DEE086C}" type="datetime1">
              <a:rPr lang="en-US"/>
              <a:t>07/30/26</a:t>
            </a:fld>
          </a:p>
        </p:txBody>
      </p:sp>
    </p:spTree>
  </p:cSld>
</p:sld>
</file>

<file path=ppt/slides/slide2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tali osnovi za napla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moć drugim izvođači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avezan je pismeni zahtev inženj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ort nestandardnih ter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oma je poželjno da su uneti u specif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štećenja javnih puteva nastala i pored brige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D8DD-185B-4978-8FF4-9C0F630EC602}" type="slidenum">
              <a:t>2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64305A-4497-48DD-8777-B41A08360EF8}" type="datetime1">
              <a:rPr lang="en-US"/>
              <a:t>07/30/26</a:t>
            </a:fld>
          </a:p>
        </p:txBody>
      </p:sp>
    </p:spTree>
  </p:cSld>
</p:sld>
</file>

<file path=ppt/slides/slide2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tali osnovi za napla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antni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zvršava naloge inženj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knadno se utvđuje odgovornost i naplata, na osnovu ovih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končanje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 može preuzeti gradilište i opr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ma pravo na naknadu za izvedene radove i naknadu za ostavljeno gradilište i opr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BCFE-C50B-4CF4-9F70-4437B94DEBD4}" type="slidenum">
              <a:t>2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4A0E81-1839-4A61-8648-34FF0359A675}" type="datetime1">
              <a:rPr lang="en-US"/>
              <a:t>07/30/26</a:t>
            </a:fld>
          </a:p>
        </p:txBody>
      </p:sp>
    </p:spTree>
  </p:cSld>
</p:sld>
</file>

<file path=ppt/slides/slide2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tali osnovi za napla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i riz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 i oružani sukob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usti naručio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plać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izdavanje sertifik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ča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aveštenje o prestanku plać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lobođenje od izvrš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B1E6-2D16-40B6-B4C0-4357317FDC94}" type="slidenum">
              <a:t>2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75A9C1-843A-4C10-BCB7-F076AD9B51C4}" type="datetime1">
              <a:rPr lang="en-US"/>
              <a:t>07/30/26</a:t>
            </a:fld>
          </a:p>
        </p:txBody>
      </p:sp>
    </p:spTree>
  </p:cSld>
</p:sld>
</file>

<file path=ppt/slides/slide2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14440" y="4284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dura naplat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14440" y="1295280"/>
            <a:ext cx="5829120" cy="792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remeni sertifik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uzimanje i odobrava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na izvršenim radov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tifikat o preuzimanju aktivnosti tokom garantnog ro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tifikat za otklanjanje nedost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nsijska poravn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java po završet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crt konačne izj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ačna iz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ačni sertifik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9BF7-B563-4BC9-B4CD-F66320EA6263}" type="slidenum">
              <a:t>2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9CCD4C-92F8-48BC-BC6F-2AAEA896C105}" type="datetime1">
              <a:rPr lang="en-US"/>
              <a:t>07/30/26</a:t>
            </a:fld>
          </a:p>
        </p:txBody>
      </p:sp>
    </p:spTree>
  </p:cSld>
</p:sld>
</file>

<file path=ppt/slides/slide2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dštetni zahte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ne klauz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i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ovi nominovanih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na dokum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oratorije, materijali i standar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8666-78C5-4FE3-9E43-2F22B962AD31}" type="slidenum">
              <a:t>2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697778-B024-4F74-8A3E-8B77AD9F0615}" type="datetime1">
              <a:rPr lang="en-US"/>
              <a:t>07/30/26</a:t>
            </a:fld>
          </a:p>
        </p:txBody>
      </p:sp>
    </p:spTree>
  </p:cSld>
</p:sld>
</file>

<file path=ppt/slides/slide2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14440" y="5763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e za pokretanje odštetnih zahte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14440" y="2819160"/>
            <a:ext cx="5829120" cy="60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enjeni rad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je podataka dobijenih od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ezbeđenje prostora za gradilište i pristu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ženjerovo neispunjavanje obav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nac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ust pri obeležava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7C5A-A028-4862-92B5-F5E8C1E8A9F3}" type="slidenum">
              <a:t>2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6FEC1-DD9F-4664-97AF-47F53274D46B}" type="datetime1">
              <a:rPr lang="en-US"/>
              <a:t>07/30/26</a:t>
            </a:fld>
          </a:p>
        </p:txBody>
      </p:sp>
    </p:spTree>
  </p:cSld>
</p:sld>
</file>

<file path=ppt/slides/slide2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37760" y="50004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e za pokretanje odštetnih zahte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14440" y="2514240"/>
            <a:ext cx="5829120" cy="662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pitivanja van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ustav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zici naručio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i riz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usti naručio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ort nestandarnih tereta van predm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9A9F-A19F-4F64-B6B5-1A30697C8006}" type="slidenum">
              <a:t>2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EB0D44-2192-416A-B270-C524FDE4C418}" type="datetime1">
              <a:rPr lang="en-US"/>
              <a:t>07/30/26</a:t>
            </a:fld>
          </a:p>
        </p:txBody>
      </p:sp>
    </p:spTree>
  </p:cSld>
</p:sld>
</file>

<file path=ppt/slides/slide2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tupak pokretanja odštetnih zahte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smena najava inženjeru u roku od 28 d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prema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ični obraču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 zahtev za plaćanje u bilo kojoj mesečnoj situ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obravanje od strane inženj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05CC-23EA-400E-BA67-D96CB852DA2D}" type="slidenum">
              <a:t>2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AF7358-C75D-4D49-B695-C2A3ACB08B87}" type="datetime1">
              <a:rPr lang="en-US"/>
              <a:t>07/30/26</a:t>
            </a:fld>
          </a:p>
        </p:txBody>
      </p:sp>
    </p:spTree>
  </p:cSld>
</p:sld>
</file>

<file path=ppt/slides/slide2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šavanje spor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kom inženj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govo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bitraž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izni vremenski ro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tavljeno dovoljno vremena za odlučivanje o arbitraž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35CF-D782-428E-97A0-CB65A6A629DC}" type="slidenum">
              <a:t>2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EEEF28-CE12-4954-9861-082D2656819B}" type="datetime1">
              <a:rPr lang="en-US"/>
              <a:t>07/30/26</a:t>
            </a:fld>
          </a:p>
        </p:txBody>
      </p:sp>
    </p:spTree>
  </p:cSld>
</p:sld>
</file>

<file path=ppt/slides/slide2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 u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nap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štetni zahte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šavanje spor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C347-40DC-4715-8458-A953D469C487}" type="slidenum">
              <a:t>2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66DD34-C708-431E-9DB1-B55887EEFF41}" type="datetime1">
              <a:rPr lang="en-US"/>
              <a:t>07/30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koncepcije - faza "juriša"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Želj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e radi racionalnog sagledavanja žel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jne 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čujuće 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%-90% ušt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materijalizuje žel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i pomažu investitoru da donosi odl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1A57-2496-45BC-9AB3-551CB902097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56C70E-7121-4150-BDB2-8B16BB661246}" type="datetime1">
              <a:rPr lang="en-US"/>
              <a:t>07/30/26</a:t>
            </a:fld>
          </a:p>
        </p:txBody>
      </p:sp>
    </p:spTree>
  </p:cSld>
</p:sld>
</file>

<file path=ppt/slides/slide2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z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DCF0-69EB-4427-8726-D5A8AB75807C}" type="slidenum">
              <a:t>2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8CF076-4360-4E79-AFAA-C71C20130E53}" type="datetime1">
              <a:rPr lang="en-US"/>
              <a:t>07/30/26</a:t>
            </a:fld>
          </a:p>
        </p:txBody>
      </p:sp>
    </p:spTree>
  </p:cSld>
</p:sld>
</file>

<file path=ppt/slides/slide2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i form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ktori važni za formiranj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aci u formiranju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ktur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AE29-1F2A-484B-8589-F69CC9329B79}" type="slidenum">
              <a:t>2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1DDA8C-3CED-430C-8B5F-E64FACBD3D61}" type="datetime1">
              <a:rPr lang="en-US"/>
              <a:t>07/30/26</a:t>
            </a:fld>
          </a:p>
        </p:txBody>
      </p:sp>
    </p:spTree>
  </p:cSld>
</p:sld>
</file>

<file path=ppt/slides/slide2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vo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jedno sa istraživanjem tržišta odvija se nezavisno od konkretnog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i izvor inform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drži najvredniju imovinu firme - zn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njuje zavisnost firme od pojedina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83BB-43D5-4A07-95BE-01E56D1DA26A}" type="slidenum">
              <a:t>2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367632-C1F9-4673-ABE0-364F5D2A0E63}" type="datetime1">
              <a:rPr lang="en-US"/>
              <a:t>07/30/26</a:t>
            </a:fld>
          </a:p>
        </p:txBody>
      </p:sp>
    </p:spTree>
  </p:cSld>
</p:sld>
</file>

<file path=ppt/slides/slide2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ncipi formir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zavisne od konkretne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ki broj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ki broj izvor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a sistematizacija i sažimanje inform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B6B4-DC1A-41E9-8658-D4AC607AD1C4}" type="slidenum">
              <a:t>2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EAE8C-8800-4322-BA8A-16EE61712C38}" type="datetime1">
              <a:rPr lang="en-US"/>
              <a:t>07/30/26</a:t>
            </a:fld>
          </a:p>
        </p:txBody>
      </p:sp>
    </p:spTree>
  </p:cSld>
</p:sld>
</file>

<file path=ppt/slides/slide2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ktori važni za formiranje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oga u realizaciji projekata (investitor, izvođač, konsultant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ža oblast delovanja (izgradnja tunela, stanova, mostova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e karakteristike firme (organizaciona struktura, veličina, strategij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vo znanja i iskust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remlje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7C48-9300-4552-97D2-BFBF37B0541F}" type="slidenum">
              <a:t>2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826035-8993-44CB-B089-0A3B4C8461E8}" type="datetime1">
              <a:rPr lang="en-US"/>
              <a:t>07/30/26</a:t>
            </a:fld>
          </a:p>
        </p:txBody>
      </p:sp>
    </p:spTree>
  </p:cSld>
</p:sld>
</file>

<file path=ppt/slides/slide2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aci u formiranju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 sistema i sagledavanje potreba za istorijskim podac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iranje izvor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organizacione strukture i toka informacija u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ređivanje sadržaja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iranje specifikacije za nabavku hardv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D90D-038B-4E93-AEC6-2EF66EA93CFC}" type="slidenum">
              <a:t>2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7CAAE-0362-47E3-AD00-D5AE79C2A7D0}" type="datetime1">
              <a:rPr lang="en-US"/>
              <a:t>07/30/26</a:t>
            </a:fld>
          </a:p>
        </p:txBody>
      </p:sp>
    </p:spTree>
  </p:cSld>
</p:sld>
</file>

<file path=ppt/slides/slide2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aci u formiranju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i implementcija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inuirano prikupljanje, selekcija i unošenj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je baze podataka (pretraživanje, izveštavanje, povezivanje različitih tipova podatak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5972-E738-478A-B37F-48A92C24CFCD}" type="slidenum">
              <a:t>2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53E4EC-77D6-4C0E-8A7C-D44894CDE429}" type="datetime1">
              <a:rPr lang="en-US"/>
              <a:t>07/30/26</a:t>
            </a:fld>
          </a:p>
        </p:txBody>
      </p:sp>
    </p:spTree>
  </p:cSld>
</p:sld>
</file>

<file path=ppt/slides/slide2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investicionim radovima, potpuno ili delimično realizova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meri i predraču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e 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đevinski dnevnici i knji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uacije o fizičkoj i finansijskoj realiz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ični izveštaji o kontroli vremena i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FFD5-1544-4886-9877-82F5AD5D01A5}" type="slidenum">
              <a:t>2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0B83B6-49B6-4630-BE43-897A61273157}" type="datetime1">
              <a:rPr lang="en-US"/>
              <a:t>07/30/26</a:t>
            </a:fld>
          </a:p>
        </p:txBody>
      </p:sp>
    </p:spTree>
  </p:cSld>
</p:sld>
</file>

<file path=ppt/slides/slide2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oratorijski i drugi izveštaji o kontroli kvalit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e specif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fička projektna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ugrađenoj opr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kovani iskustveni normati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sma i zapisnici o ključnim tehničkim problem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EA50-A3AA-4D2E-AA37-29A44ED80368}" type="slidenum">
              <a:t>2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E98AB8-7496-4CD5-82C7-A4B23A64C884}" type="datetime1">
              <a:rPr lang="en-US"/>
              <a:t>07/30/26</a:t>
            </a:fld>
          </a:p>
        </p:txBody>
      </p:sp>
    </p:spTree>
  </p:cSld>
</p:sld>
</file>

<file path=ppt/slides/slide2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korišćenoj mehaniz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kumentacija o carinskim i drugim komercijalnim trošk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plaćanju osigu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plaćanju lokalne radne snage i mehaniz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kumentacija o radu sklad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2B95-10C4-409E-B1D9-C10EF4D835CC}" type="slidenum">
              <a:t>2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F1BAFC-CF84-4637-AF88-1C5F36E58FC0}" type="datetime1">
              <a:rPr lang="en-US"/>
              <a:t>07/30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realizacije - še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9480" y="3505320"/>
          <a:ext cx="5727960" cy="38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505320"/>
                    <a:ext cx="5727960" cy="38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BD16-2C6F-48B3-AAA6-4CE394C7629A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4C3FEA-DB6C-4CFF-BF85-BE39AC961230}" type="datetime1">
              <a:rPr lang="en-US"/>
              <a:t>07/30/26</a:t>
            </a:fld>
          </a:p>
        </p:txBody>
      </p:sp>
    </p:spTree>
  </p:cSld>
</p:sld>
</file>

<file path=ppt/slides/slide2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drovska eviden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e zvanične lokalne publ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imljeni materijali o gradil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a zapažanja pojedin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98F1-6D0F-4C95-AA4A-5F3AEBBFDC8E}" type="slidenum">
              <a:t>2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D53EB5-1B67-4381-8984-AB54EA1B46AB}" type="datetime1">
              <a:rPr lang="en-US"/>
              <a:t>07/30/26</a:t>
            </a:fld>
          </a:p>
        </p:txBody>
      </p:sp>
    </p:spTree>
  </p:cSld>
</p:sld>
</file>

<file path=ppt/slides/slide2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ktura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stvarno izvedenim količinama i naplaćenim cen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, po jedinici mere, o utrošku radne snage, mehanizacije i materijala, finansijski efekti i vreme izvo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funkcionisanju maš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i podaci o izvedenim rad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69E5-9AAB-42E1-A300-D11886126F99}" type="slidenum">
              <a:t>2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149920-22B1-4C4D-89CB-96A6D037506E}" type="datetime1">
              <a:rPr lang="en-US"/>
              <a:t>07/30/26</a:t>
            </a:fld>
          </a:p>
        </p:txBody>
      </p:sp>
    </p:spTree>
  </p:cSld>
</p:sld>
</file>

<file path=ppt/slides/slide2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ktura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14440" y="1980720"/>
            <a:ext cx="5829120" cy="723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opremi (podizvođači, cene, vremena isporuke, transport, montaža, probni pogon i garantni ro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kadrovima (učešće i kvalitet ra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kadrovima investitora i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vanični podaci iz lokalnih publik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bitni za rešavanje spor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BC34-8FBE-416F-BE3A-6D7AFB215249}" type="slidenum">
              <a:t>2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CF6B38-8873-4FAC-A510-B2E70CC31ACE}" type="datetime1">
              <a:rPr lang="en-US"/>
              <a:t>07/30/26</a:t>
            </a:fld>
          </a:p>
        </p:txBody>
      </p:sp>
    </p:spTree>
  </p:cSld>
</p:sld>
</file>

<file path=ppt/slides/slide2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i form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ktori važni za formiranj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aci u formiranju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ktur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0D13-2A11-4D82-8327-0521B31E9F24}" type="slidenum">
              <a:t>2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89A6B2-F5E6-4A0C-8D46-7D0937E64ED6}" type="datetime1">
              <a:rPr lang="en-US"/>
              <a:t>07/30/26</a:t>
            </a:fld>
          </a:p>
        </p:txBody>
      </p:sp>
    </p:spTree>
  </p:cSld>
</p:sld>
</file>

<file path=ppt/slides/slide2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888D-3821-4EE2-9CBC-BE09089646CC}" type="slidenum">
              <a:t>2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8F24A2-7B58-4C53-A747-D45B1DE1A729}" type="datetime1">
              <a:rPr lang="en-US"/>
              <a:t>07/30/26</a:t>
            </a:fld>
          </a:p>
        </p:txBody>
      </p:sp>
    </p:spTree>
  </p:cSld>
</p:sld>
</file>

<file path=ppt/slides/slide2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14440" y="1951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14440" y="1643040"/>
            <a:ext cx="5829120" cy="750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, opšti i u građevinarst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i inform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i, opšti i u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ne postavk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a koncepcija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on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e između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ljevi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bazam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8752-DA0D-4175-AF9D-F6ADDEF4653C}" type="slidenum">
              <a:t>2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5E74C0-8BB3-45D8-99EA-F791BA39BA4D}" type="datetime1">
              <a:rPr lang="en-US"/>
              <a:t>07/30/26</a:t>
            </a:fld>
          </a:p>
        </p:txBody>
      </p:sp>
    </p:spTree>
  </p:cSld>
</p:sld>
</file>

<file path=ppt/slides/slide2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 je znatno više od prostog skupa del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ovi sistema su povezani vez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e transformišu i razmenjuju res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 imaju svoj cil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 se podeliti na podsiste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E9C0-C970-40BB-9C89-55224236CC35}" type="slidenum">
              <a:t>2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23CC33-B8BE-4D14-A62B-E1BC8E09A755}" type="datetime1">
              <a:rPr lang="en-US"/>
              <a:t>07/30/26</a:t>
            </a:fld>
          </a:p>
        </p:txBody>
      </p:sp>
    </p:spTree>
  </p:cSld>
</p:sld>
</file>

<file path=ppt/slides/slide2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i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 u građevinarstvu reaguju na spoljne uticaje (otvoreni sistem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ma u građevinarstvu se može upravlj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 se na osnovu resursa "informacija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F575-4D53-44F1-A6C1-34D0C04D038C}" type="slidenum">
              <a:t>2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700F41-0CF1-45EA-BD1F-53E468D64AA1}" type="datetime1">
              <a:rPr lang="en-US"/>
              <a:t>07/30/26</a:t>
            </a:fld>
          </a:p>
        </p:txBody>
      </p:sp>
    </p:spTree>
  </p:cSld>
</p:sld>
</file>

<file path=ppt/slides/slide2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i inform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sistemi za razmenu inform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 bi upravljanje bilo moguće, treba da odgovara siste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u "činjenice iz kojih možemo da izvučemo zaključke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je su "značenja koji čovek pripisuje podacima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E940-35CA-4DE8-9AE7-276ABB074844}" type="slidenum">
              <a:t>2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589357-DED7-4518-9781-D35F04C60CAE}" type="datetime1">
              <a:rPr lang="en-US"/>
              <a:t>07/30/26</a:t>
            </a:fld>
          </a:p>
        </p:txBody>
      </p:sp>
    </p:spTree>
  </p:cSld>
</p:sld>
</file>

<file path=ppt/slides/slide2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tke je potrebno prikupiti, skladištiti i obrad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k posle obrade dobijamo informaciju koja je koris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rednost informacije opada sa vremen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ja treba da bude tačna, dovoljna i pravo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5B37-BE67-43CB-AA74-E941BB7CC6AC}" type="slidenum">
              <a:t>2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552FC9-2C49-4F6E-BDB3-027F221BE78B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... a šta ćemo vas mi učit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incipi upravljanja se razlikuju od principa matemat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ema opštih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bitno je rešiti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bitno je “snaći s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ije dovoljno znati “šta je predavan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znanje ima smisla samo ako se kreativno primenjuje u realnim situaci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B6B6-CD7E-4709-89DF-6C405BA0D83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82028C-A284-4B11-9B2C-D94953786C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realizacije - "rovovska" borb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vršeni su suštinski po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ete su suštinske odlu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ao investitora je da kontroliše na bazi predhodnih zn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šk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it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84C7-66A0-46EA-8746-516E8B42AF90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98E8FF-BF83-4360-A3C2-56957D5E9785}" type="datetime1">
              <a:rPr lang="en-US"/>
              <a:t>07/30/26</a:t>
            </a:fld>
          </a:p>
        </p:txBody>
      </p:sp>
    </p:spTree>
  </p:cSld>
</p:sld>
</file>

<file path=ppt/slides/slide3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cije u upravljanju projektima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 informacija odgovara interak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i informisanja odgovaraju učesnic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govremenost je od suštinskog znača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čunari nisu obavezni ali pomaž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ktura treba da bude slična samom siste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DAF9-C1D8-4DB1-A419-00567BD08F13}" type="slidenum">
              <a:t>3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4BC219-ED88-43A9-A14A-D374AC1127B5}" type="datetime1">
              <a:rPr lang="en-US"/>
              <a:t>07/30/26</a:t>
            </a:fld>
          </a:p>
        </p:txBody>
      </p:sp>
    </p:spTree>
  </p:cSld>
</p:sld>
</file>

<file path=ppt/slides/slide3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Šema IS za upravljanje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533520" y="4038480"/>
            <a:ext cx="5797440" cy="28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F935-2843-4D15-BCAF-95DBF20796B5}" type="slidenum">
              <a:t>30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729338-8468-4ED0-8D1D-8F19AEF2CEB7}" type="datetime1">
              <a:rPr lang="en-US"/>
              <a:t>07/30/26</a:t>
            </a:fld>
          </a:p>
        </p:txBody>
      </p:sp>
    </p:spTree>
  </p:cSld>
</p:sld>
</file>

<file path=ppt/slides/slide3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ne postavke I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vivaletan je modelu upravljanja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čari se ne razumeju u menadž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razumevanje da je potrebna investicija koje će se isplat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e procenjivanje budućih organizacionih iz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e sagledavanje potreba za informaci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e održa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19D9-4309-4867-AC5E-7E5229790969}" type="slidenum">
              <a:t>3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2AD9F-EFE1-4350-9F05-CE511BD80C5B}" type="datetime1">
              <a:rPr lang="en-US"/>
              <a:t>07/30/26</a:t>
            </a:fld>
          </a:p>
        </p:txBody>
      </p:sp>
    </p:spTree>
  </p:cSld>
</p:sld>
</file>

<file path=ppt/slides/slide3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aci u projektovanj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organizacione 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budućeg razvoja organizacione 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ezbeđenje kadr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log poboljšanja u rukovođe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lagođen konkretnom poslovnom siste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ezbeđenje budž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C830-91EF-4AF4-96C7-A1FBC8D62E51}" type="slidenum">
              <a:t>3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12CE68-646B-4475-9C71-C29E854680BD}" type="datetime1">
              <a:rPr lang="en-US"/>
              <a:t>07/30/26</a:t>
            </a:fld>
          </a:p>
        </p:txBody>
      </p:sp>
    </p:spTree>
  </p:cSld>
</p:sld>
</file>

<file path=ppt/slides/slide3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hničke postavk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ze podataka su "kolekcije podataka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 poslovnu primenu trebaju n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investitorima u rokovni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zaposlenima u ličnim dosije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knjigovodstvu iz knj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. . . . 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vaka od navedenih skupova su "tabele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8BB2-89EA-4801-B08C-A78C5AE3DFB2}" type="slidenum">
              <a:t>3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9CB367-69C1-46A5-99F4-FC446525ECDC}" type="datetime1">
              <a:rPr lang="en-US"/>
              <a:t>07/30/26</a:t>
            </a:fld>
          </a:p>
        </p:txBody>
      </p:sp>
    </p:spTree>
  </p:cSld>
</p:sld>
</file>

<file path=ppt/slides/slide3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ze između tabel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ele nisu nezavis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edini zaposleni komuniciraju sa pojedinim poslovnim partne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edini zaposleni doprinose prihodima i troškovima iz knj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edini poslovnim partneri doprinose prihodima i troškovima iz knj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19ED-D7E6-4BCD-AFA7-E6D402CBD3A1}" type="slidenum">
              <a:t>3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0F7D1F-B89D-44D7-9948-DE3B03DF3B4F}" type="datetime1">
              <a:rPr lang="en-US"/>
              <a:t>07/30/26</a:t>
            </a:fld>
          </a:p>
        </p:txBody>
      </p:sp>
    </p:spTree>
  </p:cSld>
</p:sld>
</file>

<file path=ppt/slides/slide3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lacione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sno definisan matematički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ogućavaju smeštaj podataka na jednom mes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šu veze imeđu tab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ezbeđuje efikasnu pripremu izvešta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ogućuje raspodelu prava i odgovor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6D94-33B9-4408-B4A5-847A1C57AA12}" type="slidenum">
              <a:t>3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67C8DE-7820-42CB-83D1-86025F37D94B}" type="datetime1">
              <a:rPr lang="en-US"/>
              <a:t>07/30/26</a:t>
            </a:fld>
          </a:p>
        </p:txBody>
      </p:sp>
    </p:spTree>
  </p:cSld>
</p:sld>
</file>

<file path=ppt/slides/slide3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ementi relacione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e imeđu tab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iti (que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ulari (For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eštaji (Repo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i za upravlj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nički interfejs (interfa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00E2-6E18-4BCE-968C-2771E4116070}" type="slidenum">
              <a:t>3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9B341E-07FA-4DF9-A663-665DD8F73FEA}" type="datetime1">
              <a:rPr lang="en-US"/>
              <a:t>07/30/26</a:t>
            </a:fld>
          </a:p>
        </p:txBody>
      </p:sp>
    </p:spTree>
  </p:cSld>
</p:sld>
</file>

<file path=ppt/slides/slide3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stribuiranost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ponente mogu da budu smeštene na različitim računar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postoje kvalitetne telekomunikacione veze i programi, distribuiranost može biti prozirna (transparentn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postojati redundansa (višestruko ponavljanje podatak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i univerzalni jezik (SQ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95A0-4C22-4079-B782-6DB075B743A2}" type="slidenum">
              <a:t>3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B1C9B6-C170-48A9-9569-5498CE2C3D42}" type="datetime1">
              <a:rPr lang="en-US"/>
              <a:t>07/30/26</a:t>
            </a:fld>
          </a:p>
        </p:txBody>
      </p:sp>
    </p:spTree>
  </p:cSld>
</p:sld>
</file>

<file path=ppt/slides/slide3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i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oji na svim sistemima od velikih do mali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bno pogodan za velike sist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sprostranj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ije neudo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toji za Windows NT okru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lično udo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no jef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graničen PC i Windows arhitektu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6477-80D9-4706-9CF9-58AD977CC120}" type="slidenum">
              <a:t>3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CE67C7-1204-4C0D-A66B-EB2AA84842F7}" type="datetime1">
              <a:rPr lang="en-US"/>
              <a:t>07/30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eksploat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činje završetkom garantnog ro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ciono dobro se u potpunosti prepušta investito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na polit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om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hnika i tehnolog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spada u upravljanje projektima u užem smis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DF5C-AB82-417F-946B-C6B48C54279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53DA62-47C3-47D8-BB8D-FC8DFC15050F}" type="datetime1">
              <a:rPr lang="en-US"/>
              <a:t>07/30/26</a:t>
            </a:fld>
          </a:p>
        </p:txBody>
      </p:sp>
    </p:spTree>
  </p:cSld>
</p:sld>
</file>

<file path=ppt/slides/slide3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i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-windows okru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do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oma rasprostranj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graničen platformom i OS-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bro povezan sa ostal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-DOS okru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doban, ali donekle ogranič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rednj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D7BF-4619-4739-B003-426AA5B67432}" type="slidenum">
              <a:t>3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3D2F2B-0832-4D68-BD22-BFEF103ABAF0}" type="datetime1">
              <a:rPr lang="en-US"/>
              <a:t>07/30/26</a:t>
            </a:fld>
          </a:p>
        </p:txBody>
      </p:sp>
    </p:spTree>
  </p:cSld>
</p:sld>
</file>

<file path=ppt/slides/slide3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municiranje između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čke komun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m univerzalnog jezika (SQ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m tabela u standardnom formatu (dB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zičke komun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e telefonske li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rečne telefonske li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čunarski komunikacioni kan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ktne ve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E48C-4998-4970-BDBE-EF3E4E39CF87}" type="slidenum">
              <a:t>3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3CD0CA-4EBB-4BE3-ABFE-901DC639908A}" type="datetime1">
              <a:rPr lang="en-US"/>
              <a:t>07/30/26</a:t>
            </a:fld>
          </a:p>
        </p:txBody>
      </p:sp>
    </p:spTree>
  </p:cSld>
</p:sld>
</file>

<file path=ppt/slides/slide3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lijent-sever koncep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i "poslužilac (server)" koji je dovoljno "fizički jak" da opsluži više "mušterija (klijent)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ijent postavi zahtev, server obradi podatke i vrati ih obrađ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iše se koristi baš za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AEA6-C579-49BE-BCC0-C1399F5AE5EE}" type="slidenum">
              <a:t>3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971564-CABC-4405-AA17-AC5E1007EC43}" type="datetime1">
              <a:rPr lang="en-US"/>
              <a:t>07/30/26</a:t>
            </a:fld>
          </a:p>
        </p:txBody>
      </p:sp>
    </p:spTree>
  </p:cSld>
</p:sld>
</file>

<file path=ppt/slides/slide3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ljevi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jiv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stupnost (raspoloživ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vojnost (evolutivn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i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00C0-0A7B-4C36-8C66-48DDA283A7CE}" type="slidenum">
              <a:t>3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E4B3E3-EDA3-42BE-8FD9-87516932C9B7}" type="datetime1">
              <a:rPr lang="en-US"/>
              <a:t>07/30/26</a:t>
            </a:fld>
          </a:p>
        </p:txBody>
      </p:sp>
    </p:spTree>
  </p:cSld>
</p:sld>
</file>

<file path=ppt/slides/slide3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ljivost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še korisnika (pojedinaca ili programa) deli podat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unose samo jedn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e se mnogo pu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nost ograničavanja prava pristu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1A90-8409-4899-914E-CC872FA69621}" type="slidenum">
              <a:t>3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EC66CA-6742-4CE6-921D-2C9502A51CBF}" type="datetime1">
              <a:rPr lang="en-US"/>
              <a:t>07/30/26</a:t>
            </a:fld>
          </a:p>
        </p:txBody>
      </p:sp>
    </p:spTree>
  </p:cSld>
</p:sld>
</file>

<file path=ppt/slides/slide3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tupnost (raspoloživost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14440" y="2557080"/>
            <a:ext cx="5829120" cy="67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ikasan prist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željenom trenut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željenom mes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željenom obli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ladištenj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ni jez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ne metode ob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like između korisnika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čunarski orjentisani (komandni r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računarski orjentisani (interaktivni r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9534-23CE-42D1-9944-67735C518993}" type="slidenum">
              <a:t>3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3BBB29-BE5B-454F-8128-33EE9BC876B2}" type="datetime1">
              <a:rPr lang="en-US"/>
              <a:t>07/30/26</a:t>
            </a:fld>
          </a:p>
        </p:txBody>
      </p:sp>
    </p:spTree>
  </p:cSld>
</p:sld>
</file>

<file path=ppt/slides/slide3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tupnos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nizak stepen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daljen (logički ili fizički) računarski si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-line režim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ična ob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kvencijalni pristup ba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i se neki od jezika nižeg niv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56EE-85FF-491A-9951-F08F9BF21E6C}" type="slidenum">
              <a:t>3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FCF761-317B-4EDB-BFC8-B704A276E109}" type="datetime1">
              <a:rPr lang="en-US"/>
              <a:t>07/30/26</a:t>
            </a:fld>
          </a:p>
        </p:txBody>
      </p:sp>
    </p:spTree>
  </p:cSld>
</p:sld>
</file>

<file path=ppt/slides/slide3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tupnos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visok stepen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izak (logički ili fizički) računarski si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moć tehničkog osob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-line režim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nutna ob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ktni pristup ba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i se neki od jezika višeg niv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E3C9-9581-42A1-930F-FE213A6C8775}" type="slidenum">
              <a:t>3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B516DB-166F-4615-9962-1A9897F75E94}" type="datetime1">
              <a:rPr lang="en-US"/>
              <a:t>07/30/26</a:t>
            </a:fld>
          </a:p>
        </p:txBody>
      </p:sp>
    </p:spTree>
  </p:cSld>
</p:sld>
</file>

<file path=ppt/slides/slide3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azvojnost (evolutivnost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sobnost menjanja i prilagođa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ma veze za proširenj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većanje performansi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mena format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davanje novih izvešta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9BB3-AC83-4459-B90D-C1CB3179FA64}" type="slidenum">
              <a:t>3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C77EE9-8931-4B85-8D79-D695BF8A2D35}" type="datetime1">
              <a:rPr lang="en-US"/>
              <a:t>07/30/26</a:t>
            </a:fld>
          </a:p>
        </p:txBody>
      </p:sp>
    </p:spTree>
  </p:cSld>
</p:sld>
</file>

<file path=ppt/slides/slide3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gritet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judske greš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grešno uneti poda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šestruko unoš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zdanost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kazi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ndansa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ndansa opr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 pravilu organizacioni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B1D7-B983-4F77-A503-002A8A21E83B}" type="slidenum">
              <a:t>3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691B58-3CF1-4B6C-8D01-76920D0AE73A}" type="datetime1">
              <a:rPr lang="en-US"/>
              <a:t>07/30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vestito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eduje novac koji želi da investi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mora da bude raciona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ažniji učesnik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ažniji predmet izučavanja u razvijenim zeml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ažniji za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3CDA-BFAB-4A58-8F36-2C8BA521AD78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1073CD-2763-4F73-A9E1-27D56617F878}" type="datetime1">
              <a:rPr lang="en-US"/>
              <a:t>07/30/26</a:t>
            </a:fld>
          </a:p>
        </p:txBody>
      </p:sp>
    </p:spTree>
  </p:cSld>
</p:sld>
</file>

<file path=ppt/slides/slide3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bazam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htevi 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reiranje ba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širenje ba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isanje novog izvešt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o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ati za upravlj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čni korisnici (česta slabo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željno je da i administrator i koris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4C9D-4F6B-43B0-9D6B-DE680D36634B}" type="slidenum">
              <a:t>3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7E9338-3A25-4132-84B1-68D8BA5A6047}" type="datetime1">
              <a:rPr lang="en-US"/>
              <a:t>07/30/26</a:t>
            </a:fld>
          </a:p>
        </p:txBody>
      </p:sp>
    </p:spTree>
  </p:cSld>
</p:sld>
</file>

<file path=ppt/slides/slide3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14440" y="1951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14440" y="1643040"/>
            <a:ext cx="5829120" cy="750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, opšti i u građevinarst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i inform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i, opšti i u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ne postavk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a koncepcija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on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e između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ljevi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bazam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2D06-839C-43B2-B8B9-BE672B3A7B5D}" type="slidenum">
              <a:t>3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8D4254-CE3E-477A-8B7C-3BA81D92262C}" type="datetime1">
              <a:rPr lang="en-US"/>
              <a:t>07/30/26</a:t>
            </a:fld>
          </a:p>
        </p:txBody>
      </p:sp>
    </p:spTree>
  </p:cSld>
</p:sld>
</file>

<file path=ppt/slides/slide3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etraživanje Intern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6909-B1B1-4FDA-92EF-7A71F35A4932}" type="slidenum">
              <a:t>3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C41D0E-211F-4DE3-83A9-73B11B712AF6}" type="datetime1">
              <a:rPr lang="en-US"/>
              <a:t>07/30/26</a:t>
            </a:fld>
          </a:p>
        </p:txBody>
      </p:sp>
    </p:spTree>
  </p:cSld>
</p:sld>
</file>

<file path=ppt/slides/slide3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nform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vet u kome živimo je baziran na informa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iše od 95% istraživača koji su ikada živeli još su ži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rlo je verovatno da neko, negde ima informacije koje nas zanima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rlo često, najbolje i najefikasnije je da prikupimo i organizujemo postojeće informacije na drugi nač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1F1B-7B9F-48E8-AB45-E440AFC4C706}" type="slidenum">
              <a:t>3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CA8C61-3C8D-451A-875F-3EC236C7A6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Razmen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 sada, stručnjaci su provodili najveći deo svog vremena u potrazi za postojećim informa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ajbolja pomoć svakom stručnjaku je mišljenje nekog kolege, koji se negde u svetu bavim sličnim posl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azmena podataka i komunikacija između stručnjaka je osnova stručnog i naučnog napret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E630-5B10-47C9-B8CC-FCA950E002B6}" type="slidenum">
              <a:t>3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28A78-DE91-4219-8DD8-191FD358AA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Pre Interne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bično su biblioteke bile najvažnije institucije za prikupljanje znanja koje su stručnjaci koristi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Biblioteke su bile među prvim institucijama koje su počele da primenjuju informacione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Jedan od najvažnijih prodora je bilo pretraživanje bibliotečkih kataloga na daljinu, obično uz pomoć mod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8B50-30CC-488F-A5F0-BAD7B77DF7A1}" type="slidenum">
              <a:t>3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F2309D-B433-4E23-9FE1-99A07E888B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Počeci Interne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nternet je nastao kao istraživački projekat koje je finansiralo USA ministarstvo od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Glavni cilj je bio da se obezbedi da različiti računari rade zajed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Taj cilj je postignut tako što je obezbeđen način za komunikaciju između račun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D952-ACDA-44D4-91A4-3A5D5008C7DF}" type="slidenum">
              <a:t>3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75CA7E-4010-426F-BD92-C89878A02B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Širenje Interen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straživači koji su radili na računarim koji su međusobno komunicirali otkrili su da je to veoma koris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 prvi put, računari su postali sredstvo za komunikaci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 akademskim sredinama elektronska pošta (E-mail) i razmena fajlova (FTP) su počeli da se koriste kao najbolji način za komunici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4AE0-D3FF-41EC-A66B-6E207B2F23D2}" type="slidenum">
              <a:t>3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32B715-01FD-4DE8-A579-6A7E4B1B35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i WEB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WWW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ld Wide Web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 je kao standard definisan 1989. u CERN-u, Švajcars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soft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je postavio svoju web prezentaciju 199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soft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je proglasi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ernet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kao svoj glavni priorit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995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anas, komunikacija u poslovnom i akademskom okruženju je velikim delom bazirana na Interne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55F3-442B-4D01-9FAD-F65A49A876FB}" type="slidenum">
              <a:t>3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EB762-B349-41F3-9668-FE99F987F7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Times New Roman"/>
              </a:rPr>
              <a:t>Podaci na Interne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14440" y="2285640"/>
            <a:ext cx="474336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obra ve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nas, Internet je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najveća svetska kolekcija svih vrsta podatak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koja raste svaki dan, praktično bez ogranič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Loša ve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nas, Internet je najveća svetska kolekcija svih vrsta podataka, koja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raste svaki dan, praktično bez ogranič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C182-B4BB-4D36-8858-54C6C894E4BC}" type="slidenum">
              <a:t>3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9F4377-EA13-4FA8-8663-DC23721AE2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im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ačev pogled na sv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E5B0-7D6D-4AB3-8DC9-2304F4D13EDE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871FB3-DC21-483E-BBF2-BB4ABE22DA7D}" type="datetime1">
              <a:rPr lang="en-US"/>
              <a:t>07/30/26</a:t>
            </a:fld>
          </a:p>
        </p:txBody>
      </p:sp>
    </p:spTree>
  </p:cSld>
</p:sld>
</file>

<file path=ppt/slides/slide3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" descr=""/>
          <p:cNvPicPr/>
          <p:nvPr/>
        </p:nvPicPr>
        <p:blipFill>
          <a:blip r:embed="rId1"/>
          <a:stretch/>
        </p:blipFill>
        <p:spPr>
          <a:xfrm>
            <a:off x="4022640" y="6858000"/>
            <a:ext cx="2835360" cy="3048120"/>
          </a:xfrm>
          <a:prstGeom prst="rect">
            <a:avLst/>
          </a:prstGeom>
          <a:ln w="0">
            <a:noFill/>
          </a:ln>
        </p:spPr>
      </p:pic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ana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an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ernet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gleda ka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gromna biblioteka, u koju gotovo svako donosi gotovo s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Gotovo svi podaci su tu, ali niko ne može da nađe ništa, zato što biblioteka nije uređena, odnosno nema katalo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ožemo naći neke podatke samo ako znamo gde su ih naši prijatelji ostavi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FA88-A1F9-44D8-902E-0961A0A45074}" type="slidenum">
              <a:t>3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5E7435-F35B-40CD-B2CC-11EFD86051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Ali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eke kompanije su formirale sisteme za pretraživanje i katalogiziranje WEB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ezultati se takođe objavljuju na WEB-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vakav tip servisa, ako je dobar, može privući mnogo posetila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eklame koje posetioci vide i njihovi lični podaci mogu da ceo posao učine profitabiln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5368-1C10-4A8F-90CC-82337895CAC2}" type="slidenum">
              <a:t>3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AC793C-A662-4D69-A7BC-172DB9C66D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Tipovi katalo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azgranata struktu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ema predmetu interesovanja, lokaciji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Baza podataka sa pretraživanjem ključnih reči i celog tek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pecijalizovani katalozi koji sadrže važne adrese (URL) u nekoj oblasti (građevinske mašine, univerziteti,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AA18-6492-458B-895C-70B57AA9C291}" type="slidenum">
              <a:t>3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3E3F60-F251-4F24-A984-92CC565B6C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Katalog u obliku razgranate struk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bar ako vam treb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L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eke organizaci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bro poznatog proizvođač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odavnice, akademske instituci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Manje dobar ako vam trebaju podaci o nekom posebnom pitanju ili iz nepoznatog iz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ajstariji i trenutno najpopularniji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aho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yahoo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9CAE-985B-4DFF-9F7F-988F2FDDF8FF}" type="slidenum">
              <a:t>3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A06916-B7EC-450E-8388-7F25EE21E2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AHOO!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1"/>
          <a:stretch/>
        </p:blipFill>
        <p:spPr>
          <a:xfrm>
            <a:off x="152280" y="2527200"/>
            <a:ext cx="6553440" cy="605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EDBF-5896-46B6-9791-F9555A30DF4C}" type="slidenum">
              <a:t>3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9DFE82-E960-418E-93A1-245827759E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Baze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bre ako vam trebaju informacije čiji izvor ne znate ili podaci o veoma specifičnoj tem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Manje efikasni ako vam trebaj adresa poznate kompanije ili institu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bično zahtevaju korišćenje složenog jezika za postavljanje upita, koji mora da se posebno uč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ajstariji i trenutno najpopularniji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taVi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AltaVista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4F00-07ED-4E50-911C-CCEA791C48D0}" type="slidenum">
              <a:t>3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A1E5C8-420D-4B6F-97E3-3A0A07E1F3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taVis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1"/>
          <a:stretch/>
        </p:blipFill>
        <p:spPr>
          <a:xfrm>
            <a:off x="171360" y="1847880"/>
            <a:ext cx="6534360" cy="645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4AC7-3DB4-477E-8D35-71562BEF61F7}" type="slidenum">
              <a:t>3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183602-714D-4B16-96E2-16EEF22809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Specijalizovani kataloz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bar izvor podataka o važnim URL-ovima u nekoj posebnoj obla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graničeni svojom posebnom obla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eoma dobar specijalizovani katalog za građevinsku mehanizaciju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istorical Construction Equipment Assoc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bigtoy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75C2-0D04-4CF2-AB81-B4BDCCBBAC12}" type="slidenum">
              <a:t>3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4F9BCE-E59C-4EBD-9328-8400FAC175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istorical Construction Equipment Associ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82440" y="2647800"/>
            <a:ext cx="6623280" cy="463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AC9A-E405-424A-AC49-4D438C72E9A0}" type="slidenum">
              <a:t>3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3B6E44-3E9E-482A-8376-4763E1CD39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ntreni pretraživač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aktično sve lokacije imaju neku vrstu internog pretraživ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sebno su značajni kod kataloga u obliku razgranate strukture i specijalizovanih katalo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bično su lakši za upotrebu ali i sa manje mogućnosti od pretraživača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0F04-61A8-4661-860F-19E1366BD063}" type="slidenum">
              <a:t>3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76CD52-F88A-4ADC-970A-DD436729B5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đač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i obavezni učesnik u projektu (uz investito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a biti raciona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običajena uloga jugoslovenskih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lično neinteresantan u zapadnom sve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oga mu je podređena investito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6704-7A73-4933-8322-A0178B5D1ED3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2C735D-110D-4523-A98E-2840BFD78726}" type="datetime1">
              <a:rPr lang="en-US"/>
              <a:t>07/30/26</a:t>
            </a:fld>
          </a:p>
        </p:txBody>
      </p:sp>
    </p:spTree>
  </p:cSld>
</p:sld>
</file>

<file path=ppt/slides/slide3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menic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lično telefonskim imenicima, postoje i Internet imen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adrže obično E-mail adrese korisnika, koji su ih sami uneli u baz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stoji opasnost od dobijanja neželjene poš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Jedan od najpopularnijih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igf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bigfoot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AB3A-7848-4D11-BA2A-17AC0266A062}" type="slidenum">
              <a:t>3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062B18-5099-431D-A582-604341C562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gfoo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6553440" cy="597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396C-7434-4880-A4B0-C03D160D8D4F}" type="slidenum">
              <a:t>3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115F48-1900-4B69-BB96-6723192216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Ćaskanje na Interne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eke firme nude sisteme za časkanje na Interne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Ti sistemi obično omogućavaju potragu za korisnicima prema željenim kriterijum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vo je vrlo korisno ako tražite ljude koji dele vaš inte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Trenutno je najpopularnij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C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icq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F1AF-0801-4A39-BFD0-36F760623BBE}" type="slidenum">
              <a:t>3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3C8166-BF4C-4607-8DA3-3BF9C3241E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CQ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6461280" cy="528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1FA0-2219-47E2-848D-A81B18ECACB6}" type="slidenum">
              <a:t>34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E90CB2-82F8-49DA-B475-C34FE84055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Opšti savet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Ako vam trebaju proizvođači cementa u Italiji, korist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ah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Ako vam trebaju članci o merenju specifične površine cementa, korist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ltaVis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Ako vam treba neko u Nemačkoj, koga zanima upravljanje projektima u građevinarstvu, koristi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7828-3889-498D-9E1E-FBD4C30E529C}" type="slidenum">
              <a:t>3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04119D-48CE-4D97-A122-05706E1176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e realizacije projekta sa stanovišta izvođač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4440" y="2946240"/>
            <a:ext cx="5829120" cy="627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a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rojektne dokumentacije i pripr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e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z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8B23-F139-40B0-8E78-9638DBA7F88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68FC9B-9372-4E84-9CD8-403009A416CB}" type="datetime1">
              <a:rPr lang="en-US"/>
              <a:t>07/30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za između faz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279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e I i VII se odvijaju kontinual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e II-VI su vezane za konkretan projek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5791320"/>
            <a:ext cx="6005520" cy="140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9DA4-726A-47CD-81B3-FC7F68512563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E19BE9-5693-4939-9EEF-EDBCB1BB60D4}" type="datetime1">
              <a:rPr lang="en-US"/>
              <a:t>07/30/2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istraživanja tržišt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izvorišta resu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e inform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budućim investi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a regul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regul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sustvo drugih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firmama i pojedinc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7E36-C0AF-4457-A0C2-6AA56CEFCEF6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350B87-ADAC-4DEA-8E1E-2937A9A89D56}" type="datetime1">
              <a:rPr lang="en-US"/>
              <a:t>07/30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e u toku realizacije projekta (II-V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4440" y="2502000"/>
            <a:ext cx="5829120" cy="671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snije detaljno razrađ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 inform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nali za razmenu inform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ze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i kodi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ciona š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4B2D-5BF4-4373-BC67-46C6F6B85A2F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0EF2FC-5A92-4BD1-A2B4-3AF2C7E2DDC5}" type="datetime1">
              <a:rPr lang="en-US"/>
              <a:t>07/30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miranje baze istorijskih podataka (V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4440" y="2502000"/>
            <a:ext cx="5829120" cy="671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iz faze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rišta resu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hničko-tehnološke inform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vna regul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čna regul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sustvo drugih fir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firmama i pojedin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DE8E-92E7-47E6-99F0-8FDF70874703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DA8ACD-DF8E-4E7B-8CE2-78617AEA4F96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što studirate Građevinski fakultet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2514600"/>
            <a:ext cx="6400800" cy="641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A707-95CA-49AD-A742-245A29DD5AD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D36798-8134-422C-A4F1-6C1FDD9EAB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miranje baze istorijskih podataka (V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14440" y="2502000"/>
            <a:ext cx="5829120" cy="671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iz faza II-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edene i naplaćene količ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rošak resursa i traj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sijski efek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čki podaci o mehanizaci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enjena tehničko-tehnološk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rema i podizvođač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dr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DAE4-0B0C-4525-A2BA-AC97C549EA1E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470306-ABA9-494E-84C5-FC3368AF1816}" type="datetime1">
              <a:rPr lang="en-US"/>
              <a:t>07/30/26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izacione struk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enljive tokom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organizacione 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oljni fak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utrašnji fak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29E3-02D7-4E63-98C0-A63762250EB5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AECF2C-0C57-4D68-9A37-538B3190881C}" type="datetime1">
              <a:rPr lang="en-US"/>
              <a:t>07/30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poljni faktori projektov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rakteristik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žiš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vo razvo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ltura i tradi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ne odred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i pored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6F82-78E3-4A00-92B2-A8646DF38520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A2E0D6-1990-4190-9805-6B4F39F85B5E}" type="datetime1">
              <a:rPr lang="en-US"/>
              <a:t>07/30/26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utrašnji faktori projektov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gija i ciljevi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i nivo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dr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čina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a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784B-3C80-4E53-A9FB-1AC3165FA768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165416-A4AB-45CB-B3F1-952C6FE4C28A}" type="datetime1">
              <a:rPr lang="en-US"/>
              <a:t>07/30/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izacione struk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icionalne (klasič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js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kciona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jsko-štab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rem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kcionalno-tims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t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rič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A1AE-2D7D-4285-BEF1-1C3C89E13EE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FBB9FE-BADA-4F08-8FAE-E4F67DB9F7FC}" type="datetime1">
              <a:rPr lang="en-US"/>
              <a:t>07/30/26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nijsk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06400" y="3146400"/>
          <a:ext cx="5205600" cy="51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3146400"/>
                    <a:ext cx="5205600" cy="51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AF16-F239-429D-83AB-5202E79AD6AF}" type="slidenum">
              <a:t>4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519ADF-0DF9-40E9-A8AA-4BB6FF252F50}" type="datetime1">
              <a:rPr lang="en-US"/>
              <a:t>07/30/26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kcionaln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720720" y="4602240"/>
          <a:ext cx="5388120" cy="22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4602240"/>
                    <a:ext cx="5388120" cy="22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3A9F-4836-4350-83B9-B38C54D811D0}" type="slidenum">
              <a:t>4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DBCD05-0E42-4EA3-8744-1387AE419B95}" type="datetime1">
              <a:rPr lang="en-US"/>
              <a:t>07/30/2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nijsko-štabn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195560" y="2631960"/>
          <a:ext cx="4417920" cy="618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5560" y="2631960"/>
                    <a:ext cx="4417920" cy="61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CDF4-85A6-4592-93C4-3B60A0F5636F}" type="slidenum">
              <a:t>4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5B3CF0-8CB6-45C5-85CE-62C899769534}" type="datetime1">
              <a:rPr lang="en-US"/>
              <a:t>07/30/26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kcionalno-timsk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49320" y="4653000"/>
          <a:ext cx="4930920" cy="21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9320" y="4653000"/>
                    <a:ext cx="4930920" cy="21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381A-4DB8-4882-8B31-8048BAB35116}" type="slidenum">
              <a:t>4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445312-9650-43D5-8048-14C10E933340}" type="datetime1">
              <a:rPr lang="en-US"/>
              <a:t>07/30/26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ktn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920880" y="4633920"/>
          <a:ext cx="4986360" cy="22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4633920"/>
                    <a:ext cx="4986360" cy="22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B889-5DBC-4577-A1D8-37F7B849CDA4}" type="slidenum">
              <a:t>4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705D44-012F-40C4-8804-0098D640EC30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bog nauk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74880" y="3079800"/>
            <a:ext cx="5121000" cy="496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B62F-C1A2-4757-B7E4-BDD84C8B13A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9C0E97-93DB-42F1-A1C3-9566549962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trična organizacion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15960" y="4322880"/>
          <a:ext cx="5595840" cy="28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4322880"/>
                    <a:ext cx="5595840" cy="28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58FB-63F0-473C-A860-C9D9F802D670}" type="slidenum">
              <a:t>5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EF59E3-FD51-4DA9-A14D-56D826CD7312}" type="datetime1">
              <a:rPr lang="en-US"/>
              <a:t>07/30/26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lna organizaciona struktura firm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4343400"/>
          <a:ext cx="6032520" cy="30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343400"/>
                    <a:ext cx="603252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5C96-CB79-4113-94D8-28DDC97F666B}" type="slidenum">
              <a:t>5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6C66A2-84CF-4438-AF36-636349BC3820}" type="datetime1">
              <a:rPr lang="en-US"/>
              <a:t>07/30/26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90040" y="50004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lna organizaciona struktura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101600" y="3071880"/>
          <a:ext cx="4788000" cy="572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3071880"/>
                    <a:ext cx="4788000" cy="57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312C-AEBD-4979-B248-BDE3167D9838}" type="slidenum">
              <a:t>5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C9CAD-95BF-4ED0-9596-C791933F6D6C}" type="datetime1">
              <a:rPr lang="en-US"/>
              <a:t>07/30/26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ima u gr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D434-92BF-488B-ABBA-495EA2FC44AD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20B195-03D4-43D3-88B4-21A642D9A2E5}" type="datetime1">
              <a:rPr lang="en-US"/>
              <a:t>07/30/26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istraživanja tržiš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izvorišta resu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e inform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budućim investi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a regul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regul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sustvo drugih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firmama i pojedinc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1BA2-CD80-409D-A993-760AD751E21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6C03E0-EB99-4FCB-A060-429FFC4894C9}" type="datetime1">
              <a:rPr lang="en-US"/>
              <a:t>07/30/26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odac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andard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aba prenosiv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ni izvori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ni formati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formalni kan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aba struktuira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o pisan soft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F88B-0ED5-428E-93DA-7973C107CCE5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67238E-581A-4027-8FCD-32DEDBE678C1}" type="datetime1">
              <a:rPr lang="en-US"/>
              <a:t>07/30/26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14440" y="6519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traživanje izvorišta resurs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onomska propaganda (reklame, cirkularna pis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jm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snici u konkursima koji raspisuju druge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snici u konkursima koji raspisuju naša fi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snici 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gled asortimana po slič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5171-DBC6-4EE0-957B-255158037EB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C2C01F-86B8-4173-B357-EE541DE0FEC8}" type="datetime1">
              <a:rPr lang="en-US"/>
              <a:t>07/30/2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traživanje izvorišta resursa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14440" y="2328840"/>
            <a:ext cx="5829120" cy="712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zultati geoloških istraž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a projekata u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projekata u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a sa ter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ju sa firmama sa kojima sarađ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ju sa srodnim firm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E88C-DD6A-4011-AC2D-2A487A09ACA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3A74E5-22B1-4B13-9E2D-4A3F7B68DC5E}" type="datetime1">
              <a:rPr lang="en-US"/>
              <a:t>07/30/26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280" y="6519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hničko-tehnološke informacije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14440" y="2328840"/>
            <a:ext cx="5829120" cy="69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onomska propaganda (reklame, cirkularna pis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jm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i u konkursima koji raspisuju druge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i u konkursima koji raspisuju naša fi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periodična lit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neperiodična lit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E58B-29BA-407F-A00A-C2AA45DC81B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6CD39D-AA80-4EB8-A7F3-704B4B8A0A0B}" type="datetime1">
              <a:rPr lang="en-US"/>
              <a:t>07/30/26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240" y="271440"/>
            <a:ext cx="65530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hničko-tehnološke informacije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14440" y="225252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a projekata u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projekata u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a sa ter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ju sa firmama sa kojima sarađ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ju sa srodnim firm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zultati naših istraž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4D60-269D-4E68-8986-6BB3DEC16D11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1B265-8C50-4DA5-8844-37B8F9C58C73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ato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što želite da gradit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6095880" cy="328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57CC-C358-41D8-9E78-C570BD07CD66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B7EED7-0223-4AB7-B0E3-9D7A3823B1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o budućim investicijam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kursi za izradu predinvesticionih studija i projektne dokumentacij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konkursima za konsultantske usl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poslovima u kućama koje se bave predinvesticionim stud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ški planovi razvoja velikih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22A8-DDBC-46B6-8168-B9F426F6229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B21F6-0BEC-47AE-947F-874624DE464F}" type="datetime1">
              <a:rPr lang="en-US"/>
              <a:t>07/30/26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o budućim investicijama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asopisi posvećeni inve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cijama i/ili razvo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iminarne informacije investito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F022-B92B-4410-9897-F44561CE3870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106192-612B-4E95-96AA-CA0AE2A5F11B}" type="datetime1">
              <a:rPr lang="en-US"/>
              <a:t>07/30/26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14440" y="728640"/>
            <a:ext cx="582912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avna regulativ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14440" y="2252160"/>
            <a:ext cx="5829120" cy="681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vanična zakonska dokumentacija (službeni listovi itsl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realizaciji projekata na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realizaciji projekata na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o pojedinaca koji su radili na predmentnom trž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5D3F-2DDB-4D9A-BA21-6B210CF4093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D11A2A-452D-4C7D-8309-6A2331579280}" type="datetime1">
              <a:rPr lang="en-US"/>
              <a:t>07/30/26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14440" y="804600"/>
            <a:ext cx="582912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avna regulativa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2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inski propisi i služ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376E-7952-4BC6-9DB0-30EAA331745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CF06FD-E693-42EC-BE03-011FE8EE87BA}" type="datetime1">
              <a:rPr lang="en-US"/>
              <a:t>07/30/26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čna regulativ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vanična zakonska dokumentacija (službeni listovi itsl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realizaciji projekata na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realizaciji projekata na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o pojedinaca koji su radili na predmentnom trž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469D-12C7-4805-B4D3-AA2AAA43691B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F96ABF-2A1C-4B02-BE06-FF26C07F41B5}" type="datetime1">
              <a:rPr lang="en-US"/>
              <a:t>07/30/26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čna regulativa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EE51-2CBD-48BC-97D8-71B16C9429C4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83F6BD-BA8B-4DAF-ACDF-C0281A2427BB}" type="datetime1">
              <a:rPr lang="en-US"/>
              <a:t>07/30/26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14440" y="6519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sustvo drugih firmi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e i rezultati na konkursima o izvođenju investicionih radova u dužem vremenskom perio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e i rezultati na konkursima o izvođenju investicionih radova u poslednjih godinu d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onomska propaganda (reklame, cirkularna pis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8190-7E46-47F1-8034-D6F77B1EE4DC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749B8A-3ACC-401C-96CA-CCB7CDF8AE7B}" type="datetime1">
              <a:rPr lang="en-US"/>
              <a:t>07/30/2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14440" y="6519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sustvo drugih firmi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14440" y="225252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ški planovi velikih izvođača i/ili pro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asopisi posvećeni investicijama i/ili razvo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a projekata u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projekata u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 (predstavništv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0F70-B786-4D03-A4B9-7A9A61D0B154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4E6ED1-1C8D-4C00-B277-C035A0D2C976}" type="datetime1">
              <a:rPr lang="en-US"/>
              <a:t>07/30/26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o firmama i pojedincim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i podaci o bonitetu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i podaci o rukovodstvu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lopljeni ugovori o realizaciji pro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zultati ugovora o realizaciji pro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a projekata u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projekata u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D0B5-7630-458D-B630-75755518F504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8C13FB-7DBC-446C-BF76-0960D3388B90}" type="datetime1">
              <a:rPr lang="en-US"/>
              <a:t>07/30/26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o firmama i pojedincima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asopisi posvećeni inve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cijama i/ili razvo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119E-B7ED-4EB5-80E5-3C501932F513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E12831-FB22-49A1-BCF5-6AEB17B934E3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Zato što volite posao inženjera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3505320"/>
            <a:ext cx="533376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B6E5-2414-4826-ABE1-90455A96B9E5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492FC6-7C52-4CB9-810E-31091999D3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320" y="576360"/>
            <a:ext cx="670536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cije o istraživanju tržiš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isak mogućih iz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vezno prilagođavanje trž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vezno prilagođavanje stanju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žnost neformalnih konta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ki skupljački pos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na je šir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žna mogućnost pretraž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2582-E890-4578-BA29-BFE4750B5D23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4FBC95-F32D-4B6E-9459-BBC449F49AC8}" type="datetime1">
              <a:rPr lang="en-US"/>
              <a:t>07/30/26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ima u gr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BD56-827A-4C1C-9F4F-E3BDA6085E5F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386D93-0B58-4F49-BB80-CBC4BC78C395}" type="datetime1">
              <a:rPr lang="en-US"/>
              <a:t>07/30/26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14440" y="1599840"/>
            <a:ext cx="5829120" cy="74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i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rste uslu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i konsultantskih usl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šće konsultanata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9501-6FF2-4A5F-AF3F-2B8397F0ADC5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59A22-A7F2-4D74-B097-20E13B3BAEAA}" type="datetime1">
              <a:rPr lang="en-US"/>
              <a:t>07/30/26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sulta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je obavez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ki su projekti gde ne učestvu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 svega ga angažuje investitor koji nije sam dovoljno osposoblj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da ga angažuje i izvođač, pogotovo general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poznatije međunarodno udruženje - FID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192A-11A0-4F6E-B1EA-2AF2443EC856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03CE49-1E0A-49C9-B71C-48B571ADE763}" type="datetime1">
              <a:rPr lang="en-US"/>
              <a:t>07/30/26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ncipi rada po FIDIC-u 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vljanje posla na visokoj profesionalnoj i etičkoj osn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uzimanje samo zadataka kojima su doras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 je veliki dijapazon usluga, od ličnih saveta do upravljanja projek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a je uska specijalizacija ili široki reperto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8CF2-69BA-4AEB-A995-768D2F9A5D9D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98802E-C0F8-4EF2-9E83-AB2F9C6104D7}" type="datetime1">
              <a:rPr lang="en-US"/>
              <a:t>07/30/26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ncipi rada po FIDIC-u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i prihodi smeju da budu od honorara koji isplaćuje naručil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može učestvovati u poslovima ili imati finansijski interes koji može uticati na njegovo stručno mišlj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DF7C-8B80-407B-B6E7-5D01983007F2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DB83D8-3AC0-4AD0-B208-11330C6972D4}" type="datetime1">
              <a:rPr lang="en-US"/>
              <a:t>07/30/26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našim propis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14440" y="1947600"/>
            <a:ext cx="5829120" cy="71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hodna istraživanja o uslovima za gradnju ob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log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mehan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dez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eorolog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rolog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tržišta i mogućnost plasm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e i stud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ktiv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ekti primene naučnih met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8EE3-6C0E-43AB-81F6-1E9AB4E8B0E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6AB5CA-291A-406D-A7BD-BA317495A0F5}" type="datetime1">
              <a:rPr lang="en-US"/>
              <a:t>07/30/2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našim propis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14440" y="2252160"/>
            <a:ext cx="5829120" cy="696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i praćenje razvoja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zaštite i unapređenja životne i radne sred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izvora i vrsta ener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studija rentabilnosti, ekonomskih i finansijskih pokazate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da podataka, investicioni programi i projektni zad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8460-80D3-4F80-B6CD-A5B246EBA2A5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8980A0-23DE-4061-AB24-66569BD05720}" type="datetime1">
              <a:rPr lang="en-US"/>
              <a:t>07/30/26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14440" y="7286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našim propis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14440" y="263340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dzor nad izradom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premanje podataka i dokumentacije za ustupa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dzor nad izvođenj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ćenje i usklađivanje rada učesnika u izgradn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realizacije investicionog programa i finansijske konstruk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BF35-5101-4890-B759-EDB6E7036C1F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7B8F01-DAEF-4711-8069-047C26D5B2C9}" type="datetime1">
              <a:rPr lang="en-US"/>
              <a:t>07/30/26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našim propis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pomoć tokom primopredaje objekta i konačnog obrač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dzor nad funkcionisanjem objekta tokom probnog pog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C7D4-B2D8-4626-BFA5-B5AC50A6873F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CCA37D-1680-42F7-A589-235CF6F1AEDB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Zbog diplome i statusa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3429000"/>
            <a:ext cx="5038920" cy="477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6BA6-1DE4-4804-A447-CF6FB30E2CF7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A6EE39-8BB6-42E6-A1B3-5FEC2A6150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gućnost učešća u više ulo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ziju projektne dokumentacije ne može da vrši projektant i/ili invest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i stručni nadzor mogu da idu zajedno, ali ponekad nije preporučlj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lja varijanta je projektantski nadz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CE0C-73F8-4F81-9F46-B8EBA456CC28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5C0707-F0D1-4569-98A4-BF128D6F196C}" type="datetime1">
              <a:rPr lang="en-US"/>
              <a:t>07/30/26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132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FIDIC-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14440" y="1643040"/>
            <a:ext cx="5829120" cy="74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todavne uloge (Counselling Serv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nvesticione usluge (Pre-Investment Stud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uge projektovanja i nadzora nad izgradnjom objekata (Design and Supervision Services for Construction of Work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izovane projektne usluge razrade i razvoja (Specialised Design and Development Serv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projektom (Project Manage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8E85-EC9A-40F6-B1BC-A8930BD459B4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970394-0DBF-43F9-915B-9C3CCF8D5938}" type="datetime1">
              <a:rPr lang="en-US"/>
              <a:t>07/30/26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vetodavne uslug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14440" y="240480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anje save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tinuir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 posebne projekte i probl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lasti saveto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kovođ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izvod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iranje i kontrola kvalit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upanje pred sudovima, komisijama i drugim pravnim tel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A00B-B6FF-46F2-9331-38189912BFC2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479EBC-BD32-4810-BD94-A3F46943F8CB}" type="datetime1">
              <a:rPr lang="en-US"/>
              <a:t>07/30/26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dinvesticione uslug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uže za donošenje odluke o investira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investicione polit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ređivanje glavnih karakteristika i opravdanost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promena u politici, radu i organizacionim rešenj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483D-372C-4788-96F9-B219384E17DA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B744C3-1F64-4C28-A621-0405C570AAA5}" type="datetime1">
              <a:rPr lang="en-US"/>
              <a:t>07/30/26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luge projektovanja i nadz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projektna fa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opravda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ci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iminarna inženjerska reš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ena i definisanje zahteva naruči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rada i optimizacija koncep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enja i istraživanja gradilišta i ostalih fak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1DBA-E37C-4C46-88E4-C4BF7EF510B9}" type="slidenum">
              <a:t>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9B8595-86A5-414D-8946-2319B2D2C71C}" type="datetime1">
              <a:rPr lang="en-US"/>
              <a:t>07/30/26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37760" y="34776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luge projektovanja i nadz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14440" y="2133720"/>
            <a:ext cx="5829120" cy="71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ljna inženjerska reš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lkulacija približnih količ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pristupa građe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ebne usl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zidentni 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jalni pregledi i testi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ir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EB8A-A2F1-449A-BFA4-8EED383230F5}" type="slidenum">
              <a:t>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26BD60-CE76-4B33-BB60-D40B67AC6B94}" type="datetime1">
              <a:rPr lang="en-US"/>
              <a:t>07/30/26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9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pecijalizovane usluge projektovanja i nadz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i proje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i obrade sirov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izvod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ena automatskih koman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tažne zg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pit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erij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ršeni rad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valitet gotovih proizv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2074-780A-40C9-8C50-1E84AE21386C}" type="slidenum">
              <a:t>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11B862-DA1A-48FF-8446-CC560D7A45A3}" type="datetime1">
              <a:rPr lang="en-US"/>
              <a:t>07/30/2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bilizacije resursa i njihova koordinacija da bi se postigao investitorov cilj u okviru plana, bud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a i kvalit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jen nivo poslova i odgovornosti između investitora i konsult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tor zadržava pravo odobravanja i revizije ključnih odlu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CEC7-60A7-4204-A93E-AC9AA1E4E9C4}" type="slidenum">
              <a:t>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C90F91-A92C-47E5-B435-5F1C05A9E256}" type="datetime1">
              <a:rPr lang="en-US"/>
              <a:t>07/30/26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61800" y="271440"/>
            <a:ext cx="6267600" cy="155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14440" y="209988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British Property Fed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inicijalnih stud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traživanje mogućnosti plaćanja zemlj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govor sa potencijalnim suinvestito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moć pri rešavanju imovinsko-pravnih odn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govori sa raseljeni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govor sa budućim stana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3B72-2D56-445A-8811-52BBAFEF70E6}" type="slidenum">
              <a:t>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00A6A3-860B-4868-85E8-8FAE1ABA28B7}" type="datetime1">
              <a:rPr lang="en-US"/>
              <a:t>07/30/26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budžetskih troškova i izrada studije opravdanosti za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crteža kojima se definišu idej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govori o planu izvođenj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iranje baze podataka o sastancima i drugim aktivnos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mena idejnog rešenja prema željama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zivanje i presedavanje sastancima o realizacij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97DF-C209-4036-92C2-29BFF51931F9}" type="slidenum">
              <a:t>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A7848-814B-4220-A346-33064106A430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a bi izgradili svoju zemlju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6372360" cy="4781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4DBC-887D-448B-AE33-EB861E2E1CDB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1999E8-1C3A-4BAC-A31C-A7F3D0D45C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a dospelih zahteva projektanata i izvođača za plać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širenje idejnog rešenja i podnošenje investitoru na o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isanje investitoru o predlozima za skice i crtež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izvoda iz dinamičkih planov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ja istražnih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zija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i kontrola ostvarivanja glavnog plana izvođenj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600B-6E34-4E86-836F-85CC4BA70E81}" type="slidenum">
              <a:t>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A2027D-827A-466B-86F8-09E58C85A92B}" type="datetime1">
              <a:rPr lang="en-US"/>
              <a:t>07/30/26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14440" y="202392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i kontrola realizacije plan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projektnih zahteva i zahteva za dopunama rukovodiocu projekto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ezbeđenje saglasnosti investitora o izmenama glavnog plana radova i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a visine naknade za konsul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kutovanje inženjerskih i tehničkih rešenja iz projekta sa izvođač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obravanje nominovanih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78BA-69DF-4F95-96DF-63A6EF5559D2}" type="slidenum">
              <a:t>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DFB663-CDAB-49F4-82A4-17B5CD438340}" type="datetime1">
              <a:rPr lang="en-US"/>
              <a:t>07/30/26</a:t>
            </a:fld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da mesečnih izveštaja investitoru sa procenom finalnih troškova i roka završetk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ja imenovanja i obezbeđenje angažovanja vešta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rizovanje dopune plana troškova i vre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obravanje komponenti i materijala koji se ugrađu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nošenje konačnog predloga projekata i revidovanog plan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činjavanje liste mogućih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leđivanje tenderskih dokume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1D8B-AD65-4E91-8523-CDAEF94CE282}" type="slidenum">
              <a:t>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B18076-2BBF-48CC-9964-8B6AE5E9FBDA}" type="datetime1">
              <a:rPr lang="en-US"/>
              <a:t>07/30/26</a:t>
            </a:fld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jem obrađenih tendera i zahtevanje dodatnih objašnj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predloga za izbor ponu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letiranje ugovornih dokumenata, sračunavanje potrebne garancije i obezbeđenje pristanka investitora i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ovanje pravovremenog naručivanja komponenti sa dugim vremenom isporu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bavljanje sertifikata o osiguranju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nje procene izvršenih radova i rad na pripremi konačnog obrač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7EAB-663D-48BD-868A-127739E71FCE}" type="slidenum">
              <a:t>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15380-D74B-4D00-B023-612EC338D5D3}" type="datetime1">
              <a:rPr lang="en-US"/>
              <a:t>07/30/26</a:t>
            </a:fld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davanje naloga o izmenama i instrukcija izvođač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ezbeđenje saglasnosti investitora na izmene u obimu i vrednosti koje su van njegovih ovlašćenja i regulisanje potraživanja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vljenje klejmovima u vezi osigu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bavljanje saglas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davanje saglasnosti za produžetak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davanje saglasnosti o primopredaji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avanje da li su nedostaci odklonj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C05F-BC5D-4BE6-85AD-778F8D0190A9}" type="slidenum">
              <a:t>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9BC270-63EC-4F36-85B4-00A5BE062600}" type="datetime1">
              <a:rPr lang="en-US"/>
              <a:t>07/30/26</a:t>
            </a:fld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80" y="804960"/>
            <a:ext cx="655344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37760" y="3012840"/>
            <a:ext cx="5829480" cy="590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vovremeno reagovanje na rana upozorenja u toku realizacije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realizacije programa opremanja i obezbeđivanje uputstva za održavanje i skica izvedenog st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F817-2AD9-4C4A-B75F-31E962222CCA}" type="slidenum">
              <a:t>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A1FD02-DD59-44EC-A563-C2762B621FE9}" type="datetime1">
              <a:rPr lang="en-US"/>
              <a:t>07/30/26</a:t>
            </a:fld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14440" y="2571840"/>
            <a:ext cx="5829120" cy="664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tovanje klije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bor rukovodećeg projekta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ažovanje drugih konsulta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kovi za predhodne izb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avanje i odobravanje troškova i programa rada konsulta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ovi koji se direktno ugovaraju sa investito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enovanje nadz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461B-8B7D-414F-92CB-8B9AA5B0CEB4}" type="slidenum">
              <a:t>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FA3881-606B-4D00-B3FB-72C6DFC872C4}" type="datetime1">
              <a:rPr lang="en-US"/>
              <a:t>07/30/2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14440" y="2571840"/>
            <a:ext cx="5829120" cy="664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čivanje i instruk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kcije konsultan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ela posla u projektova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 informacije koji dostavljaju konsultanti i projekt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kcije konsultantima o proceduri izvešta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bor vešta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35A5-28C8-4F53-96C4-6B114F34A388}" type="slidenum">
              <a:t>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2C76A8-08E9-4905-8304-B9AA86D30E31}" type="datetime1">
              <a:rPr lang="en-US"/>
              <a:t>07/30/26</a:t>
            </a:fld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14440" y="2571840"/>
            <a:ext cx="5829120" cy="664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rovanje učinaka projektanata, konsultanata, nadzora i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vezivanje i koordin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vezivanje sa pravni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ordinacija zahteva budućih stan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E821-EC96-4085-95A2-0FC402C0E5DA}" type="slidenum">
              <a:t>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D354FB-8027-4047-AF80-2FD885DAEB5B}" type="datetime1">
              <a:rPr lang="en-US"/>
              <a:t>07/30/26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14440" y="380880"/>
            <a:ext cx="5829120" cy="215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govori o upravljanju projekt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British Property Fed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su detaljni, nego se pozivaju na predhodno navedenu lis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stoje se od dva d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andum of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tion of Eng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95D1-805F-4A56-B32E-AAB4AE5DE730}" type="slidenum">
              <a:t>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45FDEA-C7DB-42C0-A60E-A694866A263A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9T10:38:17Z</dcterms:created>
  <dc:creator>Zoran B. Djordjevic</dc:creator>
  <dc:description/>
  <dc:language>en-US</dc:language>
  <cp:lastModifiedBy>Matej</cp:lastModifiedBy>
  <dcterms:modified xsi:type="dcterms:W3CDTF">2008-01-12T12:04:32Z</dcterms:modified>
  <cp:revision>21</cp:revision>
  <dc:subject/>
  <dc:title>U čemu je razlika?</dc:title>
</cp:coreProperties>
</file>