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26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8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266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29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2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2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62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63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320.xml.rels" ContentType="application/vnd.openxmlformats-package.relationships+xml"/>
  <Override PartName="/ppt/notesSlides/_rels/notesSlide26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0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321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07.xml.rels" ContentType="application/vnd.openxmlformats-package.relationships+xml"/>
  <Override PartName="/ppt/notesSlides/_rels/notesSlide299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271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32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7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291.xml.rels" ContentType="application/vnd.openxmlformats-package.relationships+xml"/>
  <Override PartName="/ppt/notesSlides/_rels/notesSlide31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278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2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269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267.xml.rels" ContentType="application/vnd.openxmlformats-package.relationships+xml"/>
  <Override PartName="/ppt/notesSlides/_rels/notesSlide280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30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64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295.xml.rels" ContentType="application/vnd.openxmlformats-package.relationships+xml"/>
  <Override PartName="/ppt/notesSlides/_rels/notesSlide30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83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298.xml.rels" ContentType="application/vnd.openxmlformats-package.relationships+xml"/>
  <Override PartName="/ppt/notesSlides/_rels/notesSlide306.xml.rels" ContentType="application/vnd.openxmlformats-package.relationships+xml"/>
  <Override PartName="/ppt/notesSlides/_rels/notesSlide31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292.xml.rels" ContentType="application/vnd.openxmlformats-package.relationships+xml"/>
  <Override PartName="/ppt/notesSlides/_rels/notesSlide300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317.xml.rels" ContentType="application/vnd.openxmlformats-package.relationships+xml"/>
  <Override PartName="/ppt/notesSlides/_rels/notesSlide297.xml.rels" ContentType="application/vnd.openxmlformats-package.relationships+xml"/>
  <Override PartName="/ppt/notesSlides/_rels/notesSlide305.xml.rels" ContentType="application/vnd.openxmlformats-package.relationships+xml"/>
  <Override PartName="/ppt/notesSlides/_rels/notesSlide2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287.xml.rels" ContentType="application/vnd.openxmlformats-package.relationships+xml"/>
  <Override PartName="/ppt/notesSlides/_rels/notesSlide316.xml.rels" ContentType="application/vnd.openxmlformats-package.relationships+xml"/>
  <Override PartName="/ppt/notesSlides/_rels/notesSlide27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28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96.xml.rels" ContentType="application/vnd.openxmlformats-package.relationships+xml"/>
  <Override PartName="/ppt/notesSlides/_rels/notesSlide304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286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318.xml.rels" ContentType="application/vnd.openxmlformats-package.relationships+xml"/>
  <Override PartName="/ppt/notesSlides/_rels/notesSlide2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319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2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88.xml.rels" ContentType="application/vnd.openxmlformats-package.relationships+xml"/>
  <Override PartName="/ppt/notesSlides/_rels/notesSlide30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311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1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310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73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74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6.xml.rels" ContentType="application/vnd.openxmlformats-package.relationships+xml"/>
  <Override PartName="/ppt/notesSlides/_rels/notesSlide289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302.xml.rels" ContentType="application/vnd.openxmlformats-package.relationships+xml"/>
  <Override PartName="/ppt/notesSlides/_rels/notesSlide29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284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27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14.xml.rels" ContentType="application/vnd.openxmlformats-package.relationships+xml"/>
  <Override PartName="/ppt/notesSlides/_rels/notesSlide50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27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27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31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318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1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60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30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27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0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234.xml" ContentType="application/vnd.openxmlformats-officedocument.presentationml.notesSlide+xml"/>
  <Override PartName="/ppt/notesSlides/notesSlide235.xml" ContentType="application/vnd.openxmlformats-officedocument.presentationml.notesSlide+xml"/>
  <Override PartName="/ppt/notesSlides/notesSlide23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6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2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26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2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269.xml" ContentType="application/vnd.openxmlformats-officedocument.presentationml.notesSlide+xml"/>
  <Override PartName="/ppt/notesSlides/notesSlide290.xml" ContentType="application/vnd.openxmlformats-officedocument.presentationml.notesSlide+xml"/>
  <Override PartName="/ppt/notesSlides/notesSlide288.xml" ContentType="application/vnd.openxmlformats-officedocument.presentationml.notesSlide+xml"/>
  <Override PartName="/ppt/notesSlides/notesSlide291.xml" ContentType="application/vnd.openxmlformats-officedocument.presentationml.notesSlide+xml"/>
  <Override PartName="/ppt/notesSlides/notesSlide289.xml" ContentType="application/vnd.openxmlformats-officedocument.presentationml.notesSlide+xml"/>
  <Override PartName="/ppt/notesSlides/notesSlide292.xml" ContentType="application/vnd.openxmlformats-officedocument.presentationml.notesSlide+xml"/>
  <Override PartName="/ppt/notesSlides/notesSlide293.xml" ContentType="application/vnd.openxmlformats-officedocument.presentationml.notesSlide+xml"/>
  <Override PartName="/ppt/notesSlides/notesSlide297.xml" ContentType="application/vnd.openxmlformats-officedocument.presentationml.notesSlide+xml"/>
  <Override PartName="/ppt/notesSlides/notesSlide298.xml" ContentType="application/vnd.openxmlformats-officedocument.presentationml.notesSlide+xml"/>
  <Override PartName="/ppt/notesSlides/notesSlide299.xml" ContentType="application/vnd.openxmlformats-officedocument.presentationml.notesSlide+xml"/>
  <Override PartName="/ppt/notesSlides/notesSlide294.xml" ContentType="application/vnd.openxmlformats-officedocument.presentationml.notesSlide+xml"/>
  <Override PartName="/ppt/notesSlides/notesSlide320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274.xml" ContentType="application/vnd.openxmlformats-officedocument.presentationml.notesSlide+xml"/>
  <Override PartName="/ppt/notesSlides/notesSlide295.xml" ContentType="application/vnd.openxmlformats-officedocument.presentationml.notesSlide+xml"/>
  <Override PartName="/ppt/notesSlides/notesSlide321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275.xml" ContentType="application/vnd.openxmlformats-officedocument.presentationml.notesSlide+xml"/>
  <Override PartName="/ppt/notesSlides/notesSlide296.xml" ContentType="application/vnd.openxmlformats-officedocument.presentationml.notesSlide+xml"/>
  <Override PartName="/ppt/notesSlides/notesSlide322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276.xml" ContentType="application/vnd.openxmlformats-officedocument.presentationml.notesSlide+xml"/>
  <Override PartName="/ppt/notesSlides/notesSlide287.xml" ContentType="application/vnd.openxmlformats-officedocument.presentationml.notesSlide+xml"/>
  <Override PartName="/ppt/notesSlides/notesSlide286.xml" ContentType="application/vnd.openxmlformats-officedocument.presentationml.notesSlide+xml"/>
  <Override PartName="/ppt/notesSlides/notesSlide285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273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28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283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282.xml" ContentType="application/vnd.openxmlformats-officedocument.presentationml.notesSlide+xml"/>
  <Override PartName="/ppt/notesSlides/notesSlide281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279.xml" ContentType="application/vnd.openxmlformats-officedocument.presentationml.notesSlide+xml"/>
  <Override PartName="/ppt/notesSlides/notesSlide280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27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277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307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306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05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31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2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1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04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315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03.xml" ContentType="application/vnd.openxmlformats-officedocument.presentationml.notesSlide+xml"/>
  <Override PartName="/ppt/notesSlides/notesSlide30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30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7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316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2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27.png" ContentType="image/png"/>
  <Override PartName="/ppt/media/image12.wmf" ContentType="image/x-wmf"/>
  <Override PartName="/ppt/media/image7.wmf" ContentType="image/x-wmf"/>
  <Override PartName="/ppt/media/image21.wmf" ContentType="image/x-wmf"/>
  <Override PartName="/ppt/media/image19.wmf" ContentType="image/x-wmf"/>
  <Override PartName="/ppt/media/image10.gif" ContentType="image/gif"/>
  <Override PartName="/ppt/media/image13.wmf" ContentType="image/x-wmf"/>
  <Override PartName="/ppt/media/image30.png" ContentType="image/png"/>
  <Override PartName="/ppt/media/image9.gif" ContentType="image/gif"/>
  <Override PartName="/ppt/media/image5.wmf" ContentType="image/x-wmf"/>
  <Override PartName="/ppt/media/image8.gif" ContentType="image/gif"/>
  <Override PartName="/ppt/media/image4.wmf" ContentType="image/x-wmf"/>
  <Override PartName="/ppt/media/image3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336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35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154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46.xml.rels" ContentType="application/vnd.openxmlformats-package.relationships+xml"/>
  <Override PartName="/ppt/slides/_rels/slide61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212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63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236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71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22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102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22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4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177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332.xml.rels" ContentType="application/vnd.openxmlformats-package.relationships+xml"/>
  <Override PartName="/ppt/slides/_rels/slide33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120.xml.rels" ContentType="application/vnd.openxmlformats-package.relationships+xml"/>
  <Override PartName="/ppt/slides/_rels/slide167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89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327.xml.rels" ContentType="application/vnd.openxmlformats-package.relationships+xml"/>
  <Override PartName="/ppt/slides/_rels/slide256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326.xml.rels" ContentType="application/vnd.openxmlformats-package.relationships+xml"/>
  <Override PartName="/ppt/slides/_rels/slide160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120.xml" ContentType="application/vnd.openxmlformats-officedocument.presentationml.slide+xml"/>
  <Override PartName="/ppt/slides/slide313.xml" ContentType="application/vnd.openxmlformats-officedocument.presentationml.slide+xml"/>
  <Override PartName="/ppt/slides/slide24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60.xml" ContentType="application/vnd.openxmlformats-officedocument.presentationml.slide+xml"/>
  <Override PartName="/ppt/slides/slide261.xml" ContentType="application/vnd.openxmlformats-officedocument.presentationml.slide+xml"/>
  <Override PartName="/ppt/slides/slide262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36.xml" ContentType="application/vnd.openxmlformats-officedocument.presentationml.slide+xml"/>
  <Override PartName="/ppt/slides/slide170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285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6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43.xml" ContentType="application/vnd.openxmlformats-officedocument.presentationml.slide+xml"/>
  <Override PartName="/ppt/slides/slide309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299.xml" ContentType="application/vnd.openxmlformats-officedocument.presentationml.slide+xml"/>
  <Override PartName="/ppt/slides/slide68.xml" ContentType="application/vnd.openxmlformats-officedocument.presentationml.slide+xml"/>
  <Override PartName="/ppt/slides/slide320.xml" ContentType="application/vnd.openxmlformats-officedocument.presentationml.slide+xml"/>
  <Override PartName="/ppt/slides/slide69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291.xml" ContentType="application/vnd.openxmlformats-officedocument.presentationml.slide+xml"/>
  <Override PartName="/ppt/slides/slide33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289.xml" ContentType="application/vnd.openxmlformats-officedocument.presentationml.slide+xml"/>
  <Override PartName="/ppt/slides/slide342.xml" ContentType="application/vnd.openxmlformats-officedocument.presentationml.slide+xml"/>
  <Override PartName="/ppt/slides/slide330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41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340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84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282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281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280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293.xml" ContentType="application/vnd.openxmlformats-officedocument.presentationml.slide+xml"/>
  <Override PartName="/ppt/slides/slide292.xml" ContentType="application/vnd.openxmlformats-officedocument.presentationml.slide+xml"/>
  <Override PartName="/ppt/slides/slide283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  <p:sldId id="585" r:id="rId333"/>
    <p:sldId id="586" r:id="rId334"/>
    <p:sldId id="587" r:id="rId335"/>
    <p:sldId id="588" r:id="rId336"/>
    <p:sldId id="589" r:id="rId337"/>
    <p:sldId id="590" r:id="rId338"/>
    <p:sldId id="591" r:id="rId339"/>
    <p:sldId id="592" r:id="rId340"/>
    <p:sldId id="593" r:id="rId341"/>
    <p:sldId id="594" r:id="rId342"/>
    <p:sldId id="595" r:id="rId343"/>
    <p:sldId id="596" r:id="rId344"/>
    <p:sldId id="597" r:id="rId345"/>
    <p:sldId id="598" r:id="rId346"/>
    <p:sldId id="599" r:id="rId347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slide" Target="slides/slide330.xml"/><Relationship Id="rId334" Type="http://schemas.openxmlformats.org/officeDocument/2006/relationships/slide" Target="slides/slide331.xml"/><Relationship Id="rId335" Type="http://schemas.openxmlformats.org/officeDocument/2006/relationships/slide" Target="slides/slide332.xml"/><Relationship Id="rId336" Type="http://schemas.openxmlformats.org/officeDocument/2006/relationships/slide" Target="slides/slide333.xml"/><Relationship Id="rId337" Type="http://schemas.openxmlformats.org/officeDocument/2006/relationships/slide" Target="slides/slide334.xml"/><Relationship Id="rId338" Type="http://schemas.openxmlformats.org/officeDocument/2006/relationships/slide" Target="slides/slide335.xml"/><Relationship Id="rId339" Type="http://schemas.openxmlformats.org/officeDocument/2006/relationships/slide" Target="slides/slide336.xml"/><Relationship Id="rId340" Type="http://schemas.openxmlformats.org/officeDocument/2006/relationships/slide" Target="slides/slide337.xml"/><Relationship Id="rId341" Type="http://schemas.openxmlformats.org/officeDocument/2006/relationships/slide" Target="slides/slide338.xml"/><Relationship Id="rId342" Type="http://schemas.openxmlformats.org/officeDocument/2006/relationships/slide" Target="slides/slide339.xml"/><Relationship Id="rId343" Type="http://schemas.openxmlformats.org/officeDocument/2006/relationships/slide" Target="slides/slide340.xml"/><Relationship Id="rId344" Type="http://schemas.openxmlformats.org/officeDocument/2006/relationships/slide" Target="slides/slide341.xml"/><Relationship Id="rId345" Type="http://schemas.openxmlformats.org/officeDocument/2006/relationships/slide" Target="slides/slide342.xml"/><Relationship Id="rId346" Type="http://schemas.openxmlformats.org/officeDocument/2006/relationships/slide" Target="slides/slide343.xml"/><Relationship Id="rId347" Type="http://schemas.openxmlformats.org/officeDocument/2006/relationships/slide" Target="slides/slide344.xml"/><Relationship Id="rId3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D83A-AC87-4A7D-8C2A-45D2D28785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34.xml.rels><?xml version="1.0" encoding="UTF-8"?>
<Relationships xmlns="http://schemas.openxmlformats.org/package/2006/relationships"><Relationship Id="rId1" Type="http://schemas.openxmlformats.org/officeDocument/2006/relationships/slide" Target="../slides/slide234.xml"/><Relationship Id="rId2" Type="http://schemas.openxmlformats.org/officeDocument/2006/relationships/notesMaster" Target="../notesMasters/notesMaster1.xml"/>
</Relationships>
</file>

<file path=ppt/notesSlides/_rels/notesSlide235.xml.rels><?xml version="1.0" encoding="UTF-8"?>
<Relationships xmlns="http://schemas.openxmlformats.org/package/2006/relationships"><Relationship Id="rId1" Type="http://schemas.openxmlformats.org/officeDocument/2006/relationships/slide" Target="../slides/slide235.xml"/><Relationship Id="rId2" Type="http://schemas.openxmlformats.org/officeDocument/2006/relationships/notesMaster" Target="../notesMasters/notesMaster1.xml"/>
</Relationships>
</file>

<file path=ppt/notesSlides/_rels/notesSlide236.xml.rels><?xml version="1.0" encoding="UTF-8"?>
<Relationships xmlns="http://schemas.openxmlformats.org/package/2006/relationships"><Relationship Id="rId1" Type="http://schemas.openxmlformats.org/officeDocument/2006/relationships/slide" Target="../slides/slide23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60.xml.rels><?xml version="1.0" encoding="UTF-8"?>
<Relationships xmlns="http://schemas.openxmlformats.org/package/2006/relationships"><Relationship Id="rId1" Type="http://schemas.openxmlformats.org/officeDocument/2006/relationships/slide" Target="../slides/slide260.xml"/><Relationship Id="rId2" Type="http://schemas.openxmlformats.org/officeDocument/2006/relationships/notesMaster" Target="../notesMasters/notesMaster1.xml"/>
</Relationships>
</file>

<file path=ppt/notesSlides/_rels/notesSlide261.xml.rels><?xml version="1.0" encoding="UTF-8"?>
<Relationships xmlns="http://schemas.openxmlformats.org/package/2006/relationships"><Relationship Id="rId1" Type="http://schemas.openxmlformats.org/officeDocument/2006/relationships/slide" Target="../slides/slide261.xml"/><Relationship Id="rId2" Type="http://schemas.openxmlformats.org/officeDocument/2006/relationships/notesMaster" Target="../notesMasters/notesMaster1.xml"/>
</Relationships>
</file>

<file path=ppt/notesSlides/_rels/notesSlide262.xml.rels><?xml version="1.0" encoding="UTF-8"?>
<Relationships xmlns="http://schemas.openxmlformats.org/package/2006/relationships"><Relationship Id="rId1" Type="http://schemas.openxmlformats.org/officeDocument/2006/relationships/slide" Target="../slides/slide262.xml"/><Relationship Id="rId2" Type="http://schemas.openxmlformats.org/officeDocument/2006/relationships/notesMaster" Target="../notesMasters/notesMaster1.xml"/>
</Relationships>
</file>

<file path=ppt/notesSlides/_rels/notesSlide263.xml.rels><?xml version="1.0" encoding="UTF-8"?>
<Relationships xmlns="http://schemas.openxmlformats.org/package/2006/relationships"><Relationship Id="rId1" Type="http://schemas.openxmlformats.org/officeDocument/2006/relationships/slide" Target="../slides/slide263.xml"/><Relationship Id="rId2" Type="http://schemas.openxmlformats.org/officeDocument/2006/relationships/notesMaster" Target="../notesMasters/notesMaster1.xml"/>
</Relationships>
</file>

<file path=ppt/notesSlides/_rels/notesSlide264.xml.rels><?xml version="1.0" encoding="UTF-8"?>
<Relationships xmlns="http://schemas.openxmlformats.org/package/2006/relationships"><Relationship Id="rId1" Type="http://schemas.openxmlformats.org/officeDocument/2006/relationships/slide" Target="../slides/slide264.xml"/><Relationship Id="rId2" Type="http://schemas.openxmlformats.org/officeDocument/2006/relationships/notesMaster" Target="../notesMasters/notesMaster1.xml"/>
</Relationships>
</file>

<file path=ppt/notesSlides/_rels/notesSlide265.xml.rels><?xml version="1.0" encoding="UTF-8"?>
<Relationships xmlns="http://schemas.openxmlformats.org/package/2006/relationships"><Relationship Id="rId1" Type="http://schemas.openxmlformats.org/officeDocument/2006/relationships/slide" Target="../slides/slide265.xml"/><Relationship Id="rId2" Type="http://schemas.openxmlformats.org/officeDocument/2006/relationships/notesMaster" Target="../notesMasters/notesMaster1.xml"/>
</Relationships>
</file>

<file path=ppt/notesSlides/_rels/notesSlide266.xml.rels><?xml version="1.0" encoding="UTF-8"?>
<Relationships xmlns="http://schemas.openxmlformats.org/package/2006/relationships"><Relationship Id="rId1" Type="http://schemas.openxmlformats.org/officeDocument/2006/relationships/slide" Target="../slides/slide266.xml"/><Relationship Id="rId2" Type="http://schemas.openxmlformats.org/officeDocument/2006/relationships/notesMaster" Target="../notesMasters/notesMaster1.xml"/>
</Relationships>
</file>

<file path=ppt/notesSlides/_rels/notesSlide267.xml.rels><?xml version="1.0" encoding="UTF-8"?>
<Relationships xmlns="http://schemas.openxmlformats.org/package/2006/relationships"><Relationship Id="rId1" Type="http://schemas.openxmlformats.org/officeDocument/2006/relationships/slide" Target="../slides/slide267.xml"/><Relationship Id="rId2" Type="http://schemas.openxmlformats.org/officeDocument/2006/relationships/notesMaster" Target="../notesMasters/notesMaster1.xml"/>
</Relationships>
</file>

<file path=ppt/notesSlides/_rels/notesSlide268.xml.rels><?xml version="1.0" encoding="UTF-8"?>
<Relationships xmlns="http://schemas.openxmlformats.org/package/2006/relationships"><Relationship Id="rId1" Type="http://schemas.openxmlformats.org/officeDocument/2006/relationships/slide" Target="../slides/slide268.xml"/><Relationship Id="rId2" Type="http://schemas.openxmlformats.org/officeDocument/2006/relationships/notesMaster" Target="../notesMasters/notesMaster1.xml"/>
</Relationships>
</file>

<file path=ppt/notesSlides/_rels/notesSlide269.xml.rels><?xml version="1.0" encoding="UTF-8"?>
<Relationships xmlns="http://schemas.openxmlformats.org/package/2006/relationships"><Relationship Id="rId1" Type="http://schemas.openxmlformats.org/officeDocument/2006/relationships/slide" Target="../slides/slide26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70.xml.rels><?xml version="1.0" encoding="UTF-8"?>
<Relationships xmlns="http://schemas.openxmlformats.org/package/2006/relationships"><Relationship Id="rId1" Type="http://schemas.openxmlformats.org/officeDocument/2006/relationships/slide" Target="../slides/slide270.xml"/><Relationship Id="rId2" Type="http://schemas.openxmlformats.org/officeDocument/2006/relationships/notesMaster" Target="../notesMasters/notesMaster1.xml"/>
</Relationships>
</file>

<file path=ppt/notesSlides/_rels/notesSlide271.xml.rels><?xml version="1.0" encoding="UTF-8"?>
<Relationships xmlns="http://schemas.openxmlformats.org/package/2006/relationships"><Relationship Id="rId1" Type="http://schemas.openxmlformats.org/officeDocument/2006/relationships/slide" Target="../slides/slide271.xml"/><Relationship Id="rId2" Type="http://schemas.openxmlformats.org/officeDocument/2006/relationships/notesMaster" Target="../notesMasters/notesMaster1.xml"/>
</Relationships>
</file>

<file path=ppt/notesSlides/_rels/notesSlide272.xml.rels><?xml version="1.0" encoding="UTF-8"?>
<Relationships xmlns="http://schemas.openxmlformats.org/package/2006/relationships"><Relationship Id="rId1" Type="http://schemas.openxmlformats.org/officeDocument/2006/relationships/slide" Target="../slides/slide272.xml"/><Relationship Id="rId2" Type="http://schemas.openxmlformats.org/officeDocument/2006/relationships/notesMaster" Target="../notesMasters/notesMaster1.xml"/>
</Relationships>
</file>

<file path=ppt/notesSlides/_rels/notesSlide273.xml.rels><?xml version="1.0" encoding="UTF-8"?>
<Relationships xmlns="http://schemas.openxmlformats.org/package/2006/relationships"><Relationship Id="rId1" Type="http://schemas.openxmlformats.org/officeDocument/2006/relationships/slide" Target="../slides/slide273.xml"/><Relationship Id="rId2" Type="http://schemas.openxmlformats.org/officeDocument/2006/relationships/notesMaster" Target="../notesMasters/notesMaster1.xml"/>
</Relationships>
</file>

<file path=ppt/notesSlides/_rels/notesSlide274.xml.rels><?xml version="1.0" encoding="UTF-8"?>
<Relationships xmlns="http://schemas.openxmlformats.org/package/2006/relationships"><Relationship Id="rId1" Type="http://schemas.openxmlformats.org/officeDocument/2006/relationships/slide" Target="../slides/slide274.xml"/><Relationship Id="rId2" Type="http://schemas.openxmlformats.org/officeDocument/2006/relationships/notesMaster" Target="../notesMasters/notesMaster1.xml"/>
</Relationships>
</file>

<file path=ppt/notesSlides/_rels/notesSlide275.xml.rels><?xml version="1.0" encoding="UTF-8"?>
<Relationships xmlns="http://schemas.openxmlformats.org/package/2006/relationships"><Relationship Id="rId1" Type="http://schemas.openxmlformats.org/officeDocument/2006/relationships/slide" Target="../slides/slide275.xml"/><Relationship Id="rId2" Type="http://schemas.openxmlformats.org/officeDocument/2006/relationships/notesMaster" Target="../notesMasters/notesMaster1.xml"/>
</Relationships>
</file>

<file path=ppt/notesSlides/_rels/notesSlide276.xml.rels><?xml version="1.0" encoding="UTF-8"?>
<Relationships xmlns="http://schemas.openxmlformats.org/package/2006/relationships"><Relationship Id="rId1" Type="http://schemas.openxmlformats.org/officeDocument/2006/relationships/slide" Target="../slides/slide276.xml"/><Relationship Id="rId2" Type="http://schemas.openxmlformats.org/officeDocument/2006/relationships/notesMaster" Target="../notesMasters/notesMaster1.xml"/>
</Relationships>
</file>

<file path=ppt/notesSlides/_rels/notesSlide277.xml.rels><?xml version="1.0" encoding="UTF-8"?>
<Relationships xmlns="http://schemas.openxmlformats.org/package/2006/relationships"><Relationship Id="rId1" Type="http://schemas.openxmlformats.org/officeDocument/2006/relationships/slide" Target="../slides/slide277.xml"/><Relationship Id="rId2" Type="http://schemas.openxmlformats.org/officeDocument/2006/relationships/notesMaster" Target="../notesMasters/notesMaster1.xml"/>
</Relationships>
</file>

<file path=ppt/notesSlides/_rels/notesSlide278.xml.rels><?xml version="1.0" encoding="UTF-8"?>
<Relationships xmlns="http://schemas.openxmlformats.org/package/2006/relationships"><Relationship Id="rId1" Type="http://schemas.openxmlformats.org/officeDocument/2006/relationships/slide" Target="../slides/slide278.xml"/><Relationship Id="rId2" Type="http://schemas.openxmlformats.org/officeDocument/2006/relationships/notesMaster" Target="../notesMasters/notesMaster1.xml"/>
</Relationships>
</file>

<file path=ppt/notesSlides/_rels/notesSlide279.xml.rels><?xml version="1.0" encoding="UTF-8"?>
<Relationships xmlns="http://schemas.openxmlformats.org/package/2006/relationships"><Relationship Id="rId1" Type="http://schemas.openxmlformats.org/officeDocument/2006/relationships/slide" Target="../slides/slide279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80.xml.rels><?xml version="1.0" encoding="UTF-8"?>
<Relationships xmlns="http://schemas.openxmlformats.org/package/2006/relationships"><Relationship Id="rId1" Type="http://schemas.openxmlformats.org/officeDocument/2006/relationships/slide" Target="../slides/slide280.xml"/><Relationship Id="rId2" Type="http://schemas.openxmlformats.org/officeDocument/2006/relationships/notesMaster" Target="../notesMasters/notesMaster1.xml"/>
</Relationships>
</file>

<file path=ppt/notesSlides/_rels/notesSlide281.xml.rels><?xml version="1.0" encoding="UTF-8"?>
<Relationships xmlns="http://schemas.openxmlformats.org/package/2006/relationships"><Relationship Id="rId1" Type="http://schemas.openxmlformats.org/officeDocument/2006/relationships/slide" Target="../slides/slide281.xml"/><Relationship Id="rId2" Type="http://schemas.openxmlformats.org/officeDocument/2006/relationships/notesMaster" Target="../notesMasters/notesMaster1.xml"/>
</Relationships>
</file>

<file path=ppt/notesSlides/_rels/notesSlide282.xml.rels><?xml version="1.0" encoding="UTF-8"?>
<Relationships xmlns="http://schemas.openxmlformats.org/package/2006/relationships"><Relationship Id="rId1" Type="http://schemas.openxmlformats.org/officeDocument/2006/relationships/slide" Target="../slides/slide282.xml"/><Relationship Id="rId2" Type="http://schemas.openxmlformats.org/officeDocument/2006/relationships/notesMaster" Target="../notesMasters/notesMaster1.xml"/>
</Relationships>
</file>

<file path=ppt/notesSlides/_rels/notesSlide283.xml.rels><?xml version="1.0" encoding="UTF-8"?>
<Relationships xmlns="http://schemas.openxmlformats.org/package/2006/relationships"><Relationship Id="rId1" Type="http://schemas.openxmlformats.org/officeDocument/2006/relationships/slide" Target="../slides/slide283.xml"/><Relationship Id="rId2" Type="http://schemas.openxmlformats.org/officeDocument/2006/relationships/notesMaster" Target="../notesMasters/notesMaster1.xml"/>
</Relationships>
</file>

<file path=ppt/notesSlides/_rels/notesSlide284.xml.rels><?xml version="1.0" encoding="UTF-8"?>
<Relationships xmlns="http://schemas.openxmlformats.org/package/2006/relationships"><Relationship Id="rId1" Type="http://schemas.openxmlformats.org/officeDocument/2006/relationships/slide" Target="../slides/slide284.xml"/><Relationship Id="rId2" Type="http://schemas.openxmlformats.org/officeDocument/2006/relationships/notesMaster" Target="../notesMasters/notesMaster1.xml"/>
</Relationships>
</file>

<file path=ppt/notesSlides/_rels/notesSlide285.xml.rels><?xml version="1.0" encoding="UTF-8"?>
<Relationships xmlns="http://schemas.openxmlformats.org/package/2006/relationships"><Relationship Id="rId1" Type="http://schemas.openxmlformats.org/officeDocument/2006/relationships/slide" Target="../slides/slide285.xml"/><Relationship Id="rId2" Type="http://schemas.openxmlformats.org/officeDocument/2006/relationships/notesMaster" Target="../notesMasters/notesMaster1.xml"/>
</Relationships>
</file>

<file path=ppt/notesSlides/_rels/notesSlide286.xml.rels><?xml version="1.0" encoding="UTF-8"?>
<Relationships xmlns="http://schemas.openxmlformats.org/package/2006/relationships"><Relationship Id="rId1" Type="http://schemas.openxmlformats.org/officeDocument/2006/relationships/slide" Target="../slides/slide286.xml"/><Relationship Id="rId2" Type="http://schemas.openxmlformats.org/officeDocument/2006/relationships/notesMaster" Target="../notesMasters/notesMaster1.xml"/>
</Relationships>
</file>

<file path=ppt/notesSlides/_rels/notesSlide287.xml.rels><?xml version="1.0" encoding="UTF-8"?>
<Relationships xmlns="http://schemas.openxmlformats.org/package/2006/relationships"><Relationship Id="rId1" Type="http://schemas.openxmlformats.org/officeDocument/2006/relationships/slide" Target="../slides/slide287.xml"/><Relationship Id="rId2" Type="http://schemas.openxmlformats.org/officeDocument/2006/relationships/notesMaster" Target="../notesMasters/notesMaster1.xml"/>
</Relationships>
</file>

<file path=ppt/notesSlides/_rels/notesSlide288.xml.rels><?xml version="1.0" encoding="UTF-8"?>
<Relationships xmlns="http://schemas.openxmlformats.org/package/2006/relationships"><Relationship Id="rId1" Type="http://schemas.openxmlformats.org/officeDocument/2006/relationships/slide" Target="../slides/slide288.xml"/><Relationship Id="rId2" Type="http://schemas.openxmlformats.org/officeDocument/2006/relationships/notesMaster" Target="../notesMasters/notesMaster1.xml"/>
</Relationships>
</file>

<file path=ppt/notesSlides/_rels/notesSlide289.xml.rels><?xml version="1.0" encoding="UTF-8"?>
<Relationships xmlns="http://schemas.openxmlformats.org/package/2006/relationships"><Relationship Id="rId1" Type="http://schemas.openxmlformats.org/officeDocument/2006/relationships/slide" Target="../slides/slide28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290.xml.rels><?xml version="1.0" encoding="UTF-8"?>
<Relationships xmlns="http://schemas.openxmlformats.org/package/2006/relationships"><Relationship Id="rId1" Type="http://schemas.openxmlformats.org/officeDocument/2006/relationships/slide" Target="../slides/slide290.xml"/><Relationship Id="rId2" Type="http://schemas.openxmlformats.org/officeDocument/2006/relationships/notesMaster" Target="../notesMasters/notesMaster1.xml"/>
</Relationships>
</file>

<file path=ppt/notesSlides/_rels/notesSlide291.xml.rels><?xml version="1.0" encoding="UTF-8"?>
<Relationships xmlns="http://schemas.openxmlformats.org/package/2006/relationships"><Relationship Id="rId1" Type="http://schemas.openxmlformats.org/officeDocument/2006/relationships/slide" Target="../slides/slide291.xml"/><Relationship Id="rId2" Type="http://schemas.openxmlformats.org/officeDocument/2006/relationships/notesMaster" Target="../notesMasters/notesMaster1.xml"/>
</Relationships>
</file>

<file path=ppt/notesSlides/_rels/notesSlide292.xml.rels><?xml version="1.0" encoding="UTF-8"?>
<Relationships xmlns="http://schemas.openxmlformats.org/package/2006/relationships"><Relationship Id="rId1" Type="http://schemas.openxmlformats.org/officeDocument/2006/relationships/slide" Target="../slides/slide292.xml"/><Relationship Id="rId2" Type="http://schemas.openxmlformats.org/officeDocument/2006/relationships/notesMaster" Target="../notesMasters/notesMaster1.xml"/>
</Relationships>
</file>

<file path=ppt/notesSlides/_rels/notesSlide293.xml.rels><?xml version="1.0" encoding="UTF-8"?>
<Relationships xmlns="http://schemas.openxmlformats.org/package/2006/relationships"><Relationship Id="rId1" Type="http://schemas.openxmlformats.org/officeDocument/2006/relationships/slide" Target="../slides/slide293.xml"/><Relationship Id="rId2" Type="http://schemas.openxmlformats.org/officeDocument/2006/relationships/notesMaster" Target="../notesMasters/notesMaster1.xml"/>
</Relationships>
</file>

<file path=ppt/notesSlides/_rels/notesSlide294.xml.rels><?xml version="1.0" encoding="UTF-8"?>
<Relationships xmlns="http://schemas.openxmlformats.org/package/2006/relationships"><Relationship Id="rId1" Type="http://schemas.openxmlformats.org/officeDocument/2006/relationships/slide" Target="../slides/slide294.xml"/><Relationship Id="rId2" Type="http://schemas.openxmlformats.org/officeDocument/2006/relationships/notesMaster" Target="../notesMasters/notesMaster1.xml"/>
</Relationships>
</file>

<file path=ppt/notesSlides/_rels/notesSlide295.xml.rels><?xml version="1.0" encoding="UTF-8"?>
<Relationships xmlns="http://schemas.openxmlformats.org/package/2006/relationships"><Relationship Id="rId1" Type="http://schemas.openxmlformats.org/officeDocument/2006/relationships/slide" Target="../slides/slide295.xml"/><Relationship Id="rId2" Type="http://schemas.openxmlformats.org/officeDocument/2006/relationships/notesMaster" Target="../notesMasters/notesMaster1.xml"/>
</Relationships>
</file>

<file path=ppt/notesSlides/_rels/notesSlide296.xml.rels><?xml version="1.0" encoding="UTF-8"?>
<Relationships xmlns="http://schemas.openxmlformats.org/package/2006/relationships"><Relationship Id="rId1" Type="http://schemas.openxmlformats.org/officeDocument/2006/relationships/slide" Target="../slides/slide296.xml"/><Relationship Id="rId2" Type="http://schemas.openxmlformats.org/officeDocument/2006/relationships/notesMaster" Target="../notesMasters/notesMaster1.xml"/>
</Relationships>
</file>

<file path=ppt/notesSlides/_rels/notesSlide297.xml.rels><?xml version="1.0" encoding="UTF-8"?>
<Relationships xmlns="http://schemas.openxmlformats.org/package/2006/relationships"><Relationship Id="rId1" Type="http://schemas.openxmlformats.org/officeDocument/2006/relationships/slide" Target="../slides/slide297.xml"/><Relationship Id="rId2" Type="http://schemas.openxmlformats.org/officeDocument/2006/relationships/notesMaster" Target="../notesMasters/notesMaster1.xml"/>
</Relationships>
</file>

<file path=ppt/notesSlides/_rels/notesSlide298.xml.rels><?xml version="1.0" encoding="UTF-8"?>
<Relationships xmlns="http://schemas.openxmlformats.org/package/2006/relationships"><Relationship Id="rId1" Type="http://schemas.openxmlformats.org/officeDocument/2006/relationships/slide" Target="../slides/slide298.xml"/><Relationship Id="rId2" Type="http://schemas.openxmlformats.org/officeDocument/2006/relationships/notesMaster" Target="../notesMasters/notesMaster1.xml"/>
</Relationships>
</file>

<file path=ppt/notesSlides/_rels/notesSlide299.xml.rels><?xml version="1.0" encoding="UTF-8"?>
<Relationships xmlns="http://schemas.openxmlformats.org/package/2006/relationships"><Relationship Id="rId1" Type="http://schemas.openxmlformats.org/officeDocument/2006/relationships/slide" Target="../slides/slide29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00.xml.rels><?xml version="1.0" encoding="UTF-8"?>
<Relationships xmlns="http://schemas.openxmlformats.org/package/2006/relationships"><Relationship Id="rId1" Type="http://schemas.openxmlformats.org/officeDocument/2006/relationships/slide" Target="../slides/slide300.xml"/><Relationship Id="rId2" Type="http://schemas.openxmlformats.org/officeDocument/2006/relationships/notesMaster" Target="../notesMasters/notesMaster1.xml"/>
</Relationships>
</file>

<file path=ppt/notesSlides/_rels/notesSlide301.xml.rels><?xml version="1.0" encoding="UTF-8"?>
<Relationships xmlns="http://schemas.openxmlformats.org/package/2006/relationships"><Relationship Id="rId1" Type="http://schemas.openxmlformats.org/officeDocument/2006/relationships/slide" Target="../slides/slide301.xml"/><Relationship Id="rId2" Type="http://schemas.openxmlformats.org/officeDocument/2006/relationships/notesMaster" Target="../notesMasters/notesMaster1.xml"/>
</Relationships>
</file>

<file path=ppt/notesSlides/_rels/notesSlide302.xml.rels><?xml version="1.0" encoding="UTF-8"?>
<Relationships xmlns="http://schemas.openxmlformats.org/package/2006/relationships"><Relationship Id="rId1" Type="http://schemas.openxmlformats.org/officeDocument/2006/relationships/slide" Target="../slides/slide302.xml"/><Relationship Id="rId2" Type="http://schemas.openxmlformats.org/officeDocument/2006/relationships/notesMaster" Target="../notesMasters/notesMaster1.xml"/>
</Relationships>
</file>

<file path=ppt/notesSlides/_rels/notesSlide303.xml.rels><?xml version="1.0" encoding="UTF-8"?>
<Relationships xmlns="http://schemas.openxmlformats.org/package/2006/relationships"><Relationship Id="rId1" Type="http://schemas.openxmlformats.org/officeDocument/2006/relationships/slide" Target="../slides/slide303.xml"/><Relationship Id="rId2" Type="http://schemas.openxmlformats.org/officeDocument/2006/relationships/notesMaster" Target="../notesMasters/notesMaster1.xml"/>
</Relationships>
</file>

<file path=ppt/notesSlides/_rels/notesSlide304.xml.rels><?xml version="1.0" encoding="UTF-8"?>
<Relationships xmlns="http://schemas.openxmlformats.org/package/2006/relationships"><Relationship Id="rId1" Type="http://schemas.openxmlformats.org/officeDocument/2006/relationships/slide" Target="../slides/slide304.xml"/><Relationship Id="rId2" Type="http://schemas.openxmlformats.org/officeDocument/2006/relationships/notesMaster" Target="../notesMasters/notesMaster1.xml"/>
</Relationships>
</file>

<file path=ppt/notesSlides/_rels/notesSlide305.xml.rels><?xml version="1.0" encoding="UTF-8"?>
<Relationships xmlns="http://schemas.openxmlformats.org/package/2006/relationships"><Relationship Id="rId1" Type="http://schemas.openxmlformats.org/officeDocument/2006/relationships/slide" Target="../slides/slide305.xml"/><Relationship Id="rId2" Type="http://schemas.openxmlformats.org/officeDocument/2006/relationships/notesMaster" Target="../notesMasters/notesMaster1.xml"/>
</Relationships>
</file>

<file path=ppt/notesSlides/_rels/notesSlide306.xml.rels><?xml version="1.0" encoding="UTF-8"?>
<Relationships xmlns="http://schemas.openxmlformats.org/package/2006/relationships"><Relationship Id="rId1" Type="http://schemas.openxmlformats.org/officeDocument/2006/relationships/slide" Target="../slides/slide306.xml"/><Relationship Id="rId2" Type="http://schemas.openxmlformats.org/officeDocument/2006/relationships/notesMaster" Target="../notesMasters/notesMaster1.xml"/>
</Relationships>
</file>

<file path=ppt/notesSlides/_rels/notesSlide307.xml.rels><?xml version="1.0" encoding="UTF-8"?>
<Relationships xmlns="http://schemas.openxmlformats.org/package/2006/relationships"><Relationship Id="rId1" Type="http://schemas.openxmlformats.org/officeDocument/2006/relationships/slide" Target="../slides/slide307.xml"/><Relationship Id="rId2" Type="http://schemas.openxmlformats.org/officeDocument/2006/relationships/notesMaster" Target="../notesMasters/notesMaster1.xml"/>
</Relationships>
</file>

<file path=ppt/notesSlides/_rels/notesSlide308.xml.rels><?xml version="1.0" encoding="UTF-8"?>
<Relationships xmlns="http://schemas.openxmlformats.org/package/2006/relationships"><Relationship Id="rId1" Type="http://schemas.openxmlformats.org/officeDocument/2006/relationships/slide" Target="../slides/slide308.xml"/><Relationship Id="rId2" Type="http://schemas.openxmlformats.org/officeDocument/2006/relationships/notesMaster" Target="../notesMasters/notesMaster1.xml"/>
</Relationships>
</file>

<file path=ppt/notesSlides/_rels/notesSlide309.xml.rels><?xml version="1.0" encoding="UTF-8"?>
<Relationships xmlns="http://schemas.openxmlformats.org/package/2006/relationships"><Relationship Id="rId1" Type="http://schemas.openxmlformats.org/officeDocument/2006/relationships/slide" Target="../slides/slide30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10.xml.rels><?xml version="1.0" encoding="UTF-8"?>
<Relationships xmlns="http://schemas.openxmlformats.org/package/2006/relationships"><Relationship Id="rId1" Type="http://schemas.openxmlformats.org/officeDocument/2006/relationships/slide" Target="../slides/slide310.xml"/><Relationship Id="rId2" Type="http://schemas.openxmlformats.org/officeDocument/2006/relationships/notesMaster" Target="../notesMasters/notesMaster1.xml"/>
</Relationships>
</file>

<file path=ppt/notesSlides/_rels/notesSlide311.xml.rels><?xml version="1.0" encoding="UTF-8"?>
<Relationships xmlns="http://schemas.openxmlformats.org/package/2006/relationships"><Relationship Id="rId1" Type="http://schemas.openxmlformats.org/officeDocument/2006/relationships/slide" Target="../slides/slide311.xml"/><Relationship Id="rId2" Type="http://schemas.openxmlformats.org/officeDocument/2006/relationships/notesMaster" Target="../notesMasters/notesMaster1.xml"/>
</Relationships>
</file>

<file path=ppt/notesSlides/_rels/notesSlide312.xml.rels><?xml version="1.0" encoding="UTF-8"?>
<Relationships xmlns="http://schemas.openxmlformats.org/package/2006/relationships"><Relationship Id="rId1" Type="http://schemas.openxmlformats.org/officeDocument/2006/relationships/slide" Target="../slides/slide312.xml"/><Relationship Id="rId2" Type="http://schemas.openxmlformats.org/officeDocument/2006/relationships/notesMaster" Target="../notesMasters/notesMaster1.xml"/>
</Relationships>
</file>

<file path=ppt/notesSlides/_rels/notesSlide313.xml.rels><?xml version="1.0" encoding="UTF-8"?>
<Relationships xmlns="http://schemas.openxmlformats.org/package/2006/relationships"><Relationship Id="rId1" Type="http://schemas.openxmlformats.org/officeDocument/2006/relationships/slide" Target="../slides/slide313.xml"/><Relationship Id="rId2" Type="http://schemas.openxmlformats.org/officeDocument/2006/relationships/notesMaster" Target="../notesMasters/notesMaster1.xml"/>
</Relationships>
</file>

<file path=ppt/notesSlides/_rels/notesSlide314.xml.rels><?xml version="1.0" encoding="UTF-8"?>
<Relationships xmlns="http://schemas.openxmlformats.org/package/2006/relationships"><Relationship Id="rId1" Type="http://schemas.openxmlformats.org/officeDocument/2006/relationships/slide" Target="../slides/slide314.xml"/><Relationship Id="rId2" Type="http://schemas.openxmlformats.org/officeDocument/2006/relationships/notesMaster" Target="../notesMasters/notesMaster1.xml"/>
</Relationships>
</file>

<file path=ppt/notesSlides/_rels/notesSlide315.xml.rels><?xml version="1.0" encoding="UTF-8"?>
<Relationships xmlns="http://schemas.openxmlformats.org/package/2006/relationships"><Relationship Id="rId1" Type="http://schemas.openxmlformats.org/officeDocument/2006/relationships/slide" Target="../slides/slide315.xml"/><Relationship Id="rId2" Type="http://schemas.openxmlformats.org/officeDocument/2006/relationships/notesMaster" Target="../notesMasters/notesMaster1.xml"/>
</Relationships>
</file>

<file path=ppt/notesSlides/_rels/notesSlide316.xml.rels><?xml version="1.0" encoding="UTF-8"?>
<Relationships xmlns="http://schemas.openxmlformats.org/package/2006/relationships"><Relationship Id="rId1" Type="http://schemas.openxmlformats.org/officeDocument/2006/relationships/slide" Target="../slides/slide316.xml"/><Relationship Id="rId2" Type="http://schemas.openxmlformats.org/officeDocument/2006/relationships/notesMaster" Target="../notesMasters/notesMaster1.xml"/>
</Relationships>
</file>

<file path=ppt/notesSlides/_rels/notesSlide317.xml.rels><?xml version="1.0" encoding="UTF-8"?>
<Relationships xmlns="http://schemas.openxmlformats.org/package/2006/relationships"><Relationship Id="rId1" Type="http://schemas.openxmlformats.org/officeDocument/2006/relationships/slide" Target="../slides/slide317.xml"/><Relationship Id="rId2" Type="http://schemas.openxmlformats.org/officeDocument/2006/relationships/notesMaster" Target="../notesMasters/notesMaster1.xml"/>
</Relationships>
</file>

<file path=ppt/notesSlides/_rels/notesSlide318.xml.rels><?xml version="1.0" encoding="UTF-8"?>
<Relationships xmlns="http://schemas.openxmlformats.org/package/2006/relationships"><Relationship Id="rId1" Type="http://schemas.openxmlformats.org/officeDocument/2006/relationships/slide" Target="../slides/slide318.xml"/><Relationship Id="rId2" Type="http://schemas.openxmlformats.org/officeDocument/2006/relationships/notesMaster" Target="../notesMasters/notesMaster1.xml"/>
</Relationships>
</file>

<file path=ppt/notesSlides/_rels/notesSlide319.xml.rels><?xml version="1.0" encoding="UTF-8"?>
<Relationships xmlns="http://schemas.openxmlformats.org/package/2006/relationships"><Relationship Id="rId1" Type="http://schemas.openxmlformats.org/officeDocument/2006/relationships/slide" Target="../slides/slide3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20.xml.rels><?xml version="1.0" encoding="UTF-8"?>
<Relationships xmlns="http://schemas.openxmlformats.org/package/2006/relationships"><Relationship Id="rId1" Type="http://schemas.openxmlformats.org/officeDocument/2006/relationships/slide" Target="../slides/slide320.xml"/><Relationship Id="rId2" Type="http://schemas.openxmlformats.org/officeDocument/2006/relationships/notesMaster" Target="../notesMasters/notesMaster1.xml"/>
</Relationships>
</file>

<file path=ppt/notesSlides/_rels/notesSlide321.xml.rels><?xml version="1.0" encoding="UTF-8"?>
<Relationships xmlns="http://schemas.openxmlformats.org/package/2006/relationships"><Relationship Id="rId1" Type="http://schemas.openxmlformats.org/officeDocument/2006/relationships/slide" Target="../slides/slide321.xml"/><Relationship Id="rId2" Type="http://schemas.openxmlformats.org/officeDocument/2006/relationships/notesMaster" Target="../notesMasters/notesMaster1.xml"/>
</Relationships>
</file>

<file path=ppt/notesSlides/_rels/notesSlide322.xml.rels><?xml version="1.0" encoding="UTF-8"?>
<Relationships xmlns="http://schemas.openxmlformats.org/package/2006/relationships"><Relationship Id="rId1" Type="http://schemas.openxmlformats.org/officeDocument/2006/relationships/slide" Target="../slides/slide32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ED0B-0B16-4FFD-B944-16EEBA020F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6922-79CF-493D-83C3-26E5E053C5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E23D-8C83-4D6F-8103-31CEF5D3FC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6D5A-556B-40BA-9701-92F19A9928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9790-DB6F-41FB-A12F-FCA29E2FEA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54B7-037E-4764-9013-1FD3FA1EAB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4582-199E-42D5-91E3-5D0A6E0277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89A5-8AE8-4F7D-817D-335871D910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CDED-DDBB-4EDC-BF6E-F15E8052C0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5864-2687-46BA-982A-E1FBA6540E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4BAA-0A9E-4777-AD82-700589CBE6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7EBD-6A43-4150-80DF-D7E16DFAF5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8D84-A8BA-4946-A302-101477FEE5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9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C574-EA26-40CF-9738-FB9589DDE8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897D-D41D-477C-9825-24E3D8417E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CF11-9424-494C-B055-3D41E54F2B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FAD0-8F6B-450A-8A5F-5E50A4DD2C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3A3A-F7D9-417B-8EA0-CD96F1EB2B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0100-784D-4FFD-8E1D-57FAD6A9D2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887A-3203-4ADA-AC78-9B0C8645AF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97B7-4EAF-4611-988D-33C03AD1AA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A593-6066-4335-A1C0-65C12E5DAC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996F-E3AC-4FB0-9DC5-6F56ADA508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A7CD-C630-46F2-91CE-8B07E9A23A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5D20-DB5B-4366-9A07-62A71202EC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11B5-CF62-48F1-8DB2-7859679D04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185C-42F4-48F5-8BD2-28F1FBF074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DFED-FAB1-47CA-A712-8209094D19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7128-40C2-436F-A41E-241A4E3D8F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49C8-5392-4FC3-94E2-3618C5DDFB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EA0F-6196-4DEF-80BB-2F9BE07497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D696-E55E-4BF9-BF64-5912A493DB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E81B-6EA3-4CDC-84D5-F5646D32B4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9CD8-BCBC-4488-B3C9-A56AA11881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EC9A-F2D0-4967-9AFF-59E955CFB7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3B72-DE30-404A-AA82-73B0FAC532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21A8-7E75-4836-A002-EC9A091535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4059-C351-47C1-8AB4-2C6BAD6E27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E0A7-8B35-404B-8648-4CD974BFA6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40E8-45E0-4ED5-9518-97089D40A9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3F07-6D2A-4F1C-8DF3-1DB3916602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FEFA-BE74-43C6-ACEF-8087320A5F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A8B4-490E-4318-B061-AACA22DA5A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22AA-6807-4CD5-8B40-CCA8C4C549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0FC3-D3C2-441E-9D33-B7B2880DB9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26A5-54F1-4E86-9E09-1B6138C5B3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7DC7-9581-43E2-99E9-6663312BDA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A9C6-38C9-40BF-A4C5-5E2CDDFD54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25C8-C9FF-4776-918A-54F4379973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623C-4B40-4212-BA25-E8439264E0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2692-7E43-4F82-BB05-67FDDED965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189A-1942-4280-9066-F69DB24503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4C5E-2C43-44EE-B188-6BE1526619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8E6E-388A-485B-A6E8-BBB67D078C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89AA-692A-4B96-88D9-472AFC06C2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6CE3-3E6E-41CC-95E5-5563341F42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C2DC-F4D6-4CBF-A4BF-862B91DC18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8174-C2C0-4D64-92A6-0316423AFF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18D1-B561-4DF1-A9D8-711E6954AE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D85E-778C-4AC0-AD2E-BC8F4F3B42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9CCF-DEC9-4988-B214-1E212BA7CB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372F-C2A5-4D7D-B3DA-E9DF215CEE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0884-3A9D-48AF-B819-280C205AB1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960D-A867-42BE-B108-A3B131350E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E7C9-5189-42AD-8EA5-64F5D50EDE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0419-1523-44F8-A782-676419F90B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B137-9B73-4F05-BB49-62F826062A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9C60-CE43-41F7-B78E-AD9C2EB106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F7F4-2489-4445-BAE8-865633DF64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DD09-55F3-484D-87FB-421C9F3F5B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5CBA-604F-45B6-8D78-0DD639B1DE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B1E8-98A1-4AD3-9BB6-23B99A94B5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D40F-1026-48F8-B92C-659B328F74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3E7D-1513-4C8A-B85C-2CFF5680C9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298A-A459-4FE6-A67A-079A9E6E32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C1A7-FCF5-4F5D-A441-F5A3AA9934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2AA5-2595-4655-A46C-236DE4E067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7E00-D493-4AD4-9482-D82B20B3FB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DFAC-1E7F-49D1-B16A-13EF42C5A7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8DCE-C687-432B-AFA0-33DDA8835E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577F-0E11-4C9B-A71C-30B641EB7C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68F7-B087-48DC-933B-ADBDE57225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FF8F-7820-4350-AA98-02D1A437CD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A90E-8858-404A-BAF4-FE1A95327B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6F75-8CE0-4C50-ADAF-4C1230B1C3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6195-4AE7-43D8-BEB2-8571B1A237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9670-EC89-41BB-8F81-DAB86ACF2C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8743-82A1-4864-BC58-CEF86BEA40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4D4C-7CC1-4FE2-94F8-40CC92AD04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582B-D29B-467B-A2AD-CB44AA0F71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02CE-6F54-4054-A9E3-2D334ACABE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AD90-E206-4067-86D3-AC612F3E0A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06B0-EA48-42FA-A6EB-5893E9EB9F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28F6-335F-4A12-9D99-C8544B7822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16B4-0AEB-410C-9D0A-EB24680539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D197-6406-4D05-A764-B0146BB86A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ADD3-E1D3-4015-BA95-EB600285E6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34D1-FE94-4646-BC14-664C8DE46D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0996-AA03-470D-8926-1AFF57D923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BE24-3946-4748-B9F0-6604286A09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B029-A8F6-490B-9AC5-9F03440436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8D93-CA44-489D-BEB8-31851C53A1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7A59-6DF1-4F41-A69C-D4E2DE0796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8D7C-57E2-4058-AC8D-8E17BB1E6E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BF4D-AA2A-4C11-BD42-78F94C7117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2858-DE68-4A4E-9D16-13BFF32B87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9408-82C9-4B8A-B6CE-2ECCEA8F6C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4929-FFC6-4174-899D-FD422A52EE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EC8C-0A58-4243-81A3-520F38F178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DF47-B3F7-4C35-AD03-983DD0CA8B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4009-CF27-463D-86B6-7AD94C318D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B9C4-AFA1-406E-A53C-8DFAAD25CE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1149-2497-4377-A833-C63123EEEF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0F88-8DD7-4C3D-B2AB-1C59AB3742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9923-4705-44A9-8C25-D345FF4D54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3540-4EFD-449A-B99C-856C4E6624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561A-BC0D-4235-B25D-63455DC1D8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2D7D-B275-499D-BB31-9D1C288D65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491D-9EB7-408E-AF12-3EB0A27AA9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4A97-729A-4A8C-B493-6135703F7C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D232-5499-4F2D-8647-DD8993B70C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2042-0121-4A0B-8EF5-F25B375EDC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A2E9-2864-43C5-904C-40BDA55A17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1FAA-F8D0-4F6A-9E7B-C7D0C319D6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88AA-855B-4279-A16A-4523697C03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B1B4-D429-4636-A1B5-28AF3F02C0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7362-39DE-4696-988B-ED33914513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C60C-7AA0-4CDB-94E0-0A4FE8EB85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2B5B-BBD2-4E21-963A-C758421F4C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8825-0192-4D13-85A7-1BB74186F9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FFB0-5973-4A21-957E-5A7B8C0490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007E-3FD5-4772-BDD6-4DD2F3E369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E6E2-07DD-403A-AAA2-26424FA963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1946-ACF6-4590-9D02-1D87AA9E76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010C-479F-4DCE-B0DB-5D11451B20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FF73-81DE-4500-907F-B107A5AFFF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BD98-8C93-40A5-95E2-D9451571F6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5537-AEBD-4FC2-9E44-49BFCBCECF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5BCA-D33D-45C0-AACB-337691F811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562A-C30B-442B-9EFF-FEBE2E59A3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68FB-AA7B-4CCE-A120-16480DA980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7AD8-BF84-4EB4-BF49-553E24E73B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7BC0-523D-4381-91DD-1FC84FE91A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20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1E18-88D3-4B55-8FDD-1D3490F650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0454-CC32-46D1-BE87-2AEB920902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A5FA-E2AF-4FFF-BCF8-A4576FA627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8414-CF11-49E8-A09C-E6F81F2A24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9B26-4787-47E4-8A16-333E0EE3F8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E3D4-54C3-4325-8E6E-F2AC860657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4DB8-E47E-4000-8C23-FF3B049559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2435-2C21-42AE-990D-90E260B4BC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E651-A611-4615-B4B3-1FDE4A5AE2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FF9A-7F24-4372-AB34-568261BACA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9A0D-C323-4B27-865E-B0BC84411B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AE1B-5896-44C6-AB85-636395A181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23A3-D390-4D82-B2AE-D7B59F1A4A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6191-5EC5-4F67-BB1E-179A214D12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E6A6-04BA-4E84-BFB3-0AF9343B23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3B0F-8616-4B36-B074-590781F335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31D1-B1D3-4C3E-B18D-A52A8F7635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5B65-1445-48B6-8CBD-57945619E1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3391-D23E-4C19-8597-F2971BF1DB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F229-700C-48AD-B944-FD27AA3FD1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30A2-F26E-4D11-A8EF-B045884F3B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395C-8110-4108-AFD3-DAFB1E4D79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85CC-0FDD-4562-BC1C-C74DE751AC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93CA-90FD-4E2A-8CA4-459F18DCB1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3B59-2ADA-4307-BF8D-C030788CCB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9189-400A-4C64-806B-43C5D6C25D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D326-D39F-4905-987F-A8B86325D0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94FA-0D14-495E-BDFC-8584D73900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963E-198D-4079-A968-C9B06834EF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6AA3-F315-4FF2-A20D-D0B5E03E84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7E55-4010-40CF-BEA9-A320C06403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3907-AB96-4FA8-A5D3-C2E69982C1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277E-48B6-4488-A14B-8A4AEF5184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3F8C-FE07-4568-AF1F-1817BD70AC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90A2-C02B-4DFE-B19E-BC77D303C6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274B-9009-4BAB-B460-1723E9A0A0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2CCD-91C7-45D4-B415-0435D66983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A272-EF36-4B1F-B99F-B587440048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C36F-302F-4123-B638-18CF16169C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1138-F3CA-4FA8-8AF5-838E6A9581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ACD9-154D-4F55-B18F-3AA47DB3A8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5C26-249D-45A4-8EF5-66E2B8F167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1E0E-9D2D-4FF9-B7A6-8AB2929C42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0655-B7B8-4313-A8E3-656835ACE5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DFD0-8BBE-4E9B-8041-77B02429D6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9244-C3AB-4F25-8D53-82B66D7BDE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2C94-0D4C-4B53-B704-F766D44064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D9F5-02AF-4938-80C1-92277E2204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30A3-84FE-4984-8BE6-8137C25CE4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3A9B-4F9F-4157-9778-6968ED3B53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62B1-1165-403D-B674-F015F6817D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3658-370B-4044-A872-D4A95DF417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D8EE-29EA-4373-A249-EFDABDB32A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0C0C-7769-4C39-8426-D2E33F42EA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3055-7468-488A-A444-06F417A532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032F-8F8A-4FDB-B5AB-ACCBFC84A4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8578-0941-41DA-8123-A828B32CB5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2F8E-7707-4E9A-BED9-052A24A88A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3520-0873-4D14-A13F-F61706A25D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06A2-FC1D-4376-B984-F236E41F1C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B694-A252-4298-90F2-CA8F18E82A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4C75-B4F5-4AA6-88C9-17ACE3303C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5343-C21A-400A-812B-5BC3F4ADD6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1DFE-CB98-4EBD-AA69-90EC93E374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EA9C-B7C3-4DD2-A75B-96C36ADDB3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9C2E-EBD4-4A66-ACAE-521AEC72F7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10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FEF1-426A-495E-A6E9-29D03227A5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853E-C644-49DB-B295-B5F63C1D4D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0820-1412-4FDA-A248-9A4C68046F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8F6E-7782-4501-9D7C-F7A4BB429A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1965-931A-4603-90FE-2B55209A67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DB51-AA95-457E-A13D-AC3CA181B1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F877-80D0-4185-BD8F-AABC6D7BA0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CB14-4E1E-4A26-9380-C623794EF3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49CE-D0C2-4A24-B74B-B3BB120D531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F142-8EF8-43D5-80D2-8BF7AE4045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A55E-AEE2-42E9-8B74-006AE3D6A4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9719-A6F0-4D49-8CC3-9BCD991E82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7354-FA4E-4DF2-B13F-10A8D6D657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83B9-091F-4950-9BCB-A1B1C0EC3A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7E3C-ABC3-4245-867F-546ACF67B8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7F15-C2B6-4E44-923E-E5CCA76D7E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D7BC-4806-4C6F-8528-95CB3A8EBD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3BF7-9A79-4A5D-9959-C607887151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8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FFD6-8CA5-4D23-90F7-90D618482B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1646-19B4-4E22-81EE-2CD7240982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64B1-5226-4C50-9046-E24F4A1CE0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4848-9513-42AE-A173-3AD2DB4A25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8B28-1C9E-4D97-9F56-612002C65B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9ED7-7B81-42B3-A10A-9C1D74B855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AF2B-D487-4D94-B111-3E0263624A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015B-247B-412A-B9E3-C0E290D584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C640-67B8-4EED-A3D1-B5BC0A158B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E9F8-A0C8-4D87-9D68-6FB4FA5768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3BF8-E9A1-4AAF-AA4E-8BEE30A7DD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64DE-116F-4D13-B9EC-3BC0C56D3C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8BBC-F791-4622-A7DC-43E8AC2285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C584-591A-4DA6-8A4A-5FF3384B65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9122-4125-4518-B1FF-D84993CDFB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8D47-5A6B-4611-9077-A55D1C77C1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A526-C3E8-4C1C-A0B2-94CF58D80C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91E6-1FE7-4918-BE73-AC908F6542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03EC-0246-452D-982E-918EC2D1E2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E9DC-E316-48D6-BC78-07F9A48621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A4E8-C2FC-4A28-B667-62E1F92DD8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FD42-ED41-47B1-851C-05B1D2DADF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C3B1-D445-4979-8BB3-A8B7779E5B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A19E-C8D6-42BA-BAF8-4BE255931D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EDB2-0110-45D0-950A-47EEBF6800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2C45-9355-4309-85ED-F7084BFA77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A719-F79C-4823-B0D0-B241A812EE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245B-D1CB-4C20-BF26-8D1056F106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57D-0621-4940-87B8-F9A3780D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DFE-EADB-42F1-9926-24AE3BF6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44FE-66D1-4613-B781-13E7AFF3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2BE-E771-44C1-AF5D-1C727D54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8C0-6388-4C4C-B29A-AE1022C1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9B51-7FD0-4A94-9240-27356892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F30D-3B83-4395-802B-3035C396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7E5-92E4-47A6-9D31-CD9C47AB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CC90-6FC7-4609-8257-D786BA43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BD1-6F8A-48FF-9F78-43BD761C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994-8720-4C77-A2FE-A3160EBC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8F4-F88E-47A6-AA14-E99A3928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520" y="9710280"/>
            <a:ext cx="142848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E310-5421-4D19-A861-6C895038FD9A}" type="datetime">
              <a:rPr b="0" lang="sr-Latn-CS" sz="8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9710280"/>
            <a:ext cx="274320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Predavanja iz Upravljanja – 02-U čemu je razlik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2520" y="9710280"/>
            <a:ext cx="142884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AC36-02F3-46E8-BBED-F17FA11937A2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 od 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4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5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6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0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2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4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5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6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7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8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0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2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4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5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6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7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8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80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2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4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5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6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7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8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0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2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4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5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6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7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8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0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2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4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5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6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7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8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0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2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4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5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6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7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8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0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22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19520"/>
            <a:ext cx="5829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6095520"/>
            <a:ext cx="5790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čemu se ovaj predmet razlikuje od ostalih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D16-ED01-4082-AAAF-95371B566AD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24166-8F3B-4DBE-8FBF-33A15572ED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5991120" cy="7543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 svemu tome ima istine,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1888920" cy="1830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4419720"/>
            <a:ext cx="3591000" cy="1935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495680" y="2438280"/>
            <a:ext cx="1828800" cy="1487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295280" y="5410080"/>
            <a:ext cx="1524240" cy="1444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838080" y="7238880"/>
            <a:ext cx="2362320" cy="17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A53-A80E-4558-B02E-E56CBD26128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DE678-5A35-45C5-8AA8-5450891428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440" y="30906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investitora da postavl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rukovodioca projekta da prihvata tu ulo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s projekta sa osnovnim podacima o budž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e specifič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A3EA-44DE-4C20-A463-FFB7E25D4C1F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3F8B1-E0D0-42D5-BAE8-08808CC42C44}" type="datetime1">
              <a:rPr lang="en-US"/>
              <a:t>07/28/26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0040" y="324288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žina angažovan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n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i za iz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konta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a 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6C92-A3B8-4BE2-B161-B10A2D2BC8B3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6785B-3BF0-4220-BD00-62E643A91B59}" type="datetime1">
              <a:rPr lang="en-US"/>
              <a:t>07/28/26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ši pr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zvođenja investicije (organizacioni konsalting) - ne ulazi projekto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ciono savetovanje (konsalting) - ne ulazi struč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C4E-F9F4-4E56-97D5-D6127D9AFE68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6E0EC-9CB8-4274-B855-3BEAB42A4436}" type="datetime1">
              <a:rPr lang="en-US"/>
              <a:t>07/28/26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dič UN - Ekonomska komisija za Evro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EC7-2EEC-425C-A7DC-9FF1A433B8A8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9906E-0848-40EF-96AC-1C1CEC75AF9D}" type="datetime1">
              <a:rPr lang="en-US"/>
              <a:t>07/28/26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ukupn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obavlja profesionalne usl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zrada planova i specif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prema ten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a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upanje investi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dzor nad izgradnj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satu plus trošk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nat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šalni iz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EBE-1F20-407A-8FA1-E77969A27CC8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7C3B7-9C72-409B-84AA-F744B3EB2EEE}" type="datetime1">
              <a:rPr lang="en-US"/>
              <a:t>07/28/26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konvencionalnog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nema finansijskih interesa u izgrad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sni odnosi konsultant - investitor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at se završava pre početka 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m radova je jas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pun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kladu je sa regulativom o jav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e obaveze su ja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362-2622-4CAC-923D-6856130EF171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19667-748C-41A3-B86A-53C768D95442}" type="datetime1">
              <a:rPr lang="en-US"/>
              <a:t>07/28/26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i konsal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njuje mogućnost spoljnog sukoba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uigravanje stručnj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6360-7D74-4114-88F7-E5B7ED39C6AA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EC880-B51B-41B9-AA64-33AA815A028A}" type="datetime1">
              <a:rPr lang="en-US"/>
              <a:t>07/28/26</a:t>
            </a:fld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 realizacije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ovanje i/ili upravljanje izradom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bavke i lici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je investitorov izvršni organ, bez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a podela uloga između više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A19-3569-422E-8420-7A6AF19F1534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182EC-74C1-43CB-BCC6-0F9C8E7B80C0}" type="datetime1">
              <a:rPr lang="en-US"/>
              <a:t>07/28/26</a:t>
            </a:fld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kusni savet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a unutrašnjih suko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i za nabavku se sklapaju na osnovu licitacija sa kompletnim specifik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licitacije moguće je porediti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stupanja se rano primeć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ije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DAD-8DC4-4AE7-8E0C-31F270DF9BDF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B4435-9AD0-412B-8115-B4F9381FFDC2}" type="datetime1">
              <a:rPr lang="en-US"/>
              <a:t>07/28/26</a:t>
            </a:fld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na odgovornost za projektovanje i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mogu da počnu pre završetka pro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 se utvrđuje na osnovu tačnih specifikacija, pre ili posle sklapanja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F34-FF7A-4D01-994D-04B3E82E996E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C6ECB0-B818-4E34-B625-CC7CC2B5A520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mi imamo još jedan predlog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200" spc="-1" strike="noStrike">
                <a:solidFill>
                  <a:srgbClr val="000000"/>
                </a:solidFill>
                <a:latin typeface="Times New Roman"/>
              </a:rPr>
              <a:t>Zarada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9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5943600"/>
            <a:ext cx="1565280" cy="2135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19720" y="5943600"/>
            <a:ext cx="156528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AB57-8843-43BB-B62E-2A752C3923B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77ACF-597B-4A91-A1C8-19153AABF2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šće konsulta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210024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a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i revizij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itacija i 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opredaja objekta i obuka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ek mora biti profesionalan i nepristr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mogu dobiti samo oni koji imaju ug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30F-26D7-4BDA-97B1-0FED1797CCBA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50774-5C4C-4950-8F33-C5ECB11F71AC}" type="datetime1">
              <a:rPr lang="en-US"/>
              <a:t>07/28/26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A82-106B-46DB-B5C3-1653B0BBB61B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4D9D5-ABCD-4077-AE32-D4A6515E2F60}" type="datetime1">
              <a:rPr lang="en-US"/>
              <a:t>07/28/26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395-B3E1-4559-BC82-4A34426D870D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6CA26-6DA1-4B3B-8243-CC56C927CFDB}" type="datetime1">
              <a:rPr lang="en-US"/>
              <a:t>07/28/26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4440" y="652320"/>
            <a:ext cx="5829120" cy="20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pojm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440" y="2903400"/>
            <a:ext cx="5829120" cy="556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609-9631-402F-9DDC-77C7DE5AABB0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8C58C4-3AD1-4A0B-B464-7DC9E27A6C6C}" type="datetime1">
              <a:rPr lang="en-US"/>
              <a:t>07/28/26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37760" y="1294920"/>
            <a:ext cx="5829480" cy="76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čki: jednostrana izjava volje upućena određenom licu radi zaključiv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da bi bila valja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drži osnovne elemente ugovora (predmet, rok, cen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žena volj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 pod navedenim uslovima sklopi u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si 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li njegov punomoć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će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nvestit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obavezujuća z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 rok traj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239-E531-4176-89C2-8E1CA98FCAE7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ACFFE-B084-430A-9E34-F6EE7ECA8AD9}" type="datetime1">
              <a:rPr lang="en-US"/>
              <a:t>07/28/26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vrha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tni materij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azuje na tehničko-tehnološke aspekt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sposobnost izvođača da urad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ozbiljnost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 uslove pod kojima investitor može dobiti investiciono do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D43-CE7D-4E55-818B-CB83562FA317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500A6-F703-42F1-BB78-B0CC0AFF37CF}" type="datetime1">
              <a:rPr lang="en-US"/>
              <a:t>07/28/26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gledavanj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7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asp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e za resursima i njihovi izv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zahtevi podizvođača i kooperanata (tehničko-tehnološki, organizacioni i finasijs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isporu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j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 finans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1C0-0669-4521-AE21-25F4BDF56494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9F727-D5A7-4603-AB34-E089BE15E695}" type="datetime1">
              <a:rPr lang="en-US"/>
              <a:t>07/28/2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e želju kupca za investicionim dob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se definiše predmet budućeg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definiše i način izbora najpovoljnije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definiše i ostale prateće u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ovi resur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A29-2351-4ED9-8021-3B3B909EA9EC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C351A-34AB-42E4-A64C-31183AFB4429}" type="datetime1">
              <a:rPr lang="en-US"/>
              <a:t>07/28/26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definisanja predme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end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funkcionalnim paramet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6D7-9D85-43C7-A8FB-A2932DE87371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59C65-D514-4C1B-AB12-3B367C2452AF}" type="datetime1">
              <a:rPr lang="en-US"/>
              <a:t>07/28/26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440" y="1338120"/>
            <a:ext cx="5829120" cy="719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utstvo ponu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dnošenj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ja u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tstva za podnošenje ponude (rok važnosti, produženje, licitaciona garanci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ponude sa prilogom uz ponu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sa izjavom da će radovi biti izvršeni u roku i po ceni, koji ispunjava ponuđa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715-386B-44A1-8904-11B254B67F34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CCF27-8B91-47A5-90E1-9AD3CF769B39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rada je važna svima koji grade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vestitor veoma često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vođač uvek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raditelj mora od nečeg da živi, i to dobro, ako je mog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o može da bude zaljubljenik u svoj posao, ali ostali obično traže svoj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987-2174-43ED-8226-C891E3FEB46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36F5A2-68AB-403E-9E34-B4143F670D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4440" y="1414440"/>
            <a:ext cx="5829120" cy="795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na kome se zaključije ugovor, čiji je sastavni deo i ostala tenderska dokum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često bazirani na FIDIC-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kacije i opisi radova koje treba izv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čni zahte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"zamk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0AD-3869-41AB-8139-680BE134E2B0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2E1F4-233C-4715-84B4-2B3FDA5D7C4F}" type="datetime1">
              <a:rPr lang="en-US"/>
              <a:t>07/28/26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14440" y="17949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 i predrač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količine radova koji se 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upisuj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rema stvarnim količi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bi trebalo da dobro sagleda šta se stvarno može očekiv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buhva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ek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os cena ponuđač prilagođava željenom toku nov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4958-4019-4B6E-AC71-72C1EB0D2AE2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41C40-24D8-491C-A138-784CC42CE00F}" type="datetime1">
              <a:rPr lang="en-US"/>
              <a:t>07/28/26</a:t>
            </a:fld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te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đuje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ovoljni za realizac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razrađuju i prilagođava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cija za dobro izvrše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je banka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10% vrednosti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naplativa na poziv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37B1-8101-4706-99AC-D15C7242A05A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CE79F-87B5-440E-A1DB-0A445E26D77D}" type="datetime1">
              <a:rPr lang="en-US"/>
              <a:t>07/28/26</a:t>
            </a:fld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kojom se najpovoljniji ponuđač informiše da je izab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ed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ugovor ne sklopi, gubi se licitaciona gara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o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a koja se dostavljaju naknad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se dostavljaju kao odgovor na pitanj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alju se svima, bez obzira da li su pit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D97-8ECD-43E6-9C35-8A1634F6BA57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D2732-6C40-4C05-8429-EA39CE280D9B}" type="datetime1">
              <a:rPr lang="en-US"/>
              <a:t>07/28/26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i parametr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o vrsti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, spratnost, nivo obrade, oprema za poslovni obje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oizvoda, nivo proizvodnje za proizvodne obje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treba da uradi detaljnu razradu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o i dugotra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ća mogućnost za zaradu i gubit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393E-C9B3-42E7-96DD-24B0BFC784A2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9E1E5-4A2F-4FB2-9C61-C53EE79169F6}" type="datetime1">
              <a:rPr lang="en-US"/>
              <a:t>07/28/26</a:t>
            </a:fld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izbora najpovoljnijeh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ji po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eni poslovni partn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7B3-2119-4E84-9E84-6081E676CF5F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5855A-5471-4DA3-840E-7E92CA442D52}" type="datetime1">
              <a:rPr lang="en-US"/>
              <a:t>07/28/26</a:t>
            </a:fld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ci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6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ju se kvalifikovani ponu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čekuju se kvalitet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da spreči dogovor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i poziv u specijalizovanim str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vima informis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postoji predkval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upak sprovodi konsul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B88-BF89-48D8-9C19-97C43F277FBC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4C8C2-1051-4E2E-B682-35FF62EFCFFF}" type="datetime1">
              <a:rPr lang="en-US"/>
              <a:t>07/28/26</a:t>
            </a:fld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najpovoljnije ponu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14440" y="1642680"/>
            <a:ext cx="5829120" cy="76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nije najjeftin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an je bon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i su finansijski uslovi (kreditiranje, plaćanje u domaćoj valu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da postoje i specifični uslovi (angažovanje domaćih firmi ili resursa, transfer znan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da postoje i drugi specifičn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procedura je definisana u konkursnom materija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780F-F92C-4FBF-94E1-50D5B6457D47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4842B-6DFC-4700-BB61-DDEE50137A84}" type="datetime1">
              <a:rPr lang="en-US"/>
              <a:t>07/28/26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slovima za davanje prodajne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stvena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razni modalit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može biti i fik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12D-BA35-4F95-96C3-F9A9342C6F58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1E0CF-C984-456A-B51B-C1ED5DA2942B}" type="datetime1">
              <a:rPr lang="en-US"/>
              <a:t>07/28/26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4A5-B30A-46DD-B088-61F1837F8A1F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41630-A575-48CD-8F6B-0EFA34E2BF40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rugačiji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m pokažemo kako da vodite računa o realnim moguć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s naučimo kako da vodite računa o realnim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5CE-978F-4036-BE8A-70EF1E5B135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143DD-ACCF-4B33-B97E-704C15241A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863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5829120" cy="59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05F-CA08-4559-8A2F-FC89B973AC94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FD646-316C-4766-982B-FBABA8FD93E3}" type="datetime1">
              <a:rPr lang="en-US"/>
              <a:t>07/28/26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ubedljivo najznačajn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uračunati faktor neizvesnosti, posebno u uslovima dugotraj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9FDD-9CCD-448D-8B34-7313AE0120FA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14D6E-91C6-4F16-88C0-B79687D42C58}" type="datetime1">
              <a:rPr lang="en-US"/>
              <a:t>07/28/26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 između glavnog izvođač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o je da glavni ponuđač (izvođač) uspostavi internu kontrolu ponuda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 mora biti "čvrsto držan, štapom i šargarepom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43F-2BEB-4E15-8D83-417FE20AECC7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0C246-2FF0-4F6C-B190-86BC9A820C20}" type="datetime1">
              <a:rPr lang="en-US"/>
              <a:t>07/28/26</a:t>
            </a:fld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tap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angažovanja drug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promen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argarep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agođavanje ponude interesima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stiranje na tehnologiji koja odgovara pod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nost u raspodeli sredstava (iznos i tok nov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68E2-948F-4463-BF7F-EAD6B4681FDE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DF39D-03BA-4C72-91F4-84A12392756F}" type="datetime1">
              <a:rPr lang="en-US"/>
              <a:t>07/28/26</a:t>
            </a:fld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podizvođačem se ugovara cena koja se razlikuje od cene tih radova iz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voditi računa da isplaćen novac odgovara vrednosti izvrše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novca treba da bude u funkciji efikasnog završetk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B81-D970-43C0-A323-3F246258B6BC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245A3-F252-44EE-A358-68121194F05C}" type="datetime1">
              <a:rPr lang="en-US"/>
              <a:t>07/28/26</a:t>
            </a:fld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ceptu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limina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v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procenu obavlja specijalizovana ekip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ipu vod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cenitel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stimato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su približne, ali su nuž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kada se sagledaju troškovi, dodaje se pro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82F3-9176-4264-900F-4C2316EB75B6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0BB73-B19A-43F3-A6B4-34557FB60F4B}" type="datetime1">
              <a:rPr lang="en-US"/>
              <a:t>07/28/26</a:t>
            </a:fld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omoćnih postrojenja i služ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žijsk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troškovi direkcije kompa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o nastaju pre ugovaranja (ponude, akvizicija, marke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8B70-AEB8-4960-B1D6-F07F36706A36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C69CE-4009-465F-A3C0-508C8B770A0B}" type="datetime1">
              <a:rPr lang="en-US"/>
              <a:t>07/28/26</a:t>
            </a:fld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5829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6148440" cy="776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EEA-EC1E-4C91-B777-15BB68790AC4}" type="slidenum">
              <a:t>1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D263D-1AED-4A19-AA35-524DAB07E693}" type="datetime1">
              <a:rPr lang="en-US"/>
              <a:t>07/28/26</a:t>
            </a:fld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 za donošenje odluke o radu na ponudi (slično studiji opravdanos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nders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ženi rok (ako ga 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č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učešća domaćih firmi i moguće posled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8BAD-3DF2-4F47-93FE-862DD25C258E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AB992-D900-4981-B49B-A6D5648B21F0}" type="datetime1">
              <a:rPr lang="en-US"/>
              <a:t>07/28/26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konstrukcija investitora i njena sigu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 i način verifikacije obavljenog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iji su troškovi osiguranja, carine i druge tak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B28-250C-4E5D-BFE5-B83D5E8B7275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2EAAE-E6FB-45CB-A483-C116765E801A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ere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ednost onoga što uradite biće merena prema tome koliko doprinesete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mora biti da sačuvate svoj integritet stručnjaka, ali i da zarad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je da onaj koji vas je angažovao oseti da je imao koristi od t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B4E-F13B-4BC6-949A-9CAB215E15B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08CA1-3642-40E9-8C60-3898A3E499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istraživanja tržišta 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ci troškovno značajnih stav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a osposoblje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98C6-8A10-40D9-98E9-4F5324085820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5D098-CB48-46EA-9E92-AA57361B2BEE}" type="datetime1">
              <a:rPr lang="en-US"/>
              <a:t>07/28/26</a:t>
            </a:fld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a o usvaj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virna finansijska vre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tivnosti potrebne za akviziciju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ni dinamički plan izrad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e potrebe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sredstva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0E1-6A53-45F5-85CF-EC0D5099674E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78C86-2799-4554-81A3-5DACD6B2F09D}" type="datetime1">
              <a:rPr lang="en-US"/>
              <a:t>07/28/26</a:t>
            </a:fld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7760" y="1191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7760" y="1719000"/>
            <a:ext cx="582948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izvor cene koja se nu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%-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bitniji element priprem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na za proceduru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i analiza ten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na tehnološke i prostorne pod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eneralnih aktiv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tehnologije i njenih posle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3E9-B3FE-4729-91E4-7B1F54C785EE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B3DB6-C4D1-4444-96B9-00A11134FD1B}" type="datetime1">
              <a:rPr lang="en-US"/>
              <a:t>07/28/26</a:t>
            </a:fld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14440" y="1871280"/>
            <a:ext cx="5829120" cy="734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generalnog dinamičkog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i izbor meh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rganizacione struk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priprem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režijskih troškova na gradiliš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C55-37B9-485B-8478-AB2489849BAD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87060-0C9D-4CD9-AF41-C3ED0202A7A2}" type="datetime1">
              <a:rPr lang="en-US"/>
              <a:t>07/28/26</a:t>
            </a:fld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716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sedišta fi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bankarsk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načina kontrole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izik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fit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tizovanje pripremlje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una baz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327A-9336-481E-9712-C223565600B0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1EAB4-B250-4AF5-98B3-DC4340EBC39F}" type="datetime1">
              <a:rPr lang="en-US"/>
              <a:t>07/28/26</a:t>
            </a:fld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4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88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završe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sagledanog celog procesa 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mpletiranih ponuda isporučilac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određivanje poslovne strate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kontrolu troškova i upravljanje sredstvima prema isporučiocima i podizvo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B7A-8DD1-4F79-87C8-CE1398B58CAB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5F098-15BB-4680-8979-B236BED248F9}" type="datetime1">
              <a:rPr lang="en-US"/>
              <a:t>07/28/26</a:t>
            </a:fld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za buduće po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D32-3C7C-401D-A1C8-E3751CF5AC45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87891-57A4-45F5-A36E-6AAB5854DCB6}" type="datetime1">
              <a:rPr lang="en-US"/>
              <a:t>07/28/26</a:t>
            </a:fld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iti razumnu c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iti realno traj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gurati tražen 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5265-4AD0-40CE-B738-E6E511EBB87D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5FBB7-34C1-4CF5-9D30-D1BE036F01C8}" type="datetime1">
              <a:rPr lang="en-US"/>
              <a:t>07/28/26</a:t>
            </a:fld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3CF-97DA-4863-97D1-B45CAD713A70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65AA3-16D8-4406-9B64-E51A22CCD7C1}" type="datetime1">
              <a:rPr lang="en-US"/>
              <a:t>07/28/26</a:t>
            </a:fld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0040" y="2590920"/>
            <a:ext cx="582948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1C8-1391-4FB4-912D-F8B357CD3264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29CE7-D851-4BA8-A76D-A31BC221D725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05320" y="6019920"/>
            <a:ext cx="2997000" cy="361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ženjersko balans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je potrebno da se usaglasi ekonomski interes i principi st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tko postoji jednoznačno reš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blemi se veoma često moraju rešavati na licu mesta, znanjem i oseća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A880-DF3F-4054-9542-17235E2D99E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9AAA8-88C0-45BF-BD90-4324C7C279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746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količine resursa  neophodnih za postizanje ci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procenjenih troškova i profita sklapa se 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om realizacije procene se koriguju u skladu sa stvarnim sta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late se prilagođavaju stvarnom st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e troškove i poređenje sa planiranim zove se 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AF9-2CA2-4909-A371-309CFA0253BA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CCEF7-5E25-41E8-B8A1-73A0E86608E0}" type="datetime1">
              <a:rPr lang="en-US"/>
              <a:t>07/28/26</a:t>
            </a:fld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pogled unapred n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troškova je pogled unazad na prošl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 dve aktivnosti su povezane i daju materijal jedna za drug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reporučljivo da analiz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nu rada dva nezavisna 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EB7-C417-4511-8CAD-A2EB5F83E74B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9F462-AD4B-4C1A-AD37-78EAC4DE6901}" type="datetime1">
              <a:rPr lang="en-US"/>
              <a:t>07/28/26</a:t>
            </a:fld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j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za kvalitetnu procen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olaganje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metodologije i procedure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lana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a tehnoloških znanja i ve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e hardvera i softv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to je projekat složeniji potrebno je obezbediti više pred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9B6-7D4A-43E4-9628-C51191141337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173F8-8050-4479-85BF-96A47F44F1ED}" type="datetime1">
              <a:rPr lang="en-US"/>
              <a:t>07/28/26</a:t>
            </a:fld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37760" y="1904760"/>
            <a:ext cx="582948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F73F-676B-4D0E-8687-C5C8A03CB400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F9C6F-DB5C-481C-B624-D0F1DB8C796F}" type="datetime1">
              <a:rPr lang="en-US"/>
              <a:t>07/28/26</a:t>
            </a:fld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347760"/>
            <a:ext cx="640080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jerarhijsk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vrstam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ipskim eleme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o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iranje prati struktur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broja nivoa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formata ko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standardni načini klasifikacije troškova podržani institucijama i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377-4112-4742-947E-CC5A3849E6AD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F839D-46D5-4A8E-94E9-E78AA7914B54}" type="datetime1">
              <a:rPr lang="en-US"/>
              <a:t>07/28/26</a:t>
            </a:fld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pozn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ogo je jednostavnije proceniti standardnu tehnolog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i detalji, materijali i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resursa standardno i povol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klično korišćenj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A36-51FB-4576-AB9C-389FCB4E828C}" type="slidenum">
              <a:t>1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A807A-7688-4DF8-A7D8-882C15CA96A9}" type="datetime1">
              <a:rPr lang="en-US"/>
              <a:t>07/28/26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gravanje realizacije radova kod poslova koji se ciklično obavlj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standardnih objekata procenjujemo cenu je nekom parametru (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revetu, krav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estandardnih objekata daje se cene po jedinici mere (bra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kombinacija strateg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ABDD-48BB-4999-805F-C76809CCAB82}" type="slidenum">
              <a:t>1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95409-AD26-4F44-B647-7CED634F33CC}" type="datetime1">
              <a:rPr lang="en-US"/>
              <a:t>07/28/26</a:t>
            </a:fld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prilagoditi procenu predviđenom izvođaču i njegovoj tehnologiji i sposob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zeti u obzir veličin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A6B-18EC-4964-82D2-A420D244CC2D}" type="slidenum">
              <a:t>1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5BB6E-0DB9-494C-8EF3-08E349F3E8E0}" type="datetime1">
              <a:rPr lang="en-US"/>
              <a:t>07/28/26</a:t>
            </a:fld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23360"/>
            <a:ext cx="624816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440" y="23284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podataka o predviđenim oper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z su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raživanju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orijskim poda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svetu postoje programi, knjige i baze podataka za pomoć pri procen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postoje zastarele Komgrapove norme i Tanjug-ov bi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690C-1B3C-4A8F-82D1-5A8C08102175}" type="slidenum">
              <a:t>1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0E786-F000-47C6-9058-A4DC0BEE0782}" type="datetime1">
              <a:rPr lang="en-US"/>
              <a:t>07/28/26</a:t>
            </a:fld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2176200"/>
            <a:ext cx="594360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imati i sopstve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imati svedene podatke po nekom parametru standardnog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nemamo dovoljno detaljni projekat ili nemamo normative, moramo koristiti i specifične istorijsk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korisno prikupiti ponude podizvođača i isporuč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B9C-E5BA-4F94-A874-2DE7133A5042}" type="slidenum">
              <a:t>1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7BB5B-939D-4D8D-AD16-EC23EDFAE011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što, kako i zbog ko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AAF-1BC3-429F-AF28-195E1DFD74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AA5C5-638F-49AF-9618-CC64804F6870}" type="datetime1">
              <a:rPr lang="en-US"/>
              <a:t>07/28/26</a:t>
            </a:fld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14440" y="2743200"/>
            <a:ext cx="58291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infl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ačajan i kod malih inflacija (3%-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zna sk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različitih kompon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statističke ver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avisi od strukture cen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219320" y="7391520"/>
                <a:ext cx="4352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DDA-95B7-4C96-8B03-8020D6865BA5}" type="slidenum">
              <a:t>1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38D20-70F6-41D7-8944-518ECB2D845D}" type="datetime1">
              <a:rPr lang="en-US"/>
              <a:t>07/28/26</a:t>
            </a:fld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7760" y="1947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anirano povećanj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 kvalitet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bučenost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podizvođača i dobavlj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enadne promene zakonske i tehnič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dovoljno poznavanje prop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gle promene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edhodne an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vorišta 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ija i istražni rad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ojeće podzemne instal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236A-2E6C-4035-810D-7A7819EE00B0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0F61C-371D-44DE-8A67-CD40A1124041}" type="datetime1">
              <a:rPr lang="en-US"/>
              <a:t>07/28/26</a:t>
            </a:fld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42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govoru, obično se zna na čiji teret padaju ov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a sil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avdano povećanje troškov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izvođača i podizvođača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uobičajeni problemi na nekim tržištima (cari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poslovi i mesta malog rizika (stalni investitori i podizvođač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854-602E-4FC2-8EFF-8D61FE7C47A3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C0244-853E-4053-8F04-7A8C8AC042B3}" type="datetime1">
              <a:rPr lang="en-US"/>
              <a:t>07/28/26</a:t>
            </a:fld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2452320"/>
            <a:ext cx="5829120" cy="55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9C7-EF70-4B89-9029-07425F82B8A3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FB727-55A7-485F-8F12-7CBCD066D5E5}" type="datetime1">
              <a:rPr lang="en-US"/>
              <a:t>07/28/26</a:t>
            </a:fld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8120" y="42840"/>
            <a:ext cx="61149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ečna cena prema predviđ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aci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pre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rš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e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%-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standardizovanim ob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ekcija prema dodatnim uticaj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8C85-3852-4013-B255-CFA03D4CF8D8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D4460-4D61-4EB5-B027-3FDB12BD1365}" type="datetime1">
              <a:rPr lang="en-US"/>
              <a:t>07/28/26</a:t>
            </a:fld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7760" y="225216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komplikovane ob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objekta na ele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oni bl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io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sni 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dobra 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9656-E96E-40F7-97A1-798996151ED1}" type="slidenum">
              <a:t>1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85369-498B-493A-B043-45A4EF0F7148}" type="datetime1">
              <a:rPr lang="en-US"/>
              <a:t>07/28/26</a:t>
            </a:fld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a vezan za matematički apa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i istorijski po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zriva pri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mode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ksponencij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aritam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istorijskih podataka bira 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36B-3898-4519-BDBB-39BEF2D2696D}" type="slidenum">
              <a:t>1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322E9-52B4-423D-96E5-BD985EA80CB6}" type="datetime1">
              <a:rPr lang="en-US"/>
              <a:t>07/28/26</a:t>
            </a:fld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14440" y="17953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 završenoj projektnoj dokument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edica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n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podaci sa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korisno korišćenje standardnih no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ka jako pomaže pri povećanju tačnosti ovog mod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F08-7E61-4F86-8F31-0ABCC8328494}" type="slidenum">
              <a:t>1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3ED46-9F0D-4F24-9318-F6EC47235546}" type="datetime1">
              <a:rPr lang="en-US"/>
              <a:t>07/28/26</a:t>
            </a:fld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no je da 20% pozicija nosi 80%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neke objekte (pogotovo niskogradnja) ova razlika je još već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dobro odredimo značajne stavke, procena može biti veoma precizna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godna metoda za utvrđivanje klizne sk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72B6-D246-4B4B-96C8-82FE9B7E6603}" type="slidenum">
              <a:t>1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A33D9-0736-40C5-88F6-661672D52E7D}" type="datetime1">
              <a:rPr lang="en-US"/>
              <a:t>07/28/26</a:t>
            </a:fld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40080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14440" y="1676520"/>
            <a:ext cx="5829120" cy="761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javljuju se u predm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arketinga i akvizicije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iguranje i deo ca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ajmljivanje i korišćenje ob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arske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anjanje otpadnog i nepotrebnog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614B-FF52-46FE-8789-92B91EDC54BD}" type="slidenum">
              <a:t>1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FCF56-35E0-469A-B875-A88F92877E46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što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iteljstvo je timski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mnogih str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đevin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struktiv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raš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braćaj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gra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izvo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ganiz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nsij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0B69-7865-4485-828D-93A507933F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415A6-6A4E-435C-AA39-801451EDA945}" type="datetime1">
              <a:rPr lang="en-US"/>
              <a:t>07/28/26</a:t>
            </a:fld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važna za dobija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čitao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ni 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rekapitul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etski privl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kvalitet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an vid rekl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brzog prilagođavanja toku događaja i željam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C89-5E18-43D8-BC3D-3A393F1AF372}" type="slidenum">
              <a:t>1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6FB08-979B-47FD-93AB-10D53B79193E}" type="datetime1">
              <a:rPr lang="en-US"/>
              <a:t>07/28/26</a:t>
            </a:fld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C6D-0A6C-4A59-A7F2-091BDDF675AD}" type="slidenum">
              <a:t>1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F2A08-CBA7-4EBF-9311-F7F615F74513}" type="datetime1">
              <a:rPr lang="en-US"/>
              <a:t>07/28/26</a:t>
            </a:fld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0CA7-1B8B-4B35-88A3-AA137752FC13}" type="slidenum">
              <a:t>1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E8DAE-70AB-480B-BA0D-EB9C93F51AE8}" type="datetime1">
              <a:rPr lang="en-US"/>
              <a:t>07/28/26</a:t>
            </a:fld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5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803-BAC7-4271-958A-F83C3111FC14}" type="slidenum">
              <a:t>1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D0428-29AA-43FA-8407-879A31DB63B7}" type="datetime1">
              <a:rPr lang="en-US"/>
              <a:t>07/28/26</a:t>
            </a:fld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asnost dva ili više lica koja ima pravno dej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element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predmetu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utvrđivanja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finans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D06-6E12-4F39-9B0A-39E0C1D26815}" type="slidenum">
              <a:t>1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53948-F0B9-4936-B8C8-C8519DAF600F}" type="datetime1">
              <a:rPr lang="en-US"/>
              <a:t>07/28/26</a:t>
            </a:fld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14440" y="194796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aža elektro-mašins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ispor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ka i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 u zemljama u razvo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tako čest u razvijenim zeml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izvod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38B-31A8-4CF0-8C23-05A16840CAB8}" type="slidenum">
              <a:t>1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D09D3-354B-414A-B5DC-E96FBFAE818F}" type="datetime1">
              <a:rPr lang="en-US"/>
              <a:t>07/28/26</a:t>
            </a:fld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namika plaćanja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o faz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etno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rada na osnovu količina koje meri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e mogu da se izmene ako se izm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5A99-79CE-40C2-BF1C-16E4C79A321B}" type="slidenum">
              <a:t>1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36970-A6AA-404F-B474-8DBE8506C90C}" type="datetime1">
              <a:rPr lang="en-US"/>
              <a:t>07/28/26</a:t>
            </a:fld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plus dobit (Cost Pl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procenat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 i podela prof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ksni honorar i klauzula o nagr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lus klizna skala honor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FCF5-71C7-451B-A5B4-69310959246D}" type="slidenum">
              <a:t>1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19876-5764-4D36-A197-5CF0516AE30B}" type="datetime1">
              <a:rPr lang="en-US"/>
              <a:t>07/28/26</a:t>
            </a:fld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ena cena koja se ne sme premašiti (Sealing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janta fiks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rekoračanje preko neke granice izvođač snosi t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ksna cena (Fixed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ložna iz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rihvatljivosti promene cena (1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i u slučaju k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73D3-E4A7-47A0-A68F-2DCD549878F3}" type="slidenum">
              <a:t>1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86552-D5AB-4ED6-9570-CA6C43A08FBE}" type="datetime1">
              <a:rPr lang="en-US"/>
              <a:t>07/28/26</a:t>
            </a:fld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iran na britanskom Commo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je i tumačenja (čl.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a (naručilac, izvođač, inženjer, podizvođač, zastupnik inženj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i (ugovor, specifikacije, crtež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odavni su samo pisani doku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8C0-1352-410E-A472-8DD76C69C762}" type="slidenum">
              <a:t>1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5F49B-3A6B-4463-8305-A282EF7B9CF0}" type="datetime1">
              <a:rPr lang="en-US"/>
              <a:t>07/28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cioni projekat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ka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više lo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gotra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uđenost proc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klimatsk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vinsko-pravni 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042-7ABF-4085-BACE-D198EA617D5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F164F2-0A26-4304-BFED-7FEBC3837A17}" type="datetime1">
              <a:rPr lang="en-US"/>
              <a:t>07/28/26</a:t>
            </a:fld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 i zastupnik inženjera (čl.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ja se daju ugov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mena uputstva moraju da se potvrde pismeno u roku od 7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može da oslobodi izvođača ugovornih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ovlašćenja se može preneti zastupniku, ali ne s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704-9FC7-4759-A187-1B41A7175C60}" type="slidenum">
              <a:t>1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92539-3623-4687-B4EE-BFF4A82064B1}" type="datetime1">
              <a:rPr lang="en-US"/>
              <a:t>07/28/26</a:t>
            </a:fld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os i podugovoranj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3,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ne može biti prenet na drugo lice bez saglasa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 se preneti novčana potraživanja svojoj banci bez saglas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A64-65D7-43BF-950D-E976CF3DDE43}" type="slidenum">
              <a:t>1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761A1-3348-4474-9E05-5028135A978F}" type="datetime1">
              <a:rPr lang="en-US"/>
              <a:t>07/28/26</a:t>
            </a:fld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i dokument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5-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azum o Ugov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aki drugi dokument koji je 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šnjenje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A41-B9C9-4C78-B95A-B1677DEDE404}" type="slidenum">
              <a:t>1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91C7B-3796-4779-91BB-D974CF7C6B70}" type="datetime1">
              <a:rPr lang="en-US"/>
              <a:t>07/28/26</a:t>
            </a:fld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naplate količina koje nisu obuhvaćene predme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postoji čim izvođač pošalje pismo o prihvat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cija za dobro izvršenje posla naplativa na prvi poz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govornost za stanje pod zeml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da odredi kako će izvoditi rad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88F-F329-454E-B54B-4C0A7531572F}" type="slidenum">
              <a:t>1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77997-C056-46B0-B373-5D4550EF8D81}" type="datetime1">
              <a:rPr lang="en-US"/>
              <a:t>07/28/26</a:t>
            </a:fld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menja nadzor po sopstvenom naho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dođe do oštećenja zbog "rizika naručioca" postoji pravo na povećanje cene ali ne i povećanje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e transporta nestandardnih materijala i opreme snosi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3AD-91B8-42BC-9E18-7F29DF4A94B3}" type="slidenum">
              <a:t>1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0E31B-5EF2-4D87-9E3B-A59E843F601D}" type="datetime1">
              <a:rPr lang="en-US"/>
              <a:t>07/28/26</a:t>
            </a:fld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14440" y="182844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na snaga (čl. 34,3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 izvođača da inženjeru dostavlja izveštaje o stanju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, postrojenja i izrada (čl. 36-3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traži ispitivanja uzor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oliko su ispitivanja mimo ugovora, a kvalitet je odgovarajući, troškovi padaju n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kontrol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dgovarajući elementi se mogu odbac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CC7-928E-4E27-B0BF-EDB1E92848A0}" type="slidenum">
              <a:t>1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B15A7-57C5-4334-B485-1914E229FCB6}" type="datetime1">
              <a:rPr lang="en-US"/>
              <a:t>07/28/26</a:t>
            </a:fld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(čl.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nije zbog propusta izvođača i klimatskih uslova, investitor treba da nadoknadi š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obustava traje duže od 84 dana, i ne dobije se saglasnost za nastavak u roku od 28 dana, izvođač može da okonča svoj anagaž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CBA-37F1-4CCB-9378-0B08E617FF0B}" type="slidenum">
              <a:t>1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8F1D9-2CF3-4FB1-94DD-8507F2421C89}" type="datetime1">
              <a:rPr lang="en-US"/>
              <a:t>07/28/26</a:t>
            </a:fld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očinjanje radova i zakašnjenje (čl. 41-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preda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se ne izvode noću i u lokalne neradne dane, osim kada inženjer to odob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i za kašnjenje radova, ali ne preko neke 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vršetka i predaje radova i otklanjanja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873-44B6-4AAE-BB2A-523D3845157B}" type="slidenum">
              <a:t>1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8143B-2B76-4494-BA75-5393CB7646C0}" type="datetime1">
              <a:rPr lang="en-US"/>
              <a:t>07/28/26</a:t>
            </a:fld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nost za nedostatke (čl. 49, 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le predaje radova izvođač radi radove koje mu inženjer nalo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ti radovi zbog nepoštovanja ugovora, neodgovarajućeg rada i materijala, padaju na teret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uprotnom su naknadni radovi i investitor ih pla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tni rok (period održavanja) se propisuje ugovorom, ako drugačije ne odredi lokalno zakonodav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FB6-6291-4991-BA05-0E2FB2CBE3F1}" type="slidenum">
              <a:t>1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C4013-205D-45AB-809F-FFD5ECE47A6F}" type="datetime1">
              <a:rPr lang="en-US"/>
              <a:t>07/28/26</a:t>
            </a:fld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e, dopune i ispuštanja (čl. 51, 5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laž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ju se prema ugovoru 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obima radova koj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% se posebno kalkuliš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CC6-23E6-4198-8FF2-F1C92D0B34E7}" type="slidenum">
              <a:t>1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32138-2B38-404F-9494-7D5E5266F01C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snici u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i i kooper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d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i, projektantski i upravn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DD15-C2FA-41CF-8136-91DEE428266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ADA6F-C8E8-4C73-A786-6F603C087352}" type="datetime1">
              <a:rPr lang="en-US"/>
              <a:t>07/28/26</a:t>
            </a:fld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 za odštetne zahteve (claims) (čl. 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ava namere u roku od 28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čno slanje novih obračuna tok problem tr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okončanju problema u roku od 28 dana konačan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lučaju propuštanja procedura, iznos klejma ne može da pređe iznos koji utvrdi inženjer 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0B21-6EF2-4CD7-95CA-B6F75DA22F21}" type="slidenum">
              <a:t>1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027C5-61BA-4A74-AF6D-ED55BBF51C6D}" type="datetime1">
              <a:rPr lang="en-US"/>
              <a:t>07/28/26</a:t>
            </a:fld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a izvođača, privremeni radovi i materijal (čl. 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, materijal i privremeni radova koji su potrebni za realizaciju objekta ne mogu biti uklonjeni bez saglasnosti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odnosi se na transportna sred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3C3-FAF7-4D10-A4B9-3379E0559AE8}" type="slidenum">
              <a:t>1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14354-7B9A-497A-8894-01FB443B4DFF}" type="datetime1">
              <a:rPr lang="en-US"/>
              <a:t>07/28/26</a:t>
            </a:fld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nje (čl. 55-5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e količine iz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meri, izvođač može da prisustv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dostavlja rezul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14 dana vremena da uloži pri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i se na radove po jediničnim ce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žnost blagovremene pismene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FD5-8326-424A-B3B7-5F956653E938}" type="slidenum">
              <a:t>1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FD6D6-D3E1-4310-8E52-189240A90529}" type="datetime1">
              <a:rPr lang="en-US"/>
              <a:t>07/28/26</a:t>
            </a:fld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iznosi (čl. 5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i koji su pokriveni ugovorom, predmerom i predraču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i se prema uputstvima inženjera i njemu se dokazuju trošk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403-BEB5-4A4E-ADD3-AC5728F0F997}" type="slidenum">
              <a:t>1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46505-E790-4A9D-A23B-706AA0BD74CA}" type="datetime1">
              <a:rPr lang="en-US"/>
              <a:t>07/28/26</a:t>
            </a:fld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enovani podizvođači (čl. 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ugovara sa 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treba da bude obezbeđen od propusta ov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e uslovi pod kojima izvođač može da odbije imenovan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2EDB-1B8A-4589-AB30-2F520A7A8A64}" type="slidenum">
              <a:t>1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A3D8F-CF28-4BE6-A70D-046D5354D008}" type="datetime1">
              <a:rPr lang="en-US"/>
              <a:t>07/28/26</a:t>
            </a:fld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tifikati i plaćanja (čl. 60-6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dostavlja izjavu sa iznosom koja mu pripada na osnovu izvrše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u roku od 28 dana vrši korecije i potvrđuje iz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 se umanjuje za avans i retencionu svo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 završno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C70-B828-44B3-B0DF-99B89E918CB5}" type="slidenum">
              <a:t>1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1ABEB-62ED-497C-978C-0712B7506E0D}" type="datetime1">
              <a:rPr lang="en-US"/>
              <a:t>07/28/26</a:t>
            </a:fld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lekovi (čl. 63, 6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naručilac stiče pravo na okončanje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ono što ostav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isključuje lokalne pravne prop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inženjer može da izvede radove koje izvođač neće ili ne mo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DC4A-58D6-4D28-B6E8-859DF75D8F2A}" type="slidenum">
              <a:t>1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C122BC-A7A9-4D4E-9025-05C4A8D7BA09}" type="datetime1">
              <a:rPr lang="en-US"/>
              <a:t>07/28/26</a:t>
            </a:fld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 (čl. 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treba i zauzimanje radova od stran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ške u inženjerovim projek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rodne sile, ratovi, pobune i revolucije van zemlje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 svega se odnosi na finansijsk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 raskidanja ugovora u slučaju 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639A-B9BA-4543-9993-FA6AF4BFE71D}" type="slidenum">
              <a:t>1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A8B81-D68F-4285-9C5E-AD5C34049ABB}" type="datetime1">
              <a:rPr lang="en-US"/>
              <a:t>07/28/26</a:t>
            </a:fld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tupanje okolnosti posle pisma o prihvatanju koje onemogućava izvršenje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 (čl. 6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prvoj instanci odlučuj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drugoj instanc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no je šta je uzeto kao osnovno pravo (švajcarsko, FIDIC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EBD9-7243-4FB0-9BFF-D805775A2B27}" type="slidenum">
              <a:t>1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47ECC-45CD-4DCD-BD08-A210B307CD28}" type="datetime1">
              <a:rPr lang="en-US"/>
              <a:t>07/28/26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štenja (čl. 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oš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resa mora biti zvan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eno obaveštavanje o promeni adr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962-41F9-49A5-AD3B-2614964CDF1F}" type="slidenum">
              <a:t>1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7F3B9-A6A1-4CB8-81D2-97EF13260841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a su vas učili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veći deo predmeta koji su do sada slušani spadaju u dve kategori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eorijski (matematika, mehanika, mehanika fluida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rojektantski (mehanika tla, beton, čelik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obe kategorije predmeta je karakteristično da postoje neke formule i neka pravila. Ako ispoštujete te formule i pravila, vi ste dobri. Ako ih ne znate ili ne poštujete, niste dob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E5F-5219-4499-AB39-4CF84E5903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545E0-7164-4AD6-AE0D-6F1C678A4E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ranje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olaže novc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jekt se izvodi zbog njegove žel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inantan pristup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razvijenom sv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ajena ulo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slovensk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interesantno u našim usl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B08-608A-4BA8-B3B8-15120C6F60F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5D9CF-2B4E-4812-88DB-5D1A7399895D}" type="datetime1">
              <a:rPr lang="en-US"/>
              <a:t>07/28/26</a:t>
            </a:fld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, neizdavanje sertifikata, stečaj i 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čno specijalnim riz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oknada svih gubitaka, zajedno sa profitom, ka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usporava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 kasniji nastav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9D0-9FEE-41CE-B4A3-03B0AB53D87B}" type="slidenum">
              <a:t>2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89123-DA80-429E-A737-62322E07A05A}" type="datetime1">
              <a:rPr lang="en-US"/>
              <a:t>07/28/26</a:t>
            </a:fld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e u troškovima i zakonodavstvu (čl. 7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promene cena rada 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u zakonodavstvu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stalno praćenje cena i zakons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A963-E6D4-44D2-A688-5DA40E7E0A81}" type="slidenum">
              <a:t>2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A3820-117C-4771-B408-FAB43EC779A6}" type="datetime1">
              <a:rPr lang="en-US"/>
              <a:t>07/28/26</a:t>
            </a:fld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ze i devizni tečaj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71-7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promene deviznog tečaja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ograničenja u deviznom poslovanju u istom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ovde je veoma bitna stalna informisa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CD4-60DF-43E1-AB79-1A3B56557725}" type="slidenum">
              <a:t>2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8A0E0-7FF9-40E6-A8A9-7E9A8618EA99}" type="datetime1">
              <a:rPr lang="en-US"/>
              <a:t>07/28/26</a:t>
            </a:fld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7D52-786C-4B94-9C93-22FBF5E409DF}" type="slidenum">
              <a:t>2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BD995-A1C9-4571-B39E-5A6A3675C2E5}" type="datetime1">
              <a:rPr lang="en-US"/>
              <a:t>07/28/26</a:t>
            </a:fld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267-826A-4564-9695-F7C82339BB94}" type="slidenum">
              <a:t>2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797B8-FA19-4931-8506-F4AE335D2130}" type="datetime1">
              <a:rPr lang="en-US"/>
              <a:t>07/28/26</a:t>
            </a:fld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1A19-3AEB-4FBB-B87F-EB06FB14487F}" type="slidenum">
              <a:t>2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0EAEC-FD30-4F8F-975D-D80182056BCF}" type="datetime1">
              <a:rPr lang="en-US"/>
              <a:t>07/28/26</a:t>
            </a:fld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utiče na dalji razvoj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zuje želje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voj fazi se ostvari 85%-90% mogućih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sa stanovišta izvođača može početi i tokom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trajati i tokom izvođenja rado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227-3767-4B53-8A80-6B92C4F1377D}" type="slidenum">
              <a:t>2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0A8F7-7462-4007-B1FC-2E39A2C4BC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š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dgovornosti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tehničkih uslova i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3C6-D23B-45A1-9624-50520A2F3992}" type="slidenum">
              <a:t>2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15138-5D36-48C0-8FCA-A41E48EC4B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jerarhija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5456160" cy="49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122-579B-4169-9323-B06EF79CAC43}" type="slidenum">
              <a:t>20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1100E-1EBA-4C3E-B5C5-B0F64449F8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tup u zavisnosti od značaja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idej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čujuć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FCB-2A6D-4AC1-86DD-4CB668E51510}" type="slidenum">
              <a:t>2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B360B-0F4F-4565-B742-0DFDA1EF4F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nvesti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604-5C56-43C7-ADEC-38EEB6C50F4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AAE96-A138-4662-A95E-DFB40AEA6A26}" type="datetime1">
              <a:rPr lang="en-US"/>
              <a:t>07/28/26</a:t>
            </a:fld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82912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glav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donekl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se definisati tokom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D873-CC2E-4474-A5CE-D415CAE64171}" type="slidenum">
              <a:t>2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2C8A6-6E27-4C31-AD8D-C40785DE2A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a pripr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ško usaglašavanje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tehnološ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anje mogućih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032E-5C07-4BD9-87CE-6F336E3221B5}" type="slidenum">
              <a:t>2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1C935-8BF8-4861-8956-B565506433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potrebnih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na poznavan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glašavanje svih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a načina upravljanja, kontrole i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2E5-BFBE-43C6-8D05-33FCEE83BA7A}" type="slidenum">
              <a:t>2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5FDA5-480A-47E0-B931-68E51C946A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klapanje u okruže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se grade samo na osnovu klasič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at mora da se uklopi u šire okruž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ju se obezbediti uslovi i saglasnosti koje daje administracija, odnosno v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dobijanja uslova i saglasnosti je obično značajno složenija i dugotrajnija od samog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861-7D84-41FD-BEE0-28AFD2233D23}" type="slidenum">
              <a:t>2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EE363-E79C-4753-A2E3-1527339A2C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cija, u načelu, ne daje uslove i saglasnosti na osnovu svoje slobodne vo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i na osnovu kojih administracija izdaje uslove i saglasnosti zovu 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nski doku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i dokumenti definišu prostorni raspored, vrstu i sadržaje objekata koji se mogu g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7D9-4846-4AD1-BA4C-15E93EEE9029}" type="slidenum">
              <a:t>2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8E868-358F-45D4-A6DF-2EBCF85EFC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14440" y="60912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trebne karakterstike planske dokumen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14440" y="259056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uhvata prostorne i ekonomske kriterij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klađ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predmetu, prostoru i vremenskom perio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isanost, usklađivanje razvoja i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ivanje obavez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izrade i sprovođenja p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5EE-FE12-423F-BE51-78E22FC34615}" type="slidenum">
              <a:t>2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FFE4B-5BD7-428C-915D-4BE931597A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u Republici, regionu, gradu i opšt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eštaj stanovniš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eža nase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obraćajna i tehnička infrastru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e za stimulisanje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463-E594-46D6-BDCB-5738E7B86FAC}" type="slidenum">
              <a:t>2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456C1-635B-4D50-8C10-2628EF19C9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i prostorni planovi područja sa posebnom na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 naseljenih mesta, gde ne postoje urbanistički planovi, rade se detaljni prostorni pla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tornim planovima planira se razvoj u narednih 20 god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1A5-F0C9-4AB9-BABA-0E34AD87FA05}" type="slidenum">
              <a:t>2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4D1B5-14A2-4110-B83A-22C5F26BAE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pri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ku donosi skupština nadležnog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uje se program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uje se komisija za praćenje i usklađ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dokumentacije i an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i analiza planova, karata i slič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ao obavlja obrađivač, posebna stručna firma koja je angažovana za ovaj pos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0AF-3C2A-4E16-8D43-B489E1D964E9}" type="slidenum">
              <a:t>2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18FFA-198D-4E6E-8204-CD9F021B89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org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uređenja pro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jivanje i analiza varij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 se izvršnom organu skupš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javne rasp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odluke o izradi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atranje primedbi i pred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ošenje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7E3-AFA2-4E2A-8F17-8BE97ECF3B67}" type="slidenum">
              <a:t>2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63E98-927E-41E0-A32F-4CA0E5EC79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4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po W. Hughes-u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25146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prihvatanja realizacije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ception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studije opravdanosti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easibility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ih reše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e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og i glavnog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tail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govaran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ract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rad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jem objekta i puštanje u ra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ission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0134-ACA3-4C92-8C06-5A1FD8C0706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38E67-C9D3-419A-899B-88B44A1AA8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predloga i donošenja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šljenje viših organa vl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osi ga skup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avljuje se u službenom glas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75C-E3D1-4DD5-9ADF-F5EAF5EDC3DF}" type="slidenum">
              <a:t>2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3AA26-6D9C-4EF3-AC87-D8453DF551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banističk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za područje naseljenog m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đuje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ava rešenja iz prostornog plana konkret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a os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80B-F9F3-4F70-A5CE-F414497A98BE}" type="slidenum">
              <a:t>2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6A5B4-85B6-4623-AA23-258D4C0CEC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na sličan način kao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jemu se navodi na koje se vreme don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 se deli 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gramskog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storne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DAA9-A2F5-4784-8788-CDCB1DED5813}" type="slidenum">
              <a:t>2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08994-8C04-4AA5-8584-C7F5862D66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strukturne objekte sa priključcima na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koncepciju stambene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ozelenj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štitu prirodnih vrednosti i kulturnih dob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CFBA-B0AB-43D5-83DE-561DCC39FBFF}" type="slidenum">
              <a:t>2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B964C-B82B-4073-ABC8-885E497DF9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faza urbanističkog plan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da GUP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retizuje GUP u vezi namene provršina i položaja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za manje celine - mesne zajednice, nekoliko blokova 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da previše detal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slično kao G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6551-60B7-4B38-9080-BF1380BD4AAF}" type="slidenum">
              <a:t>2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EB59A-B7EE-49CE-BEB4-118F1EE294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stualni deo DUP-a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 deo gde se nav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vni osnov i povod za izradu i donošenje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lj iz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 javne rasp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e za uređenje prostora sa smernicama za privođenje prostora na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CB4-F3A2-4595-A6D5-8239D66FB407}" type="slidenum">
              <a:t>2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DDCAC-A057-4618-ACEA-6E52E40BA4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i deo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cione plan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kte koji se zadržavaju i ruš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ciona i nivelacio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jna rešenja za infrastrukturu i uređenje slobodnih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tske elemente za obele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parcel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EFE5-CD1C-4997-9601-0730F34E55A7}" type="slidenum">
              <a:t>2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04A5E-F893-4598-B997-D6DE7B0E02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 za izradu tehnič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tke o lok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o-tehničk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ožaj regulacione i građevi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ane karakteristik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E9A-2CF3-4357-B968-EE8578423408}" type="slidenum">
              <a:t>2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FDDC1-4327-4317-9B51-038BFE5DAE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na osnovu DUP-a ili na osnovu privremen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e saglasnosti komunalnih služ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ga organ uprave nadležan za poslove urbani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je slična proceduri donošenja ostalih planskih dokumen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CDC9-09CF-4B26-B0D0-A56870876903}" type="slidenum">
              <a:t>2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2C5E0-5919-432D-8DF4-AAE8549DB5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eđenje zemlj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funkcionišu bez prateće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troškova izgradnje objekta moraju se uračunati i troškovi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izgradnju na području Beograda plaća se opremanje zemljišta Gradskoj direkciji za puteve i zemlj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und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3EA2-4402-4C99-8E5A-E72359653E52}" type="slidenum">
              <a:t>2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CFF1F-FF3A-4001-B646-3DDF52E733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 real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i proširenje baze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7E85-D990-411B-956D-168B05A539D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CFE74-39CD-4E23-AC99-F4FF6ED7DE39}" type="datetime1">
              <a:rPr lang="en-US"/>
              <a:t>07/28/26</a:t>
            </a:fld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at tehnologije i organizacija grad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za sagledavanje stvar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68B-7E99-42E8-B513-AC102C39DA49}" type="slidenum">
              <a:t>2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B2D9F-D12C-4ECC-8A26-A58936B8F0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o gra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detske, ge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rološke i meteor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snabde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eksperata i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6C6-FB78-4F92-BED7-FBD0FC393596}" type="slidenum">
              <a:t>2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80E5D-8401-4B1F-B90F-002A834FA8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opis sa tehničkim uslovima za 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račun fonda radnog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cena materijala “franko gradiliš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iri i uži izbor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montaž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čki planovi potreba za resur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60D-518D-42E0-9F6A-2E13BE2957B8}" type="slidenum">
              <a:t>2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9D498-C3F7-427C-99C0-469F26CE7E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enje informacionog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organizacije gradil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predhodnih i priprem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 zaštite na ra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7A7-4FC6-4E77-9BFB-CBC73A4ED75D}" type="slidenum">
              <a:t>2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2C953-D612-4C2E-8675-0C69C781E0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EFC-4DD7-4CF8-8372-D436597DBCEA}" type="slidenum">
              <a:t>2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E4C0F-5578-4376-98CD-F59BEB7E2EDF}" type="datetime1">
              <a:rPr lang="en-US"/>
              <a:t>07/28/26</a:t>
            </a:fld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đenje radova na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FCE-61BA-41DF-A368-AF6AA753111E}" type="slidenum">
              <a:t>2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2FE1A-C429-4218-A77D-25651D0CB9C4}" type="datetime1">
              <a:rPr lang="en-US"/>
              <a:t>07/28/26</a:t>
            </a:fld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508D-5F70-4FBD-AE97-466B9A9A32C3}" type="slidenum">
              <a:t>2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692FF-0043-4DEA-A412-FC34BFC2C014}" type="datetime1">
              <a:rPr lang="en-US"/>
              <a:t>07/28/26</a:t>
            </a:fld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ktična realizacija idealizovanog modela koji je do tada razrađ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tovo uvek model se mora prilagođavati realnos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8A9-F471-4C0B-A69E-AE3FF937A37F}" type="slidenum">
              <a:t>2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E5A20-40AB-4D32-A841-769CC680D8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gradnja uz razradu tehničko-tehnoloških i organizacionih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rcijalne aktivnosti vezane za obezbeđenje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sopstvenih ugovornih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ugovornih obavez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35B-E207-4AB4-803B-F941832766B6}" type="slidenum">
              <a:t>2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42A1D-DBB1-4459-BE69-35744DCA38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a pitanja na koja moramo odgovara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i je obim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e saradnike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o vremena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i su troškovi ovog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kav kvalitet moramo da ostvari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0B4B-7B07-4F23-92CB-0043A82D6791}" type="slidenum">
              <a:t>2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1375C0-05CB-48A4-B6EE-D4AC61F1DB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smo naučil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ški pro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6CE-BEC0-44AC-8B50-63E48A405CC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C0190-CAF6-4E2C-8A86-C9B216267FF0}" type="datetime1">
              <a:rPr lang="en-US"/>
              <a:t>07/28/26</a:t>
            </a:fld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na navedena pitanja se mogu unapred zn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se menjaju vremenom zbog razvoja situ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dovoljno odgovoriti na ova pitanja samo u jednom trenut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i se moraju pribavljati i korigovati tokom celog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906-05E3-420A-9232-16D39134B539}" type="slidenum">
              <a:t>2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DD081-0B21-438B-A979-932437FF0A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(plan) budućih događ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o st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akcije za smanjenje odstup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C49A-751D-422D-BE67-8ED71FFD9041}" type="slidenum">
              <a:t>2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AE164-0445-4180-96A7-C6717CCC9C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 je obavezan uslov za  kontrolu realizacije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e osobine informacionog sistema za kontrolu realizacije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opljen u IS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obijanja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procene efekata odl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istribucije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je potrebna, ali ne apsolutna tačno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DD51-E813-4178-9256-57192C6F5548}" type="slidenum">
              <a:t>2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AF610-6A12-4E95-9731-A6F500F6A0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odvija na osnovu procena obima radova, procene praktičnog učinka i sagledavanj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prikazuje u mreženom pl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tačnih pla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ovi se stalno ispravljaju i prilagođavaju stvar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322B-A0E7-495F-A6D9-368DC396BC7B}" type="slidenum">
              <a:t>2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6433D-2ED3-42A0-8E7F-FDB205DEE4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stoji efikasan način da se automatski stigne od predmera do mrežnog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automatizovati samo veoma jednostavne pro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oželjno uspostaviti vezu između predmera i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mora kvalitetno ostva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ne mora biti potpuno t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2C9-0019-4116-9837-29431A8889BA}" type="slidenum">
              <a:t>2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9D6A8-BD00-4527-B3F3-8F954D9074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kvalitetni programi za mrežno 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se može realizovati brzo, efikasno i pregl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dobiti odgovori na pitanja “Šta - ak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2B05-E369-4AB1-A5DE-B30156A7C842}" type="slidenum">
              <a:t>2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DD41E-6AEB-4F5C-BB91-089D9D392E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, možda najvažnije merilo uspeh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započeti sa kontrolom troškova što ran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troškove se najbolje utiče na samom početku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samom početku rada na projektu najslabije poznajemo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B37-C07C-4FCD-AD99-64AB6A57D0F9}" type="slidenum">
              <a:t>2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36593-A5FC-4B8B-B5C6-A21820A983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ranih studija na troškov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čine 2% vred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mogu da pruže 50% doprinosa profitabil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 definiše troškove s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šću ± 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projektne dokumentacije je ostvareno 85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CE9A-6C1D-4FFE-B016-1A331C992345}" type="slidenum">
              <a:t>2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F0A6D-10FF-463D-A718-4B908FC0F0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raćenje vremena realizacije projekta može da značajno poveć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ženje vremena realizacije projekta može takođe da značajno podign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izabrati optimalno trajan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je primena kvalitetnih programa za planiranje tokom kontr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123A-1FF3-467E-9304-B5B2DDAA9A9F}" type="slidenum">
              <a:t>2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4F7BE-ED1E-41DC-A8D7-F1EAD9B0B4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 na bazi utroška resur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razrađen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paralelna 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ostvariti detaljnu kontrol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ost modela se mora pažljivo odrediti, da ne bi postao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9C3-99CC-40E6-94DA-2AD57FBB6A46}" type="slidenum">
              <a:t>2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47738-7C63-4EBB-BBAD-73D5C8844F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ćemo raditi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živanje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a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rojektne dokumentacije i pri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vođe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istorijsk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0CB-A14A-48AB-91CF-8A4A45A5A44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F5FF8-5420-43CB-A38B-F41D557B094D}" type="datetime1">
              <a:rPr lang="en-US"/>
              <a:t>07/28/26</a:t>
            </a:fld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ih i realizovanih troškova po aktiv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efikasnog plana ne postoji direktna veza između aktivnosti i pozic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baviti kreativno povezivanje ta dva sk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ECFD-71DA-44DD-AE39-D46D1FEBB293}" type="slidenum">
              <a:t>2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5F014-68C9-4549-BCE5-1A27EAF2FF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proceniti očekivane troškove pojedinih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i konkretan trošak treba pridruživati konkretnoj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rocene i stvarnog iznosa je osnova za kontro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69F-2A5F-4D2E-B436-490792A507DD}" type="slidenum">
              <a:t>2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775F2-5535-471D-BB22-1A94AF50C5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nostavniji i manje kvalitetan način je poređenje procenjenog troška pozicije radova i realizova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daje pregled u vre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presporo za efikasno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se sprovodi kroz čisto knjigovod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poboljšanje kroz primenu troškovno značajnih stav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4A9A-EE81-49D5-8F1E-109734733954}" type="slidenum">
              <a:t>2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F54AF-28DD-4237-8538-A035C8486A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oka novca (cash flow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toka nov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od životnog značaja za izvođača, pogotovu u naš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jedini način realne kontrole troškova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E92-2613-4A65-9A3A-50BBFE62DA4B}" type="slidenum">
              <a:t>2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9DC9A-6915-485B-99BA-6CF9801001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a za razrešavanje sporov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bazirati na strategiji firme prema projektu i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voditi precizno i paž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stavlja deo ugovor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se vodi preko građevinske knjige i dnev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367-0B80-49F4-A552-96EB99F6B5CC}" type="slidenum">
              <a:t>2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84C02-F1BB-4DAF-B526-D078E078F1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se vodi preko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u dugotrajnim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je deo IS koji će se baviti ovom prepisk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postoji klasifikacija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BBE-2BFE-4E4D-84AC-14C6808A44FD}" type="slidenum">
              <a:t>2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1A541-2AC8-4E9C-93DC-9E54758CC8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asifikacija dopi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tehnologij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ro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o radovim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na licu me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te 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log za izmenu pozici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riation 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emna li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quest for approval of wor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evni izveštaj o izvođenju radov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ily re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083-DB14-4A52-B135-EA281AEAF88B}" type="slidenum">
              <a:t>2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D78AC-F06A-42DD-9B34-4052BBF3AF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i prateća doku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(računajući i situacije, planove i 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isnici sa sastan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i raznovr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je tokom celog toka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 efikasnog korišćenja dokumentacije može da zavisi veoma mn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456E-694A-4A83-9FC8-BDC992B0FE59}" type="slidenum">
              <a:t>2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F4FBC-8768-4E8C-8FF4-978554A3E4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čni metod arhiviranja je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o je praktično nemoguće dobiti prav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rganizovati sistem unošenja, analiziranja i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bitan interaktivan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neophodno unositi u računar cele doku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7852-DF6D-46CE-A56C-553F64D20BEB}" type="slidenum">
              <a:t>2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C6606-369F-4A1C-B7A8-D5D8622019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carinskim i komercijalnim poslov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da u neinženjerske poslove, po klasič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ro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zoravanje kori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8827-572C-4F3A-98C1-FFF56444A139}" type="slidenum">
              <a:t>2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AF8F2-6AA8-4D78-A01B-FA2D4EE666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DA84-6EA4-4EDD-9583-ABC1BFAE020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F9E37-61B0-401B-B9C8-EC0EC93C4BAF}" type="datetime1">
              <a:rPr lang="en-US"/>
              <a:t>07/28/26</a:t>
            </a:fld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666-D34F-48AB-ABA7-B538E666C778}" type="slidenum">
              <a:t>2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10813-059F-4DAF-ABAF-C6F184850A30}" type="datetime1">
              <a:rPr lang="en-US"/>
              <a:t>07/28/26</a:t>
            </a:fld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BEDA-E913-4DAD-9B22-311C6E158A15}" type="slidenum">
              <a:t>2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CDB1A-DA48-4924-B450-065B7619C908}" type="datetime1">
              <a:rPr lang="en-US"/>
              <a:t>07/28/26</a:t>
            </a:fld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3F2-FE1B-46AB-8D24-DDEAFD88C3E0}" type="slidenum">
              <a:t>2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977C8-D042-47A7-830B-55FD55B8528A}" type="datetime1">
              <a:rPr lang="en-US"/>
              <a:t>07/28/26</a:t>
            </a:fld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14440" y="5000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14440" y="1981080"/>
            <a:ext cx="5829120" cy="739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vija se tokom celog projek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vanje izvršenog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varni cilj svako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i uslov je dokumentacija a ne izvrš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podležu nacionalnim zako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zasnivati na internacional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E6C-2DAC-4A51-90D6-02585B6A0B01}" type="slidenum">
              <a:t>2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0E1DB-9761-4B8A-81F8-20C9EA147D5D}" type="datetime1">
              <a:rPr lang="en-US"/>
              <a:t>07/28/26</a:t>
            </a:fld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 L Times"/>
              </a:rPr>
              <a:t>FID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, dopune i ispušt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itivanj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i u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po tuđim specifikac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oć drugim izvođač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tokom garantnog r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FD3-549E-4BD8-A2C9-FCD672364A5B}" type="slidenum">
              <a:t>2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8DA28-1EE5-4BB3-9695-AB937DDD96CC}" type="datetime1">
              <a:rPr lang="en-US"/>
              <a:t>07/28/26</a:t>
            </a:fld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e cene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binovani mode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merenja prema FIDIC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hodno oba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tražen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rezult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dbe u roku od 14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5AD-F88C-46DC-A77D-2B126A11BBFF}" type="slidenum">
              <a:t>2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88833-911F-4436-8894-14F58D45E4E1}" type="datetime1">
              <a:rPr lang="en-US"/>
              <a:t>07/28/26</a:t>
            </a:fld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pismeni nalog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je obavestiti inženjera u roku od 14 dana o zahtevu za dodatnu naplatu (količine ili ce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ukupna izmena pređe 15%, moguća je naplata i ako nalog ne posto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76E-A029-4D44-BA30-154C7DDE66A1}" type="slidenum">
              <a:t>2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38881-3A71-423D-B4C3-7DF22DD2D001}" type="datetime1">
              <a:rPr lang="en-US"/>
              <a:t>07/28/26</a:t>
            </a:fld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ranje radova za koje se u trenutku sklapanja nije znalo da li će biti izved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e se na osnovu odobrenja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u se dostavljaju ponude, računi, fakture i s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C20-A1F9-4176-9E20-017D91131341}" type="slidenum">
              <a:t>2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983F3-790D-4548-A578-5F4FBEA179BC}" type="datetime1">
              <a:rPr lang="en-US"/>
              <a:t>07/28/26</a:t>
            </a:fld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kvalit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čna procedura kao za mer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eno odredbam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čestanost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redviđeno u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plata od strane "krivca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EB5-3AE6-409B-861A-C527FBA86D79}" type="slidenum">
              <a:t>2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70ADB-0267-42AB-80ED-2525D4B2A2FB}" type="datetime1">
              <a:rPr lang="en-US"/>
              <a:t>07/28/26</a:t>
            </a:fld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je tuđih specifik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je ugovoreno na osnovu specifikacija koje nije uradio, izvođač može da naplati prekoračenje količ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i i ako su specifikacije bile poznate u toku sklap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ADE-0FB7-4383-A9DC-75E80D543D60}" type="slidenum">
              <a:t>2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060B6-F1AB-41E2-B131-B09E4673089C}" type="datetime1">
              <a:rPr lang="en-US"/>
              <a:t>07/28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formiranja koncep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3200400"/>
          <a:ext cx="600048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0400"/>
                    <a:ext cx="600048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08DC-092E-4D40-BCCF-298A5BC49A08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768AE-4E4C-40C0-B988-8457BA1C4053}" type="datetime1">
              <a:rPr lang="en-US"/>
              <a:t>07/28/26</a:t>
            </a:fld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drugim izvođači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n je pismeni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je poželjno da su uneti u spec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štećenja javnih puteva nastala i pored brig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923-1B24-4E39-9653-F2BC652F12BC}" type="slidenum">
              <a:t>2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D6DB9-67B1-48E7-9CDD-517154F8C6C2}" type="datetime1">
              <a:rPr lang="en-US"/>
              <a:t>07/28/26</a:t>
            </a:fld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ni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zvršava naloge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utvđuje odgovornost i naplata, na osnovu ov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može preuzeti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izvedene radove i naknadu za ostavljeno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C4A-8FA6-4EA7-86C1-AE93D75CADCD}" type="slidenum">
              <a:t>2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6D5EA-07EA-43F0-A175-7A50FB5C8DB4}" type="datetime1">
              <a:rPr lang="en-US"/>
              <a:t>07/28/26</a:t>
            </a:fld>
          </a:p>
        </p:txBody>
      </p:sp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 i oružani suko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zdavanje sertifi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č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DAA-ED9B-4AF1-BD9D-7C1BA5B6E777}" type="slidenum">
              <a:t>2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3CF1D-97F5-4E8B-B37E-101A1F7B85E6}" type="datetime1">
              <a:rPr lang="en-US"/>
              <a:t>07/28/26</a:t>
            </a:fld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14440" y="1295280"/>
            <a:ext cx="5829120" cy="792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sertifik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i odobrav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na izvrše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o preuzimanju aktivnosti tokom garantnog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za otklanjanje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jska porav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po završe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rt konačne izj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a iz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i sertifi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E61-40BA-49AB-B8B5-5C898B126024}" type="slidenum">
              <a:t>2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E6469-5853-41E1-B2F1-16FFFDD6E888}" type="datetime1">
              <a:rPr lang="en-US"/>
              <a:t>07/28/26</a:t>
            </a:fld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klauz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ovi nominovanih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e, materijali i standa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C144-B531-4986-9B12-81145DAA290D}" type="slidenum">
              <a:t>2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40466-201E-48C5-9121-C899C571B22F}" type="datetime1">
              <a:rPr lang="en-US"/>
              <a:t>07/28/26</a:t>
            </a:fld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14440" y="2819160"/>
            <a:ext cx="582912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podataka dobijenih od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prostora za gradilište i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ovo neispunjavanje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nac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 pri obeleža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AC9D-0DD9-4998-8015-4B794DE935BD}" type="slidenum">
              <a:t>2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DBAE4-31BA-4806-952E-26B5CE02416C}" type="datetime1">
              <a:rPr lang="en-US"/>
              <a:t>07/28/26</a:t>
            </a:fld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3776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 van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nih tereta van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0D9-47D1-4718-B07C-C2CBC0D063D4}" type="slidenum">
              <a:t>2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878FA-A6FC-494F-B0B0-D57E3DC9DE6B}" type="datetime1">
              <a:rPr lang="en-US"/>
              <a:t>07/28/26</a:t>
            </a:fld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tupak pokretanja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ena najava inženjeru u roku od 28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ob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zahtev za plaćanje u bilo kojoj meseč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obravanje od strane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CDCE-DBCA-4B0E-B77B-7E7BC23B76D5}" type="slidenum">
              <a:t>2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FF2BF-6D75-4F28-994F-303D798BF641}" type="datetime1">
              <a:rPr lang="en-US"/>
              <a:t>07/28/26</a:t>
            </a:fld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om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bitraž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zni vremenski 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avljeno dovoljno vremena za odlučivanje o arbitra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44DC-1E79-4913-9913-C734E311B0C3}" type="slidenum">
              <a:t>2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29429-6C69-43A8-8C46-9C8A1B59CE5F}" type="datetime1">
              <a:rPr lang="en-US"/>
              <a:t>07/28/26</a:t>
            </a:fld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C8A-C116-489C-894F-A98582A99AAB}" type="slidenum">
              <a:t>2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12258-8CA1-4441-BD91-C677F58E8385}" type="datetime1">
              <a:rPr lang="en-US"/>
              <a:t>07/28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koncepcije - faza "juriša"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Želj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radi racionalnog sagledavanja že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jn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materijalizuje žel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 pomažu investitoru da donosi odl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59C-EA79-4516-AB0E-C4BCBB5E798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E38D9-5705-4CFD-BAC9-97F7261A3369}" type="datetime1">
              <a:rPr lang="en-US"/>
              <a:t>07/28/26</a:t>
            </a:fld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3CB-E2A5-4258-B57B-DCF32BA0BB78}" type="slidenum">
              <a:t>2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6AC7E-9096-4720-A44D-784FDFD69018}" type="datetime1">
              <a:rPr lang="en-US"/>
              <a:t>07/28/26</a:t>
            </a:fld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296-D2A9-45A7-8EC8-773530A9F57E}" type="slidenum">
              <a:t>2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DDA7D-F210-4222-AEE4-E34649493821}" type="datetime1">
              <a:rPr lang="en-US"/>
              <a:t>07/28/26</a:t>
            </a:fld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jedno sa istraživanjem tržišta odvija se nezavisno od konkret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izvor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 najvredniju imovinu firme - zn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njuje zavisnost firme od pojedin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BA2C-7FF3-40F7-83EE-740B71A702D1}" type="slidenum">
              <a:t>2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5896B-D607-4216-B997-31F70E31D309}" type="datetime1">
              <a:rPr lang="en-US"/>
              <a:t>07/28/26</a:t>
            </a:fld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zavisne od konkretn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izvor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sistematizacija i sažimanje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04EE-D341-4E52-B884-0954D5408AF1}" type="slidenum">
              <a:t>2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67CD5-7592-44BF-BF14-9B729E8481FC}" type="datetime1">
              <a:rPr lang="en-US"/>
              <a:t>07/28/26</a:t>
            </a:fld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u realizaciji projekata (investitor, izvođač, konsultant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ža oblast delovanja (izgradnja tunela, stanova, mostova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karakteristike firme (organizaciona struktura, veličina, strategi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znanja i iskust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lj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DD0-E590-45E1-8E2A-E22D822C4605}" type="slidenum">
              <a:t>2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137A6-529D-4EE3-8214-39E3AD79EA07}" type="datetime1">
              <a:rPr lang="en-US"/>
              <a:t>07/28/26</a:t>
            </a:fld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sistema i sagledavanje potreba za istorijskim poda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iranje izvo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 i toka informacija 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sadržaja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specifikacije za nabavku hardv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8C0-D74F-4DD3-B9FF-7EAB29E87372}" type="slidenum">
              <a:t>2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27370-1394-4556-884E-0BFC71CD1FC2}" type="datetime1">
              <a:rPr lang="en-US"/>
              <a:t>07/28/26</a:t>
            </a:fld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implementcij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inuirano prikupljanje, selekcija i unoš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baze podataka (pretraživanje, izveštavanje, povezivanje različitih tipova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9FB-764D-432D-AB0F-4D7ACA56E8FD}" type="slidenum">
              <a:t>2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6119B-BCC5-4533-9232-CFA7C1831833}" type="datetime1">
              <a:rPr lang="en-US"/>
              <a:t>07/28/26</a:t>
            </a:fld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investicionim radovima, potpuno ili delimično realizov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i i pred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đevinski dnevnici i knj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uacije o fizičkoj i finansijskoj real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izveštaji o kontroli vremena 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B3EF-F366-4AAF-B192-74507443912D}" type="slidenum">
              <a:t>2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3D84C-6ABB-4267-BD76-CD9D6D6836A1}" type="datetime1">
              <a:rPr lang="en-US"/>
              <a:t>07/28/26</a:t>
            </a:fld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ski i drugi izveštaji o kontrol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e specif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a projektn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ugrađenoj opr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kovani iskustveni norma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a i zapisnici o ključnim tehničkim proble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C43D-D677-40FD-B645-A90560164336}" type="slidenum">
              <a:t>2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75E13-5978-450C-A92A-BF495E4D291B}" type="datetime1">
              <a:rPr lang="en-US"/>
              <a:t>07/28/26</a:t>
            </a:fld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rišćenoj mehan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carinskim i drugim komercijalnim troš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osigu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lokalne radne snage i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radu sklad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BFB-55AE-4946-B9CC-7DA929959C8A}" type="slidenum">
              <a:t>2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11C25-EF8A-463A-B65D-6357284BAE6F}" type="datetime1">
              <a:rPr lang="en-US"/>
              <a:t>07/28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š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3505320"/>
          <a:ext cx="572796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05320"/>
                    <a:ext cx="572796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A118-6414-4811-AFDA-F80658BD3127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A2580-30AF-4FC3-B791-44963AC9261F}" type="datetime1">
              <a:rPr lang="en-US"/>
              <a:t>07/28/26</a:t>
            </a:fld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ska eviden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e zvanične lokalne publ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imljeni materijali o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a zapažanja pojedi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5D6-6521-45B4-9FBE-A5C461E66E16}" type="slidenum">
              <a:t>2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7613C-3E57-4B5D-B560-B7E2490DDFC0}" type="datetime1">
              <a:rPr lang="en-US"/>
              <a:t>07/28/26</a:t>
            </a:fld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stvarno izvedenim količinama i naplaćenim cen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, po jedinici mere, o utrošku radne snage, mehanizacije i materijala, finansijski efekti i vreme izvo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unkcionisanju maš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podaci o izvedenim rad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8E62-7146-49E0-B356-3CED6C8189D7}" type="slidenum">
              <a:t>2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F73EF-27FC-4BA9-83ED-CC01F34E4A1B}" type="datetime1">
              <a:rPr lang="en-US"/>
              <a:t>07/28/26</a:t>
            </a:fld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opremi (podizvođači, cene, vremena isporuke, transport, montaža, probni pogon i garantni 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(učešće i kvalitet ra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investitor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i podaci iz lokalnih publ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bitni za 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301-15AF-4618-A671-CC27F1B0D7EE}" type="slidenum">
              <a:t>2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61DAB-8905-4DF1-A0C1-D999ABFEB941}" type="datetime1">
              <a:rPr lang="en-US"/>
              <a:t>07/28/26</a:t>
            </a:fld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57B5-84DC-419C-B1E6-3272B34A8851}" type="slidenum">
              <a:t>2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39D0E-3343-4DDA-B334-F7CB44145886}" type="datetime1">
              <a:rPr lang="en-US"/>
              <a:t>07/28/26</a:t>
            </a:fld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647-AE70-400A-B809-E48D234E37A1}" type="slidenum">
              <a:t>2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9C66D-7CB0-4D7D-AB5C-7E560BC91D3D}" type="datetime1">
              <a:rPr lang="en-US"/>
              <a:t>07/28/26</a:t>
            </a:fld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5E0-87CE-43E5-B078-2A832E93605C}" type="slidenum">
              <a:t>2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C6875-FF2C-4F9B-B934-95D0F80D5B0C}" type="datetime1">
              <a:rPr lang="en-US"/>
              <a:t>07/28/26</a:t>
            </a:fld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je znatno više od prostog skupa de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ovi sistema su povezani vez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transformišu i razmenjuju res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imaju svoj cil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podeliti na podsiste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155-414A-4379-9A04-A8607AD3515B}" type="slidenum">
              <a:t>2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845A5-C527-4B32-9D23-3FB55159663D}" type="datetime1">
              <a:rPr lang="en-US"/>
              <a:t>07/28/26</a:t>
            </a:fld>
          </a:p>
        </p:txBody>
      </p:sp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u građevinarstvu reaguju na spoljne uticaje (otvoreni siste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ma u građevinarstvu se može upravlj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 se na osnovu resursa "informacij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262-6D59-43DE-8DA0-E6BB60986229}" type="slidenum">
              <a:t>2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16BF8-B8DD-422B-8EC2-71480C240921}" type="datetime1">
              <a:rPr lang="en-US"/>
              <a:t>07/28/26</a:t>
            </a:fld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sistemi za razmenu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bi upravljanje bilo moguće, treba da odgovara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u "činjenice iz kojih možemo da izvučemo zaključk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e su "značenja koji čovek pripisuje podacim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293-DCF7-4977-B94D-C708549BC31B}" type="slidenum">
              <a:t>2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0E0AC-E6C9-4412-B443-8570DDED0998}" type="datetime1">
              <a:rPr lang="en-US"/>
              <a:t>07/28/26</a:t>
            </a:fld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tke je potrebno prikupiti, skladištiti i ob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posle obrade dobijamo informaciju koja je kori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st informacije opada sa vre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a treba da bude tačna, dovoljna i pravo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B74-ABBA-4012-90FA-236EC12B0FA5}" type="slidenum">
              <a:t>2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48CB4-0C61-47F2-86F3-9ADCEA6590DE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šta ćemo vas mi uči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ncipi upravljanja se razlikuju od principa matemat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ema opštih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rešiti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“snaći 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ije dovoljno znati “šta je predava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znanje ima smisla samo ako se kreativno primenjuje u realnim situ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D640-3228-4D91-A458-049B76BEFE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C624B-6D7D-48F9-B75F-2602A5CBF5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"rovovska" borb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eni su suštinski po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te su suštinske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investitora je da kontroliše na bazi predhodnih z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61A-BC1A-436A-AF34-CC791DEFD59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3E3E0-B426-46C6-B8E6-52699D873714}" type="datetime1">
              <a:rPr lang="en-US"/>
              <a:t>07/28/26</a:t>
            </a:fld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u upravljanju projektim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 odgovara interak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i informisanja odgovaraju učesni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govremenost je od suštinskog znač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čunari nisu obavezni ali pomaž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treba da bude slična sam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BC0A-2936-4333-B797-A50276DFF75D}" type="slidenum">
              <a:t>3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D82CB-7EF2-40AF-B1CB-A23A921E6D87}" type="datetime1">
              <a:rPr lang="en-US"/>
              <a:t>07/28/26</a:t>
            </a:fld>
          </a:p>
        </p:txBody>
      </p:sp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S za upravljanje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5797440" cy="28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719-0943-426F-A219-3B39EBCD4FEC}" type="slidenum">
              <a:t>30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7D36C-200A-4840-9DC3-A5557537C95F}" type="datetime1">
              <a:rPr lang="en-US"/>
              <a:t>07/28/26</a:t>
            </a:fld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vivaletan je modelu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čari se ne razumeju u menadž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zumevanje da je potrebna investicija koje će se ispla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ocenjivanje budućih organizacionih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sagledavanje potreba za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odr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5870-D6A7-40A0-8383-9157654E6D6B}" type="slidenum">
              <a:t>3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C4213-74B6-47B0-842B-40FA0E5C13A3}" type="datetime1">
              <a:rPr lang="en-US"/>
              <a:t>07/28/26</a:t>
            </a:fld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budućeg razvoja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kad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log poboljšanja u rukovo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en konkretnom poslovn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budž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A45-AA5E-4602-8FFF-396E919C420B}" type="slidenum">
              <a:t>3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A66FC-7278-48C2-B3A5-BA60C718EDD9}" type="datetime1">
              <a:rPr lang="en-US"/>
              <a:t>07/28/26</a:t>
            </a:fld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e postavk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e podataka su "kolekcije podatak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poslovnu primenu trebaju 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investitorima u rokov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zaposlenima u ličnim dosije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knjigovodstvu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. .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a od navedenih skupova su "tabel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7C5-9A17-478E-8914-9D25B4DBC516}" type="slidenum">
              <a:t>3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2247C-7AF9-4C2E-B1A7-E6CDFC8C8EB4}" type="datetime1">
              <a:rPr lang="en-US"/>
              <a:t>07/28/26</a:t>
            </a:fld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e između tabe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 nisu nezavis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komuniciraju sa pojedinim poslovnim partne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poslovnim partner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D1A-1666-49FE-BB30-567E3453CA15}" type="slidenum">
              <a:t>3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55DD4-364A-475B-A07C-C0C890B60721}" type="datetime1">
              <a:rPr lang="en-US"/>
              <a:t>07/28/26</a:t>
            </a:fld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sno definisan matematičk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avaju smeštaj podataka na jednom me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u 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uje efikasnu pripremu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uje raspodelu prav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09C0-D215-487A-A32A-2DB7196FF2F7}" type="slidenum">
              <a:t>3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64FA7-FAB4-405F-85EA-4220D0084783}" type="datetime1">
              <a:rPr lang="en-US"/>
              <a:t>07/28/26</a:t>
            </a:fld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i 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i (que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ri (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eštaji (Re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i za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nički interfejs (inter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0AD-1A2D-4627-9B6D-BB4BBA275C89}" type="slidenum">
              <a:t>3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2510C-394D-4A7A-B12D-052D386DA1A4}" type="datetime1">
              <a:rPr lang="en-US"/>
              <a:t>07/28/26</a:t>
            </a:fld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tribuiranost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 mogu da budu smeštene na različitim računar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postoje kvalitetne telekomunikacione veze i programi, distribuiranost može biti prozirna (transparent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postojati redundansa (višestruko ponavljanje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univerzalni jezik (SQ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95E-95B4-4F9B-AB60-75D2B02F6590}" type="slidenum">
              <a:t>3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091A6-5002-4491-86A4-BAB145CC4D43}" type="datetime1">
              <a:rPr lang="en-US"/>
              <a:t>07/28/26</a:t>
            </a:fld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i na svim sistemima od velikih do mal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pogodan za velike 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ije ne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oji za Windows NT okr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no 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aničen PC i Windows arhitektu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266-7EA5-493D-AD9A-5B5B1795E078}" type="slidenum">
              <a:t>3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EFEB2-6BBE-4DD9-9C43-424B9AF26E45}" type="datetime1">
              <a:rPr lang="en-US"/>
              <a:t>07/28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činje završetkom garantnog r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ciono dobro se u potpunosti prepušt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na 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om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ika i tehn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spada u upravljanje projektima u užem smis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B69-D3EB-47DA-86E5-CADD78A8B83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B4277F-BDFE-4E1A-9C21-354903ACC346}" type="datetime1">
              <a:rPr lang="en-US"/>
              <a:t>07/28/26</a:t>
            </a:fld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window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 platformom i OS-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ro povezan sa osta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DO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, ali donekle ogranič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ednj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EC3-D0AF-4B34-ACE0-1028A05A09B1}" type="slidenum">
              <a:t>3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E6B57-7E90-4F77-B017-1225872F5795}" type="datetime1">
              <a:rPr lang="en-US"/>
              <a:t>07/28/26</a:t>
            </a:fld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municiranje između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univerzalnog jezika (SQ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tabela u standardnom formatu (d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z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eč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komunikacioni ka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e 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B56-D0CF-4D8B-A5B7-B421771292E8}" type="slidenum">
              <a:t>3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FAD1F-18FC-4539-8EBE-ECF650E7192C}" type="datetime1">
              <a:rPr lang="en-US"/>
              <a:t>07/28/26</a:t>
            </a:fld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ijent-sever koncep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"poslužilac (server)" koji je dovoljno "fizički jak" da opsluži više "mušterija (klijent)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jent postavi zahtev, server obradi podatke i vrati ih ob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iše se koristi baš z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ED8-AE7F-46F8-8376-CC0E9898901A}" type="slidenum">
              <a:t>3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12D75-D229-48F7-8138-A815FFAC21D2}" type="datetime1">
              <a:rPr lang="en-US"/>
              <a:t>07/28/26</a:t>
            </a:fld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j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DAE-0C96-44C5-AD62-5695BD411CC5}" type="slidenum">
              <a:t>3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FB707-E9EB-4E94-81A5-9CD4E64BBAED}" type="datetime1">
              <a:rPr lang="en-US"/>
              <a:t>07/28/26</a:t>
            </a:fld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ljivos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še korisnika (pojedinaca ili programa) deli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unose samo jed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mnogo pu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ograničavanja prava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829-44F6-414B-91C1-39A7ECE05740}" type="slidenum">
              <a:t>3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6A352-DACD-4E6D-8BD4-EB1B5E4B1A49}" type="datetime1">
              <a:rPr lang="en-US"/>
              <a:t>07/28/26</a:t>
            </a:fld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14440" y="2557080"/>
            <a:ext cx="5829120" cy="67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kasan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trenu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željenom me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obl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adišt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i jez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e metode ob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like između korisnika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orjentisani (komand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čunarski orjentisani (interaktiv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836-B1E3-4F68-9085-5EC3EF23C59D}" type="slidenum">
              <a:t>3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155E0-CFA5-47E5-A29E-2B09FD3D76AE}" type="datetime1">
              <a:rPr lang="en-US"/>
              <a:t>07/28/26</a:t>
            </a:fld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niza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daljen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vencijal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niž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CAD-F1B0-45D7-8009-6F5B0CA1071E}" type="slidenum">
              <a:t>3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DF308-CC63-4CA6-9472-EAF1B47A9621}" type="datetime1">
              <a:rPr lang="en-US"/>
              <a:t>07/28/26</a:t>
            </a:fld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viso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izak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tehničkog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ut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viš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12D9-58B1-4FCB-A158-16E77EFB2907}" type="slidenum">
              <a:t>3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BA705-F327-4914-8C30-3A291468E121}" type="datetime1">
              <a:rPr lang="en-US"/>
              <a:t>07/28/26</a:t>
            </a:fld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sobnost menjanja i prilagođa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veze za prošir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ćanje performansi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a format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novih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5BE0-EA35-4BAB-B5B8-8117EB349E2F}" type="slidenum">
              <a:t>3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9B0CA-A66D-43EA-A577-47069780825A}" type="datetime1">
              <a:rPr lang="en-US"/>
              <a:t>07/28/26</a:t>
            </a:fld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grite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judske greš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grešno uneti pod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estruko unoš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zdanost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kazi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organizacioni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9B2-68B6-4217-938E-214D1721E644}" type="slidenum">
              <a:t>3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CF45E-C7F3-46DB-90C9-0795235F866B}" type="datetime1">
              <a:rPr lang="en-US"/>
              <a:t>07/28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duje novac koji želi da invest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ra da bude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učesnik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predmet izučavanja u razvijenim zeml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z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6E2-BF43-458B-9565-5A4792EA593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51F82-96E4-4321-8DE3-74B98255F4AE}" type="datetime1">
              <a:rPr lang="en-US"/>
              <a:t>07/28/26</a:t>
            </a:fld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htevi 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eira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sanje novog izvešt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ti za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i korisnici (česta slab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željno je da i administrator i koris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F48B-1E21-41FB-A959-6C9410D9F3ED}" type="slidenum">
              <a:t>3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7635CE-6CC6-4C1D-9475-C7710E266DBD}" type="datetime1">
              <a:rPr lang="en-US"/>
              <a:t>07/28/26</a:t>
            </a:fld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D4F3-E063-4E6F-AB4E-23ECBB1E0DDF}" type="slidenum">
              <a:t>3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127E9-1AD1-4E53-BD5D-CE60762F7C9E}" type="datetime1">
              <a:rPr lang="en-US"/>
              <a:t>07/28/26</a:t>
            </a:fld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traživanje Inter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FDDC-22A7-47D9-8743-2E0FB9C98B07}" type="slidenum">
              <a:t>3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CA4BD-74B0-452E-8A2D-2F9A64A51D72}" type="datetime1">
              <a:rPr lang="en-US"/>
              <a:t>07/28/26</a:t>
            </a:fld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vet u kome živimo je baziran na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iše od 95% istraživača koji su ikada živeli još su ž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je verovatno da neko, negde ima informacije koje nas zanim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često, najbolje i najefikasnije je da prikupimo i organizujemo postojeće informacije na drugi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C3BF-86D0-4DE0-8379-9234B62FF6FE}" type="slidenum">
              <a:t>3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D7AA5-E41E-4BB0-AA9F-88C781EDA8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Razmen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 sada, stručnjaci su provodili najveći deo svog vremena u potrazi za postojećim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bolja pomoć svakom stručnjaku je mišljenje nekog kolege, koji se negde u svetu bavim sličnim pos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mena podataka i komunikacija između stručnjaka je osnova stručnog i naučnog napret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C20-D96E-4E72-A9B5-FC52759D2710}" type="slidenum">
              <a:t>3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A99CA-5183-4406-B3CB-26B8BDD776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re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biblioteke bile najvažnije institucije za prikupljanje znanja koje su stručnjaci korist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iblioteke su bile među prvim institucijama koje su počele da primenjuju informacion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važnijih prodora je bilo pretraživanje bibliotečkih kataloga na daljinu, obično uz pomoć mod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B89-C7E3-45EB-BAD3-F3D94CDDE89A}" type="slidenum">
              <a:t>3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5AE3F-4746-458F-8A2D-586D52100E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očeci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ternet je nastao kao istraživački projekat koje je finansiralo USA ministarstvo od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lavni cilj je bio da se obezbedi da različiti računari rade zaj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aj cilj je postignut tako što je obezbeđen način za komunikaciju između račun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F70-9EB6-4D2A-85E5-8158157E2DDB}" type="slidenum">
              <a:t>3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8A068-1F11-43DD-95BB-8A7D665699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irenje Intere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straživači koji su radili na računarim koji su međusobno komunicirali otkrili su da je to veoma kori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 prvi put, računari su postali sredstvo za komunikac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 akademskim sredinama elektronska pošta (E-mail) i razmena fajlova (FTP) su počeli da se koriste kao najbolji način za komunic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E8D-F95B-4A7E-945C-C430957D94E0}" type="slidenum">
              <a:t>3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D4AC6-B0B3-4C9D-9FDD-99F7BA40EB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i WEB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WWW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ide Web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 je kao standard definisan 1989. u CERN-u, Švajcar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ostavio svoju web prezentaciju 199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roglas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kao svoj glavni priorit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995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, komunikacija u poslovnom i akademskom okruženju je velikim delom bazirana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C3E-B843-4FB1-BE06-03804C2745DB}" type="slidenum">
              <a:t>3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BC6CD-EC12-4D6E-99FB-1E538D2EB2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</a:rPr>
              <a:t>Podaci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14440" y="2285640"/>
            <a:ext cx="47433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br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veća svetska kolekcija svih vrsta podatak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ja 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oš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najveća svetska kolekcija svih vrsta podataka, koj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D414-46E0-4298-B470-735550D6A6FF}" type="slidenum">
              <a:t>3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07E4C-9664-4C65-BE93-3E851F2F03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240-1DA4-4D3E-8231-C1779A30C7D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83A6D-69FF-48F7-95CE-9E713221183D}" type="datetime1">
              <a:rPr lang="en-US"/>
              <a:t>07/28/26</a:t>
            </a:fld>
          </a:p>
        </p:txBody>
      </p:sp>
    </p:spTree>
  </p:cSld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4022640" y="6858000"/>
            <a:ext cx="2835360" cy="304812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leda ka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omna biblioteka, u koju gotovo svako donosi gotovo s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otovo svi podaci su tu, ali niko ne može da nađe ništa, zato što biblioteka nije uređena, odnosno nema kata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ožemo naći neke podatke samo ako znamo gde su ih naši prijatelji ostav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EA7-C53B-4D27-B70A-84716FFB1422}" type="slidenum">
              <a:t>3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6DC1C-F13C-4F59-BD79-A5285064AA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Al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kompanije su formirale sisteme za pretraživanje i katalogiziranje WEB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zultati se takođe objavljuju na WEB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akav tip servisa, ako je dobar, može privući mnogo poset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klame koje posetioci vide i njihovi lični podaci mogu da ceo posao učine profitabiln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D76-0320-4D69-96CE-534CFFBF9E9F}" type="slidenum">
              <a:t>3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022DB-ACE9-4085-8CE5-1F44276816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Tipovi kata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granata struktu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ma predmetu interesovanja, lokaciji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aza podataka sa pretraživanjem ključnih reči i celog tek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pecijalizovani katalozi koji sadrže važne adrese (URL) u nekoj oblasti (građevinske mašine, univerziteti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869D-5BD3-4339-8751-9F33A9437B9E}" type="slidenum">
              <a:t>3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625BC-9FB3-42B9-B25A-F69A062B5B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Katalog u obliku razgranat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ako vam treb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organiza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o poznatog proizvođač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davnice, akademske institu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dobar ako vam trebaju podaci o nekom posebnom pitanju ili iz nepoznatog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yahoo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802-9963-4901-93B2-F0165AF0527B}" type="slidenum">
              <a:t>3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72EF6-EF0E-4FC5-9140-6D47924D2C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AHOO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152280" y="2527200"/>
            <a:ext cx="6553440" cy="605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566-9862-4E28-995C-201A4CC30E5D}" type="slidenum">
              <a:t>3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BDB71-F096-4C89-8224-FB95D7CED1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e ako vam trebaju informacije čiji izvor ne znate ili podaci o veoma specifičnoj tem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efikasni ako vam trebaj adresa poznate kompanije ili institu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zahtevaju korišćenje složenog jezika za postavljanje upita, koji mora da se posebno u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taV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ltaVist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DBA-9FEA-4C50-963C-DB4E92A76211}" type="slidenum">
              <a:t>3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61BB2-B392-4FAA-AD90-AE48F0C873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taV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171360" y="1847880"/>
            <a:ext cx="6534360" cy="64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864E-F8A1-4E99-9F6F-F07CD39BCAB4}" type="slidenum">
              <a:t>3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69168-E11A-4449-8E1D-E03B476C87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Specijalizovani kataloz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izvor podataka o važnim URL-ovima u nekoj posebnoj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graničeni svojom posebnom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eoma dobar specijalizovani katalog za građevinsku mehanizaciju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toy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19E-D953-4EE6-9CBD-8367B26B33FE}" type="slidenum">
              <a:t>3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DE370-89F6-4487-BFC9-7465619FF8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82440" y="2647800"/>
            <a:ext cx="6623280" cy="46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76C-8307-4A78-9FFB-A6D042863A43}" type="slidenum">
              <a:t>3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0CE49-43BF-4A68-A59E-807BDD83E3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reni pretraživač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aktično sve lokacije imaju neku vrstu internog pretraživ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ebno su značajni kod kataloga u obliku razgranate strukture i specijalizovanih kata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lakši za upotrebu ali i sa manje mogućnosti od pretraživača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5072-A21D-409E-9A67-36CE5247CD70}" type="slidenum">
              <a:t>3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47BAA-E16E-4637-9BC9-48FFFD5CF6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obavezni učesnik u projektu (uz investito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biti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običajena uloga jugoslovensk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ično neinteresantan u zapadnom sv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mu je podređen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5FE-C55E-4F3D-9787-9320F0D850D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28632-10EB-4574-ABE9-0516F28BF312}" type="datetime1">
              <a:rPr lang="en-US"/>
              <a:t>07/28/26</a:t>
            </a:fld>
          </a:p>
        </p:txBody>
      </p:sp>
    </p:spTree>
  </p:cSld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menic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lično telefonskim imenicima, postoje i Internet imen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adrže obično E-mail adrese korisnika, koji su ih sami uneli u baz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toji opasnost od dobijanja neželjene po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popularnijih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gf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foo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8FA2-453A-40D2-A42A-199CD3B05FA0}" type="slidenum">
              <a:t>3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F3D4E-60FB-4FF8-8D99-1576A5C957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gfoo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6553440" cy="59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D64-9553-4E51-82D8-628B51E0124C}" type="slidenum">
              <a:t>3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7B6A6-5B69-4776-A21D-1B94B1AF41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askanje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firme nude sisteme za časkanje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 sistemi obično omogućavaju potragu za korisnicima prema želje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o je vrlo korisno ako tražite ljude koji dele vaš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renutno je najpopularni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icq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6B0-5F85-4CA7-B8B4-1FC1AA101694}" type="slidenum">
              <a:t>3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F81BF-1EEE-462D-8F53-E39B9451AC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6461280" cy="528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C14-F455-49E7-B6E1-F8FB026CB087}" type="slidenum">
              <a:t>3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23D5F-9127-4AED-A1A2-5B62829D8A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Opšti save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proizvođači cementa u Italiji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članci o merenju specifične površine cementa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ltaVi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 neko u Nemačkoj, koga zanima upravljanje projektima u građevinarstvu, koristi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762-B636-4A95-91CF-8C08E3871D9F}" type="slidenum">
              <a:t>3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1547D-6E16-4B41-AA07-EC2749B192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realizacije projekta sa stanovišta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627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BBFF-F580-4E31-A516-6EFB5C7F4AC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F7A68-5A0B-445A-8D3C-E8ED580BAD9A}" type="datetime1">
              <a:rPr lang="en-US"/>
              <a:t>07/28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faz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27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 i VII se odvijaju kontinual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I-VI su vezane za konkretan proje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6005520" cy="140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656-B03F-4CCA-804D-9E555D4E1BFB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5ADFE-F3E5-4F98-9F12-72F6D9C0CA2E}" type="datetime1">
              <a:rPr lang="en-US"/>
              <a:t>07/28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4830-C390-4903-B6FA-7E5067E3D6F5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D2B11-83D7-4236-B680-80F66A0D5178}" type="datetime1">
              <a:rPr lang="en-US"/>
              <a:t>07/28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u toku realizacije projekta (II-V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snije detaljno raz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ali za razmenu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i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š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52F-3FFC-4765-A611-1677BCDD0F8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24385-BA69-4CD0-8E09-1FF7E3D54408}" type="datetime1">
              <a:rPr lang="en-US"/>
              <a:t>07/28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e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rišt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9E3-A02C-4309-8AB4-AECF25556A6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A5F71-8A73-4005-8A81-336ED0A0AA08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studirate Građevinski fakulte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6400800" cy="641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1A4A-F2EF-4D6A-BF84-097115EA400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B1125-1B5D-41FC-9E24-5462436CF4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a II-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edene i naplać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ak resursa i tra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i efek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čki podaci o mehaniz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jena tehničko-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 i 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164-AC13-4B90-9402-BE112AD4EAB1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D5E176-58E3-47C5-964F-5C8856147F08}" type="datetime1">
              <a:rPr lang="en-US"/>
              <a:t>07/28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ljive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ljn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utrašnj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34B-DB07-4E1A-9FE0-31A3B359DAC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519D9-F980-4A59-827E-8A75680C4CE8}" type="datetime1">
              <a:rPr lang="en-US"/>
              <a:t>07/28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oljn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rakteristik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ž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razv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ltura i trad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odred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pored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192-430A-4870-868F-2AE11449D128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FCA3F-94C3-452D-BEDA-423B7F0CC39D}" type="datetime1">
              <a:rPr lang="en-US"/>
              <a:t>07/28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utrašnj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ja i ciljevi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nivo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čin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7B5-16C0-4442-B24B-A7ADDCCCD0C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C3510-2535-45E6-813F-7A6009FF6398}" type="datetime1">
              <a:rPr lang="en-US"/>
              <a:t>07/28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cionalne (klasič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o-štab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rem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o-tim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0879-7BC0-410F-9C60-C90C8FCF06B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BBF23-08CF-4083-B6FC-17260474E83A}" type="datetime1">
              <a:rPr lang="en-US"/>
              <a:t>07/28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06400" y="3146400"/>
          <a:ext cx="52056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3146400"/>
                    <a:ext cx="52056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2B4-744E-4346-AADF-90053BC814F5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F0D97-0010-4B00-A9F9-CBFC3A0FB26F}" type="datetime1">
              <a:rPr lang="en-US"/>
              <a:t>07/28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20720" y="4602240"/>
          <a:ext cx="5388120" cy="22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4602240"/>
                    <a:ext cx="538812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696-2A81-46E3-9C9E-2FFA424D085F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5999A-64C6-40E6-AA4D-7B4BD221F2A3}" type="datetime1">
              <a:rPr lang="en-US"/>
              <a:t>07/28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o-štab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95560" y="2631960"/>
          <a:ext cx="4417920" cy="61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2631960"/>
                    <a:ext cx="441792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57B-9350-4215-8AD2-CECB2C2CD9A6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A4D0A-5EC4-4D1F-865D-3119F4AA5B5B}" type="datetime1">
              <a:rPr lang="en-US"/>
              <a:t>07/28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o-tim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49320" y="4653000"/>
          <a:ext cx="493092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4653000"/>
                    <a:ext cx="493092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74F-0DE2-4899-B230-C376F6591B0B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2ACB5B-56B4-4CFE-8B50-49C948414D86}" type="datetime1">
              <a:rPr lang="en-US"/>
              <a:t>07/28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t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20880" y="4633920"/>
          <a:ext cx="4986360" cy="22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4633920"/>
                    <a:ext cx="498636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BE0-810E-4CDC-B389-FAA7B64E9B58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4FF60-42C9-4BB9-A6B1-A9A165021FE1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bog nauk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4880" y="3079800"/>
            <a:ext cx="5121000" cy="49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974-E07F-44AA-9750-02A51D67796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27218-FDE0-43AF-9B12-A4768B4D8C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rična organizacio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15960" y="4322880"/>
          <a:ext cx="55958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4322880"/>
                    <a:ext cx="5595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6E03-3646-4B03-87B0-02A6E8233977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C8E6D-D350-48CD-B710-49011B17770B}" type="datetime1">
              <a:rPr lang="en-US"/>
              <a:t>07/28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fir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4343400"/>
          <a:ext cx="603252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43400"/>
                    <a:ext cx="603252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2E1-566D-491B-8284-69E664FE7F5E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48507-5A20-4A57-8CB7-0993BD3AED65}" type="datetime1">
              <a:rPr lang="en-US"/>
              <a:t>07/28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004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01600" y="3071880"/>
          <a:ext cx="4788000" cy="57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3071880"/>
                    <a:ext cx="478800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626-2445-4617-B3B7-2119B781F608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08A09-1BDB-45F7-B05E-257A257F1BB7}" type="datetime1">
              <a:rPr lang="en-US"/>
              <a:t>07/28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585-785D-4F16-A496-DA207C9054AF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2F6D2-BAE4-4138-AF07-1F7212C122F8}" type="datetime1">
              <a:rPr lang="en-US"/>
              <a:t>07/28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983-52CE-45FE-9385-195F90C962D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8A88F-32D6-4F8E-9C62-AE48EAC24BA0}" type="datetime1">
              <a:rPr lang="en-US"/>
              <a:t>07/28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odac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andar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prenos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izvor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format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formalni ka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struktuira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o pisan soft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670-4B5D-4AC1-BA05-48E8AE054C30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2AAD1-12B7-472F-B408-6FF3EBF4BEB8}" type="datetime1">
              <a:rPr lang="en-US"/>
              <a:t>07/28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 asortimana po slič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737-82BB-4B91-90E3-E307E50523A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AA869-CF67-4162-A9BA-BA79C7999A07}" type="datetime1">
              <a:rPr lang="en-US"/>
              <a:t>07/28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geološk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F13-9604-4D65-B862-4B6906C66E2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2B5A6-BF53-4677-8D47-46C837BBC3B4}" type="datetime1">
              <a:rPr lang="en-US"/>
              <a:t>07/28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6519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69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ne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1CE-0A0C-4BD6-89A9-D6989727E20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3C991-CA78-4A8B-B068-4FD5FC74D055}" type="datetime1">
              <a:rPr lang="en-US"/>
              <a:t>07/28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271440"/>
            <a:ext cx="65530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naš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753C-9B9A-4D6F-8854-BFFD06382C9B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649C9-1645-44F0-AA2A-D99922BD4A12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to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želite da gradit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6095880" cy="32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1C1E-CB89-4BE1-8BC5-FC14C7D3EDB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916BC-345F-41F1-B5F0-F0F1FA994D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ursi za izradu predinvesticionih studija i projektne dokumentac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nkursima za konsultantsk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oslovima u kućama koje se bave predinvesticionim stud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razvoja velikih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A50-5BBC-4D84-A288-ACF1F13C1FE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9A805-4714-4889-9BD0-0A5754ED25CC}" type="datetime1">
              <a:rPr lang="en-US"/>
              <a:t>07/28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e informacije investit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2F4A-FCB9-44BF-B656-7DDDD0857271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EB912-1183-46BB-9314-3BC939C280B5}" type="datetime1">
              <a:rPr lang="en-US"/>
              <a:t>07/28/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4C9-AEDB-4BC3-BCA3-1696A6798C1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75349-DB03-4A49-8925-200F87F48998}" type="datetime1">
              <a:rPr lang="en-US"/>
              <a:t>07/28/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4440" y="804600"/>
            <a:ext cx="582912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2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inski propisi i služ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6BC9-7264-490F-AD1C-230C30F9AC9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7A742-EA2E-4576-B18B-8E8F1144D52D}" type="datetime1">
              <a:rPr lang="en-US"/>
              <a:t>07/28/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1F9-14CB-4EC1-A94E-9B095A8896E9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71680-739E-437E-A760-E69DB39AA8DF}" type="datetime1">
              <a:rPr lang="en-US"/>
              <a:t>07/28/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363-0C68-4600-B860-1CEAAB689BF9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6ECBA-3C79-479C-ACF7-ABAB2A5D475B}" type="datetime1">
              <a:rPr lang="en-US"/>
              <a:t>07/28/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dužem vremenskom perio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poslednjih godinu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EEEF-94A6-4724-ADCE-1AE329436790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8A8E8-3613-4BA0-9DAA-5EA1452E6361}" type="datetime1">
              <a:rPr lang="en-US"/>
              <a:t>07/28/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velikih izvođača i/ili pro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s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 (predstavništ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929-810D-4CA9-B76E-4F0DE890692E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00B337-FCB6-448F-8FAE-632C923FB426}" type="datetime1">
              <a:rPr lang="en-US"/>
              <a:t>07/28/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bonitet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rukovodstv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opljeni ugovori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ugovora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B0D-DC2F-4883-92DB-069F49E6CDBC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6CE72-847F-486F-959A-F2A4B2445E8A}" type="datetime1">
              <a:rPr lang="en-US"/>
              <a:t>07/28/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D5B-192E-411C-A7CE-3E8EBDBDB5BC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8FE57-363B-4AC7-8BB7-FFF87873EAF5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to što volite posao inženjer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3337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9CF-E9D7-4319-A3FF-1BC9DD184CD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05533-3D88-4480-B929-1D036CFCA3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320" y="576360"/>
            <a:ext cx="67053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o istraživanju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sak mogućih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stanju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neformalnih konta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skupljačk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a je šir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a mogućnost pre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8F6B-C4D7-4B95-8CCF-DC3AC85D9F66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B35B2-17EE-4FF9-AFAC-DD083DCF18AB}" type="datetime1">
              <a:rPr lang="en-US"/>
              <a:t>07/28/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660-8531-4E0A-B865-DC9602F26FC3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828C2-B33F-4D79-9B0D-C0447EC66101}" type="datetime1">
              <a:rPr lang="en-US"/>
              <a:t>07/28/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14EB-9562-449F-965B-EFA2E35D6E21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988B7-350D-4169-80F7-3C253C00F205}" type="datetime1">
              <a:rPr lang="en-US"/>
              <a:t>07/28/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obavez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ki su projekti gde ne učestvu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 svega ga angažuje investitor koji nije sam dovoljno osposoblj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da ga angažuje i izvođač, pogotovo genera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poznatije međunarodno udruženje - 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F41-9A86-4326-8F70-B90D2818FD42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29F07-B920-4666-9B73-62E8380EB541}" type="datetime1">
              <a:rPr lang="en-US"/>
              <a:t>07/28/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ljanje posla na visokoj profesionalnoj i etičkoj os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samo zadataka kojima su doras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je veliki dijapazon usluga, od ličnih saveta do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je uska specijalizacija ili široki repert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7E3-B5D5-4525-8488-D76B060E2AB5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35AC4-586D-4E3D-B2A1-992DE0221829}" type="datetime1">
              <a:rPr lang="en-US"/>
              <a:t>07/28/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prihodi smeju da budu od honorara koji isplaćuje naruči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že učestvovati u poslovima ili imati finansijski interes koji može uticati na njegovo stručno mišlj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251-8B27-4D57-8351-BB1A4F2017F5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5F00F-AF25-4F81-9FAE-CB9644D12AEA}" type="datetime1">
              <a:rPr lang="en-US"/>
              <a:t>07/28/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14440" y="1947600"/>
            <a:ext cx="5829120" cy="71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hodna istraživanja o uslovima za gradnju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ha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z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eo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 i mogućnost plas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i stud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ktiv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kti primene naučnih met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809C-894B-4DF1-8ED3-55CD687AAC4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96701-9A98-40C8-B086-661E32F0E8D9}" type="datetime1">
              <a:rPr lang="en-US"/>
              <a:t>07/28/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 praćenje razvo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zaštite i unapređenja životne i radne sre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a i vrsta ener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studija rentabilnosti, ekonomskih i finansijskih pokazate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da podataka, investicioni programi i projektni za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2AC4-F575-439F-A6E3-C4C3D5640DD7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C7C46-DA6A-4FF4-9F0E-80482B97C39E}" type="datetime1">
              <a:rPr lang="en-US"/>
              <a:t>07/28/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4440" y="26334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radom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nje podataka i dokumentacije za ustup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vođ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i usklađivanje rada učesnika u izgradn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investicionog programa i finansijske ko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E40A-CCAA-46F0-8CA8-BF10311EB9EB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F99EF-3C5F-466F-998C-AE56F6D61734}" type="datetime1">
              <a:rPr lang="en-US"/>
              <a:t>07/28/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omoć tokom primopredaje objekta i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funkcionisanjem objekta tokom probnog pog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06A-8DD4-481D-BDE6-4E6528136A50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072E7-0331-4FEC-95A4-131C4E50EE1E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bog diplome i status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5038920" cy="477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A26-0E6A-496B-A248-10E122909E6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F25C7-326F-475D-8AAD-1AD34EBCE9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gućnost učešća u više u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ziju projektne dokumentacije ne može da vrši projektant i/ili 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stručni nadzor mogu da idu zajedno, ali ponekad nije preporuč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ja varijanta je projektantsk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4D84-1CF7-4690-A48F-9E935637D4D9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95BD6-EEC7-4A17-AE2C-9E87F6BF1180}" type="datetime1">
              <a:rPr lang="en-US"/>
              <a:t>07/28/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FIDIC-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4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davne uloge (Counselling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e usluge (Pre-Investment Stud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uge projektovanja i nadzora nad izgradnjom objekata (Design and Supervision Services for Construction of Wor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izovane projektne usluge razrade i razvoja (Specialised Design and Development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 (Project Manag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152-B231-4BCC-83D7-991F8EEEC7C3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FF9DB-C3F8-4245-85BD-1D5B973277DB}" type="datetime1">
              <a:rPr lang="en-US"/>
              <a:t>07/28/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vetodav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14440" y="24048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anje save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inui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osebne projekte i probl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asti saveto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kovođ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ranje i kontrola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upanje pred sudovima, komisijama i drugim pravnim te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CDE-D4B7-4F11-B319-94C2CDED3C8B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3B66E-411A-4555-8A0D-07090E9FE73B}" type="datetime1">
              <a:rPr lang="en-US"/>
              <a:t>07/28/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investicio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e za donošenje odluke o investir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investicione polit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glavnih karakteristika i opravda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promena u politici, radu i organizacionim reše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5BA-738D-48E7-9EC0-2B1757F8C8B7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87968-BEB2-449F-AA4A-583228D8DB49}" type="datetime1">
              <a:rPr lang="en-US"/>
              <a:t>07/28/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projektna f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pravda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ci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a i definisanje zahteva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i optimizaci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a i istraživanja gradilišta i ostalih fa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16E-C06D-40BB-8EE0-4FC538AB4B65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888D7-4A32-41EB-9208-FD6A6C1FE4D7}" type="datetime1">
              <a:rPr lang="en-US"/>
              <a:t>07/28/26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7760" y="3477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4440" y="21337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lkulacija približnih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ristupa gra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bn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ident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jalni pregledi i test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6F0-520E-44AA-A3BA-44B3361621A9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17B55-C4AD-4602-9DBE-AD36F98D38B8}" type="datetime1">
              <a:rPr lang="en-US"/>
              <a:t>07/28/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9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ecijalizovane 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proj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i obrade sirov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a automatskih koma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ažne z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j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ršeni rad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 gotovih proizv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6EB-6C80-4504-9EA0-C659B681C1F6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2B0F53-8439-4058-98FE-D4EF04FF1EFB}" type="datetime1">
              <a:rPr lang="en-US"/>
              <a:t>07/28/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izacije resursa i njihova koordinacija da bi se postigao investitorov cilj u okviru plana, bud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a 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jen nivo poslova i odgovornosti između investitora i konsult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 zadržava pravo odobravanja i revizije ključnih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A84-6CD9-4A23-80AC-7D9A2A7CEC75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8A8C6-7BAF-4E5E-8B0C-51EE5338C989}" type="datetime1">
              <a:rPr lang="en-US"/>
              <a:t>07/28/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1800" y="271440"/>
            <a:ext cx="626760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nicijalnih stud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traživanje mogućnosti plaćanja zemlj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govor sa potencijalnim suinvestito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moć pri rešavanju imovinsko-pravnih odn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sa raselje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govor sa budućim stana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002-B290-440E-8364-AF3AFF880B59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BB9A1-8202-4F04-BEE5-1F40ED6DFC92}" type="datetime1">
              <a:rPr lang="en-US"/>
              <a:t>07/28/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budžetskih troškova i izrada studije opravdanosti z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crteža kojima se definišu idej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o planu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iranje baze podataka o sastancima i drugim aktivnos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a idejnog rešenja prema željam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zivanje i presedavanje sastancima o realizacij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5C4A-6D1B-4289-B97B-C7C7B226DF7E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B3F81-5306-4BA3-A571-2E28E937F38D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 bi izgradili svoju zemlju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6372360" cy="478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09B-9308-4B1B-BDD4-70853204631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F0EE1-2ADC-4032-8466-E39573E10D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dospelih zahteva projektanata i izvođača za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idejnog rešenja i podnošenje investitoru na o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isanje investitoru o predlozima za skice i crte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izvoda iz dinamičkih planov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straž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zij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ostvarivanja glavnog plana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B0F-FE0D-483B-8BC5-0610FA1C81BD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66CB0-35AC-4524-A862-6FE363969428}" type="datetime1">
              <a:rPr lang="en-US"/>
              <a:t>07/28/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realizacije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rojektnih zahteva i zahteva za dopunama rukovodiocu projekto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o izmenama glavnog plana radova i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visine naknade za kon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utovanje inženjerskih i tehničkih rešenja iz projekta sa izvođač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nominovanih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4B9-1819-4B96-A3F0-9A2F8BBA2360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FA38D-A91A-4B6E-9023-8D2D2633DFEE}" type="datetime1">
              <a:rPr lang="en-US"/>
              <a:t>07/28/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mesečnih izveštaja investitoru sa procenom finalnih troškova i roka završetk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menovanja i obezbeđenje angažovanja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zovanje dopune plana troškova i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komponenti i materijala koji se ugrađ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šenje konačnog predloga projekata i revidovanog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činjavanje liste mogućih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leđivanje tenderskih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7C9-205E-469C-90AE-CBA7B75EC016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925E8-C4BF-42EB-BC1A-6AA34ECBC0A0}" type="datetime1">
              <a:rPr lang="en-US"/>
              <a:t>07/28/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obrađenih tendera i zahtevanje dodatnih obj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predloga za izbor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iranje ugovornih dokumenata, sračunavanje potrebne garancije i obezbeđenje pristanka investit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ovanje pravovremenog naručivanja komponenti sa dugim vremenom ispo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ertifikata o osiguranju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nje procene izvršenih radova i rad na pripremi konačnog obrač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8807-247D-44F0-9C03-6E7709C8555B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8EFFEB-E2A1-4F73-A728-8081C8FE858C}" type="datetime1">
              <a:rPr lang="en-US"/>
              <a:t>07/28/26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naloga o izmenama i instrukcija 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na izmene u obimu i vrednosti koje su van njegovih ovlašćenja i regulisanje potraživanj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vljenje klejmovima u vezi osigu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aglas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za produž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o primopredaji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da li su nedostaci odklonj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E51C-A11A-482B-9C10-4F0746A84E6B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C3553-828A-48EC-AE73-5DB748E23D02}" type="datetime1">
              <a:rPr lang="en-US"/>
              <a:t>07/28/26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804960"/>
            <a:ext cx="655344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37760" y="3012840"/>
            <a:ext cx="5829480" cy="590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vremeno reagovanje na rana upozorenja u toku realizaci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realizacije programa opremanja i obezbeđivanje uputstva za održavanje i skica izvedenog s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9B6-CC3E-4B11-B591-1451A4CD8773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9010B-A772-4E96-AD3D-0FF67B66DED9}" type="datetime1">
              <a:rPr lang="en-US"/>
              <a:t>07/28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vanje klij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rukovodećeg projekta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ažovanje drugih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ovi za predhodne izb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i odobravanje troškova i programa rada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koji se direktno ugovaraju sa investit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enovanje nadz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4542-36D1-46DF-A057-7E28190742BC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E5FDD-07C9-4122-AF57-84AB46338E71}" type="datetime1">
              <a:rPr lang="en-US"/>
              <a:t>07/28/2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ivanje i i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posla u projekto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 informacije koji dostavljaju konsultanti i projekt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 o proceduri izvešt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41E9-BB95-4BAF-B748-08B94B7098CA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A0BCA-3161-478B-B894-F62A9CC50C84}" type="datetime1">
              <a:rPr lang="en-US"/>
              <a:t>07/28/26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ovanje učinaka projektanata, konsultanata, nadz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zivanje i 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ezivanje sa prav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rdinacija zahteva budućih stan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E15-32BA-4E3B-A75A-D81057484897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BD0E8-A241-4205-BCA6-1F4D863E509D}" type="datetime1">
              <a:rPr lang="en-US"/>
              <a:t>07/28/26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21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etaljni, nego se pozivaju na predhodno navedenu li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toje se od dva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1080-C462-480C-B576-57B45201FCF5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72C20-3986-4CFD-AFFD-E7F2A1A356B2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9T10:38:17Z</dcterms:created>
  <dc:creator>Zoran B. Djordjevic</dc:creator>
  <dc:description/>
  <dc:language>en-US</dc:language>
  <cp:lastModifiedBy>Matej</cp:lastModifiedBy>
  <dcterms:modified xsi:type="dcterms:W3CDTF">2008-01-12T12:04:32Z</dcterms:modified>
  <cp:revision>21</cp:revision>
  <dc:subject/>
  <dc:title>U čemu je razlika?</dc:title>
</cp:coreProperties>
</file>