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26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8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266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29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26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26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62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63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320.xml.rels" ContentType="application/vnd.openxmlformats-package.relationships+xml"/>
  <Override PartName="/ppt/notesSlides/_rels/notesSlide26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0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321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07.xml.rels" ContentType="application/vnd.openxmlformats-package.relationships+xml"/>
  <Override PartName="/ppt/notesSlides/_rels/notesSlide299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271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32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7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291.xml.rels" ContentType="application/vnd.openxmlformats-package.relationships+xml"/>
  <Override PartName="/ppt/notesSlides/_rels/notesSlide31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278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2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269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267.xml.rels" ContentType="application/vnd.openxmlformats-package.relationships+xml"/>
  <Override PartName="/ppt/notesSlides/_rels/notesSlide280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30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264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295.xml.rels" ContentType="application/vnd.openxmlformats-package.relationships+xml"/>
  <Override PartName="/ppt/notesSlides/_rels/notesSlide30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83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298.xml.rels" ContentType="application/vnd.openxmlformats-package.relationships+xml"/>
  <Override PartName="/ppt/notesSlides/_rels/notesSlide306.xml.rels" ContentType="application/vnd.openxmlformats-package.relationships+xml"/>
  <Override PartName="/ppt/notesSlides/_rels/notesSlide313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292.xml.rels" ContentType="application/vnd.openxmlformats-package.relationships+xml"/>
  <Override PartName="/ppt/notesSlides/_rels/notesSlide300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317.xml.rels" ContentType="application/vnd.openxmlformats-package.relationships+xml"/>
  <Override PartName="/ppt/notesSlides/_rels/notesSlide297.xml.rels" ContentType="application/vnd.openxmlformats-package.relationships+xml"/>
  <Override PartName="/ppt/notesSlides/_rels/notesSlide305.xml.rels" ContentType="application/vnd.openxmlformats-package.relationships+xml"/>
  <Override PartName="/ppt/notesSlides/_rels/notesSlide2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287.xml.rels" ContentType="application/vnd.openxmlformats-package.relationships+xml"/>
  <Override PartName="/ppt/notesSlides/_rels/notesSlide316.xml.rels" ContentType="application/vnd.openxmlformats-package.relationships+xml"/>
  <Override PartName="/ppt/notesSlides/_rels/notesSlide27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28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96.xml.rels" ContentType="application/vnd.openxmlformats-package.relationships+xml"/>
  <Override PartName="/ppt/notesSlides/_rels/notesSlide304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286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318.xml.rels" ContentType="application/vnd.openxmlformats-package.relationships+xml"/>
  <Override PartName="/ppt/notesSlides/_rels/notesSlide2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319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94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2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288.xml.rels" ContentType="application/vnd.openxmlformats-package.relationships+xml"/>
  <Override PartName="/ppt/notesSlides/_rels/notesSlide30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311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1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310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73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74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6.xml.rels" ContentType="application/vnd.openxmlformats-package.relationships+xml"/>
  <Override PartName="/ppt/notesSlides/_rels/notesSlide289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302.xml.rels" ContentType="application/vnd.openxmlformats-package.relationships+xml"/>
  <Override PartName="/ppt/notesSlides/_rels/notesSlide294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284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27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314.xml.rels" ContentType="application/vnd.openxmlformats-package.relationships+xml"/>
  <Override PartName="/ppt/notesSlides/_rels/notesSlide50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271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27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96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194.xml" ContentType="application/vnd.openxmlformats-officedocument.presentationml.notesSlide+xml"/>
  <Override PartName="/ppt/notesSlides/notesSlide31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318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1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60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83.xml" ContentType="application/vnd.openxmlformats-officedocument.presentationml.notesSlide+xml"/>
  <Override PartName="/ppt/notesSlides/notesSlide30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27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0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6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234.xml" ContentType="application/vnd.openxmlformats-officedocument.presentationml.notesSlide+xml"/>
  <Override PartName="/ppt/notesSlides/notesSlide235.xml" ContentType="application/vnd.openxmlformats-officedocument.presentationml.notesSlide+xml"/>
  <Override PartName="/ppt/notesSlides/notesSlide23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6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26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6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26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2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269.xml" ContentType="application/vnd.openxmlformats-officedocument.presentationml.notesSlide+xml"/>
  <Override PartName="/ppt/notesSlides/notesSlide290.xml" ContentType="application/vnd.openxmlformats-officedocument.presentationml.notesSlide+xml"/>
  <Override PartName="/ppt/notesSlides/notesSlide288.xml" ContentType="application/vnd.openxmlformats-officedocument.presentationml.notesSlide+xml"/>
  <Override PartName="/ppt/notesSlides/notesSlide291.xml" ContentType="application/vnd.openxmlformats-officedocument.presentationml.notesSlide+xml"/>
  <Override PartName="/ppt/notesSlides/notesSlide289.xml" ContentType="application/vnd.openxmlformats-officedocument.presentationml.notesSlide+xml"/>
  <Override PartName="/ppt/notesSlides/notesSlide292.xml" ContentType="application/vnd.openxmlformats-officedocument.presentationml.notesSlide+xml"/>
  <Override PartName="/ppt/notesSlides/notesSlide293.xml" ContentType="application/vnd.openxmlformats-officedocument.presentationml.notesSlide+xml"/>
  <Override PartName="/ppt/notesSlides/notesSlide297.xml" ContentType="application/vnd.openxmlformats-officedocument.presentationml.notesSlide+xml"/>
  <Override PartName="/ppt/notesSlides/notesSlide298.xml" ContentType="application/vnd.openxmlformats-officedocument.presentationml.notesSlide+xml"/>
  <Override PartName="/ppt/notesSlides/notesSlide299.xml" ContentType="application/vnd.openxmlformats-officedocument.presentationml.notesSlide+xml"/>
  <Override PartName="/ppt/notesSlides/notesSlide294.xml" ContentType="application/vnd.openxmlformats-officedocument.presentationml.notesSlide+xml"/>
  <Override PartName="/ppt/notesSlides/notesSlide320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274.xml" ContentType="application/vnd.openxmlformats-officedocument.presentationml.notesSlide+xml"/>
  <Override PartName="/ppt/notesSlides/notesSlide295.xml" ContentType="application/vnd.openxmlformats-officedocument.presentationml.notesSlide+xml"/>
  <Override PartName="/ppt/notesSlides/notesSlide321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275.xml" ContentType="application/vnd.openxmlformats-officedocument.presentationml.notesSlide+xml"/>
  <Override PartName="/ppt/notesSlides/notesSlide296.xml" ContentType="application/vnd.openxmlformats-officedocument.presentationml.notesSlide+xml"/>
  <Override PartName="/ppt/notesSlides/notesSlide322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276.xml" ContentType="application/vnd.openxmlformats-officedocument.presentationml.notesSlide+xml"/>
  <Override PartName="/ppt/notesSlides/notesSlide287.xml" ContentType="application/vnd.openxmlformats-officedocument.presentationml.notesSlide+xml"/>
  <Override PartName="/ppt/notesSlides/notesSlide286.xml" ContentType="application/vnd.openxmlformats-officedocument.presentationml.notesSlide+xml"/>
  <Override PartName="/ppt/notesSlides/notesSlide285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273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284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283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282.xml" ContentType="application/vnd.openxmlformats-officedocument.presentationml.notesSlide+xml"/>
  <Override PartName="/ppt/notesSlides/notesSlide281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279.xml" ContentType="application/vnd.openxmlformats-officedocument.presentationml.notesSlide+xml"/>
  <Override PartName="/ppt/notesSlides/notesSlide280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278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277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307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306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05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31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2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1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04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315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03.xml" ContentType="application/vnd.openxmlformats-officedocument.presentationml.notesSlide+xml"/>
  <Override PartName="/ppt/notesSlides/notesSlide30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30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7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316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2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27.png" ContentType="image/png"/>
  <Override PartName="/ppt/media/image12.wmf" ContentType="image/x-wmf"/>
  <Override PartName="/ppt/media/image7.wmf" ContentType="image/x-wmf"/>
  <Override PartName="/ppt/media/image21.wmf" ContentType="image/x-wmf"/>
  <Override PartName="/ppt/media/image19.wmf" ContentType="image/x-wmf"/>
  <Override PartName="/ppt/media/image10.gif" ContentType="image/gif"/>
  <Override PartName="/ppt/media/image13.wmf" ContentType="image/x-wmf"/>
  <Override PartName="/ppt/media/image30.png" ContentType="image/png"/>
  <Override PartName="/ppt/media/image9.gif" ContentType="image/gif"/>
  <Override PartName="/ppt/media/image5.wmf" ContentType="image/x-wmf"/>
  <Override PartName="/ppt/media/image8.gif" ContentType="image/gif"/>
  <Override PartName="/ppt/media/image4.wmf" ContentType="image/x-wmf"/>
  <Override PartName="/ppt/media/image3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43.xml.rels" ContentType="application/vnd.openxmlformats-package.relationships+xml"/>
  <Override PartName="/ppt/slides/_rels/slide334.xml.rels" ContentType="application/vnd.openxmlformats-package.relationships+xml"/>
  <Override PartName="/ppt/slides/_rels/slide38.xml.rels" ContentType="application/vnd.openxmlformats-package.relationships+xml"/>
  <Override PartName="/ppt/slides/_rels/slide329.xml.rels" ContentType="application/vnd.openxmlformats-package.relationships+xml"/>
  <Override PartName="/ppt/slides/_rels/slide328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322.xml.rels" ContentType="application/vnd.openxmlformats-package.relationships+xml"/>
  <Override PartName="/ppt/slides/_rels/slide26.xml.rels" ContentType="application/vnd.openxmlformats-package.relationships+xml"/>
  <Override PartName="/ppt/slides/_rels/slide218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1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142.xml.rels" ContentType="application/vnd.openxmlformats-package.relationships+xml"/>
  <Override PartName="/ppt/slides/_rels/slide308.xml.rels" ContentType="application/vnd.openxmlformats-package.relationships+xml"/>
  <Override PartName="/ppt/slides/_rels/slide313.xml.rels" ContentType="application/vnd.openxmlformats-package.relationships+xml"/>
  <Override PartName="/ppt/slides/_rels/slide17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336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44.xml.rels" ContentType="application/vnd.openxmlformats-package.relationships+xml"/>
  <Override PartName="/ppt/slides/_rels/slide335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244.xml.rels" ContentType="application/vnd.openxmlformats-package.relationships+xml"/>
  <Override PartName="/ppt/slides/_rels/slide239.xml.rels" ContentType="application/vnd.openxmlformats-package.relationships+xml"/>
  <Override PartName="/ppt/slides/_rels/slide10.xml.rels" ContentType="application/vnd.openxmlformats-package.relationships+xml"/>
  <Override PartName="/ppt/slides/_rels/slide12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309.xml.rels" ContentType="application/vnd.openxmlformats-package.relationships+xml"/>
  <Override PartName="/ppt/slides/_rels/slide314.xml.rels" ContentType="application/vnd.openxmlformats-package.relationships+xml"/>
  <Override PartName="/ppt/slides/_rels/slide288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319.xml.rels" ContentType="application/vnd.openxmlformats-package.relationships+xml"/>
  <Override PartName="/ppt/slides/_rels/slide29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154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261.xml.rels" ContentType="application/vnd.openxmlformats-package.relationships+xml"/>
  <Override PartName="/ppt/slides/_rels/slide114.xml.rels" ContentType="application/vnd.openxmlformats-package.relationships+xml"/>
  <Override PartName="/ppt/slides/_rels/slide109.xml.rels" ContentType="application/vnd.openxmlformats-package.relationships+xml"/>
  <Override PartName="/ppt/slides/_rels/slide81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146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46.xml.rels" ContentType="application/vnd.openxmlformats-package.relationships+xml"/>
  <Override PartName="/ppt/slides/_rels/slide61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212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63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103.xml.rels" ContentType="application/vnd.openxmlformats-package.relationships+xml"/>
  <Override PartName="/ppt/slides/_rels/slide236.xml.rels" ContentType="application/vnd.openxmlformats-package.relationships+xml"/>
  <Override PartName="/ppt/slides/_rels/slide195.xml.rels" ContentType="application/vnd.openxmlformats-package.relationships+xml"/>
  <Override PartName="/ppt/slides/_rels/slide216.xml.rels" ContentType="application/vnd.openxmlformats-package.relationships+xml"/>
  <Override PartName="/ppt/slides/_rels/slide221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71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60.xml.rels" ContentType="application/vnd.openxmlformats-package.relationships+xml"/>
  <Override PartName="/ppt/slides/_rels/slide235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25.xml.rels" ContentType="application/vnd.openxmlformats-package.relationships+xml"/>
  <Override PartName="/ppt/slides/_rels/slide330.xml.rels" ContentType="application/vnd.openxmlformats-package.relationships+xml"/>
  <Override PartName="/ppt/slides/_rels/slide325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224.xml.rels" ContentType="application/vnd.openxmlformats-package.relationships+xml"/>
  <Override PartName="/ppt/slides/_rels/slide3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102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22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320.xml.rels" ContentType="application/vnd.openxmlformats-package.relationships+xml"/>
  <Override PartName="/ppt/slides/_rels/slide24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73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34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331.xml.rels" ContentType="application/vnd.openxmlformats-package.relationships+xml"/>
  <Override PartName="/ppt/slides/_rels/slide99.xml.rels" ContentType="application/vnd.openxmlformats-package.relationships+xml"/>
  <Override PartName="/ppt/slides/_rels/slide178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177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332.xml.rels" ContentType="application/vnd.openxmlformats-package.relationships+xml"/>
  <Override PartName="/ppt/slides/_rels/slide33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89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14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43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338.xml.rels" ContentType="application/vnd.openxmlformats-package.relationships+xml"/>
  <Override PartName="/ppt/slides/_rels/slide343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78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59.xml.rels" ContentType="application/vnd.openxmlformats-package.relationships+xml"/>
  <Override PartName="/ppt/slides/_rels/slide120.xml.rels" ContentType="application/vnd.openxmlformats-package.relationships+xml"/>
  <Override PartName="/ppt/slides/_rels/slide167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5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287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289.xml.rels" ContentType="application/vnd.openxmlformats-package.relationships+xml"/>
  <Override PartName="/ppt/slides/_rels/slide1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327.xml.rels" ContentType="application/vnd.openxmlformats-package.relationships+xml"/>
  <Override PartName="/ppt/slides/_rels/slide256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326.xml.rels" ContentType="application/vnd.openxmlformats-package.relationships+xml"/>
  <Override PartName="/ppt/slides/_rels/slide160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62.xml.rels" ContentType="application/vnd.openxmlformats-package.relationships+xml"/>
  <Override PartName="/ppt/slides/_rels/slide157.xml.rels" ContentType="application/vnd.openxmlformats-package.relationships+xml"/>
  <Override PartName="/ppt/slides/_rels/slide6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120.xml" ContentType="application/vnd.openxmlformats-officedocument.presentationml.slide+xml"/>
  <Override PartName="/ppt/slides/slide313.xml" ContentType="application/vnd.openxmlformats-officedocument.presentationml.slide+xml"/>
  <Override PartName="/ppt/slides/slide24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8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60.xml" ContentType="application/vnd.openxmlformats-officedocument.presentationml.slide+xml"/>
  <Override PartName="/ppt/slides/slide261.xml" ContentType="application/vnd.openxmlformats-officedocument.presentationml.slide+xml"/>
  <Override PartName="/ppt/slides/slide262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36.xml" ContentType="application/vnd.openxmlformats-officedocument.presentationml.slide+xml"/>
  <Override PartName="/ppt/slides/slide170.xml" ContentType="application/vnd.openxmlformats-officedocument.presentationml.slide+xml"/>
  <Override PartName="/ppt/slides/slide267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337.xml" ContentType="application/vnd.openxmlformats-officedocument.presentationml.slide+xml"/>
  <Override PartName="/ppt/slides/slide171.xml" ContentType="application/vnd.openxmlformats-officedocument.presentationml.slide+xml"/>
  <Override PartName="/ppt/slides/slide268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269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91.xml" ContentType="application/vnd.openxmlformats-officedocument.presentationml.slide+xml"/>
  <Override PartName="/ppt/slides/slide285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314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6.xml" ContentType="application/vnd.openxmlformats-officedocument.presentationml.slide+xml"/>
  <Override PartName="/ppt/slides/slide310.xml" ContentType="application/vnd.openxmlformats-officedocument.presentationml.slide+xml"/>
  <Override PartName="/ppt/slides/slide294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295.xml" ContentType="application/vnd.openxmlformats-officedocument.presentationml.slide+xml"/>
  <Override PartName="/ppt/slides/slide113.xml" ContentType="application/vnd.openxmlformats-officedocument.presentationml.slide+xml"/>
  <Override PartName="/ppt/slides/slide181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43.xml" ContentType="application/vnd.openxmlformats-officedocument.presentationml.slide+xml"/>
  <Override PartName="/ppt/slides/slide309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299.xml" ContentType="application/vnd.openxmlformats-officedocument.presentationml.slide+xml"/>
  <Override PartName="/ppt/slides/slide68.xml" ContentType="application/vnd.openxmlformats-officedocument.presentationml.slide+xml"/>
  <Override PartName="/ppt/slides/slide320.xml" ContentType="application/vnd.openxmlformats-officedocument.presentationml.slide+xml"/>
  <Override PartName="/ppt/slides/slide69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70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344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291.xml" ContentType="application/vnd.openxmlformats-officedocument.presentationml.slide+xml"/>
  <Override PartName="/ppt/slides/slide33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343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290.xml" ContentType="application/vnd.openxmlformats-officedocument.presentationml.slide+xml"/>
  <Override PartName="/ppt/slides/slide33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289.xml" ContentType="application/vnd.openxmlformats-officedocument.presentationml.slide+xml"/>
  <Override PartName="/ppt/slides/slide342.xml" ContentType="application/vnd.openxmlformats-officedocument.presentationml.slide+xml"/>
  <Override PartName="/ppt/slides/slide330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341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7.xml" ContentType="application/vnd.openxmlformats-officedocument.presentationml.slide+xml"/>
  <Override PartName="/ppt/slides/slide340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284.xml" ContentType="application/vnd.openxmlformats-officedocument.presentationml.slide+xml"/>
  <Override PartName="/ppt/slides/slide335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282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281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280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27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271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293.xml" ContentType="application/vnd.openxmlformats-officedocument.presentationml.slide+xml"/>
  <Override PartName="/ppt/slides/slide292.xml" ContentType="application/vnd.openxmlformats-officedocument.presentationml.slide+xml"/>
  <Override PartName="/ppt/slides/slide283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77.xml" ContentType="application/vnd.openxmlformats-officedocument.presentationml.slide+xml"/>
  <Override PartName="/ppt/slides/slide276.xml" ContentType="application/vnd.openxmlformats-officedocument.presentationml.slide+xml"/>
  <Override PartName="/ppt/slides/slide42.xml" ContentType="application/vnd.openxmlformats-officedocument.presentationml.slide+xml"/>
  <Override PartName="/ppt/slides/slide208.xml" ContentType="application/vnd.openxmlformats-officedocument.presentationml.slide+xml"/>
  <Override PartName="/ppt/slides/slide275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  <p:sldId id="537" r:id="rId285"/>
    <p:sldId id="538" r:id="rId286"/>
    <p:sldId id="539" r:id="rId287"/>
    <p:sldId id="540" r:id="rId288"/>
    <p:sldId id="541" r:id="rId289"/>
    <p:sldId id="542" r:id="rId290"/>
    <p:sldId id="543" r:id="rId291"/>
    <p:sldId id="544" r:id="rId292"/>
    <p:sldId id="545" r:id="rId293"/>
    <p:sldId id="546" r:id="rId294"/>
    <p:sldId id="547" r:id="rId295"/>
    <p:sldId id="548" r:id="rId296"/>
    <p:sldId id="549" r:id="rId297"/>
    <p:sldId id="550" r:id="rId298"/>
    <p:sldId id="551" r:id="rId299"/>
    <p:sldId id="552" r:id="rId300"/>
    <p:sldId id="553" r:id="rId301"/>
    <p:sldId id="554" r:id="rId302"/>
    <p:sldId id="555" r:id="rId303"/>
    <p:sldId id="556" r:id="rId304"/>
    <p:sldId id="557" r:id="rId305"/>
    <p:sldId id="558" r:id="rId306"/>
    <p:sldId id="559" r:id="rId307"/>
    <p:sldId id="560" r:id="rId308"/>
    <p:sldId id="561" r:id="rId309"/>
    <p:sldId id="562" r:id="rId310"/>
    <p:sldId id="563" r:id="rId311"/>
    <p:sldId id="564" r:id="rId312"/>
    <p:sldId id="565" r:id="rId313"/>
    <p:sldId id="566" r:id="rId314"/>
    <p:sldId id="567" r:id="rId315"/>
    <p:sldId id="568" r:id="rId316"/>
    <p:sldId id="569" r:id="rId317"/>
    <p:sldId id="570" r:id="rId318"/>
    <p:sldId id="571" r:id="rId319"/>
    <p:sldId id="572" r:id="rId320"/>
    <p:sldId id="573" r:id="rId321"/>
    <p:sldId id="574" r:id="rId322"/>
    <p:sldId id="575" r:id="rId323"/>
    <p:sldId id="576" r:id="rId324"/>
    <p:sldId id="577" r:id="rId325"/>
    <p:sldId id="578" r:id="rId326"/>
    <p:sldId id="579" r:id="rId327"/>
    <p:sldId id="580" r:id="rId328"/>
    <p:sldId id="581" r:id="rId329"/>
    <p:sldId id="582" r:id="rId330"/>
    <p:sldId id="583" r:id="rId331"/>
    <p:sldId id="584" r:id="rId332"/>
    <p:sldId id="585" r:id="rId333"/>
    <p:sldId id="586" r:id="rId334"/>
    <p:sldId id="587" r:id="rId335"/>
    <p:sldId id="588" r:id="rId336"/>
    <p:sldId id="589" r:id="rId337"/>
    <p:sldId id="590" r:id="rId338"/>
    <p:sldId id="591" r:id="rId339"/>
    <p:sldId id="592" r:id="rId340"/>
    <p:sldId id="593" r:id="rId341"/>
    <p:sldId id="594" r:id="rId342"/>
    <p:sldId id="595" r:id="rId343"/>
    <p:sldId id="596" r:id="rId344"/>
    <p:sldId id="597" r:id="rId345"/>
    <p:sldId id="598" r:id="rId346"/>
    <p:sldId id="599" r:id="rId347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slide" Target="slides/slide282.xml"/><Relationship Id="rId286" Type="http://schemas.openxmlformats.org/officeDocument/2006/relationships/slide" Target="slides/slide283.xml"/><Relationship Id="rId287" Type="http://schemas.openxmlformats.org/officeDocument/2006/relationships/slide" Target="slides/slide284.xml"/><Relationship Id="rId288" Type="http://schemas.openxmlformats.org/officeDocument/2006/relationships/slide" Target="slides/slide285.xml"/><Relationship Id="rId289" Type="http://schemas.openxmlformats.org/officeDocument/2006/relationships/slide" Target="slides/slide286.xml"/><Relationship Id="rId290" Type="http://schemas.openxmlformats.org/officeDocument/2006/relationships/slide" Target="slides/slide287.xml"/><Relationship Id="rId291" Type="http://schemas.openxmlformats.org/officeDocument/2006/relationships/slide" Target="slides/slide288.xml"/><Relationship Id="rId292" Type="http://schemas.openxmlformats.org/officeDocument/2006/relationships/slide" Target="slides/slide289.xml"/><Relationship Id="rId293" Type="http://schemas.openxmlformats.org/officeDocument/2006/relationships/slide" Target="slides/slide290.xml"/><Relationship Id="rId294" Type="http://schemas.openxmlformats.org/officeDocument/2006/relationships/slide" Target="slides/slide291.xml"/><Relationship Id="rId295" Type="http://schemas.openxmlformats.org/officeDocument/2006/relationships/slide" Target="slides/slide292.xml"/><Relationship Id="rId296" Type="http://schemas.openxmlformats.org/officeDocument/2006/relationships/slide" Target="slides/slide293.xml"/><Relationship Id="rId297" Type="http://schemas.openxmlformats.org/officeDocument/2006/relationships/slide" Target="slides/slide294.xml"/><Relationship Id="rId298" Type="http://schemas.openxmlformats.org/officeDocument/2006/relationships/slide" Target="slides/slide295.xml"/><Relationship Id="rId299" Type="http://schemas.openxmlformats.org/officeDocument/2006/relationships/slide" Target="slides/slide296.xml"/><Relationship Id="rId300" Type="http://schemas.openxmlformats.org/officeDocument/2006/relationships/slide" Target="slides/slide297.xml"/><Relationship Id="rId301" Type="http://schemas.openxmlformats.org/officeDocument/2006/relationships/slide" Target="slides/slide298.xml"/><Relationship Id="rId302" Type="http://schemas.openxmlformats.org/officeDocument/2006/relationships/slide" Target="slides/slide299.xml"/><Relationship Id="rId303" Type="http://schemas.openxmlformats.org/officeDocument/2006/relationships/slide" Target="slides/slide300.xml"/><Relationship Id="rId304" Type="http://schemas.openxmlformats.org/officeDocument/2006/relationships/slide" Target="slides/slide301.xml"/><Relationship Id="rId305" Type="http://schemas.openxmlformats.org/officeDocument/2006/relationships/slide" Target="slides/slide302.xml"/><Relationship Id="rId306" Type="http://schemas.openxmlformats.org/officeDocument/2006/relationships/slide" Target="slides/slide303.xml"/><Relationship Id="rId307" Type="http://schemas.openxmlformats.org/officeDocument/2006/relationships/slide" Target="slides/slide304.xml"/><Relationship Id="rId308" Type="http://schemas.openxmlformats.org/officeDocument/2006/relationships/slide" Target="slides/slide305.xml"/><Relationship Id="rId309" Type="http://schemas.openxmlformats.org/officeDocument/2006/relationships/slide" Target="slides/slide306.xml"/><Relationship Id="rId310" Type="http://schemas.openxmlformats.org/officeDocument/2006/relationships/slide" Target="slides/slide307.xml"/><Relationship Id="rId311" Type="http://schemas.openxmlformats.org/officeDocument/2006/relationships/slide" Target="slides/slide308.xml"/><Relationship Id="rId312" Type="http://schemas.openxmlformats.org/officeDocument/2006/relationships/slide" Target="slides/slide309.xml"/><Relationship Id="rId313" Type="http://schemas.openxmlformats.org/officeDocument/2006/relationships/slide" Target="slides/slide310.xml"/><Relationship Id="rId314" Type="http://schemas.openxmlformats.org/officeDocument/2006/relationships/slide" Target="slides/slide311.xml"/><Relationship Id="rId315" Type="http://schemas.openxmlformats.org/officeDocument/2006/relationships/slide" Target="slides/slide312.xml"/><Relationship Id="rId316" Type="http://schemas.openxmlformats.org/officeDocument/2006/relationships/slide" Target="slides/slide313.xml"/><Relationship Id="rId317" Type="http://schemas.openxmlformats.org/officeDocument/2006/relationships/slide" Target="slides/slide314.xml"/><Relationship Id="rId318" Type="http://schemas.openxmlformats.org/officeDocument/2006/relationships/slide" Target="slides/slide315.xml"/><Relationship Id="rId319" Type="http://schemas.openxmlformats.org/officeDocument/2006/relationships/slide" Target="slides/slide316.xml"/><Relationship Id="rId320" Type="http://schemas.openxmlformats.org/officeDocument/2006/relationships/slide" Target="slides/slide317.xml"/><Relationship Id="rId321" Type="http://schemas.openxmlformats.org/officeDocument/2006/relationships/slide" Target="slides/slide318.xml"/><Relationship Id="rId322" Type="http://schemas.openxmlformats.org/officeDocument/2006/relationships/slide" Target="slides/slide319.xml"/><Relationship Id="rId323" Type="http://schemas.openxmlformats.org/officeDocument/2006/relationships/slide" Target="slides/slide320.xml"/><Relationship Id="rId324" Type="http://schemas.openxmlformats.org/officeDocument/2006/relationships/slide" Target="slides/slide321.xml"/><Relationship Id="rId325" Type="http://schemas.openxmlformats.org/officeDocument/2006/relationships/slide" Target="slides/slide322.xml"/><Relationship Id="rId326" Type="http://schemas.openxmlformats.org/officeDocument/2006/relationships/slide" Target="slides/slide323.xml"/><Relationship Id="rId327" Type="http://schemas.openxmlformats.org/officeDocument/2006/relationships/slide" Target="slides/slide324.xml"/><Relationship Id="rId328" Type="http://schemas.openxmlformats.org/officeDocument/2006/relationships/slide" Target="slides/slide325.xml"/><Relationship Id="rId329" Type="http://schemas.openxmlformats.org/officeDocument/2006/relationships/slide" Target="slides/slide326.xml"/><Relationship Id="rId330" Type="http://schemas.openxmlformats.org/officeDocument/2006/relationships/slide" Target="slides/slide327.xml"/><Relationship Id="rId331" Type="http://schemas.openxmlformats.org/officeDocument/2006/relationships/slide" Target="slides/slide328.xml"/><Relationship Id="rId332" Type="http://schemas.openxmlformats.org/officeDocument/2006/relationships/slide" Target="slides/slide329.xml"/><Relationship Id="rId333" Type="http://schemas.openxmlformats.org/officeDocument/2006/relationships/slide" Target="slides/slide330.xml"/><Relationship Id="rId334" Type="http://schemas.openxmlformats.org/officeDocument/2006/relationships/slide" Target="slides/slide331.xml"/><Relationship Id="rId335" Type="http://schemas.openxmlformats.org/officeDocument/2006/relationships/slide" Target="slides/slide332.xml"/><Relationship Id="rId336" Type="http://schemas.openxmlformats.org/officeDocument/2006/relationships/slide" Target="slides/slide333.xml"/><Relationship Id="rId337" Type="http://schemas.openxmlformats.org/officeDocument/2006/relationships/slide" Target="slides/slide334.xml"/><Relationship Id="rId338" Type="http://schemas.openxmlformats.org/officeDocument/2006/relationships/slide" Target="slides/slide335.xml"/><Relationship Id="rId339" Type="http://schemas.openxmlformats.org/officeDocument/2006/relationships/slide" Target="slides/slide336.xml"/><Relationship Id="rId340" Type="http://schemas.openxmlformats.org/officeDocument/2006/relationships/slide" Target="slides/slide337.xml"/><Relationship Id="rId341" Type="http://schemas.openxmlformats.org/officeDocument/2006/relationships/slide" Target="slides/slide338.xml"/><Relationship Id="rId342" Type="http://schemas.openxmlformats.org/officeDocument/2006/relationships/slide" Target="slides/slide339.xml"/><Relationship Id="rId343" Type="http://schemas.openxmlformats.org/officeDocument/2006/relationships/slide" Target="slides/slide340.xml"/><Relationship Id="rId344" Type="http://schemas.openxmlformats.org/officeDocument/2006/relationships/slide" Target="slides/slide341.xml"/><Relationship Id="rId345" Type="http://schemas.openxmlformats.org/officeDocument/2006/relationships/slide" Target="slides/slide342.xml"/><Relationship Id="rId346" Type="http://schemas.openxmlformats.org/officeDocument/2006/relationships/slide" Target="slides/slide343.xml"/><Relationship Id="rId347" Type="http://schemas.openxmlformats.org/officeDocument/2006/relationships/slide" Target="slides/slide344.xml"/><Relationship Id="rId3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76CD-EA75-4876-A967-9E74AC9F41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194.xml.rels><?xml version="1.0" encoding="UTF-8"?>
<Relationships xmlns="http://schemas.openxmlformats.org/package/2006/relationships"><Relationship Id="rId1" Type="http://schemas.openxmlformats.org/officeDocument/2006/relationships/slide" Target="../slides/slide194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34.xml.rels><?xml version="1.0" encoding="UTF-8"?>
<Relationships xmlns="http://schemas.openxmlformats.org/package/2006/relationships"><Relationship Id="rId1" Type="http://schemas.openxmlformats.org/officeDocument/2006/relationships/slide" Target="../slides/slide234.xml"/><Relationship Id="rId2" Type="http://schemas.openxmlformats.org/officeDocument/2006/relationships/notesMaster" Target="../notesMasters/notesMaster1.xml"/>
</Relationships>
</file>

<file path=ppt/notesSlides/_rels/notesSlide235.xml.rels><?xml version="1.0" encoding="UTF-8"?>
<Relationships xmlns="http://schemas.openxmlformats.org/package/2006/relationships"><Relationship Id="rId1" Type="http://schemas.openxmlformats.org/officeDocument/2006/relationships/slide" Target="../slides/slide235.xml"/><Relationship Id="rId2" Type="http://schemas.openxmlformats.org/officeDocument/2006/relationships/notesMaster" Target="../notesMasters/notesMaster1.xml"/>
</Relationships>
</file>

<file path=ppt/notesSlides/_rels/notesSlide236.xml.rels><?xml version="1.0" encoding="UTF-8"?>
<Relationships xmlns="http://schemas.openxmlformats.org/package/2006/relationships"><Relationship Id="rId1" Type="http://schemas.openxmlformats.org/officeDocument/2006/relationships/slide" Target="../slides/slide23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60.xml.rels><?xml version="1.0" encoding="UTF-8"?>
<Relationships xmlns="http://schemas.openxmlformats.org/package/2006/relationships"><Relationship Id="rId1" Type="http://schemas.openxmlformats.org/officeDocument/2006/relationships/slide" Target="../slides/slide260.xml"/><Relationship Id="rId2" Type="http://schemas.openxmlformats.org/officeDocument/2006/relationships/notesMaster" Target="../notesMasters/notesMaster1.xml"/>
</Relationships>
</file>

<file path=ppt/notesSlides/_rels/notesSlide261.xml.rels><?xml version="1.0" encoding="UTF-8"?>
<Relationships xmlns="http://schemas.openxmlformats.org/package/2006/relationships"><Relationship Id="rId1" Type="http://schemas.openxmlformats.org/officeDocument/2006/relationships/slide" Target="../slides/slide261.xml"/><Relationship Id="rId2" Type="http://schemas.openxmlformats.org/officeDocument/2006/relationships/notesMaster" Target="../notesMasters/notesMaster1.xml"/>
</Relationships>
</file>

<file path=ppt/notesSlides/_rels/notesSlide262.xml.rels><?xml version="1.0" encoding="UTF-8"?>
<Relationships xmlns="http://schemas.openxmlformats.org/package/2006/relationships"><Relationship Id="rId1" Type="http://schemas.openxmlformats.org/officeDocument/2006/relationships/slide" Target="../slides/slide262.xml"/><Relationship Id="rId2" Type="http://schemas.openxmlformats.org/officeDocument/2006/relationships/notesMaster" Target="../notesMasters/notesMaster1.xml"/>
</Relationships>
</file>

<file path=ppt/notesSlides/_rels/notesSlide263.xml.rels><?xml version="1.0" encoding="UTF-8"?>
<Relationships xmlns="http://schemas.openxmlformats.org/package/2006/relationships"><Relationship Id="rId1" Type="http://schemas.openxmlformats.org/officeDocument/2006/relationships/slide" Target="../slides/slide263.xml"/><Relationship Id="rId2" Type="http://schemas.openxmlformats.org/officeDocument/2006/relationships/notesMaster" Target="../notesMasters/notesMaster1.xml"/>
</Relationships>
</file>

<file path=ppt/notesSlides/_rels/notesSlide264.xml.rels><?xml version="1.0" encoding="UTF-8"?>
<Relationships xmlns="http://schemas.openxmlformats.org/package/2006/relationships"><Relationship Id="rId1" Type="http://schemas.openxmlformats.org/officeDocument/2006/relationships/slide" Target="../slides/slide264.xml"/><Relationship Id="rId2" Type="http://schemas.openxmlformats.org/officeDocument/2006/relationships/notesMaster" Target="../notesMasters/notesMaster1.xml"/>
</Relationships>
</file>

<file path=ppt/notesSlides/_rels/notesSlide265.xml.rels><?xml version="1.0" encoding="UTF-8"?>
<Relationships xmlns="http://schemas.openxmlformats.org/package/2006/relationships"><Relationship Id="rId1" Type="http://schemas.openxmlformats.org/officeDocument/2006/relationships/slide" Target="../slides/slide265.xml"/><Relationship Id="rId2" Type="http://schemas.openxmlformats.org/officeDocument/2006/relationships/notesMaster" Target="../notesMasters/notesMaster1.xml"/>
</Relationships>
</file>

<file path=ppt/notesSlides/_rels/notesSlide266.xml.rels><?xml version="1.0" encoding="UTF-8"?>
<Relationships xmlns="http://schemas.openxmlformats.org/package/2006/relationships"><Relationship Id="rId1" Type="http://schemas.openxmlformats.org/officeDocument/2006/relationships/slide" Target="../slides/slide266.xml"/><Relationship Id="rId2" Type="http://schemas.openxmlformats.org/officeDocument/2006/relationships/notesMaster" Target="../notesMasters/notesMaster1.xml"/>
</Relationships>
</file>

<file path=ppt/notesSlides/_rels/notesSlide267.xml.rels><?xml version="1.0" encoding="UTF-8"?>
<Relationships xmlns="http://schemas.openxmlformats.org/package/2006/relationships"><Relationship Id="rId1" Type="http://schemas.openxmlformats.org/officeDocument/2006/relationships/slide" Target="../slides/slide267.xml"/><Relationship Id="rId2" Type="http://schemas.openxmlformats.org/officeDocument/2006/relationships/notesMaster" Target="../notesMasters/notesMaster1.xml"/>
</Relationships>
</file>

<file path=ppt/notesSlides/_rels/notesSlide268.xml.rels><?xml version="1.0" encoding="UTF-8"?>
<Relationships xmlns="http://schemas.openxmlformats.org/package/2006/relationships"><Relationship Id="rId1" Type="http://schemas.openxmlformats.org/officeDocument/2006/relationships/slide" Target="../slides/slide268.xml"/><Relationship Id="rId2" Type="http://schemas.openxmlformats.org/officeDocument/2006/relationships/notesMaster" Target="../notesMasters/notesMaster1.xml"/>
</Relationships>
</file>

<file path=ppt/notesSlides/_rels/notesSlide269.xml.rels><?xml version="1.0" encoding="UTF-8"?>
<Relationships xmlns="http://schemas.openxmlformats.org/package/2006/relationships"><Relationship Id="rId1" Type="http://schemas.openxmlformats.org/officeDocument/2006/relationships/slide" Target="../slides/slide26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70.xml.rels><?xml version="1.0" encoding="UTF-8"?>
<Relationships xmlns="http://schemas.openxmlformats.org/package/2006/relationships"><Relationship Id="rId1" Type="http://schemas.openxmlformats.org/officeDocument/2006/relationships/slide" Target="../slides/slide270.xml"/><Relationship Id="rId2" Type="http://schemas.openxmlformats.org/officeDocument/2006/relationships/notesMaster" Target="../notesMasters/notesMaster1.xml"/>
</Relationships>
</file>

<file path=ppt/notesSlides/_rels/notesSlide271.xml.rels><?xml version="1.0" encoding="UTF-8"?>
<Relationships xmlns="http://schemas.openxmlformats.org/package/2006/relationships"><Relationship Id="rId1" Type="http://schemas.openxmlformats.org/officeDocument/2006/relationships/slide" Target="../slides/slide271.xml"/><Relationship Id="rId2" Type="http://schemas.openxmlformats.org/officeDocument/2006/relationships/notesMaster" Target="../notesMasters/notesMaster1.xml"/>
</Relationships>
</file>

<file path=ppt/notesSlides/_rels/notesSlide272.xml.rels><?xml version="1.0" encoding="UTF-8"?>
<Relationships xmlns="http://schemas.openxmlformats.org/package/2006/relationships"><Relationship Id="rId1" Type="http://schemas.openxmlformats.org/officeDocument/2006/relationships/slide" Target="../slides/slide272.xml"/><Relationship Id="rId2" Type="http://schemas.openxmlformats.org/officeDocument/2006/relationships/notesMaster" Target="../notesMasters/notesMaster1.xml"/>
</Relationships>
</file>

<file path=ppt/notesSlides/_rels/notesSlide273.xml.rels><?xml version="1.0" encoding="UTF-8"?>
<Relationships xmlns="http://schemas.openxmlformats.org/package/2006/relationships"><Relationship Id="rId1" Type="http://schemas.openxmlformats.org/officeDocument/2006/relationships/slide" Target="../slides/slide273.xml"/><Relationship Id="rId2" Type="http://schemas.openxmlformats.org/officeDocument/2006/relationships/notesMaster" Target="../notesMasters/notesMaster1.xml"/>
</Relationships>
</file>

<file path=ppt/notesSlides/_rels/notesSlide274.xml.rels><?xml version="1.0" encoding="UTF-8"?>
<Relationships xmlns="http://schemas.openxmlformats.org/package/2006/relationships"><Relationship Id="rId1" Type="http://schemas.openxmlformats.org/officeDocument/2006/relationships/slide" Target="../slides/slide274.xml"/><Relationship Id="rId2" Type="http://schemas.openxmlformats.org/officeDocument/2006/relationships/notesMaster" Target="../notesMasters/notesMaster1.xml"/>
</Relationships>
</file>

<file path=ppt/notesSlides/_rels/notesSlide275.xml.rels><?xml version="1.0" encoding="UTF-8"?>
<Relationships xmlns="http://schemas.openxmlformats.org/package/2006/relationships"><Relationship Id="rId1" Type="http://schemas.openxmlformats.org/officeDocument/2006/relationships/slide" Target="../slides/slide275.xml"/><Relationship Id="rId2" Type="http://schemas.openxmlformats.org/officeDocument/2006/relationships/notesMaster" Target="../notesMasters/notesMaster1.xml"/>
</Relationships>
</file>

<file path=ppt/notesSlides/_rels/notesSlide276.xml.rels><?xml version="1.0" encoding="UTF-8"?>
<Relationships xmlns="http://schemas.openxmlformats.org/package/2006/relationships"><Relationship Id="rId1" Type="http://schemas.openxmlformats.org/officeDocument/2006/relationships/slide" Target="../slides/slide276.xml"/><Relationship Id="rId2" Type="http://schemas.openxmlformats.org/officeDocument/2006/relationships/notesMaster" Target="../notesMasters/notesMaster1.xml"/>
</Relationships>
</file>

<file path=ppt/notesSlides/_rels/notesSlide277.xml.rels><?xml version="1.0" encoding="UTF-8"?>
<Relationships xmlns="http://schemas.openxmlformats.org/package/2006/relationships"><Relationship Id="rId1" Type="http://schemas.openxmlformats.org/officeDocument/2006/relationships/slide" Target="../slides/slide277.xml"/><Relationship Id="rId2" Type="http://schemas.openxmlformats.org/officeDocument/2006/relationships/notesMaster" Target="../notesMasters/notesMaster1.xml"/>
</Relationships>
</file>

<file path=ppt/notesSlides/_rels/notesSlide278.xml.rels><?xml version="1.0" encoding="UTF-8"?>
<Relationships xmlns="http://schemas.openxmlformats.org/package/2006/relationships"><Relationship Id="rId1" Type="http://schemas.openxmlformats.org/officeDocument/2006/relationships/slide" Target="../slides/slide278.xml"/><Relationship Id="rId2" Type="http://schemas.openxmlformats.org/officeDocument/2006/relationships/notesMaster" Target="../notesMasters/notesMaster1.xml"/>
</Relationships>
</file>

<file path=ppt/notesSlides/_rels/notesSlide279.xml.rels><?xml version="1.0" encoding="UTF-8"?>
<Relationships xmlns="http://schemas.openxmlformats.org/package/2006/relationships"><Relationship Id="rId1" Type="http://schemas.openxmlformats.org/officeDocument/2006/relationships/slide" Target="../slides/slide279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80.xml.rels><?xml version="1.0" encoding="UTF-8"?>
<Relationships xmlns="http://schemas.openxmlformats.org/package/2006/relationships"><Relationship Id="rId1" Type="http://schemas.openxmlformats.org/officeDocument/2006/relationships/slide" Target="../slides/slide280.xml"/><Relationship Id="rId2" Type="http://schemas.openxmlformats.org/officeDocument/2006/relationships/notesMaster" Target="../notesMasters/notesMaster1.xml"/>
</Relationships>
</file>

<file path=ppt/notesSlides/_rels/notesSlide281.xml.rels><?xml version="1.0" encoding="UTF-8"?>
<Relationships xmlns="http://schemas.openxmlformats.org/package/2006/relationships"><Relationship Id="rId1" Type="http://schemas.openxmlformats.org/officeDocument/2006/relationships/slide" Target="../slides/slide281.xml"/><Relationship Id="rId2" Type="http://schemas.openxmlformats.org/officeDocument/2006/relationships/notesMaster" Target="../notesMasters/notesMaster1.xml"/>
</Relationships>
</file>

<file path=ppt/notesSlides/_rels/notesSlide282.xml.rels><?xml version="1.0" encoding="UTF-8"?>
<Relationships xmlns="http://schemas.openxmlformats.org/package/2006/relationships"><Relationship Id="rId1" Type="http://schemas.openxmlformats.org/officeDocument/2006/relationships/slide" Target="../slides/slide282.xml"/><Relationship Id="rId2" Type="http://schemas.openxmlformats.org/officeDocument/2006/relationships/notesMaster" Target="../notesMasters/notesMaster1.xml"/>
</Relationships>
</file>

<file path=ppt/notesSlides/_rels/notesSlide283.xml.rels><?xml version="1.0" encoding="UTF-8"?>
<Relationships xmlns="http://schemas.openxmlformats.org/package/2006/relationships"><Relationship Id="rId1" Type="http://schemas.openxmlformats.org/officeDocument/2006/relationships/slide" Target="../slides/slide283.xml"/><Relationship Id="rId2" Type="http://schemas.openxmlformats.org/officeDocument/2006/relationships/notesMaster" Target="../notesMasters/notesMaster1.xml"/>
</Relationships>
</file>

<file path=ppt/notesSlides/_rels/notesSlide284.xml.rels><?xml version="1.0" encoding="UTF-8"?>
<Relationships xmlns="http://schemas.openxmlformats.org/package/2006/relationships"><Relationship Id="rId1" Type="http://schemas.openxmlformats.org/officeDocument/2006/relationships/slide" Target="../slides/slide284.xml"/><Relationship Id="rId2" Type="http://schemas.openxmlformats.org/officeDocument/2006/relationships/notesMaster" Target="../notesMasters/notesMaster1.xml"/>
</Relationships>
</file>

<file path=ppt/notesSlides/_rels/notesSlide285.xml.rels><?xml version="1.0" encoding="UTF-8"?>
<Relationships xmlns="http://schemas.openxmlformats.org/package/2006/relationships"><Relationship Id="rId1" Type="http://schemas.openxmlformats.org/officeDocument/2006/relationships/slide" Target="../slides/slide285.xml"/><Relationship Id="rId2" Type="http://schemas.openxmlformats.org/officeDocument/2006/relationships/notesMaster" Target="../notesMasters/notesMaster1.xml"/>
</Relationships>
</file>

<file path=ppt/notesSlides/_rels/notesSlide286.xml.rels><?xml version="1.0" encoding="UTF-8"?>
<Relationships xmlns="http://schemas.openxmlformats.org/package/2006/relationships"><Relationship Id="rId1" Type="http://schemas.openxmlformats.org/officeDocument/2006/relationships/slide" Target="../slides/slide286.xml"/><Relationship Id="rId2" Type="http://schemas.openxmlformats.org/officeDocument/2006/relationships/notesMaster" Target="../notesMasters/notesMaster1.xml"/>
</Relationships>
</file>

<file path=ppt/notesSlides/_rels/notesSlide287.xml.rels><?xml version="1.0" encoding="UTF-8"?>
<Relationships xmlns="http://schemas.openxmlformats.org/package/2006/relationships"><Relationship Id="rId1" Type="http://schemas.openxmlformats.org/officeDocument/2006/relationships/slide" Target="../slides/slide287.xml"/><Relationship Id="rId2" Type="http://schemas.openxmlformats.org/officeDocument/2006/relationships/notesMaster" Target="../notesMasters/notesMaster1.xml"/>
</Relationships>
</file>

<file path=ppt/notesSlides/_rels/notesSlide288.xml.rels><?xml version="1.0" encoding="UTF-8"?>
<Relationships xmlns="http://schemas.openxmlformats.org/package/2006/relationships"><Relationship Id="rId1" Type="http://schemas.openxmlformats.org/officeDocument/2006/relationships/slide" Target="../slides/slide288.xml"/><Relationship Id="rId2" Type="http://schemas.openxmlformats.org/officeDocument/2006/relationships/notesMaster" Target="../notesMasters/notesMaster1.xml"/>
</Relationships>
</file>

<file path=ppt/notesSlides/_rels/notesSlide289.xml.rels><?xml version="1.0" encoding="UTF-8"?>
<Relationships xmlns="http://schemas.openxmlformats.org/package/2006/relationships"><Relationship Id="rId1" Type="http://schemas.openxmlformats.org/officeDocument/2006/relationships/slide" Target="../slides/slide28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290.xml.rels><?xml version="1.0" encoding="UTF-8"?>
<Relationships xmlns="http://schemas.openxmlformats.org/package/2006/relationships"><Relationship Id="rId1" Type="http://schemas.openxmlformats.org/officeDocument/2006/relationships/slide" Target="../slides/slide290.xml"/><Relationship Id="rId2" Type="http://schemas.openxmlformats.org/officeDocument/2006/relationships/notesMaster" Target="../notesMasters/notesMaster1.xml"/>
</Relationships>
</file>

<file path=ppt/notesSlides/_rels/notesSlide291.xml.rels><?xml version="1.0" encoding="UTF-8"?>
<Relationships xmlns="http://schemas.openxmlformats.org/package/2006/relationships"><Relationship Id="rId1" Type="http://schemas.openxmlformats.org/officeDocument/2006/relationships/slide" Target="../slides/slide291.xml"/><Relationship Id="rId2" Type="http://schemas.openxmlformats.org/officeDocument/2006/relationships/notesMaster" Target="../notesMasters/notesMaster1.xml"/>
</Relationships>
</file>

<file path=ppt/notesSlides/_rels/notesSlide292.xml.rels><?xml version="1.0" encoding="UTF-8"?>
<Relationships xmlns="http://schemas.openxmlformats.org/package/2006/relationships"><Relationship Id="rId1" Type="http://schemas.openxmlformats.org/officeDocument/2006/relationships/slide" Target="../slides/slide292.xml"/><Relationship Id="rId2" Type="http://schemas.openxmlformats.org/officeDocument/2006/relationships/notesMaster" Target="../notesMasters/notesMaster1.xml"/>
</Relationships>
</file>

<file path=ppt/notesSlides/_rels/notesSlide293.xml.rels><?xml version="1.0" encoding="UTF-8"?>
<Relationships xmlns="http://schemas.openxmlformats.org/package/2006/relationships"><Relationship Id="rId1" Type="http://schemas.openxmlformats.org/officeDocument/2006/relationships/slide" Target="../slides/slide293.xml"/><Relationship Id="rId2" Type="http://schemas.openxmlformats.org/officeDocument/2006/relationships/notesMaster" Target="../notesMasters/notesMaster1.xml"/>
</Relationships>
</file>

<file path=ppt/notesSlides/_rels/notesSlide294.xml.rels><?xml version="1.0" encoding="UTF-8"?>
<Relationships xmlns="http://schemas.openxmlformats.org/package/2006/relationships"><Relationship Id="rId1" Type="http://schemas.openxmlformats.org/officeDocument/2006/relationships/slide" Target="../slides/slide294.xml"/><Relationship Id="rId2" Type="http://schemas.openxmlformats.org/officeDocument/2006/relationships/notesMaster" Target="../notesMasters/notesMaster1.xml"/>
</Relationships>
</file>

<file path=ppt/notesSlides/_rels/notesSlide295.xml.rels><?xml version="1.0" encoding="UTF-8"?>
<Relationships xmlns="http://schemas.openxmlformats.org/package/2006/relationships"><Relationship Id="rId1" Type="http://schemas.openxmlformats.org/officeDocument/2006/relationships/slide" Target="../slides/slide295.xml"/><Relationship Id="rId2" Type="http://schemas.openxmlformats.org/officeDocument/2006/relationships/notesMaster" Target="../notesMasters/notesMaster1.xml"/>
</Relationships>
</file>

<file path=ppt/notesSlides/_rels/notesSlide296.xml.rels><?xml version="1.0" encoding="UTF-8"?>
<Relationships xmlns="http://schemas.openxmlformats.org/package/2006/relationships"><Relationship Id="rId1" Type="http://schemas.openxmlformats.org/officeDocument/2006/relationships/slide" Target="../slides/slide296.xml"/><Relationship Id="rId2" Type="http://schemas.openxmlformats.org/officeDocument/2006/relationships/notesMaster" Target="../notesMasters/notesMaster1.xml"/>
</Relationships>
</file>

<file path=ppt/notesSlides/_rels/notesSlide297.xml.rels><?xml version="1.0" encoding="UTF-8"?>
<Relationships xmlns="http://schemas.openxmlformats.org/package/2006/relationships"><Relationship Id="rId1" Type="http://schemas.openxmlformats.org/officeDocument/2006/relationships/slide" Target="../slides/slide297.xml"/><Relationship Id="rId2" Type="http://schemas.openxmlformats.org/officeDocument/2006/relationships/notesMaster" Target="../notesMasters/notesMaster1.xml"/>
</Relationships>
</file>

<file path=ppt/notesSlides/_rels/notesSlide298.xml.rels><?xml version="1.0" encoding="UTF-8"?>
<Relationships xmlns="http://schemas.openxmlformats.org/package/2006/relationships"><Relationship Id="rId1" Type="http://schemas.openxmlformats.org/officeDocument/2006/relationships/slide" Target="../slides/slide298.xml"/><Relationship Id="rId2" Type="http://schemas.openxmlformats.org/officeDocument/2006/relationships/notesMaster" Target="../notesMasters/notesMaster1.xml"/>
</Relationships>
</file>

<file path=ppt/notesSlides/_rels/notesSlide299.xml.rels><?xml version="1.0" encoding="UTF-8"?>
<Relationships xmlns="http://schemas.openxmlformats.org/package/2006/relationships"><Relationship Id="rId1" Type="http://schemas.openxmlformats.org/officeDocument/2006/relationships/slide" Target="../slides/slide29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00.xml.rels><?xml version="1.0" encoding="UTF-8"?>
<Relationships xmlns="http://schemas.openxmlformats.org/package/2006/relationships"><Relationship Id="rId1" Type="http://schemas.openxmlformats.org/officeDocument/2006/relationships/slide" Target="../slides/slide300.xml"/><Relationship Id="rId2" Type="http://schemas.openxmlformats.org/officeDocument/2006/relationships/notesMaster" Target="../notesMasters/notesMaster1.xml"/>
</Relationships>
</file>

<file path=ppt/notesSlides/_rels/notesSlide301.xml.rels><?xml version="1.0" encoding="UTF-8"?>
<Relationships xmlns="http://schemas.openxmlformats.org/package/2006/relationships"><Relationship Id="rId1" Type="http://schemas.openxmlformats.org/officeDocument/2006/relationships/slide" Target="../slides/slide301.xml"/><Relationship Id="rId2" Type="http://schemas.openxmlformats.org/officeDocument/2006/relationships/notesMaster" Target="../notesMasters/notesMaster1.xml"/>
</Relationships>
</file>

<file path=ppt/notesSlides/_rels/notesSlide302.xml.rels><?xml version="1.0" encoding="UTF-8"?>
<Relationships xmlns="http://schemas.openxmlformats.org/package/2006/relationships"><Relationship Id="rId1" Type="http://schemas.openxmlformats.org/officeDocument/2006/relationships/slide" Target="../slides/slide302.xml"/><Relationship Id="rId2" Type="http://schemas.openxmlformats.org/officeDocument/2006/relationships/notesMaster" Target="../notesMasters/notesMaster1.xml"/>
</Relationships>
</file>

<file path=ppt/notesSlides/_rels/notesSlide303.xml.rels><?xml version="1.0" encoding="UTF-8"?>
<Relationships xmlns="http://schemas.openxmlformats.org/package/2006/relationships"><Relationship Id="rId1" Type="http://schemas.openxmlformats.org/officeDocument/2006/relationships/slide" Target="../slides/slide303.xml"/><Relationship Id="rId2" Type="http://schemas.openxmlformats.org/officeDocument/2006/relationships/notesMaster" Target="../notesMasters/notesMaster1.xml"/>
</Relationships>
</file>

<file path=ppt/notesSlides/_rels/notesSlide304.xml.rels><?xml version="1.0" encoding="UTF-8"?>
<Relationships xmlns="http://schemas.openxmlformats.org/package/2006/relationships"><Relationship Id="rId1" Type="http://schemas.openxmlformats.org/officeDocument/2006/relationships/slide" Target="../slides/slide304.xml"/><Relationship Id="rId2" Type="http://schemas.openxmlformats.org/officeDocument/2006/relationships/notesMaster" Target="../notesMasters/notesMaster1.xml"/>
</Relationships>
</file>

<file path=ppt/notesSlides/_rels/notesSlide305.xml.rels><?xml version="1.0" encoding="UTF-8"?>
<Relationships xmlns="http://schemas.openxmlformats.org/package/2006/relationships"><Relationship Id="rId1" Type="http://schemas.openxmlformats.org/officeDocument/2006/relationships/slide" Target="../slides/slide305.xml"/><Relationship Id="rId2" Type="http://schemas.openxmlformats.org/officeDocument/2006/relationships/notesMaster" Target="../notesMasters/notesMaster1.xml"/>
</Relationships>
</file>

<file path=ppt/notesSlides/_rels/notesSlide306.xml.rels><?xml version="1.0" encoding="UTF-8"?>
<Relationships xmlns="http://schemas.openxmlformats.org/package/2006/relationships"><Relationship Id="rId1" Type="http://schemas.openxmlformats.org/officeDocument/2006/relationships/slide" Target="../slides/slide306.xml"/><Relationship Id="rId2" Type="http://schemas.openxmlformats.org/officeDocument/2006/relationships/notesMaster" Target="../notesMasters/notesMaster1.xml"/>
</Relationships>
</file>

<file path=ppt/notesSlides/_rels/notesSlide307.xml.rels><?xml version="1.0" encoding="UTF-8"?>
<Relationships xmlns="http://schemas.openxmlformats.org/package/2006/relationships"><Relationship Id="rId1" Type="http://schemas.openxmlformats.org/officeDocument/2006/relationships/slide" Target="../slides/slide307.xml"/><Relationship Id="rId2" Type="http://schemas.openxmlformats.org/officeDocument/2006/relationships/notesMaster" Target="../notesMasters/notesMaster1.xml"/>
</Relationships>
</file>

<file path=ppt/notesSlides/_rels/notesSlide308.xml.rels><?xml version="1.0" encoding="UTF-8"?>
<Relationships xmlns="http://schemas.openxmlformats.org/package/2006/relationships"><Relationship Id="rId1" Type="http://schemas.openxmlformats.org/officeDocument/2006/relationships/slide" Target="../slides/slide308.xml"/><Relationship Id="rId2" Type="http://schemas.openxmlformats.org/officeDocument/2006/relationships/notesMaster" Target="../notesMasters/notesMaster1.xml"/>
</Relationships>
</file>

<file path=ppt/notesSlides/_rels/notesSlide309.xml.rels><?xml version="1.0" encoding="UTF-8"?>
<Relationships xmlns="http://schemas.openxmlformats.org/package/2006/relationships"><Relationship Id="rId1" Type="http://schemas.openxmlformats.org/officeDocument/2006/relationships/slide" Target="../slides/slide30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10.xml.rels><?xml version="1.0" encoding="UTF-8"?>
<Relationships xmlns="http://schemas.openxmlformats.org/package/2006/relationships"><Relationship Id="rId1" Type="http://schemas.openxmlformats.org/officeDocument/2006/relationships/slide" Target="../slides/slide310.xml"/><Relationship Id="rId2" Type="http://schemas.openxmlformats.org/officeDocument/2006/relationships/notesMaster" Target="../notesMasters/notesMaster1.xml"/>
</Relationships>
</file>

<file path=ppt/notesSlides/_rels/notesSlide311.xml.rels><?xml version="1.0" encoding="UTF-8"?>
<Relationships xmlns="http://schemas.openxmlformats.org/package/2006/relationships"><Relationship Id="rId1" Type="http://schemas.openxmlformats.org/officeDocument/2006/relationships/slide" Target="../slides/slide311.xml"/><Relationship Id="rId2" Type="http://schemas.openxmlformats.org/officeDocument/2006/relationships/notesMaster" Target="../notesMasters/notesMaster1.xml"/>
</Relationships>
</file>

<file path=ppt/notesSlides/_rels/notesSlide312.xml.rels><?xml version="1.0" encoding="UTF-8"?>
<Relationships xmlns="http://schemas.openxmlformats.org/package/2006/relationships"><Relationship Id="rId1" Type="http://schemas.openxmlformats.org/officeDocument/2006/relationships/slide" Target="../slides/slide312.xml"/><Relationship Id="rId2" Type="http://schemas.openxmlformats.org/officeDocument/2006/relationships/notesMaster" Target="../notesMasters/notesMaster1.xml"/>
</Relationships>
</file>

<file path=ppt/notesSlides/_rels/notesSlide313.xml.rels><?xml version="1.0" encoding="UTF-8"?>
<Relationships xmlns="http://schemas.openxmlformats.org/package/2006/relationships"><Relationship Id="rId1" Type="http://schemas.openxmlformats.org/officeDocument/2006/relationships/slide" Target="../slides/slide313.xml"/><Relationship Id="rId2" Type="http://schemas.openxmlformats.org/officeDocument/2006/relationships/notesMaster" Target="../notesMasters/notesMaster1.xml"/>
</Relationships>
</file>

<file path=ppt/notesSlides/_rels/notesSlide314.xml.rels><?xml version="1.0" encoding="UTF-8"?>
<Relationships xmlns="http://schemas.openxmlformats.org/package/2006/relationships"><Relationship Id="rId1" Type="http://schemas.openxmlformats.org/officeDocument/2006/relationships/slide" Target="../slides/slide314.xml"/><Relationship Id="rId2" Type="http://schemas.openxmlformats.org/officeDocument/2006/relationships/notesMaster" Target="../notesMasters/notesMaster1.xml"/>
</Relationships>
</file>

<file path=ppt/notesSlides/_rels/notesSlide315.xml.rels><?xml version="1.0" encoding="UTF-8"?>
<Relationships xmlns="http://schemas.openxmlformats.org/package/2006/relationships"><Relationship Id="rId1" Type="http://schemas.openxmlformats.org/officeDocument/2006/relationships/slide" Target="../slides/slide315.xml"/><Relationship Id="rId2" Type="http://schemas.openxmlformats.org/officeDocument/2006/relationships/notesMaster" Target="../notesMasters/notesMaster1.xml"/>
</Relationships>
</file>

<file path=ppt/notesSlides/_rels/notesSlide316.xml.rels><?xml version="1.0" encoding="UTF-8"?>
<Relationships xmlns="http://schemas.openxmlformats.org/package/2006/relationships"><Relationship Id="rId1" Type="http://schemas.openxmlformats.org/officeDocument/2006/relationships/slide" Target="../slides/slide316.xml"/><Relationship Id="rId2" Type="http://schemas.openxmlformats.org/officeDocument/2006/relationships/notesMaster" Target="../notesMasters/notesMaster1.xml"/>
</Relationships>
</file>

<file path=ppt/notesSlides/_rels/notesSlide317.xml.rels><?xml version="1.0" encoding="UTF-8"?>
<Relationships xmlns="http://schemas.openxmlformats.org/package/2006/relationships"><Relationship Id="rId1" Type="http://schemas.openxmlformats.org/officeDocument/2006/relationships/slide" Target="../slides/slide317.xml"/><Relationship Id="rId2" Type="http://schemas.openxmlformats.org/officeDocument/2006/relationships/notesMaster" Target="../notesMasters/notesMaster1.xml"/>
</Relationships>
</file>

<file path=ppt/notesSlides/_rels/notesSlide318.xml.rels><?xml version="1.0" encoding="UTF-8"?>
<Relationships xmlns="http://schemas.openxmlformats.org/package/2006/relationships"><Relationship Id="rId1" Type="http://schemas.openxmlformats.org/officeDocument/2006/relationships/slide" Target="../slides/slide318.xml"/><Relationship Id="rId2" Type="http://schemas.openxmlformats.org/officeDocument/2006/relationships/notesMaster" Target="../notesMasters/notesMaster1.xml"/>
</Relationships>
</file>

<file path=ppt/notesSlides/_rels/notesSlide319.xml.rels><?xml version="1.0" encoding="UTF-8"?>
<Relationships xmlns="http://schemas.openxmlformats.org/package/2006/relationships"><Relationship Id="rId1" Type="http://schemas.openxmlformats.org/officeDocument/2006/relationships/slide" Target="../slides/slide31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20.xml.rels><?xml version="1.0" encoding="UTF-8"?>
<Relationships xmlns="http://schemas.openxmlformats.org/package/2006/relationships"><Relationship Id="rId1" Type="http://schemas.openxmlformats.org/officeDocument/2006/relationships/slide" Target="../slides/slide320.xml"/><Relationship Id="rId2" Type="http://schemas.openxmlformats.org/officeDocument/2006/relationships/notesMaster" Target="../notesMasters/notesMaster1.xml"/>
</Relationships>
</file>

<file path=ppt/notesSlides/_rels/notesSlide321.xml.rels><?xml version="1.0" encoding="UTF-8"?>
<Relationships xmlns="http://schemas.openxmlformats.org/package/2006/relationships"><Relationship Id="rId1" Type="http://schemas.openxmlformats.org/officeDocument/2006/relationships/slide" Target="../slides/slide321.xml"/><Relationship Id="rId2" Type="http://schemas.openxmlformats.org/officeDocument/2006/relationships/notesMaster" Target="../notesMasters/notesMaster1.xml"/>
</Relationships>
</file>

<file path=ppt/notesSlides/_rels/notesSlide322.xml.rels><?xml version="1.0" encoding="UTF-8"?>
<Relationships xmlns="http://schemas.openxmlformats.org/package/2006/relationships"><Relationship Id="rId1" Type="http://schemas.openxmlformats.org/officeDocument/2006/relationships/slide" Target="../slides/slide32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EA08-B31A-426C-988A-0F25CB7E0C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F460-6762-489E-9FC0-4003CE04C0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0FBA-4F9F-4211-AD74-20B64092EB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C0D2-302F-41E4-8DE1-8466F35102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4AF2-A246-42C3-A2FD-EF42BD76A3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EC9F-7632-4F32-A058-A7DFC822BB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50F0-9099-4B49-8FB7-E1EBC5F379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2F9B-3BA0-4A1F-886D-F9B794AE21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82D8-DC4D-45DD-BE93-6DAF9EEF45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7629-3FED-4812-A080-8866BDD968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48DA-6D96-4B10-AFBE-A948471F4D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6F97-6EDD-4F2B-B480-A6A2E6A194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E669-4C4A-45A5-AE68-264D16C43A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19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70B6-2030-40C7-95AE-BA8E9F2498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0C2F-5B19-4916-BDE1-8E1610283A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AC2F-6B83-44B1-971C-1439E6A975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6819-91D9-4C6F-B969-A9965DBB21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76E9-0B14-4A7F-B783-EE68819E0A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F0DC-0D97-464A-9A69-4B93352ED6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6BFD-0735-4380-96D9-6F59443ECA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C877-C550-4C05-9FB7-62F53D8057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0627-1477-402E-8EBD-1964691DEE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9140-D063-4663-A351-0D116ED6F4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F109-2C87-46E6-9D47-805324B283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6AFC-C4AD-46CB-8D95-7C15891F88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2EE4-2F6A-4EB5-8E58-141429D806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B814-47FC-4E12-92A6-6A0285E282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40C6-C194-42E8-96F8-29A530A20A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A397-C6E4-4429-A3E7-4ECADC23EE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0CD4-03A3-420D-909E-3738527FF8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3A83-FDDA-40D1-A7FE-9A9F1E134A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D530-2D93-4217-990F-A5D28EF097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D900-2830-4F87-855A-C3D04295FB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A7FA-3800-4215-A179-0F885F9DC4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C005-123F-430C-B4B4-052648C937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8F09-6B81-4026-B848-3B23432488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C967-24B1-44EE-B44B-13CD8836D3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266A-9261-4C12-9609-A96DC25451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3EC6-1C11-4B23-9191-08A2E4A742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9A73-34AF-4E06-8FB5-DE04E4493A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62BD-BC60-42BB-8B2E-8F7F3CD3F0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90ED-2BBF-4F41-9C64-822673C767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C75C-DA67-4456-9A51-0A71C77031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E0A3-C7D6-4E4A-B120-6871003F81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9FCE-255D-4898-9943-BCF9B551A8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92D7-89C6-476B-8F75-9073F10ACF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FE01-E78F-49C0-8A4D-D247F4BA57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32E4-FA48-4124-8147-1856992F65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33C7-476B-4CD9-AD6B-BF89414251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4EC8-B6B4-40AD-8371-8288BEC57B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9BE3-B542-4ED4-9B52-4D1A60EA89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052B-CA31-442E-AAD1-CDFAC518B1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3E68-0E08-482C-8A05-62FDFF39B2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82BB-6808-4B8D-B8D1-9764EF842E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C725-B572-4C5E-B245-CF2B2D013D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9DE7-4731-4F78-8387-E37E4ADD53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718D-88CC-470A-A470-6D91EC7D40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43CC-B3F8-4C3E-8DD7-350EB019F7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1282-0C37-42CF-A502-803523F60E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D75D-E225-4CA3-A8F4-5D208B086D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A024-C33F-4F85-8A23-EB7CBC8D0B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6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8C5D-29E3-4B28-A1F2-726833F028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4369-CDAC-4DEB-92EF-CED38B4BE2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6BF7-391A-4F8E-9C85-A2A29803C2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F8C7-8564-4411-9842-17256E4EA5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98C1-67E0-4112-ABB1-E14110D989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B1E7-46BC-4E5C-AD4D-4BB82E6504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8C9A-B80A-4602-B118-19566D4BB4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4D3F-A8B3-448D-B6A6-F9F2CA5274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74DF-93BC-48DE-AE75-41D905FB42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EAB1-5FA2-448F-BCDE-1D51BE5ABC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11B1-308D-405B-B73B-5AF44D425C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1E84-B4BE-493E-800F-AD1E7E2D43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75DF-2A91-45ED-80BD-46975DD034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A3C2-BA5B-40A3-AD64-6250A0F328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6AFA-5774-441B-B54A-1D065EC332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4EBA-6111-4303-83EF-BCB744DD19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F032-B065-418F-8581-0B924AAB34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49E6-0DB8-4EE0-B4E5-9DB0E03631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305F-4D76-4B9C-80BC-E2C0FF0629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245C-79B1-498D-A487-B4AC6FA035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20DF-987E-405C-BDB9-7699E56D1B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5726-2A63-4422-AB3C-547D507F8E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EA12-0245-4BF2-9665-343F4192B3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30A1-9B3B-4277-A528-2CC9386F25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7EF8-5B25-43D3-8653-8D160DD26D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62F9-CCE6-4CB0-A129-19B4866A00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DF98-E758-4A7E-9D11-8AC6E42B05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664B-176D-496A-8F69-B6A79ACF4F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0243-A439-489F-AEA9-A6853A462F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D060-20F5-4281-B616-F68DCC829D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DDB4-6C2D-40F9-A926-7DD555F915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F56A-DF92-4F42-A74B-012D870E29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A354-D5C1-4810-A630-CE75652515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7EF9-F29D-4783-A761-D65297B92B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8B25-28FB-472F-A573-1D9000F28F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CF18-82F4-4D84-A7D8-628FA9C31E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5B96-50CF-483F-A98F-58585B5B87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C757-4DBC-4415-91E9-3B82AAF36E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EB5D-B179-4EA7-B795-94AB86DF55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21F3-F073-4ADF-83B4-0F6DCC6830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B0B6-9FFC-4A75-94E6-B61B926E6D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649D-092E-44EF-B827-C786FD59C0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55AC-9D5F-4B24-9B6F-71FB68E4EB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3C2C-AAD4-4DC4-9652-141C47A094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47A3-83FE-4DAD-917E-06F77217E6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DEBC-6D66-4A87-B105-9D733CE6E6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5585-6FBE-46CD-8F5A-AD90BCC4E9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103C-FC28-4A40-A4A3-01CC685ECF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BE73-9AB9-4837-9086-600B0DADAC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0BBE-BB6F-4620-9A58-7C41B321C6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D112-0FB3-4DF9-8791-3E55B955D6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6997-92AC-4EEB-ABCD-5F41F41DA1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6D0E-9C35-46CC-BAE2-58B2A7F685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F406-6DA2-44F7-87CB-ED8285D4BE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87B7-2AF9-4542-9242-C319033254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D4C8-3566-4354-AB91-DAD8362856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C8E5-DBA7-4A79-8E69-64138D0AD1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A918-7C52-44EB-880F-E75DBA80E4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70BC-9F5D-45B4-8E38-A3386AAB03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60C1-AEE7-4EF9-829A-8C49EAFF32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A689-D028-43CE-80C6-2CFE1DA495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B734-C2F3-412A-A251-7D3B37B6CE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4D01-22E3-482B-A671-ED8690B944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E218-9BC7-4071-B723-223110AD7A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E5F9-E5AC-4120-8409-E2821AAE5D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799D-65B5-44E6-A2D6-BE0E0AF40C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6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C8E1-18CC-454C-A452-890DEBEC36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7A0C-6502-47D1-82A9-C712D40126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631B-2E12-4FEC-AFDB-4324999681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7067-821B-44E9-88C9-D8382E8CE5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74C9-3C43-4A5D-A45D-F59AB37904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5F6B-8F3E-432A-8331-2470BAB95F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0771-F3F6-43F7-81A1-FC033CDB70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B141-29B9-4D0F-9B95-57B921BA3A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5AE2-B3E5-4CE9-A5B3-DF62A8A117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FD28-63E0-4B8F-AD30-5BB03C1E7F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5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014B-5C1A-4B33-813E-A1256C5FDB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6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783D-F306-4B68-8C4E-19630262F8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3003-85DC-42CF-BEA0-B2779DF351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87F2-E358-45BA-B1C7-9CF16E4B98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9C47-DAD4-4932-BC8B-06FD858EA0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9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DA4C-59A5-4292-A091-1EF5322BC4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20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F1E7-D2A8-45EB-A472-592081C92F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F945-63F1-47C3-9D92-F29CF187D4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4453-E744-42F2-812F-8939100AE7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418C-F82D-4323-8632-34C4708975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34AE-6DD8-4738-AD9A-038D740D45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1BEC-4BE6-43A8-82B2-9E938D2096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A17D-BA60-4AAD-8354-511306AD6D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5B7D-4509-491A-8190-16EFB20A36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8E9E-DA9C-46FA-AC77-3DE5BCA019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5080-9D5E-47F4-A2BD-72492B6BE0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0D9A-A028-4658-ADF6-4834245579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2E83-6126-4C52-BA3A-CF7051AB09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F55B-8CB3-46CA-BA16-8F5D9262A2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5A29-28DD-4305-BACF-ECBCB544D5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3D79-070C-4D9C-A6D0-A256DB1E7F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5937-2A94-486D-AAE5-42511FAFCB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1692-C437-4E36-AB7B-39C0EE79C7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D8CE-911F-4721-A0C4-538BB25C78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6553-7555-43AD-81BB-EF3CDCF03D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3D91-795C-4243-8D4C-D73F4C889A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6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71A3-28B8-41B9-907E-AADF15CE75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D5B9-AF32-433E-9982-EED0212153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745E-AD15-4C42-B158-33EF5D3A86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13D0-54ED-4962-9FFD-39539CE33E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9E93-0390-49CC-9A82-6E8C8F5DDF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074A-6501-448A-9ADE-927B80AFCF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E44A-3838-4802-9CE4-76556129AB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A981-3ADA-49EA-A97D-88ABDDCD86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22B3-A171-46C6-AF54-4901520F53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D702-42E3-440D-80CE-62FBA753EE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A4F1-03C0-4BC7-9512-3AE45038B2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AA4C-8AA9-4CBA-9BB4-9F81F6D995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B29E-4B01-4E8D-9E61-58C44F9A3E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6D25-4828-4615-B64D-4FCF92E5A6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50B0-6015-4843-A6CF-6A2D4E06B8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5264-D212-453B-8F3C-D7DBF23A11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BC5F-013C-4D94-872C-D37F089DDD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712E-F1EB-4329-9817-C158A037EB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12C0-AF4E-46FB-A8F8-9CB05F45E1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666E-7BB0-4310-8ECA-E2FEF06B63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B0DA-D652-4100-8C9B-F32CEF6A89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1AD2-037B-44D1-ABDF-73559A5EEE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2B34-EA2B-4015-9B52-98CA1847CB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652A-0007-4DF4-B123-5A189D3031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0476-3EB3-4F84-A575-6A451D202F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1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  <p:sp>
        <p:nvSpPr>
          <p:cNvPr id="2467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06DC-0016-4975-AC5C-D048183D2D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26F3-F167-4354-83D1-EE2F53C24D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DFB0-3572-498C-BDB2-B52F9AD3E3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1119-01A0-474E-8FD3-8969F20B12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8BE0-A979-4133-A0A1-B10EF0C80C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2815-F0A0-43F3-995F-1366B027B3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E577-6399-48C8-B766-EA17F045A8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7082-58D0-425E-8946-A75740095F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9C57-BA98-452A-BAF3-57F2EDE309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EF63-BE7D-45F3-9073-6EBDA05EC5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CDE4-582F-414E-86E1-3648982836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BE41-EFBA-4068-89E8-377E04EE5D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DAD9-9A74-4B2E-AC58-6520270B98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1B67-1739-46A3-9530-2FF2D79E1B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2A57-A98F-46CB-BBD8-8F7E94994B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2479-9E86-470F-A4CF-AB7770C023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B893-172C-42E9-98A9-974B1D5B4F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DC5E-8A36-4451-A9F6-3A15570BA5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B097-20BD-48F1-8C74-B6AC5D1215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63BA-A633-4EA7-8DDA-1800CADA14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202C-EE62-41F2-B2A9-8C29BA72A4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10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88FD-8782-463E-8E43-7CB1F229EA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DF7B-CD3A-494D-8773-25E78337BA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FB97-E3DD-4D55-BD78-1BC363E91C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D230-7F12-42FA-B4A7-4B5BF9CDB7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3EDE-ECDD-4BB4-9CE5-85C83529E9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9D58-FF43-4959-B0DA-EFACCE90E4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0B0A-5AFB-49E7-9413-D3BBA46AF6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FAFC-86D5-43F6-A8D8-2B196C5D27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97D7-98FE-4A7C-A686-55527FF81E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5C78-6966-4563-897D-7FE46397E6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AAC2-DD8D-4E2F-8544-17A9BF5548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43A3-12EC-48C3-A6BF-1BD39A0F74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82F9-CA3C-4E6B-9ECA-3CD6395CA4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86F4-E247-4060-887C-ACCD615040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7B16-F502-4858-98D8-627524AC3C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1F07-1865-48DE-8D2A-979C3FB2EE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D530-1863-4FEC-831F-DD0145A989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8CB2-E3FF-45CD-B83A-AA937DE8EB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18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0E21-A8C6-45CF-9CB8-B4BD2AEFA7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7529-B587-45F6-8AD3-7D683CDC32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2378-49F0-4E6A-8EAA-D275A9AE1C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9408-461E-49A4-A36B-842D2801B9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0A8B-1533-4EAA-8003-B8C5488F2E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293F-E137-49AE-8442-F207D02AAC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08D7-5C8D-4B9C-8DB2-E0A27E500E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2D57-AA7F-4C44-A1E1-0B9B8BBA9F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0955-963C-4226-A8C8-706BEA8920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26B6-D90E-4384-AC85-6CD224CFFB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AD05-46C1-4D90-B5AD-7ED9A45A69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6FD3-728C-4053-B040-8A5D4AC509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154F-5A49-46A2-840C-030C0E7F34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DC51-27D7-4D2A-897A-15F6262FDA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EFE7-3120-494B-9C92-1C76BF1C87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0949-7B51-464D-8B7E-B14172CA74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07EE-CEF9-4CB5-9FF9-EF4A21B7AF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8DF5-3D71-473F-8814-46DAD57DC2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737B-6829-4C7D-B9AA-EF0B693D3C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DC2A-0766-4067-8FC3-FDF52FA7D4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94C2-46B2-4023-A295-2F5F8EC706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6124-855E-423C-A7D0-0C91F0AC7D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CD72-78CD-454C-942E-30175021A9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B446-30D1-4EDD-A8E3-94D2BB7E5B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E0D8-0E40-49FF-A8E4-40784BEA21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53BC-299B-47F2-9F78-A2A993F7B4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88DA-E8F9-455F-8F15-F7AB52503B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D929-5662-47B1-8C97-E2A1930BE7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B3EB-CFC8-4519-8E3B-EE1EC98E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0796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CF9-0941-4D97-92DE-06DDB6B8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64F2-1BCD-4458-8B9B-13AC15EF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1B9B-92FF-4E1D-9E47-7BF40761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2A5-2C62-421C-BF50-F06B0B52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2067-25B4-451E-8C36-587A2ECE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BDF-D647-4461-AB35-8087CEBA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98E2-B113-4E12-9F38-7E5A1C7D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84E-709F-4AC7-B377-17055EA5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816E-1DFF-4B16-9348-46547A9F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2222-B90F-41D8-A4A1-BBFBFC8E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D8C5-CC82-465E-8295-32874D50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520" y="9710280"/>
            <a:ext cx="142848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073E-70EC-42A9-B4A1-0B31E66BA7E4}" type="datetime">
              <a:rPr b="0" lang="sr-Latn-CS" sz="8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400" y="9710280"/>
            <a:ext cx="274320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" spc="-1" strike="noStrike">
                <a:solidFill>
                  <a:srgbClr val="000000"/>
                </a:solidFill>
                <a:latin typeface="Times New Roman"/>
              </a:rPr>
              <a:t>Predavanja iz Upravljanja – 02-U čemu je razlika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52520" y="9710280"/>
            <a:ext cx="142884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8701-3E05-4553-AF21-F580656521E6}" type="slidenum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sl-SI" sz="800" spc="-1" strike="noStrike">
                <a:solidFill>
                  <a:srgbClr val="000000"/>
                </a:solidFill>
                <a:latin typeface="Times New Roman"/>
              </a:rPr>
              <a:t> od 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4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4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5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6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0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6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2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4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5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6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7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8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0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2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4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5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6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7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8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80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2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4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5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6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7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8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9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0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2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94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5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6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7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8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0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2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4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5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6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7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8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0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1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2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4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5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6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7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8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0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1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22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3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819520"/>
            <a:ext cx="5829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6095520"/>
            <a:ext cx="57909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čemu se ovaj predmet razlikuje od ostalih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C12-6F2A-447C-9707-183DB0D144C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87C51-568B-401D-8750-7717AB97D1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5991120" cy="7543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 svemu tome ima istine,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1888920" cy="1830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4419720"/>
            <a:ext cx="3591000" cy="1935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495680" y="2438280"/>
            <a:ext cx="1828800" cy="1487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295280" y="5410080"/>
            <a:ext cx="1524240" cy="1444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838080" y="7238880"/>
            <a:ext cx="2362320" cy="17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DE95-9B6E-44A6-B38E-D1F84249CF3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FF0E1-E8C8-4B66-A5C2-A43470384B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14440" y="30906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andum of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investitora da postavlja rukovodioc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rukovodioca projekta da prihvata tu ulog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s projekta sa osnovnim podacima o budž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ale specifič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8A46-D1C7-4B73-9178-AE153A0D6E98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D148D-BB7B-4F1F-AD47-9AF467600EBE}" type="datetime1">
              <a:rPr lang="en-US"/>
              <a:t>07/30/26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0040" y="3242880"/>
            <a:ext cx="582948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 of Eng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žina angažovanja rukovodioc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uge koje pru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uge koje ne pru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htevi za izvešt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konta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lašćena 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A31A-411E-4E74-A0B8-10DC33502F0C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1F066-3DDC-4CF5-9598-D54EB377C283}" type="datetime1">
              <a:rPr lang="en-US"/>
              <a:t>07/30/26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ši prop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zvođenja investicije (organizacioni konsalting) - ne ulazi projekto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ciono savetovanje (konsalting) - ne ulazi stručni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C9C-EDE1-46D2-A7F2-FE3E410BB50B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4255F-FC95-4CB9-9099-CFCB9E7673B5}" type="datetime1">
              <a:rPr lang="en-US"/>
              <a:t>07/30/26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dič UN - Ekonomska komisija za Evro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vencionalni pris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stručnjak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D9D-CF84-4CA7-9C15-D428D5ABABFF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895F6-20AF-4BA0-9C76-EE1A94C18ADE}" type="datetime1">
              <a:rPr lang="en-US"/>
              <a:t>07/30/26</a:t>
            </a:fld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vencionalni pris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ima ukupnu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obavlja profesionalne uslu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zrada planova i specif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prema ten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a troš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tupanje investi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dzor nad izgradnj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satu plus trošk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nat troš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šalni iz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CF69-DCD1-4989-83AA-54D675BD601C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64DE9-863F-4FC2-90F1-C434F64C169D}" type="datetime1">
              <a:rPr lang="en-US"/>
              <a:t>07/30/26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i konvencionalnog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nema finansijskih interesa u izgrad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sni odnosi konsultant - investitor -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at se završava pre početka 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m radova je jas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ima pun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kladu je sa regulativom o javnim rad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e obaveze su ja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6FF1-15C6-4FCE-9F47-0C9A7EDC9761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C05E1-DBBA-44F7-9F3D-C7ED9C6499F8}" type="datetime1">
              <a:rPr lang="en-US"/>
              <a:t>07/30/26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stručnjak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ni konsal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njuje mogućnost spoljnog sukoba inte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rebno uigravanje stručnj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2F5F-883D-4326-8E3B-BD91F3805EAB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A7CB2-BDE1-4C2C-984B-16803D89F4C7}" type="datetime1">
              <a:rPr lang="en-US"/>
              <a:t>07/30/26</a:t>
            </a:fld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iranje realizacije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ovanje i/ili upravljanje izradom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bavke i lici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avljanje izgradnj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je investitorov izvršni organ, bez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a podela uloga između više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7091-E846-4DDA-BF44-FACFA1BFFBDD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A6131-B4DD-4026-A257-4C4A4269F611}" type="datetime1">
              <a:rPr lang="en-US"/>
              <a:t>07/30/26</a:t>
            </a:fld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i upravljanja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ksibilno angažovanj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kusni savet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ma unutrašnjih suko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i za nabavku se sklapaju na osnovu licitacija sa kompletnim specifik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og licitacije moguće je porediti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stupanja se rano primeću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ksibilnije upravl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07F1-5AB4-42BB-BE34-459DD53E918C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7B2CA-4A77-44EB-B022-83517AF159A4}" type="datetime1">
              <a:rPr lang="en-US"/>
              <a:t>07/30/26</a:t>
            </a:fld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letna odgovornost za projektovanje i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no angažovanj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mogu da počnu pre završetka pro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 se utvrđuje na osnovu tačnih specifikacija, pre ili posle sklapanja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795-AB7E-41FB-891B-EEB7D984FB48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80A05-6E88-498D-A672-2DEA2632F6D8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... a mi imamo još jedan predlog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200" spc="-1" strike="noStrike">
                <a:solidFill>
                  <a:srgbClr val="000000"/>
                </a:solidFill>
                <a:latin typeface="Times New Roman"/>
              </a:rPr>
              <a:t>Zarada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9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5943600"/>
            <a:ext cx="1565280" cy="2135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19720" y="5943600"/>
            <a:ext cx="1565280" cy="21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E788-CFD0-4F89-AC7E-E0E1CE12B70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08CAC-2E64-4EB9-A254-1DE898E8C1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češće konsultan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210024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nvesticiona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i revizij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itacija i 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opredaja objekta i obuka osob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ek mora biti profesionalan i nepristr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ao mogu dobiti samo oni koji imaju ug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221B-1812-4F73-89C3-40B09689BEE9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9C021-D194-4FCC-A714-C21FCA521CB2}" type="datetime1">
              <a:rPr lang="en-US"/>
              <a:t>07/30/26</a:t>
            </a:fld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ste uslu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 konsultantskih us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konsultanat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4999-EF42-4E48-AD66-F64E02AD9DA0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795ED-6761-4744-A09B-8462F147094D}" type="datetime1">
              <a:rPr lang="en-US"/>
              <a:t>07/30/26</a:t>
            </a:fld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505-6718-46BD-A481-3A1FB30D0892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C32FB-EECE-402D-8962-654A5BFBEEC6}" type="datetime1">
              <a:rPr lang="en-US"/>
              <a:t>07/30/26</a:t>
            </a:fld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14440" y="652320"/>
            <a:ext cx="5829120" cy="20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pojm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440" y="2903400"/>
            <a:ext cx="5829120" cy="556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ciji predmet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izbor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sanju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2A8-AA85-41DB-9977-2B48F9EEE1A0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3C28D-4658-4009-B9FD-3A75E9A7D713}" type="datetime1">
              <a:rPr lang="en-US"/>
              <a:t>07/30/26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37760" y="1294920"/>
            <a:ext cx="5829480" cy="76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čki: jednostrana izjava volje upućena određenom licu radi zaključivanj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da bi bila valja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drži osnovne elemente ugovora (predmet, rok, cen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žena volj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nuđač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 pod navedenim uslovima sklopi ugo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nosi g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nuđa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li njegov punomoć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ućen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nvestit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je obavezujuća za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 rok traj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2621-E81E-4BC8-B993-4D5BA5699C13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70325-4B4D-440E-AB04-960514B0AF9B}" type="datetime1">
              <a:rPr lang="en-US"/>
              <a:t>07/30/26</a:t>
            </a:fld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vrha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tni materij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azuje na tehničko-tehnološke aspekt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azuje sposobnost izvođača da uradi pos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azuje ozbiljnost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 uslove pod kojima investitor može dobiti investiciono do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06BE-6BC9-4408-9E99-9DEE2761DD54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5E05C-7F13-4AB9-828F-68BFD9AB3394}" type="datetime1">
              <a:rPr lang="en-US"/>
              <a:t>07/30/26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gledavanj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14440" y="1566360"/>
            <a:ext cx="5829120" cy="77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aspe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e za resursima i njihovi izv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zahtevi podizvođača i kooperanata (tehničko-tehnološki, organizacioni i finasijs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isporuke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j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amički plan finans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F56-954A-4104-8CEB-4B4699AFADFD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C1E8A-A508-4965-9135-A4FE44E52505}" type="datetime1">
              <a:rPr lang="en-US"/>
              <a:t>07/30/2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še želju kupca za investicionim dob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se definiše predmet budućeg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definiše i način izbora najpovoljnijeg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definiše i ostale prateće us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ovi resur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EB1-C86F-439E-85A0-47F183C5DA77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A6D82-7BA1-49C3-98DC-9F922DE84CAE}" type="datetime1">
              <a:rPr lang="en-US"/>
              <a:t>07/30/26</a:t>
            </a:fld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načinu definisanja predme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tend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funkcionalnim paramet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7446-F934-48DD-A711-E9E231E2C349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6A2E6-E9D0-4C9F-B447-C818B7F70B73}" type="datetime1">
              <a:rPr lang="en-US"/>
              <a:t>07/30/26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14440" y="424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14440" y="1338120"/>
            <a:ext cx="5829120" cy="719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utstvo ponuđač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pos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za podnošenj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čenja u pos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utstva za podnošenje ponude (rok važnosti, produženje, licitaciona garancij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ac ponude sa prilogom uz ponu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r sa izjavom da će radovi biti izvršeni u roku i po ceni, koji ispunjava ponuđa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E0E9-0898-435E-B429-EB340935F42C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63FA7-EB20-47B7-9E00-6EAF9F4B0878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arada je važna svima koji grade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nvestitor veoma često hoće da zar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vođač uvek hoće da zar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Graditelj mora od nečeg da živi, i to dobro, ako je mog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o može da bude zaljubljenik u svoj posao, ali ostali obično traže svoj in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154-D51B-4E26-871F-3952C81418E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80E41-DF2E-4583-B47C-8D4AB8F207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14440" y="424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4440" y="1414440"/>
            <a:ext cx="5829120" cy="795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ac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r na kome se zaključije ugovor, čiji je sastavni deo i ostala tenderska dokum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š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često bazirani na FIDIC-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kacije i opisi radova koje treba izv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čni zahte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e "zamk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8A65-4D95-4FBF-9425-4F14E46FB1A0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E9556-7E1E-41C3-92E9-02515DB250DF}" type="datetime1">
              <a:rPr lang="en-US"/>
              <a:t>07/30/26</a:t>
            </a:fld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14440" y="17949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mer i predrač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količine radova koji se 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upisuj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 prema stvarnim količi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bi trebalo da dobro sagleda šta se stvarno može očekiv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buhvatn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ektn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os cena ponuđač prilagođava željenom toku nov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ECE-20BB-4AED-A515-A87546BCFB43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C7861-5482-4D9F-A220-20BA922F8CE1}" type="datetime1">
              <a:rPr lang="en-US"/>
              <a:t>07/30/26</a:t>
            </a:fld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tež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đuje ih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u dovoljni za realizac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knadno se razrađuju i prilagođava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cija za dobro izvršenj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je banka ponu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10% vrednosti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naplativa na poziv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CB3-E83A-45E6-8C4C-D983BAD2F13A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4F2E6-60B1-4065-AFD7-512BDA9EDE70}" type="datetime1">
              <a:rPr lang="en-US"/>
              <a:t>07/30/26</a:t>
            </a:fld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o o prihvatanju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o kojom se najpovoljniji ponuđač informiše da je izab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sta pred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e ugovor ne sklopi, gubi se licitaciona gara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o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umenta koja se dostavljaju naknad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se dostavljaju kao odgovor na pitanje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alju se svima, bez obzira da li su pit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1758-BF1C-4D34-88C9-431C34B7031F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79794-A7E9-4EB2-B7F3-887D3E7D2ADE}" type="datetime1">
              <a:rPr lang="en-US"/>
              <a:t>07/30/26</a:t>
            </a:fld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i parametr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o vrsti ob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na, spratnost, nivo obrade, oprema za poslovni obje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sta proizvoda, nivo proizvodnje za proizvodne objek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treba da uradi detaljnu razradu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upo i dugotraj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ća mogućnost za zaradu i gubit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D88-9CA5-403E-BE7D-F8A2BB6A9C6A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22653-FF17-4CE6-9E39-5A9687EA38CC}" type="datetime1">
              <a:rPr lang="en-US"/>
              <a:t>07/30/26</a:t>
            </a:fld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načinu izbora najpovoljnijeh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na pogod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zivna lici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na lici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a pogod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ji pos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eni poslovni partn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C13-34D8-4AED-BB97-1AA296CA47C9}" type="slidenum">
              <a:t>1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A499C-12BC-4ADE-BC36-BFF779A4F82C}" type="datetime1">
              <a:rPr lang="en-US"/>
              <a:t>07/30/26</a:t>
            </a:fld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ci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6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ivna lici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aju se kvalifikovani ponu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čekuju se kvalitetn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že da spreči dogovorn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a lici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ni poziv u specijalizovanim str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vima informis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postoji predkval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upak sprovodi konsul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5D0-10E3-4006-A057-852FAA4B1A9E}" type="slidenum">
              <a:t>1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6E4BB-404E-41AF-8559-58BB60E3F63A}" type="datetime1">
              <a:rPr lang="en-US"/>
              <a:t>07/30/26</a:t>
            </a:fld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bor najpovoljnije ponu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14440" y="1642680"/>
            <a:ext cx="5829120" cy="76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nije najjeftin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an je bon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i su finansijski uslovi (kreditiranje, plaćanje u domaćoj valu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da postoje i specifični uslovi (angažovanje domaćih firmi ili resursa, transfer znan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da postoje i drugi specifični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procedura je definisana u konkursnom materija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1C3C-34ED-4CAE-B85F-736C63161BB9}" type="slidenum">
              <a:t>1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6CF95-8630-4B6B-BF96-532658981BFD}" type="datetime1">
              <a:rPr lang="en-US"/>
              <a:t>07/30/26</a:t>
            </a:fld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uslovima za davanje prodajne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dinstvena 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razni modalite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a cena može biti i fik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135-B65D-4C69-8F8D-2C3BEA3C1DC3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E6713-AF7C-42BE-B319-34E954E3E4E6}" type="datetime1">
              <a:rPr lang="en-US"/>
              <a:t>07/30/26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14440" y="2362320"/>
            <a:ext cx="582912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ciji predmet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izbor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sanju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F0D7-8DF1-4376-B23D-74E93E36B435}" type="slidenum">
              <a:t>1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6AA40-98C9-4635-8704-A2C520AAC23D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rugačiji pogled na sv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kušaćemo da vam pokažemo kako da vodite računa o realnim moguć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kušaćemo da vas naučimo kako da vodite računa o realnim intere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CA6C-EF5D-4280-8716-2F599FC5E50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D53D0-1B9E-4208-9CFE-8444F8259D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88636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izrad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3123720"/>
            <a:ext cx="5829120" cy="59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i procen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524-0737-43C1-AF72-483A603CF836}" type="slidenum">
              <a:t>1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7B764-2E78-47E3-AA83-1A49413565FC}" type="datetime1">
              <a:rPr lang="en-US"/>
              <a:t>07/30/26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val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je ubedljivo najznačajn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uračunati faktor neizvesnosti, posebno u uslovima dugotrajnog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633-6185-409C-9C94-B6979892914B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228DB-3795-4A05-8BE7-5F2350243309}" type="datetime1">
              <a:rPr lang="en-US"/>
              <a:t>07/30/26</a:t>
            </a:fld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 između glavnog izvođač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o je da glavni ponuđač (izvođač) uspostavi internu kontrolu ponuda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izvođač mora biti "čvrsto držan, štapom i šargarepom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CF9-96B5-4E64-9DE1-F8BC0C59DA21}" type="slidenum">
              <a:t>1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6F993-86C4-41AE-BE8A-1791EDF80A8A}" type="datetime1">
              <a:rPr lang="en-US"/>
              <a:t>07/30/26</a:t>
            </a:fld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Štap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angažovanja drug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promene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Šargarep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agođavanje ponude interesima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istiranje na tehnologiji koja odgovara podizvođač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nost u raspodeli sredstava (iznos i tok nov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D1FA-27DE-4A9E-BCB0-51DEFA2857A4}" type="slidenum">
              <a:t>1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A42C2-B371-4980-A1BA-4A9B18811522}" type="datetime1">
              <a:rPr lang="en-US"/>
              <a:t>07/30/26</a:t>
            </a:fld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podizvođačem se ugovara cena koja se razlikuje od cene tih radova iz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voditi računa da isplaćen novac odgovara vrednosti izvršenih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novca treba da bude u funkciji efikasnog završetk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369-FEDC-42C3-9225-4B94FAAE6ACA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B4A0D-AA70-441B-AD6B-EF3785BE3B56}" type="datetime1">
              <a:rPr lang="en-US"/>
              <a:t>07/30/26</a:t>
            </a:fld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57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f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ceptu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limina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v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procenu obavlja specijalizovana ekipa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ipu vod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cenitel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stimator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su približne, ali su nuž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 kada se sagledaju troškovi, dodaje se prof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01AE-96EB-4DA5-BD52-A29EAB28EED3}" type="slidenum">
              <a:t>1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5FF39-DD82-41D6-B1CE-6ABBC6A29D3F}" type="datetime1">
              <a:rPr lang="en-US"/>
              <a:t>07/30/26</a:t>
            </a:fld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ošk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pomoćnih postrojenja i služ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žijsk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troškovi direkcije kompa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sto nastaju pre ugovaranja (ponude, akvizicija, market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847-E6A0-432A-A086-D737B72CD710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E5353-9451-471F-94D2-D47A92BE7702}" type="datetime1">
              <a:rPr lang="en-US"/>
              <a:t>07/30/26</a:t>
            </a:fld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5829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6148440" cy="776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5A7C-90C6-418C-93A8-C3D8A503BFB7}" type="slidenum">
              <a:t>1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63F2A-0F67-455F-B178-0A784521D750}" type="datetime1">
              <a:rPr lang="en-US"/>
              <a:t>07/30/26</a:t>
            </a:fld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 za donošenje odluke o radu na ponudi (slično studiji opravdanos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tendersk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met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ženi rok (ako ga i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za počet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učešća domaćih firmi i moguće posled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C6FE-90F2-428D-9634-AA627FBA589A}" type="slidenum">
              <a:t>1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E1269-8FD2-4DE8-8D80-E591C74CA732}" type="datetime1">
              <a:rPr lang="en-US"/>
              <a:t>07/30/26</a:t>
            </a:fld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a konstrukcija investitora i njena sigu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laćanja i način verifikacije obavljenog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iji su troškovi osiguranja, carine i druge tak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2C5-EC88-46F8-88E4-A3337F7C17A7}" type="slidenum">
              <a:t>1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0E4C1-EE0A-424B-B320-BF91BCDCD91C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teres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ednost onoga što uradite biće merena prema tome koliko doprinesete intere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aš interes mora biti da sačuvate svoj integritet stručnjaka, ali i da zarad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aš interes je da onaj koji vas je angažovao oseti da je imao koristi od t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866-5EE4-4352-B767-4D185B1F643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57CBA-ACC9-47AA-81AC-572D68DA14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istraživanja tržišta 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hnološk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rošci troškovno značajnih stav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čioci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čioci op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izvo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ska osposoblje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B160-8B20-450F-BD4A-237D048A9B8B}" type="slidenum">
              <a:t>1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38094-B0C4-45C8-8E0F-6F7ACA62ED9E}" type="datetime1">
              <a:rPr lang="en-US"/>
              <a:t>07/30/26</a:t>
            </a:fld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ka o usvajanju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virna finansijska vre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tivnosti potrebne za akviziciju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ni dinamički plan izrad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ske potrebe za izrad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a sredstva za izrad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CEA4-23F3-4EAF-88CD-2313C9F989E2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CCEEB-6CD9-415C-A95A-B6D57CA52322}" type="datetime1">
              <a:rPr lang="en-US"/>
              <a:t>07/30/26</a:t>
            </a:fld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7760" y="11916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37760" y="1719000"/>
            <a:ext cx="582948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i izvor cene koja se nu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%-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bitniji element priprem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na za proceduru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em i analiza ten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la na tehnološke i prostorne podsi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generalnih aktiv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tehnologije i njenih posle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A62-F5BE-49A0-AF3E-119B38EB7F47}" type="slidenum">
              <a:t>1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016D3-96A7-4937-A603-4F89B65235C3}" type="datetime1">
              <a:rPr lang="en-US"/>
              <a:t>07/30/26</a:t>
            </a:fld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14440" y="1871280"/>
            <a:ext cx="5829120" cy="734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generalnog dinamičkog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pon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re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i izbor meh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organizacione struk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gradil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troškova priprem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režijskih troškova na gradiliš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480-CF8B-4A31-BF3C-F2B992E8B401}" type="slidenum">
              <a:t>1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6F33C-69F2-43EB-9925-D61B7E4A6848}" type="datetime1">
              <a:rPr lang="en-US"/>
              <a:t>07/30/26</a:t>
            </a:fld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14440" y="2057040"/>
            <a:ext cx="5829120" cy="716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troškova sedišta fi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bankarsk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načina kontrole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učeš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izika u pon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učeš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fita u pon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tizovanje pripremlje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puna baza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BF3-C523-490C-BAB7-1BD47F63AB19}" type="slidenum">
              <a:t>1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C813E-B51D-41DA-8367-E933963CB604}" type="datetime1">
              <a:rPr lang="en-US"/>
              <a:t>07/30/26</a:t>
            </a:fld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4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14440" y="1566360"/>
            <a:ext cx="5829120" cy="788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završene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sagledanog celog procesa 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kompletiranih ponuda isporučilac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i za određivanje poslovne strate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i za kontrolu troškova i upravljanje sredstvima prema isporučiocima i podizvođač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B96-8C65-4EDC-98FB-E8CE29BC4CC9}" type="slidenum">
              <a:t>1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24779-8782-4D4C-8D0D-177B7897DA76}" type="datetime1">
              <a:rPr lang="en-US"/>
              <a:t>07/30/26</a:t>
            </a:fld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konačnog obrač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 za buduće pos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8BB-FBF3-4283-BFFB-AA07B2577DC3}" type="slidenum">
              <a:t>1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727A4-04B3-4E30-B2B6-D8B2EE16B347}" type="datetime1">
              <a:rPr lang="en-US"/>
              <a:t>07/30/26</a:t>
            </a:fld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iti razumnu c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iti realno traj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gurati tražen kval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57F-CADB-481B-B86F-B759A441F76B}" type="slidenum">
              <a:t>1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82754-75EB-4C60-9BCE-46F6CF54B255}" type="datetime1">
              <a:rPr lang="en-US"/>
              <a:t>07/30/26</a:t>
            </a:fld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14440" y="2362320"/>
            <a:ext cx="582912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i procen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E0BE-0E50-473A-914D-C42842ED974D}" type="slidenum">
              <a:t>1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88B88-02D9-4743-A43F-77146581B3ED}" type="datetime1">
              <a:rPr lang="en-US"/>
              <a:t>07/30/26</a:t>
            </a:fld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0040" y="2590920"/>
            <a:ext cx="582948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kacij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specifičn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25D-7F49-4697-AF89-70EC0791911C}" type="slidenum">
              <a:t>1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FD7D5-6932-448F-AA0E-B90B623DA125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505320" y="6019920"/>
            <a:ext cx="2997000" cy="361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ženjersko balansira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je potrebno da se usaglasi ekonomski interes i principi st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tko postoji jednoznačno reš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blemi se veoma često moraju rešavati na licu mesta, znanjem i oseća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5C2-65CB-4C2E-9901-C982E98E50D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E2204-E49B-4C90-B36A-510EB7C0B4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746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ređivanje količine resursa  neophodnih za postizanje ci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procenjenih troškova i profita sklapa se 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om realizacije procene se koriguju u skladu sa stvarnim sta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late se prilagođavaju stvarnom st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id u stvarne troškove i poređenje sa planiranim zove se 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8972-7BA4-46AA-8CEE-75C944FB1B2C}" type="slidenum">
              <a:t>1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C9F48-ED11-4FEB-B241-66637D98593F}" type="datetime1">
              <a:rPr lang="en-US"/>
              <a:t>07/30/26</a:t>
            </a:fld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je pogled unapred na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troškova je pogled unazad na prošle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 dve aktivnosti su povezane i daju materijal jedna za drug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preporučljivo da analizu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nu rada dva nezavisna 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D32-0535-4B00-8E2E-FEDF04264879}" type="slidenum">
              <a:t>1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0F488-DA31-459E-A49F-B85C104F30A7}" type="datetime1">
              <a:rPr lang="en-US"/>
              <a:t>07/30/26</a:t>
            </a:fld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ja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za kvalitetnu procen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polaganje inform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metodologije i procedure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plana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dovanja tehnoloških znanja i ve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dovanje hardvera i softv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to je projekat složeniji potrebno je obezbediti više pred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32C-A1D0-4217-A914-9A6BF3EDFAED}" type="slidenum">
              <a:t>1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87FBF-F23B-4F82-A86A-42149656D70D}" type="datetime1">
              <a:rPr lang="en-US"/>
              <a:t>07/30/26</a:t>
            </a:fld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14440" y="42840"/>
            <a:ext cx="582912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37760" y="1904760"/>
            <a:ext cx="582948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kacija posla i sistem kod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4D8-5D82-4BCC-ACDE-5DF6D8ED5FD7}" type="slidenum">
              <a:t>1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B5A67-89ED-40FE-B4A7-0B369D290DAA}" type="datetime1">
              <a:rPr lang="en-US"/>
              <a:t>07/30/26</a:t>
            </a:fld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347760"/>
            <a:ext cx="640080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dentifikacija posla i sistem kodir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723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jerarhijska struk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fikacij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vrstam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tipskim eleme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o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iranje prati struktur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broja nivoa kod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formata ko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standardni načini klasifikacije troškova podržani institucijama i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9BF4-619A-442C-9FD7-6294294BD725}" type="slidenum">
              <a:t>1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F9173-B12A-4D4D-9793-14237899DB7D}" type="datetime1">
              <a:rPr lang="en-US"/>
              <a:t>07/30/26</a:t>
            </a:fld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poznavanje tehnologi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ogo je jednostavnije proceniti standardnu tehnolog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i detalji, materijali i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resursa standardno i povolj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klično korišćenje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m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308-1AB5-4AF5-ADB3-8BE380F695B2}" type="slidenum">
              <a:t>1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262C4-656E-479B-B5A1-F0BC4FA0986F}" type="datetime1">
              <a:rPr lang="en-US"/>
              <a:t>07/30/26</a:t>
            </a:fld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gravanje realizacije radova kod poslova koji se ciklično obavlja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standardnih objekata procenjujemo cenu je nekom parametru (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revetu, krav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estandardnih objekata daje se cene po jedinici mere (brane i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a kombinacija strateg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B75E-C9A6-4461-9A7C-CD80147E8236}" type="slidenum">
              <a:t>1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DE3F0-6802-4F0D-9F68-A99ACE531844}" type="datetime1">
              <a:rPr lang="en-US"/>
              <a:t>07/30/26</a:t>
            </a:fld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o je prilagoditi procenu predviđenom izvođaču i njegovoj tehnologiji i sposob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zeti u obzir veličin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27BD-2BD2-4299-8BB4-5FAA4F5422A8}" type="slidenum">
              <a:t>1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C2458-5F96-4039-ABA6-3455764DC330}" type="datetime1">
              <a:rPr lang="en-US"/>
              <a:t>07/30/26</a:t>
            </a:fld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23360"/>
            <a:ext cx="624816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14440" y="232848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kupljanje podataka o predviđenim oper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z su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traživanju trž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torijskim poda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svetu postoje programi, knjige i baze podataka za pomoć pri proceni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as postoje zastarele Komgrapove norme i Tanjug-ov bil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EFAB-8042-43D8-9719-9DBE31258EE3}" type="slidenum">
              <a:t>1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9CD19-0925-4C50-A1BF-AD69336CF6BE}" type="datetime1">
              <a:rPr lang="en-US"/>
              <a:t>07/30/26</a:t>
            </a:fld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2176200"/>
            <a:ext cx="5943600" cy="68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imati i sopstve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o je imati svedene podatke po nekom parametru standardnog ob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nemamo dovoljno detaljni projekat ili nemamo normative, moramo koristiti i specifične istorijske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korisno prikupiti ponude podizvođača i isporučil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D26F-6611-4533-9DDF-C2EEE6EE3A5C}" type="slidenum">
              <a:t>1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CAC0B-C3E5-4535-ACB8-248687308986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što, kako i zbog kog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CE0-C038-44C2-B9C7-65F43F4AA5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2F5B8-06A1-4488-AC7D-FC2A7708211B}" type="datetime1">
              <a:rPr lang="en-US"/>
              <a:t>07/30/26</a:t>
            </a:fld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14440" y="2743200"/>
            <a:ext cx="58291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infl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ačajan i kod malih inflacija (3%-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zna sk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različitih kompon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osnovu statističke ver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no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avisi od strukture cene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219320" y="7391520"/>
                <a:ext cx="43527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O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BA62-A046-4FA9-9D77-5B678BFF6D23}" type="slidenum">
              <a:t>1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9C5F4-AE67-40ED-A649-6A00449C3F6E}" type="datetime1">
              <a:rPr lang="en-US"/>
              <a:t>07/30/26</a:t>
            </a:fld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7760" y="1947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14440" y="209988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lanirano povećanj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 kvalitet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bučenost radne s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i podizvođača i dobavlj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enadne promene zakonske i tehničke reg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dovoljno poznavanje prop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gle promene 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predhodne an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vorišta materij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ija i istražni rad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ojeće podzemne instal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7A77-A72A-4222-B57F-0077A7D9BEF5}" type="slidenum">
              <a:t>1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B826A-21E0-471E-B686-44A078B5E53F}" type="datetime1">
              <a:rPr lang="en-US"/>
              <a:t>07/30/26</a:t>
            </a:fld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42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ugovoru, obično se zna na čiji teret padaju ov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ša sila -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avdano povećanje troškova -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i izvođača i podizvođača -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uobičajeni problemi na nekim tržištima (carine i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poslovi i mesta malog rizika (stalni investitori i podizvođač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600B-D576-4A97-94DB-88DBE1660898}" type="slidenum">
              <a:t>1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85F71-0C12-43E5-9866-D103C03898A4}" type="datetime1">
              <a:rPr lang="en-US"/>
              <a:t>07/30/26</a:t>
            </a:fld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4440" y="2452320"/>
            <a:ext cx="5829120" cy="552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ba (preliminarna)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arn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arski (regresioni)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ljn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troškovno značajnih pozi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044-F4DE-4F73-BD2A-775CED4735DC}" type="slidenum">
              <a:t>1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F967A-80D5-4427-919D-D3CAA900F274}" type="datetime1">
              <a:rPr lang="en-US"/>
              <a:t>07/30/26</a:t>
            </a:fld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8120" y="42840"/>
            <a:ext cx="611496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uba (preliminarna)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57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ečna cena prema predviđ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pacit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pre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rš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e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%-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malom broju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standardizovanim ob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ekcija prema dodatnim uticaj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6A80-2DD3-497A-A87D-18DAFF64C690}" type="slidenum">
              <a:t>1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C6ED5-F3EE-4C13-B961-FD097CB5ACC6}" type="datetime1">
              <a:rPr lang="en-US"/>
              <a:t>07/30/26</a:t>
            </a:fld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arni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7760" y="2252160"/>
            <a:ext cx="582948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komplikovane obj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objekta na ele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ioni bl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io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sni 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malom broju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a dobra 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17D-460F-43C6-BAF6-47E2AC01238F}" type="slidenum">
              <a:t>1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9F99E-1EC8-4556-B79A-F001D57984B3}" type="datetime1">
              <a:rPr lang="en-US"/>
              <a:t>07/30/26</a:t>
            </a:fld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ametarski (regresioni)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ta vezan za matematički apa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i istorijski pod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zriva pri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mode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ksponencija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aritam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istorijskih podataka bira 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D757-61A7-405D-A314-C07FD14AB134}" type="slidenum">
              <a:t>1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4D315-07BD-43E2-A9D5-BABA5899CC45}" type="datetime1">
              <a:rPr lang="en-US"/>
              <a:t>07/30/26</a:t>
            </a:fld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14440" y="17953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 završenoj projektnoj dokument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edica pred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n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podaci sa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korisno korišćenje standardnih no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ka jako pomaže pri povećanju tačnosti ovog mod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%-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7C6-6D2B-40F0-BCD4-9E2A09AB981E}" type="slidenum">
              <a:t>1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521C2-F0F2-43BA-8A24-5AFEFC9845D6}" type="datetime1">
              <a:rPr lang="en-US"/>
              <a:t>07/30/26</a:t>
            </a:fld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 troškovno značajnih pozi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no je da 20% pozicija nosi 80%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neke objekte (pogotovo niskogradnja) ova razlika je još već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dobro odredimo značajne stavke, procena može biti veoma precizna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godna metoda za utvrđivanje klizne sk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91E2-2F95-4D90-ADA7-3B8A83D71B42}" type="slidenum">
              <a:t>1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A3CE9-D7A4-4616-B809-85B523A15390}" type="datetime1">
              <a:rPr lang="en-US"/>
              <a:t>07/30/26</a:t>
            </a:fld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40080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14440" y="1676520"/>
            <a:ext cx="5829120" cy="761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pojavljuju se u predme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i 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marketinga i akvizicije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iguranje i deo ca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ajmljivanje i korišćenje ob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arske oba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lanjanje otpadnog i nepotrebnog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FB4A-7878-4421-8623-1236ACF5F95C}" type="slidenum">
              <a:t>1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E689D-5438-41B3-B5B8-8DC227DE04BD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što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iteljstvo je timski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mnogih str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đevin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struktiv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raš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braćaj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olo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grad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izvod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ganiz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nsij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v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2B32-9E51-48F8-9CE0-45BD44FE40C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7708B-5D29-4E2C-8AE5-8FB498B6A7D1}" type="datetime1">
              <a:rPr lang="en-US"/>
              <a:t>07/30/26</a:t>
            </a:fld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14440" y="5763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96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važna za dobijanj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čitao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ledni 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na rekapitul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etski privlač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kvalitet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an vid rekl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nost brzog prilagođavanja toku događaja i željam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2F71-416A-454E-9364-60472D1F89B9}" type="slidenum">
              <a:t>1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A4693-5F98-4F94-907F-4B2E8511D049}" type="datetime1">
              <a:rPr lang="en-US"/>
              <a:t>07/30/26</a:t>
            </a:fld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14440" y="1905120"/>
            <a:ext cx="5829120" cy="71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kacij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specifičn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03AB-B9ED-4CC9-85D2-7656A62460F8}" type="slidenum">
              <a:t>1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1C9F7-FB84-4680-83F8-53C251D6C099}" type="datetime1">
              <a:rPr lang="en-US"/>
              <a:t>07/30/26</a:t>
            </a:fld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3023-F4A4-45BA-B470-851EC5321221}" type="slidenum">
              <a:t>1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B9C63-77BC-4638-9C61-91B758C2FEBE}" type="datetime1">
              <a:rPr lang="en-US"/>
              <a:t>07/30/26</a:t>
            </a:fld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5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8792-4787-4972-96BE-1AD4FF1062F7}" type="slidenum">
              <a:t>1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7C90F-5830-40FA-9492-50E0CCDF30DF}" type="datetime1">
              <a:rPr lang="en-US"/>
              <a:t>07/30/26</a:t>
            </a:fld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asnost dva ili više lica koja ima pravno dej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i elementi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predmetu oba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utvrđivanja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finans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5A3-8EA1-474D-B201-6AA667CD4027}" type="slidenum">
              <a:t>1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EE191-3DEA-49F6-B8FD-4F42C03BA9AA}" type="datetime1">
              <a:rPr lang="en-US"/>
              <a:t>07/30/26</a:t>
            </a:fld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14440" y="194796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aža elektro-mašinske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isporu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mont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ka i mont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st u zemljama u razvo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tako čest u razvijenim zeml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izvod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izgradn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C996-5985-4E84-9CA2-8581CFD4A5B3}" type="slidenum">
              <a:t>1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BED26-6572-4D85-B473-3FC6E7323438}" type="datetime1">
              <a:rPr lang="en-US"/>
              <a:t>07/30/26</a:t>
            </a:fld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a cena (Lump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namika plaćanja na osnovu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 po faz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čne cene (Unit Pr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etno na osnovu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rada na osnovu količina koje meri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e mogu da se izmene ako se izmene ko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30F7-CA0C-43B0-9205-3474E57F4F9B}" type="slidenum">
              <a:t>1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1EA70-F5A0-4007-901B-B57F260AA350}" type="datetime1">
              <a:rPr lang="en-US"/>
              <a:t>07/30/26</a:t>
            </a:fld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plus dobit (Cost Pl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procenat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fiksni hono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fiksni honorar i podela prof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ksni honorar i klauzula o nagr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plus klizna skala honor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C5A4-D38F-4FD3-BC2D-9AB9430D6DF3}" type="slidenum">
              <a:t>1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A086E-1018-4464-80B8-8A4E44B0417A}" type="datetime1">
              <a:rPr lang="en-US"/>
              <a:t>07/30/26</a:t>
            </a:fld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vrđena cena koja se ne sme premašiti (Sealing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janta fiks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prekoračanje preko neke granice izvođač snosi troš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ksna cena (Fixed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ložna iz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a prihvatljivosti promene cena (1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važi u slučaju kašn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5F90-0C00-454A-9739-E0E3704148FF}" type="slidenum">
              <a:t>1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5DCAE-663F-47B2-AC08-40FDF47B3D16}" type="datetime1">
              <a:rPr lang="en-US"/>
              <a:t>07/30/26</a:t>
            </a:fld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iran na britanskom Common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je i tumačenja (čl.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a (naručilac, izvođač, inženjer, podizvođač, zastupnik inženj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umenti (ugovor, specifikacije, crtež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odavni su samo pisani dokum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AA6E-00A8-43FF-8D36-F8ECB632F52B}" type="slidenum">
              <a:t>1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BC55B-6D3F-4C3C-97AF-9A630341D326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cioni projekat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ž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ka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više lo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gotraj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uđenost proc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ost klimatskih 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vinsko-pravni probl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E923-0597-4CB2-BBBD-9CE738BEC82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ED4F8-1294-418D-8CE0-7CD1F0FC471C}" type="datetime1">
              <a:rPr lang="en-US"/>
              <a:t>07/30/26</a:t>
            </a:fld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 i zastupnik inženjera (čl.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lašćenja se daju ugovo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mena uputstva moraju da se potvrde pismeno u roku od 7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može da oslobodi izvođača ugovornih obav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ovlašćenja se može preneti zastupniku, ali ne s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00FC-F139-497B-AE91-8C72F8080BB8}" type="slidenum">
              <a:t>1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B3B82-D61C-4FCF-871F-062F10192AC2}" type="datetime1">
              <a:rPr lang="en-US"/>
              <a:t>07/30/26</a:t>
            </a:fld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os i podugovoranj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3,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 ne može biti prenet na drugo lice bez saglasanosti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 se preneti novčana potraživanja svojoj banci bez saglasnosti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CE22-7963-414B-9195-C59D038030EC}" type="slidenum">
              <a:t>1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A244C-EBD2-44B1-B330-32AE60BAFBB4}" type="datetime1">
              <a:rPr lang="en-US"/>
              <a:t>07/30/26</a:t>
            </a:fld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i dokument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5-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razum o Ugov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o o prihvatanj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II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I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vaki drugi dokument koji je deo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šnjenje dok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265C-B510-4AD6-B510-C5DE71D843D4}" type="slidenum">
              <a:t>1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0C74B-0DB6-4A12-81DD-5D0F6500A20B}" type="datetime1">
              <a:rPr lang="en-US"/>
              <a:t>07/30/26</a:t>
            </a:fld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obaveze (čl. 8-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naplate količina koje nisu obuhvaćene predme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 postoji čim izvođač pošalje pismo o prihvat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ancija za dobro izvršenje posla naplativa na prvi poz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govornost za stanje pod zemlj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da odredi kako će izvoditi rad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AB86-6331-4EDE-923A-61B17167E64B}" type="slidenum">
              <a:t>1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EC208-36AE-4A00-9119-96F5D669E4FB}" type="datetime1">
              <a:rPr lang="en-US"/>
              <a:t>07/30/26</a:t>
            </a:fld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obaveze (čl. 8-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ima pravo da menja nadzor po sopstvenom nahođ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dođe do oštećenja zbog "rizika naručioca" postoji pravo na povećanje cene ali ne i povećanje r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e transporta nestandardnih materijala i opreme snosi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B740-6134-400A-9843-E3478CB2CFB2}" type="slidenum">
              <a:t>1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19E82-5222-4868-89CD-52D310685A3A}" type="datetime1">
              <a:rPr lang="en-US"/>
              <a:t>07/30/26</a:t>
            </a:fld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14440" y="182844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na snaga (čl. 34,3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za izvođača da inženjeru dostavlja izveštaje o stanju radne s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jali, postrojenja i izrada (čl. 36-3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ima pravo da traži ispitivanja uzor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oliko su ispitivanja mimo ugovora, a kvalitet je odgovarajući, troškovi padaju n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kontrole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dgovarajući elementi se mogu odbac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7A6-17C8-49C1-BF89-55B982AE9F88}" type="slidenum">
              <a:t>1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24B63-60BB-4C3A-8D98-EB43A1D80BE5}" type="datetime1">
              <a:rPr lang="en-US"/>
              <a:t>07/30/26</a:t>
            </a:fld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ustava (čl. 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zahtev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nije zbog propusta izvođača i klimatskih uslova, investitor treba da nadoknadi št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obustava traje duže od 84 dana, i ne dobije se saglasnost za nastavak u roku od 28 dana, izvođač može da okonča svoj anagaž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9116-526B-4EAC-BB91-92F51FC6F0DE}" type="slidenum">
              <a:t>1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408D7-CFBE-4892-ADAE-73F304A8D035}" type="datetime1">
              <a:rPr lang="en-US"/>
              <a:t>07/30/26</a:t>
            </a:fld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počinjanje radova i zakašnjenje (čl. 41-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predaje gradil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se ne izvode noću i u lokalne neradne dane, osim kada inženjer to odob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i za kašnjenje radova, ali ne preko neke s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završetka i predaje radova i otklanjanja nedost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187-7100-465A-B693-B6ADC040B046}" type="slidenum">
              <a:t>1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CFAD3-56B0-49A8-AB64-EDE5FBFC70E5}" type="datetime1">
              <a:rPr lang="en-US"/>
              <a:t>07/30/26</a:t>
            </a:fld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govornost za nedostatke (čl. 49, 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le predaje radova izvođač radi radove koje mu inženjer nalož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e ti radovi zbog nepoštovanja ugovora, neodgovarajućeg rada i materijala, padaju na teret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uprotnom su naknadni radovi i investitor ih plać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antni rok (period održavanja) se propisuje ugovorom, ako drugačije ne odredi lokalno zakonodav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A4D6-9A1C-4F16-B009-688DAAF7700A}" type="slidenum">
              <a:t>1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B039D-788A-48B2-AE59-301D12BFB067}" type="datetime1">
              <a:rPr lang="en-US"/>
              <a:t>07/30/26</a:t>
            </a:fld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mene, dopune i ispuštanja (čl. 51, 5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laže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ju se prema ugovoru 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ene obima radova koj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% se posebno kalkuliš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79D-DC10-4EA2-B2EC-F1AAE5548EC4}" type="slidenum">
              <a:t>1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1E745-0BC4-4BF8-8EF3-AA0623660262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česnici u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izvođači i kooper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d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i, projektantski i upravni nadz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38CF-D421-423A-AC48-C3AEA7C93F1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7B494-36DA-4A06-BABD-A4C4C281718F}" type="datetime1">
              <a:rPr lang="en-US"/>
              <a:t>07/30/26</a:t>
            </a:fld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 za odštetne zahteve (claims) (čl. 5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ava namere u roku od 28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obrač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ično slanje novih obračuna tok problem tr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okončanju problema u roku od 28 dana konačan obrač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lučaju propuštanja procedura, iznos klejma ne može da pređe iznos koji utvrdi inženjer i arbitr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62B1-8085-4392-B67C-8361F5710831}" type="slidenum">
              <a:t>1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EC187-9110-42A6-B39E-C8304B78F357}" type="datetime1">
              <a:rPr lang="en-US"/>
              <a:t>07/30/26</a:t>
            </a:fld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rema izvođača, privremeni radovi i materijal (čl. 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, materijal i privremeni radova koji su potrebni za realizaciju objekta ne mogu biti uklonjeni bez saglasnosti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odnosi se na transportna sreds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FCD9-CD32-4760-A00D-DF0A2B86BC7D}" type="slidenum">
              <a:t>1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BCB55-12B8-4B42-A7B3-01C9B425D8AF}" type="datetime1">
              <a:rPr lang="en-US"/>
              <a:t>07/30/26</a:t>
            </a:fld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enje (čl. 55-5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važe količine iz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meri, izvođač može da prisustvu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dostavlja rezul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14 dana vremena da uloži prigo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nosi se na radove po jediničnim ce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žnost blagovremene pismene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1C58-E0DD-4EBB-B899-9EDD71E0B064}" type="slidenum">
              <a:t>1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DE6BF-6EA6-40A7-B8FA-D68E16CE7361}" type="datetime1">
              <a:rPr lang="en-US"/>
              <a:t>07/30/26</a:t>
            </a:fld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remeni iznosi (čl. 5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osi koji su pokriveni ugovorom, predmerom i predraču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i se prema uputstvima inženjera i njemu se dokazuju trošk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F9E-454F-4950-B187-FEDDAEC02592}" type="slidenum">
              <a:t>1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E5DA9-5861-4904-9F75-2806341CC20E}" type="datetime1">
              <a:rPr lang="en-US"/>
              <a:t>07/30/26</a:t>
            </a:fld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enovani podizvođači (čl. 5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a ih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ugovara sa n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treba da bude obezbeđen od propusta ov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oje uslovi pod kojima izvođač može da odbije imenovan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EA1-EEE7-4CD5-9F53-5DBD528113E3}" type="slidenum">
              <a:t>1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1EF16-6BF4-4B1E-9494-611CA95E628B}" type="datetime1">
              <a:rPr lang="en-US"/>
              <a:t>07/30/26</a:t>
            </a:fld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tifikati i plaćanja (čl. 60-6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dostavlja izjavu sa iznosom koja mu pripada na osnovu izvrše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u roku od 28 dana vrši korecije i potvrđuje iz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os se umanjuje za avans i retencionu svo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za završno 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F62A-725A-4F62-B246-F7387CF5DC51}" type="slidenum">
              <a:t>1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5DB91-0466-4E02-885E-D2AF1C26ED58}" type="datetime1">
              <a:rPr lang="en-US"/>
              <a:t>07/30/26</a:t>
            </a:fld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 lekovi (čl. 63, 6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pod kojima naručilac stiče pravo na okončanje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na naknadu za ono što ostav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isključuje lokalne pravne prop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pod kojima inženjer može da izvede radove koje izvođač neće ili ne mo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D12A-3DC5-45BF-9ACE-71837B58737A}" type="slidenum">
              <a:t>1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9996C-0FA8-48F7-815B-86C45F7AB7B3}" type="datetime1">
              <a:rPr lang="en-US"/>
              <a:t>07/30/26</a:t>
            </a:fld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 (čl. 6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zici naruči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otreba i zauzimanje radova od stran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ške u inženjerovim projek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rodne sile, ratovi, pobune i revolucije van zemlje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 svega se odnosi na finansijsku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o raskidanja ugovora u slučaju 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4F2-9A7D-450C-9320-949CD9876E20}" type="slidenum">
              <a:t>1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2FEC8-01A3-4CEF-AE77-E534647C5C8E}" type="datetime1">
              <a:rPr lang="en-US"/>
              <a:t>07/30/26</a:t>
            </a:fld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lobođenje od izvršenj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6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stupanje okolnosti posle pisma o prihvatanju koje onemogućava izvršenje obav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 (čl. 6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prvoj instanci odlučuje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drugoj instanci arbitr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no je šta je uzeto kao osnovno pravo (švajcarsko, FIDIC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0BA-9837-4EDC-944D-A0875EADA438}" type="slidenum">
              <a:t>1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B17C3-8A9B-4BC0-8C42-63A8C4AC3FFB}" type="datetime1">
              <a:rPr lang="en-US"/>
              <a:t>07/30/26</a:t>
            </a:fld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štenja (čl. 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poš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resa mora biti zvanič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eno obaveštavanje o promeni adr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0213-B922-46F7-8F25-063C16DFCDE9}" type="slidenum">
              <a:t>1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12529-75BA-4D68-99B7-B87994E0AF3A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a su vas učili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veći deo predmeta koji su do sada slušani spadaju u dve kategori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eorijski (matematika, mehanika, mehanika fluida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rojektantski (mehanika tla, beton, čelik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a obe kategorije predmeta je karakteristično da postoje neke formule i neka pravila. Ako ispoštujete te formule i pravila, vi ste dobri. Ako ih ne znate ili ne poštujete, niste dob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5495-AF67-4D81-AA8F-5A1EB4202F5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34577-9E81-404C-BE0A-6161C6B8F5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ranje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stanovišt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olaže novc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jekt se izvodi zbog njegove žel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inantan pristup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razvijenom sv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stanovišta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ajena ulog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slovenskih fi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o interesantno u našim usl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C3B-C1A7-416D-A2CA-8AC84B1BD4C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CCA9B-1526-4BA1-84CE-36DF56280116}" type="datetime1">
              <a:rPr lang="en-US"/>
              <a:t>07/30/26</a:t>
            </a:fld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6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laćanje, neizdavanje sertifikata, stečaj i obaveštenje o prestanku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čno specijalnim riz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oknada svih gubitaka, zajedno sa profitom, ka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e usporavan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 kasniji nastav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F26D-02CE-4DEA-8692-3A2C16DDAE97}" type="slidenum">
              <a:t>2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311A3-A46C-481B-9259-5A1F89C0AF22}" type="datetime1">
              <a:rPr lang="en-US"/>
              <a:t>07/30/26</a:t>
            </a:fld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e u troškovima i zakonodavstvu (čl. 7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og promene cena rada i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ene u zakonodavstvu koje su nastale 28 dana pre poslednjeg roka za podnošenje ponude i kas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rebno stalno praćenje cena i zakonske reg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AE6-7D80-49BB-AD56-D7B287D23D02}" type="slidenum">
              <a:t>2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2D436-C99F-42FC-B158-E1E98552B60A}" type="datetime1">
              <a:rPr lang="en-US"/>
              <a:t>07/30/26</a:t>
            </a:fld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ze i devizni tečaj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71-7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tete zbog promene deviznog tečaja koje su nastale 28 dana pre poslednjeg roka za podnošenje ponude i kas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tete zbog ograničenja u deviznom poslovanju u istom ro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ovde je veoma bitna stalna informisa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158-9C2C-4EFD-B199-4B23F4669B41}" type="slidenum">
              <a:t>2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8B7A2-596B-425E-AD9A-EB76080F1280}" type="datetime1">
              <a:rPr lang="en-US"/>
              <a:t>07/30/26</a:t>
            </a:fld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0710-8A82-48D1-AB8F-1692C8E2AEA9}" type="slidenum">
              <a:t>2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D7172-8C90-4BA5-859E-3CD23B0F68D3}" type="datetime1">
              <a:rPr lang="en-US"/>
              <a:t>07/30/26</a:t>
            </a:fld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pripr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7133-FEA4-4968-9FE4-36B7ED43FD33}" type="slidenum">
              <a:t>2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8429E-52CA-4B8B-BBF1-3C2B18576801}" type="datetime1">
              <a:rPr lang="en-US"/>
              <a:t>07/30/26</a:t>
            </a:fld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at tehnologije i organizacija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C05-3BA2-4001-8A0D-B528CC0A7241}" type="slidenum">
              <a:t>2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C0571-CD1C-430B-8E68-5314CDDCAB66}" type="datetime1">
              <a:rPr lang="en-US"/>
              <a:t>07/30/26</a:t>
            </a:fld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ujuće utiče na dalji razvoj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jalizuje želje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voj fazi se ostvari 85%-90% mogućih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sa stanovišta izvođača može početi i tokom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trajati i tokom izvođenja rado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9F9-3F6F-42BD-97DA-E866F5968D1C}" type="slidenum">
              <a:t>2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25765-4F83-4EF6-AAD7-7251F33DED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dusl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š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dgovornosti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šifr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tehničkih uslova i ograni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30C-A327-414B-A318-2B24650B365A}" type="slidenum">
              <a:t>2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84768-EB19-44F9-B586-C6EA633BC5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jerarhija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5456160" cy="492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CB2F-4A9D-467F-9AD8-335C123A76DD}" type="slidenum">
              <a:t>20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A6179-529E-4702-806E-78935BB412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rema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tup u zavisnosti od značaja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phodno je definisati pre početka izrade idejnog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učujuć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andardna i skup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DC2B-5722-4D13-B782-8CE8E1E5AE3B}" type="slidenum">
              <a:t>2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7BDC5-D68C-4C50-B3DE-770D9E31FD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ovište Investi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formiran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real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965-E669-4411-B5EC-C79E1EF655C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3B14A-A6FB-4A1A-AAE8-8AF7EB131C05}" type="datetime1">
              <a:rPr lang="en-US"/>
              <a:t>07/30/26</a:t>
            </a:fld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rema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82912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phodno je definisati pre početka izrade glavnog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donekl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i skup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ično nezavisna od pro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že se definisati tokom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zavisna od pro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548A-6EC6-4BE6-81B1-2D89C5471C87}" type="slidenum">
              <a:t>2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F87CF-B550-41FE-8549-D981851B92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a pripre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tehnologi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ološko usaglašavanje učesnik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kupljanje tehnološ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viđanje mogućih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3F6-AE68-4107-BD42-F2B642736F64}" type="slidenum">
              <a:t>2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070C8-B224-4071-A192-0EFD7DEC0E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potrebnih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na poznavanja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glašavanje svih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ograni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a načina upravljanja, kontrole i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C22A-5ED7-4CAD-9358-C93068E44A38}" type="slidenum">
              <a:t>2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8CDBE-1FDB-45C6-8273-FD3219EC3A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klapanje u okruže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ti ne mogu da se grade samo na osnovu klasične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at mora da se uklopi u šire okruž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ju se obezbediti uslovi i saglasnosti koje daje administracija, odnosno v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dobijanja uslova i saglasnosti je obično značajno složenija i dugotrajnija od samog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8BB-E5DA-49BA-BB4E-98F416CD6796}" type="slidenum">
              <a:t>2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82F0D-CECF-4638-8E1B-3DBB409357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cija, u načelu, ne daje uslove i saglasnosti na osnovu svoje slobodne vol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i na osnovu kojih administracija izdaje uslove i saglasnosti zovu 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lanski dokum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i dokumenti definišu prostorni raspored, vrstu i sadržaje objekata koji se mogu gra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88CA-FFE4-4F8B-9F36-ABFE3BCA95A5}" type="slidenum">
              <a:t>2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DD14D-BEF0-4FE0-A851-01DCC17A95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14440" y="60912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trebne karakterstike planske dokumen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14440" y="2590560"/>
            <a:ext cx="58291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l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uhvata prostorne i ekonomske kriterij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klađ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predmetu, prostoru i vremenskom perio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rd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isanost, usklađivanje razvoja i inte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vrđivanje obaveza i odgovor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izrade i sprovođenja pl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FBD9-5398-4755-A7DB-F4EA25BD9ED8}" type="slidenum">
              <a:t>2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6FDE2-9844-41A0-BC68-9EF3FDACF7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torn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se u Republici, regionu, gradu i opšt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a područja na koje se od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na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meštaj stanovniš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eža nase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obraćajna i tehnička infrastruk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e za stimulisanje razvo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3DF0-5AC6-4689-8C38-C1AEED7AF3D6}" type="slidenum">
              <a:t>2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F0B07-D6EC-4A79-A45E-C98B5C4F4C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torn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se i prostorni planovi područja sa posebnom nam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 naseljenih mesta, gde ne postoje urbanistički planovi, rade se detaljni prostorni plan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tornim planovima planira se razvoj u narednih 20 god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8AD-90A4-4096-833C-25A92E0D04BC}" type="slidenum">
              <a:t>2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EDBAA-36CB-4405-B5A1-E60A3CBE42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pri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uku donosi skupština nadležnog područ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uje se program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uje se komisija za praćenje i usklađi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dokumentacije i an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i analiza planova, karata i slič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ao obavlja obrađivač, posebna stručna firma koja je angažovana za ovaj pos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C6B-2252-4DE8-94BB-373E1B35081F}" type="slidenum">
              <a:t>2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2649B-B297-4659-98B4-4267AAE7D7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nac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razvo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org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uređenja pro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enjivanje i analiza varij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 se izvršnom organu skupš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javne rasp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osnovu odluke o izradi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matranje primedbi i predlo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ošenje iz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BC64-9023-4F3C-A830-05D21BA9E6D4}" type="slidenum">
              <a:t>2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72998-0EC0-4902-A79F-8D5E4730E2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4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po W. Hughes-u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40" y="25146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a prihvatanja realizacije projek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ception stag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studije opravdanosti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easibility stag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idejnih rešenj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e desig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idejnog i glavnog projek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tail desig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govaranj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racting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gradnj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ijem objekta i puštanje u ra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issioning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420C-AE75-4CE0-A8EC-481EC1F624E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B76A3-BFD7-44E3-AE1D-3FDD367D4C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predloga i donošenja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šljenje viših organa vla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osi ga skup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avljuje se u službenom glasn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98B4-E1E7-4436-8AD5-EA1E7806227E}" type="slidenum">
              <a:t>2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BD7AA-0969-49A8-B571-C6AFB54CA8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rbanističk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za područje naseljenog me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rađuje prostorn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agođava rešenja iz prostornog plana konkretn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istička os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E5B-192E-40D2-A711-105FACD182F1}" type="slidenum">
              <a:t>2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D6D6F-8B60-4C75-8EBA-D82046FE14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se na sličan način kao prostorn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njemu se navodi na koje se vreme dono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nacrta se deli 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za izrade programskog 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za izrade prostorne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11CA-BA12-41CB-A39E-63355DF03F49}" type="slidenum">
              <a:t>2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1AD5D-E2C9-401D-8DB5-D5D07AE3D6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u područja na koje se od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nu namenu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strukturne objekte sa priključcima na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nu koncepciju stambene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ozelenj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štitu prirodnih vrednosti i kulturnih dob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855-DD7E-4B06-AA06-FE7D93A1664A}" type="slidenum">
              <a:t>2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F59AA-4707-4992-A2B4-3B2C662AB8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na faza urbanističkog plan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rada GUP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kretizuje GUP u vezi namene provršina i položaja ob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 se za manje celine - mesne zajednice, nekoliko blokova 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da previše detalj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se slično kao G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E97-3342-47E0-B3C3-EEF7FE313C4C}" type="slidenum">
              <a:t>2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8980F-4E72-4C2C-8D62-1583407723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stualni deo DUP-a 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šti deo gde se nav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vni osnov i povod za izradu i donošenje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lj iz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 javne raspr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e za uređenje prostora sa smernicama za privođenje prostora na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B5B-FC20-4D82-A275-F0D7AB199378}" type="slidenum">
              <a:t>2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78ECD-147A-4A47-AF31-ABD496E7BB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ički deo 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cione plan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ljnu namenu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u područ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kte koji se zadržavaju i ruš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ciona i nivelacio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jna rešenja za infrastrukturu i uređenje slobodnih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detske elemente za obelež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parcel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833F-7ED8-47AB-A184-98402FA5CF62}" type="slidenum">
              <a:t>2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C425E-FE84-4D73-AB69-F261EBBD0C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kt o uslovima za uređenje pros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 za izradu tehničk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tke o lok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ističko-tehničke uslove za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e uslove za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ožaj regulacione i građevi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htevane karakteristike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6249-0C7C-4D8C-9B07-BAC96B7D6A0A}" type="slidenum">
              <a:t>2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76172-2FF6-408C-AB42-F328021452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kt o uslovima za uređenje pros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 se na osnovu DUP-a ili na osnovu privremenih 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e saglasnosti komunalnih služ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ga organ uprave nadležan za poslove urbaniz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je slična proceduri donošenja ostalih planskih dokumen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98B2-3C9C-4478-8B8C-FA91B4B668C8}" type="slidenum">
              <a:t>2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8D12D-B044-427F-B796-DB72DBAB95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ređenje zemljis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ti ne mogu da funkcionišu bez prateće infra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kviru troškova izgradnje objekta moraju se uračunati i troškovi infra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izgradnju na području Beograda plaća se opremanje zemljišta Gradskoj direkciji za puteve i zemlj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no ure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kundarno ure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EC35-70C1-4EBD-9581-A1DF51996481}" type="slidenum">
              <a:t>2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FAD3F-EAF5-48DE-AE52-517E543DF2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ovište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 i priprema real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ranje i proširenje baze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6E9E-DD74-42F1-B011-33FD2685255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43F15-0F0D-4DEA-8084-BB81D9F7A60C}" type="datetime1">
              <a:rPr lang="en-US"/>
              <a:t>07/30/26</a:t>
            </a:fld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kat tehnologije i organizacija grad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deo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o poznavanj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za sagledavanje stvar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5DE-FDA8-43B7-9C30-64F799AC02EF}" type="slidenum">
              <a:t>2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6F9AE-AF5C-4351-9453-682BF49A9F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 o građ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detske, geološke pod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rološke i meteorološke pod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snabde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eksperata i učesnik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40C9-14C5-490C-871D-810DA582BA5E}" type="slidenum">
              <a:t>2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9CA6F-719C-4506-AA27-86C491ED21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elementi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opis sa tehničkim uslovima za izvo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račun fonda radnog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cena materijala “franko gradiliš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iri i uži izbor mehan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montaž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čki planovi potreba za resur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ona struk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4666-B020-4E61-9247-22F6BE8BE66F}" type="slidenum">
              <a:t>2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1D615-7CC6-4763-A681-D2083E01D0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elementi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enje informacionog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amičk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organizacije gradil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predhodnih i pripremnih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pravljanja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e zaštite na ra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8593-2ACC-4687-A860-BEDBF305E239}" type="slidenum">
              <a:t>2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4B46E-941C-4EC1-A21E-B408D7F82D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at tehnologije i organizacija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D3B-443B-4E59-AFD9-4C2E16CA14E6}" type="slidenum">
              <a:t>2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10B1C-6F24-4A95-A5AD-CDB237D2DB3F}" type="datetime1">
              <a:rPr lang="en-US"/>
              <a:t>07/30/26</a:t>
            </a:fld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đenje radova na gradil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BC7C-2726-44DA-99B5-09AFB69207F8}" type="slidenum">
              <a:t>2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9CA9D-FCC4-4824-9FCC-7572BC68EA23}" type="datetime1">
              <a:rPr lang="en-US"/>
              <a:t>07/30/26</a:t>
            </a:fld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2F12-A095-45C7-8235-61100C957C63}" type="slidenum">
              <a:t>2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34F35-6CAA-4E05-9F95-095CAF45605A}" type="datetime1">
              <a:rPr lang="en-US"/>
              <a:t>07/30/26</a:t>
            </a:fld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ktična realizacija idealizovanog modela koji je do tada razrađi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tovo uvek model se mora prilagođavati realnos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rada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e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7E3-0459-4716-A2ED-74B3E99F0D7A}" type="slidenum">
              <a:t>2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05073-97FB-4611-8719-CDB549B00C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gradnja uz razradu tehničko-tehnoloških i organizacionih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rcijalne aktivnosti vezane za obezbeđenje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ispunjenja sopstvenih ugovornih obav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ispunjenja ugovornih obavez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sa investit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215A-D74C-45BA-954E-C7562B842D0E}" type="slidenum">
              <a:t>2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F8BED-DD4B-426C-BF88-9767652EA8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štinska pitanja na koja moramo odgovara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ji je obim pos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je saradnike imamo na raspolaganj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liko vremena imamo na raspolaganj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liki su troškovi ovog pos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kav kvalitet moramo da ostvarim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BD4-D525-4548-97B4-1981994B43DB}" type="slidenum">
              <a:t>2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6C477-DC6F-4F44-A512-F1067CC655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ta smo naučil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navanj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ološki pro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1CD-7CD0-4E8C-869C-89283FFFDE9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860E0-0D2E-4FA5-A2CD-142D8A986CE9}" type="datetime1">
              <a:rPr lang="en-US"/>
              <a:t>07/30/26</a:t>
            </a:fld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ki od odgovora na navedena pitanja se mogu unapred zn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ki od odgovora se menjaju vremenom zbog razvoja situ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dovoljno odgovoriti na ova pitanja samo u jednom trenut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govori se moraju pribavljati i korigovati tokom celog rad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A66A-9380-403E-9F0E-737F9455A056}" type="slidenum">
              <a:t>2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35514-B542-4C9B-A1BE-1D7BBFEF99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(plan) budućih događ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id u stvarno st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akcije za smanjenje odstup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579F-E26C-41CD-88EA-CB5635A31028}" type="slidenum">
              <a:t>2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78175-29A5-4E99-BD8E-C293212A71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 je obavezan uslov za  kontrolu realizacije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e osobine informacionog sistema za kontrolu realizacije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lopljen u IS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dobijanja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procene efekata odlu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distribucije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je potrebna, ali ne apsolutna tačno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283-C0D7-45BE-A651-CCFEFB5299B5}" type="slidenum">
              <a:t>2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3195A-973D-42A1-90FC-BEACC4213C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se odvija na osnovu procena obima radova, procene praktičnog učinka i sagledavanja 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se prikazuje u mreženom pl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 tačnih pla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ovi se stalno ispravljaju i prilagođavaju stvarnoj situ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3ADA-2A95-4C2E-848A-B28B61F9B7CC}" type="slidenum">
              <a:t>2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04175-35EC-4583-A5B4-3153B28D3C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postoji efikasan način da se automatski stigne od predmera do mrežnog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automatizovati samo veoma jednostavne proj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poželjno uspostaviti vezu između predmera i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mora kvalitetno ostva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ne mora biti potpuno tač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F76-5B82-4251-B090-2FBAE987C533}" type="slidenum">
              <a:t>2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935C1-EA6F-4EFF-9704-26F3A49DB0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kvalitetni programi za mrežno plan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 se može realizovati brzo, efikasno i pregle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dobiti odgovori na pitanja “Šta - ak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672-69BD-4897-A23B-0E1397F4F7EC}" type="slidenum">
              <a:t>2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22D8D-8458-41A4-95B8-C8326A658B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no, možda najvažnije merilo uspeh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započeti sa kontrolom troškova što ran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troškove se najbolje utiče na samom početku rad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samom početku rada na projektu najslabije poznajemo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021-76DD-47B3-8165-7CEEC6EAE53E}" type="slidenum">
              <a:t>2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A1F87-4380-490C-B2C4-E0099D72BB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ranih studija na troškov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e studije čine 2% vred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e studije mogu da pruže 50% doprinosa profitabil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 definiše troškove s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šću ± 5%-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kviru projektne dokumentacije je ostvareno 85%-90%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87A-145D-4872-A8D0-55DE43D73EDF}" type="slidenum">
              <a:t>2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D4E9B-B772-4F01-8562-39F9C0A28F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raćenje vremena realizacije projekta može da značajno poveća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ženje vremena realizacije projekta može takođe da značajno podigne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ba izabrati optimalno trajan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je primena kvalitetnih programa za planiranje tokom kontro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803A-0C6F-4156-B185-0A79B1B93344}" type="slidenum">
              <a:t>2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47038-3738-43A3-BF17-F048CFBF1B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 na bazi utroška resurs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a razrađena 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paralelna 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ostvariti detaljnu kontrol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ženost modela se mora pažljivo odrediti, da ne bi postao neefik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B638-824D-4800-9794-941590AFB00A}" type="slidenum">
              <a:t>2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D0AA4-8256-42C9-BA29-06E046059D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ta ćemo raditi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o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e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živanje trž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rada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a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rada projektne dokumentacije i pri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vođen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istorijskih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3B56-995F-4A6D-89EC-8EB9AD92A5D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2BA89-7AEE-41E9-A5A3-F4C7859849D9}" type="datetime1">
              <a:rPr lang="en-US"/>
              <a:t>07/30/26</a:t>
            </a:fld>
          </a:p>
        </p:txBody>
      </p:sp>
    </p:spTree>
  </p:cSld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ih i realizovanih troškova po aktiv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efikasnog plana ne postoji direktna veza između aktivnosti i pozic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obaviti kreativno povezivanje ta dva sk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DFE-0C55-42A8-85E7-1E4094282B75}" type="slidenum">
              <a:t>2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F88B0-BEA1-481A-89B2-FCD608927B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ba proceniti očekivane troškove pojedinih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aki konkretan trošak treba pridruživati konkretnoj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rocene i stvarnog iznosa je osnova za kontro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2FF-818A-419F-9315-A3E870FB2199}" type="slidenum">
              <a:t>2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915CE-5D89-4650-B40E-B50433163D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nostavniji i manje kvalitetan način je poređenje procenjenog troška pozicije radova i realizova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daje pregled u vrem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je presporo za efikasno upravlj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se sprovodi kroz čisto knjigovod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poboljšanje kroz primenu troškovno značajnih stav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213-3895-4E6F-9D15-0B949A0605D5}" type="slidenum">
              <a:t>2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F71F3-9F07-4952-BC4D-F8C6F0DF6F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oka novca (cash flow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 toka nov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b nač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od životnog značaja za izvođača, pogotovu u naš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jedini način realne kontrole troškova tokom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1DE4-CD47-4039-AF5E-4BEC054C1D5F}" type="slidenum">
              <a:t>2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D62B9-D02A-476B-935D-22C9242250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a za razrešavanje sporova sa investit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se bazirati na strategiji firme prema projektu i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se voditi precizno i pažlj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stavlja deo ugovor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as se vodi preko građevinske knjige i dnev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BEE-D727-4FB4-9A97-7EEA6742D28B}" type="slidenum">
              <a:t>2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DAE56-87E8-4F18-9229-513AB85555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FIDIC-u se vodi preko d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obimna u dugotrajnim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je deo IS koji će se baviti ovom prepisk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FIDIC-u postoji klasifikacija d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3015-0C8F-4374-AF42-2613FA06194F}" type="slidenum">
              <a:t>2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B655B-F211-4717-B8A8-4B5291D33B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lasifikacija dopis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o tehnologij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o rok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kcije o radovim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kcije na licu mes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te 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log za izmenu pozicij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riation 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emna lis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quest for approval of wor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evni izveštaj o izvođenju radov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ily rep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E3A-133E-487D-B2C4-48D7522A300D}" type="slidenum">
              <a:t>2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A8192-1FA3-479A-8F2A-CEC5F34402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 i prateća dokum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(računajući i situacije, planove i 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pisnici sa sastan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obimna i raznovr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je tokom celog toka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 efikasnog korišćenja dokumentacije može da zavisi veoma mno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5A88-7177-455F-AE38-7CFD74C4737B}" type="slidenum">
              <a:t>2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61634-EACA-42A8-A6A2-7B459DCBEC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čni metod arhiviranja je neefik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o je praktično nemoguće dobiti prave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organizovati sistem unošenja, analiziranja i šifr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bitan interaktivan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neophodno unositi u računar cele doku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8CBC-3861-458C-9E39-6F40BFAE7ACF}" type="slidenum">
              <a:t>2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616C0-8FF8-40A1-A2C8-BF35A31675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carinskim i komercijalnim poslov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da u neinženjerske poslove, po klasičnim kriteriju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no za realizacij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ro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zoravanje kori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deo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9CA2-B3EA-4399-A714-26B280FFB1B9}" type="slidenum">
              <a:t>2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B7821-6E3C-4462-B5AC-3942248CDE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torov pogled na sv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formiran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real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1B61-BCE9-49DA-AAE2-6602482ACAF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2689E-C215-4FCE-946A-5FCCC7DDA49A}" type="datetime1">
              <a:rPr lang="en-US"/>
              <a:t>07/30/26</a:t>
            </a:fld>
          </a:p>
        </p:txBody>
      </p:sp>
    </p:spTree>
  </p:cSld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F05D-6784-477B-A330-4823E2D60596}" type="slidenum">
              <a:t>2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CC9CB-50D5-4DEE-A7C5-2E3E6ABE7510}" type="datetime1">
              <a:rPr lang="en-US"/>
              <a:t>07/30/26</a:t>
            </a:fld>
          </a:p>
        </p:txBody>
      </p:sp>
    </p:spTree>
  </p:cSld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CBE1-A795-4A5F-A839-95F5F89C59D0}" type="slidenum">
              <a:t>2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3E7A2-0CAC-4471-8E0C-45BE0CB9453D}" type="datetime1">
              <a:rPr lang="en-US"/>
              <a:t>07/30/26</a:t>
            </a:fld>
          </a:p>
        </p:txBody>
      </p:sp>
    </p:spTree>
  </p:cSld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6F3-9AD1-45B8-8AB6-8F1F512B6B7C}" type="slidenum">
              <a:t>2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B5D49-A17F-4DC6-B1A4-0F5E522806E4}" type="datetime1">
              <a:rPr lang="en-US"/>
              <a:t>07/30/26</a:t>
            </a:fld>
          </a:p>
        </p:txBody>
      </p:sp>
    </p:spTree>
  </p:cSld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14440" y="5000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14440" y="1981080"/>
            <a:ext cx="5829120" cy="739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vija se tokom celog projek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ednovanje izvršenog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varni cilj svakog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štinski uslov je dokumentacija a ne izvršeni rad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pravilu podležu nacionalnim zakon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zasnivati na internacionaln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B45-326B-49E0-9E67-B9922EBBB8BC}" type="slidenum">
              <a:t>2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2A245-16CF-4B91-8C12-BBF48BA2B1CC}" type="datetime1">
              <a:rPr lang="en-US"/>
              <a:t>07/30/26</a:t>
            </a:fld>
          </a:p>
        </p:txBody>
      </p:sp>
    </p:spTree>
  </p:cSld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YU L Times"/>
              </a:rPr>
              <a:t>FIDI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usl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 ko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e, dopune i ispušt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remeni iz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itivanje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ali us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ovi po tuđim specifikac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oć drugim izvođač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nestandardnih ter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ovi tokom garantnog r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ončanje ugov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F6A-AA7A-4260-A953-E8BD592C6965}" type="slidenum">
              <a:t>2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15870-795D-4A88-9805-6A98FA377B12}" type="datetime1">
              <a:rPr lang="en-US"/>
              <a:t>07/30/26</a:t>
            </a:fld>
          </a:p>
        </p:txBody>
      </p:sp>
    </p:spTree>
  </p:cSld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renje količi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čne cene (unit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e cene (lump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binovani mode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merenja prema FIDIC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hodno obavešt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traženih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rezult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dbe u roku od 14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2278-0174-42A9-B6F1-4FBD74101C61}" type="slidenum">
              <a:t>2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D7DDD-DEC0-4E57-B707-1B9B933C5B05}" type="datetime1">
              <a:rPr lang="en-US"/>
              <a:t>07/30/26</a:t>
            </a:fld>
          </a:p>
        </p:txBody>
      </p:sp>
    </p:spTree>
  </p:cSld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menjeni rad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pismeni nalog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o je obavestiti inženjera u roku od 14 dana o zahtevu za dodatnu naplatu (količine ili ce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ukupna izmena pređe 15%, moguća je naplata i ako nalog ne posto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52A-7327-4662-ADFF-F17BAB6AC777}" type="slidenum">
              <a:t>2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B77E8-56CD-44C1-B7A9-B7300FA35CDA}" type="datetime1">
              <a:rPr lang="en-US"/>
              <a:t>07/30/26</a:t>
            </a:fld>
          </a:p>
        </p:txBody>
      </p:sp>
    </p:spTree>
  </p:cSld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vremeni iznos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siranje radova za koje se u trenutku sklapanja nije znalo da li će biti izved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e se na osnovu odobrenja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u se dostavljaju ponude, računi, fakture i s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7FDA-34B3-4795-BC3C-F26758E1FADE}" type="slidenum">
              <a:t>2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5B69D-1ACB-41A1-B0E3-46C4BA7BACE1}" type="datetime1">
              <a:rPr lang="en-US"/>
              <a:t>07/30/26</a:t>
            </a:fld>
          </a:p>
        </p:txBody>
      </p:sp>
    </p:spTree>
  </p:cSld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kvalit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ična procedura kao za mer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viđeno odredbam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vali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čestanost m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m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redviđeno ugov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plata od strane "krivca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4CCD-1A51-42ED-9EDF-195B3B363368}" type="slidenum">
              <a:t>2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A46BA-AF1C-48FC-9791-74D28B043EAA}" type="datetime1">
              <a:rPr lang="en-US"/>
              <a:t>07/30/26</a:t>
            </a:fld>
          </a:p>
        </p:txBody>
      </p:sp>
    </p:spTree>
  </p:cSld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je tuđih specifik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je ugovoreno na osnovu specifikacija koje nije uradio, izvođač može da naplati prekoračenje količ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i i ako su specifikacije bile poznate u toku sklapanj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5CB-70C7-4C57-BFD0-555AAEF6C433}" type="slidenum">
              <a:t>2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628AE-392E-46FA-AC9D-71BED8D94785}" type="datetime1">
              <a:rPr lang="en-US"/>
              <a:t>07/30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formiranja koncep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3200400"/>
          <a:ext cx="600048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00400"/>
                    <a:ext cx="600048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727-3C2D-47D8-AD84-D451D528CBD2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734F4-FDC8-4A30-8F8A-A5B72319906A}" type="datetime1">
              <a:rPr lang="en-US"/>
              <a:t>07/30/26</a:t>
            </a:fld>
          </a:p>
        </p:txBody>
      </p:sp>
    </p:spTree>
  </p:cSld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ć drugim izvođači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zan je pismeni zahtev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 nestandardnih ter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je poželjno da su uneti u specif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štećenja javnih puteva nastala i pored brige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CA80-F7BB-453D-B613-E73566B91E5F}" type="slidenum">
              <a:t>2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38BE0-0C32-49C7-9BBB-20A3F6DA3FBA}" type="datetime1">
              <a:rPr lang="en-US"/>
              <a:t>07/30/26</a:t>
            </a:fld>
          </a:p>
        </p:txBody>
      </p:sp>
    </p:spTree>
  </p:cSld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tni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zvršava naloge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knadno se utvđuje odgovornost i naplata, na osnovu ov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ončanje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može preuzeti gradilište i opr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na naknadu za izvedene radove i naknadu za ostavljeno gradilište i opr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B530-D714-4B54-91D6-554752290401}" type="slidenum">
              <a:t>2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D227E-A8B0-4389-8638-58A652EB646D}" type="datetime1">
              <a:rPr lang="en-US"/>
              <a:t>07/30/26</a:t>
            </a:fld>
          </a:p>
        </p:txBody>
      </p:sp>
    </p:spTree>
  </p:cSld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 i oružani suko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zdavanje sertifi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č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štenje o prestanku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lobođenje od izvr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C46-3ADB-46F3-8D4C-8DCFBD2DC58B}" type="slidenum">
              <a:t>2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15D5F-C912-4370-A038-5487DE3C9522}" type="datetime1">
              <a:rPr lang="en-US"/>
              <a:t>07/30/26</a:t>
            </a:fld>
          </a:p>
        </p:txBody>
      </p:sp>
    </p:spTree>
  </p:cSld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14440" y="428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14440" y="1295280"/>
            <a:ext cx="5829120" cy="792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remeni sertifik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i odobrav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na izvršenim rad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tifikat o preuzimanju aktivnosti tokom garantnog r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tifikat za otklanjanje nedost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sijska poravn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po završet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crt konačne izj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ačna iz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ačni sertifi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F17-F5DC-4726-BEB1-8FD766F636A6}" type="slidenum">
              <a:t>2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AB080-0B0C-4B80-92AF-04A735AA12A2}" type="datetime1">
              <a:rPr lang="en-US"/>
              <a:t>07/30/26</a:t>
            </a:fld>
          </a:p>
        </p:txBody>
      </p:sp>
    </p:spTree>
  </p:cSld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e klauz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ovi nominovanih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atorije, materijali i standar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0D37-B322-440A-B6E4-BB17B6014721}" type="slidenum">
              <a:t>2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8D048-7CA2-4C58-8D08-ECA4DB5A4F69}" type="datetime1">
              <a:rPr lang="en-US"/>
              <a:t>07/30/26</a:t>
            </a:fld>
          </a:p>
        </p:txBody>
      </p:sp>
    </p:spTree>
  </p:cSld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14440" y="5763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za pokretanje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14440" y="2819160"/>
            <a:ext cx="5829120" cy="60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jeni rad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podataka dobijenih od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prostora za gradilište i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ovo neispunjavanje obav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nac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 pri obeleža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60CC-CF64-4683-A29C-8362BC076AA3}" type="slidenum">
              <a:t>2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B9820-EF47-47A5-B248-48D77D0A1C90}" type="datetime1">
              <a:rPr lang="en-US"/>
              <a:t>07/30/26</a:t>
            </a:fld>
          </a:p>
        </p:txBody>
      </p:sp>
    </p:spTree>
  </p:cSld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37760" y="50004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za pokretanje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62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itivanja van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ustav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zic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 nestandarnih tereta van pred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DE98-292A-4337-90D5-A8AEF71974F1}" type="slidenum">
              <a:t>2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D2260-94BB-41F6-B86D-DB2E29263D49}" type="datetime1">
              <a:rPr lang="en-US"/>
              <a:t>07/30/26</a:t>
            </a:fld>
          </a:p>
        </p:txBody>
      </p:sp>
    </p:spTree>
  </p:cSld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tupak pokretanja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ena najava inženjeru u roku od 28 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i obrač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 zahtev za plaćanje u bilo kojoj mesečnoj situ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obravanje od strane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3E43-6777-4CE8-8E46-DB456024B7D1}" type="slidenum">
              <a:t>2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775C7-5F5C-453D-8EE9-53BC72009B5A}" type="datetime1">
              <a:rPr lang="en-US"/>
              <a:t>07/30/26</a:t>
            </a:fld>
          </a:p>
        </p:txBody>
      </p:sp>
    </p:spTree>
  </p:cSld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kom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gov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bitraž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zni vremenski 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avljeno dovoljno vremena za odlučivanje o arbitraž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0894-9F8D-461B-B317-88925D34B238}" type="slidenum">
              <a:t>2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0B1F3-2A7A-4134-8F08-719F047F6699}" type="datetime1">
              <a:rPr lang="en-US"/>
              <a:t>07/30/26</a:t>
            </a:fld>
          </a:p>
        </p:txBody>
      </p:sp>
    </p:spTree>
  </p:cSld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7F3-80D9-484F-B495-02A0E73053FE}" type="slidenum">
              <a:t>2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41868-B670-4A95-A6C0-42C6B8D6F5B7}" type="datetime1">
              <a:rPr lang="en-US"/>
              <a:t>07/30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koncepcije - faza "juriša"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Želj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radi racionalnog sagledavanja žel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jne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ujuće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%-90%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materijalizuje žel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 pomažu investitoru da donosi odl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43F-B702-4447-88FD-FE3D00154DA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8457C-660B-4A05-8D5D-461DC04E7D8F}" type="datetime1">
              <a:rPr lang="en-US"/>
              <a:t>07/30/26</a:t>
            </a:fld>
          </a:p>
        </p:txBody>
      </p:sp>
    </p:spTree>
  </p:cSld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CB2D-271B-4D0A-A29A-10FD5CB1D23B}" type="slidenum">
              <a:t>2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5C271-6C40-461F-ADC7-86B1046077F1}" type="datetime1">
              <a:rPr lang="en-US"/>
              <a:t>07/30/26</a:t>
            </a:fld>
          </a:p>
        </p:txBody>
      </p:sp>
    </p:spTree>
  </p:cSld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25B-810D-4846-BE38-52E79C837492}" type="slidenum">
              <a:t>2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5B4C9-98BA-4600-B0DE-420034BB8907}" type="datetime1">
              <a:rPr lang="en-US"/>
              <a:t>07/30/26</a:t>
            </a:fld>
          </a:p>
        </p:txBody>
      </p:sp>
    </p:spTree>
  </p:cSld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jedno sa istraživanjem tržišta odvija se nezavisno od konkretnog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i izvor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 najvredniju imovinu firme - zn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njuje zavisnost firme od pojedin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4DCA-05A1-4E8C-9923-420ADD3422AE}" type="slidenum">
              <a:t>2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4F131-3819-4AD0-81C6-14D9E7C5E680}" type="datetime1">
              <a:rPr lang="en-US"/>
              <a:t>07/30/26</a:t>
            </a:fld>
          </a:p>
        </p:txBody>
      </p:sp>
    </p:spTree>
  </p:cSld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zavisne od konkretn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izvor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sistematizacija i sažimanje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90B9-A14C-4A90-990B-9047BB6FA3A2}" type="slidenum">
              <a:t>2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62DC9-A7BA-46DF-98C3-3C4F92AAC3B8}" type="datetime1">
              <a:rPr lang="en-US"/>
              <a:t>07/30/26</a:t>
            </a:fld>
          </a:p>
        </p:txBody>
      </p:sp>
    </p:spTree>
  </p:cSld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oga u realizaciji projekata (investitor, izvođač, konsultant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ža oblast delovanja (izgradnja tunela, stanova, mostova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karakteristike firme (organizaciona struktura, veličina, strategi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o znanja i iskust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remlj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E57A-3C87-4018-80C3-ED2F4905B07B}" type="slidenum">
              <a:t>2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6F1AC-1103-40B9-92EE-742ADED251C4}" type="datetime1">
              <a:rPr lang="en-US"/>
              <a:t>07/30/26</a:t>
            </a:fld>
          </a:p>
        </p:txBody>
      </p:sp>
    </p:spTree>
  </p:cSld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sistema i sagledavanje potreba za istorijskim poda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iranje izvo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strukture i toka informacija 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ređivanje sadržaja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ranje specifikacije za nabavku hardv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D201-E0F6-4B38-8A85-BDF7C9E1D7EE}" type="slidenum">
              <a:t>2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61DE1-4B1E-4DD8-9F57-8EAF3378D20D}" type="datetime1">
              <a:rPr lang="en-US"/>
              <a:t>07/30/26</a:t>
            </a:fld>
          </a:p>
        </p:txBody>
      </p:sp>
    </p:spTree>
  </p:cSld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implementcija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inuirano prikupljanje, selekcija i unošenj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baze podataka (pretraživanje, izveštavanje, povezivanje različitih tipova podata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13D1-140C-4D0A-9EC4-C8E82E676DB7}" type="slidenum">
              <a:t>2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244B7-358E-4C49-AD83-858EC48B10A3}" type="datetime1">
              <a:rPr lang="en-US"/>
              <a:t>07/30/26</a:t>
            </a:fld>
          </a:p>
        </p:txBody>
      </p:sp>
    </p:spTree>
  </p:cSld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investicionim radovima, potpuno ili delimično realizov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meri i predrač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đevinski dnevnici i knj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uacije o fizičkoj i finansijskoj realiz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i izveštaji o kontroli vremena i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4147-F392-4500-BE6D-070E8EFF7402}" type="slidenum">
              <a:t>2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07218-539E-4A5A-8CC6-30773BD1C29C}" type="datetime1">
              <a:rPr lang="en-US"/>
              <a:t>07/30/26</a:t>
            </a:fld>
          </a:p>
        </p:txBody>
      </p:sp>
    </p:spTree>
  </p:cSld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atorijski i drugi izveštaji o kontroli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e specif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ička projektn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ugrađenoj opr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kovani iskustveni norma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a i zapisnici o ključnim tehničkim proble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DC04-7F73-4E8C-A54A-7123C494D515}" type="slidenum">
              <a:t>2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E266F-082B-433E-B72B-89833892DA10}" type="datetime1">
              <a:rPr lang="en-US"/>
              <a:t>07/30/26</a:t>
            </a:fld>
          </a:p>
        </p:txBody>
      </p:sp>
    </p:spTree>
  </p:cSld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orišćenoj mehaniz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acija o carinskim i drugim komercijalnim trošk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laćanju osigu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laćanju lokalne radne snage i mehan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acija o radu sklad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137-044C-4C84-B358-FA90C2D2F46F}" type="slidenum">
              <a:t>2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62707-137B-485A-8F66-C380CCD33901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realizacije - še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3505320"/>
          <a:ext cx="572796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505320"/>
                    <a:ext cx="572796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4882-ACD7-435D-8B8A-A9DC8E963BD0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197E0-2259-4D49-9C22-56E29759F2F2}" type="datetime1">
              <a:rPr lang="en-US"/>
              <a:t>07/30/26</a:t>
            </a:fld>
          </a:p>
        </p:txBody>
      </p:sp>
    </p:spTree>
  </p:cSld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drovska eviden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e zvanične lokalne publ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imljeni materijali o gradil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a zapažanja pojedi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8F5-FEA1-493A-9A57-5065687062F8}" type="slidenum">
              <a:t>2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6EAC1-A448-49C3-899D-F8BFC409BDF2}" type="datetime1">
              <a:rPr lang="en-US"/>
              <a:t>07/30/26</a:t>
            </a:fld>
          </a:p>
        </p:txBody>
      </p:sp>
    </p:spTree>
  </p:cSld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stvarno izvedenim količinama i naplaćenim cen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, po jedinici mere, o utrošku radne snage, mehanizacije i materijala, finansijski efekti i vreme izvo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unkcionisanju maš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podaci o izvedenim rad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F44-2C36-4008-96B5-940E9B667D22}" type="slidenum">
              <a:t>2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A51EC-489F-4856-97C1-FAB2354BFB25}" type="datetime1">
              <a:rPr lang="en-US"/>
              <a:t>07/30/26</a:t>
            </a:fld>
          </a:p>
        </p:txBody>
      </p:sp>
    </p:spTree>
  </p:cSld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723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opremi (podizvođači, cene, vremena isporuke, transport, montaža, probni pogon i garantni r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adrovima (učešće i kvalitet ra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adrovima investitor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i podaci iz lokalnih publ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bitni za 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7D5-F22B-46BE-AEDB-A22BE7B375D1}" type="slidenum">
              <a:t>2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85C57-6679-4D82-AAAC-26518C00BC5F}" type="datetime1">
              <a:rPr lang="en-US"/>
              <a:t>07/30/26</a:t>
            </a:fld>
          </a:p>
        </p:txBody>
      </p:sp>
    </p:spTree>
  </p:cSld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EA3E-33E3-44E8-93CC-7F144F7363CD}" type="slidenum">
              <a:t>2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9582F-DA3F-4220-9CC2-077EBD7D528C}" type="datetime1">
              <a:rPr lang="en-US"/>
              <a:t>07/30/26</a:t>
            </a:fld>
          </a:p>
        </p:txBody>
      </p:sp>
    </p:spTree>
  </p:cSld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14F4-242E-4518-BB5E-61D309C50774}" type="slidenum">
              <a:t>2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E46FF-8248-4418-B588-3588A18840ED}" type="datetime1">
              <a:rPr lang="en-US"/>
              <a:t>07/30/26</a:t>
            </a:fld>
          </a:p>
        </p:txBody>
      </p:sp>
    </p:spTree>
  </p:cSld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, opšti i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i, opšti i u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koncepcija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zmeđu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C9A2-AB25-446F-A187-F833194DA82E}" type="slidenum">
              <a:t>2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EBBCA-06E4-4D2C-8A08-1C2815D1B74A}" type="datetime1">
              <a:rPr lang="en-US"/>
              <a:t>07/30/26</a:t>
            </a:fld>
          </a:p>
        </p:txBody>
      </p:sp>
    </p:spTree>
  </p:cSld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je znatno više od prostog skupa de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ovi sistema su povezani vez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transformišu i razmenjuju res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imaju svoj cil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podeliti na podsiste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4834-81B6-49E2-ACC5-10FCC705DE0F}" type="slidenum">
              <a:t>2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BB7FB-B2CE-42BB-B8F4-C6DC908F5AFC}" type="datetime1">
              <a:rPr lang="en-US"/>
              <a:t>07/30/26</a:t>
            </a:fld>
          </a:p>
        </p:txBody>
      </p:sp>
    </p:spTree>
  </p:cSld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u građevinarstvu reaguju na spoljne uticaje (otvoreni sistem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ma u građevinarstvu se može upravlj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 se na osnovu resursa "informacij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F806-1976-4DEB-BFB8-82EA500F9CEE}" type="slidenum">
              <a:t>2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50B8F-C026-4BE9-9FAC-DDF03CFCF48A}" type="datetime1">
              <a:rPr lang="en-US"/>
              <a:t>07/30/26</a:t>
            </a:fld>
          </a:p>
        </p:txBody>
      </p:sp>
    </p:spTree>
  </p:cSld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sistemi za razmenu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bi upravljanje bilo moguće, treba da odgovara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u "činjenice iz kojih možemo da izvučemo zaključk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je su "značenja koji čovek pripisuje podacim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EB7-9270-4D81-B045-BEC1653C730E}" type="slidenum">
              <a:t>2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3CA61-D5BE-4341-863F-39C15513E798}" type="datetime1">
              <a:rPr lang="en-US"/>
              <a:t>07/30/26</a:t>
            </a:fld>
          </a:p>
        </p:txBody>
      </p:sp>
    </p:spTree>
  </p:cSld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tke je potrebno prikupiti, skladištiti i obra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 posle obrade dobijamo informaciju koja je kori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ednost informacije opada sa vrem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ja treba da bude tačna, dovoljna i pravo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FCC3-189E-44EA-9FD7-0F743437AF34}" type="slidenum">
              <a:t>2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C3682-B048-4180-AF2E-197FC737DD42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... a šta ćemo vas mi uči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incipi upravljanja se razlikuju od principa matemat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ema opštih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itno je rešiti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itno je “snaći 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ije dovoljno znati “šta je predavan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znanje ima smisla samo ako se kreativno primenjuje u realnim situ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7E78-5BD1-4E59-A61E-116FFE49141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7C640-2D24-41EB-9BA1-46B3009E16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realizacije - "rovovska" borb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eni su suštinski po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te su suštinske odl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ao investitora je da kontroliše na bazi predhodnih zn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š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4132-1E87-4E5E-8DA4-169CE8B6E2E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B6925-7B7A-43DC-A1D7-921D9158F773}" type="datetime1">
              <a:rPr lang="en-US"/>
              <a:t>07/30/26</a:t>
            </a:fld>
          </a:p>
        </p:txBody>
      </p:sp>
    </p:spTree>
  </p:cSld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je u upravljanju projektim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informacija odgovara interak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i informisanja odgovaraju učesni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govremenost je od suštinskog znač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čunari nisu obavezni ali pomaž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treba da bude slična samom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6FC4-F494-451E-B4B6-00877BCB9302}" type="slidenum">
              <a:t>3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8969B-6069-472A-9215-B49F0EC652F0}" type="datetime1">
              <a:rPr lang="en-US"/>
              <a:t>07/30/26</a:t>
            </a:fld>
          </a:p>
        </p:txBody>
      </p:sp>
    </p:spTree>
  </p:cSld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ema IS za upravljanje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5797440" cy="28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4F0D-F121-40C1-A38C-52E84A1C3A90}" type="slidenum">
              <a:t>30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8D386-26BE-4CF4-886E-CE3BDECA8994}" type="datetime1">
              <a:rPr lang="en-US"/>
              <a:t>07/30/26</a:t>
            </a:fld>
          </a:p>
        </p:txBody>
      </p:sp>
    </p:spTree>
  </p:cSld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vivaletan je modelu upravljanja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čari se ne razumeju u menadž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azumevanje da je potrebna investicija koje će se ispla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procenjivanje budućih organizacionih iz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sagledavanje potreba za inform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održ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E367-27AA-40BF-ACD7-6620D94F8079}" type="slidenum">
              <a:t>3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5A684-FA80-4B4B-BFDD-1782F8DE26EB}" type="datetime1">
              <a:rPr lang="en-US"/>
              <a:t>07/30/26</a:t>
            </a:fld>
          </a:p>
        </p:txBody>
      </p:sp>
    </p:spTree>
  </p:cSld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budućeg razvoja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kad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log poboljšanja u rukovođ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agođen konkretnom poslovnom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budž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BBF0-C13B-434A-A0ED-AAC9A3E1C369}" type="slidenum">
              <a:t>3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9AF1B-C1C0-47EE-9638-67A53E90A3D7}" type="datetime1">
              <a:rPr lang="en-US"/>
              <a:t>07/30/26</a:t>
            </a:fld>
          </a:p>
        </p:txBody>
      </p:sp>
    </p:spTree>
  </p:cSld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e postavk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e podataka su "kolekcije podatak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poslovnu primenu trebaju n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investitorima u rokovn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zaposlenima u ličnim dosije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knjigovodstvu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 . .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aka od navedenih skupova su "tabel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8E2-4CC9-4D60-96A8-8235E5507DD1}" type="slidenum">
              <a:t>3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B5F58-B971-4440-B9E1-9029F28032D1}" type="datetime1">
              <a:rPr lang="en-US"/>
              <a:t>07/30/26</a:t>
            </a:fld>
          </a:p>
        </p:txBody>
      </p:sp>
    </p:spTree>
  </p:cSld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e između tabe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ele nisu nezavis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zaposleni komuniciraju sa pojedinim poslovnim partne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zaposleni doprinose prihodima i troškovima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poslovnim partneri doprinose prihodima i troškovima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BCB-E3D6-4828-BD43-8F8591B00F04}" type="slidenum">
              <a:t>3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57F4E-C5BC-42DC-AD80-86C3698B5168}" type="datetime1">
              <a:rPr lang="en-US"/>
              <a:t>07/30/26</a:t>
            </a:fld>
          </a:p>
        </p:txBody>
      </p:sp>
    </p:spTree>
  </p:cSld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sno definisan matematičk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ogućavaju smeštaj podataka na jednom me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šu veze imeđu 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uje efikasnu pripremu izvešt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ogućuje raspodelu prava i odgovor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3275-42C1-465C-8495-BA4A9B5F8B45}" type="slidenum">
              <a:t>3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736E3-A73C-4EB7-B03D-D205C5B1E127}" type="datetime1">
              <a:rPr lang="en-US"/>
              <a:t>07/30/26</a:t>
            </a:fld>
          </a:p>
        </p:txBody>
      </p:sp>
    </p:spTree>
  </p:cSld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i relacion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među 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i (que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ri (F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eštaji (Re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i za upravlj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nički interfejs (interf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148-A69C-4DFB-BAC6-30B4DA67321C}" type="slidenum">
              <a:t>3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D2684-25E6-4C8E-8705-B621F12402D5}" type="datetime1">
              <a:rPr lang="en-US"/>
              <a:t>07/30/26</a:t>
            </a:fld>
          </a:p>
        </p:txBody>
      </p:sp>
    </p:spTree>
  </p:cSld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tribuiranost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nente mogu da budu smeštene na različitim računar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postoje kvalitetne telekomunikacione veze i programi, distribuiranost može biti prozirna (transparent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postojati redundansa (višestruko ponavljanje podata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i univerzalni jezik (SQ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B466-7C19-4CC2-A271-8EC4DE3E0211}" type="slidenum">
              <a:t>3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F9B11-9FA9-4F78-BF76-C09C297BB8A7}" type="datetime1">
              <a:rPr lang="en-US"/>
              <a:t>07/30/26</a:t>
            </a:fld>
          </a:p>
        </p:txBody>
      </p:sp>
    </p:spTree>
  </p:cSld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oji na svim sistemima od velikih do mal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o pogodan za velike si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prostranj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ije ne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oji za Windows NT okru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ično 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no jef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graničen PC i Windows arhitektu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D14D-5B19-4CC1-A6EB-29FCD28D4821}" type="slidenum">
              <a:t>3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0C8CE-A8C4-455F-ACD5-D33849FF5F7C}" type="datetime1">
              <a:rPr lang="en-US"/>
              <a:t>07/30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činje završetkom garantnog ro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ciono dobro se u potpunosti prepušta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na poli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om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ika i tehn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spada u upravljanje projektima u užem smis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6D5-8635-43AF-8361-86E85A8FAFC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B87AD-8BFB-4576-87BC-49C919B5C94E}" type="datetime1">
              <a:rPr lang="en-US"/>
              <a:t>07/30/26</a:t>
            </a:fld>
          </a:p>
        </p:txBody>
      </p:sp>
    </p:spTree>
  </p:cSld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windows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rasprostranj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čen platformom i OS-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ro povezan sa osta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DOS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oban, ali donekle ogranič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ednj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DB1-9254-4AF1-88D8-0B86965910BC}" type="slidenum">
              <a:t>3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859B9-A26E-47E0-98EE-18B8D6AFF42D}" type="datetime1">
              <a:rPr lang="en-US"/>
              <a:t>07/30/26</a:t>
            </a:fld>
          </a:p>
        </p:txBody>
      </p:sp>
    </p:spTree>
  </p:cSld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municiranje između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čke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m univerzalnog jezika (SQ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m tabela u standardnom formatu (d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zičke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e telefo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ečne telefo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čunarski komunikacioni ka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ne 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4936-57B0-4974-883A-B972803BC271}" type="slidenum">
              <a:t>3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B76E5-61A1-440C-BE4B-4AE1964ED8D4}" type="datetime1">
              <a:rPr lang="en-US"/>
              <a:t>07/30/26</a:t>
            </a:fld>
          </a:p>
        </p:txBody>
      </p:sp>
    </p:spTree>
  </p:cSld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lijent-sever koncep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i "poslužilac (server)" koji je dovoljno "fizički jak" da opsluži više "mušterija (klijent)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jent postavi zahtev, server obradi podatke i vrati ih obrađ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iše se koristi baš za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B5D9-D34D-4A2E-BFD9-4119036C8751}" type="slidenum">
              <a:t>3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FCADD-C729-449C-B6E4-1BCC9494C223}" type="datetime1">
              <a:rPr lang="en-US"/>
              <a:t>07/30/26</a:t>
            </a:fld>
          </a:p>
        </p:txBody>
      </p:sp>
    </p:spTree>
  </p:cSld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jiv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tupnost (raspoloživ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vojnost (evolutivn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AD4B-4B40-412E-BE7E-5E4922DD1963}" type="slidenum">
              <a:t>3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2F5CE-39D9-42A2-8AC8-50B13C25B540}" type="datetime1">
              <a:rPr lang="en-US"/>
              <a:t>07/30/26</a:t>
            </a:fld>
          </a:p>
        </p:txBody>
      </p:sp>
    </p:spTree>
  </p:cSld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ljivost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še korisnika (pojedinaca ili programa) deli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unose samo jed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mnogo pu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nost ograničavanja prava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6F95-89B6-472C-9C76-BDF556523163}" type="slidenum">
              <a:t>3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5DF0D-ABD1-4119-9409-6D1B25A34FF6}" type="datetime1">
              <a:rPr lang="en-US"/>
              <a:t>07/30/26</a:t>
            </a:fld>
          </a:p>
        </p:txBody>
      </p:sp>
    </p:spTree>
  </p:cSld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 (raspoloživost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14440" y="2557080"/>
            <a:ext cx="5829120" cy="67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kasan pris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željenom trenut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željenom me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željenom obl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ladištenj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ni jez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ne metode ob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like između korisnika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čunarski orjentisani (komandni r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ačunarski orjentisani (interaktivni r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D948-B417-4DEA-AEB5-35478A10B36E}" type="slidenum">
              <a:t>3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B2E01-4582-4229-B08B-AA7C2FD3D01A}" type="datetime1">
              <a:rPr lang="en-US"/>
              <a:t>07/30/26</a:t>
            </a:fld>
          </a:p>
        </p:txBody>
      </p:sp>
    </p:spTree>
  </p:cSld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nizak stepen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daljen (logički ili fizički) računarsk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-line režim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a ob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kvencijalni pristup b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i se neki od jezika nižeg niv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B48-ADCD-4BB4-9F41-AAF1079660FC}" type="slidenum">
              <a:t>3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62A7C-EAF8-4AD5-B7DA-AD9F52243E72}" type="datetime1">
              <a:rPr lang="en-US"/>
              <a:t>07/30/26</a:t>
            </a:fld>
          </a:p>
        </p:txBody>
      </p:sp>
    </p:spTree>
  </p:cSld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visok stepen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izak (logički ili fizički) računarsk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ć tehničkog osob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-line režim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utna ob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i pristup b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i se neki od jezika višeg niv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130-F6BF-4F4D-A046-F1FE07086E8A}" type="slidenum">
              <a:t>3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456B9-E00D-4FDE-8E0C-1379ED7C8721}" type="datetime1">
              <a:rPr lang="en-US"/>
              <a:t>07/30/26</a:t>
            </a:fld>
          </a:p>
        </p:txBody>
      </p:sp>
    </p:spTree>
  </p:cSld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zvojnost (evolutivnost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sobnost menjanja i prilagođa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 veze za prošire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ćanje performansi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mena format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avanje novih izvešt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D5BC-8AAF-4020-B79F-133BFB412FC9}" type="slidenum">
              <a:t>3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09D4D-522A-43FD-9519-23BCFEC3A80D}" type="datetime1">
              <a:rPr lang="en-US"/>
              <a:t>07/30/26</a:t>
            </a:fld>
          </a:p>
        </p:txBody>
      </p:sp>
    </p:spTree>
  </p:cSld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gritet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judske greš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grešno uneti poda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šestruko unoš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zdanost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kazi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sa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sa op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pravilu organizacioni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D6C6-2732-484F-AFF2-DDB6A2D57128}" type="slidenum">
              <a:t>3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E9AD4-72FC-4A87-9ACE-AB978F610E32}" type="datetime1">
              <a:rPr lang="en-US"/>
              <a:t>07/30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eduje novac koji želi da invest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mora da bude raciona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učesnik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predmet izučavanja u razvijenim zeml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za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4323-4569-49B2-82C1-49CBB80A351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F3407-5783-4B48-BAF2-A55D8A43832D}" type="datetime1">
              <a:rPr lang="en-US"/>
              <a:t>07/30/26</a:t>
            </a:fld>
          </a:p>
        </p:txBody>
      </p:sp>
    </p:spTree>
  </p:cSld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htevi 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eiranje b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širenje b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sanje novog izvešt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ti za upravl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čni korisnici (česta slab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željno je da i administrator i koris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2D39-174E-44B8-845C-658990364C5F}" type="slidenum">
              <a:t>3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B88D0-3518-4F41-8F7F-EA842849FF1D}" type="datetime1">
              <a:rPr lang="en-US"/>
              <a:t>07/30/26</a:t>
            </a:fld>
          </a:p>
        </p:txBody>
      </p:sp>
    </p:spTree>
  </p:cSld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, opšti i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i, opšti i u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koncepcija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zmeđu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E7E2-FDFA-4050-A6FF-0525F2C091B0}" type="slidenum">
              <a:t>3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6DFD5-8260-4978-8282-3C0AFB228186}" type="datetime1">
              <a:rPr lang="en-US"/>
              <a:t>07/30/26</a:t>
            </a:fld>
          </a:p>
        </p:txBody>
      </p:sp>
    </p:spTree>
  </p:cSld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etraživanje Intern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047-22D1-47DC-921B-DE10A4D6ED98}" type="slidenum">
              <a:t>3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F4584-E27F-4F3B-A6AF-7CCC5BE507D3}" type="datetime1">
              <a:rPr lang="en-US"/>
              <a:t>07/30/26</a:t>
            </a:fld>
          </a:p>
        </p:txBody>
      </p:sp>
    </p:spTree>
  </p:cSld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form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vet u kome živimo je baziran na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iše od 95% istraživača koji su ikada živeli još su ž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lo je verovatno da neko, negde ima informacije koje nas zanima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lo često, najbolje i najefikasnije je da prikupimo i organizujemo postojeće informacije na drugi nač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D43F-8638-4BF6-9616-4642172CC082}" type="slidenum">
              <a:t>3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FCF92-C23A-4DA2-92F2-921589592D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Razmen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 sada, stručnjaci su provodili najveći deo svog vremena u potrazi za postojećim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bolja pomoć svakom stručnjaku je mišljenje nekog kolege, koji se negde u svetu bavim sličnim posl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azmena podataka i komunikacija između stručnjaka je osnova stručnog i naučnog napret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7693-DBFC-43C5-92BE-2F56A8F70C6C}" type="slidenum">
              <a:t>3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EF749-1178-4AF4-8F69-6E658140B1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re Intern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su biblioteke bile najvažnije institucije za prikupljanje znanja koje su stručnjaci korist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Biblioteke su bile među prvim institucijama koje su počele da primenjuju informacion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dan od najvažnijih prodora je bilo pretraživanje bibliotečkih kataloga na daljinu, obično uz pomoć mod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4AE-3F88-4007-9AE6-95C0122EB648}" type="slidenum">
              <a:t>3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0F3B6-F809-4F39-BF46-D752CAC34B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očeci Intern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nternet je nastao kao istraživački projekat koje je finansiralo USA ministarstvo od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Glavni cilj je bio da se obezbedi da različiti računari rade zaje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aj cilj je postignut tako što je obezbeđen način za komunikaciju između račun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0DE4-5978-47D1-8E28-AD10CC592819}" type="slidenum">
              <a:t>3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5A9BF-B14E-49BF-8628-0076A12DA9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irenje Interen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straživači koji su radili na računarim koji su međusobno komunicirali otkrili su da je to veoma kori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 prvi put, računari su postali sredstvo za komunikac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 akademskim sredinama elektronska pošta (E-mail) i razmena fajlova (FTP) su počeli da se koriste kao najbolji način za komunic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A4C-5375-49F3-9FDF-DE6CD9BB745B}" type="slidenum">
              <a:t>3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C049A-B516-4F3E-8143-992F61AB37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i WEB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WWW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ide Web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 je kao standard definisan 1989. u CERN-u, Švajcar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 postavio svoju web prezentaciju 199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 proglas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e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kao svoj glavni priorit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995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anas, komunikacija u poslovnom i akademskom okruženju je velikim delom bazirana na Intern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E12F-9ED6-4209-AE22-92CC6426409B}" type="slidenum">
              <a:t>3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B3AAE-11D9-4723-8624-1579593324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</a:rPr>
              <a:t>Podaci na Interne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14440" y="2285640"/>
            <a:ext cx="47433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bra v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nas, Internet je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jveća svetska kolekcija svih vrsta podatak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ja raste svaki dan, praktično bez ograni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oša v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nas, Internet je najveća svetska kolekcija svih vrsta podataka, koj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raste svaki dan, praktično bez ograni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09D-D2E3-4D08-9342-FA5F65D25C2C}" type="slidenum">
              <a:t>3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C71D2-2C50-440D-AD22-AC1E32F9BC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e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CE45-7E2E-43F3-9672-6A0F3273669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0F126-E5A5-4F81-A549-941E8CBBC373}" type="datetime1">
              <a:rPr lang="en-US"/>
              <a:t>07/30/26</a:t>
            </a:fld>
          </a:p>
        </p:txBody>
      </p:sp>
    </p:spTree>
  </p:cSld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4022640" y="6858000"/>
            <a:ext cx="2835360" cy="3048120"/>
          </a:xfrm>
          <a:prstGeom prst="rect">
            <a:avLst/>
          </a:prstGeom>
          <a:ln w="0">
            <a:noFill/>
          </a:ln>
        </p:spPr>
      </p:pic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an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a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e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gleda ka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gromna biblioteka, u koju gotovo svako donosi gotovo s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otovo svi podaci su tu, ali niko ne može da nađe ništa, zato što biblioteka nije uređena, odnosno nema katalo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ožemo naći neke podatke samo ako znamo gde su ih naši prijatelji ostav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F9E-CD03-4963-A31B-79C4D7F441C9}" type="slidenum">
              <a:t>3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9F9BE-EE41-4EDA-94FF-8A550A2B75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Al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kompanije su formirale sisteme za pretraživanje i katalogiziranje WEB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zultati se takođe objavljuju na WEB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vakav tip servisa, ako je dobar, može privući mnogo posetil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klame koje posetioci vide i njihovi lični podaci mogu da ceo posao učine profitabiln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705-2CBE-465E-B0EB-E38B296BB130}" type="slidenum">
              <a:t>3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796DD-D953-4F47-BF26-7437B5D56A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Tipovi katalo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azgranata struktu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ema predmetu interesovanja, lokaciji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Baza podataka sa pretraživanjem ključnih reči i celog tek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pecijalizovani katalozi koji sadrže važne adrese (URL) u nekoj oblasti (građevinske mašine, univerziteti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3F6D-51E8-4001-B519-76764A6C8EAC}" type="slidenum">
              <a:t>3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3EE8B-5A70-49C8-9347-42A538FE91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Katalog u obliku razgranat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ar ako vam treb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L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organizac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ro poznatog proizvođač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davnice, akademske instituc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anje dobar ako vam trebaju podaci o nekom posebnom pitanju ili iz nepoznatog iz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stariji i trenutno najpopularniji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h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yahoo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594A-93FC-4675-97F3-F4425DA8C45B}" type="slidenum">
              <a:t>3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D1F2D-1CA3-4011-BFDD-A2E08C065D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AHOO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152280" y="2527200"/>
            <a:ext cx="6553440" cy="605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ADA3-13F1-482C-BFDB-7113F24C03A2}" type="slidenum">
              <a:t>3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05C56-4E53-4A65-85D6-26C653D6D5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re ako vam trebaju informacije čiji izvor ne znate ili podaci o veoma specifičnoj tem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anje efikasni ako vam trebaj adresa poznate kompanije ili institu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zahtevaju korišćenje složenog jezika za postavljanje upita, koji mora da se posebno u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stariji i trenutno najpopularniji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taV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ltaVist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7A05-DC3D-4659-851F-0C81C0A7F6CB}" type="slidenum">
              <a:t>3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A4116-E7EB-495A-8E00-17929643EE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taVis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171360" y="1847880"/>
            <a:ext cx="6534360" cy="64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B49-0389-43F7-A885-B39EFD0F44C7}" type="slidenum">
              <a:t>3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AF7B0-726F-4C56-A42D-A35838AE9C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Specijalizovani kataloz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ar izvor podataka o važnim URL-ovima u nekoj posebnoj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graničeni svojom posebnom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eoma dobar specijalizovani katalog za građevinsku mehanizaciju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storical Construction Equipment Asso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bigtoy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FE1-5E70-45F6-A739-2A4C619642E8}" type="slidenum">
              <a:t>3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F4002-EC68-4768-B61F-9379ECFE50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storical Construction Equipment Assoc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82440" y="2647800"/>
            <a:ext cx="6623280" cy="463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570-B133-4475-A8DE-4B9E5B361CAB}" type="slidenum">
              <a:t>3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82D28-3358-4B85-8D25-0E38CFC5B7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treni pretraživač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aktično sve lokacije imaju neku vrstu internog pretraživ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sebno su značajni kod kataloga u obliku razgranate strukture i specijalizovanih katal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su lakši za upotrebu ali i sa manje mogućnosti od pretraživača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BE4-709E-4D4B-AC91-DEDD8FA2F572}" type="slidenum">
              <a:t>3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F9891-D9D0-47C1-9544-5FC4E89710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đač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 obavezni učesnik u projektu (uz investito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biti raciona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običajena uloga jugoslovensk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ično neinteresantan u zapadnom sv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oga mu je podređena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1D41-3A94-483E-86E4-9F79B8E46AF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B742C-D3CE-4E2F-90E1-5B76CC9D42E3}" type="datetime1">
              <a:rPr lang="en-US"/>
              <a:t>07/30/26</a:t>
            </a:fld>
          </a:p>
        </p:txBody>
      </p:sp>
    </p:spTree>
  </p:cSld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menic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lično telefonskim imenicima, postoje i Internet imen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adrže obično E-mail adrese korisnika, koji su ih sami uneli u baz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stoji opasnost od dobijanja neželjene po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dan od najpopularnijih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gf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bigfoo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C55-FF4B-4C97-B14C-97D2651E5A8F}" type="slidenum">
              <a:t>3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82D12-B59C-43F0-98ED-9B2AA8F124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gfoo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6553440" cy="597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EE3-8A46-4CF4-B15D-EA8B6400E9FE}" type="slidenum">
              <a:t>3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0B171-E4A4-4CFA-A07F-588BD9744B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Ćaskanje na Interne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firme nude sisteme za časkanje na Intern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i sistemi obično omogućavaju potragu za korisnicima prema željenim kriteriju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vo je vrlo korisno ako tražite ljude koji dele vaš in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renutno je najpopularni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C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icq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5C8B-1CC4-405D-B666-5F2D1BD87830}" type="slidenum">
              <a:t>3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C02B7-6AD5-4E3E-9536-9078EA25B8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CQ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6461280" cy="528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20B6-834D-49A1-B96A-7DFA11AD1352}" type="slidenum">
              <a:t>3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DDC3C-B968-4CAF-9F3F-268005B9E7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Opšti save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ju proizvođači cementa u Italiji, korist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h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ju članci o merenju specifične površine cementa, korist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ltaVi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 neko u Nemačkoj, koga zanima upravljanje projektima u građevinarstvu, koristi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6CB1-EE13-47B7-A23F-5EA78F0F5F38}" type="slidenum">
              <a:t>3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0E839-164E-4C42-8FC3-B411043211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realizacije projekta sa stanovišta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2946240"/>
            <a:ext cx="5829120" cy="627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 i pripr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4DED-B2D8-4B48-B60D-F3D5D482FD9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8FE63-4E90-4C0F-91E1-EBDC6A2747AD}" type="datetime1">
              <a:rPr lang="en-US"/>
              <a:t>07/30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a između faz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279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 I i VII se odvijaju kontinual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 II-VI su vezane za konkretan proje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6005520" cy="140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F8B7-4430-4EC2-9627-0468092FFB5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CA3B2-94D4-4156-9C38-BE7BB79A10A3}" type="datetime1">
              <a:rPr lang="en-US"/>
              <a:t>07/30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istraživanja tržišt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budućim investi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8C1-48F2-407E-A937-4B7D7B66990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4ED15-203B-40AF-8597-0958811708AA}" type="datetime1">
              <a:rPr lang="en-US"/>
              <a:t>07/30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u toku realizacije projekta (II-V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snije detaljno razrađ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ali za razmenu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i kod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ona š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6A5A-00C5-4F67-ACDB-22ACDA566ECE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75AB2-0BEA-46B2-9A67-3E3A07526232}" type="datetime1">
              <a:rPr lang="en-US"/>
              <a:t>07/30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iranje baze istorijskih podataka (V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z faze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rišta re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68C3-9D9E-450F-9AB6-F6749D6ECCEF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B2A0F-2FA5-411A-B7FB-52D9F5B11379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o studirate Građevinski fakulte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6400800" cy="641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B11-BE68-4D34-8EF0-99737C9B90B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6574D-3F69-46CD-A29F-2EE3A0C61E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iranje baze istorijskih podataka (V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z faza II-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edene i naplaćene ko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rošak resursa i tra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i efek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čki podaci o mehaniz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njena tehničko-tehnološk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 i podizvo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3605-BCA1-419F-9E26-8ED9DD865517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88D2F-F64D-4F10-ADB9-CA4DC82A7556}" type="datetime1">
              <a:rPr lang="en-US"/>
              <a:t>07/30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on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ljive tokom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ljni fak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utrašnji fak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A766-3DB2-4399-9900-FFACA7839A11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8E86D-289F-41C4-B926-5FA7E56E784A}" type="datetime1">
              <a:rPr lang="en-US"/>
              <a:t>07/30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oljni faktori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rakteristik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ž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o razvo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ltura i tradi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e odred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 pored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B1A-7EF4-4FC8-84F3-C4F040FD14F0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06038-FDA0-45E3-BB1A-9DEA78DE0C1C}" type="datetime1">
              <a:rPr lang="en-US"/>
              <a:t>07/30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utrašnji faktori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ija i ciljevi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nivo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dr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čina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38CA-01F8-4C99-B7D2-2B83A0667B24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86742-35D1-4B38-B44E-C64C060FFEBE}" type="datetime1">
              <a:rPr lang="en-US"/>
              <a:t>07/30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on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cionalne (klasič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j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ion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jsko-štab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rem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ionalno-tim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č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D42-97AE-48CA-BF68-A7D172183A3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7CDF4-3E1D-479C-8C4F-2FF3C5E7C7DE}" type="datetime1">
              <a:rPr lang="en-US"/>
              <a:t>07/30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ijsk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06400" y="3146400"/>
          <a:ext cx="52056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3146400"/>
                    <a:ext cx="52056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3EB-71D7-46FF-A861-F10CD465268F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2C5AC-6E34-478F-A1C1-4989F88382C0}" type="datetime1">
              <a:rPr lang="en-US"/>
              <a:t>07/30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20720" y="4602240"/>
          <a:ext cx="5388120" cy="22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4602240"/>
                    <a:ext cx="5388120" cy="22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83B-EAA1-41EA-9A41-219B02B994CA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6DD8A-B01D-4923-A049-A145BD1DFAE9}" type="datetime1">
              <a:rPr lang="en-US"/>
              <a:t>07/30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ijsko-štab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95560" y="2631960"/>
          <a:ext cx="4417920" cy="61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5560" y="2631960"/>
                    <a:ext cx="441792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45E0-3478-4FE9-85EC-6437A93E9D35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C7903-9F5F-4D23-AD08-5BA281641206}" type="datetime1">
              <a:rPr lang="en-US"/>
              <a:t>07/30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o-timsk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49320" y="4653000"/>
          <a:ext cx="493092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4653000"/>
                    <a:ext cx="493092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4E24-29DB-4FB1-A4C7-4632A4033445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17F3D-CDB3-4ECA-93AF-DAEA003AEF75}" type="datetime1">
              <a:rPr lang="en-US"/>
              <a:t>07/30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kt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20880" y="4633920"/>
          <a:ext cx="4986360" cy="22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4633920"/>
                    <a:ext cx="498636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2D78-E578-47F7-8387-51DA40A67385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87585-0B75-4415-B086-DEB9DE30A18C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bog nauk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4880" y="3079800"/>
            <a:ext cx="5121000" cy="49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AC9-9B9A-4800-9554-15D86C6F33A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06887-FDE8-4407-9BF4-7E93E5120C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rična organizacio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15960" y="4322880"/>
          <a:ext cx="559584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4322880"/>
                    <a:ext cx="55958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13B4-261D-4724-8DE8-3533D217FADC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A6BFB-11C6-4BB3-8995-2AE1A5B1F4CF}" type="datetime1">
              <a:rPr lang="en-US"/>
              <a:t>07/30/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lna organizaciona struktura fir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4343400"/>
          <a:ext cx="603252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343400"/>
                    <a:ext cx="603252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1561-4788-455F-B94F-13D3C1D3176E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2E4FB-9CDA-45C7-AF0B-40CE93418CDE}" type="datetime1">
              <a:rPr lang="en-US"/>
              <a:t>07/30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90040" y="50004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lna organizaciona struktura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01600" y="3071880"/>
          <a:ext cx="4788000" cy="57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3071880"/>
                    <a:ext cx="478800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8DC-E899-4EB0-B91C-FB75A60A8A99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FD3A8-F064-41FB-93FD-91CE2F2D57F6}" type="datetime1">
              <a:rPr lang="en-US"/>
              <a:t>07/30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 u gr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D30-BDDC-4AF1-9667-BDE979E6A3DA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05455-8F06-4307-9230-D4C03BF680DC}" type="datetime1">
              <a:rPr lang="en-US"/>
              <a:t>07/30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istraživanja tržiš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budućim investi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084-1E24-4DBC-BDB6-4CD52FC00C4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B1A3B-1485-4B98-A63B-B1AFA69E37E1}" type="datetime1">
              <a:rPr lang="en-US"/>
              <a:t>07/30/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odac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andar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ba prenosiv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ni izvori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ni formati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formalni ka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ba struktuira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o pisan soft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BEA-E435-4D71-930A-4FB4718B19CC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DC700-D14E-477A-B9D8-3507B2B5FA89}" type="datetime1">
              <a:rPr lang="en-US"/>
              <a:t>07/30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aživanje izvorišta resurs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m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konkursima koji raspisuju drug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konkursima koji raspisuju naša fi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led asortimana po slič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B3B6-1CB0-415B-BD6A-67D19EF6956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01A8D-A410-4DF4-A86A-19B9CBB5B0D8}" type="datetime1">
              <a:rPr lang="en-US"/>
              <a:t>07/30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4440" y="232884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geoloških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sa te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firmama sa kojima sarađ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srodnim firm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DF17-F70A-4E08-9A33-A27E386B423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3EC6A-508C-41B8-AAC1-6601B29765F4}" type="datetime1">
              <a:rPr lang="en-US"/>
              <a:t>07/30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6519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e informacije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4440" y="2328840"/>
            <a:ext cx="5829120" cy="69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m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i u konkursima koji raspisuju drug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i u konkursima koji raspisuju naša fi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periodična lit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neperiodična lit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4D74-E0DE-486A-9472-A8609577968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6B2AC-0F87-4F81-9A74-CFCDFCA79689}" type="datetime1">
              <a:rPr lang="en-US"/>
              <a:t>07/30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271440"/>
            <a:ext cx="65530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e informacije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14440" y="22525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sa te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firmama sa kojima sarađ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srodnim firm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naših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3997-4336-4054-8171-D490EDDC6704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1FD8B-6EFB-4A8E-89EB-0C2145EF421C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to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o želite da gradit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6095880" cy="328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667-96BA-42D6-8ABA-61530820636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765D2-7503-46D7-B570-E34805FDAC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budućim investicijam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kursi za izradu predinvesticionih studija i projektne dokumentac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onkursima za konsultantske usl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oslovima u kućama koje se bave predinvesticionim stud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ški planovi razvoja velikih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BF49-F841-43AC-B240-483A782044F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2BBDC-04E8-4CCD-9773-9608F57DCCD8}" type="datetime1">
              <a:rPr lang="en-US"/>
              <a:t>07/30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budućim investicijam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e informacije investito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09B-FF8E-490D-AC86-05A5EFEF7BA7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A23B1-26C7-4876-AF04-F3AE3E09CB46}" type="datetime1">
              <a:rPr lang="en-US"/>
              <a:t>07/30/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14440" y="728640"/>
            <a:ext cx="582912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vna regulativ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8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zakonska dokumentacija (službeni listovi it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o pojedinaca koji su radili na predmentn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1D9B-F636-4742-94CA-809FE4673C1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0EA03-F763-4FE3-9F40-14B8C7B2CFCE}" type="datetime1">
              <a:rPr lang="en-US"/>
              <a:t>07/30/26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4440" y="804600"/>
            <a:ext cx="582912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vna regulativ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2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inski propisi i služ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90F4-EE63-4296-8A37-1ED9DA2F98C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246D9-C815-45DF-88E9-C06696DD9109}" type="datetime1">
              <a:rPr lang="en-US"/>
              <a:t>07/30/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čna regulativ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zakonska dokumentacija (službeni listovi it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o pojedinaca koji su radili na predmentn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EE30-F1DE-4A95-850D-FF5346EB3FD5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D3018-91A2-40C0-BD46-E976B0A2FBA5}" type="datetime1">
              <a:rPr lang="en-US"/>
              <a:t>07/30/26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čna regulativ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4F1-C9F5-47A8-B168-E929B454EB11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98E53-6D28-4E1A-822E-5E83568DAD7C}" type="datetime1">
              <a:rPr lang="en-US"/>
              <a:t>07/30/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sustvo drugih firmi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e i rezultati na konkursima o izvođenju investicionih radova u dužem vremenskom perio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e i rezultati na konkursima o izvođenju investicionih radova u poslednjih godinu 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78D6-6B5A-44CC-AE77-24E2F856FE29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1430C-E221-4AA2-90D8-82B4BBE9B181}" type="datetime1">
              <a:rPr lang="en-US"/>
              <a:t>07/30/2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sustvo drugih firmi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40" y="22525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ški planovi velikih izvođača i/ili pro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s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 (predstavništ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760-6F48-4BAA-BD8C-3A7ABDB8253B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43180-B9A2-44F9-A93C-146CE8E3611C}" type="datetime1">
              <a:rPr lang="en-US"/>
              <a:t>07/30/26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firmama i pojedincim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i podaci o bonitet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i podaci o rukovodstv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lopljeni ugovori o realizaciji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ugovora o realizaciji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94BA-C957-4CDA-9275-041659BB0AC8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8BE2F-7720-4966-AC7A-D808582F1698}" type="datetime1">
              <a:rPr lang="en-US"/>
              <a:t>07/30/26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firmama i pojedincim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6E50-4AC4-4FF2-9F48-4341450D9524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DC2C3-0376-48FA-B68D-B46A9FE6316C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ato što volite posao inženjer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53337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AEFD-AFB7-4C3A-83E3-36E9D8E725A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7F7F7-8F3E-481B-85B7-8E550E8EBF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320" y="576360"/>
            <a:ext cx="670536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je o istraživanju tržiš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sak mogućih iz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zno prilagođavanje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zno prilagođavanje stanju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ost neformalnih konta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skupljački pos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a je šir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a mogućnost pre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11A3-081C-4210-91D6-7C043D1758F6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7408C-F2BD-46C7-A4B9-08F13BD9419C}" type="datetime1">
              <a:rPr lang="en-US"/>
              <a:t>07/30/26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 u gr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C79-3329-4A45-B50C-7D28824426E4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6C6B1-62CF-451A-A9E0-EAA03C228769}" type="datetime1">
              <a:rPr lang="en-US"/>
              <a:t>07/30/26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ste uslu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 konsultantskih us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konsultanat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A329-0BF4-4455-A559-EB653708C0E5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D7227-D49E-4D31-86F1-0AC196E5B4C0}" type="datetime1">
              <a:rPr lang="en-US"/>
              <a:t>07/30/26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obavez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ki su projekti gde ne učestvu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 svega ga angažuje investitor koji nije sam dovoljno osposoblj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da ga angažuje i izvođač, pogotovo genera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poznatije međunarodno udruženje - 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236C-B49E-4069-91C8-9813CA1FCB34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6948F-63AA-40F9-80AD-A1FD333E5FF9}" type="datetime1">
              <a:rPr lang="en-US"/>
              <a:t>07/30/26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rada po FIDIC-u 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ljanje posla na visokoj profesionalnoj i etičkoj osn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samo zadataka kojima su doras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 je veliki dijapazon usluga, od ličnih saveta do upravljanja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a je uska specijalizacija ili široki reperto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D2A0-5C13-4CA1-AD77-8E4B4D0762EB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FEC7C-E080-46C3-BF02-3812A7F9888D}" type="datetime1">
              <a:rPr lang="en-US"/>
              <a:t>07/30/26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rada po FIDIC-u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 prihodi smeju da budu od honorara koji isplaćuje naruči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može učestvovati u poslovima ili imati finansijski interes koji može uticati na njegovo stručno mišlj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75E-6E15-4611-9A7E-A9C1930934B9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98F49-2537-40A9-9458-71734D03B19E}" type="datetime1">
              <a:rPr lang="en-US"/>
              <a:t>07/30/26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14440" y="1947600"/>
            <a:ext cx="5829120" cy="71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hodna istraživanja o uslovima za gradnju ob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ha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dez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eor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r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 i mogućnost plasm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i stud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ktiv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kti primene naučnih met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C0C-66A3-4D17-8B7D-366C03E6483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CAFA6-6607-45DE-88F7-BF2DCE5D03AD}" type="datetime1">
              <a:rPr lang="en-US"/>
              <a:t>07/30/2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96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 praćenje razvoja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zaštite i unapređenja životne i radne sre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a i vrsta ener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studija rentabilnosti, ekonomskih i finansijskih pokazate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da podataka, investicioni programi i projektni zad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015D-9938-4D43-9AEA-EEF402086E27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8E36B-BA69-4506-83F4-6D8E435AE97A}" type="datetime1">
              <a:rPr lang="en-US"/>
              <a:t>07/30/26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14440" y="7286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4440" y="26334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izradom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nje podataka i dokumentacije za ustup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izvođe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i usklađivanje rada učesnika u izgradn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investicionog programa i finansijske ko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5CE-9CCA-4251-B5E7-BE0D0E359760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88C6B-1468-44C7-802B-DF2B8EFF2F66}" type="datetime1">
              <a:rPr lang="en-US"/>
              <a:t>07/30/26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pomoć tokom primopredaje objekta i konačnog obrač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funkcionisanjem objekta tokom probnog pog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79BF-BDDB-403E-91C5-39CA2D3DAE9B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EF0DF-9246-43FA-BD4E-9DD03A18425D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bog diplome i status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5038920" cy="477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767-098E-4636-9FB1-91B0D1E232F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4EE41-9676-4EEC-89E5-59CB144CAD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gućnost učešća u više ulo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ziju projektne dokumentacije ne može da vrši projektant i/ili 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stručni nadzor mogu da idu zajedno, ali ponekad nije preporučlj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ja varijanta je projektantski nadz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0F34-EE7B-4F39-A724-7D97FF2717D6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EC034-0BFD-4E0E-9096-4BA9E9A32C96}" type="datetime1">
              <a:rPr lang="en-US"/>
              <a:t>07/30/26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FIDIC-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4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todavne uloge (Counselling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nvesticione usluge (Pre-Investment Stud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uge projektovanja i nadzora nad izgradnjom objekata (Design and Supervision Services for Construction of Wor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izovane projektne usluge razrade i razvoja (Specialised Design and Development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om (Project Manag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1FA-2088-4C0C-BAD6-4A5605F1E971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13165-FD00-4852-8684-2BB9A3396C46}" type="datetime1">
              <a:rPr lang="en-US"/>
              <a:t>07/30/26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vetodavne uslu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14440" y="24048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anje save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tinui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posebne projekte i probl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lasti saveto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kovođ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ranje i kontrola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upanje pred sudovima, komisijama i drugim pravnim te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F2C-285D-41B9-8676-CFDC7CA22694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98A3D-A2CB-4182-8E2E-875EDEDE86C4}" type="datetime1">
              <a:rPr lang="en-US"/>
              <a:t>07/30/26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dinvesticione uslu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e za donošenje odluke o investir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investicione polit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glavnih karakteristika i opravda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promena u politici, radu i organizacionim rešen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4822-A121-433C-AC4A-CB63CAEBA784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1D094-DA62-4DF7-8E59-0EB1D809F999}" type="datetime1">
              <a:rPr lang="en-US"/>
              <a:t>07/30/26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projektna f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opravda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ci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inženjerska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ena i definisanje zahteva naruči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rada i optimizaci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a i istraživanja gradilišta i ostalih fak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5E6C-CD1E-4ACF-896D-54C77DD049A2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B77FB-32AF-41DA-9DD8-07822928FD44}" type="datetime1">
              <a:rPr lang="en-US"/>
              <a:t>07/30/26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7760" y="34776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14440" y="2133720"/>
            <a:ext cx="5829120" cy="71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ljna inženjerska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lkulacija približnih ko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pristupa građ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ebne usl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identni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jalni pregledi i test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6CE-FD17-4D9F-881D-446F88580BA2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94FF0-6128-4CF2-B9FC-6EFF019E259E}" type="datetime1">
              <a:rPr lang="en-US"/>
              <a:t>07/30/26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9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ecijalizovane 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proje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i obrade sirov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na automatskih koma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tažne z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it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j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ršeni rad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valitet gotovih proizv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9BE3-6282-4577-AD35-D3C745D5F5D0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46EE3-98EB-41E9-BD08-D5F409A3D76B}" type="datetime1">
              <a:rPr lang="en-US"/>
              <a:t>07/30/2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izacije resursa i njihova koordinacija da bi se postigao investitorov cilj u okviru plana, bud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a i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jen nivo poslova i odgovornosti između investitora i konsult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 zadržava pravo odobravanja i revizije ključnih odl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2FA-46A7-4D8E-A6A0-72D70BC08239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DA587-A8BE-4033-9D96-C0BE20802F96}" type="datetime1">
              <a:rPr lang="en-US"/>
              <a:t>07/30/26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1800" y="271440"/>
            <a:ext cx="626760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14440" y="209988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British Property Fe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nicijalnih stud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traživanje mogućnosti plaćanja zemlj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govor sa potencijalnim suinvestito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moć pri rešavanju imovinsko-pravnih odn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ovori sa raseljen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govor sa budućim stana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832-AD5C-42EF-BBAF-1FE19F95E354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6DD03-1CDC-487B-8F14-0DC11710FBF0}" type="datetime1">
              <a:rPr lang="en-US"/>
              <a:t>07/30/26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budžetskih troškova i izrada studije opravdanosti z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crteža kojima se definišu idej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ovori o planu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iranje baze podataka o sastancima i drugim aktivnos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a idejnog rešenja prema željam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zivanje i presedavanje sastancima o realizacij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ED52-04B2-42DF-9470-B3C650D91DCD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5B746-6D18-4104-BD33-19A967D3A103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a bi izgradili svoju zemlju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6372360" cy="478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D6FA-A387-43BF-B3E6-D2294E46140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AB52A-3859-4581-B2D1-D193AD2B96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 dospelih zahteva projektanata i izvođača za 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širenje idejnog rešenja i podnošenje investitoru na o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isanje investitoru o predlozima za skice i crte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izvoda iz dinamičkih planov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straž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zij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 kontrola ostvarivanja glavnog plana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A8D-00E8-42C3-8C72-D28A418458F5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044C1-A747-4FA2-A4F7-BC15E45F74AA}" type="datetime1">
              <a:rPr lang="en-US"/>
              <a:t>07/30/26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 kontrola realizacije plan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projektnih zahteva i zahteva za dopunama rukovodiocu projekto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saglasnosti investitora o izmenama glavnog plana radova i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 visine naknade za konsul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utovanje inženjerskih i tehničkih rešenja iz projekta sa izvođač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obravanje nominovanih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7C6-0E65-4516-B1DC-AD06427E7CE5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B5FD9-722E-4AF8-BAF5-4502DBF683DA}" type="datetime1">
              <a:rPr lang="en-US"/>
              <a:t>07/30/26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mesečnih izveštaja investitoru sa procenom finalnih troškova i roka završetk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menovanja i obezbeđenje angažovanja vešta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rizovanje dopune plana troškova i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obravanje komponenti i materijala koji se ugrađu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nošenje konačnog predloga projekata i revidovanog plan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činjavanje liste mogućih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leđivanje tenderskih dok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7CB7-4CEB-4260-B57A-83BEC5BB4207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E68B6-9ABA-47FA-B438-891F6210D32A}" type="datetime1">
              <a:rPr lang="en-US"/>
              <a:t>07/30/26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em obrađenih tendera i zahtevanje dodatnih objašn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predloga za izbor ponu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letiranje ugovornih dokumenata, sračunavanje potrebne garancije i obezbeđenje pristanka investitora i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ovanje pravovremenog naručivanja komponenti sa dugim vremenom ispo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sertifikata o osiguranju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nje procene izvršenih radova i rad na pripremi konačnog obrač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513C-CC98-454A-9D94-9A3E577C3EB8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77905-6BC5-4625-8636-AA3BBF5B36C8}" type="datetime1">
              <a:rPr lang="en-US"/>
              <a:t>07/30/26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naloga o izmenama i instrukcija izvođač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saglasnosti investitora na izmene u obimu i vrednosti koje su van njegovih ovlašćenja i regulisanje potraživanj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vljenje klejmovima u vezi osigu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saglas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saglasnosti za produžet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saglasnosti o primopredaji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vanje da li su nedostaci odklonj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5708-FEC5-46DF-BF29-CAF3A14E5A92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CCBE5-9D41-462C-AAE9-22E86AC4778B}" type="datetime1">
              <a:rPr lang="en-US"/>
              <a:t>07/30/26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804960"/>
            <a:ext cx="655344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37760" y="3012840"/>
            <a:ext cx="5829480" cy="590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ovremeno reagovanje na rana upozorenja u toku realizaci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realizacije programa opremanja i obezbeđivanje uputstva za održavanje i skica izvedenog s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4AB4-7B73-4958-806B-DAAF80C3BD66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E2B1E-A5DC-4E75-8DA8-5E7771150E8E}" type="datetime1">
              <a:rPr lang="en-US"/>
              <a:t>07/30/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tovanje klij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rukovodećeg projekta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ažovanje drugih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kovi za predhodne izb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vanje i odobravanje troškova i programa rada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koji se direktno ugovaraju sa investito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enovanje nadz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816-142F-4F29-965A-C191AE5D3C95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814EF-0F6D-4D3D-9059-F27FE470DF8D}" type="datetime1">
              <a:rPr lang="en-US"/>
              <a:t>07/30/2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ivanje i i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kcije konsulta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la posla u projekto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 informacije koji dostavljaju konsultanti i projekt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kcije konsultantima o proceduri izvešt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vešta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55CB-1FBE-44FE-B7F9-A75965CFB208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F77EA-282D-4197-A8CF-B633E82126D2}" type="datetime1">
              <a:rPr lang="en-US"/>
              <a:t>07/30/26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ovanje učinaka projektanata, konsultanata, nadzora i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zivanje i koord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ezivanje sa pravn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ordinacija zahteva budućih stan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D26-2C78-434F-AED2-E6BDF88154C0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F6042-5880-44E2-9D1B-ED26322C2408}" type="datetime1">
              <a:rPr lang="en-US"/>
              <a:t>07/30/26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21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British Property Fe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u detaljni, nego se pozivaju na predhodno navedenu li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stoje se od dva 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andum of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 of Eng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81DD-CBE3-4DBA-82B7-17A31887C257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C3C7D-FA94-40B2-917B-390C91F36306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9T10:38:17Z</dcterms:created>
  <dc:creator>Zoran B. Djordjevic</dc:creator>
  <dc:description/>
  <dc:language>en-US</dc:language>
  <cp:lastModifiedBy>Matej</cp:lastModifiedBy>
  <dcterms:modified xsi:type="dcterms:W3CDTF">2008-01-12T12:04:32Z</dcterms:modified>
  <cp:revision>21</cp:revision>
  <dc:subject/>
  <dc:title>U čemu je razlika?</dc:title>
</cp:coreProperties>
</file>